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E971-2C80-4986-B25C-BDC316150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8452-1166-4D0A-A320-61A8E9F5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2B3-CE15-46AE-8D43-33CA176D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5218-937C-450A-A8E7-BAB319B6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DCF-55AC-4053-BFFD-1F5273BC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8EF8-16F4-4A6D-8560-9BCF148E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B0A2-777C-4C65-8BDA-C0AF09FF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DC5-A931-492C-BE8E-7FD6B8D0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7A48-44EC-4597-9DB7-D799FB29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8E7-EFA7-47E8-8CCD-CCF3B945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58E-3EA1-433C-ADE6-B9A13C6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5D2-C7E6-4768-A63D-30107029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8405-83D7-44F9-AEEA-F25535E3B2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2560" y="1628640"/>
            <a:ext cx="6121440" cy="28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CAMBIO CULTUR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1280" y="43498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LGUNAS TENDENCIAS AC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35280" y="1989000"/>
            <a:ext cx="6408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516640"/>
            <a:ext cx="5331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40356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ransitamos de los colectivos a los individuos y de la historia a la biografí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0200" y="1484280"/>
            <a:ext cx="734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EL EJE Y MOTOR DE LA SOCIEDA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3284640"/>
            <a:ext cx="698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1484280"/>
            <a:ext cx="79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ES VERDAD, QUÉ ILUSIÓN O FALSA PROME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3440" y="4137120"/>
            <a:ext cx="719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samos de la palabra a la experiencia y de la adhesión a la evalua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35772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134136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AL ES EL TAMAÑO DE MI MUNDO Y EL LARGO DE MI VID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4920" y="3645000"/>
            <a:ext cx="727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5840" y="430704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tiempo y el espacio significativo se nos contra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6720" y="3213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84280"/>
            <a:ext cx="68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CUÁL ES NUESTRA HUELLA EN EL MU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5280" y="3860640"/>
            <a:ext cx="63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Participamos cada vez más para incidir cada vez men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5080" y="3213000"/>
            <a:ext cx="719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48428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PASA CON LAS IDENTIDADES PERSONA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386064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El cuerpo de mujer, el camino propio de los jóvenes y el desconcierto masculi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1628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¿QUÉ NOS MANTIENE JUNT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213000"/>
            <a:ext cx="575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4076640"/>
            <a:ext cx="60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a reducción del miedo a las diferenci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042920" cy="6858000"/>
          </a:xfrm>
          <a:prstGeom prst="rect">
            <a:avLst/>
          </a:prstGeom>
          <a:solidFill>
            <a:srgbClr val="fd26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0"/>
            <a:ext cx="7416720" cy="76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280" y="177336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EL DESAFÍO CULTUR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9640" y="2997360"/>
            <a:ext cx="59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39337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Buscar nuevas formas de acoplar persona y socieda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3:14:25Z</dcterms:created>
  <dc:creator>MSIERRA</dc:creator>
  <dc:description/>
  <dc:language>en-US</dc:language>
  <cp:lastModifiedBy>Dii</cp:lastModifiedBy>
  <dcterms:modified xsi:type="dcterms:W3CDTF">2004-09-24T15:56:56Z</dcterms:modified>
  <cp:revision>10</cp:revision>
  <dc:subject/>
  <dc:title>Diapositiva 1</dc:title>
</cp:coreProperties>
</file>