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573-C98C-447B-89CC-DA41BCB8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5A4-902D-4AE8-AFF5-D850D649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DBAE-4A23-4F8A-84DF-57CA29E3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647E-B416-4079-B829-D90EECB6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2023-81C8-460D-90C9-8484AD89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9532-A0CE-460D-99DC-463C62BA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C210-1636-4C52-89AC-63792BBF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7C82-818F-4F9F-9167-18DCD162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C746-CF75-40C0-B03A-E4624111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94F0-5018-4837-B33D-6D18C430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E66B-C7EF-4D2B-A68D-CC28A5CD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BBF9-D75D-4E48-AAD6-A4448489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959F-A73E-4446-B52B-AD359442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CF8A-0D8B-409B-ABA2-E3CCD211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D5B1-4422-4CE6-9D4B-BC3E53E4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E96E-0ACB-43C8-81E3-B7771830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193E-81AD-43B7-A0BC-44C4623A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BAA5-D625-469E-91A8-1804E4C6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548-A339-4629-8E40-8FC4D922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1E44-A4BB-4133-9720-1CF6CB37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1AC-BFEA-4A41-8DC3-789642F2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4EC-13D3-43AA-9D3A-FDF133C5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A0B-CC74-4D5C-B2BA-F136B4F8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C5DC-D2DD-4D9F-9DF3-208E194F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E4CB-4522-42ED-BE37-932649262AE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F111-ADEF-4F2D-A7A4-60A7F00E56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C454-BA2F-42A7-A6F5-B954CAC6AFC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1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E02F-AF65-4C2D-A483-F42747B30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epal.cl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ffff"/>
                </a:solidFill>
                <a:latin typeface="Times New Roman"/>
              </a:rPr>
              <a:t>Descentralización en América Latina: Cómo Viabilizar el Desarrollo Local y Regional</a:t>
            </a: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599840" y="5257800"/>
            <a:ext cx="6248520" cy="1371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Iván Finot, NN.UU./CEPAL/IL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Universidad de Chile, Magíster en Gestión y Políticas Públ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10 de septiembre,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2819520"/>
            <a:ext cx="5257800" cy="22201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os procesos: el desafí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Revisión de la teor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valuación de los proc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puesta de reorie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Balan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uces y sombras pero escasa autonomía lo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xplica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descentralización se orientó a la gestión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 desequilibrios fiscales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mayor control, reducción de la autonom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eyes de responsabilidad fiscal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ímites al endeudamien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ímites al gasto corrie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Modificaciones a los sistemas de transferencias: Colomb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El Desafí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797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Cómo (re)orientar los procesos par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ortalecer las autonomías locales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para viabilizar el desarrollo local a fin de hacer más competitiva a la economía nacion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Y a la vez avanzar 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quidad: territorial y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mocratización, ciudadan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ficiencia: económica y fiscal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2. Revisión de la Teorí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doble sombrero de los gobiernos loca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autonomía en las asignaciones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abezas de autonomí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Descentralización</a:t>
            </a: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Polí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sólo operan decisiones de gobiernos centrales, su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gent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Descentralización Oper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mbas convenientes, según características geográficas de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teoría se refiere a la descentralización política (para descentralización operativa, sólo la del Principal – Agen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Descentralización Polític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ransferencia de decisiones sobre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asigna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en la provisión de bienes públicos a procesos democráticos loc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veniente cuando la demanda está geográficamente diferenciada según aspec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ís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ultur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se cumplen condiciones de eficienc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jor adecuación a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eneficios superiores a economías de escala por centr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66"/>
                </a:solidFill>
                <a:latin typeface="Times New Roman"/>
              </a:rPr>
              <a:t>Mejor Adecuación a la Demand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8229600" cy="5867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rrespondencia entre diferenciación geográfica de la demanda y circunscripciones de los respectivos procesos de provisión (a partir de Oate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</a:t>
            </a:r>
            <a:r>
              <a:rPr b="1" lang="es-ES" sz="2600" spc="-1" strike="noStrike">
                <a:solidFill>
                  <a:srgbClr val="ffff66"/>
                </a:solidFill>
                <a:latin typeface="Times New Roman"/>
              </a:rPr>
              <a:t>acercamiento al ciudadano y asociación territor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velación efectiva de preferenci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Transferencia del proceso completo: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decisiones colectivas sobre qué, cuánto y con qué parte de su ingreso</a:t>
            </a:r>
            <a:r>
              <a:rPr b="1" lang="es-ES_tradnl" sz="2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roveer (a partir de Musgrave). </a:t>
            </a:r>
            <a:r>
              <a:rPr b="1" lang="es-ES_tradnl" sz="2600" spc="-1" strike="noStrike" u="sng">
                <a:solidFill>
                  <a:srgbClr val="ffffff"/>
                </a:solidFill>
                <a:uFillTx/>
                <a:latin typeface="Times New Roman"/>
              </a:rPr>
              <a:t>Inequidad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transferencias de libre disponibilidad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proporcionales a aportes locales relativ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Procesos al menos tan democráticos y participativos como los centr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sistema electoral territorial + participación popul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Transferencias Territoriales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Oat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Transferencias no condicionadas: “block grants”, para compensar diferencias en ingresos públicos por habita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Transferencias condicionadas: “matched grants”, para igualar nivel de provisión de algunos servicios (generalmente se requiere aporte loca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n embargo, las transferencias más adecuadas sería una combin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e libre disponibilida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Condicionadas a aportes loc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Subsidiarias respecto a decisiones locales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mportancia de las Trans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676520" y="2265480"/>
          <a:ext cx="6476760" cy="4363920"/>
        </p:xfrm>
        <a:graphic>
          <a:graphicData uri="http://schemas.openxmlformats.org/drawingml/2006/table">
            <a:tbl>
              <a:tblPr/>
              <a:tblGrid>
                <a:gridCol w="1218960"/>
                <a:gridCol w="990720"/>
                <a:gridCol w="2209680"/>
                <a:gridCol w="2057400"/>
              </a:tblGrid>
              <a:tr h="5205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ciona-miento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ún uso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Política del Gast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entralización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Política </a:t>
                      </a: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perativ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Operativa &gt;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143000" y="12193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os tipos de condicionamientos: al aporte local (con qué parte del ingreso proveer) y a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Evaluación de los Procesos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cercamiento al Ciudadano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3920" y="654516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64771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62120" y="1476360"/>
          <a:ext cx="8076960" cy="50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76360"/>
                    <a:ext cx="8076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inculación de gastos con ingresos fiscales?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articipación en los Ingres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64771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476360"/>
          <a:ext cx="8686800" cy="50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76360"/>
                    <a:ext cx="868680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66680" y="3429000"/>
            <a:ext cx="3353040" cy="26668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1905120"/>
            <a:ext cx="3353040" cy="190476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1905120"/>
            <a:ext cx="2971800" cy="1904760"/>
          </a:xfrm>
          <a:prstGeom prst="rect">
            <a:avLst/>
          </a:prstGeom>
          <a:solidFill>
            <a:srgbClr val="99ff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1981080"/>
            <a:ext cx="990720" cy="3988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19720" y="1676520"/>
            <a:ext cx="0" cy="5029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2590920"/>
            <a:ext cx="990720" cy="3988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380988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3809880"/>
            <a:ext cx="67816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3429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Autonomía de Ingre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1295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Autonomía deGa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81480" y="2590920"/>
            <a:ext cx="1524240" cy="581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Ramo 2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5229360"/>
            <a:ext cx="2209680" cy="7038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ondos de Cofinanci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3476520"/>
            <a:ext cx="9907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15200" y="528624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6019920"/>
            <a:ext cx="53352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48720" y="5029200"/>
            <a:ext cx="1218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Sistemas Bás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48720" y="5715000"/>
            <a:ext cx="14475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Sistemas Complemen-tar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1523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3352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4952880"/>
            <a:ext cx="1905120" cy="1905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5229360"/>
            <a:ext cx="1371600" cy="39888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3657600"/>
            <a:ext cx="114300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327840" y="5061960"/>
            <a:ext cx="789840" cy="4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5838840"/>
            <a:ext cx="3200400" cy="1008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inanciamiento Directo de Servicios Sociales: Colombia, Chile, (México..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1981080"/>
            <a:ext cx="1447920" cy="398880"/>
          </a:xfrm>
          <a:prstGeom prst="rect">
            <a:avLst/>
          </a:prstGeom>
          <a:solidFill>
            <a:srgbClr val="ff3300"/>
          </a:soli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2257560"/>
            <a:ext cx="14479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088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536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596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3588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3962520"/>
            <a:ext cx="1143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37479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6172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46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3048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2209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755800" y="5509080"/>
            <a:ext cx="279000" cy="25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autonomía?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Sistemas de Transferenci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1981080"/>
            <a:ext cx="762120" cy="36828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1982880"/>
            <a:ext cx="99036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24382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91120" y="21337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518148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1. Los procesos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Evolución Históric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. Antecedente: 60’s - 70’s: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lanificación Region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acro regiones, Corporaciones de Desarrol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1) Desconcentración de la producción y de la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2) Eficiencia administr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20040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I. Desde los 80’s: </a:t>
            </a: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Descentr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. 80’s - 90’s: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Democratización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cia circunscripciones antes con gobiernos electos: estados, municipio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3) Participación ciudad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4) Equidad: territorial, social! (deuda soci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5) Eficiencia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56386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. 2000 - ...: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Globalización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mpiten territo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6)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Autonomía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Mejor Expresión de Preferencia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caso acercamiento a niveles más próximos al ciudadano (submunicipales), ausencia de estímulos a la asociación territo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asto vinculado con ingresos sólo en (pocos) municipios con capacidad de generación de ingresos tribut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sistema electoral proporcional no propicia una representación adecu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0769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Bajos niveles de autonomía local. Excepción relativa: Brasil, pero no se incentiva la eficiencia fiscal (vínculo con ingreso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Los sistemas de transferencias básicas no propician la eficiencia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(excepto en transferencias a los estados en México, pero en este caso: los municipios dependen del  nivel estatal y además riesgo de  inequid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Estos sistemas determinan, para cada municipio, distintas combinanciones de descentralización política y operativa, la autonomía depende de la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capacidad de generación de ingresos fiscales propios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desigualdad en derecho ciudadano a proveerse de bienes locales 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(en función de sus ingresos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Times New Roman"/>
              </a:rPr>
              <a:t>4. Propuesta  (Modelo normativo)</a:t>
            </a:r>
            <a:br>
              <a:rPr sz="3600"/>
            </a:br>
            <a:r>
              <a:rPr b="0" lang="es-ES_tradnl" sz="4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iferenciaciones Básic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la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escentralización polí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diferenciar funcionalmente la demanda respecto a 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, cuánto y con 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recursos prove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raestructura básica y servicios públic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aspectos cualitativo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Cuán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pectos cuantitativos: nivele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rvicios de educación y salu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aspectos cualitativo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Cuán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pectos cuantitativos = niveles)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igua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ferenciación establecida en México y ahora en Colom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Sistemas de Trans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066680"/>
            <a:ext cx="84582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Reunir todas las transferencias existentes y conformar 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dos sistemas subsidiarios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*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1) Sistema de redistribución social: para canasta social, respecto a ingresos familiares, integrado y operado por gobiernos subnacionales (Chile, Colombi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2) Sistema de redistribución territorial, 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para desarrollo local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(a partir de infraestructura básica,  </a:t>
            </a:r>
            <a:r>
              <a:rPr b="1" i="1" lang="es-ES_tradnl" sz="2600" spc="-1" strike="noStrike">
                <a:solidFill>
                  <a:srgbClr val="ffffff"/>
                </a:solidFill>
                <a:latin typeface="Times New Roman"/>
              </a:rPr>
              <a:t>sobre experiencia de México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ransferencias proporcionales a los aport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lativos</a:t>
            </a:r>
            <a:r>
              <a:rPr b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en principio: respecto a ingresos geográfic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siderar incluir “cuasi-impuestos”: aportes en “tiempo”, trabajo, materiales, dinero (cuantificados por Fondos de Desarroll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uestra propuesta desde 19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Profundización y Regionalizaci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unitarios y feder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formar procesos de decisión autónoma en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 niveles submuncipale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: elección de asambleas, transferencia de potestades y recursos (Ej. Brasil, Ecuad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centivar -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 través de transferencias de tipo 1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mancomunidades municipale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regionales, de derecho público (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 función de regionalización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; la base: cuencas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ransferir potestades a estas mancomunidades region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oncertación intra e inter del desarrollo region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Uso del suelo y organización de servicios de utilidad pública, incluidos so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ovisión de infraestructura básica  y servicios públic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Mayor Participación Ciudadan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política y mayor autonomía fisc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Elección de representantes: </a:t>
            </a:r>
            <a:r>
              <a:rPr b="1" lang="es-ES" sz="2600" spc="-1" strike="noStrike">
                <a:solidFill>
                  <a:srgbClr val="ffff66"/>
                </a:solidFill>
                <a:latin typeface="Times New Roman"/>
              </a:rPr>
              <a:t>sistema territorial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, con obligación de informarse e informar, en los tres niveles loc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otestades de autoimposició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a modificar alícuotas (+ externalización de avalúo de bienes inmuebles, Ej. Españ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Legalización de cuasi-impue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onsulta obligatoria para compromisos de mediano y largo plazo: por ejemplo, endeudamien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social. Incentiva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ticipación directa: en organizaciones so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ticipación indirecta: a través de organizacion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stemas de información asequible: de base y de 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22280" y="1828800"/>
            <a:ext cx="75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iabilización del desarrollo local/regional: competitiv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equidad social y territorial: igualdad de oportun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sarrollo de ciudadan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eficiencia fiscal y glob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iabilidad política? - Debate y consenso para reforma estructu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Oates, Wallace (1972) “Fiscal federalism”. Trad.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Federalismo fiscal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. IEAL (Madrid), 1977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Musgrave, Richard A.; Peggy Musgrave (1984) “Public finance in theory and practice”. Trad.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Hacienda pública, trótica y aplicada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. McGraw (Madrid), 19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Finot, Iván (2001)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Descentralización en América Latina: teoría y práctica.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EPAL (LC./L. 1521-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Síntesis en  “Descentralización en América Latina: una mirada desde la economía”</a:t>
            </a:r>
            <a:r>
              <a:rPr b="0" i="1" lang="es-ES" sz="2200" spc="-1" strike="noStrike">
                <a:solidFill>
                  <a:srgbClr val="ffff00"/>
                </a:solidFill>
                <a:latin typeface="Times New Roman"/>
              </a:rPr>
              <a:t> Revista de la CEPAL, 78, 2002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Resumen y aplicación: 2003: “Descentralización en América Latina: cómo hacer viable el desarrollo local”. CEPAL (LC/L. 1986-P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itio web CEPAL: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epal.cl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, Publicaciones, Series de la CEPAL, Gestión Pú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Aspectos Comunes y Di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Qué se descentralizó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rincipalment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ervicios de educación y salu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Infraestructura v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ervicios públicos (en menor medid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cia qué niv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Federales (menos Brasil): nivel intermedio y grandes ciuda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Unitarios: nivel municip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Brasil: énfasis </a:t>
            </a:r>
            <a:r>
              <a:rPr b="0" lang="es-ES_tradnl" sz="2600" spc="-1" strike="noStrike">
                <a:solidFill>
                  <a:srgbClr val="ffff99"/>
                </a:solidFill>
                <a:latin typeface="Times New Roman"/>
              </a:rPr>
              <a:t>en el municipal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00"/>
                </a:solidFill>
                <a:latin typeface="Times New Roman"/>
              </a:rPr>
              <a:t>Descentralización jerárquica y descentralización democrática (Brasi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15920" y="304560"/>
            <a:ext cx="7594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Luces y sombras:</a:t>
            </a:r>
            <a:br>
              <a:rPr sz="4000"/>
            </a:b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1) Desconcentraci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1752480"/>
          <a:ext cx="769644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696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3657600" y="60199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Times New Roman"/>
              </a:rPr>
              <a:t>Elaborado en base a datos oficiales de cada paí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2) Eficiencia administrativ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904760" y="18288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ejor adecuación a características territo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hay evidencias de mejoras en relación beneficio/co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imes New Roman"/>
              </a:rPr>
              <a:t>Corrup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lientel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obre-co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3) Participació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olítica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Avance en derecho al vo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er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riesgo de nuevos centralismos si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Orientada a niveles intermed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Megamunicip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roblemas de representación: Concej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66"/>
                </a:solidFill>
                <a:latin typeface="Times New Roman"/>
              </a:rPr>
              <a:t>Social?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- Aún escas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Except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lanificación participativa”: consulta para gasto y control a través de OTB’s (Bolivi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Y casos puntuales: Ej. presupuesto participativo en Brasil (Porto Alegre: reducción de la evasión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4) Equid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00"/>
                </a:solidFill>
                <a:latin typeface="Times New Roman"/>
              </a:rPr>
              <a:t>Territorial</a:t>
            </a:r>
            <a:r>
              <a:rPr b="0" lang="es-ES_tradnl" sz="31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icial, muy importante, pero limit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concentración del gasto púb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centración del produ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00"/>
                </a:solidFill>
                <a:latin typeface="Times New Roman"/>
              </a:rPr>
              <a:t>Social</a:t>
            </a:r>
            <a:r>
              <a:rPr b="0" lang="es-ES_tradnl" sz="3100" spc="-1" strike="noStrike">
                <a:solidFill>
                  <a:srgbClr val="ffffff"/>
                </a:solidFill>
                <a:latin typeface="Times New Roman"/>
              </a:rPr>
              <a:t>: avance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rivada de redistribución territo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umento de cobertura soc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ro diferenciación en calida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5) Eficiencia Fisca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casi todos los paí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mento gastos &gt; aumento ingresos lo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sistemas de transferencias como % de impuestos son procíclicos: inducen desequilibrios macroeconómicos (CEPAL, 199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mento del endeudamiento sub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=&gt;</a:t>
            </a:r>
            <a:r>
              <a:rPr b="0" lang="es-ES_tradnl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déficit fisc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xcepción: Chi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ólo transferencias intermunicip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ohibición de endeud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 muy escasa descentralizació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6) Autonomía para Desarrollo Loc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centralización “política”: ¿“transferencia de competencias a autoridades electas”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basta, en la mayoría de los municipios las decisiones no son autónom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casa generación de ingresos prop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gasto depende de transferencias condicionadas:  operan decisiones cent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Y si no están condicionadas, no están vinculadas con el esfuerzo local: origen de desequilib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0:04:26Z</dcterms:created>
  <dc:creator>Iván Finot</dc:creator>
  <dc:description/>
  <dc:language>en-US</dc:language>
  <cp:lastModifiedBy>IFINOT</cp:lastModifiedBy>
  <cp:lastPrinted>2002-10-21T16:43:52Z</cp:lastPrinted>
  <dcterms:modified xsi:type="dcterms:W3CDTF">2004-09-10T15:13:57Z</dcterms:modified>
  <cp:revision>130</cp:revision>
  <dc:subject/>
  <dc:title>Descentralización a Comunidades y a Mercados: un Nuevo Enfoque para América Latina </dc:title>
</cp:coreProperties>
</file>