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CD0C-5040-4962-BF42-FB3EE819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087C-E2FF-4CFA-B52B-A63D33E7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E5BD-9478-445D-8A54-AE596FFD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18E0-567D-446B-9780-6516B7C0A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F8F6-C6DF-4BA7-B1E6-874B13CB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9E95-A538-4050-B289-0EF22140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2737-AD5A-449D-9C3A-0C54C3E0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FDA4-662A-46B3-9879-31380CC5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0D2E-C825-4B4A-A7E8-D8A1D076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5388-AFF8-4DFA-B045-BDB00DE0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9334-38F3-481D-B3E6-E7DF24AB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8C12-F659-44D6-A8D0-7D70E0E7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9283-CC23-45B2-B9B7-C0BF77C8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969D-568F-41FC-877F-5972B020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8407-5232-489B-8E2A-805A4597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499C-6E37-4ACF-956B-801762DE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57CF-8E89-4ED8-B247-ACB5A7ED4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1A80-44C7-423E-B9D9-E7BFCAB9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8DF5-0616-4825-B03E-7B2BCC48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2ED0-05A4-4C40-A0C3-C1F59059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3C22-5004-4A3B-938D-0EAAC951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690E-3BE9-4CB1-8347-5FE2A42F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C884-739C-4636-875F-6079B4DE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5465-C504-4D39-BF4B-85E9689C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5DED-B8C1-45EB-97A3-9EFA15A73609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906A-851B-408C-B3A3-62F220B4FA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F467-5363-4ED7-B434-93188C256919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E2DC-A2CA-423E-9180-3B35D719F3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cepal.cl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ffff"/>
                </a:solidFill>
                <a:latin typeface="Times New Roman"/>
              </a:rPr>
              <a:t>Descentralización en América Latina: Cómo Viabilizar el Desarrollo Local y Regional</a:t>
            </a: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599840" y="5257800"/>
            <a:ext cx="6248520" cy="1371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Iván Finot, NN.UU./CEPAL/IL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Universidad de Chile, Magíster en Gestión y Políticas Públ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10 de septiembre,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2819520"/>
            <a:ext cx="5257800" cy="22201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Los procesos: el desafí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Revisión de la teor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valuación de los proce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Propuesta de reorient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Balan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uces y sombras pero escasa autonomía lo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xplica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descentralización se orientó a la gestión so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te desequilibrios fiscales: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mayor control, reducción de la autonom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eyes de responsabilidad fiscal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ímites al endeudamien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ímites al gasto corrien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Modificaciones a los sistemas de transferencias: Colombi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El Desafí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1946160"/>
            <a:ext cx="797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¿Cómo (re)orientar los procesos para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ortalecer las autonomías locales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para viabilizar el desarrollo local a fin de hacer más competitiva a la economía nacion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¿Y a la vez avanzar 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quidad: territorial y so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mocratización, ciudadan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ficiencia: económica y fiscal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2. Revisión de la Teorí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doble sombrero de los gobiernos loca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autonomía en las asignaciones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cabezas de autonomía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ffff00"/>
                </a:solidFill>
                <a:latin typeface="Times New Roman"/>
              </a:rPr>
              <a:t>Descentralización</a:t>
            </a: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ffff00"/>
                </a:solidFill>
                <a:latin typeface="Times New Roman"/>
              </a:rPr>
              <a:t>Polí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sólo operan decisiones de gobiernos centrales, su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gent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ffff00"/>
                </a:solidFill>
                <a:latin typeface="Times New Roman"/>
              </a:rPr>
              <a:t>Descentralización Opera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mbas convenientes, según características geográficas de la dem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teoría se refiere a la descentralización política (para descentralización operativa, sólo la del Principal – Agent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Descentralización Polític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ransferencia de decisiones sobre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asignació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en la provisión de bienes públicos a procesos democráticos loc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veniente cuando la demanda está geográficamente diferenciada según aspect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ís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ultur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conó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 se cumplen condiciones de eficienc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ejor adecuación a la dem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eneficios superiores a economías de escala por centr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66"/>
                </a:solidFill>
                <a:latin typeface="Times New Roman"/>
              </a:rPr>
              <a:t>Mejor Adecuación a la Demand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8229600" cy="5867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rrespondencia entre diferenciación geográfica de la demanda y circunscripciones de los respectivos procesos de provisión (a partir de Oate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incipio de solución: </a:t>
            </a:r>
            <a:r>
              <a:rPr b="1" lang="es-ES" sz="2600" spc="-1" strike="noStrike">
                <a:solidFill>
                  <a:srgbClr val="ffff66"/>
                </a:solidFill>
                <a:latin typeface="Times New Roman"/>
              </a:rPr>
              <a:t>acercamiento al ciudadano y asociación territori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velación efectiva de preferenci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Transferencia del proceso completo: 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decisiones colectivas sobre qué, cuánto y con qué parte de su ingreso</a:t>
            </a:r>
            <a:r>
              <a:rPr b="1" lang="es-ES_tradnl" sz="2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roveer (a partir de Musgrave). </a:t>
            </a:r>
            <a:r>
              <a:rPr b="1" lang="es-ES_tradnl" sz="2600" spc="-1" strike="noStrike" u="sng">
                <a:solidFill>
                  <a:srgbClr val="ffffff"/>
                </a:solidFill>
                <a:uFillTx/>
                <a:latin typeface="Times New Roman"/>
              </a:rPr>
              <a:t>Inequidad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incipio de solución: transferencias de libre disponibilidad </a:t>
            </a: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proporcionales a aportes locales relativ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Procesos al menos tan democráticos y participativos como los centr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incipio de solución: </a:t>
            </a: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sistema electoral territorial + participación popula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Transferencias Territoriales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00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Oat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Transferencias no condicionadas: “block grants”, para compensar diferencias en ingresos públicos por habitan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Transferencias condicionadas: “matched grants”, para igualar nivel de provisión de algunos servicios (generalmente se requiere aporte local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n embargo, las transferencias más adecuadas sería una combina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De libre disponibilida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Condicionadas a aportes loc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Subsidiarias respecto a decisiones locales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Importancia de las Trans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676520" y="2265480"/>
          <a:ext cx="6476760" cy="4363920"/>
        </p:xfrm>
        <a:graphic>
          <a:graphicData uri="http://schemas.openxmlformats.org/drawingml/2006/table">
            <a:tbl>
              <a:tblPr/>
              <a:tblGrid>
                <a:gridCol w="1218960"/>
                <a:gridCol w="990720"/>
                <a:gridCol w="2209680"/>
                <a:gridCol w="2057400"/>
              </a:tblGrid>
              <a:tr h="52056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ciona-miento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 aporte local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gún uso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. Política del Gast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entralización Polític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. Política </a:t>
                      </a: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Operativ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. Operativa &gt; Polític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143000" y="12193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os tipos de condicionamientos: al aporte local (con qué parte del ingreso proveer) y al u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Evaluación de los Procesos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cercamiento al Ciudadano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93920" y="654516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64771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* Excepto Brasil: 1991-1998, y México: 1991-2000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762120" y="1476360"/>
          <a:ext cx="8076960" cy="500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76360"/>
                    <a:ext cx="807696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inculación de gastos con ingresos fiscales?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articipación en los Ingres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64771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* Excepto Brasil: 1991-1998, y México: 1991-2000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1476360"/>
          <a:ext cx="8686800" cy="50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76360"/>
                    <a:ext cx="8686800" cy="50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066680" y="3429000"/>
            <a:ext cx="3353040" cy="26668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1905120"/>
            <a:ext cx="3353040" cy="190476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1905120"/>
            <a:ext cx="2971800" cy="1904760"/>
          </a:xfrm>
          <a:prstGeom prst="rect">
            <a:avLst/>
          </a:prstGeom>
          <a:solidFill>
            <a:srgbClr val="99ff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1981080"/>
            <a:ext cx="990720" cy="3988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419720" y="1676520"/>
            <a:ext cx="0" cy="5029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2590920"/>
            <a:ext cx="990720" cy="3988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3809880"/>
            <a:ext cx="3200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3809880"/>
            <a:ext cx="67816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3429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Autonomía de Ingre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1295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Autonomía deGa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81480" y="2590920"/>
            <a:ext cx="1524240" cy="581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éx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Ramo 2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00600" y="5229360"/>
            <a:ext cx="2209680" cy="70380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Fondos de Cofinanci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3476520"/>
            <a:ext cx="9907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15200" y="528624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6019920"/>
            <a:ext cx="53352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48720" y="5029200"/>
            <a:ext cx="1218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Sistemas Bás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48720" y="5715000"/>
            <a:ext cx="14475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imes New Roman"/>
              </a:rPr>
              <a:t>Sistemas Complemen-tar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95680" y="15238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3352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4952880"/>
            <a:ext cx="1905120" cy="1905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5229360"/>
            <a:ext cx="1371600" cy="39888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3657600"/>
            <a:ext cx="1143000" cy="3988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327840" y="5061960"/>
            <a:ext cx="789840" cy="4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19320" y="5838840"/>
            <a:ext cx="3200400" cy="1008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Financiamiento Directo de Servicios Sociales: Colombia, Chile, (México..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66880" y="1981080"/>
            <a:ext cx="1447920" cy="398880"/>
          </a:xfrm>
          <a:prstGeom prst="rect">
            <a:avLst/>
          </a:prstGeom>
          <a:solidFill>
            <a:srgbClr val="ff3300"/>
          </a:soli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66880" y="2257560"/>
            <a:ext cx="14479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0880" y="137160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45360" y="137160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596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3588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3962520"/>
            <a:ext cx="1143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62920" y="37479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6172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1460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30481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43400" y="2209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755800" y="5509080"/>
            <a:ext cx="279000" cy="25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ayor autonomía?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ES" sz="3600" spc="-1" strike="noStrike">
                <a:solidFill>
                  <a:srgbClr val="00ffff"/>
                </a:solidFill>
                <a:latin typeface="Times New Roman"/>
              </a:rPr>
              <a:t>Sistemas de Transferencia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14400" y="1981080"/>
            <a:ext cx="762120" cy="368280"/>
          </a:xfrm>
          <a:prstGeom prst="rect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h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90720" y="1982880"/>
            <a:ext cx="990360" cy="36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66680" y="24382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91120" y="21337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518148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1. Los procesos</a:t>
            </a: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Evolución Históric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. Antecedente: 60’s - 70’s: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lanificación Region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acro regiones, Corporaciones de Desarrol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bjetivos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1) Desconcentración de la producción y de la pob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2) Eficiencia administr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3200400"/>
            <a:ext cx="8229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I. Desde los 80’s: </a:t>
            </a:r>
            <a:r>
              <a:rPr b="1" lang="es-ES_tradnl" sz="2400" spc="-1" strike="noStrike">
                <a:solidFill>
                  <a:srgbClr val="ffff99"/>
                </a:solidFill>
                <a:latin typeface="Times New Roman"/>
              </a:rPr>
              <a:t>Descentr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. 80’s - 90’s: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Democratización: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cia circunscripciones antes con gobiernos electos: estados, municipio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bjetivos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3) Participación ciudad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116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4) Equidad: territorial, social! (deuda soci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116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5) Eficiencia fi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56386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. 2000 - ...: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Globalización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mpiten territo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bjetivo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6)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Autonomía 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Mejor Expresión de Preferencias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caso acercamiento a niveles más próximos al ciudadano (submunicipales), ausencia de estímulos a la asociación territo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Gasto vinculado con ingresos sólo en (pocos) municipios con capacidad de generación de ingresos tribut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sistema electoral proporcional no propicia una representación adecu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0769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Bajos niveles de autonomía local. Excepción relativa: Brasil, pero no se incentiva la eficiencia fiscal (vínculo con ingreso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Los sistemas de transferencias básicas no propician la eficiencia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(excepto en transferencias a los estados en México, pero en este caso: los municipios dependen del  nivel estatal y además riesgo de  inequid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Estos sistemas determinan, para cada municipio, distintas combinanciones de descentralización política y operativa, la autonomía depende de la </a:t>
            </a: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capacidad de generación de ingresos fiscales propios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desigualdad en derecho ciudadano a proveerse de bienes locales 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(en función de sus ingresos!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Times New Roman"/>
              </a:rPr>
              <a:t>4. Propuesta  (Modelo normativo)</a:t>
            </a:r>
            <a:br>
              <a:rPr sz="3600"/>
            </a:br>
            <a:r>
              <a:rPr b="0" lang="es-ES_tradnl" sz="4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Diferenciaciones Básic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la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descentralización polític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diferenciar funcionalmente la demanda respecto a </a:t>
            </a: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qué, cuánto y con qué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recursos prove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fraestructura básica y servicios públic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Qué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aspectos cualitativos): dif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Cuánto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aspectos cuantitativos: niveles): dif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rvicios de educación y salu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Qué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aspectos cualitativos): dif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Cuánto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aspectos cuantitativos = niveles):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igua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ferenciación establecida en México y ahora en Colomb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Sistemas de Trans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066680"/>
            <a:ext cx="84582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Reunir todas las transferencias existentes y conformar </a:t>
            </a: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dos sistemas subsidiarios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*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1) Sistema de redistribución social: para canasta social, respecto a ingresos familiares, integrado y operado por gobiernos subnacionales (Chile, Colombi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2) Sistema de redistribución territorial, </a:t>
            </a: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para desarrollo local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 (a partir de infraestructura básica,  </a:t>
            </a:r>
            <a:r>
              <a:rPr b="1" i="1" lang="es-ES_tradnl" sz="2600" spc="-1" strike="noStrike">
                <a:solidFill>
                  <a:srgbClr val="ffffff"/>
                </a:solidFill>
                <a:latin typeface="Times New Roman"/>
              </a:rPr>
              <a:t>sobre experiencia de México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ransferencias proporcionales a los aportes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relativos</a:t>
            </a:r>
            <a:r>
              <a:rPr b="1" lang="es-ES_tradnl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(en principio: respecto a ingresos geográfic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siderar incluir “cuasi-impuestos”: aportes en “tiempo”, trabajo, materiales, dinero (cuantificados por Fondos de Desarroll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Nuestra propuesta desde 19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Profundización y Regionalizació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unitarios y federa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formar procesos de decisión autónoma en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 niveles submuncipale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: elección de asambleas, transferencia de potestades y recursos (Ej. Brasil, Ecuad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ncentivar -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 través de transferencias de tipo 1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mancomunidades municipale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regionales, de derecho público (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 función de regionalización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; la base: cuencas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ransferir potestades a estas mancomunidades regiona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Concertación intra e inter del desarrollo region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Uso del suelo y organización de servicios de utilidad pública, incluidos soci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ovisión de infraestructura básica  y servicios públic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Mayor Participación Ciudadan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icipación política y mayor autonomía fisc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Elección de representantes: </a:t>
            </a:r>
            <a:r>
              <a:rPr b="1" lang="es-ES" sz="2600" spc="-1" strike="noStrike">
                <a:solidFill>
                  <a:srgbClr val="ffff66"/>
                </a:solidFill>
                <a:latin typeface="Times New Roman"/>
              </a:rPr>
              <a:t>sistema territorial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, con obligación de informarse e informar, en los tres niveles loc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otestades de autoimposición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ara modificar alícuotas (+ externalización de avalúo de bienes inmuebles, Ej. Españ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Legalización de cuasi-impuest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Consulta obligatoria para compromisos de mediano y largo plazo: por ejemplo, endeudamien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icipación social. Incentiva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articipación directa: en organizaciones soci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articipación indirecta: a través de organizacion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stemas de información asequible: de base y de gest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Resultados esperado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22280" y="1828800"/>
            <a:ext cx="75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Viabilización del desarrollo local/regional: competitiv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ayor equidad social y territorial: igualdad de oportunida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sarrollo de ciudadan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ayor eficiencia fiscal y glob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Viabilidad política? - Debate y consenso para reforma estructu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Oates, Wallace (1972) “Fiscal federalism”. Trad. 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Federalismo fiscal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. IEAL (Madrid), 1977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Musgrave, Richard A.; Peggy Musgrave (1984) “Public finance in theory and practice”. Trad. 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Hacienda pública, trótica y aplicada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. McGraw (Madrid), 199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Finot, Iván (2001) 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Descentralización en América Latina: teoría y práctica.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EPAL (LC./L. 1521-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Times New Roman"/>
              </a:rPr>
              <a:t>Síntesis en  “Descentralización en América Latina: una mirada desde la economía”</a:t>
            </a:r>
            <a:r>
              <a:rPr b="0" i="1" lang="es-ES" sz="2200" spc="-1" strike="noStrike">
                <a:solidFill>
                  <a:srgbClr val="ffff00"/>
                </a:solidFill>
                <a:latin typeface="Times New Roman"/>
              </a:rPr>
              <a:t> Revista de la CEPAL, 78, 2002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Times New Roman"/>
              </a:rPr>
              <a:t>Resumen y aplicación: 2003: “Descentralización en América Latina: cómo hacer viable el desarrollo local”. CEPAL (LC/L. 1986-P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Sitio web CEPAL: 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epal.cl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, Publicaciones, Series de la CEPAL, Gestión Públ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Aspectos Comunes y Di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Qué se descentralizó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Principalment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Servicios de educación y salu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Infraestructura vi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Servicios públicos (en menor medid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cia qué nive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Federales (menos Brasil): nivel intermedio y grandes ciudad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Unitarios: nivel municip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Brasil: énfasis </a:t>
            </a:r>
            <a:r>
              <a:rPr b="0" lang="es-ES_tradnl" sz="2600" spc="-1" strike="noStrike">
                <a:solidFill>
                  <a:srgbClr val="ffff99"/>
                </a:solidFill>
                <a:latin typeface="Times New Roman"/>
              </a:rPr>
              <a:t>en el municipal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00"/>
                </a:solidFill>
                <a:latin typeface="Times New Roman"/>
              </a:rPr>
              <a:t>Descentralización jerárquica y descentralización democrática (Brasil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15920" y="304560"/>
            <a:ext cx="7594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Luces y sombras:</a:t>
            </a:r>
            <a:br>
              <a:rPr sz="4000"/>
            </a:b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1) Desconcentració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38080" y="1752480"/>
          <a:ext cx="769644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696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3657600" y="60199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ffff"/>
                </a:solidFill>
                <a:latin typeface="Times New Roman"/>
              </a:rPr>
              <a:t>Elaborado en base a datos oficiales de cada paí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2) Eficiencia administrativ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904760" y="182880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ejor adecuación a características territor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 hay evidencias de mejoras en relación beneficio/cos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imes New Roman"/>
              </a:rPr>
              <a:t>Corrup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lientel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obre-co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3) Participació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olítica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Avance en derecho al vo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ero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riesgo de nuevos centralismos si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Orientada a niveles intermedi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Megamunicipi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roblemas de representación: Concej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66"/>
                </a:solidFill>
                <a:latin typeface="Times New Roman"/>
              </a:rPr>
              <a:t>Social?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 - Aún escas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Excepto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lanificación participativa”: consulta para gasto y control a través de OTB’s (Bolivi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Y casos puntuales: Ej. presupuesto participativo en Brasil (Porto Alegre: reducción de la evasión!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4) Equida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00"/>
                </a:solidFill>
                <a:latin typeface="Times New Roman"/>
              </a:rPr>
              <a:t>Territorial</a:t>
            </a:r>
            <a:r>
              <a:rPr b="0" lang="es-ES_tradnl" sz="31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icial, muy importante, pero limit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concentración del gasto púb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centración del produc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00"/>
                </a:solidFill>
                <a:latin typeface="Times New Roman"/>
              </a:rPr>
              <a:t>Social</a:t>
            </a:r>
            <a:r>
              <a:rPr b="0" lang="es-ES_tradnl" sz="3100" spc="-1" strike="noStrike">
                <a:solidFill>
                  <a:srgbClr val="ffffff"/>
                </a:solidFill>
                <a:latin typeface="Times New Roman"/>
              </a:rPr>
              <a:t>: avances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rivada de redistribución territo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umento de cobertura soci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ero diferenciación en calida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5) Eficiencia Fisca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casi todos los país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umento gastos &gt; aumento ingresos loc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s sistemas de transferencias como % de impuestos son procíclicos: inducen desequilibrios macroeconómicos (CEPAL, 199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umento del endeudamiento sub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3399"/>
                </a:solidFill>
                <a:latin typeface="Times New Roman"/>
              </a:rPr>
              <a:t>=&gt;</a:t>
            </a:r>
            <a:r>
              <a:rPr b="0" lang="es-ES_tradnl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3399"/>
                </a:solidFill>
                <a:latin typeface="Times New Roman"/>
              </a:rPr>
              <a:t>déficit fisc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xcepción: Chi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ólo transferencias intermunicip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ohibición de endeud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ero muy escasa descentralizació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6) Autonomía para Desarrollo Local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scentralización “política”: ¿“transferencia de competencias a autoridades electas”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 basta, en la mayoría de los municipios las decisiones no son autónom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casa generación de ingresos prop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gasto depende de transferencias condicionadas:  operan decisiones centr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Y si no están condicionadas, no están vinculadas con el esfuerzo local: origen de desequilib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00:04:26Z</dcterms:created>
  <dc:creator>Iván Finot</dc:creator>
  <dc:description/>
  <dc:language>en-US</dc:language>
  <cp:lastModifiedBy>IFINOT</cp:lastModifiedBy>
  <cp:lastPrinted>2002-10-21T16:43:52Z</cp:lastPrinted>
  <dcterms:modified xsi:type="dcterms:W3CDTF">2004-09-10T15:13:57Z</dcterms:modified>
  <cp:revision>130</cp:revision>
  <dc:subject/>
  <dc:title>Descentralización a Comunidades y a Mercados: un Nuevo Enfoque para América Latina </dc:title>
</cp:coreProperties>
</file>