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67C-A5E0-4168-9371-3D1EBA80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C69-CF21-46C3-ABCD-053573B8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778-48F5-4F61-9722-F4720E42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7F7-1708-4315-AC14-27EBD180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EBCD-F051-497A-9586-BF0A715B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DEA7-732F-4F1C-A0F4-63B02FC1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7D17-6E21-4C23-8CF5-85EB1DB9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D558-766E-4460-9C88-57423047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57F3-1974-46F8-9650-F28AD6F5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75960"/>
            <a:ext cx="8163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1C00-A219-4D3F-B63A-10000A5B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A84D-F7B6-4C42-B8F1-F1C6CF99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293F-4DB3-438A-9F07-A776DDA2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E1B2-04B7-4483-A135-0601C48E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0A70-03EB-4CAE-B319-FE5CC667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1DA0-8634-441C-9B6D-8F962335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E27E-0A56-49D1-AB05-43DE67E9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52388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3912120"/>
            <a:ext cx="2611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D772-2727-4994-A698-316DF2E5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276E-CA5A-4122-840E-D759455A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1342-C250-4781-A2E1-33B6CB95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D532-5F2F-442D-BE45-C09546EA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75960"/>
            <a:ext cx="81630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4584-520D-4745-9E09-77C0A181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F101-068C-46A6-B90B-39D272E5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391212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D41F-4F19-4352-81D9-9782E7B2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523880"/>
            <a:ext cx="3957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3912120"/>
            <a:ext cx="8110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8456-DDB8-4615-BDD7-F7EA2289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371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3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676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828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981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133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286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438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2590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2743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2895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3048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3200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3352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3505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3657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3809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3962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114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4267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4419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4572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4724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4876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5029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5181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5334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5486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5638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5791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943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095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248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72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1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34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39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91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95280"/>
            <a:ext cx="6950160" cy="748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71200" y="759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2600" y="152388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5E35-0E40-42B5-8EF7-671DF077B6E8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338120"/>
            <a:ext cx="76788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E3F3-4DFA-41C3-9336-04DC637704F9}" type="slidenum">
              <a:rPr b="0" lang="es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00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280" y="1772280"/>
            <a:ext cx="81630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Los Desafíos del Mercado </a:t>
            </a:r>
            <a:br>
              <a:rPr sz="3600"/>
            </a:b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del Trabajo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95280" y="4235400"/>
            <a:ext cx="65530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Verdana"/>
              </a:rPr>
              <a:t>27 de Agosto, 2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Verdana"/>
              </a:rPr>
              <a:t>Germán Acevedo C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6003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Región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42920" y="1633680"/>
            <a:ext cx="7416720" cy="48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Tipo de Contrat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44228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Tramo de Rent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162920" cy="474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280" y="1699920"/>
            <a:ext cx="81630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Análisis de las Características y Dinámicas del Mercado del Trabajo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590560" y="4235400"/>
            <a:ext cx="65530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6003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tizantes por Rama de Actividad Económic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61440" cy="50133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356000" y="3357720"/>
            <a:ext cx="720720" cy="2592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476360" y="2492280"/>
            <a:ext cx="2087640" cy="3241800"/>
            <a:chOff x="1476360" y="2492280"/>
            <a:chExt cx="2087640" cy="3241800"/>
          </a:xfrm>
        </p:grpSpPr>
        <p:sp>
          <p:nvSpPr>
            <p:cNvPr id="257" name=""/>
            <p:cNvSpPr/>
            <p:nvPr/>
          </p:nvSpPr>
          <p:spPr>
            <a:xfrm>
              <a:off x="2843280" y="2492280"/>
              <a:ext cx="720720" cy="3168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76360" y="3141720"/>
              <a:ext cx="720720" cy="2592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826920" y="1835280"/>
            <a:ext cx="7274160" cy="39495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1200" y="44136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ntratos Creados según Rama de Actividad</a:t>
            </a:r>
            <a:br>
              <a:rPr sz="2400"/>
            </a:b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9a0000"/>
                </a:solidFill>
                <a:latin typeface="Verdana"/>
              </a:rPr>
              <a:t>(oct-02 a jun-04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826920" y="2421000"/>
            <a:ext cx="5832720" cy="863640"/>
            <a:chOff x="826920" y="2421000"/>
            <a:chExt cx="5832720" cy="863640"/>
          </a:xfrm>
        </p:grpSpPr>
        <p:sp>
          <p:nvSpPr>
            <p:cNvPr id="262" name=""/>
            <p:cNvSpPr/>
            <p:nvPr/>
          </p:nvSpPr>
          <p:spPr>
            <a:xfrm>
              <a:off x="826920" y="2421000"/>
              <a:ext cx="5832720" cy="287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6920" y="2997360"/>
              <a:ext cx="5832720" cy="287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826920" y="3500280"/>
            <a:ext cx="5832720" cy="576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19640" y="1844640"/>
            <a:ext cx="1511280" cy="3960720"/>
          </a:xfrm>
          <a:prstGeom prst="rect">
            <a:avLst/>
          </a:prstGeom>
          <a:noFill/>
          <a:ln w="38160">
            <a:solidFill>
              <a:srgbClr val="26f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670040" y="4653000"/>
            <a:ext cx="5423040" cy="16095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441360"/>
            <a:ext cx="8163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ntratos Creados según Tamaño de Empresa</a:t>
            </a:r>
            <a:br>
              <a:rPr sz="2400"/>
            </a:b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es-CL" sz="2000" spc="-1" strike="noStrike">
                <a:solidFill>
                  <a:srgbClr val="9a0000"/>
                </a:solidFill>
                <a:latin typeface="Verdana"/>
              </a:rPr>
              <a:t>(oct-02 a jun-04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93640" y="1758960"/>
            <a:ext cx="8442360" cy="1393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826920" y="3645000"/>
            <a:ext cx="756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1/ El Seguro de Cesantía define el tamaño de empresas en términos del número de trabajadores “pequeña” = de 1 a 49 t , “mediana” = de 50 a 199 t y "grande" = más de 200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348000" y="2133720"/>
            <a:ext cx="719280" cy="3309840"/>
            <a:chOff x="3348000" y="2133720"/>
            <a:chExt cx="719280" cy="3309840"/>
          </a:xfrm>
        </p:grpSpPr>
        <p:sp>
          <p:nvSpPr>
            <p:cNvPr id="271" name=""/>
            <p:cNvSpPr/>
            <p:nvPr/>
          </p:nvSpPr>
          <p:spPr>
            <a:xfrm>
              <a:off x="3348000" y="2133720"/>
              <a:ext cx="719280" cy="358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000" y="5157720"/>
              <a:ext cx="719280" cy="285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645080" y="2637000"/>
            <a:ext cx="1798560" cy="3384360"/>
            <a:chOff x="4645080" y="2637000"/>
            <a:chExt cx="1798560" cy="3384360"/>
          </a:xfrm>
        </p:grpSpPr>
        <p:sp>
          <p:nvSpPr>
            <p:cNvPr id="274" name=""/>
            <p:cNvSpPr/>
            <p:nvPr/>
          </p:nvSpPr>
          <p:spPr>
            <a:xfrm>
              <a:off x="5724360" y="2637000"/>
              <a:ext cx="719280" cy="3585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45080" y="5735520"/>
              <a:ext cx="718920" cy="2858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tizantes por Tamaño de Empres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55840" y="6345360"/>
            <a:ext cx="657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Tamaño de empresa según número de trabajadores: Micro = de 1 a 9 trabajadores, Pequeña = de 10 a 49, Mediana = 50 a 199 y Grande = más de 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9850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ermanencia en el Empleo por Tipo de Contrat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991560" cy="478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292720" y="4292640"/>
            <a:ext cx="358920" cy="1511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979640" y="4797360"/>
            <a:ext cx="5616720" cy="1152720"/>
            <a:chOff x="1979640" y="4797360"/>
            <a:chExt cx="5616720" cy="1152720"/>
          </a:xfrm>
        </p:grpSpPr>
        <p:sp>
          <p:nvSpPr>
            <p:cNvPr id="283" name=""/>
            <p:cNvSpPr/>
            <p:nvPr/>
          </p:nvSpPr>
          <p:spPr>
            <a:xfrm>
              <a:off x="1979640" y="4797360"/>
              <a:ext cx="561672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6000" y="4797360"/>
              <a:ext cx="360360" cy="1152720"/>
            </a:xfrm>
            <a:prstGeom prst="rect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ermanencia en el Empleo por Géner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187280" y="1677960"/>
            <a:ext cx="6840720" cy="46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oblación Objetivo del seguro de Desemple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102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03124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39640" y="3357720"/>
            <a:ext cx="1656000" cy="12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Permanencia en el Empleo por Tramos de Edad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57080" y="1549440"/>
            <a:ext cx="7560000" cy="51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ensidad de Cotizaciones de Relaciones Laboral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5931000" cy="431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7020000" y="1839960"/>
            <a:ext cx="201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56% de las relaciones laborales dura la mitad del tiempo o me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24% ha cotizado todos los meses desde la afili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6920" y="6078600"/>
            <a:ext cx="56167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Densidad =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Verdana"/>
              </a:rPr>
              <a:t>número de meses cotiz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número de meses desde afil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Relación Salario Promedio y Antigüedad en Emple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26920" y="1811160"/>
            <a:ext cx="7480440" cy="40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Jornada Parcia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407280" cy="36576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860840" y="6237360"/>
            <a:ext cx="602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El 52% de los Afiliados no reporta las horas trabajadas según cont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Jornada Parcial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239240" cy="46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aracterización de Cotizantes por Grupo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1042920" y="1935000"/>
            <a:ext cx="1812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 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 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54120" y="2440080"/>
            <a:ext cx="556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os salarios ($1 a $200 mil mensuales) = $109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n de 1 a 6 meses en el 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e personas: 1.091.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55560" y="3879720"/>
            <a:ext cx="665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arios promedio ($200 mil a $400 mil mensuales) = $ 27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n de 7 a 12 meses en el 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e personas: 126.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25400" y="5392800"/>
            <a:ext cx="580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tos salarios (más de $400 mil mensuales) = $757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ran más de 12 meses en el emp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 de personas: 78.2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6300720" y="1413000"/>
            <a:ext cx="2625840" cy="82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aracterización de Cotizantes por Grupo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40728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obertura del Seguro de Desempleo Junio/04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1714680"/>
            <a:ext cx="6388200" cy="1066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0102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65520" y="6381720"/>
            <a:ext cx="318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UENTE:  INE Mar-May 2004, SAFP Jun-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26920" y="3284640"/>
            <a:ext cx="7250400" cy="3379320"/>
            <a:chOff x="826920" y="3284640"/>
            <a:chExt cx="7250400" cy="3379320"/>
          </a:xfrm>
        </p:grpSpPr>
        <p:sp>
          <p:nvSpPr>
            <p:cNvPr id="222" name=""/>
            <p:cNvSpPr/>
            <p:nvPr/>
          </p:nvSpPr>
          <p:spPr>
            <a:xfrm>
              <a:off x="7769160" y="3463920"/>
              <a:ext cx="308160" cy="1946160"/>
            </a:xfrm>
            <a:custGeom>
              <a:avLst/>
              <a:gdLst/>
              <a:ahLst/>
              <a:rect l="l" t="t" r="r" b="b"/>
              <a:pathLst>
                <a:path w="194" h="1226">
                  <a:moveTo>
                    <a:pt x="46" y="1226"/>
                  </a:moveTo>
                  <a:lnTo>
                    <a:pt x="194" y="1017"/>
                  </a:lnTo>
                  <a:lnTo>
                    <a:pt x="19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21200" y="5356080"/>
              <a:ext cx="4608000" cy="5202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tizantes al Seguro de Cesantía a Jun ’04 = 1.35136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filiados al Seguro de Cesantía a Jun ’04    = 2.735.75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68160" y="6021360"/>
              <a:ext cx="2855520" cy="64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Cobertura Cotizantes </a:t>
              </a: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39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Cobertura Afiliados   </a:t>
              </a: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 79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6920" y="3284640"/>
              <a:ext cx="6769440" cy="288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900000" y="3348000"/>
            <a:ext cx="6537600" cy="17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Evolución Afiliados y Cotizantes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73240" y="1665360"/>
            <a:ext cx="692784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CASEN 2000 – Cobertura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7010280" y="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a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368680" cy="38703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031840" y="5823000"/>
            <a:ext cx="513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l 42% de los asalariados privados dura 24 meses o menos en el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700360" y="1773360"/>
            <a:ext cx="0" cy="324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99640" y="1628280"/>
            <a:ext cx="53197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9a0000"/>
                </a:solidFill>
                <a:latin typeface="Verdana"/>
              </a:rPr>
              <a:t>Caracterización de los Afiliados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360036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Género y Edad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81120" y="1341360"/>
            <a:ext cx="3819600" cy="2841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427640" y="3911760"/>
            <a:ext cx="431784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Nivel Educativo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5840" y="1765440"/>
            <a:ext cx="7401240" cy="47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07120"/>
            <a:ext cx="81630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9a0000"/>
                </a:solidFill>
                <a:latin typeface="Verdana"/>
              </a:rPr>
              <a:t>Distribución de Afiliados por Rama de Actividad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44640" y="1660680"/>
            <a:ext cx="7299360" cy="486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16:21:58Z</dcterms:created>
  <dc:creator>Patricio Cerda - SAFP</dc:creator>
  <dc:description/>
  <dc:language>en-US</dc:language>
  <cp:lastModifiedBy>José Inostroza</cp:lastModifiedBy>
  <dcterms:modified xsi:type="dcterms:W3CDTF">2004-08-30T14:28:12Z</dcterms:modified>
  <cp:revision>257</cp:revision>
  <dc:subject/>
  <dc:title>Seguro de Cesantí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960B44930DC4541A1861A716A8D7F0384342E00</vt:lpwstr>
  </property>
  <property fmtid="{D5CDD505-2E9C-101B-9397-08002B2CF9AE}" pid="3" name="_ReviewCycleID">
    <vt:r8>-461839552</vt:r8>
  </property>
  <property fmtid="{D5CDD505-2E9C-101B-9397-08002B2CF9AE}" pid="4" name="_ReviewingToolsShownOnce">
    <vt:lpwstr/>
  </property>
</Properties>
</file>