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BB714-7898-43CF-AE26-DD82544AB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3E5B-18CA-4770-A96E-D83D6F56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62B2F-E676-462F-9ADC-032150A36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699C8-B35B-4E05-9CD2-666A73D2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F689-99D9-4471-BD9D-FB4B71E9A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FB05-8873-48CB-A21B-AFAAB363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09A5-1450-4D2B-8CFE-E9544D44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A6D37-B308-4363-A554-5B9BAF790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B1C0-C6E6-4AA9-B13F-922E849B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61D4-8F1B-4DD8-99CD-F25555BB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FF11-5022-4B79-B9BF-4D6FBCD8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7B9A-93CC-4019-97BC-BC531AEB7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F09F-9B19-490A-9C8C-90B6440F8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puercoes" descr=""/>
          <p:cNvPicPr/>
          <p:nvPr/>
        </p:nvPicPr>
        <p:blipFill>
          <a:blip r:embed="rId1"/>
          <a:stretch/>
        </p:blipFill>
        <p:spPr>
          <a:xfrm>
            <a:off x="5334120" y="3657600"/>
            <a:ext cx="3809880" cy="2747880"/>
          </a:xfrm>
          <a:prstGeom prst="rect">
            <a:avLst/>
          </a:prstGeom>
          <a:ln w="0">
            <a:noFill/>
          </a:ln>
        </p:spPr>
      </p:pic>
      <p:pic>
        <p:nvPicPr>
          <p:cNvPr id="44" name="Logo%20Ced%20color%20art" descr=""/>
          <p:cNvPicPr/>
          <p:nvPr/>
        </p:nvPicPr>
        <p:blipFill>
          <a:blip r:embed="rId2"/>
          <a:stretch/>
        </p:blipFill>
        <p:spPr>
          <a:xfrm>
            <a:off x="457200" y="304920"/>
            <a:ext cx="906480" cy="465120"/>
          </a:xfrm>
          <a:prstGeom prst="rect">
            <a:avLst/>
          </a:prstGeom>
          <a:ln w="0">
            <a:noFill/>
          </a:ln>
        </p:spPr>
      </p:pic>
      <p:pic>
        <p:nvPicPr>
          <p:cNvPr id="45"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Logo%20Ced%20color%20art" descr=""/>
          <p:cNvPicPr/>
          <p:nvPr/>
        </p:nvPicPr>
        <p:blipFill>
          <a:blip r:embed="rId1"/>
          <a:stretch/>
        </p:blipFill>
        <p:spPr>
          <a:xfrm>
            <a:off x="457200" y="304920"/>
            <a:ext cx="906480" cy="465120"/>
          </a:xfrm>
          <a:prstGeom prst="rect">
            <a:avLst/>
          </a:prstGeom>
          <a:ln w="0">
            <a:noFill/>
          </a:ln>
        </p:spPr>
      </p:pic>
      <p:pic>
        <p:nvPicPr>
          <p:cNvPr id="84" name="AtodoSur"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Logo%20Ced%20color%20art" descr=""/>
          <p:cNvPicPr/>
          <p:nvPr/>
        </p:nvPicPr>
        <p:blipFill>
          <a:blip r:embed="rId1"/>
          <a:stretch/>
        </p:blipFill>
        <p:spPr>
          <a:xfrm>
            <a:off x="457200" y="304920"/>
            <a:ext cx="906480" cy="465120"/>
          </a:xfrm>
          <a:prstGeom prst="rect">
            <a:avLst/>
          </a:prstGeom>
          <a:ln w="0">
            <a:noFill/>
          </a:ln>
        </p:spPr>
      </p:pic>
      <p:pic>
        <p:nvPicPr>
          <p:cNvPr id="88" name="AtodoSur"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Logo%20Ced%20color%20art" descr=""/>
          <p:cNvPicPr/>
          <p:nvPr/>
        </p:nvPicPr>
        <p:blipFill>
          <a:blip r:embed="rId1"/>
          <a:stretch/>
        </p:blipFill>
        <p:spPr>
          <a:xfrm>
            <a:off x="457200" y="304920"/>
            <a:ext cx="906480" cy="465120"/>
          </a:xfrm>
          <a:prstGeom prst="rect">
            <a:avLst/>
          </a:prstGeom>
          <a:ln w="0">
            <a:noFill/>
          </a:ln>
        </p:spPr>
      </p:pic>
      <p:pic>
        <p:nvPicPr>
          <p:cNvPr id="92" name="AtodoSur"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Logo%20Ced%20color%20art" descr=""/>
          <p:cNvPicPr/>
          <p:nvPr/>
        </p:nvPicPr>
        <p:blipFill>
          <a:blip r:embed="rId1"/>
          <a:stretch/>
        </p:blipFill>
        <p:spPr>
          <a:xfrm>
            <a:off x="457200" y="304920"/>
            <a:ext cx="906480" cy="465120"/>
          </a:xfrm>
          <a:prstGeom prst="rect">
            <a:avLst/>
          </a:prstGeom>
          <a:ln w="0">
            <a:noFill/>
          </a:ln>
        </p:spPr>
      </p:pic>
      <p:pic>
        <p:nvPicPr>
          <p:cNvPr id="96" name="AtodoSur"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Logo%20Ced%20color%20art" descr=""/>
          <p:cNvPicPr/>
          <p:nvPr/>
        </p:nvPicPr>
        <p:blipFill>
          <a:blip r:embed="rId1"/>
          <a:stretch/>
        </p:blipFill>
        <p:spPr>
          <a:xfrm>
            <a:off x="457200" y="304920"/>
            <a:ext cx="906480" cy="465120"/>
          </a:xfrm>
          <a:prstGeom prst="rect">
            <a:avLst/>
          </a:prstGeom>
          <a:ln w="0">
            <a:noFill/>
          </a:ln>
        </p:spPr>
      </p:pic>
      <p:pic>
        <p:nvPicPr>
          <p:cNvPr id="100" name="AtodoSur"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AtodoSur" descr=""/>
          <p:cNvPicPr/>
          <p:nvPr/>
        </p:nvPicPr>
        <p:blipFill>
          <a:blip r:embed="rId3"/>
          <a:stretch/>
        </p:blipFill>
        <p:spPr>
          <a:xfrm>
            <a:off x="8229600" y="304920"/>
            <a:ext cx="488880" cy="671400"/>
          </a:xfrm>
          <a:prstGeom prst="rect">
            <a:avLst/>
          </a:prstGeom>
          <a:ln w="0">
            <a:noFill/>
          </a:ln>
        </p:spPr>
      </p:pic>
      <p:pic>
        <p:nvPicPr>
          <p:cNvPr id="1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08" name="Logo%20Ced%20color%20art" descr=""/>
          <p:cNvPicPr/>
          <p:nvPr/>
        </p:nvPicPr>
        <p:blipFill>
          <a:blip r:embed="rId1"/>
          <a:stretch/>
        </p:blipFill>
        <p:spPr>
          <a:xfrm>
            <a:off x="457200" y="304920"/>
            <a:ext cx="906480" cy="465120"/>
          </a:xfrm>
          <a:prstGeom prst="rect">
            <a:avLst/>
          </a:prstGeom>
          <a:ln w="0">
            <a:noFill/>
          </a:ln>
        </p:spPr>
      </p:pic>
      <p:pic>
        <p:nvPicPr>
          <p:cNvPr id="109" name="AtodoSur" descr=""/>
          <p:cNvPicPr/>
          <p:nvPr/>
        </p:nvPicPr>
        <p:blipFill>
          <a:blip r:embed="rId2"/>
          <a:stretch/>
        </p:blipFill>
        <p:spPr>
          <a:xfrm>
            <a:off x="8229600" y="304920"/>
            <a:ext cx="488880" cy="671400"/>
          </a:xfrm>
          <a:prstGeom prst="rect">
            <a:avLst/>
          </a:prstGeom>
          <a:ln w="0">
            <a:noFill/>
          </a:ln>
        </p:spPr>
      </p:pic>
      <p:sp>
        <p:nvSpPr>
          <p:cNvPr id="11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11" name="PE01931_" descr=""/>
          <p:cNvPicPr/>
          <p:nvPr/>
        </p:nvPicPr>
        <p:blipFill>
          <a:blip r:embed="rId3"/>
          <a:stretch/>
        </p:blipFill>
        <p:spPr>
          <a:xfrm>
            <a:off x="4419720" y="4038480"/>
            <a:ext cx="4133880" cy="240192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13"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4" name="AtodoSur" descr=""/>
          <p:cNvPicPr/>
          <p:nvPr/>
        </p:nvPicPr>
        <p:blipFill>
          <a:blip r:embed="rId1"/>
          <a:stretch/>
        </p:blipFill>
        <p:spPr>
          <a:xfrm>
            <a:off x="8229600" y="304920"/>
            <a:ext cx="488880" cy="671400"/>
          </a:xfrm>
          <a:prstGeom prst="rect">
            <a:avLst/>
          </a:prstGeom>
          <a:ln w="0">
            <a:noFill/>
          </a:ln>
        </p:spPr>
      </p:pic>
      <p:pic>
        <p:nvPicPr>
          <p:cNvPr id="115"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17" name="Logo%20Ced%20color%20art" descr=""/>
          <p:cNvPicPr/>
          <p:nvPr/>
        </p:nvPicPr>
        <p:blipFill>
          <a:blip r:embed="rId1"/>
          <a:stretch/>
        </p:blipFill>
        <p:spPr>
          <a:xfrm>
            <a:off x="457200" y="304920"/>
            <a:ext cx="906480" cy="465120"/>
          </a:xfrm>
          <a:prstGeom prst="rect">
            <a:avLst/>
          </a:prstGeom>
          <a:ln w="0">
            <a:noFill/>
          </a:ln>
        </p:spPr>
      </p:pic>
      <p:graphicFrame>
        <p:nvGraphicFramePr>
          <p:cNvPr id="118" name=""/>
          <p:cNvGraphicFramePr/>
          <p:nvPr/>
        </p:nvGraphicFramePr>
        <p:xfrm>
          <a:off x="1905120" y="1981080"/>
          <a:ext cx="5943600" cy="4496040"/>
        </p:xfrm>
        <a:graphic>
          <a:graphicData uri="http://schemas.openxmlformats.org/presentationml/2006/ole">
            <p:oleObj r:id="rId2" spid="">
              <p:embed/>
              <p:pic>
                <p:nvPicPr>
                  <p:cNvPr id="119"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20"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23" name=""/>
          <p:cNvGrpSpPr/>
          <p:nvPr/>
        </p:nvGrpSpPr>
        <p:grpSpPr>
          <a:xfrm>
            <a:off x="455760" y="1981080"/>
            <a:ext cx="8307000" cy="4572000"/>
            <a:chOff x="455760" y="1981080"/>
            <a:chExt cx="8307000" cy="4572000"/>
          </a:xfrm>
        </p:grpSpPr>
        <p:grpSp>
          <p:nvGrpSpPr>
            <p:cNvPr id="124" name=""/>
            <p:cNvGrpSpPr/>
            <p:nvPr/>
          </p:nvGrpSpPr>
          <p:grpSpPr>
            <a:xfrm>
              <a:off x="461880" y="1983960"/>
              <a:ext cx="8293320" cy="4565520"/>
              <a:chOff x="461880" y="1983960"/>
              <a:chExt cx="8293320" cy="4565520"/>
            </a:xfrm>
          </p:grpSpPr>
          <p:grpSp>
            <p:nvGrpSpPr>
              <p:cNvPr id="125" name=""/>
              <p:cNvGrpSpPr/>
              <p:nvPr/>
            </p:nvGrpSpPr>
            <p:grpSpPr>
              <a:xfrm>
                <a:off x="461880" y="1983960"/>
                <a:ext cx="1658160" cy="513720"/>
                <a:chOff x="461880" y="1983960"/>
                <a:chExt cx="1658160" cy="513720"/>
              </a:xfrm>
            </p:grpSpPr>
            <p:sp>
              <p:nvSpPr>
                <p:cNvPr id="126"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120400" y="1983960"/>
                <a:ext cx="1658160" cy="513720"/>
                <a:chOff x="2120400" y="1983960"/>
                <a:chExt cx="1658160" cy="513720"/>
              </a:xfrm>
            </p:grpSpPr>
            <p:sp>
              <p:nvSpPr>
                <p:cNvPr id="129"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779280" y="1983960"/>
                <a:ext cx="1658160" cy="513720"/>
                <a:chOff x="3779280" y="1983960"/>
                <a:chExt cx="1658160" cy="513720"/>
              </a:xfrm>
            </p:grpSpPr>
            <p:sp>
              <p:nvSpPr>
                <p:cNvPr id="132"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7800" y="1983960"/>
                <a:ext cx="1658880" cy="513720"/>
                <a:chOff x="5437800" y="1983960"/>
                <a:chExt cx="1658880" cy="513720"/>
              </a:xfrm>
            </p:grpSpPr>
            <p:sp>
              <p:nvSpPr>
                <p:cNvPr id="135"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7097040" y="1983960"/>
                <a:ext cx="1658160" cy="513720"/>
                <a:chOff x="7097040" y="1983960"/>
                <a:chExt cx="1658160" cy="513720"/>
              </a:xfrm>
            </p:grpSpPr>
            <p:sp>
              <p:nvSpPr>
                <p:cNvPr id="138"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461880" y="2497680"/>
                <a:ext cx="1658160" cy="651960"/>
                <a:chOff x="461880" y="2497680"/>
                <a:chExt cx="1658160" cy="651960"/>
              </a:xfrm>
            </p:grpSpPr>
            <p:sp>
              <p:nvSpPr>
                <p:cNvPr id="141"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120400" y="2497680"/>
                <a:ext cx="1658160" cy="651960"/>
                <a:chOff x="2120400" y="2497680"/>
                <a:chExt cx="1658160" cy="651960"/>
              </a:xfrm>
            </p:grpSpPr>
            <p:sp>
              <p:nvSpPr>
                <p:cNvPr id="144"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79280" y="2497680"/>
                <a:ext cx="1658160" cy="651960"/>
                <a:chOff x="3779280" y="2497680"/>
                <a:chExt cx="1658160" cy="651960"/>
              </a:xfrm>
            </p:grpSpPr>
            <p:sp>
              <p:nvSpPr>
                <p:cNvPr id="147"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437800" y="2497680"/>
                <a:ext cx="1658880" cy="651960"/>
                <a:chOff x="5437800" y="2497680"/>
                <a:chExt cx="1658880" cy="651960"/>
              </a:xfrm>
            </p:grpSpPr>
            <p:sp>
              <p:nvSpPr>
                <p:cNvPr id="150"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7097040" y="2497680"/>
                <a:ext cx="1658160" cy="651960"/>
                <a:chOff x="7097040" y="2497680"/>
                <a:chExt cx="1658160" cy="651960"/>
              </a:xfrm>
            </p:grpSpPr>
            <p:sp>
              <p:nvSpPr>
                <p:cNvPr id="153"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1880" y="3149640"/>
                <a:ext cx="1658160" cy="414720"/>
                <a:chOff x="461880" y="3149640"/>
                <a:chExt cx="1658160" cy="414720"/>
              </a:xfrm>
            </p:grpSpPr>
            <p:sp>
              <p:nvSpPr>
                <p:cNvPr id="156"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120400" y="3149640"/>
                <a:ext cx="1658160" cy="414720"/>
                <a:chOff x="2120400" y="3149640"/>
                <a:chExt cx="1658160" cy="414720"/>
              </a:xfrm>
            </p:grpSpPr>
            <p:sp>
              <p:nvSpPr>
                <p:cNvPr id="159"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779280" y="3149640"/>
                <a:ext cx="1658160" cy="414720"/>
                <a:chOff x="3779280" y="3149640"/>
                <a:chExt cx="1658160" cy="414720"/>
              </a:xfrm>
            </p:grpSpPr>
            <p:sp>
              <p:nvSpPr>
                <p:cNvPr id="162"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37800" y="3149640"/>
                <a:ext cx="1658880" cy="414720"/>
                <a:chOff x="5437800" y="3149640"/>
                <a:chExt cx="1658880" cy="414720"/>
              </a:xfrm>
            </p:grpSpPr>
            <p:sp>
              <p:nvSpPr>
                <p:cNvPr id="165"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097040" y="3149640"/>
                <a:ext cx="1658160" cy="414720"/>
                <a:chOff x="7097040" y="3149640"/>
                <a:chExt cx="1658160" cy="414720"/>
              </a:xfrm>
            </p:grpSpPr>
            <p:sp>
              <p:nvSpPr>
                <p:cNvPr id="168"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1880" y="3564720"/>
                <a:ext cx="1658160" cy="414720"/>
                <a:chOff x="461880" y="3564720"/>
                <a:chExt cx="1658160" cy="414720"/>
              </a:xfrm>
            </p:grpSpPr>
            <p:sp>
              <p:nvSpPr>
                <p:cNvPr id="171"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120400" y="3564720"/>
                <a:ext cx="1658160" cy="414720"/>
                <a:chOff x="2120400" y="3564720"/>
                <a:chExt cx="1658160" cy="414720"/>
              </a:xfrm>
            </p:grpSpPr>
            <p:sp>
              <p:nvSpPr>
                <p:cNvPr id="174"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779280" y="3564720"/>
                <a:ext cx="1658160" cy="414720"/>
                <a:chOff x="3779280" y="3564720"/>
                <a:chExt cx="1658160" cy="414720"/>
              </a:xfrm>
            </p:grpSpPr>
            <p:sp>
              <p:nvSpPr>
                <p:cNvPr id="177"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437800" y="3564720"/>
                <a:ext cx="1658880" cy="414720"/>
                <a:chOff x="5437800" y="3564720"/>
                <a:chExt cx="1658880" cy="414720"/>
              </a:xfrm>
            </p:grpSpPr>
            <p:sp>
              <p:nvSpPr>
                <p:cNvPr id="180"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97040" y="3564720"/>
                <a:ext cx="1658160" cy="414720"/>
                <a:chOff x="7097040" y="3564720"/>
                <a:chExt cx="1658160" cy="414720"/>
              </a:xfrm>
            </p:grpSpPr>
            <p:sp>
              <p:nvSpPr>
                <p:cNvPr id="183"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61880" y="3979800"/>
                <a:ext cx="1658160" cy="414720"/>
                <a:chOff x="461880" y="3979800"/>
                <a:chExt cx="1658160" cy="414720"/>
              </a:xfrm>
            </p:grpSpPr>
            <p:sp>
              <p:nvSpPr>
                <p:cNvPr id="186"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120400" y="3979800"/>
                <a:ext cx="1658160" cy="414720"/>
                <a:chOff x="2120400" y="3979800"/>
                <a:chExt cx="1658160" cy="414720"/>
              </a:xfrm>
            </p:grpSpPr>
            <p:sp>
              <p:nvSpPr>
                <p:cNvPr id="189"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779280" y="3979800"/>
                <a:ext cx="1658160" cy="414720"/>
                <a:chOff x="3779280" y="3979800"/>
                <a:chExt cx="1658160" cy="414720"/>
              </a:xfrm>
            </p:grpSpPr>
            <p:sp>
              <p:nvSpPr>
                <p:cNvPr id="192"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437800" y="3979800"/>
                <a:ext cx="1658880" cy="414720"/>
                <a:chOff x="5437800" y="3979800"/>
                <a:chExt cx="1658880" cy="414720"/>
              </a:xfrm>
            </p:grpSpPr>
            <p:sp>
              <p:nvSpPr>
                <p:cNvPr id="195"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97040" y="3979800"/>
                <a:ext cx="1658160" cy="414720"/>
                <a:chOff x="7097040" y="3979800"/>
                <a:chExt cx="1658160" cy="414720"/>
              </a:xfrm>
            </p:grpSpPr>
            <p:sp>
              <p:nvSpPr>
                <p:cNvPr id="198"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61880" y="4394880"/>
                <a:ext cx="1658160" cy="414720"/>
                <a:chOff x="461880" y="4394880"/>
                <a:chExt cx="1658160" cy="414720"/>
              </a:xfrm>
            </p:grpSpPr>
            <p:sp>
              <p:nvSpPr>
                <p:cNvPr id="201"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120400" y="4394880"/>
                <a:ext cx="1658160" cy="414720"/>
                <a:chOff x="2120400" y="4394880"/>
                <a:chExt cx="1658160" cy="414720"/>
              </a:xfrm>
            </p:grpSpPr>
            <p:sp>
              <p:nvSpPr>
                <p:cNvPr id="204"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779280" y="4394880"/>
                <a:ext cx="1658160" cy="414720"/>
                <a:chOff x="3779280" y="4394880"/>
                <a:chExt cx="1658160" cy="414720"/>
              </a:xfrm>
            </p:grpSpPr>
            <p:sp>
              <p:nvSpPr>
                <p:cNvPr id="207"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437800" y="4394880"/>
                <a:ext cx="1658880" cy="414720"/>
                <a:chOff x="5437800" y="4394880"/>
                <a:chExt cx="1658880" cy="414720"/>
              </a:xfrm>
            </p:grpSpPr>
            <p:sp>
              <p:nvSpPr>
                <p:cNvPr id="210"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97040" y="4394880"/>
                <a:ext cx="1658160" cy="414720"/>
                <a:chOff x="7097040" y="4394880"/>
                <a:chExt cx="1658160" cy="414720"/>
              </a:xfrm>
            </p:grpSpPr>
            <p:sp>
              <p:nvSpPr>
                <p:cNvPr id="213"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61880" y="4809960"/>
                <a:ext cx="1658160" cy="395640"/>
                <a:chOff x="461880" y="4809960"/>
                <a:chExt cx="1658160" cy="395640"/>
              </a:xfrm>
            </p:grpSpPr>
            <p:sp>
              <p:nvSpPr>
                <p:cNvPr id="216"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120400" y="4809960"/>
                <a:ext cx="1658160" cy="395640"/>
                <a:chOff x="2120400" y="4809960"/>
                <a:chExt cx="1658160" cy="395640"/>
              </a:xfrm>
            </p:grpSpPr>
            <p:sp>
              <p:nvSpPr>
                <p:cNvPr id="219"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779280" y="4809960"/>
                <a:ext cx="1658160" cy="395640"/>
                <a:chOff x="3779280" y="4809960"/>
                <a:chExt cx="1658160" cy="395640"/>
              </a:xfrm>
            </p:grpSpPr>
            <p:sp>
              <p:nvSpPr>
                <p:cNvPr id="222"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5437800" y="4809960"/>
                <a:ext cx="1658880" cy="395640"/>
                <a:chOff x="5437800" y="4809960"/>
                <a:chExt cx="1658880" cy="395640"/>
              </a:xfrm>
            </p:grpSpPr>
            <p:sp>
              <p:nvSpPr>
                <p:cNvPr id="225"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097040" y="4809960"/>
                <a:ext cx="1658160" cy="395640"/>
                <a:chOff x="7097040" y="4809960"/>
                <a:chExt cx="1658160" cy="395640"/>
              </a:xfrm>
            </p:grpSpPr>
            <p:sp>
              <p:nvSpPr>
                <p:cNvPr id="228"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1880" y="5205600"/>
                <a:ext cx="1658160" cy="414720"/>
                <a:chOff x="461880" y="5205600"/>
                <a:chExt cx="1658160" cy="414720"/>
              </a:xfrm>
            </p:grpSpPr>
            <p:sp>
              <p:nvSpPr>
                <p:cNvPr id="231"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120400" y="5205600"/>
                <a:ext cx="1658160" cy="414720"/>
                <a:chOff x="2120400" y="5205600"/>
                <a:chExt cx="1658160" cy="414720"/>
              </a:xfrm>
            </p:grpSpPr>
            <p:sp>
              <p:nvSpPr>
                <p:cNvPr id="234"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779280" y="5205600"/>
                <a:ext cx="1658160" cy="414720"/>
                <a:chOff x="3779280" y="5205600"/>
                <a:chExt cx="1658160" cy="414720"/>
              </a:xfrm>
            </p:grpSpPr>
            <p:sp>
              <p:nvSpPr>
                <p:cNvPr id="237"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437800" y="5205600"/>
                <a:ext cx="1658880" cy="414720"/>
                <a:chOff x="5437800" y="5205600"/>
                <a:chExt cx="1658880" cy="414720"/>
              </a:xfrm>
            </p:grpSpPr>
            <p:sp>
              <p:nvSpPr>
                <p:cNvPr id="240"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097040" y="5205600"/>
                <a:ext cx="1658160" cy="414720"/>
                <a:chOff x="7097040" y="5205600"/>
                <a:chExt cx="1658160" cy="414720"/>
              </a:xfrm>
            </p:grpSpPr>
            <p:sp>
              <p:nvSpPr>
                <p:cNvPr id="243"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61880" y="5620680"/>
                <a:ext cx="1658160" cy="395280"/>
                <a:chOff x="461880" y="5620680"/>
                <a:chExt cx="1658160" cy="395280"/>
              </a:xfrm>
            </p:grpSpPr>
            <p:sp>
              <p:nvSpPr>
                <p:cNvPr id="246"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120400" y="5620680"/>
                <a:ext cx="1658160" cy="395280"/>
                <a:chOff x="2120400" y="5620680"/>
                <a:chExt cx="1658160" cy="395280"/>
              </a:xfrm>
            </p:grpSpPr>
            <p:sp>
              <p:nvSpPr>
                <p:cNvPr id="249"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779280" y="5620680"/>
                <a:ext cx="1658160" cy="395280"/>
                <a:chOff x="3779280" y="5620680"/>
                <a:chExt cx="1658160" cy="395280"/>
              </a:xfrm>
            </p:grpSpPr>
            <p:sp>
              <p:nvSpPr>
                <p:cNvPr id="252"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437800" y="5620680"/>
                <a:ext cx="1658880" cy="395280"/>
                <a:chOff x="5437800" y="5620680"/>
                <a:chExt cx="1658880" cy="395280"/>
              </a:xfrm>
            </p:grpSpPr>
            <p:sp>
              <p:nvSpPr>
                <p:cNvPr id="255"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097040" y="5620680"/>
                <a:ext cx="1658160" cy="395280"/>
                <a:chOff x="7097040" y="5620680"/>
                <a:chExt cx="1658160" cy="395280"/>
              </a:xfrm>
            </p:grpSpPr>
            <p:sp>
              <p:nvSpPr>
                <p:cNvPr id="258"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1880" y="6016320"/>
                <a:ext cx="1658160" cy="533160"/>
                <a:chOff x="461880" y="6016320"/>
                <a:chExt cx="1658160" cy="533160"/>
              </a:xfrm>
            </p:grpSpPr>
            <p:sp>
              <p:nvSpPr>
                <p:cNvPr id="261"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2120400" y="6016320"/>
                <a:ext cx="1658160" cy="533160"/>
                <a:chOff x="2120400" y="6016320"/>
                <a:chExt cx="1658160" cy="533160"/>
              </a:xfrm>
            </p:grpSpPr>
            <p:sp>
              <p:nvSpPr>
                <p:cNvPr id="264"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779280" y="6016320"/>
                <a:ext cx="1658160" cy="533160"/>
                <a:chOff x="3779280" y="6016320"/>
                <a:chExt cx="1658160" cy="533160"/>
              </a:xfrm>
            </p:grpSpPr>
            <p:sp>
              <p:nvSpPr>
                <p:cNvPr id="267"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437800" y="6016320"/>
                <a:ext cx="1658880" cy="533160"/>
                <a:chOff x="5437800" y="6016320"/>
                <a:chExt cx="1658880" cy="533160"/>
              </a:xfrm>
            </p:grpSpPr>
            <p:sp>
              <p:nvSpPr>
                <p:cNvPr id="270"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97040" y="6016320"/>
                <a:ext cx="1658160" cy="533160"/>
                <a:chOff x="7097040" y="6016320"/>
                <a:chExt cx="1658160" cy="533160"/>
              </a:xfrm>
            </p:grpSpPr>
            <p:sp>
              <p:nvSpPr>
                <p:cNvPr id="273"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5"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7" name="AtodoSur" descr=""/>
          <p:cNvPicPr/>
          <p:nvPr/>
        </p:nvPicPr>
        <p:blipFill>
          <a:blip r:embed="rId1"/>
          <a:stretch/>
        </p:blipFill>
        <p:spPr>
          <a:xfrm>
            <a:off x="8229600" y="304920"/>
            <a:ext cx="488880" cy="671400"/>
          </a:xfrm>
          <a:prstGeom prst="rect">
            <a:avLst/>
          </a:prstGeom>
          <a:ln w="0">
            <a:noFill/>
          </a:ln>
        </p:spPr>
      </p:pic>
      <p:grpSp>
        <p:nvGrpSpPr>
          <p:cNvPr id="278" name=""/>
          <p:cNvGrpSpPr/>
          <p:nvPr/>
        </p:nvGrpSpPr>
        <p:grpSpPr>
          <a:xfrm>
            <a:off x="152280" y="1096920"/>
            <a:ext cx="8457480" cy="1189080"/>
            <a:chOff x="152280" y="1096920"/>
            <a:chExt cx="8457480" cy="1189080"/>
          </a:xfrm>
        </p:grpSpPr>
        <p:sp>
          <p:nvSpPr>
            <p:cNvPr id="279"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puercoes" descr=""/>
          <p:cNvPicPr/>
          <p:nvPr/>
        </p:nvPicPr>
        <p:blipFill>
          <a:blip r:embed="rId1"/>
          <a:stretch/>
        </p:blipFill>
        <p:spPr>
          <a:xfrm>
            <a:off x="1219320" y="1752480"/>
            <a:ext cx="6553080" cy="4038840"/>
          </a:xfrm>
          <a:prstGeom prst="rect">
            <a:avLst/>
          </a:prstGeom>
          <a:ln w="0">
            <a:noFill/>
          </a:ln>
        </p:spPr>
      </p:pic>
      <p:pic>
        <p:nvPicPr>
          <p:cNvPr id="48" name="Logo%20Ced%20color%20art" descr=""/>
          <p:cNvPicPr/>
          <p:nvPr/>
        </p:nvPicPr>
        <p:blipFill>
          <a:blip r:embed="rId2"/>
          <a:stretch/>
        </p:blipFill>
        <p:spPr>
          <a:xfrm>
            <a:off x="457200" y="304920"/>
            <a:ext cx="906480" cy="465120"/>
          </a:xfrm>
          <a:prstGeom prst="rect">
            <a:avLst/>
          </a:prstGeom>
          <a:ln w="0">
            <a:noFill/>
          </a:ln>
        </p:spPr>
      </p:pic>
      <p:pic>
        <p:nvPicPr>
          <p:cNvPr id="4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284" name="Logo%20Ced%20color%20art" descr=""/>
          <p:cNvPicPr/>
          <p:nvPr/>
        </p:nvPicPr>
        <p:blipFill>
          <a:blip r:embed="rId1"/>
          <a:stretch/>
        </p:blipFill>
        <p:spPr>
          <a:xfrm>
            <a:off x="457200" y="304920"/>
            <a:ext cx="906480" cy="465120"/>
          </a:xfrm>
          <a:prstGeom prst="rect">
            <a:avLst/>
          </a:prstGeom>
          <a:ln w="0">
            <a:noFill/>
          </a:ln>
        </p:spPr>
      </p:pic>
      <p:pic>
        <p:nvPicPr>
          <p:cNvPr id="28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289" name="BD06990_" descr=""/>
          <p:cNvPicPr/>
          <p:nvPr/>
        </p:nvPicPr>
        <p:blipFill>
          <a:blip r:embed="rId1"/>
          <a:stretch/>
        </p:blipFill>
        <p:spPr>
          <a:xfrm>
            <a:off x="3048120" y="0"/>
            <a:ext cx="2590560" cy="1981080"/>
          </a:xfrm>
          <a:prstGeom prst="rect">
            <a:avLst/>
          </a:prstGeom>
          <a:ln w="0">
            <a:noFill/>
          </a:ln>
        </p:spPr>
      </p:pic>
      <p:pic>
        <p:nvPicPr>
          <p:cNvPr id="290" name="AtodoSur" descr=""/>
          <p:cNvPicPr/>
          <p:nvPr/>
        </p:nvPicPr>
        <p:blipFill>
          <a:blip r:embed="rId2"/>
          <a:stretch/>
        </p:blipFill>
        <p:spPr>
          <a:xfrm>
            <a:off x="8229600" y="304920"/>
            <a:ext cx="488880" cy="671400"/>
          </a:xfrm>
          <a:prstGeom prst="rect">
            <a:avLst/>
          </a:prstGeom>
          <a:ln w="0">
            <a:noFill/>
          </a:ln>
        </p:spPr>
      </p:pic>
      <p:pic>
        <p:nvPicPr>
          <p:cNvPr id="29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Y ahora, quién podrá salvarnos?</a:t>
            </a:r>
            <a:endParaRPr b="0" lang="en-US" sz="4400" spc="-1" strike="noStrike">
              <a:solidFill>
                <a:srgbClr val="000000"/>
              </a:solidFill>
              <a:latin typeface="Times New Roman"/>
            </a:endParaRPr>
          </a:p>
        </p:txBody>
      </p:sp>
      <p:sp>
        <p:nvSpPr>
          <p:cNvPr id="2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tinuará…</a:t>
            </a:r>
            <a:r>
              <a:rPr b="0" lang="es-MX"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94" name="BD04912_" descr=""/>
          <p:cNvPicPr/>
          <p:nvPr/>
        </p:nvPicPr>
        <p:blipFill>
          <a:blip r:embed="rId1"/>
          <a:stretch/>
        </p:blipFill>
        <p:spPr>
          <a:xfrm>
            <a:off x="942840" y="1981080"/>
            <a:ext cx="3294360" cy="4114800"/>
          </a:xfrm>
          <a:prstGeom prst="rect">
            <a:avLst/>
          </a:prstGeom>
          <a:ln w="0">
            <a:noFill/>
          </a:ln>
        </p:spPr>
      </p:pic>
      <p:pic>
        <p:nvPicPr>
          <p:cNvPr id="295" name="Logo%20Ced%20color%20art" descr=""/>
          <p:cNvPicPr/>
          <p:nvPr/>
        </p:nvPicPr>
        <p:blipFill>
          <a:blip r:embed="rId2"/>
          <a:stretch/>
        </p:blipFill>
        <p:spPr>
          <a:xfrm>
            <a:off x="457200" y="304920"/>
            <a:ext cx="906480" cy="465120"/>
          </a:xfrm>
          <a:prstGeom prst="rect">
            <a:avLst/>
          </a:prstGeom>
          <a:ln w="0">
            <a:noFill/>
          </a:ln>
        </p:spPr>
      </p:pic>
      <p:pic>
        <p:nvPicPr>
          <p:cNvPr id="29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2004 la solución es:</a:t>
            </a:r>
            <a:endParaRPr b="0" lang="en-US" sz="4400" spc="-1" strike="noStrike">
              <a:solidFill>
                <a:srgbClr val="000000"/>
              </a:solidFill>
              <a:latin typeface="Times New Roman"/>
            </a:endParaRPr>
          </a:p>
        </p:txBody>
      </p:sp>
      <p:pic>
        <p:nvPicPr>
          <p:cNvPr id="298" name="Logo%20Ced%20color%20art" descr=""/>
          <p:cNvPicPr/>
          <p:nvPr/>
        </p:nvPicPr>
        <p:blipFill>
          <a:blip r:embed="rId1"/>
          <a:stretch/>
        </p:blipFill>
        <p:spPr>
          <a:xfrm>
            <a:off x="457200" y="304920"/>
            <a:ext cx="906480" cy="465120"/>
          </a:xfrm>
          <a:prstGeom prst="rect">
            <a:avLst/>
          </a:prstGeom>
          <a:ln w="0">
            <a:noFill/>
          </a:ln>
        </p:spPr>
      </p:pic>
      <p:pic>
        <p:nvPicPr>
          <p:cNvPr id="299" name="AtodoSur" descr=""/>
          <p:cNvPicPr/>
          <p:nvPr/>
        </p:nvPicPr>
        <p:blipFill>
          <a:blip r:embed="rId2"/>
          <a:stretch/>
        </p:blipFill>
        <p:spPr>
          <a:xfrm>
            <a:off x="8229600" y="304920"/>
            <a:ext cx="488880" cy="671400"/>
          </a:xfrm>
          <a:prstGeom prst="rect">
            <a:avLst/>
          </a:prstGeom>
          <a:ln w="0">
            <a:noFill/>
          </a:ln>
        </p:spPr>
      </p:pic>
      <p:sp>
        <p:nvSpPr>
          <p:cNvPr id="30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garantice los derechos civiles y políticos abriéndose a los derechos sociales universales. </a:t>
            </a:r>
            <a:endParaRPr b="0" lang="en-US" sz="3200" spc="-1" strike="noStrike">
              <a:solidFill>
                <a:srgbClr val="000000"/>
              </a:solidFill>
              <a:latin typeface="Times New Roman"/>
            </a:endParaRPr>
          </a:p>
        </p:txBody>
      </p:sp>
      <p:pic>
        <p:nvPicPr>
          <p:cNvPr id="301" name="AN01124_" descr=""/>
          <p:cNvPicPr/>
          <p:nvPr/>
        </p:nvPicPr>
        <p:blipFill>
          <a:blip r:embed="rId3"/>
          <a:stretch/>
        </p:blipFill>
        <p:spPr>
          <a:xfrm>
            <a:off x="7238880" y="4724280"/>
            <a:ext cx="1409760" cy="17161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gún el PNUD 2004 la solución es:</a:t>
            </a:r>
            <a:endParaRPr b="0" lang="en-US" sz="4000" spc="-1" strike="noStrike">
              <a:solidFill>
                <a:srgbClr val="000000"/>
              </a:solidFill>
              <a:latin typeface="Times New Roman"/>
            </a:endParaRPr>
          </a:p>
        </p:txBody>
      </p:sp>
      <p:sp>
        <p:nvSpPr>
          <p:cNvPr id="303" name="PlaceHolder 2"/>
          <p:cNvSpPr>
            <a:spLocks noGrp="1"/>
          </p:cNvSpPr>
          <p:nvPr>
            <p:ph/>
          </p:nvPr>
        </p:nvSpPr>
        <p:spPr>
          <a:xfrm>
            <a:off x="4647960" y="2133720"/>
            <a:ext cx="3809880" cy="3962160"/>
          </a:xfrm>
          <a:prstGeom prst="rect">
            <a:avLst/>
          </a:prstGeom>
          <a:noFill/>
          <a:ln w="0">
            <a:noFill/>
          </a:ln>
        </p:spPr>
        <p:txBody>
          <a:bodyPr lIns="90000" rIns="90000" tIns="46800" bIns="46800" anchor="t">
            <a:normAutofit/>
          </a:bodyPr>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 Estado fuerte;</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buena política;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Una economía al servicio de la democracia;  y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región que asume el desafío de la globalización</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0" lang="es-MX" sz="2000" spc="-1" strike="noStrike">
                <a:solidFill>
                  <a:srgbClr val="000000"/>
                </a:solidFill>
                <a:latin typeface="Times New Roman"/>
              </a:rPr>
              <a:t>(La democracia en América Latina; PNUD 2004)</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4" name="BD04912_" descr=""/>
          <p:cNvPicPr/>
          <p:nvPr/>
        </p:nvPicPr>
        <p:blipFill>
          <a:blip r:embed="rId1"/>
          <a:stretch/>
        </p:blipFill>
        <p:spPr>
          <a:xfrm>
            <a:off x="942840" y="1981080"/>
            <a:ext cx="3294360" cy="4114800"/>
          </a:xfrm>
          <a:prstGeom prst="rect">
            <a:avLst/>
          </a:prstGeom>
          <a:ln w="0">
            <a:noFill/>
          </a:ln>
        </p:spPr>
      </p:pic>
      <p:pic>
        <p:nvPicPr>
          <p:cNvPr id="305" name="Logo%20Ced%20color%20art" descr=""/>
          <p:cNvPicPr/>
          <p:nvPr/>
        </p:nvPicPr>
        <p:blipFill>
          <a:blip r:embed="rId2"/>
          <a:stretch/>
        </p:blipFill>
        <p:spPr>
          <a:xfrm>
            <a:off x="457200" y="304920"/>
            <a:ext cx="906480" cy="465120"/>
          </a:xfrm>
          <a:prstGeom prst="rect">
            <a:avLst/>
          </a:prstGeom>
          <a:ln w="0">
            <a:noFill/>
          </a:ln>
        </p:spPr>
      </p:pic>
      <p:pic>
        <p:nvPicPr>
          <p:cNvPr id="30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nuevo contrato social</a:t>
            </a:r>
            <a:endParaRPr b="0" lang="en-US" sz="4400" spc="-1" strike="noStrike">
              <a:solidFill>
                <a:srgbClr val="000000"/>
              </a:solidFill>
              <a:latin typeface="Times New Roman"/>
            </a:endParaRPr>
          </a:p>
        </p:txBody>
      </p:sp>
      <p:sp>
        <p:nvSpPr>
          <p:cNvPr id="3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o que mire la Europa Social que el Estados Unidos liberal. Uno que veo los progresos sociales de Costa Rica y Uruguay, más que los fracasos de Brasil y Argentina.  </a:t>
            </a:r>
            <a:endParaRPr b="0" lang="en-US" sz="2800" spc="-1" strike="noStrike">
              <a:solidFill>
                <a:srgbClr val="000000"/>
              </a:solidFill>
              <a:latin typeface="Times New Roman"/>
            </a:endParaRPr>
          </a:p>
        </p:txBody>
      </p:sp>
      <p:pic>
        <p:nvPicPr>
          <p:cNvPr id="309" name="BD04912_" descr=""/>
          <p:cNvPicPr/>
          <p:nvPr/>
        </p:nvPicPr>
        <p:blipFill>
          <a:blip r:embed="rId1"/>
          <a:stretch/>
        </p:blipFill>
        <p:spPr>
          <a:xfrm>
            <a:off x="942840" y="1981080"/>
            <a:ext cx="3294360" cy="4114800"/>
          </a:xfrm>
          <a:prstGeom prst="rect">
            <a:avLst/>
          </a:prstGeom>
          <a:ln w="0">
            <a:noFill/>
          </a:ln>
        </p:spPr>
      </p:pic>
      <p:pic>
        <p:nvPicPr>
          <p:cNvPr id="310" name="Logo%20Ced%20color%20art" descr=""/>
          <p:cNvPicPr/>
          <p:nvPr/>
        </p:nvPicPr>
        <p:blipFill>
          <a:blip r:embed="rId2"/>
          <a:stretch/>
        </p:blipFill>
        <p:spPr>
          <a:xfrm>
            <a:off x="457200" y="304920"/>
            <a:ext cx="906480" cy="465120"/>
          </a:xfrm>
          <a:prstGeom prst="rect">
            <a:avLst/>
          </a:prstGeom>
          <a:ln w="0">
            <a:noFill/>
          </a:ln>
        </p:spPr>
      </p:pic>
      <p:pic>
        <p:nvPicPr>
          <p:cNvPr id="311"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 Estado fuerte</a:t>
            </a:r>
            <a:endParaRPr b="0" lang="en-US" sz="4400" spc="-1" strike="noStrike">
              <a:solidFill>
                <a:srgbClr val="000000"/>
              </a:solidFill>
              <a:latin typeface="Times New Roman"/>
            </a:endParaRPr>
          </a:p>
        </p:txBody>
      </p:sp>
      <p:pic>
        <p:nvPicPr>
          <p:cNvPr id="313" name="Logo%20Ced%20color%20art" descr=""/>
          <p:cNvPicPr/>
          <p:nvPr/>
        </p:nvPicPr>
        <p:blipFill>
          <a:blip r:embed="rId1"/>
          <a:stretch/>
        </p:blipFill>
        <p:spPr>
          <a:xfrm>
            <a:off x="457200" y="304920"/>
            <a:ext cx="906480" cy="465120"/>
          </a:xfrm>
          <a:prstGeom prst="rect">
            <a:avLst/>
          </a:prstGeom>
          <a:ln w="0">
            <a:noFill/>
          </a:ln>
        </p:spPr>
      </p:pic>
      <p:graphicFrame>
        <p:nvGraphicFramePr>
          <p:cNvPr id="314" name=""/>
          <p:cNvGraphicFramePr/>
          <p:nvPr/>
        </p:nvGraphicFramePr>
        <p:xfrm>
          <a:off x="457200" y="1447920"/>
          <a:ext cx="8686800" cy="5410080"/>
        </p:xfrm>
        <a:graphic>
          <a:graphicData uri="http://schemas.openxmlformats.org/presentationml/2006/ole">
            <p:oleObj r:id="rId2" spid="">
              <p:embed/>
              <p:pic>
                <p:nvPicPr>
                  <p:cNvPr id="315" name="" descr=""/>
                  <p:cNvPicPr/>
                  <p:nvPr/>
                </p:nvPicPr>
                <p:blipFill>
                  <a:blip r:embed="rId3"/>
                  <a:stretch/>
                </p:blipFill>
                <p:spPr>
                  <a:xfrm>
                    <a:off x="457200" y="1447920"/>
                    <a:ext cx="8686800" cy="5410080"/>
                  </a:xfrm>
                  <a:prstGeom prst="rect">
                    <a:avLst/>
                  </a:prstGeom>
                  <a:ln w="0">
                    <a:noFill/>
                  </a:ln>
                </p:spPr>
              </p:pic>
            </p:oleObj>
          </a:graphicData>
        </a:graphic>
      </p:graphicFrame>
      <p:pic>
        <p:nvPicPr>
          <p:cNvPr id="316" name="AtodoSur" descr=""/>
          <p:cNvPicPr/>
          <p:nvPr/>
        </p:nvPicPr>
        <p:blipFill>
          <a:blip r:embed="rId4"/>
          <a:stretch/>
        </p:blipFill>
        <p:spPr>
          <a:xfrm>
            <a:off x="8229600" y="304920"/>
            <a:ext cx="488880" cy="67140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3" name=""/>
          <p:cNvGrpSpPr/>
          <p:nvPr/>
        </p:nvGrpSpPr>
        <p:grpSpPr>
          <a:xfrm>
            <a:off x="2286000" y="1219320"/>
            <a:ext cx="6476400" cy="533160"/>
            <a:chOff x="2286000" y="1219320"/>
            <a:chExt cx="6476400" cy="533160"/>
          </a:xfrm>
        </p:grpSpPr>
        <p:sp>
          <p:nvSpPr>
            <p:cNvPr id="324"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6"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7" name=""/>
          <p:cNvGrpSpPr/>
          <p:nvPr/>
        </p:nvGrpSpPr>
        <p:grpSpPr>
          <a:xfrm>
            <a:off x="457200" y="1676520"/>
            <a:ext cx="8229240" cy="4647960"/>
            <a:chOff x="457200" y="1676520"/>
            <a:chExt cx="8229240" cy="4647960"/>
          </a:xfrm>
        </p:grpSpPr>
        <p:grpSp>
          <p:nvGrpSpPr>
            <p:cNvPr id="328" name=""/>
            <p:cNvGrpSpPr/>
            <p:nvPr/>
          </p:nvGrpSpPr>
          <p:grpSpPr>
            <a:xfrm>
              <a:off x="462960" y="1679400"/>
              <a:ext cx="8216280" cy="4641120"/>
              <a:chOff x="462960" y="1679400"/>
              <a:chExt cx="8216280" cy="4641120"/>
            </a:xfrm>
          </p:grpSpPr>
          <p:grpSp>
            <p:nvGrpSpPr>
              <p:cNvPr id="329" name=""/>
              <p:cNvGrpSpPr/>
              <p:nvPr/>
            </p:nvGrpSpPr>
            <p:grpSpPr>
              <a:xfrm>
                <a:off x="462960" y="1679400"/>
                <a:ext cx="1815120" cy="420840"/>
                <a:chOff x="462960" y="1679400"/>
                <a:chExt cx="1815120" cy="420840"/>
              </a:xfrm>
            </p:grpSpPr>
            <p:sp>
              <p:nvSpPr>
                <p:cNvPr id="330"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278440" y="1679400"/>
                <a:ext cx="1599840" cy="420840"/>
                <a:chOff x="2278440" y="1679400"/>
                <a:chExt cx="1599840" cy="420840"/>
              </a:xfrm>
            </p:grpSpPr>
            <p:sp>
              <p:nvSpPr>
                <p:cNvPr id="333"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78640" y="1679400"/>
                <a:ext cx="1599840" cy="420840"/>
                <a:chOff x="3878640" y="1679400"/>
                <a:chExt cx="1599840" cy="420840"/>
              </a:xfrm>
            </p:grpSpPr>
            <p:sp>
              <p:nvSpPr>
                <p:cNvPr id="336"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5478840" y="1679400"/>
                <a:ext cx="1599840" cy="420840"/>
                <a:chOff x="5478840" y="1679400"/>
                <a:chExt cx="1599840" cy="420840"/>
              </a:xfrm>
            </p:grpSpPr>
            <p:sp>
              <p:nvSpPr>
                <p:cNvPr id="339"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079400" y="1679400"/>
                <a:ext cx="1599840" cy="420840"/>
                <a:chOff x="7079400" y="1679400"/>
                <a:chExt cx="1599840" cy="420840"/>
              </a:xfrm>
            </p:grpSpPr>
            <p:sp>
              <p:nvSpPr>
                <p:cNvPr id="342"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62960" y="2100240"/>
                <a:ext cx="1815120" cy="912600"/>
                <a:chOff x="462960" y="2100240"/>
                <a:chExt cx="1815120" cy="912600"/>
              </a:xfrm>
            </p:grpSpPr>
            <p:sp>
              <p:nvSpPr>
                <p:cNvPr id="345"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278440" y="2100240"/>
                <a:ext cx="1599840" cy="912600"/>
                <a:chOff x="2278440" y="2100240"/>
                <a:chExt cx="1599840" cy="912600"/>
              </a:xfrm>
            </p:grpSpPr>
            <p:sp>
              <p:nvSpPr>
                <p:cNvPr id="348"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78640" y="2100240"/>
                <a:ext cx="1599840" cy="912600"/>
                <a:chOff x="3878640" y="2100240"/>
                <a:chExt cx="1599840" cy="912600"/>
              </a:xfrm>
            </p:grpSpPr>
            <p:sp>
              <p:nvSpPr>
                <p:cNvPr id="351"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478840" y="2100240"/>
                <a:ext cx="1599840" cy="912600"/>
                <a:chOff x="5478840" y="2100240"/>
                <a:chExt cx="1599840" cy="912600"/>
              </a:xfrm>
            </p:grpSpPr>
            <p:sp>
              <p:nvSpPr>
                <p:cNvPr id="354"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7079400" y="2100240"/>
                <a:ext cx="1599840" cy="912600"/>
                <a:chOff x="7079400" y="2100240"/>
                <a:chExt cx="1599840" cy="912600"/>
              </a:xfrm>
            </p:grpSpPr>
            <p:sp>
              <p:nvSpPr>
                <p:cNvPr id="357"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62960" y="3013200"/>
                <a:ext cx="1815120" cy="420840"/>
                <a:chOff x="462960" y="3013200"/>
                <a:chExt cx="1815120" cy="420840"/>
              </a:xfrm>
            </p:grpSpPr>
            <p:sp>
              <p:nvSpPr>
                <p:cNvPr id="360"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278440" y="3013200"/>
                <a:ext cx="1599840" cy="420840"/>
                <a:chOff x="2278440" y="3013200"/>
                <a:chExt cx="1599840" cy="420840"/>
              </a:xfrm>
            </p:grpSpPr>
            <p:sp>
              <p:nvSpPr>
                <p:cNvPr id="363"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78640" y="3013200"/>
                <a:ext cx="1599840" cy="420840"/>
                <a:chOff x="3878640" y="3013200"/>
                <a:chExt cx="1599840" cy="420840"/>
              </a:xfrm>
            </p:grpSpPr>
            <p:sp>
              <p:nvSpPr>
                <p:cNvPr id="366"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478840" y="3013200"/>
                <a:ext cx="1599840" cy="420840"/>
                <a:chOff x="5478840" y="3013200"/>
                <a:chExt cx="1599840" cy="420840"/>
              </a:xfrm>
            </p:grpSpPr>
            <p:sp>
              <p:nvSpPr>
                <p:cNvPr id="369"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7079400" y="3013200"/>
                <a:ext cx="1599840" cy="420840"/>
                <a:chOff x="7079400" y="3013200"/>
                <a:chExt cx="1599840" cy="420840"/>
              </a:xfrm>
            </p:grpSpPr>
            <p:sp>
              <p:nvSpPr>
                <p:cNvPr id="372"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62960" y="3434040"/>
                <a:ext cx="1815120" cy="420840"/>
                <a:chOff x="462960" y="3434040"/>
                <a:chExt cx="1815120" cy="420840"/>
              </a:xfrm>
            </p:grpSpPr>
            <p:sp>
              <p:nvSpPr>
                <p:cNvPr id="375"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2278440" y="3434040"/>
                <a:ext cx="1599840" cy="420840"/>
                <a:chOff x="2278440" y="3434040"/>
                <a:chExt cx="1599840" cy="420840"/>
              </a:xfrm>
            </p:grpSpPr>
            <p:sp>
              <p:nvSpPr>
                <p:cNvPr id="378"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78640" y="3434040"/>
                <a:ext cx="1599840" cy="420840"/>
                <a:chOff x="3878640" y="3434040"/>
                <a:chExt cx="1599840" cy="420840"/>
              </a:xfrm>
            </p:grpSpPr>
            <p:sp>
              <p:nvSpPr>
                <p:cNvPr id="381"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478840" y="3434040"/>
                <a:ext cx="1599840" cy="420840"/>
                <a:chOff x="5478840" y="3434040"/>
                <a:chExt cx="1599840" cy="420840"/>
              </a:xfrm>
            </p:grpSpPr>
            <p:sp>
              <p:nvSpPr>
                <p:cNvPr id="384"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079400" y="3434040"/>
                <a:ext cx="1599840" cy="420840"/>
                <a:chOff x="7079400" y="3434040"/>
                <a:chExt cx="1599840" cy="420840"/>
              </a:xfrm>
            </p:grpSpPr>
            <p:sp>
              <p:nvSpPr>
                <p:cNvPr id="387"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462960" y="3854880"/>
                <a:ext cx="1815120" cy="400680"/>
                <a:chOff x="462960" y="3854880"/>
                <a:chExt cx="1815120" cy="400680"/>
              </a:xfrm>
            </p:grpSpPr>
            <p:sp>
              <p:nvSpPr>
                <p:cNvPr id="390"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78440" y="3854880"/>
                <a:ext cx="1599840" cy="400680"/>
                <a:chOff x="2278440" y="3854880"/>
                <a:chExt cx="1599840" cy="400680"/>
              </a:xfrm>
            </p:grpSpPr>
            <p:sp>
              <p:nvSpPr>
                <p:cNvPr id="393"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878640" y="3854880"/>
                <a:ext cx="1599840" cy="400680"/>
                <a:chOff x="3878640" y="3854880"/>
                <a:chExt cx="1599840" cy="400680"/>
              </a:xfrm>
            </p:grpSpPr>
            <p:sp>
              <p:nvSpPr>
                <p:cNvPr id="396"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478840" y="3854880"/>
                <a:ext cx="1599840" cy="400680"/>
                <a:chOff x="5478840" y="3854880"/>
                <a:chExt cx="1599840" cy="400680"/>
              </a:xfrm>
            </p:grpSpPr>
            <p:sp>
              <p:nvSpPr>
                <p:cNvPr id="399"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079400" y="3854880"/>
                <a:ext cx="1599840" cy="400680"/>
                <a:chOff x="7079400" y="3854880"/>
                <a:chExt cx="1599840" cy="400680"/>
              </a:xfrm>
            </p:grpSpPr>
            <p:sp>
              <p:nvSpPr>
                <p:cNvPr id="402"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55920"/>
                <a:ext cx="1815120" cy="420840"/>
                <a:chOff x="462960" y="4255920"/>
                <a:chExt cx="1815120" cy="420840"/>
              </a:xfrm>
            </p:grpSpPr>
            <p:sp>
              <p:nvSpPr>
                <p:cNvPr id="405"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278440" y="4255920"/>
                <a:ext cx="1599840" cy="420840"/>
                <a:chOff x="2278440" y="4255920"/>
                <a:chExt cx="1599840" cy="420840"/>
              </a:xfrm>
            </p:grpSpPr>
            <p:sp>
              <p:nvSpPr>
                <p:cNvPr id="408"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878640" y="4255920"/>
                <a:ext cx="1599840" cy="420840"/>
                <a:chOff x="3878640" y="4255920"/>
                <a:chExt cx="1599840" cy="420840"/>
              </a:xfrm>
            </p:grpSpPr>
            <p:sp>
              <p:nvSpPr>
                <p:cNvPr id="411"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478840" y="4255920"/>
                <a:ext cx="1599840" cy="420840"/>
                <a:chOff x="5478840" y="4255920"/>
                <a:chExt cx="1599840" cy="420840"/>
              </a:xfrm>
            </p:grpSpPr>
            <p:sp>
              <p:nvSpPr>
                <p:cNvPr id="414"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79400" y="4255920"/>
                <a:ext cx="1599840" cy="420840"/>
                <a:chOff x="7079400" y="4255920"/>
                <a:chExt cx="1599840" cy="420840"/>
              </a:xfrm>
            </p:grpSpPr>
            <p:sp>
              <p:nvSpPr>
                <p:cNvPr id="417"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462960" y="4676760"/>
                <a:ext cx="1815120" cy="401040"/>
                <a:chOff x="462960" y="4676760"/>
                <a:chExt cx="1815120" cy="401040"/>
              </a:xfrm>
            </p:grpSpPr>
            <p:sp>
              <p:nvSpPr>
                <p:cNvPr id="420"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278440" y="4676760"/>
                <a:ext cx="1599840" cy="401040"/>
                <a:chOff x="2278440" y="4676760"/>
                <a:chExt cx="1599840" cy="401040"/>
              </a:xfrm>
            </p:grpSpPr>
            <p:sp>
              <p:nvSpPr>
                <p:cNvPr id="423"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3878640" y="4676760"/>
                <a:ext cx="1599840" cy="401040"/>
                <a:chOff x="3878640" y="4676760"/>
                <a:chExt cx="1599840" cy="401040"/>
              </a:xfrm>
            </p:grpSpPr>
            <p:sp>
              <p:nvSpPr>
                <p:cNvPr id="426"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478840" y="4676760"/>
                <a:ext cx="1599840" cy="401040"/>
                <a:chOff x="5478840" y="4676760"/>
                <a:chExt cx="1599840" cy="401040"/>
              </a:xfrm>
            </p:grpSpPr>
            <p:sp>
              <p:nvSpPr>
                <p:cNvPr id="429"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079400" y="4676760"/>
                <a:ext cx="1599840" cy="401040"/>
                <a:chOff x="7079400" y="4676760"/>
                <a:chExt cx="1599840" cy="401040"/>
              </a:xfrm>
            </p:grpSpPr>
            <p:sp>
              <p:nvSpPr>
                <p:cNvPr id="432"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2960" y="5078160"/>
                <a:ext cx="1815120" cy="420840"/>
                <a:chOff x="462960" y="5078160"/>
                <a:chExt cx="1815120" cy="420840"/>
              </a:xfrm>
            </p:grpSpPr>
            <p:sp>
              <p:nvSpPr>
                <p:cNvPr id="435"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278440" y="5078160"/>
                <a:ext cx="1599840" cy="420840"/>
                <a:chOff x="2278440" y="5078160"/>
                <a:chExt cx="1599840" cy="420840"/>
              </a:xfrm>
            </p:grpSpPr>
            <p:sp>
              <p:nvSpPr>
                <p:cNvPr id="438"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878640" y="5078160"/>
                <a:ext cx="1599840" cy="420840"/>
                <a:chOff x="3878640" y="5078160"/>
                <a:chExt cx="1599840" cy="420840"/>
              </a:xfrm>
            </p:grpSpPr>
            <p:sp>
              <p:nvSpPr>
                <p:cNvPr id="441"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478840" y="5078160"/>
                <a:ext cx="1599840" cy="420840"/>
                <a:chOff x="5478840" y="5078160"/>
                <a:chExt cx="1599840" cy="420840"/>
              </a:xfrm>
            </p:grpSpPr>
            <p:sp>
              <p:nvSpPr>
                <p:cNvPr id="444"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079400" y="5078160"/>
                <a:ext cx="1599840" cy="420840"/>
                <a:chOff x="7079400" y="5078160"/>
                <a:chExt cx="1599840" cy="420840"/>
              </a:xfrm>
            </p:grpSpPr>
            <p:sp>
              <p:nvSpPr>
                <p:cNvPr id="447"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462960" y="5499000"/>
                <a:ext cx="1815120" cy="420840"/>
                <a:chOff x="462960" y="5499000"/>
                <a:chExt cx="1815120" cy="420840"/>
              </a:xfrm>
            </p:grpSpPr>
            <p:sp>
              <p:nvSpPr>
                <p:cNvPr id="450"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278440" y="5499000"/>
                <a:ext cx="1599840" cy="420840"/>
                <a:chOff x="2278440" y="5499000"/>
                <a:chExt cx="1599840" cy="420840"/>
              </a:xfrm>
            </p:grpSpPr>
            <p:sp>
              <p:nvSpPr>
                <p:cNvPr id="453"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78640" y="5499000"/>
                <a:ext cx="1599840" cy="420840"/>
                <a:chOff x="3878640" y="5499000"/>
                <a:chExt cx="1599840" cy="420840"/>
              </a:xfrm>
            </p:grpSpPr>
            <p:sp>
              <p:nvSpPr>
                <p:cNvPr id="456"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840" y="5499000"/>
                <a:ext cx="1599840" cy="420840"/>
                <a:chOff x="5478840" y="5499000"/>
                <a:chExt cx="1599840" cy="420840"/>
              </a:xfrm>
            </p:grpSpPr>
            <p:sp>
              <p:nvSpPr>
                <p:cNvPr id="459"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79400" y="5499000"/>
                <a:ext cx="1599840" cy="420840"/>
                <a:chOff x="7079400" y="5499000"/>
                <a:chExt cx="1599840" cy="420840"/>
              </a:xfrm>
            </p:grpSpPr>
            <p:sp>
              <p:nvSpPr>
                <p:cNvPr id="462"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960" y="5919840"/>
                <a:ext cx="1815120" cy="400680"/>
                <a:chOff x="462960" y="5919840"/>
                <a:chExt cx="1815120" cy="400680"/>
              </a:xfrm>
            </p:grpSpPr>
            <p:sp>
              <p:nvSpPr>
                <p:cNvPr id="465"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6"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278440" y="5919840"/>
                <a:ext cx="1599840" cy="400680"/>
                <a:chOff x="2278440" y="5919840"/>
                <a:chExt cx="1599840" cy="400680"/>
              </a:xfrm>
            </p:grpSpPr>
            <p:sp>
              <p:nvSpPr>
                <p:cNvPr id="468"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9"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878640" y="5919840"/>
                <a:ext cx="1599840" cy="400680"/>
                <a:chOff x="3878640" y="5919840"/>
                <a:chExt cx="1599840" cy="400680"/>
              </a:xfrm>
            </p:grpSpPr>
            <p:sp>
              <p:nvSpPr>
                <p:cNvPr id="471"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5478840" y="5919840"/>
                <a:ext cx="1599840" cy="400680"/>
                <a:chOff x="5478840" y="5919840"/>
                <a:chExt cx="1599840" cy="400680"/>
              </a:xfrm>
            </p:grpSpPr>
            <p:sp>
              <p:nvSpPr>
                <p:cNvPr id="474"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5"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079400" y="5919840"/>
                <a:ext cx="1599840" cy="400680"/>
                <a:chOff x="7079400" y="5919840"/>
                <a:chExt cx="1599840" cy="400680"/>
              </a:xfrm>
            </p:grpSpPr>
            <p:sp>
              <p:nvSpPr>
                <p:cNvPr id="477"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AtodoSur" descr=""/>
          <p:cNvPicPr/>
          <p:nvPr/>
        </p:nvPicPr>
        <p:blipFill>
          <a:blip r:embed="rId1"/>
          <a:stretch/>
        </p:blipFill>
        <p:spPr>
          <a:xfrm>
            <a:off x="8229600" y="304920"/>
            <a:ext cx="488880" cy="671400"/>
          </a:xfrm>
          <a:prstGeom prst="rect">
            <a:avLst/>
          </a:prstGeom>
          <a:ln w="0">
            <a:noFill/>
          </a:ln>
        </p:spPr>
      </p:pic>
      <p:pic>
        <p:nvPicPr>
          <p:cNvPr id="4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3"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86" name=""/>
          <p:cNvGrpSpPr/>
          <p:nvPr/>
        </p:nvGrpSpPr>
        <p:grpSpPr>
          <a:xfrm>
            <a:off x="685800" y="1395360"/>
            <a:ext cx="8000640" cy="5157720"/>
            <a:chOff x="685800" y="1395360"/>
            <a:chExt cx="8000640" cy="5157720"/>
          </a:xfrm>
        </p:grpSpPr>
        <p:grpSp>
          <p:nvGrpSpPr>
            <p:cNvPr id="487" name=""/>
            <p:cNvGrpSpPr/>
            <p:nvPr/>
          </p:nvGrpSpPr>
          <p:grpSpPr>
            <a:xfrm>
              <a:off x="690480" y="1398600"/>
              <a:ext cx="7990560" cy="5150520"/>
              <a:chOff x="690480" y="1398600"/>
              <a:chExt cx="7990560" cy="5150520"/>
            </a:xfrm>
          </p:grpSpPr>
          <p:grpSp>
            <p:nvGrpSpPr>
              <p:cNvPr id="488" name=""/>
              <p:cNvGrpSpPr/>
              <p:nvPr/>
            </p:nvGrpSpPr>
            <p:grpSpPr>
              <a:xfrm>
                <a:off x="690480" y="1398600"/>
                <a:ext cx="2036520" cy="451080"/>
                <a:chOff x="690480" y="1398600"/>
                <a:chExt cx="2036520" cy="451080"/>
              </a:xfrm>
            </p:grpSpPr>
            <p:sp>
              <p:nvSpPr>
                <p:cNvPr id="489"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727360" y="1398600"/>
                <a:ext cx="4828320" cy="451080"/>
                <a:chOff x="2727360" y="1398600"/>
                <a:chExt cx="4828320" cy="451080"/>
              </a:xfrm>
            </p:grpSpPr>
            <p:sp>
              <p:nvSpPr>
                <p:cNvPr id="492"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556400" y="1398600"/>
                <a:ext cx="1124640" cy="451080"/>
                <a:chOff x="7556400" y="1398600"/>
                <a:chExt cx="1124640" cy="451080"/>
              </a:xfrm>
            </p:grpSpPr>
            <p:sp>
              <p:nvSpPr>
                <p:cNvPr id="495"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90480" y="1849680"/>
                <a:ext cx="2036520" cy="579240"/>
                <a:chOff x="690480" y="1849680"/>
                <a:chExt cx="2036520" cy="579240"/>
              </a:xfrm>
            </p:grpSpPr>
            <p:sp>
              <p:nvSpPr>
                <p:cNvPr id="498"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727360" y="1849680"/>
                <a:ext cx="4828320" cy="579240"/>
                <a:chOff x="2727360" y="1849680"/>
                <a:chExt cx="4828320" cy="579240"/>
              </a:xfrm>
            </p:grpSpPr>
            <p:sp>
              <p:nvSpPr>
                <p:cNvPr id="501"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556400" y="1849680"/>
                <a:ext cx="1124640" cy="579240"/>
                <a:chOff x="7556400" y="1849680"/>
                <a:chExt cx="1124640" cy="579240"/>
              </a:xfrm>
            </p:grpSpPr>
            <p:sp>
              <p:nvSpPr>
                <p:cNvPr id="504"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90480" y="2428920"/>
                <a:ext cx="2036520" cy="579240"/>
                <a:chOff x="690480" y="2428920"/>
                <a:chExt cx="2036520" cy="579240"/>
              </a:xfrm>
            </p:grpSpPr>
            <p:sp>
              <p:nvSpPr>
                <p:cNvPr id="507"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727360" y="2428920"/>
                <a:ext cx="4828320" cy="579240"/>
                <a:chOff x="2727360" y="2428920"/>
                <a:chExt cx="4828320" cy="579240"/>
              </a:xfrm>
            </p:grpSpPr>
            <p:sp>
              <p:nvSpPr>
                <p:cNvPr id="510"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7556400" y="2428920"/>
                <a:ext cx="1124640" cy="579240"/>
                <a:chOff x="7556400" y="2428920"/>
                <a:chExt cx="1124640" cy="579240"/>
              </a:xfrm>
            </p:grpSpPr>
            <p:sp>
              <p:nvSpPr>
                <p:cNvPr id="513"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90480" y="3008520"/>
                <a:ext cx="2036520" cy="707760"/>
                <a:chOff x="690480" y="3008520"/>
                <a:chExt cx="2036520" cy="707760"/>
              </a:xfrm>
            </p:grpSpPr>
            <p:sp>
              <p:nvSpPr>
                <p:cNvPr id="516"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2727360" y="3008520"/>
                <a:ext cx="4828320" cy="707760"/>
                <a:chOff x="2727360" y="3008520"/>
                <a:chExt cx="4828320" cy="707760"/>
              </a:xfrm>
            </p:grpSpPr>
            <p:sp>
              <p:nvSpPr>
                <p:cNvPr id="519"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556400" y="3008520"/>
                <a:ext cx="1124640" cy="707760"/>
                <a:chOff x="7556400" y="3008520"/>
                <a:chExt cx="1124640" cy="707760"/>
              </a:xfrm>
            </p:grpSpPr>
            <p:sp>
              <p:nvSpPr>
                <p:cNvPr id="522"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90480" y="3716640"/>
                <a:ext cx="2036520" cy="579600"/>
                <a:chOff x="690480" y="3716640"/>
                <a:chExt cx="2036520" cy="579600"/>
              </a:xfrm>
            </p:grpSpPr>
            <p:sp>
              <p:nvSpPr>
                <p:cNvPr id="525"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727360" y="3716640"/>
                <a:ext cx="4828320" cy="579600"/>
                <a:chOff x="2727360" y="3716640"/>
                <a:chExt cx="4828320" cy="579600"/>
              </a:xfrm>
            </p:grpSpPr>
            <p:sp>
              <p:nvSpPr>
                <p:cNvPr id="528"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7556400" y="3716640"/>
                <a:ext cx="1124640" cy="579600"/>
                <a:chOff x="7556400" y="3716640"/>
                <a:chExt cx="1124640" cy="579600"/>
              </a:xfrm>
            </p:grpSpPr>
            <p:sp>
              <p:nvSpPr>
                <p:cNvPr id="531"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690480" y="4296240"/>
                <a:ext cx="2036520" cy="836640"/>
                <a:chOff x="690480" y="4296240"/>
                <a:chExt cx="2036520" cy="836640"/>
              </a:xfrm>
            </p:grpSpPr>
            <p:sp>
              <p:nvSpPr>
                <p:cNvPr id="534"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727360" y="4296240"/>
                <a:ext cx="4828320" cy="836640"/>
                <a:chOff x="2727360" y="4296240"/>
                <a:chExt cx="4828320" cy="836640"/>
              </a:xfrm>
            </p:grpSpPr>
            <p:sp>
              <p:nvSpPr>
                <p:cNvPr id="537"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556400" y="4296240"/>
                <a:ext cx="1124640" cy="836640"/>
                <a:chOff x="7556400" y="4296240"/>
                <a:chExt cx="1124640" cy="836640"/>
              </a:xfrm>
            </p:grpSpPr>
            <p:sp>
              <p:nvSpPr>
                <p:cNvPr id="540"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90480" y="5132880"/>
                <a:ext cx="2036520" cy="836640"/>
                <a:chOff x="690480" y="5132880"/>
                <a:chExt cx="2036520" cy="836640"/>
              </a:xfrm>
            </p:grpSpPr>
            <p:sp>
              <p:nvSpPr>
                <p:cNvPr id="543"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727360" y="5132880"/>
                <a:ext cx="4828320" cy="836640"/>
                <a:chOff x="2727360" y="5132880"/>
                <a:chExt cx="4828320" cy="836640"/>
              </a:xfrm>
            </p:grpSpPr>
            <p:sp>
              <p:nvSpPr>
                <p:cNvPr id="546"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7556400" y="5132880"/>
                <a:ext cx="1124640" cy="836640"/>
                <a:chOff x="7556400" y="5132880"/>
                <a:chExt cx="1124640" cy="836640"/>
              </a:xfrm>
            </p:grpSpPr>
            <p:sp>
              <p:nvSpPr>
                <p:cNvPr id="549"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90480" y="5969880"/>
                <a:ext cx="2036520" cy="579240"/>
                <a:chOff x="690480" y="5969880"/>
                <a:chExt cx="2036520" cy="579240"/>
              </a:xfrm>
            </p:grpSpPr>
            <p:sp>
              <p:nvSpPr>
                <p:cNvPr id="552"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2727360" y="5969880"/>
                <a:ext cx="4828320" cy="579240"/>
                <a:chOff x="2727360" y="5969880"/>
                <a:chExt cx="4828320" cy="579240"/>
              </a:xfrm>
            </p:grpSpPr>
            <p:sp>
              <p:nvSpPr>
                <p:cNvPr id="555"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7556400" y="5969880"/>
                <a:ext cx="1124640" cy="579240"/>
                <a:chOff x="7556400" y="5969880"/>
                <a:chExt cx="1124640" cy="579240"/>
              </a:xfrm>
            </p:grpSpPr>
            <p:sp>
              <p:nvSpPr>
                <p:cNvPr id="558"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0"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pic>
        <p:nvPicPr>
          <p:cNvPr id="563" name="Logo%20Ced%20color%20art" descr=""/>
          <p:cNvPicPr/>
          <p:nvPr/>
        </p:nvPicPr>
        <p:blipFill>
          <a:blip r:embed="rId1"/>
          <a:stretch/>
        </p:blipFill>
        <p:spPr>
          <a:xfrm>
            <a:off x="457200" y="304920"/>
            <a:ext cx="906480" cy="465120"/>
          </a:xfrm>
          <a:prstGeom prst="rect">
            <a:avLst/>
          </a:prstGeom>
          <a:ln w="0">
            <a:noFill/>
          </a:ln>
        </p:spPr>
      </p:pic>
      <p:pic>
        <p:nvPicPr>
          <p:cNvPr id="56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567"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68" name=""/>
          <p:cNvGrpSpPr/>
          <p:nvPr/>
        </p:nvGrpSpPr>
        <p:grpSpPr>
          <a:xfrm>
            <a:off x="457200" y="1371600"/>
            <a:ext cx="8381520" cy="5181480"/>
            <a:chOff x="457200" y="1371600"/>
            <a:chExt cx="8381520" cy="5181480"/>
          </a:xfrm>
        </p:grpSpPr>
        <p:grpSp>
          <p:nvGrpSpPr>
            <p:cNvPr id="569" name=""/>
            <p:cNvGrpSpPr/>
            <p:nvPr/>
          </p:nvGrpSpPr>
          <p:grpSpPr>
            <a:xfrm>
              <a:off x="463320" y="1374120"/>
              <a:ext cx="8367840" cy="5175720"/>
              <a:chOff x="463320" y="1374120"/>
              <a:chExt cx="8367840" cy="5175720"/>
            </a:xfrm>
          </p:grpSpPr>
          <p:grpSp>
            <p:nvGrpSpPr>
              <p:cNvPr id="570" name=""/>
              <p:cNvGrpSpPr/>
              <p:nvPr/>
            </p:nvGrpSpPr>
            <p:grpSpPr>
              <a:xfrm>
                <a:off x="463320" y="1374120"/>
                <a:ext cx="2091600" cy="1326600"/>
                <a:chOff x="463320" y="1374120"/>
                <a:chExt cx="2091600" cy="1326600"/>
              </a:xfrm>
            </p:grpSpPr>
            <p:grpSp>
              <p:nvGrpSpPr>
                <p:cNvPr id="571" name=""/>
                <p:cNvGrpSpPr/>
                <p:nvPr/>
              </p:nvGrpSpPr>
              <p:grpSpPr>
                <a:xfrm>
                  <a:off x="524160" y="1375920"/>
                  <a:ext cx="1968480" cy="1324800"/>
                  <a:chOff x="524160" y="1375920"/>
                  <a:chExt cx="1968480" cy="1324800"/>
                </a:xfrm>
              </p:grpSpPr>
              <p:sp>
                <p:nvSpPr>
                  <p:cNvPr id="572"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73"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574"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2555280" y="1374120"/>
                <a:ext cx="2091600" cy="1207800"/>
                <a:chOff x="2555280" y="1374120"/>
                <a:chExt cx="2091600" cy="1207800"/>
              </a:xfrm>
            </p:grpSpPr>
            <p:sp>
              <p:nvSpPr>
                <p:cNvPr id="576"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647240" y="1374120"/>
                <a:ext cx="2091600" cy="1207800"/>
                <a:chOff x="4647240" y="1374120"/>
                <a:chExt cx="2091600" cy="1207800"/>
              </a:xfrm>
            </p:grpSpPr>
            <p:sp>
              <p:nvSpPr>
                <p:cNvPr id="579"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39560" y="1374120"/>
                <a:ext cx="2091600" cy="1207800"/>
                <a:chOff x="6739560" y="1374120"/>
                <a:chExt cx="2091600" cy="1207800"/>
              </a:xfrm>
            </p:grpSpPr>
            <p:sp>
              <p:nvSpPr>
                <p:cNvPr id="582"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463320" y="2581920"/>
                <a:ext cx="2091600" cy="712800"/>
                <a:chOff x="463320" y="2581920"/>
                <a:chExt cx="2091600" cy="712800"/>
              </a:xfrm>
            </p:grpSpPr>
            <p:sp>
              <p:nvSpPr>
                <p:cNvPr id="585"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2555280" y="2581920"/>
                <a:ext cx="2091600" cy="712800"/>
                <a:chOff x="2555280" y="2581920"/>
                <a:chExt cx="2091600" cy="712800"/>
              </a:xfrm>
            </p:grpSpPr>
            <p:sp>
              <p:nvSpPr>
                <p:cNvPr id="588"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647240" y="2581920"/>
                <a:ext cx="2091600" cy="712800"/>
                <a:chOff x="4647240" y="2581920"/>
                <a:chExt cx="2091600" cy="712800"/>
              </a:xfrm>
            </p:grpSpPr>
            <p:sp>
              <p:nvSpPr>
                <p:cNvPr id="591"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39560" y="2581920"/>
                <a:ext cx="2091600" cy="712800"/>
                <a:chOff x="6739560" y="2581920"/>
                <a:chExt cx="2091600" cy="712800"/>
              </a:xfrm>
            </p:grpSpPr>
            <p:sp>
              <p:nvSpPr>
                <p:cNvPr id="594"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463320" y="3294720"/>
                <a:ext cx="2091600" cy="493200"/>
                <a:chOff x="463320" y="3294720"/>
                <a:chExt cx="2091600" cy="493200"/>
              </a:xfrm>
            </p:grpSpPr>
            <p:sp>
              <p:nvSpPr>
                <p:cNvPr id="597"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2555280" y="3294720"/>
                <a:ext cx="2091600" cy="493200"/>
                <a:chOff x="2555280" y="3294720"/>
                <a:chExt cx="2091600" cy="493200"/>
              </a:xfrm>
            </p:grpSpPr>
            <p:sp>
              <p:nvSpPr>
                <p:cNvPr id="600"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4647240" y="3294720"/>
                <a:ext cx="2091600" cy="493200"/>
                <a:chOff x="4647240" y="3294720"/>
                <a:chExt cx="2091600" cy="493200"/>
              </a:xfrm>
            </p:grpSpPr>
            <p:sp>
              <p:nvSpPr>
                <p:cNvPr id="603"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6739560" y="3294720"/>
                <a:ext cx="2091600" cy="493200"/>
                <a:chOff x="6739560" y="3294720"/>
                <a:chExt cx="2091600" cy="493200"/>
              </a:xfrm>
            </p:grpSpPr>
            <p:sp>
              <p:nvSpPr>
                <p:cNvPr id="606"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63320" y="3788280"/>
                <a:ext cx="2091600" cy="383760"/>
                <a:chOff x="463320" y="3788280"/>
                <a:chExt cx="2091600" cy="383760"/>
              </a:xfrm>
            </p:grpSpPr>
            <p:sp>
              <p:nvSpPr>
                <p:cNvPr id="609"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2555280" y="3788280"/>
                <a:ext cx="2091600" cy="383760"/>
                <a:chOff x="2555280" y="3788280"/>
                <a:chExt cx="2091600" cy="383760"/>
              </a:xfrm>
            </p:grpSpPr>
            <p:sp>
              <p:nvSpPr>
                <p:cNvPr id="612"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647240" y="3788280"/>
                <a:ext cx="2091600" cy="383760"/>
                <a:chOff x="4647240" y="3788280"/>
                <a:chExt cx="2091600" cy="383760"/>
              </a:xfrm>
            </p:grpSpPr>
            <p:sp>
              <p:nvSpPr>
                <p:cNvPr id="615"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739560" y="3788280"/>
                <a:ext cx="2091600" cy="383760"/>
                <a:chOff x="6739560" y="3788280"/>
                <a:chExt cx="2091600" cy="383760"/>
              </a:xfrm>
            </p:grpSpPr>
            <p:sp>
              <p:nvSpPr>
                <p:cNvPr id="618"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63320" y="4172400"/>
                <a:ext cx="2091600" cy="365760"/>
                <a:chOff x="463320" y="4172400"/>
                <a:chExt cx="2091600" cy="365760"/>
              </a:xfrm>
            </p:grpSpPr>
            <p:sp>
              <p:nvSpPr>
                <p:cNvPr id="621"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2555280" y="4172400"/>
                <a:ext cx="2091600" cy="365760"/>
                <a:chOff x="2555280" y="4172400"/>
                <a:chExt cx="2091600" cy="365760"/>
              </a:xfrm>
            </p:grpSpPr>
            <p:sp>
              <p:nvSpPr>
                <p:cNvPr id="624"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4647240" y="4172400"/>
                <a:ext cx="2091600" cy="365760"/>
                <a:chOff x="4647240" y="4172400"/>
                <a:chExt cx="2091600" cy="365760"/>
              </a:xfrm>
            </p:grpSpPr>
            <p:sp>
              <p:nvSpPr>
                <p:cNvPr id="627"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6739560" y="4172400"/>
                <a:ext cx="2091600" cy="365760"/>
                <a:chOff x="6739560" y="4172400"/>
                <a:chExt cx="2091600" cy="365760"/>
              </a:xfrm>
            </p:grpSpPr>
            <p:sp>
              <p:nvSpPr>
                <p:cNvPr id="630"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63320" y="4538520"/>
                <a:ext cx="2091600" cy="383760"/>
                <a:chOff x="463320" y="4538520"/>
                <a:chExt cx="2091600" cy="383760"/>
              </a:xfrm>
            </p:grpSpPr>
            <p:sp>
              <p:nvSpPr>
                <p:cNvPr id="633"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2555280" y="4538520"/>
                <a:ext cx="2091600" cy="383760"/>
                <a:chOff x="2555280" y="4538520"/>
                <a:chExt cx="2091600" cy="383760"/>
              </a:xfrm>
            </p:grpSpPr>
            <p:sp>
              <p:nvSpPr>
                <p:cNvPr id="636"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4647240" y="4538520"/>
                <a:ext cx="2091600" cy="383760"/>
                <a:chOff x="4647240" y="4538520"/>
                <a:chExt cx="2091600" cy="383760"/>
              </a:xfrm>
            </p:grpSpPr>
            <p:sp>
              <p:nvSpPr>
                <p:cNvPr id="639"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39560" y="4538520"/>
                <a:ext cx="2091600" cy="383760"/>
                <a:chOff x="6739560" y="4538520"/>
                <a:chExt cx="2091600" cy="383760"/>
              </a:xfrm>
            </p:grpSpPr>
            <p:sp>
              <p:nvSpPr>
                <p:cNvPr id="642"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463320" y="4922280"/>
                <a:ext cx="2091600" cy="493200"/>
                <a:chOff x="463320" y="4922280"/>
                <a:chExt cx="2091600" cy="493200"/>
              </a:xfrm>
            </p:grpSpPr>
            <p:sp>
              <p:nvSpPr>
                <p:cNvPr id="645"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2555280" y="4922280"/>
                <a:ext cx="2091600" cy="493200"/>
                <a:chOff x="2555280" y="4922280"/>
                <a:chExt cx="2091600" cy="493200"/>
              </a:xfrm>
            </p:grpSpPr>
            <p:sp>
              <p:nvSpPr>
                <p:cNvPr id="648"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4647240" y="4922280"/>
                <a:ext cx="2091600" cy="493200"/>
                <a:chOff x="4647240" y="4922280"/>
                <a:chExt cx="2091600" cy="493200"/>
              </a:xfrm>
            </p:grpSpPr>
            <p:sp>
              <p:nvSpPr>
                <p:cNvPr id="651"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6739560" y="4922280"/>
                <a:ext cx="2091600" cy="493200"/>
                <a:chOff x="6739560" y="4922280"/>
                <a:chExt cx="2091600" cy="493200"/>
              </a:xfrm>
            </p:grpSpPr>
            <p:sp>
              <p:nvSpPr>
                <p:cNvPr id="654"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5"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63320" y="5415840"/>
                <a:ext cx="2091600" cy="383760"/>
                <a:chOff x="463320" y="5415840"/>
                <a:chExt cx="2091600" cy="383760"/>
              </a:xfrm>
            </p:grpSpPr>
            <p:sp>
              <p:nvSpPr>
                <p:cNvPr id="657"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555280" y="5415840"/>
                <a:ext cx="2091600" cy="383760"/>
                <a:chOff x="2555280" y="5415840"/>
                <a:chExt cx="2091600" cy="383760"/>
              </a:xfrm>
            </p:grpSpPr>
            <p:sp>
              <p:nvSpPr>
                <p:cNvPr id="660"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647240" y="5415840"/>
                <a:ext cx="2091600" cy="383760"/>
                <a:chOff x="4647240" y="5415840"/>
                <a:chExt cx="2091600" cy="383760"/>
              </a:xfrm>
            </p:grpSpPr>
            <p:sp>
              <p:nvSpPr>
                <p:cNvPr id="663"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6739560" y="5415840"/>
                <a:ext cx="2091600" cy="383760"/>
                <a:chOff x="6739560" y="5415840"/>
                <a:chExt cx="2091600" cy="383760"/>
              </a:xfrm>
            </p:grpSpPr>
            <p:sp>
              <p:nvSpPr>
                <p:cNvPr id="666"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463320" y="5799960"/>
                <a:ext cx="2091600" cy="365760"/>
                <a:chOff x="463320" y="5799960"/>
                <a:chExt cx="2091600" cy="365760"/>
              </a:xfrm>
            </p:grpSpPr>
            <p:sp>
              <p:nvSpPr>
                <p:cNvPr id="669"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2555280" y="5799960"/>
                <a:ext cx="2091600" cy="365760"/>
                <a:chOff x="2555280" y="5799960"/>
                <a:chExt cx="2091600" cy="365760"/>
              </a:xfrm>
            </p:grpSpPr>
            <p:sp>
              <p:nvSpPr>
                <p:cNvPr id="672"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3"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647240" y="5799960"/>
                <a:ext cx="2091600" cy="365760"/>
                <a:chOff x="4647240" y="5799960"/>
                <a:chExt cx="2091600" cy="365760"/>
              </a:xfrm>
            </p:grpSpPr>
            <p:sp>
              <p:nvSpPr>
                <p:cNvPr id="675"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6739560" y="5799960"/>
                <a:ext cx="2091600" cy="365760"/>
                <a:chOff x="6739560" y="5799960"/>
                <a:chExt cx="2091600" cy="365760"/>
              </a:xfrm>
            </p:grpSpPr>
            <p:sp>
              <p:nvSpPr>
                <p:cNvPr id="678"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63320" y="6165720"/>
                <a:ext cx="2091600" cy="384120"/>
                <a:chOff x="463320" y="6165720"/>
                <a:chExt cx="2091600" cy="384120"/>
              </a:xfrm>
            </p:grpSpPr>
            <p:sp>
              <p:nvSpPr>
                <p:cNvPr id="681"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2555280" y="6165720"/>
                <a:ext cx="2091600" cy="384120"/>
                <a:chOff x="2555280" y="6165720"/>
                <a:chExt cx="2091600" cy="384120"/>
              </a:xfrm>
            </p:grpSpPr>
            <p:sp>
              <p:nvSpPr>
                <p:cNvPr id="684"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647240" y="6165720"/>
                <a:ext cx="2091600" cy="384120"/>
                <a:chOff x="4647240" y="6165720"/>
                <a:chExt cx="2091600" cy="384120"/>
              </a:xfrm>
            </p:grpSpPr>
            <p:sp>
              <p:nvSpPr>
                <p:cNvPr id="687"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739560" y="6165720"/>
                <a:ext cx="2091600" cy="384120"/>
                <a:chOff x="6739560" y="6165720"/>
                <a:chExt cx="2091600" cy="384120"/>
              </a:xfrm>
            </p:grpSpPr>
            <p:sp>
              <p:nvSpPr>
                <p:cNvPr id="690"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4" name="Logo%20Ced%20color%20art" descr=""/>
          <p:cNvPicPr/>
          <p:nvPr/>
        </p:nvPicPr>
        <p:blipFill>
          <a:blip r:embed="rId1"/>
          <a:stretch/>
        </p:blipFill>
        <p:spPr>
          <a:xfrm>
            <a:off x="457200" y="304920"/>
            <a:ext cx="906480" cy="465120"/>
          </a:xfrm>
          <a:prstGeom prst="rect">
            <a:avLst/>
          </a:prstGeom>
          <a:ln w="0">
            <a:noFill/>
          </a:ln>
        </p:spPr>
      </p:pic>
      <p:pic>
        <p:nvPicPr>
          <p:cNvPr id="69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Logo%20Ced%20color%20art" descr=""/>
          <p:cNvPicPr/>
          <p:nvPr/>
        </p:nvPicPr>
        <p:blipFill>
          <a:blip r:embed="rId1"/>
          <a:stretch/>
        </p:blipFill>
        <p:spPr>
          <a:xfrm>
            <a:off x="457200" y="304920"/>
            <a:ext cx="906480" cy="465120"/>
          </a:xfrm>
          <a:prstGeom prst="rect">
            <a:avLst/>
          </a:prstGeom>
          <a:ln w="0">
            <a:noFill/>
          </a:ln>
        </p:spPr>
      </p:pic>
      <p:pic>
        <p:nvPicPr>
          <p:cNvPr id="52" name="AtodoSur"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BD00028_" descr=""/>
          <p:cNvPicPr/>
          <p:nvPr/>
        </p:nvPicPr>
        <p:blipFill>
          <a:blip r:embed="rId3"/>
          <a:stretch/>
        </p:blipFill>
        <p:spPr>
          <a:xfrm>
            <a:off x="0" y="0"/>
            <a:ext cx="9144000" cy="53341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9" name="BD06990_" descr=""/>
          <p:cNvPicPr/>
          <p:nvPr/>
        </p:nvPicPr>
        <p:blipFill>
          <a:blip r:embed="rId1"/>
          <a:stretch/>
        </p:blipFill>
        <p:spPr>
          <a:xfrm>
            <a:off x="3048120" y="0"/>
            <a:ext cx="2590560" cy="1981080"/>
          </a:xfrm>
          <a:prstGeom prst="rect">
            <a:avLst/>
          </a:prstGeom>
          <a:ln w="0">
            <a:noFill/>
          </a:ln>
        </p:spPr>
      </p:pic>
      <p:pic>
        <p:nvPicPr>
          <p:cNvPr id="700" name="AtodoSur" descr=""/>
          <p:cNvPicPr/>
          <p:nvPr/>
        </p:nvPicPr>
        <p:blipFill>
          <a:blip r:embed="rId2"/>
          <a:stretch/>
        </p:blipFill>
        <p:spPr>
          <a:xfrm>
            <a:off x="8229600" y="304920"/>
            <a:ext cx="488880" cy="671400"/>
          </a:xfrm>
          <a:prstGeom prst="rect">
            <a:avLst/>
          </a:prstGeom>
          <a:ln w="0">
            <a:noFill/>
          </a:ln>
        </p:spPr>
      </p:pic>
      <p:pic>
        <p:nvPicPr>
          <p:cNvPr id="70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maño del Estado (% PIB)</a:t>
            </a:r>
            <a:br>
              <a:rPr sz="2000"/>
            </a:br>
            <a:r>
              <a:rPr b="0" lang="es-ES" sz="2000" spc="-1" strike="noStrike">
                <a:solidFill>
                  <a:srgbClr val="000000"/>
                </a:solidFill>
                <a:latin typeface="Times New Roman"/>
              </a:rPr>
              <a:t>(Juan Villarzú; Estrategia de Desarrollo Siglo XXI, 2001)</a:t>
            </a:r>
            <a:endParaRPr b="0" lang="en-US" sz="2000" spc="-1" strike="noStrike">
              <a:solidFill>
                <a:srgbClr val="000000"/>
              </a:solidFill>
              <a:latin typeface="Times New Roman"/>
            </a:endParaRPr>
          </a:p>
        </p:txBody>
      </p:sp>
      <p:graphicFrame>
        <p:nvGraphicFramePr>
          <p:cNvPr id="703" name=""/>
          <p:cNvGraphicFramePr/>
          <p:nvPr/>
        </p:nvGraphicFramePr>
        <p:xfrm>
          <a:off x="1069920" y="1981080"/>
          <a:ext cx="7002360" cy="4114800"/>
        </p:xfrm>
        <a:graphic>
          <a:graphicData uri="http://schemas.openxmlformats.org/presentationml/2006/ole">
            <p:oleObj r:id="rId1" spid="">
              <p:embed/>
              <p:pic>
                <p:nvPicPr>
                  <p:cNvPr id="704" name="" descr=""/>
                  <p:cNvPicPr/>
                  <p:nvPr/>
                </p:nvPicPr>
                <p:blipFill>
                  <a:blip r:embed="rId2"/>
                  <a:stretch/>
                </p:blipFill>
                <p:spPr>
                  <a:xfrm>
                    <a:off x="1069920" y="1981080"/>
                    <a:ext cx="7002360" cy="4114800"/>
                  </a:xfrm>
                  <a:prstGeom prst="rect">
                    <a:avLst/>
                  </a:prstGeom>
                  <a:ln w="0">
                    <a:noFill/>
                  </a:ln>
                </p:spPr>
              </p:pic>
            </p:oleObj>
          </a:graphicData>
        </a:graphic>
      </p:graphicFrame>
      <p:pic>
        <p:nvPicPr>
          <p:cNvPr id="705" name="AtodoSur" descr=""/>
          <p:cNvPicPr/>
          <p:nvPr/>
        </p:nvPicPr>
        <p:blipFill>
          <a:blip r:embed="rId3"/>
          <a:stretch/>
        </p:blipFill>
        <p:spPr>
          <a:xfrm>
            <a:off x="8229600" y="304920"/>
            <a:ext cx="488880" cy="671400"/>
          </a:xfrm>
          <a:prstGeom prst="rect">
            <a:avLst/>
          </a:prstGeom>
          <a:ln w="0">
            <a:noFill/>
          </a:ln>
        </p:spPr>
      </p:pic>
      <p:pic>
        <p:nvPicPr>
          <p:cNvPr id="7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asto público y competitividad</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graphicFrame>
        <p:nvGraphicFramePr>
          <p:cNvPr id="708" name=""/>
          <p:cNvGraphicFramePr/>
          <p:nvPr/>
        </p:nvGraphicFramePr>
        <p:xfrm>
          <a:off x="1523880" y="1981080"/>
          <a:ext cx="7239240" cy="4114800"/>
        </p:xfrm>
        <a:graphic>
          <a:graphicData uri="http://schemas.openxmlformats.org/presentationml/2006/ole">
            <p:oleObj progId="Excel.Sheet.12" r:id="rId1" spid="">
              <p:embed/>
              <p:pic>
                <p:nvPicPr>
                  <p:cNvPr id="709" name="" descr=""/>
                  <p:cNvPicPr/>
                  <p:nvPr/>
                </p:nvPicPr>
                <p:blipFill>
                  <a:blip r:embed="rId2"/>
                  <a:stretch/>
                </p:blipFill>
                <p:spPr>
                  <a:xfrm>
                    <a:off x="1523880" y="1981080"/>
                    <a:ext cx="7239240" cy="4114800"/>
                  </a:xfrm>
                  <a:prstGeom prst="rect">
                    <a:avLst/>
                  </a:prstGeom>
                  <a:ln w="0">
                    <a:noFill/>
                  </a:ln>
                </p:spPr>
              </p:pic>
            </p:oleObj>
          </a:graphicData>
        </a:graphic>
      </p:graphicFrame>
      <p:sp>
        <p:nvSpPr>
          <p:cNvPr id="710" name=""/>
          <p:cNvSpPr/>
          <p:nvPr/>
        </p:nvSpPr>
        <p:spPr>
          <a:xfrm>
            <a:off x="304920" y="2057400"/>
            <a:ext cx="1295280" cy="29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1  : Competencia de los funcionarios públicos (1=menor que en el sector privado, 7= más alto que en el sector privad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2  : Calidad de los colegios público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3  : Diferencia en la calidad de la salud.</a:t>
            </a:r>
            <a:br>
              <a:rPr sz="1000"/>
            </a:br>
            <a:r>
              <a:rPr b="0" lang="en-US" sz="1000" spc="-1" strike="noStrike">
                <a:solidFill>
                  <a:srgbClr val="800000"/>
                </a:solidFill>
                <a:latin typeface="Arial Narrow"/>
              </a:rPr>
              <a:t>La diferencia en la calidad de los servicios de salud a los que pueden acceder las personas ricas y las personas pobres en</a:t>
            </a:r>
            <a:br>
              <a:rPr sz="1000"/>
            </a:br>
            <a:r>
              <a:rPr b="0" lang="en-US" sz="1000" spc="-1" strike="noStrike">
                <a:solidFill>
                  <a:srgbClr val="800000"/>
                </a:solidFill>
                <a:latin typeface="Arial Narrow"/>
              </a:rPr>
              <a:t>el país es  (1=grande, 7=pequeña)</a:t>
            </a:r>
            <a:endParaRPr b="0" lang="en-US" sz="1000" spc="-1" strike="noStrike">
              <a:solidFill>
                <a:srgbClr val="000000"/>
              </a:solidFill>
              <a:latin typeface="Times New Roman"/>
            </a:endParaRPr>
          </a:p>
        </p:txBody>
      </p:sp>
      <p:pic>
        <p:nvPicPr>
          <p:cNvPr id="711" name="AtodoSur" descr=""/>
          <p:cNvPicPr/>
          <p:nvPr/>
        </p:nvPicPr>
        <p:blipFill>
          <a:blip r:embed="rId3"/>
          <a:stretch/>
        </p:blipFill>
        <p:spPr>
          <a:xfrm>
            <a:off x="8229600" y="304920"/>
            <a:ext cx="488880" cy="671400"/>
          </a:xfrm>
          <a:prstGeom prst="rect">
            <a:avLst/>
          </a:prstGeom>
          <a:ln w="0">
            <a:noFill/>
          </a:ln>
        </p:spPr>
      </p:pic>
      <p:pic>
        <p:nvPicPr>
          <p:cNvPr id="712"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l Estado mínimo sea garantía ni de probidad, ni de competitividad ni de crecimiento</a:t>
            </a:r>
            <a:endParaRPr b="0" lang="en-US" sz="2800" spc="-1" strike="noStrike">
              <a:solidFill>
                <a:srgbClr val="000000"/>
              </a:solidFill>
              <a:latin typeface="Times New Roman"/>
            </a:endParaRPr>
          </a:p>
        </p:txBody>
      </p:sp>
      <p:sp>
        <p:nvSpPr>
          <p:cNvPr id="714"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5" name=""/>
          <p:cNvGrpSpPr/>
          <p:nvPr/>
        </p:nvGrpSpPr>
        <p:grpSpPr>
          <a:xfrm>
            <a:off x="228600" y="2209680"/>
            <a:ext cx="8762760" cy="4114800"/>
            <a:chOff x="228600" y="2209680"/>
            <a:chExt cx="8762760" cy="4114800"/>
          </a:xfrm>
        </p:grpSpPr>
        <p:grpSp>
          <p:nvGrpSpPr>
            <p:cNvPr id="716" name=""/>
            <p:cNvGrpSpPr/>
            <p:nvPr/>
          </p:nvGrpSpPr>
          <p:grpSpPr>
            <a:xfrm>
              <a:off x="234720" y="2211480"/>
              <a:ext cx="8749080" cy="4110120"/>
              <a:chOff x="234720" y="2211480"/>
              <a:chExt cx="8749080" cy="4110120"/>
            </a:xfrm>
          </p:grpSpPr>
          <p:grpSp>
            <p:nvGrpSpPr>
              <p:cNvPr id="717" name=""/>
              <p:cNvGrpSpPr/>
              <p:nvPr/>
            </p:nvGrpSpPr>
            <p:grpSpPr>
              <a:xfrm>
                <a:off x="234720" y="2211480"/>
                <a:ext cx="3793320" cy="293400"/>
                <a:chOff x="234720" y="2211480"/>
                <a:chExt cx="3793320" cy="293400"/>
              </a:xfrm>
            </p:grpSpPr>
            <p:sp>
              <p:nvSpPr>
                <p:cNvPr id="718" name=""/>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9" name=""/>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4028400" y="2211480"/>
                <a:ext cx="4955040" cy="293400"/>
                <a:chOff x="4028400" y="2211480"/>
                <a:chExt cx="4955040" cy="293400"/>
              </a:xfrm>
            </p:grpSpPr>
            <p:sp>
              <p:nvSpPr>
                <p:cNvPr id="721" name=""/>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34720" y="2504880"/>
                <a:ext cx="3793320" cy="293400"/>
                <a:chOff x="234720" y="2504880"/>
                <a:chExt cx="3793320" cy="293400"/>
              </a:xfrm>
            </p:grpSpPr>
            <p:sp>
              <p:nvSpPr>
                <p:cNvPr id="724" name=""/>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4028400" y="2504880"/>
                <a:ext cx="2737440" cy="293400"/>
                <a:chOff x="4028400" y="2504880"/>
                <a:chExt cx="2737440" cy="293400"/>
              </a:xfrm>
            </p:grpSpPr>
            <p:sp>
              <p:nvSpPr>
                <p:cNvPr id="727" name=""/>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766560" y="2504880"/>
                <a:ext cx="2217240" cy="293400"/>
                <a:chOff x="6766560" y="2504880"/>
                <a:chExt cx="2217240" cy="293400"/>
              </a:xfrm>
            </p:grpSpPr>
            <p:sp>
              <p:nvSpPr>
                <p:cNvPr id="730" name=""/>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34720" y="2798640"/>
                <a:ext cx="3793320" cy="293760"/>
                <a:chOff x="234720" y="2798640"/>
                <a:chExt cx="3793320" cy="293760"/>
              </a:xfrm>
            </p:grpSpPr>
            <p:sp>
              <p:nvSpPr>
                <p:cNvPr id="733" name=""/>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028400" y="2798640"/>
                <a:ext cx="2737440" cy="293760"/>
                <a:chOff x="4028400" y="2798640"/>
                <a:chExt cx="2737440" cy="293760"/>
              </a:xfrm>
            </p:grpSpPr>
            <p:sp>
              <p:nvSpPr>
                <p:cNvPr id="736" name=""/>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6766560" y="2798640"/>
                <a:ext cx="2217240" cy="293760"/>
                <a:chOff x="6766560" y="2798640"/>
                <a:chExt cx="2217240" cy="293760"/>
              </a:xfrm>
            </p:grpSpPr>
            <p:sp>
              <p:nvSpPr>
                <p:cNvPr id="739" name=""/>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34720" y="3092400"/>
                <a:ext cx="3793320" cy="293400"/>
                <a:chOff x="234720" y="3092400"/>
                <a:chExt cx="3793320" cy="293400"/>
              </a:xfrm>
            </p:grpSpPr>
            <p:sp>
              <p:nvSpPr>
                <p:cNvPr id="742" name=""/>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4028400" y="3092400"/>
                <a:ext cx="2737440" cy="293400"/>
                <a:chOff x="4028400" y="3092400"/>
                <a:chExt cx="2737440" cy="293400"/>
              </a:xfrm>
            </p:grpSpPr>
            <p:sp>
              <p:nvSpPr>
                <p:cNvPr id="745" name=""/>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66560" y="3092400"/>
                <a:ext cx="2217240" cy="293400"/>
                <a:chOff x="6766560" y="3092400"/>
                <a:chExt cx="2217240" cy="293400"/>
              </a:xfrm>
            </p:grpSpPr>
            <p:sp>
              <p:nvSpPr>
                <p:cNvPr id="748" name=""/>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234720" y="3385800"/>
                <a:ext cx="3793320" cy="293400"/>
                <a:chOff x="234720" y="3385800"/>
                <a:chExt cx="3793320" cy="293400"/>
              </a:xfrm>
            </p:grpSpPr>
            <p:sp>
              <p:nvSpPr>
                <p:cNvPr id="751" name=""/>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4028400" y="3385800"/>
                <a:ext cx="2737440" cy="293400"/>
                <a:chOff x="4028400" y="3385800"/>
                <a:chExt cx="2737440" cy="293400"/>
              </a:xfrm>
            </p:grpSpPr>
            <p:sp>
              <p:nvSpPr>
                <p:cNvPr id="754" name=""/>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6766560" y="3385800"/>
                <a:ext cx="2217240" cy="293400"/>
                <a:chOff x="6766560" y="3385800"/>
                <a:chExt cx="2217240" cy="293400"/>
              </a:xfrm>
            </p:grpSpPr>
            <p:sp>
              <p:nvSpPr>
                <p:cNvPr id="757" name=""/>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234720" y="3679560"/>
                <a:ext cx="3793320" cy="293400"/>
                <a:chOff x="234720" y="3679560"/>
                <a:chExt cx="3793320" cy="293400"/>
              </a:xfrm>
            </p:grpSpPr>
            <p:sp>
              <p:nvSpPr>
                <p:cNvPr id="760" name=""/>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4028400" y="3679560"/>
                <a:ext cx="2737440" cy="293400"/>
                <a:chOff x="4028400" y="3679560"/>
                <a:chExt cx="2737440" cy="293400"/>
              </a:xfrm>
            </p:grpSpPr>
            <p:sp>
              <p:nvSpPr>
                <p:cNvPr id="763" name=""/>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766560" y="3679560"/>
                <a:ext cx="2217240" cy="293400"/>
                <a:chOff x="6766560" y="3679560"/>
                <a:chExt cx="2217240" cy="293400"/>
              </a:xfrm>
            </p:grpSpPr>
            <p:sp>
              <p:nvSpPr>
                <p:cNvPr id="766" name=""/>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234720" y="3972960"/>
                <a:ext cx="3793320" cy="293400"/>
                <a:chOff x="234720" y="3972960"/>
                <a:chExt cx="3793320" cy="293400"/>
              </a:xfrm>
            </p:grpSpPr>
            <p:sp>
              <p:nvSpPr>
                <p:cNvPr id="769" name=""/>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028400" y="3972960"/>
                <a:ext cx="2737440" cy="293400"/>
                <a:chOff x="4028400" y="3972960"/>
                <a:chExt cx="2737440" cy="293400"/>
              </a:xfrm>
            </p:grpSpPr>
            <p:sp>
              <p:nvSpPr>
                <p:cNvPr id="772" name=""/>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6766560" y="3972960"/>
                <a:ext cx="2217240" cy="293400"/>
                <a:chOff x="6766560" y="3972960"/>
                <a:chExt cx="2217240" cy="293400"/>
              </a:xfrm>
            </p:grpSpPr>
            <p:sp>
              <p:nvSpPr>
                <p:cNvPr id="775" name=""/>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234720" y="4266720"/>
                <a:ext cx="3793320" cy="293400"/>
                <a:chOff x="234720" y="4266720"/>
                <a:chExt cx="3793320" cy="293400"/>
              </a:xfrm>
            </p:grpSpPr>
            <p:sp>
              <p:nvSpPr>
                <p:cNvPr id="778" name=""/>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028400" y="4266720"/>
                <a:ext cx="2737440" cy="293400"/>
                <a:chOff x="4028400" y="4266720"/>
                <a:chExt cx="2737440" cy="293400"/>
              </a:xfrm>
            </p:grpSpPr>
            <p:sp>
              <p:nvSpPr>
                <p:cNvPr id="781" name=""/>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766560" y="4266720"/>
                <a:ext cx="2217240" cy="293400"/>
                <a:chOff x="6766560" y="4266720"/>
                <a:chExt cx="2217240" cy="293400"/>
              </a:xfrm>
            </p:grpSpPr>
            <p:sp>
              <p:nvSpPr>
                <p:cNvPr id="784" name=""/>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234720" y="4560120"/>
                <a:ext cx="3793320" cy="293400"/>
                <a:chOff x="234720" y="4560120"/>
                <a:chExt cx="3793320" cy="293400"/>
              </a:xfrm>
            </p:grpSpPr>
            <p:sp>
              <p:nvSpPr>
                <p:cNvPr id="787" name=""/>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4028400" y="4560120"/>
                <a:ext cx="2737440" cy="293400"/>
                <a:chOff x="4028400" y="4560120"/>
                <a:chExt cx="2737440" cy="293400"/>
              </a:xfrm>
            </p:grpSpPr>
            <p:sp>
              <p:nvSpPr>
                <p:cNvPr id="790" name=""/>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6766560" y="4560120"/>
                <a:ext cx="2217240" cy="293400"/>
                <a:chOff x="6766560" y="4560120"/>
                <a:chExt cx="2217240" cy="293400"/>
              </a:xfrm>
            </p:grpSpPr>
            <p:sp>
              <p:nvSpPr>
                <p:cNvPr id="793" name=""/>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34720" y="4853880"/>
                <a:ext cx="3793320" cy="293400"/>
                <a:chOff x="234720" y="4853880"/>
                <a:chExt cx="3793320" cy="293400"/>
              </a:xfrm>
            </p:grpSpPr>
            <p:sp>
              <p:nvSpPr>
                <p:cNvPr id="796" name=""/>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4028400" y="4853880"/>
                <a:ext cx="2737440" cy="293400"/>
                <a:chOff x="4028400" y="4853880"/>
                <a:chExt cx="2737440" cy="293400"/>
              </a:xfrm>
            </p:grpSpPr>
            <p:sp>
              <p:nvSpPr>
                <p:cNvPr id="799" name=""/>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766560" y="4853880"/>
                <a:ext cx="2217240" cy="293400"/>
                <a:chOff x="6766560" y="4853880"/>
                <a:chExt cx="2217240" cy="293400"/>
              </a:xfrm>
            </p:grpSpPr>
            <p:sp>
              <p:nvSpPr>
                <p:cNvPr id="802" name=""/>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234720" y="5147280"/>
                <a:ext cx="3793320" cy="293760"/>
                <a:chOff x="234720" y="5147280"/>
                <a:chExt cx="3793320" cy="293760"/>
              </a:xfrm>
            </p:grpSpPr>
            <p:sp>
              <p:nvSpPr>
                <p:cNvPr id="805" name=""/>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028400" y="5147280"/>
                <a:ext cx="2737440" cy="293760"/>
                <a:chOff x="4028400" y="5147280"/>
                <a:chExt cx="2737440" cy="293760"/>
              </a:xfrm>
            </p:grpSpPr>
            <p:sp>
              <p:nvSpPr>
                <p:cNvPr id="808" name=""/>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766560" y="5147280"/>
                <a:ext cx="2217240" cy="293760"/>
                <a:chOff x="6766560" y="5147280"/>
                <a:chExt cx="2217240" cy="293760"/>
              </a:xfrm>
            </p:grpSpPr>
            <p:sp>
              <p:nvSpPr>
                <p:cNvPr id="811" name=""/>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34720" y="5441040"/>
                <a:ext cx="3793320" cy="293400"/>
                <a:chOff x="234720" y="5441040"/>
                <a:chExt cx="3793320" cy="293400"/>
              </a:xfrm>
            </p:grpSpPr>
            <p:sp>
              <p:nvSpPr>
                <p:cNvPr id="814" name=""/>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4028400" y="5441040"/>
                <a:ext cx="2737440" cy="293400"/>
                <a:chOff x="4028400" y="5441040"/>
                <a:chExt cx="2737440" cy="293400"/>
              </a:xfrm>
            </p:grpSpPr>
            <p:sp>
              <p:nvSpPr>
                <p:cNvPr id="817" name=""/>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766560" y="5441040"/>
                <a:ext cx="2217240" cy="293400"/>
                <a:chOff x="6766560" y="5441040"/>
                <a:chExt cx="2217240" cy="293400"/>
              </a:xfrm>
            </p:grpSpPr>
            <p:sp>
              <p:nvSpPr>
                <p:cNvPr id="820" name=""/>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234720" y="5734800"/>
                <a:ext cx="3793320" cy="293400"/>
                <a:chOff x="234720" y="5734800"/>
                <a:chExt cx="3793320" cy="293400"/>
              </a:xfrm>
            </p:grpSpPr>
            <p:sp>
              <p:nvSpPr>
                <p:cNvPr id="823" name=""/>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028400" y="5734800"/>
                <a:ext cx="2737440" cy="293400"/>
                <a:chOff x="4028400" y="5734800"/>
                <a:chExt cx="2737440" cy="293400"/>
              </a:xfrm>
            </p:grpSpPr>
            <p:sp>
              <p:nvSpPr>
                <p:cNvPr id="826" name=""/>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6766560" y="5734800"/>
                <a:ext cx="2217240" cy="293400"/>
                <a:chOff x="6766560" y="5734800"/>
                <a:chExt cx="2217240" cy="293400"/>
              </a:xfrm>
            </p:grpSpPr>
            <p:sp>
              <p:nvSpPr>
                <p:cNvPr id="829" name=""/>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234720" y="6028200"/>
                <a:ext cx="3793320" cy="293400"/>
                <a:chOff x="234720" y="6028200"/>
                <a:chExt cx="3793320" cy="293400"/>
              </a:xfrm>
            </p:grpSpPr>
            <p:sp>
              <p:nvSpPr>
                <p:cNvPr id="832" name=""/>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028400" y="6028200"/>
                <a:ext cx="2737440" cy="293400"/>
                <a:chOff x="4028400" y="6028200"/>
                <a:chExt cx="2737440" cy="293400"/>
              </a:xfrm>
            </p:grpSpPr>
            <p:sp>
              <p:nvSpPr>
                <p:cNvPr id="835" name=""/>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6766560" y="6028200"/>
                <a:ext cx="2217240" cy="293400"/>
                <a:chOff x="6766560" y="6028200"/>
                <a:chExt cx="2217240" cy="293400"/>
              </a:xfrm>
            </p:grpSpPr>
            <p:sp>
              <p:nvSpPr>
                <p:cNvPr id="838" name=""/>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1" name="Logo%20Ced%20color%20art" descr=""/>
          <p:cNvPicPr/>
          <p:nvPr/>
        </p:nvPicPr>
        <p:blipFill>
          <a:blip r:embed="rId1"/>
          <a:stretch/>
        </p:blipFill>
        <p:spPr>
          <a:xfrm>
            <a:off x="457200" y="304920"/>
            <a:ext cx="906480" cy="465120"/>
          </a:xfrm>
          <a:prstGeom prst="rect">
            <a:avLst/>
          </a:prstGeom>
          <a:ln w="0">
            <a:noFill/>
          </a:ln>
        </p:spPr>
      </p:pic>
      <p:pic>
        <p:nvPicPr>
          <p:cNvPr id="84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e una economía abierta de mercado tiene matices</a:t>
            </a:r>
            <a:endParaRPr b="0" lang="en-US" sz="4400" spc="-1" strike="noStrike">
              <a:solidFill>
                <a:srgbClr val="000000"/>
              </a:solidFill>
              <a:latin typeface="Times New Roman"/>
            </a:endParaRPr>
          </a:p>
        </p:txBody>
      </p:sp>
      <p:grpSp>
        <p:nvGrpSpPr>
          <p:cNvPr id="844" name=""/>
          <p:cNvGrpSpPr/>
          <p:nvPr/>
        </p:nvGrpSpPr>
        <p:grpSpPr>
          <a:xfrm>
            <a:off x="990720" y="2057400"/>
            <a:ext cx="7390800" cy="3886200"/>
            <a:chOff x="990720" y="2057400"/>
            <a:chExt cx="7390800" cy="3886200"/>
          </a:xfrm>
        </p:grpSpPr>
        <p:grpSp>
          <p:nvGrpSpPr>
            <p:cNvPr id="845" name=""/>
            <p:cNvGrpSpPr/>
            <p:nvPr/>
          </p:nvGrpSpPr>
          <p:grpSpPr>
            <a:xfrm>
              <a:off x="995760" y="2059920"/>
              <a:ext cx="7378920" cy="3880800"/>
              <a:chOff x="995760" y="2059920"/>
              <a:chExt cx="7378920" cy="3880800"/>
            </a:xfrm>
          </p:grpSpPr>
          <p:grpSp>
            <p:nvGrpSpPr>
              <p:cNvPr id="846" name=""/>
              <p:cNvGrpSpPr/>
              <p:nvPr/>
            </p:nvGrpSpPr>
            <p:grpSpPr>
              <a:xfrm>
                <a:off x="995760" y="2059920"/>
                <a:ext cx="1844640" cy="484920"/>
                <a:chOff x="995760" y="2059920"/>
                <a:chExt cx="1844640" cy="484920"/>
              </a:xfrm>
            </p:grpSpPr>
            <p:sp>
              <p:nvSpPr>
                <p:cNvPr id="847" name=""/>
                <p:cNvSpPr/>
                <p:nvPr/>
              </p:nvSpPr>
              <p:spPr>
                <a:xfrm>
                  <a:off x="1046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
                <p:cNvSpPr/>
                <p:nvPr/>
              </p:nvSpPr>
              <p:spPr>
                <a:xfrm>
                  <a:off x="995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2840760" y="2059920"/>
                <a:ext cx="1844640" cy="484920"/>
                <a:chOff x="2840760" y="2059920"/>
                <a:chExt cx="1844640" cy="484920"/>
              </a:xfrm>
            </p:grpSpPr>
            <p:sp>
              <p:nvSpPr>
                <p:cNvPr id="850" name=""/>
                <p:cNvSpPr/>
                <p:nvPr/>
              </p:nvSpPr>
              <p:spPr>
                <a:xfrm>
                  <a:off x="2891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
                <p:cNvSpPr/>
                <p:nvPr/>
              </p:nvSpPr>
              <p:spPr>
                <a:xfrm>
                  <a:off x="2840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85760" y="2059920"/>
                <a:ext cx="1843920" cy="484920"/>
                <a:chOff x="4685760" y="2059920"/>
                <a:chExt cx="1843920" cy="484920"/>
              </a:xfrm>
            </p:grpSpPr>
            <p:sp>
              <p:nvSpPr>
                <p:cNvPr id="853" name=""/>
                <p:cNvSpPr/>
                <p:nvPr/>
              </p:nvSpPr>
              <p:spPr>
                <a:xfrm>
                  <a:off x="4736520" y="2059920"/>
                  <a:ext cx="174204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
                <p:cNvSpPr/>
                <p:nvPr/>
              </p:nvSpPr>
              <p:spPr>
                <a:xfrm>
                  <a:off x="4685760" y="2059920"/>
                  <a:ext cx="184392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530040" y="2059920"/>
                <a:ext cx="1844640" cy="484920"/>
                <a:chOff x="6530040" y="2059920"/>
                <a:chExt cx="1844640" cy="484920"/>
              </a:xfrm>
            </p:grpSpPr>
            <p:sp>
              <p:nvSpPr>
                <p:cNvPr id="856" name=""/>
                <p:cNvSpPr/>
                <p:nvPr/>
              </p:nvSpPr>
              <p:spPr>
                <a:xfrm>
                  <a:off x="658116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53004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95760" y="2544840"/>
                <a:ext cx="1844640" cy="377280"/>
                <a:chOff x="995760" y="2544840"/>
                <a:chExt cx="1844640" cy="377280"/>
              </a:xfrm>
            </p:grpSpPr>
            <p:sp>
              <p:nvSpPr>
                <p:cNvPr id="859" name=""/>
                <p:cNvSpPr/>
                <p:nvPr/>
              </p:nvSpPr>
              <p:spPr>
                <a:xfrm>
                  <a:off x="1046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995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2840760" y="2544840"/>
                <a:ext cx="1844640" cy="377280"/>
                <a:chOff x="2840760" y="2544840"/>
                <a:chExt cx="1844640" cy="377280"/>
              </a:xfrm>
            </p:grpSpPr>
            <p:sp>
              <p:nvSpPr>
                <p:cNvPr id="862" name=""/>
                <p:cNvSpPr/>
                <p:nvPr/>
              </p:nvSpPr>
              <p:spPr>
                <a:xfrm>
                  <a:off x="2891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2840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4685760" y="2544840"/>
                <a:ext cx="1843920" cy="377280"/>
                <a:chOff x="4685760" y="2544840"/>
                <a:chExt cx="1843920" cy="377280"/>
              </a:xfrm>
            </p:grpSpPr>
            <p:sp>
              <p:nvSpPr>
                <p:cNvPr id="865" name=""/>
                <p:cNvSpPr/>
                <p:nvPr/>
              </p:nvSpPr>
              <p:spPr>
                <a:xfrm>
                  <a:off x="4736520" y="25448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4685760" y="25448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530040" y="2544840"/>
                <a:ext cx="1844640" cy="377280"/>
                <a:chOff x="6530040" y="2544840"/>
                <a:chExt cx="1844640" cy="377280"/>
              </a:xfrm>
            </p:grpSpPr>
            <p:sp>
              <p:nvSpPr>
                <p:cNvPr id="868" name=""/>
                <p:cNvSpPr/>
                <p:nvPr/>
              </p:nvSpPr>
              <p:spPr>
                <a:xfrm>
                  <a:off x="658116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
                <p:cNvSpPr/>
                <p:nvPr/>
              </p:nvSpPr>
              <p:spPr>
                <a:xfrm>
                  <a:off x="653004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995760" y="2922120"/>
                <a:ext cx="1844640" cy="377280"/>
                <a:chOff x="995760" y="2922120"/>
                <a:chExt cx="1844640" cy="377280"/>
              </a:xfrm>
            </p:grpSpPr>
            <p:sp>
              <p:nvSpPr>
                <p:cNvPr id="871" name=""/>
                <p:cNvSpPr/>
                <p:nvPr/>
              </p:nvSpPr>
              <p:spPr>
                <a:xfrm>
                  <a:off x="1046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
                <p:cNvSpPr/>
                <p:nvPr/>
              </p:nvSpPr>
              <p:spPr>
                <a:xfrm>
                  <a:off x="995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2840760" y="2922120"/>
                <a:ext cx="1844640" cy="377280"/>
                <a:chOff x="2840760" y="2922120"/>
                <a:chExt cx="1844640" cy="377280"/>
              </a:xfrm>
            </p:grpSpPr>
            <p:sp>
              <p:nvSpPr>
                <p:cNvPr id="874" name=""/>
                <p:cNvSpPr/>
                <p:nvPr/>
              </p:nvSpPr>
              <p:spPr>
                <a:xfrm>
                  <a:off x="2891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
                <p:cNvSpPr/>
                <p:nvPr/>
              </p:nvSpPr>
              <p:spPr>
                <a:xfrm>
                  <a:off x="2840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4685760" y="2922120"/>
                <a:ext cx="1843920" cy="377280"/>
                <a:chOff x="4685760" y="2922120"/>
                <a:chExt cx="1843920" cy="377280"/>
              </a:xfrm>
            </p:grpSpPr>
            <p:sp>
              <p:nvSpPr>
                <p:cNvPr id="877" name=""/>
                <p:cNvSpPr/>
                <p:nvPr/>
              </p:nvSpPr>
              <p:spPr>
                <a:xfrm>
                  <a:off x="4736520" y="29221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4685760" y="29221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530040" y="2922120"/>
                <a:ext cx="1844640" cy="377280"/>
                <a:chOff x="6530040" y="2922120"/>
                <a:chExt cx="1844640" cy="377280"/>
              </a:xfrm>
            </p:grpSpPr>
            <p:sp>
              <p:nvSpPr>
                <p:cNvPr id="880" name=""/>
                <p:cNvSpPr/>
                <p:nvPr/>
              </p:nvSpPr>
              <p:spPr>
                <a:xfrm>
                  <a:off x="658116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
                <p:cNvSpPr/>
                <p:nvPr/>
              </p:nvSpPr>
              <p:spPr>
                <a:xfrm>
                  <a:off x="653004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995760" y="3299400"/>
                <a:ext cx="1844640" cy="377280"/>
                <a:chOff x="995760" y="3299400"/>
                <a:chExt cx="1844640" cy="377280"/>
              </a:xfrm>
            </p:grpSpPr>
            <p:sp>
              <p:nvSpPr>
                <p:cNvPr id="883" name=""/>
                <p:cNvSpPr/>
                <p:nvPr/>
              </p:nvSpPr>
              <p:spPr>
                <a:xfrm>
                  <a:off x="1046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
                <p:cNvSpPr/>
                <p:nvPr/>
              </p:nvSpPr>
              <p:spPr>
                <a:xfrm>
                  <a:off x="995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2840760" y="3299400"/>
                <a:ext cx="1844640" cy="377280"/>
                <a:chOff x="2840760" y="3299400"/>
                <a:chExt cx="1844640" cy="377280"/>
              </a:xfrm>
            </p:grpSpPr>
            <p:sp>
              <p:nvSpPr>
                <p:cNvPr id="886" name=""/>
                <p:cNvSpPr/>
                <p:nvPr/>
              </p:nvSpPr>
              <p:spPr>
                <a:xfrm>
                  <a:off x="2891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2840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4685760" y="3299400"/>
                <a:ext cx="1843920" cy="377280"/>
                <a:chOff x="4685760" y="3299400"/>
                <a:chExt cx="1843920" cy="377280"/>
              </a:xfrm>
            </p:grpSpPr>
            <p:sp>
              <p:nvSpPr>
                <p:cNvPr id="889" name=""/>
                <p:cNvSpPr/>
                <p:nvPr/>
              </p:nvSpPr>
              <p:spPr>
                <a:xfrm>
                  <a:off x="4736520" y="32994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
                <p:cNvSpPr/>
                <p:nvPr/>
              </p:nvSpPr>
              <p:spPr>
                <a:xfrm>
                  <a:off x="4685760" y="32994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6530040" y="3299400"/>
                <a:ext cx="1844640" cy="377280"/>
                <a:chOff x="6530040" y="3299400"/>
                <a:chExt cx="1844640" cy="377280"/>
              </a:xfrm>
            </p:grpSpPr>
            <p:sp>
              <p:nvSpPr>
                <p:cNvPr id="892" name=""/>
                <p:cNvSpPr/>
                <p:nvPr/>
              </p:nvSpPr>
              <p:spPr>
                <a:xfrm>
                  <a:off x="658116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
                <p:cNvSpPr/>
                <p:nvPr/>
              </p:nvSpPr>
              <p:spPr>
                <a:xfrm>
                  <a:off x="653004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995760" y="3676680"/>
                <a:ext cx="1844640" cy="377280"/>
                <a:chOff x="995760" y="3676680"/>
                <a:chExt cx="1844640" cy="377280"/>
              </a:xfrm>
            </p:grpSpPr>
            <p:sp>
              <p:nvSpPr>
                <p:cNvPr id="895" name=""/>
                <p:cNvSpPr/>
                <p:nvPr/>
              </p:nvSpPr>
              <p:spPr>
                <a:xfrm>
                  <a:off x="1046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
                <p:cNvSpPr/>
                <p:nvPr/>
              </p:nvSpPr>
              <p:spPr>
                <a:xfrm>
                  <a:off x="995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2840760" y="3676680"/>
                <a:ext cx="1844640" cy="377280"/>
                <a:chOff x="2840760" y="3676680"/>
                <a:chExt cx="1844640" cy="377280"/>
              </a:xfrm>
            </p:grpSpPr>
            <p:sp>
              <p:nvSpPr>
                <p:cNvPr id="898" name=""/>
                <p:cNvSpPr/>
                <p:nvPr/>
              </p:nvSpPr>
              <p:spPr>
                <a:xfrm>
                  <a:off x="2891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
                <p:cNvSpPr/>
                <p:nvPr/>
              </p:nvSpPr>
              <p:spPr>
                <a:xfrm>
                  <a:off x="2840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4685760" y="3676680"/>
                <a:ext cx="1843920" cy="377280"/>
                <a:chOff x="4685760" y="3676680"/>
                <a:chExt cx="1843920" cy="377280"/>
              </a:xfrm>
            </p:grpSpPr>
            <p:sp>
              <p:nvSpPr>
                <p:cNvPr id="901" name=""/>
                <p:cNvSpPr/>
                <p:nvPr/>
              </p:nvSpPr>
              <p:spPr>
                <a:xfrm>
                  <a:off x="4736520" y="367668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
                <p:cNvSpPr/>
                <p:nvPr/>
              </p:nvSpPr>
              <p:spPr>
                <a:xfrm>
                  <a:off x="4685760" y="367668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6530040" y="3676680"/>
                <a:ext cx="1844640" cy="377280"/>
                <a:chOff x="6530040" y="3676680"/>
                <a:chExt cx="1844640" cy="377280"/>
              </a:xfrm>
            </p:grpSpPr>
            <p:sp>
              <p:nvSpPr>
                <p:cNvPr id="904" name=""/>
                <p:cNvSpPr/>
                <p:nvPr/>
              </p:nvSpPr>
              <p:spPr>
                <a:xfrm>
                  <a:off x="658116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653004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995760" y="4053960"/>
                <a:ext cx="1844640" cy="377280"/>
                <a:chOff x="995760" y="4053960"/>
                <a:chExt cx="1844640" cy="377280"/>
              </a:xfrm>
            </p:grpSpPr>
            <p:sp>
              <p:nvSpPr>
                <p:cNvPr id="907" name=""/>
                <p:cNvSpPr/>
                <p:nvPr/>
              </p:nvSpPr>
              <p:spPr>
                <a:xfrm>
                  <a:off x="1046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
                <p:cNvSpPr/>
                <p:nvPr/>
              </p:nvSpPr>
              <p:spPr>
                <a:xfrm>
                  <a:off x="995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2840760" y="4053960"/>
                <a:ext cx="1844640" cy="377280"/>
                <a:chOff x="2840760" y="4053960"/>
                <a:chExt cx="1844640" cy="377280"/>
              </a:xfrm>
            </p:grpSpPr>
            <p:sp>
              <p:nvSpPr>
                <p:cNvPr id="910" name=""/>
                <p:cNvSpPr/>
                <p:nvPr/>
              </p:nvSpPr>
              <p:spPr>
                <a:xfrm>
                  <a:off x="2891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
                <p:cNvSpPr/>
                <p:nvPr/>
              </p:nvSpPr>
              <p:spPr>
                <a:xfrm>
                  <a:off x="2840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685760" y="4053960"/>
                <a:ext cx="1843920" cy="377280"/>
                <a:chOff x="4685760" y="4053960"/>
                <a:chExt cx="1843920" cy="377280"/>
              </a:xfrm>
            </p:grpSpPr>
            <p:sp>
              <p:nvSpPr>
                <p:cNvPr id="913" name=""/>
                <p:cNvSpPr/>
                <p:nvPr/>
              </p:nvSpPr>
              <p:spPr>
                <a:xfrm>
                  <a:off x="4736520" y="405396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
                <p:cNvSpPr/>
                <p:nvPr/>
              </p:nvSpPr>
              <p:spPr>
                <a:xfrm>
                  <a:off x="4685760" y="405396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530040" y="4053960"/>
                <a:ext cx="1844640" cy="377280"/>
                <a:chOff x="6530040" y="4053960"/>
                <a:chExt cx="1844640" cy="377280"/>
              </a:xfrm>
            </p:grpSpPr>
            <p:sp>
              <p:nvSpPr>
                <p:cNvPr id="916" name=""/>
                <p:cNvSpPr/>
                <p:nvPr/>
              </p:nvSpPr>
              <p:spPr>
                <a:xfrm>
                  <a:off x="658116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
                <p:cNvSpPr/>
                <p:nvPr/>
              </p:nvSpPr>
              <p:spPr>
                <a:xfrm>
                  <a:off x="653004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995760" y="4431240"/>
                <a:ext cx="1844640" cy="377280"/>
                <a:chOff x="995760" y="4431240"/>
                <a:chExt cx="1844640" cy="377280"/>
              </a:xfrm>
            </p:grpSpPr>
            <p:sp>
              <p:nvSpPr>
                <p:cNvPr id="919" name=""/>
                <p:cNvSpPr/>
                <p:nvPr/>
              </p:nvSpPr>
              <p:spPr>
                <a:xfrm>
                  <a:off x="1046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
                <p:cNvSpPr/>
                <p:nvPr/>
              </p:nvSpPr>
              <p:spPr>
                <a:xfrm>
                  <a:off x="995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2840760" y="4431240"/>
                <a:ext cx="1844640" cy="377280"/>
                <a:chOff x="2840760" y="4431240"/>
                <a:chExt cx="1844640" cy="377280"/>
              </a:xfrm>
            </p:grpSpPr>
            <p:sp>
              <p:nvSpPr>
                <p:cNvPr id="922" name=""/>
                <p:cNvSpPr/>
                <p:nvPr/>
              </p:nvSpPr>
              <p:spPr>
                <a:xfrm>
                  <a:off x="2891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
                <p:cNvSpPr/>
                <p:nvPr/>
              </p:nvSpPr>
              <p:spPr>
                <a:xfrm>
                  <a:off x="2840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4685760" y="4431240"/>
                <a:ext cx="1843920" cy="377280"/>
                <a:chOff x="4685760" y="4431240"/>
                <a:chExt cx="1843920" cy="377280"/>
              </a:xfrm>
            </p:grpSpPr>
            <p:sp>
              <p:nvSpPr>
                <p:cNvPr id="925" name=""/>
                <p:cNvSpPr/>
                <p:nvPr/>
              </p:nvSpPr>
              <p:spPr>
                <a:xfrm>
                  <a:off x="4736520" y="44312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
                <p:cNvSpPr/>
                <p:nvPr/>
              </p:nvSpPr>
              <p:spPr>
                <a:xfrm>
                  <a:off x="4685760" y="44312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6530040" y="4431240"/>
                <a:ext cx="1844640" cy="377280"/>
                <a:chOff x="6530040" y="4431240"/>
                <a:chExt cx="1844640" cy="377280"/>
              </a:xfrm>
            </p:grpSpPr>
            <p:sp>
              <p:nvSpPr>
                <p:cNvPr id="928" name=""/>
                <p:cNvSpPr/>
                <p:nvPr/>
              </p:nvSpPr>
              <p:spPr>
                <a:xfrm>
                  <a:off x="658116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653004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995760" y="4808520"/>
                <a:ext cx="1844640" cy="377280"/>
                <a:chOff x="995760" y="4808520"/>
                <a:chExt cx="1844640" cy="377280"/>
              </a:xfrm>
            </p:grpSpPr>
            <p:sp>
              <p:nvSpPr>
                <p:cNvPr id="931" name=""/>
                <p:cNvSpPr/>
                <p:nvPr/>
              </p:nvSpPr>
              <p:spPr>
                <a:xfrm>
                  <a:off x="1046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
                <p:cNvSpPr/>
                <p:nvPr/>
              </p:nvSpPr>
              <p:spPr>
                <a:xfrm>
                  <a:off x="995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2840760" y="4808520"/>
                <a:ext cx="1844640" cy="377280"/>
                <a:chOff x="2840760" y="4808520"/>
                <a:chExt cx="1844640" cy="377280"/>
              </a:xfrm>
            </p:grpSpPr>
            <p:sp>
              <p:nvSpPr>
                <p:cNvPr id="934" name=""/>
                <p:cNvSpPr/>
                <p:nvPr/>
              </p:nvSpPr>
              <p:spPr>
                <a:xfrm>
                  <a:off x="2891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2840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4685760" y="4808520"/>
                <a:ext cx="1843920" cy="377280"/>
                <a:chOff x="4685760" y="4808520"/>
                <a:chExt cx="1843920" cy="377280"/>
              </a:xfrm>
            </p:grpSpPr>
            <p:sp>
              <p:nvSpPr>
                <p:cNvPr id="937" name=""/>
                <p:cNvSpPr/>
                <p:nvPr/>
              </p:nvSpPr>
              <p:spPr>
                <a:xfrm>
                  <a:off x="4736520" y="48085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
                <p:cNvSpPr/>
                <p:nvPr/>
              </p:nvSpPr>
              <p:spPr>
                <a:xfrm>
                  <a:off x="4685760" y="48085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530040" y="4808520"/>
                <a:ext cx="1844640" cy="377280"/>
                <a:chOff x="6530040" y="4808520"/>
                <a:chExt cx="1844640" cy="377280"/>
              </a:xfrm>
            </p:grpSpPr>
            <p:sp>
              <p:nvSpPr>
                <p:cNvPr id="940" name=""/>
                <p:cNvSpPr/>
                <p:nvPr/>
              </p:nvSpPr>
              <p:spPr>
                <a:xfrm>
                  <a:off x="658116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
                <p:cNvSpPr/>
                <p:nvPr/>
              </p:nvSpPr>
              <p:spPr>
                <a:xfrm>
                  <a:off x="653004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995760" y="5185800"/>
                <a:ext cx="1844640" cy="377280"/>
                <a:chOff x="995760" y="5185800"/>
                <a:chExt cx="1844640" cy="377280"/>
              </a:xfrm>
            </p:grpSpPr>
            <p:sp>
              <p:nvSpPr>
                <p:cNvPr id="943" name=""/>
                <p:cNvSpPr/>
                <p:nvPr/>
              </p:nvSpPr>
              <p:spPr>
                <a:xfrm>
                  <a:off x="1046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995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2840760" y="5185800"/>
                <a:ext cx="1844640" cy="377280"/>
                <a:chOff x="2840760" y="5185800"/>
                <a:chExt cx="1844640" cy="377280"/>
              </a:xfrm>
            </p:grpSpPr>
            <p:sp>
              <p:nvSpPr>
                <p:cNvPr id="946" name=""/>
                <p:cNvSpPr/>
                <p:nvPr/>
              </p:nvSpPr>
              <p:spPr>
                <a:xfrm>
                  <a:off x="2891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2840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4685760" y="5185800"/>
                <a:ext cx="1843920" cy="377280"/>
                <a:chOff x="4685760" y="5185800"/>
                <a:chExt cx="1843920" cy="377280"/>
              </a:xfrm>
            </p:grpSpPr>
            <p:sp>
              <p:nvSpPr>
                <p:cNvPr id="949" name=""/>
                <p:cNvSpPr/>
                <p:nvPr/>
              </p:nvSpPr>
              <p:spPr>
                <a:xfrm>
                  <a:off x="4736520" y="51858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4685760" y="51858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6530040" y="5185800"/>
                <a:ext cx="1844640" cy="377280"/>
                <a:chOff x="6530040" y="5185800"/>
                <a:chExt cx="1844640" cy="377280"/>
              </a:xfrm>
            </p:grpSpPr>
            <p:sp>
              <p:nvSpPr>
                <p:cNvPr id="952" name=""/>
                <p:cNvSpPr/>
                <p:nvPr/>
              </p:nvSpPr>
              <p:spPr>
                <a:xfrm>
                  <a:off x="658116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
                <p:cNvSpPr/>
                <p:nvPr/>
              </p:nvSpPr>
              <p:spPr>
                <a:xfrm>
                  <a:off x="653004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995760" y="5563440"/>
                <a:ext cx="1844640" cy="377280"/>
                <a:chOff x="995760" y="5563440"/>
                <a:chExt cx="1844640" cy="377280"/>
              </a:xfrm>
            </p:grpSpPr>
            <p:sp>
              <p:nvSpPr>
                <p:cNvPr id="955" name=""/>
                <p:cNvSpPr/>
                <p:nvPr/>
              </p:nvSpPr>
              <p:spPr>
                <a:xfrm>
                  <a:off x="1046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995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840760" y="5563440"/>
                <a:ext cx="1844640" cy="377280"/>
                <a:chOff x="2840760" y="5563440"/>
                <a:chExt cx="1844640" cy="377280"/>
              </a:xfrm>
            </p:grpSpPr>
            <p:sp>
              <p:nvSpPr>
                <p:cNvPr id="958" name=""/>
                <p:cNvSpPr/>
                <p:nvPr/>
              </p:nvSpPr>
              <p:spPr>
                <a:xfrm>
                  <a:off x="2891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2840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4685760" y="5563440"/>
                <a:ext cx="1843920" cy="377280"/>
                <a:chOff x="4685760" y="5563440"/>
                <a:chExt cx="1843920" cy="377280"/>
              </a:xfrm>
            </p:grpSpPr>
            <p:sp>
              <p:nvSpPr>
                <p:cNvPr id="961" name=""/>
                <p:cNvSpPr/>
                <p:nvPr/>
              </p:nvSpPr>
              <p:spPr>
                <a:xfrm>
                  <a:off x="4736520" y="55634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4685760" y="55634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6530040" y="5563440"/>
                <a:ext cx="1844640" cy="377280"/>
                <a:chOff x="6530040" y="5563440"/>
                <a:chExt cx="1844640" cy="377280"/>
              </a:xfrm>
            </p:grpSpPr>
            <p:sp>
              <p:nvSpPr>
                <p:cNvPr id="964" name=""/>
                <p:cNvSpPr/>
                <p:nvPr/>
              </p:nvSpPr>
              <p:spPr>
                <a:xfrm>
                  <a:off x="658116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
                <p:cNvSpPr/>
                <p:nvPr/>
              </p:nvSpPr>
              <p:spPr>
                <a:xfrm>
                  <a:off x="653004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6" name=""/>
            <p:cNvSpPr/>
            <p:nvPr/>
          </p:nvSpPr>
          <p:spPr>
            <a:xfrm>
              <a:off x="990720" y="2057400"/>
              <a:ext cx="7390800" cy="3886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67" name="Logo%20Ced%20color%20art" descr=""/>
          <p:cNvPicPr/>
          <p:nvPr/>
        </p:nvPicPr>
        <p:blipFill>
          <a:blip r:embed="rId1"/>
          <a:stretch/>
        </p:blipFill>
        <p:spPr>
          <a:xfrm>
            <a:off x="457200" y="304920"/>
            <a:ext cx="906480" cy="465120"/>
          </a:xfrm>
          <a:prstGeom prst="rect">
            <a:avLst/>
          </a:prstGeom>
          <a:ln w="0">
            <a:noFill/>
          </a:ln>
        </p:spPr>
      </p:pic>
      <p:pic>
        <p:nvPicPr>
          <p:cNvPr id="968"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 un nuevo Estado</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sp>
        <p:nvSpPr>
          <p:cNvPr id="9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Articular una visión de país y una estrategia de desarrollo que convoque y movilice a los principales actores sociales y liderar su implement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estabilidad política y equilibrios macroeconómico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Velar por el buen funcionamiento de los mercados (más competencia y mejor regul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mínimos sociales y acceso a oportunidade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Incentivar la acumulación de capital social</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Proveer eficientemente los bienes y servicios que la sociedad le demande.</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1" name="Logo%20Ced%20color%20art" descr=""/>
          <p:cNvPicPr/>
          <p:nvPr/>
        </p:nvPicPr>
        <p:blipFill>
          <a:blip r:embed="rId1"/>
          <a:stretch/>
        </p:blipFill>
        <p:spPr>
          <a:xfrm>
            <a:off x="457200" y="304920"/>
            <a:ext cx="906480" cy="465120"/>
          </a:xfrm>
          <a:prstGeom prst="rect">
            <a:avLst/>
          </a:prstGeom>
          <a:ln w="0">
            <a:noFill/>
          </a:ln>
        </p:spPr>
      </p:pic>
      <p:pic>
        <p:nvPicPr>
          <p:cNvPr id="97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5" name="AtodoSur" descr=""/>
          <p:cNvPicPr/>
          <p:nvPr/>
        </p:nvPicPr>
        <p:blipFill>
          <a:blip r:embed="rId1"/>
          <a:stretch/>
        </p:blipFill>
        <p:spPr>
          <a:xfrm>
            <a:off x="8229600" y="304920"/>
            <a:ext cx="488880" cy="671400"/>
          </a:xfrm>
          <a:prstGeom prst="rect">
            <a:avLst/>
          </a:prstGeom>
          <a:ln w="0">
            <a:noFill/>
          </a:ln>
        </p:spPr>
      </p:pic>
      <p:pic>
        <p:nvPicPr>
          <p:cNvPr id="976"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9" name="Logo%20Ced%20color%20art" descr=""/>
          <p:cNvPicPr/>
          <p:nvPr/>
        </p:nvPicPr>
        <p:blipFill>
          <a:blip r:embed="rId1"/>
          <a:stretch/>
        </p:blipFill>
        <p:spPr>
          <a:xfrm>
            <a:off x="457200" y="304920"/>
            <a:ext cx="906480" cy="465120"/>
          </a:xfrm>
          <a:prstGeom prst="rect">
            <a:avLst/>
          </a:prstGeom>
          <a:ln w="0">
            <a:noFill/>
          </a:ln>
        </p:spPr>
      </p:pic>
      <p:pic>
        <p:nvPicPr>
          <p:cNvPr id="980"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3" name="Logo%20Ced%20color%20art" descr=""/>
          <p:cNvPicPr/>
          <p:nvPr/>
        </p:nvPicPr>
        <p:blipFill>
          <a:blip r:embed="rId1"/>
          <a:stretch/>
        </p:blipFill>
        <p:spPr>
          <a:xfrm>
            <a:off x="457200" y="304920"/>
            <a:ext cx="906480" cy="465120"/>
          </a:xfrm>
          <a:prstGeom prst="rect">
            <a:avLst/>
          </a:prstGeom>
          <a:ln w="0">
            <a:noFill/>
          </a:ln>
        </p:spPr>
      </p:pic>
      <p:pic>
        <p:nvPicPr>
          <p:cNvPr id="98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stemos condenados a esperar inversiones extranjeras </a:t>
            </a:r>
            <a:br>
              <a:rPr sz="2800"/>
            </a:br>
            <a:r>
              <a:rPr b="0" lang="es-ES" sz="2800" spc="-1" strike="noStrike">
                <a:solidFill>
                  <a:srgbClr val="000000"/>
                </a:solidFill>
                <a:latin typeface="Times New Roman"/>
              </a:rPr>
              <a:t>ni reactivaciones externas</a:t>
            </a:r>
            <a:br>
              <a:rPr sz="2800"/>
            </a:br>
            <a:r>
              <a:rPr b="0" lang="es-ES" sz="2000" spc="-1" strike="noStrike">
                <a:solidFill>
                  <a:srgbClr val="000000"/>
                </a:solidFill>
                <a:latin typeface="Times New Roman"/>
              </a:rPr>
              <a:t>(Ricardo Ffrench-Davis, Crecimiento Económico con Equidad; 2003)</a:t>
            </a:r>
            <a:endParaRPr b="0" lang="en-US" sz="2000" spc="-1" strike="noStrike">
              <a:solidFill>
                <a:srgbClr val="000000"/>
              </a:solidFill>
              <a:latin typeface="Times New Roman"/>
            </a:endParaRPr>
          </a:p>
        </p:txBody>
      </p:sp>
      <p:sp>
        <p:nvSpPr>
          <p:cNvPr id="986"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7" name="" descr=""/>
          <p:cNvPicPr/>
          <p:nvPr/>
        </p:nvPicPr>
        <p:blipFill>
          <a:blip r:embed="rId1"/>
          <a:stretch/>
        </p:blipFill>
        <p:spPr>
          <a:xfrm>
            <a:off x="0" y="2747880"/>
            <a:ext cx="8839080" cy="3043440"/>
          </a:xfrm>
          <a:prstGeom prst="rect">
            <a:avLst/>
          </a:prstGeom>
          <a:ln w="0">
            <a:noFill/>
          </a:ln>
        </p:spPr>
      </p:pic>
      <p:pic>
        <p:nvPicPr>
          <p:cNvPr id="988" name="Logo%20Ced%20color%20art" descr=""/>
          <p:cNvPicPr/>
          <p:nvPr/>
        </p:nvPicPr>
        <p:blipFill>
          <a:blip r:embed="rId2"/>
          <a:stretch/>
        </p:blipFill>
        <p:spPr>
          <a:xfrm>
            <a:off x="457200" y="304920"/>
            <a:ext cx="906480" cy="465120"/>
          </a:xfrm>
          <a:prstGeom prst="rect">
            <a:avLst/>
          </a:prstGeom>
          <a:ln w="0">
            <a:noFill/>
          </a:ln>
        </p:spPr>
      </p:pic>
      <p:pic>
        <p:nvPicPr>
          <p:cNvPr id="98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Logo%20Ced%20color%20art" descr=""/>
          <p:cNvPicPr/>
          <p:nvPr/>
        </p:nvPicPr>
        <p:blipFill>
          <a:blip r:embed="rId1"/>
          <a:stretch/>
        </p:blipFill>
        <p:spPr>
          <a:xfrm>
            <a:off x="457200" y="304920"/>
            <a:ext cx="906480" cy="465120"/>
          </a:xfrm>
          <a:prstGeom prst="rect">
            <a:avLst/>
          </a:prstGeom>
          <a:ln w="0">
            <a:noFill/>
          </a:ln>
        </p:spPr>
      </p:pic>
      <p:pic>
        <p:nvPicPr>
          <p:cNvPr id="57" name="AtodoSur"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BD00028_" descr=""/>
          <p:cNvPicPr/>
          <p:nvPr/>
        </p:nvPicPr>
        <p:blipFill>
          <a:blip r:embed="rId3"/>
          <a:stretch/>
        </p:blipFill>
        <p:spPr>
          <a:xfrm>
            <a:off x="762120" y="228600"/>
            <a:ext cx="8381880" cy="6629400"/>
          </a:xfrm>
          <a:prstGeom prst="rect">
            <a:avLst/>
          </a:prstGeom>
          <a:ln w="0">
            <a:noFill/>
          </a:ln>
        </p:spPr>
      </p:pic>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que necesitamos una sociedad civil más fuerte</a:t>
            </a:r>
            <a:endParaRPr b="0" lang="en-US" sz="4400" spc="-1" strike="noStrike">
              <a:solidFill>
                <a:srgbClr val="000000"/>
              </a:solidFill>
              <a:latin typeface="Times New Roman"/>
            </a:endParaRPr>
          </a:p>
        </p:txBody>
      </p:sp>
      <p:grpSp>
        <p:nvGrpSpPr>
          <p:cNvPr id="991" name=""/>
          <p:cNvGrpSpPr/>
          <p:nvPr/>
        </p:nvGrpSpPr>
        <p:grpSpPr>
          <a:xfrm>
            <a:off x="0" y="1905120"/>
            <a:ext cx="9143640" cy="4495680"/>
            <a:chOff x="0" y="1905120"/>
            <a:chExt cx="9143640" cy="4495680"/>
          </a:xfrm>
        </p:grpSpPr>
        <p:grpSp>
          <p:nvGrpSpPr>
            <p:cNvPr id="992" name=""/>
            <p:cNvGrpSpPr/>
            <p:nvPr/>
          </p:nvGrpSpPr>
          <p:grpSpPr>
            <a:xfrm>
              <a:off x="6480" y="1906560"/>
              <a:ext cx="9128880" cy="4492080"/>
              <a:chOff x="6480" y="1906560"/>
              <a:chExt cx="9128880" cy="4492080"/>
            </a:xfrm>
          </p:grpSpPr>
          <p:grpSp>
            <p:nvGrpSpPr>
              <p:cNvPr id="993" name=""/>
              <p:cNvGrpSpPr/>
              <p:nvPr/>
            </p:nvGrpSpPr>
            <p:grpSpPr>
              <a:xfrm>
                <a:off x="6480" y="1906560"/>
                <a:ext cx="3986640" cy="299880"/>
                <a:chOff x="6480" y="1906560"/>
                <a:chExt cx="3986640" cy="299880"/>
              </a:xfrm>
            </p:grpSpPr>
            <p:sp>
              <p:nvSpPr>
                <p:cNvPr id="994" name=""/>
                <p:cNvSpPr/>
                <p:nvPr/>
              </p:nvSpPr>
              <p:spPr>
                <a:xfrm>
                  <a:off x="69480" y="1906560"/>
                  <a:ext cx="385956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5" name=""/>
                <p:cNvSpPr/>
                <p:nvPr/>
              </p:nvSpPr>
              <p:spPr>
                <a:xfrm>
                  <a:off x="6480" y="1906560"/>
                  <a:ext cx="39866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3993480" y="1906560"/>
                <a:ext cx="1542240" cy="299880"/>
                <a:chOff x="3993480" y="1906560"/>
                <a:chExt cx="1542240" cy="299880"/>
              </a:xfrm>
            </p:grpSpPr>
            <p:sp>
              <p:nvSpPr>
                <p:cNvPr id="997" name=""/>
                <p:cNvSpPr/>
                <p:nvPr/>
              </p:nvSpPr>
              <p:spPr>
                <a:xfrm>
                  <a:off x="4056480" y="1906560"/>
                  <a:ext cx="141588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
                <p:cNvSpPr/>
                <p:nvPr/>
              </p:nvSpPr>
              <p:spPr>
                <a:xfrm>
                  <a:off x="3993480" y="1906560"/>
                  <a:ext cx="15422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536440" y="1906560"/>
                <a:ext cx="1799280" cy="299880"/>
                <a:chOff x="5536440" y="1906560"/>
                <a:chExt cx="1799280" cy="299880"/>
              </a:xfrm>
            </p:grpSpPr>
            <p:sp>
              <p:nvSpPr>
                <p:cNvPr id="1000" name=""/>
                <p:cNvSpPr/>
                <p:nvPr/>
              </p:nvSpPr>
              <p:spPr>
                <a:xfrm>
                  <a:off x="560016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553644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7336080" y="1906560"/>
                <a:ext cx="1799280" cy="299880"/>
                <a:chOff x="7336080" y="1906560"/>
                <a:chExt cx="1799280" cy="299880"/>
              </a:xfrm>
            </p:grpSpPr>
            <p:sp>
              <p:nvSpPr>
                <p:cNvPr id="1003" name=""/>
                <p:cNvSpPr/>
                <p:nvPr/>
              </p:nvSpPr>
              <p:spPr>
                <a:xfrm>
                  <a:off x="739980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
                <p:cNvSpPr/>
                <p:nvPr/>
              </p:nvSpPr>
              <p:spPr>
                <a:xfrm>
                  <a:off x="733608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6480" y="2206440"/>
                <a:ext cx="3986640" cy="222480"/>
                <a:chOff x="6480" y="2206440"/>
                <a:chExt cx="3986640" cy="222480"/>
              </a:xfrm>
            </p:grpSpPr>
            <p:sp>
              <p:nvSpPr>
                <p:cNvPr id="1006" name=""/>
                <p:cNvSpPr/>
                <p:nvPr/>
              </p:nvSpPr>
              <p:spPr>
                <a:xfrm>
                  <a:off x="69480" y="2206440"/>
                  <a:ext cx="3859560" cy="22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6480" y="2206440"/>
                  <a:ext cx="39866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3993480" y="2206440"/>
                <a:ext cx="1542240" cy="222480"/>
                <a:chOff x="3993480" y="2206440"/>
                <a:chExt cx="1542240" cy="222480"/>
              </a:xfrm>
            </p:grpSpPr>
            <p:sp>
              <p:nvSpPr>
                <p:cNvPr id="1009" name=""/>
                <p:cNvSpPr/>
                <p:nvPr/>
              </p:nvSpPr>
              <p:spPr>
                <a:xfrm>
                  <a:off x="4056480" y="2206440"/>
                  <a:ext cx="141588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0" name=""/>
                <p:cNvSpPr/>
                <p:nvPr/>
              </p:nvSpPr>
              <p:spPr>
                <a:xfrm>
                  <a:off x="3993480" y="2206440"/>
                  <a:ext cx="15422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536440" y="2206440"/>
                <a:ext cx="1799280" cy="222480"/>
                <a:chOff x="5536440" y="2206440"/>
                <a:chExt cx="1799280" cy="222480"/>
              </a:xfrm>
            </p:grpSpPr>
            <p:sp>
              <p:nvSpPr>
                <p:cNvPr id="1012" name=""/>
                <p:cNvSpPr/>
                <p:nvPr/>
              </p:nvSpPr>
              <p:spPr>
                <a:xfrm>
                  <a:off x="560016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3" name=""/>
                <p:cNvSpPr/>
                <p:nvPr/>
              </p:nvSpPr>
              <p:spPr>
                <a:xfrm>
                  <a:off x="553644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7336080" y="2206440"/>
                <a:ext cx="1799280" cy="222480"/>
                <a:chOff x="7336080" y="2206440"/>
                <a:chExt cx="1799280" cy="222480"/>
              </a:xfrm>
            </p:grpSpPr>
            <p:sp>
              <p:nvSpPr>
                <p:cNvPr id="1015" name=""/>
                <p:cNvSpPr/>
                <p:nvPr/>
              </p:nvSpPr>
              <p:spPr>
                <a:xfrm>
                  <a:off x="739980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733608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480" y="2429280"/>
                <a:ext cx="3986640" cy="233280"/>
                <a:chOff x="6480" y="2429280"/>
                <a:chExt cx="3986640" cy="233280"/>
              </a:xfrm>
            </p:grpSpPr>
            <p:sp>
              <p:nvSpPr>
                <p:cNvPr id="1018" name=""/>
                <p:cNvSpPr/>
                <p:nvPr/>
              </p:nvSpPr>
              <p:spPr>
                <a:xfrm>
                  <a:off x="69480" y="24292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
                <p:cNvSpPr/>
                <p:nvPr/>
              </p:nvSpPr>
              <p:spPr>
                <a:xfrm>
                  <a:off x="6480" y="24292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3993480" y="2429280"/>
                <a:ext cx="1542240" cy="233280"/>
                <a:chOff x="3993480" y="2429280"/>
                <a:chExt cx="1542240" cy="233280"/>
              </a:xfrm>
            </p:grpSpPr>
            <p:sp>
              <p:nvSpPr>
                <p:cNvPr id="1021" name=""/>
                <p:cNvSpPr/>
                <p:nvPr/>
              </p:nvSpPr>
              <p:spPr>
                <a:xfrm>
                  <a:off x="4056480" y="24292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
                <p:cNvSpPr/>
                <p:nvPr/>
              </p:nvSpPr>
              <p:spPr>
                <a:xfrm>
                  <a:off x="3993480" y="24292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5536440" y="2429280"/>
                <a:ext cx="1799280" cy="233280"/>
                <a:chOff x="5536440" y="2429280"/>
                <a:chExt cx="1799280" cy="233280"/>
              </a:xfrm>
            </p:grpSpPr>
            <p:sp>
              <p:nvSpPr>
                <p:cNvPr id="1024" name=""/>
                <p:cNvSpPr/>
                <p:nvPr/>
              </p:nvSpPr>
              <p:spPr>
                <a:xfrm>
                  <a:off x="560016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
                <p:cNvSpPr/>
                <p:nvPr/>
              </p:nvSpPr>
              <p:spPr>
                <a:xfrm>
                  <a:off x="553644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7336080" y="2429280"/>
                <a:ext cx="1799280" cy="233280"/>
                <a:chOff x="7336080" y="2429280"/>
                <a:chExt cx="1799280" cy="233280"/>
              </a:xfrm>
            </p:grpSpPr>
            <p:sp>
              <p:nvSpPr>
                <p:cNvPr id="1027" name=""/>
                <p:cNvSpPr/>
                <p:nvPr/>
              </p:nvSpPr>
              <p:spPr>
                <a:xfrm>
                  <a:off x="739980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
                <p:cNvSpPr/>
                <p:nvPr/>
              </p:nvSpPr>
              <p:spPr>
                <a:xfrm>
                  <a:off x="733608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6480" y="2662560"/>
                <a:ext cx="3986640" cy="233280"/>
                <a:chOff x="6480" y="2662560"/>
                <a:chExt cx="3986640" cy="233280"/>
              </a:xfrm>
            </p:grpSpPr>
            <p:sp>
              <p:nvSpPr>
                <p:cNvPr id="1030" name=""/>
                <p:cNvSpPr/>
                <p:nvPr/>
              </p:nvSpPr>
              <p:spPr>
                <a:xfrm>
                  <a:off x="69480" y="26625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
                <p:cNvSpPr/>
                <p:nvPr/>
              </p:nvSpPr>
              <p:spPr>
                <a:xfrm>
                  <a:off x="6480" y="26625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3993480" y="2662560"/>
                <a:ext cx="1542240" cy="233280"/>
                <a:chOff x="3993480" y="2662560"/>
                <a:chExt cx="1542240" cy="233280"/>
              </a:xfrm>
            </p:grpSpPr>
            <p:sp>
              <p:nvSpPr>
                <p:cNvPr id="1033" name=""/>
                <p:cNvSpPr/>
                <p:nvPr/>
              </p:nvSpPr>
              <p:spPr>
                <a:xfrm>
                  <a:off x="4056480" y="26625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
                <p:cNvSpPr/>
                <p:nvPr/>
              </p:nvSpPr>
              <p:spPr>
                <a:xfrm>
                  <a:off x="3993480" y="26625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5536440" y="2662560"/>
                <a:ext cx="1799280" cy="233280"/>
                <a:chOff x="5536440" y="2662560"/>
                <a:chExt cx="1799280" cy="233280"/>
              </a:xfrm>
            </p:grpSpPr>
            <p:sp>
              <p:nvSpPr>
                <p:cNvPr id="1036" name=""/>
                <p:cNvSpPr/>
                <p:nvPr/>
              </p:nvSpPr>
              <p:spPr>
                <a:xfrm>
                  <a:off x="560016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
                <p:cNvSpPr/>
                <p:nvPr/>
              </p:nvSpPr>
              <p:spPr>
                <a:xfrm>
                  <a:off x="553644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336080" y="2662560"/>
                <a:ext cx="1799280" cy="233280"/>
                <a:chOff x="7336080" y="2662560"/>
                <a:chExt cx="1799280" cy="233280"/>
              </a:xfrm>
            </p:grpSpPr>
            <p:sp>
              <p:nvSpPr>
                <p:cNvPr id="1039" name=""/>
                <p:cNvSpPr/>
                <p:nvPr/>
              </p:nvSpPr>
              <p:spPr>
                <a:xfrm>
                  <a:off x="739980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
                <p:cNvSpPr/>
                <p:nvPr/>
              </p:nvSpPr>
              <p:spPr>
                <a:xfrm>
                  <a:off x="733608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6480" y="2896200"/>
                <a:ext cx="3986640" cy="233280"/>
                <a:chOff x="6480" y="2896200"/>
                <a:chExt cx="3986640" cy="233280"/>
              </a:xfrm>
            </p:grpSpPr>
            <p:sp>
              <p:nvSpPr>
                <p:cNvPr id="1042" name=""/>
                <p:cNvSpPr/>
                <p:nvPr/>
              </p:nvSpPr>
              <p:spPr>
                <a:xfrm>
                  <a:off x="69480" y="28962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
                <p:cNvSpPr/>
                <p:nvPr/>
              </p:nvSpPr>
              <p:spPr>
                <a:xfrm>
                  <a:off x="6480" y="28962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3993480" y="2896200"/>
                <a:ext cx="1542240" cy="233280"/>
                <a:chOff x="3993480" y="2896200"/>
                <a:chExt cx="1542240" cy="233280"/>
              </a:xfrm>
            </p:grpSpPr>
            <p:sp>
              <p:nvSpPr>
                <p:cNvPr id="1045" name=""/>
                <p:cNvSpPr/>
                <p:nvPr/>
              </p:nvSpPr>
              <p:spPr>
                <a:xfrm>
                  <a:off x="4056480" y="28962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
                <p:cNvSpPr/>
                <p:nvPr/>
              </p:nvSpPr>
              <p:spPr>
                <a:xfrm>
                  <a:off x="3993480" y="28962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536440" y="2896200"/>
                <a:ext cx="1799280" cy="233280"/>
                <a:chOff x="5536440" y="2896200"/>
                <a:chExt cx="1799280" cy="233280"/>
              </a:xfrm>
            </p:grpSpPr>
            <p:sp>
              <p:nvSpPr>
                <p:cNvPr id="1048" name=""/>
                <p:cNvSpPr/>
                <p:nvPr/>
              </p:nvSpPr>
              <p:spPr>
                <a:xfrm>
                  <a:off x="560016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
                <p:cNvSpPr/>
                <p:nvPr/>
              </p:nvSpPr>
              <p:spPr>
                <a:xfrm>
                  <a:off x="553644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336080" y="2896200"/>
                <a:ext cx="1799280" cy="233280"/>
                <a:chOff x="7336080" y="2896200"/>
                <a:chExt cx="1799280" cy="233280"/>
              </a:xfrm>
            </p:grpSpPr>
            <p:sp>
              <p:nvSpPr>
                <p:cNvPr id="1051" name=""/>
                <p:cNvSpPr/>
                <p:nvPr/>
              </p:nvSpPr>
              <p:spPr>
                <a:xfrm>
                  <a:off x="739980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
                <p:cNvSpPr/>
                <p:nvPr/>
              </p:nvSpPr>
              <p:spPr>
                <a:xfrm>
                  <a:off x="733608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6480" y="3129480"/>
                <a:ext cx="3986640" cy="233280"/>
                <a:chOff x="6480" y="3129480"/>
                <a:chExt cx="3986640" cy="233280"/>
              </a:xfrm>
            </p:grpSpPr>
            <p:sp>
              <p:nvSpPr>
                <p:cNvPr id="1054" name=""/>
                <p:cNvSpPr/>
                <p:nvPr/>
              </p:nvSpPr>
              <p:spPr>
                <a:xfrm>
                  <a:off x="69480" y="31294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
                <p:cNvSpPr/>
                <p:nvPr/>
              </p:nvSpPr>
              <p:spPr>
                <a:xfrm>
                  <a:off x="6480" y="31294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993480" y="3129480"/>
                <a:ext cx="1542240" cy="233280"/>
                <a:chOff x="3993480" y="3129480"/>
                <a:chExt cx="1542240" cy="233280"/>
              </a:xfrm>
            </p:grpSpPr>
            <p:sp>
              <p:nvSpPr>
                <p:cNvPr id="1057" name=""/>
                <p:cNvSpPr/>
                <p:nvPr/>
              </p:nvSpPr>
              <p:spPr>
                <a:xfrm>
                  <a:off x="4056480" y="31294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3993480" y="31294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536440" y="3129480"/>
                <a:ext cx="1799280" cy="233280"/>
                <a:chOff x="5536440" y="3129480"/>
                <a:chExt cx="1799280" cy="233280"/>
              </a:xfrm>
            </p:grpSpPr>
            <p:sp>
              <p:nvSpPr>
                <p:cNvPr id="1060" name=""/>
                <p:cNvSpPr/>
                <p:nvPr/>
              </p:nvSpPr>
              <p:spPr>
                <a:xfrm>
                  <a:off x="560016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
                <p:cNvSpPr/>
                <p:nvPr/>
              </p:nvSpPr>
              <p:spPr>
                <a:xfrm>
                  <a:off x="553644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7336080" y="3129480"/>
                <a:ext cx="1799280" cy="233280"/>
                <a:chOff x="7336080" y="3129480"/>
                <a:chExt cx="1799280" cy="233280"/>
              </a:xfrm>
            </p:grpSpPr>
            <p:sp>
              <p:nvSpPr>
                <p:cNvPr id="1063" name=""/>
                <p:cNvSpPr/>
                <p:nvPr/>
              </p:nvSpPr>
              <p:spPr>
                <a:xfrm>
                  <a:off x="739980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
                <p:cNvSpPr/>
                <p:nvPr/>
              </p:nvSpPr>
              <p:spPr>
                <a:xfrm>
                  <a:off x="733608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6480" y="3363120"/>
                <a:ext cx="3986640" cy="233280"/>
                <a:chOff x="6480" y="3363120"/>
                <a:chExt cx="3986640" cy="233280"/>
              </a:xfrm>
            </p:grpSpPr>
            <p:sp>
              <p:nvSpPr>
                <p:cNvPr id="1066" name=""/>
                <p:cNvSpPr/>
                <p:nvPr/>
              </p:nvSpPr>
              <p:spPr>
                <a:xfrm>
                  <a:off x="69480" y="33631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
                <p:cNvSpPr/>
                <p:nvPr/>
              </p:nvSpPr>
              <p:spPr>
                <a:xfrm>
                  <a:off x="6480" y="33631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3993480" y="3363120"/>
                <a:ext cx="1542240" cy="233280"/>
                <a:chOff x="3993480" y="3363120"/>
                <a:chExt cx="1542240" cy="233280"/>
              </a:xfrm>
            </p:grpSpPr>
            <p:sp>
              <p:nvSpPr>
                <p:cNvPr id="1069" name=""/>
                <p:cNvSpPr/>
                <p:nvPr/>
              </p:nvSpPr>
              <p:spPr>
                <a:xfrm>
                  <a:off x="4056480" y="33631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
                <p:cNvSpPr/>
                <p:nvPr/>
              </p:nvSpPr>
              <p:spPr>
                <a:xfrm>
                  <a:off x="3993480" y="33631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5536440" y="3363120"/>
                <a:ext cx="1799280" cy="233280"/>
                <a:chOff x="5536440" y="3363120"/>
                <a:chExt cx="1799280" cy="233280"/>
              </a:xfrm>
            </p:grpSpPr>
            <p:sp>
              <p:nvSpPr>
                <p:cNvPr id="1072" name=""/>
                <p:cNvSpPr/>
                <p:nvPr/>
              </p:nvSpPr>
              <p:spPr>
                <a:xfrm>
                  <a:off x="560016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
                <p:cNvSpPr/>
                <p:nvPr/>
              </p:nvSpPr>
              <p:spPr>
                <a:xfrm>
                  <a:off x="553644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7336080" y="3363120"/>
                <a:ext cx="1799280" cy="233280"/>
                <a:chOff x="7336080" y="3363120"/>
                <a:chExt cx="1799280" cy="233280"/>
              </a:xfrm>
            </p:grpSpPr>
            <p:sp>
              <p:nvSpPr>
                <p:cNvPr id="1075" name=""/>
                <p:cNvSpPr/>
                <p:nvPr/>
              </p:nvSpPr>
              <p:spPr>
                <a:xfrm>
                  <a:off x="739980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
                <p:cNvSpPr/>
                <p:nvPr/>
              </p:nvSpPr>
              <p:spPr>
                <a:xfrm>
                  <a:off x="733608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480" y="3596760"/>
                <a:ext cx="3986640" cy="233640"/>
                <a:chOff x="6480" y="3596760"/>
                <a:chExt cx="3986640" cy="233640"/>
              </a:xfrm>
            </p:grpSpPr>
            <p:sp>
              <p:nvSpPr>
                <p:cNvPr id="1078" name=""/>
                <p:cNvSpPr/>
                <p:nvPr/>
              </p:nvSpPr>
              <p:spPr>
                <a:xfrm>
                  <a:off x="69480" y="359676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
                <p:cNvSpPr/>
                <p:nvPr/>
              </p:nvSpPr>
              <p:spPr>
                <a:xfrm>
                  <a:off x="6480" y="359676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993480" y="3596760"/>
                <a:ext cx="1542240" cy="233640"/>
                <a:chOff x="3993480" y="3596760"/>
                <a:chExt cx="1542240" cy="233640"/>
              </a:xfrm>
            </p:grpSpPr>
            <p:sp>
              <p:nvSpPr>
                <p:cNvPr id="1081" name=""/>
                <p:cNvSpPr/>
                <p:nvPr/>
              </p:nvSpPr>
              <p:spPr>
                <a:xfrm>
                  <a:off x="4056480" y="359676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
                <p:cNvSpPr/>
                <p:nvPr/>
              </p:nvSpPr>
              <p:spPr>
                <a:xfrm>
                  <a:off x="3993480" y="359676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536440" y="3596760"/>
                <a:ext cx="1799280" cy="233640"/>
                <a:chOff x="5536440" y="3596760"/>
                <a:chExt cx="1799280" cy="233640"/>
              </a:xfrm>
            </p:grpSpPr>
            <p:sp>
              <p:nvSpPr>
                <p:cNvPr id="1084" name=""/>
                <p:cNvSpPr/>
                <p:nvPr/>
              </p:nvSpPr>
              <p:spPr>
                <a:xfrm>
                  <a:off x="560016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
                <p:cNvSpPr/>
                <p:nvPr/>
              </p:nvSpPr>
              <p:spPr>
                <a:xfrm>
                  <a:off x="553644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7336080" y="3596760"/>
                <a:ext cx="1799280" cy="233640"/>
                <a:chOff x="7336080" y="3596760"/>
                <a:chExt cx="1799280" cy="233640"/>
              </a:xfrm>
            </p:grpSpPr>
            <p:sp>
              <p:nvSpPr>
                <p:cNvPr id="1087" name=""/>
                <p:cNvSpPr/>
                <p:nvPr/>
              </p:nvSpPr>
              <p:spPr>
                <a:xfrm>
                  <a:off x="739980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
                <p:cNvSpPr/>
                <p:nvPr/>
              </p:nvSpPr>
              <p:spPr>
                <a:xfrm>
                  <a:off x="733608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6480" y="3830400"/>
                <a:ext cx="3986640" cy="233280"/>
                <a:chOff x="6480" y="3830400"/>
                <a:chExt cx="3986640" cy="233280"/>
              </a:xfrm>
            </p:grpSpPr>
            <p:sp>
              <p:nvSpPr>
                <p:cNvPr id="1090" name=""/>
                <p:cNvSpPr/>
                <p:nvPr/>
              </p:nvSpPr>
              <p:spPr>
                <a:xfrm>
                  <a:off x="69480" y="38304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
                <p:cNvSpPr/>
                <p:nvPr/>
              </p:nvSpPr>
              <p:spPr>
                <a:xfrm>
                  <a:off x="6480" y="38304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3993480" y="3830400"/>
                <a:ext cx="1542240" cy="233280"/>
                <a:chOff x="3993480" y="3830400"/>
                <a:chExt cx="1542240" cy="233280"/>
              </a:xfrm>
            </p:grpSpPr>
            <p:sp>
              <p:nvSpPr>
                <p:cNvPr id="1093" name=""/>
                <p:cNvSpPr/>
                <p:nvPr/>
              </p:nvSpPr>
              <p:spPr>
                <a:xfrm>
                  <a:off x="4056480" y="38304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
                <p:cNvSpPr/>
                <p:nvPr/>
              </p:nvSpPr>
              <p:spPr>
                <a:xfrm>
                  <a:off x="3993480" y="38304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536440" y="3830400"/>
                <a:ext cx="1799280" cy="233280"/>
                <a:chOff x="5536440" y="3830400"/>
                <a:chExt cx="1799280" cy="233280"/>
              </a:xfrm>
            </p:grpSpPr>
            <p:sp>
              <p:nvSpPr>
                <p:cNvPr id="1096" name=""/>
                <p:cNvSpPr/>
                <p:nvPr/>
              </p:nvSpPr>
              <p:spPr>
                <a:xfrm>
                  <a:off x="560016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
                <p:cNvSpPr/>
                <p:nvPr/>
              </p:nvSpPr>
              <p:spPr>
                <a:xfrm>
                  <a:off x="553644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336080" y="3830400"/>
                <a:ext cx="1799280" cy="233280"/>
                <a:chOff x="7336080" y="3830400"/>
                <a:chExt cx="1799280" cy="233280"/>
              </a:xfrm>
            </p:grpSpPr>
            <p:sp>
              <p:nvSpPr>
                <p:cNvPr id="1099" name=""/>
                <p:cNvSpPr/>
                <p:nvPr/>
              </p:nvSpPr>
              <p:spPr>
                <a:xfrm>
                  <a:off x="739980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
                <p:cNvSpPr/>
                <p:nvPr/>
              </p:nvSpPr>
              <p:spPr>
                <a:xfrm>
                  <a:off x="733608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6480" y="4063680"/>
                <a:ext cx="3986640" cy="233280"/>
                <a:chOff x="6480" y="4063680"/>
                <a:chExt cx="3986640" cy="233280"/>
              </a:xfrm>
            </p:grpSpPr>
            <p:sp>
              <p:nvSpPr>
                <p:cNvPr id="1102" name=""/>
                <p:cNvSpPr/>
                <p:nvPr/>
              </p:nvSpPr>
              <p:spPr>
                <a:xfrm>
                  <a:off x="69480" y="40636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
                <p:cNvSpPr/>
                <p:nvPr/>
              </p:nvSpPr>
              <p:spPr>
                <a:xfrm>
                  <a:off x="6480" y="40636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993480" y="4063680"/>
                <a:ext cx="1542240" cy="233280"/>
                <a:chOff x="3993480" y="4063680"/>
                <a:chExt cx="1542240" cy="233280"/>
              </a:xfrm>
            </p:grpSpPr>
            <p:sp>
              <p:nvSpPr>
                <p:cNvPr id="1105" name=""/>
                <p:cNvSpPr/>
                <p:nvPr/>
              </p:nvSpPr>
              <p:spPr>
                <a:xfrm>
                  <a:off x="4056480" y="40636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3993480" y="40636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5536440" y="4063680"/>
                <a:ext cx="1799280" cy="233280"/>
                <a:chOff x="5536440" y="4063680"/>
                <a:chExt cx="1799280" cy="233280"/>
              </a:xfrm>
            </p:grpSpPr>
            <p:sp>
              <p:nvSpPr>
                <p:cNvPr id="1108" name=""/>
                <p:cNvSpPr/>
                <p:nvPr/>
              </p:nvSpPr>
              <p:spPr>
                <a:xfrm>
                  <a:off x="560016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
                <p:cNvSpPr/>
                <p:nvPr/>
              </p:nvSpPr>
              <p:spPr>
                <a:xfrm>
                  <a:off x="553644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7336080" y="4063680"/>
                <a:ext cx="1799280" cy="233280"/>
                <a:chOff x="7336080" y="4063680"/>
                <a:chExt cx="1799280" cy="233280"/>
              </a:xfrm>
            </p:grpSpPr>
            <p:sp>
              <p:nvSpPr>
                <p:cNvPr id="1111" name=""/>
                <p:cNvSpPr/>
                <p:nvPr/>
              </p:nvSpPr>
              <p:spPr>
                <a:xfrm>
                  <a:off x="739980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33608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6480" y="4297320"/>
                <a:ext cx="3986640" cy="233280"/>
                <a:chOff x="6480" y="4297320"/>
                <a:chExt cx="3986640" cy="233280"/>
              </a:xfrm>
            </p:grpSpPr>
            <p:sp>
              <p:nvSpPr>
                <p:cNvPr id="1114" name=""/>
                <p:cNvSpPr/>
                <p:nvPr/>
              </p:nvSpPr>
              <p:spPr>
                <a:xfrm>
                  <a:off x="69480" y="42973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6480" y="42973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3993480" y="4297320"/>
                <a:ext cx="1542240" cy="233280"/>
                <a:chOff x="3993480" y="4297320"/>
                <a:chExt cx="1542240" cy="233280"/>
              </a:xfrm>
            </p:grpSpPr>
            <p:sp>
              <p:nvSpPr>
                <p:cNvPr id="1117" name=""/>
                <p:cNvSpPr/>
                <p:nvPr/>
              </p:nvSpPr>
              <p:spPr>
                <a:xfrm>
                  <a:off x="4056480" y="42973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
                <p:cNvSpPr/>
                <p:nvPr/>
              </p:nvSpPr>
              <p:spPr>
                <a:xfrm>
                  <a:off x="3993480" y="42973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536440" y="4297320"/>
                <a:ext cx="1799280" cy="233280"/>
                <a:chOff x="5536440" y="4297320"/>
                <a:chExt cx="1799280" cy="233280"/>
              </a:xfrm>
            </p:grpSpPr>
            <p:sp>
              <p:nvSpPr>
                <p:cNvPr id="1120" name=""/>
                <p:cNvSpPr/>
                <p:nvPr/>
              </p:nvSpPr>
              <p:spPr>
                <a:xfrm>
                  <a:off x="560016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553644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7336080" y="4297320"/>
                <a:ext cx="1799280" cy="233280"/>
                <a:chOff x="7336080" y="4297320"/>
                <a:chExt cx="1799280" cy="233280"/>
              </a:xfrm>
            </p:grpSpPr>
            <p:sp>
              <p:nvSpPr>
                <p:cNvPr id="1123" name=""/>
                <p:cNvSpPr/>
                <p:nvPr/>
              </p:nvSpPr>
              <p:spPr>
                <a:xfrm>
                  <a:off x="739980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4" name=""/>
                <p:cNvSpPr/>
                <p:nvPr/>
              </p:nvSpPr>
              <p:spPr>
                <a:xfrm>
                  <a:off x="733608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480" y="4530960"/>
                <a:ext cx="3986640" cy="233280"/>
                <a:chOff x="6480" y="4530960"/>
                <a:chExt cx="3986640" cy="233280"/>
              </a:xfrm>
            </p:grpSpPr>
            <p:sp>
              <p:nvSpPr>
                <p:cNvPr id="1126" name=""/>
                <p:cNvSpPr/>
                <p:nvPr/>
              </p:nvSpPr>
              <p:spPr>
                <a:xfrm>
                  <a:off x="69480" y="45309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
                <p:cNvSpPr/>
                <p:nvPr/>
              </p:nvSpPr>
              <p:spPr>
                <a:xfrm>
                  <a:off x="6480" y="45309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3993480" y="4530960"/>
                <a:ext cx="1542240" cy="233280"/>
                <a:chOff x="3993480" y="4530960"/>
                <a:chExt cx="1542240" cy="233280"/>
              </a:xfrm>
            </p:grpSpPr>
            <p:sp>
              <p:nvSpPr>
                <p:cNvPr id="1129" name=""/>
                <p:cNvSpPr/>
                <p:nvPr/>
              </p:nvSpPr>
              <p:spPr>
                <a:xfrm>
                  <a:off x="4056480" y="45309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
                <p:cNvSpPr/>
                <p:nvPr/>
              </p:nvSpPr>
              <p:spPr>
                <a:xfrm>
                  <a:off x="3993480" y="45309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5536440" y="4530960"/>
                <a:ext cx="1799280" cy="233280"/>
                <a:chOff x="5536440" y="4530960"/>
                <a:chExt cx="1799280" cy="233280"/>
              </a:xfrm>
            </p:grpSpPr>
            <p:sp>
              <p:nvSpPr>
                <p:cNvPr id="1132" name=""/>
                <p:cNvSpPr/>
                <p:nvPr/>
              </p:nvSpPr>
              <p:spPr>
                <a:xfrm>
                  <a:off x="560016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3" name=""/>
                <p:cNvSpPr/>
                <p:nvPr/>
              </p:nvSpPr>
              <p:spPr>
                <a:xfrm>
                  <a:off x="553644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7336080" y="4530960"/>
                <a:ext cx="1799280" cy="233280"/>
                <a:chOff x="7336080" y="4530960"/>
                <a:chExt cx="1799280" cy="233280"/>
              </a:xfrm>
            </p:grpSpPr>
            <p:sp>
              <p:nvSpPr>
                <p:cNvPr id="1135" name=""/>
                <p:cNvSpPr/>
                <p:nvPr/>
              </p:nvSpPr>
              <p:spPr>
                <a:xfrm>
                  <a:off x="739980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
                <p:cNvSpPr/>
                <p:nvPr/>
              </p:nvSpPr>
              <p:spPr>
                <a:xfrm>
                  <a:off x="733608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6480" y="4764240"/>
                <a:ext cx="3986640" cy="233280"/>
                <a:chOff x="6480" y="4764240"/>
                <a:chExt cx="3986640" cy="233280"/>
              </a:xfrm>
            </p:grpSpPr>
            <p:sp>
              <p:nvSpPr>
                <p:cNvPr id="1138" name=""/>
                <p:cNvSpPr/>
                <p:nvPr/>
              </p:nvSpPr>
              <p:spPr>
                <a:xfrm>
                  <a:off x="69480" y="476424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9" name=""/>
                <p:cNvSpPr/>
                <p:nvPr/>
              </p:nvSpPr>
              <p:spPr>
                <a:xfrm>
                  <a:off x="6480" y="476424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993480" y="4764240"/>
                <a:ext cx="1542240" cy="233280"/>
                <a:chOff x="3993480" y="4764240"/>
                <a:chExt cx="1542240" cy="233280"/>
              </a:xfrm>
            </p:grpSpPr>
            <p:sp>
              <p:nvSpPr>
                <p:cNvPr id="1141" name=""/>
                <p:cNvSpPr/>
                <p:nvPr/>
              </p:nvSpPr>
              <p:spPr>
                <a:xfrm>
                  <a:off x="4056480" y="476424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
                <p:cNvSpPr/>
                <p:nvPr/>
              </p:nvSpPr>
              <p:spPr>
                <a:xfrm>
                  <a:off x="3993480" y="476424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5536440" y="4764240"/>
                <a:ext cx="1799280" cy="233280"/>
                <a:chOff x="5536440" y="4764240"/>
                <a:chExt cx="1799280" cy="233280"/>
              </a:xfrm>
            </p:grpSpPr>
            <p:sp>
              <p:nvSpPr>
                <p:cNvPr id="1144" name=""/>
                <p:cNvSpPr/>
                <p:nvPr/>
              </p:nvSpPr>
              <p:spPr>
                <a:xfrm>
                  <a:off x="560016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
                <p:cNvSpPr/>
                <p:nvPr/>
              </p:nvSpPr>
              <p:spPr>
                <a:xfrm>
                  <a:off x="553644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7336080" y="4764240"/>
                <a:ext cx="1799280" cy="233280"/>
                <a:chOff x="7336080" y="4764240"/>
                <a:chExt cx="1799280" cy="233280"/>
              </a:xfrm>
            </p:grpSpPr>
            <p:sp>
              <p:nvSpPr>
                <p:cNvPr id="1147" name=""/>
                <p:cNvSpPr/>
                <p:nvPr/>
              </p:nvSpPr>
              <p:spPr>
                <a:xfrm>
                  <a:off x="739980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
                <p:cNvSpPr/>
                <p:nvPr/>
              </p:nvSpPr>
              <p:spPr>
                <a:xfrm>
                  <a:off x="733608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6480" y="4997880"/>
                <a:ext cx="3986640" cy="233280"/>
                <a:chOff x="6480" y="4997880"/>
                <a:chExt cx="3986640" cy="233280"/>
              </a:xfrm>
            </p:grpSpPr>
            <p:sp>
              <p:nvSpPr>
                <p:cNvPr id="1150" name=""/>
                <p:cNvSpPr/>
                <p:nvPr/>
              </p:nvSpPr>
              <p:spPr>
                <a:xfrm>
                  <a:off x="69480" y="49978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
                <p:cNvSpPr/>
                <p:nvPr/>
              </p:nvSpPr>
              <p:spPr>
                <a:xfrm>
                  <a:off x="6480" y="49978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3993480" y="4997880"/>
                <a:ext cx="1542240" cy="233280"/>
                <a:chOff x="3993480" y="4997880"/>
                <a:chExt cx="1542240" cy="233280"/>
              </a:xfrm>
            </p:grpSpPr>
            <p:sp>
              <p:nvSpPr>
                <p:cNvPr id="1153" name=""/>
                <p:cNvSpPr/>
                <p:nvPr/>
              </p:nvSpPr>
              <p:spPr>
                <a:xfrm>
                  <a:off x="4056480" y="49978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
                <p:cNvSpPr/>
                <p:nvPr/>
              </p:nvSpPr>
              <p:spPr>
                <a:xfrm>
                  <a:off x="3993480" y="49978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5536440" y="4997880"/>
                <a:ext cx="1799280" cy="233280"/>
                <a:chOff x="5536440" y="4997880"/>
                <a:chExt cx="1799280" cy="233280"/>
              </a:xfrm>
            </p:grpSpPr>
            <p:sp>
              <p:nvSpPr>
                <p:cNvPr id="1156" name=""/>
                <p:cNvSpPr/>
                <p:nvPr/>
              </p:nvSpPr>
              <p:spPr>
                <a:xfrm>
                  <a:off x="560016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7" name=""/>
                <p:cNvSpPr/>
                <p:nvPr/>
              </p:nvSpPr>
              <p:spPr>
                <a:xfrm>
                  <a:off x="553644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336080" y="4997880"/>
                <a:ext cx="1799280" cy="233280"/>
                <a:chOff x="7336080" y="4997880"/>
                <a:chExt cx="1799280" cy="233280"/>
              </a:xfrm>
            </p:grpSpPr>
            <p:sp>
              <p:nvSpPr>
                <p:cNvPr id="1159" name=""/>
                <p:cNvSpPr/>
                <p:nvPr/>
              </p:nvSpPr>
              <p:spPr>
                <a:xfrm>
                  <a:off x="739980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0" name=""/>
                <p:cNvSpPr/>
                <p:nvPr/>
              </p:nvSpPr>
              <p:spPr>
                <a:xfrm>
                  <a:off x="733608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6480" y="5231520"/>
                <a:ext cx="3986640" cy="233280"/>
                <a:chOff x="6480" y="5231520"/>
                <a:chExt cx="3986640" cy="233280"/>
              </a:xfrm>
            </p:grpSpPr>
            <p:sp>
              <p:nvSpPr>
                <p:cNvPr id="1162" name=""/>
                <p:cNvSpPr/>
                <p:nvPr/>
              </p:nvSpPr>
              <p:spPr>
                <a:xfrm>
                  <a:off x="69480" y="52315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
                <p:cNvSpPr/>
                <p:nvPr/>
              </p:nvSpPr>
              <p:spPr>
                <a:xfrm>
                  <a:off x="6480" y="52315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3993480" y="5231520"/>
                <a:ext cx="1542240" cy="233280"/>
                <a:chOff x="3993480" y="5231520"/>
                <a:chExt cx="1542240" cy="233280"/>
              </a:xfrm>
            </p:grpSpPr>
            <p:sp>
              <p:nvSpPr>
                <p:cNvPr id="1165" name=""/>
                <p:cNvSpPr/>
                <p:nvPr/>
              </p:nvSpPr>
              <p:spPr>
                <a:xfrm>
                  <a:off x="4056480" y="52315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
                <p:cNvSpPr/>
                <p:nvPr/>
              </p:nvSpPr>
              <p:spPr>
                <a:xfrm>
                  <a:off x="3993480" y="52315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5536440" y="5231520"/>
                <a:ext cx="1799280" cy="233280"/>
                <a:chOff x="5536440" y="5231520"/>
                <a:chExt cx="1799280" cy="233280"/>
              </a:xfrm>
            </p:grpSpPr>
            <p:sp>
              <p:nvSpPr>
                <p:cNvPr id="1168" name=""/>
                <p:cNvSpPr/>
                <p:nvPr/>
              </p:nvSpPr>
              <p:spPr>
                <a:xfrm>
                  <a:off x="560016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9" name=""/>
                <p:cNvSpPr/>
                <p:nvPr/>
              </p:nvSpPr>
              <p:spPr>
                <a:xfrm>
                  <a:off x="553644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7336080" y="5231520"/>
                <a:ext cx="1799280" cy="233280"/>
                <a:chOff x="7336080" y="5231520"/>
                <a:chExt cx="1799280" cy="233280"/>
              </a:xfrm>
            </p:grpSpPr>
            <p:sp>
              <p:nvSpPr>
                <p:cNvPr id="1171" name=""/>
                <p:cNvSpPr/>
                <p:nvPr/>
              </p:nvSpPr>
              <p:spPr>
                <a:xfrm>
                  <a:off x="739980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733608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6480" y="5464800"/>
                <a:ext cx="3986640" cy="233280"/>
                <a:chOff x="6480" y="5464800"/>
                <a:chExt cx="3986640" cy="233280"/>
              </a:xfrm>
            </p:grpSpPr>
            <p:sp>
              <p:nvSpPr>
                <p:cNvPr id="1174" name=""/>
                <p:cNvSpPr/>
                <p:nvPr/>
              </p:nvSpPr>
              <p:spPr>
                <a:xfrm>
                  <a:off x="69480" y="54648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
                <p:cNvSpPr/>
                <p:nvPr/>
              </p:nvSpPr>
              <p:spPr>
                <a:xfrm>
                  <a:off x="6480" y="54648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3993480" y="5464800"/>
                <a:ext cx="1542240" cy="233280"/>
                <a:chOff x="3993480" y="5464800"/>
                <a:chExt cx="1542240" cy="233280"/>
              </a:xfrm>
            </p:grpSpPr>
            <p:sp>
              <p:nvSpPr>
                <p:cNvPr id="1177" name=""/>
                <p:cNvSpPr/>
                <p:nvPr/>
              </p:nvSpPr>
              <p:spPr>
                <a:xfrm>
                  <a:off x="4056480" y="54648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
                <p:cNvSpPr/>
                <p:nvPr/>
              </p:nvSpPr>
              <p:spPr>
                <a:xfrm>
                  <a:off x="3993480" y="54648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5536440" y="5464800"/>
                <a:ext cx="1799280" cy="233280"/>
                <a:chOff x="5536440" y="5464800"/>
                <a:chExt cx="1799280" cy="233280"/>
              </a:xfrm>
            </p:grpSpPr>
            <p:sp>
              <p:nvSpPr>
                <p:cNvPr id="1180" name=""/>
                <p:cNvSpPr/>
                <p:nvPr/>
              </p:nvSpPr>
              <p:spPr>
                <a:xfrm>
                  <a:off x="560016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1" name=""/>
                <p:cNvSpPr/>
                <p:nvPr/>
              </p:nvSpPr>
              <p:spPr>
                <a:xfrm>
                  <a:off x="553644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7336080" y="5464800"/>
                <a:ext cx="1799280" cy="233280"/>
                <a:chOff x="7336080" y="5464800"/>
                <a:chExt cx="1799280" cy="233280"/>
              </a:xfrm>
            </p:grpSpPr>
            <p:sp>
              <p:nvSpPr>
                <p:cNvPr id="1183" name=""/>
                <p:cNvSpPr/>
                <p:nvPr/>
              </p:nvSpPr>
              <p:spPr>
                <a:xfrm>
                  <a:off x="739980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
                <p:cNvSpPr/>
                <p:nvPr/>
              </p:nvSpPr>
              <p:spPr>
                <a:xfrm>
                  <a:off x="733608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6480" y="5698440"/>
                <a:ext cx="3986640" cy="233640"/>
                <a:chOff x="6480" y="5698440"/>
                <a:chExt cx="3986640" cy="233640"/>
              </a:xfrm>
            </p:grpSpPr>
            <p:sp>
              <p:nvSpPr>
                <p:cNvPr id="1186" name=""/>
                <p:cNvSpPr/>
                <p:nvPr/>
              </p:nvSpPr>
              <p:spPr>
                <a:xfrm>
                  <a:off x="69480" y="569844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7" name=""/>
                <p:cNvSpPr/>
                <p:nvPr/>
              </p:nvSpPr>
              <p:spPr>
                <a:xfrm>
                  <a:off x="6480" y="569844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3993480" y="5698440"/>
                <a:ext cx="1542240" cy="233640"/>
                <a:chOff x="3993480" y="5698440"/>
                <a:chExt cx="1542240" cy="233640"/>
              </a:xfrm>
            </p:grpSpPr>
            <p:sp>
              <p:nvSpPr>
                <p:cNvPr id="1189" name=""/>
                <p:cNvSpPr/>
                <p:nvPr/>
              </p:nvSpPr>
              <p:spPr>
                <a:xfrm>
                  <a:off x="4056480" y="569844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
                <p:cNvSpPr/>
                <p:nvPr/>
              </p:nvSpPr>
              <p:spPr>
                <a:xfrm>
                  <a:off x="3993480" y="569844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1" name=""/>
              <p:cNvGrpSpPr/>
              <p:nvPr/>
            </p:nvGrpSpPr>
            <p:grpSpPr>
              <a:xfrm>
                <a:off x="5536440" y="5698440"/>
                <a:ext cx="1799280" cy="233640"/>
                <a:chOff x="5536440" y="5698440"/>
                <a:chExt cx="1799280" cy="233640"/>
              </a:xfrm>
            </p:grpSpPr>
            <p:sp>
              <p:nvSpPr>
                <p:cNvPr id="1192" name=""/>
                <p:cNvSpPr/>
                <p:nvPr/>
              </p:nvSpPr>
              <p:spPr>
                <a:xfrm>
                  <a:off x="560016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
                <p:cNvSpPr/>
                <p:nvPr/>
              </p:nvSpPr>
              <p:spPr>
                <a:xfrm>
                  <a:off x="553644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4" name=""/>
              <p:cNvGrpSpPr/>
              <p:nvPr/>
            </p:nvGrpSpPr>
            <p:grpSpPr>
              <a:xfrm>
                <a:off x="7336080" y="5698440"/>
                <a:ext cx="1799280" cy="233640"/>
                <a:chOff x="7336080" y="5698440"/>
                <a:chExt cx="1799280" cy="233640"/>
              </a:xfrm>
            </p:grpSpPr>
            <p:sp>
              <p:nvSpPr>
                <p:cNvPr id="1195" name=""/>
                <p:cNvSpPr/>
                <p:nvPr/>
              </p:nvSpPr>
              <p:spPr>
                <a:xfrm>
                  <a:off x="739980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6" name=""/>
                <p:cNvSpPr/>
                <p:nvPr/>
              </p:nvSpPr>
              <p:spPr>
                <a:xfrm>
                  <a:off x="733608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6480" y="5932080"/>
                <a:ext cx="3986640" cy="233280"/>
                <a:chOff x="6480" y="5932080"/>
                <a:chExt cx="3986640" cy="233280"/>
              </a:xfrm>
            </p:grpSpPr>
            <p:sp>
              <p:nvSpPr>
                <p:cNvPr id="1198" name=""/>
                <p:cNvSpPr/>
                <p:nvPr/>
              </p:nvSpPr>
              <p:spPr>
                <a:xfrm>
                  <a:off x="69480" y="59320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9" name=""/>
                <p:cNvSpPr/>
                <p:nvPr/>
              </p:nvSpPr>
              <p:spPr>
                <a:xfrm>
                  <a:off x="6480" y="59320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3993480" y="5932080"/>
                <a:ext cx="1542240" cy="233280"/>
                <a:chOff x="3993480" y="5932080"/>
                <a:chExt cx="1542240" cy="233280"/>
              </a:xfrm>
            </p:grpSpPr>
            <p:sp>
              <p:nvSpPr>
                <p:cNvPr id="1201" name=""/>
                <p:cNvSpPr/>
                <p:nvPr/>
              </p:nvSpPr>
              <p:spPr>
                <a:xfrm>
                  <a:off x="4056480" y="59320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3993480" y="59320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5536440" y="5932080"/>
                <a:ext cx="1799280" cy="233280"/>
                <a:chOff x="5536440" y="5932080"/>
                <a:chExt cx="1799280" cy="233280"/>
              </a:xfrm>
            </p:grpSpPr>
            <p:sp>
              <p:nvSpPr>
                <p:cNvPr id="1204" name=""/>
                <p:cNvSpPr/>
                <p:nvPr/>
              </p:nvSpPr>
              <p:spPr>
                <a:xfrm>
                  <a:off x="560016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
                <p:cNvSpPr/>
                <p:nvPr/>
              </p:nvSpPr>
              <p:spPr>
                <a:xfrm>
                  <a:off x="553644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7336080" y="5932080"/>
                <a:ext cx="1799280" cy="233280"/>
                <a:chOff x="7336080" y="5932080"/>
                <a:chExt cx="1799280" cy="233280"/>
              </a:xfrm>
            </p:grpSpPr>
            <p:sp>
              <p:nvSpPr>
                <p:cNvPr id="1207" name=""/>
                <p:cNvSpPr/>
                <p:nvPr/>
              </p:nvSpPr>
              <p:spPr>
                <a:xfrm>
                  <a:off x="739980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
                <p:cNvSpPr/>
                <p:nvPr/>
              </p:nvSpPr>
              <p:spPr>
                <a:xfrm>
                  <a:off x="733608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6480" y="6165360"/>
                <a:ext cx="3986640" cy="233280"/>
                <a:chOff x="6480" y="6165360"/>
                <a:chExt cx="3986640" cy="233280"/>
              </a:xfrm>
            </p:grpSpPr>
            <p:sp>
              <p:nvSpPr>
                <p:cNvPr id="1210" name=""/>
                <p:cNvSpPr/>
                <p:nvPr/>
              </p:nvSpPr>
              <p:spPr>
                <a:xfrm>
                  <a:off x="69480" y="61653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
                <p:cNvSpPr/>
                <p:nvPr/>
              </p:nvSpPr>
              <p:spPr>
                <a:xfrm>
                  <a:off x="6480" y="61653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993480" y="6165360"/>
                <a:ext cx="1542240" cy="233280"/>
                <a:chOff x="3993480" y="6165360"/>
                <a:chExt cx="1542240" cy="233280"/>
              </a:xfrm>
            </p:grpSpPr>
            <p:sp>
              <p:nvSpPr>
                <p:cNvPr id="1213" name=""/>
                <p:cNvSpPr/>
                <p:nvPr/>
              </p:nvSpPr>
              <p:spPr>
                <a:xfrm>
                  <a:off x="4056480" y="61653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
                <p:cNvSpPr/>
                <p:nvPr/>
              </p:nvSpPr>
              <p:spPr>
                <a:xfrm>
                  <a:off x="3993480" y="61653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5536440" y="6165360"/>
                <a:ext cx="1799280" cy="233280"/>
                <a:chOff x="5536440" y="6165360"/>
                <a:chExt cx="1799280" cy="233280"/>
              </a:xfrm>
            </p:grpSpPr>
            <p:sp>
              <p:nvSpPr>
                <p:cNvPr id="1216" name=""/>
                <p:cNvSpPr/>
                <p:nvPr/>
              </p:nvSpPr>
              <p:spPr>
                <a:xfrm>
                  <a:off x="560016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7" name=""/>
                <p:cNvSpPr/>
                <p:nvPr/>
              </p:nvSpPr>
              <p:spPr>
                <a:xfrm>
                  <a:off x="553644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7336080" y="6165360"/>
                <a:ext cx="1799280" cy="233280"/>
                <a:chOff x="7336080" y="6165360"/>
                <a:chExt cx="1799280" cy="233280"/>
              </a:xfrm>
            </p:grpSpPr>
            <p:sp>
              <p:nvSpPr>
                <p:cNvPr id="1219" name=""/>
                <p:cNvSpPr/>
                <p:nvPr/>
              </p:nvSpPr>
              <p:spPr>
                <a:xfrm>
                  <a:off x="739980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
                <p:cNvSpPr/>
                <p:nvPr/>
              </p:nvSpPr>
              <p:spPr>
                <a:xfrm>
                  <a:off x="733608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1" name=""/>
            <p:cNvSpPr/>
            <p:nvPr/>
          </p:nvSpPr>
          <p:spPr>
            <a:xfrm>
              <a:off x="0" y="1905120"/>
              <a:ext cx="91436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22" name="Logo%20Ced%20color%20art" descr=""/>
          <p:cNvPicPr/>
          <p:nvPr/>
        </p:nvPicPr>
        <p:blipFill>
          <a:blip r:embed="rId1"/>
          <a:stretch/>
        </p:blipFill>
        <p:spPr>
          <a:xfrm>
            <a:off x="457200" y="304920"/>
            <a:ext cx="906480" cy="465120"/>
          </a:xfrm>
          <a:prstGeom prst="rect">
            <a:avLst/>
          </a:prstGeom>
          <a:ln w="0">
            <a:noFill/>
          </a:ln>
        </p:spPr>
      </p:pic>
      <p:pic>
        <p:nvPicPr>
          <p:cNvPr id="1223"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orque la experiencia comparada demuestra que se puede hacer más en capital social</a:t>
            </a:r>
            <a:endParaRPr b="0" lang="en-US" sz="3600" spc="-1" strike="noStrike">
              <a:solidFill>
                <a:srgbClr val="000000"/>
              </a:solidFill>
              <a:latin typeface="Times New Roman"/>
            </a:endParaRPr>
          </a:p>
        </p:txBody>
      </p:sp>
      <p:graphicFrame>
        <p:nvGraphicFramePr>
          <p:cNvPr id="1225" name=""/>
          <p:cNvGraphicFramePr/>
          <p:nvPr/>
        </p:nvGraphicFramePr>
        <p:xfrm>
          <a:off x="0" y="1905120"/>
          <a:ext cx="9144000" cy="4538520"/>
        </p:xfrm>
        <a:graphic>
          <a:graphicData uri="http://schemas.openxmlformats.org/presentationml/2006/ole">
            <p:oleObj r:id="rId1" spid="">
              <p:embed/>
              <p:pic>
                <p:nvPicPr>
                  <p:cNvPr id="1226" name="" descr=""/>
                  <p:cNvPicPr/>
                  <p:nvPr/>
                </p:nvPicPr>
                <p:blipFill>
                  <a:blip r:embed="rId2"/>
                  <a:stretch/>
                </p:blipFill>
                <p:spPr>
                  <a:xfrm>
                    <a:off x="0" y="1905120"/>
                    <a:ext cx="9144000" cy="4538520"/>
                  </a:xfrm>
                  <a:prstGeom prst="rect">
                    <a:avLst/>
                  </a:prstGeom>
                  <a:ln w="0">
                    <a:noFill/>
                  </a:ln>
                </p:spPr>
              </p:pic>
            </p:oleObj>
          </a:graphicData>
        </a:graphic>
      </p:graphicFrame>
      <p:pic>
        <p:nvPicPr>
          <p:cNvPr id="1227" name="Logo%20Ced%20color%20art" descr=""/>
          <p:cNvPicPr/>
          <p:nvPr/>
        </p:nvPicPr>
        <p:blipFill>
          <a:blip r:embed="rId3"/>
          <a:stretch/>
        </p:blipFill>
        <p:spPr>
          <a:xfrm>
            <a:off x="457200" y="304920"/>
            <a:ext cx="906480" cy="465120"/>
          </a:xfrm>
          <a:prstGeom prst="rect">
            <a:avLst/>
          </a:prstGeom>
          <a:ln w="0">
            <a:noFill/>
          </a:ln>
        </p:spPr>
      </p:pic>
      <p:pic>
        <p:nvPicPr>
          <p:cNvPr id="1228"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mos escuchar las demandas y los sueños de la gente. </a:t>
            </a:r>
            <a:br>
              <a:rPr sz="2400"/>
            </a:br>
            <a:r>
              <a:rPr b="1" lang="es-ES" sz="2400" spc="-1" strike="noStrike">
                <a:solidFill>
                  <a:srgbClr val="000000"/>
                </a:solidFill>
                <a:latin typeface="Times New Roman"/>
              </a:rPr>
              <a:t>Chile Pnud 2000</a:t>
            </a:r>
            <a:endParaRPr b="0" lang="en-US" sz="2400" spc="-1" strike="noStrike">
              <a:solidFill>
                <a:srgbClr val="000000"/>
              </a:solidFill>
              <a:latin typeface="Times New Roman"/>
            </a:endParaRPr>
          </a:p>
        </p:txBody>
      </p:sp>
      <p:pic>
        <p:nvPicPr>
          <p:cNvPr id="1230" name="SO01038_" descr=""/>
          <p:cNvPicPr/>
          <p:nvPr/>
        </p:nvPicPr>
        <p:blipFill>
          <a:blip r:embed="rId1"/>
          <a:stretch/>
        </p:blipFill>
        <p:spPr>
          <a:xfrm>
            <a:off x="685800" y="2122560"/>
            <a:ext cx="3809880" cy="3832200"/>
          </a:xfrm>
          <a:prstGeom prst="rect">
            <a:avLst/>
          </a:prstGeom>
          <a:ln w="0">
            <a:noFill/>
          </a:ln>
        </p:spPr>
      </p:pic>
      <p:grpSp>
        <p:nvGrpSpPr>
          <p:cNvPr id="1231" name=""/>
          <p:cNvGrpSpPr/>
          <p:nvPr/>
        </p:nvGrpSpPr>
        <p:grpSpPr>
          <a:xfrm>
            <a:off x="4648320" y="2286000"/>
            <a:ext cx="3809880" cy="3452040"/>
            <a:chOff x="4648320" y="2286000"/>
            <a:chExt cx="3809880" cy="3452040"/>
          </a:xfrm>
        </p:grpSpPr>
        <p:grpSp>
          <p:nvGrpSpPr>
            <p:cNvPr id="1232" name=""/>
            <p:cNvGrpSpPr/>
            <p:nvPr/>
          </p:nvGrpSpPr>
          <p:grpSpPr>
            <a:xfrm>
              <a:off x="4651200" y="2296800"/>
              <a:ext cx="3803760" cy="3427560"/>
              <a:chOff x="4651200" y="2296800"/>
              <a:chExt cx="3803760" cy="3427560"/>
            </a:xfrm>
          </p:grpSpPr>
          <p:grpSp>
            <p:nvGrpSpPr>
              <p:cNvPr id="1233" name=""/>
              <p:cNvGrpSpPr/>
              <p:nvPr/>
            </p:nvGrpSpPr>
            <p:grpSpPr>
              <a:xfrm>
                <a:off x="4651200" y="2296800"/>
                <a:ext cx="1144440" cy="1927440"/>
                <a:chOff x="4651200" y="2296800"/>
                <a:chExt cx="1144440" cy="1927440"/>
              </a:xfrm>
            </p:grpSpPr>
            <p:sp>
              <p:nvSpPr>
                <p:cNvPr id="1234" name=""/>
                <p:cNvSpPr/>
                <p:nvPr/>
              </p:nvSpPr>
              <p:spPr>
                <a:xfrm>
                  <a:off x="4680000" y="2296800"/>
                  <a:ext cx="108648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
                <p:cNvSpPr/>
                <p:nvPr/>
              </p:nvSpPr>
              <p:spPr>
                <a:xfrm>
                  <a:off x="4651200" y="2296800"/>
                  <a:ext cx="114444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5795640" y="2296800"/>
                <a:ext cx="1602360" cy="1927440"/>
                <a:chOff x="5795640" y="2296800"/>
                <a:chExt cx="1602360" cy="1927440"/>
              </a:xfrm>
            </p:grpSpPr>
            <p:sp>
              <p:nvSpPr>
                <p:cNvPr id="1237" name=""/>
                <p:cNvSpPr/>
                <p:nvPr/>
              </p:nvSpPr>
              <p:spPr>
                <a:xfrm>
                  <a:off x="5824440" y="2296800"/>
                  <a:ext cx="154440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
                <p:cNvSpPr/>
                <p:nvPr/>
              </p:nvSpPr>
              <p:spPr>
                <a:xfrm>
                  <a:off x="5795640" y="2296800"/>
                  <a:ext cx="160236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7398360" y="2296800"/>
                <a:ext cx="1056600" cy="1927440"/>
                <a:chOff x="7398360" y="2296800"/>
                <a:chExt cx="1056600" cy="1927440"/>
              </a:xfrm>
            </p:grpSpPr>
            <p:sp>
              <p:nvSpPr>
                <p:cNvPr id="1240" name=""/>
                <p:cNvSpPr/>
                <p:nvPr/>
              </p:nvSpPr>
              <p:spPr>
                <a:xfrm>
                  <a:off x="7427160" y="2296800"/>
                  <a:ext cx="99864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
                <p:cNvSpPr/>
                <p:nvPr/>
              </p:nvSpPr>
              <p:spPr>
                <a:xfrm>
                  <a:off x="7398360" y="2296800"/>
                  <a:ext cx="105660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4651200" y="4224960"/>
                <a:ext cx="1144440" cy="1499400"/>
                <a:chOff x="4651200" y="4224960"/>
                <a:chExt cx="1144440" cy="1499400"/>
              </a:xfrm>
            </p:grpSpPr>
            <p:sp>
              <p:nvSpPr>
                <p:cNvPr id="1243" name=""/>
                <p:cNvSpPr/>
                <p:nvPr/>
              </p:nvSpPr>
              <p:spPr>
                <a:xfrm>
                  <a:off x="4680000" y="4224960"/>
                  <a:ext cx="108648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
                <p:cNvSpPr/>
                <p:nvPr/>
              </p:nvSpPr>
              <p:spPr>
                <a:xfrm>
                  <a:off x="4651200" y="4224960"/>
                  <a:ext cx="114444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5795640" y="4224960"/>
                <a:ext cx="1602360" cy="1499400"/>
                <a:chOff x="5795640" y="4224960"/>
                <a:chExt cx="1602360" cy="1499400"/>
              </a:xfrm>
            </p:grpSpPr>
            <p:sp>
              <p:nvSpPr>
                <p:cNvPr id="1246" name=""/>
                <p:cNvSpPr/>
                <p:nvPr/>
              </p:nvSpPr>
              <p:spPr>
                <a:xfrm>
                  <a:off x="5824440" y="4224960"/>
                  <a:ext cx="154440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
                <p:cNvSpPr/>
                <p:nvPr/>
              </p:nvSpPr>
              <p:spPr>
                <a:xfrm>
                  <a:off x="5795640" y="4224960"/>
                  <a:ext cx="160236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7398360" y="4224960"/>
                <a:ext cx="1056600" cy="1499400"/>
                <a:chOff x="7398360" y="4224960"/>
                <a:chExt cx="1056600" cy="1499400"/>
              </a:xfrm>
            </p:grpSpPr>
            <p:sp>
              <p:nvSpPr>
                <p:cNvPr id="1249" name=""/>
                <p:cNvSpPr/>
                <p:nvPr/>
              </p:nvSpPr>
              <p:spPr>
                <a:xfrm>
                  <a:off x="7427160" y="4224960"/>
                  <a:ext cx="99864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
                <p:cNvSpPr/>
                <p:nvPr/>
              </p:nvSpPr>
              <p:spPr>
                <a:xfrm>
                  <a:off x="7398360" y="4224960"/>
                  <a:ext cx="105660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1" name=""/>
            <p:cNvSpPr/>
            <p:nvPr/>
          </p:nvSpPr>
          <p:spPr>
            <a:xfrm>
              <a:off x="4648320" y="2286000"/>
              <a:ext cx="3809880" cy="3452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2" name="Logo%20Ced%20color%20art" descr=""/>
          <p:cNvPicPr/>
          <p:nvPr/>
        </p:nvPicPr>
        <p:blipFill>
          <a:blip r:embed="rId2"/>
          <a:stretch/>
        </p:blipFill>
        <p:spPr>
          <a:xfrm>
            <a:off x="457200" y="304920"/>
            <a:ext cx="906480" cy="465120"/>
          </a:xfrm>
          <a:prstGeom prst="rect">
            <a:avLst/>
          </a:prstGeom>
          <a:ln w="0">
            <a:noFill/>
          </a:ln>
        </p:spPr>
      </p:pic>
      <p:pic>
        <p:nvPicPr>
          <p:cNvPr id="125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3600" spc="-1" strike="noStrike">
                <a:solidFill>
                  <a:srgbClr val="000000"/>
                </a:solidFill>
                <a:latin typeface="Times New Roman"/>
              </a:rPr>
              <a:t>Debemos escuchar los sueños de la </a:t>
            </a:r>
            <a:br>
              <a:rPr sz="3600"/>
            </a:br>
            <a:r>
              <a:rPr b="0" lang="es-ES" sz="2000" spc="-1" strike="noStrike">
                <a:solidFill>
                  <a:srgbClr val="000000"/>
                </a:solidFill>
                <a:latin typeface="Times New Roman"/>
              </a:rPr>
              <a:t>(PNUD Chile 2001; Más sociedad para gobernar el futuro )</a:t>
            </a:r>
            <a:endParaRPr b="0" lang="en-US" sz="2000" spc="-1" strike="noStrike">
              <a:solidFill>
                <a:srgbClr val="000000"/>
              </a:solidFill>
              <a:latin typeface="Times New Roman"/>
            </a:endParaRPr>
          </a:p>
        </p:txBody>
      </p:sp>
      <p:pic>
        <p:nvPicPr>
          <p:cNvPr id="1255" name="SO01038_" descr=""/>
          <p:cNvPicPr/>
          <p:nvPr/>
        </p:nvPicPr>
        <p:blipFill>
          <a:blip r:embed="rId1"/>
          <a:stretch/>
        </p:blipFill>
        <p:spPr>
          <a:xfrm>
            <a:off x="7238880" y="1066680"/>
            <a:ext cx="1905120" cy="1916280"/>
          </a:xfrm>
          <a:prstGeom prst="rect">
            <a:avLst/>
          </a:prstGeom>
          <a:ln w="0">
            <a:noFill/>
          </a:ln>
        </p:spPr>
      </p:pic>
      <p:graphicFrame>
        <p:nvGraphicFramePr>
          <p:cNvPr id="1256" name=""/>
          <p:cNvGraphicFramePr/>
          <p:nvPr/>
        </p:nvGraphicFramePr>
        <p:xfrm>
          <a:off x="123840" y="3124080"/>
          <a:ext cx="9020160" cy="3429000"/>
        </p:xfrm>
        <a:graphic>
          <a:graphicData uri="http://schemas.openxmlformats.org/presentationml/2006/ole">
            <p:oleObj progId="Word.Document.12" r:id="rId2" spid="">
              <p:embed/>
              <p:pic>
                <p:nvPicPr>
                  <p:cNvPr id="1257" name="" descr=""/>
                  <p:cNvPicPr/>
                  <p:nvPr/>
                </p:nvPicPr>
                <p:blipFill>
                  <a:blip r:embed="rId3"/>
                  <a:stretch/>
                </p:blipFill>
                <p:spPr>
                  <a:xfrm>
                    <a:off x="123840" y="3124080"/>
                    <a:ext cx="9020160" cy="3429000"/>
                  </a:xfrm>
                  <a:prstGeom prst="rect">
                    <a:avLst/>
                  </a:prstGeom>
                  <a:ln w="0">
                    <a:noFill/>
                  </a:ln>
                </p:spPr>
              </p:pic>
            </p:oleObj>
          </a:graphicData>
        </a:graphic>
      </p:graphicFrame>
      <p:pic>
        <p:nvPicPr>
          <p:cNvPr id="1258" name="Logo%20Ced%20color%20art" descr=""/>
          <p:cNvPicPr/>
          <p:nvPr/>
        </p:nvPicPr>
        <p:blipFill>
          <a:blip r:embed="rId4"/>
          <a:stretch/>
        </p:blipFill>
        <p:spPr>
          <a:xfrm>
            <a:off x="457200" y="304920"/>
            <a:ext cx="906480" cy="465120"/>
          </a:xfrm>
          <a:prstGeom prst="rect">
            <a:avLst/>
          </a:prstGeom>
          <a:ln w="0">
            <a:noFill/>
          </a:ln>
        </p:spPr>
      </p:pic>
      <p:pic>
        <p:nvPicPr>
          <p:cNvPr id="1259" name="AtodoSur" descr=""/>
          <p:cNvPicPr/>
          <p:nvPr/>
        </p:nvPicPr>
        <p:blipFill>
          <a:blip r:embed="rId5"/>
          <a:stretch/>
        </p:blipFill>
        <p:spPr>
          <a:xfrm>
            <a:off x="8229600" y="304920"/>
            <a:ext cx="488880" cy="67140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Juntos debemos trabajar más decididamente por dar una democracia para todos el 2010</a:t>
            </a:r>
            <a:endParaRPr b="0" lang="en-US" sz="3600" spc="-1" strike="noStrike">
              <a:solidFill>
                <a:srgbClr val="000000"/>
              </a:solidFill>
              <a:latin typeface="Times New Roman"/>
            </a:endParaRPr>
          </a:p>
        </p:txBody>
      </p:sp>
      <p:pic>
        <p:nvPicPr>
          <p:cNvPr id="1261" name="NA01062_" descr=""/>
          <p:cNvPicPr/>
          <p:nvPr/>
        </p:nvPicPr>
        <p:blipFill>
          <a:blip r:embed="rId1"/>
          <a:stretch/>
        </p:blipFill>
        <p:spPr>
          <a:xfrm>
            <a:off x="685800" y="2340000"/>
            <a:ext cx="3809880" cy="3397320"/>
          </a:xfrm>
          <a:prstGeom prst="rect">
            <a:avLst/>
          </a:prstGeom>
          <a:ln w="0">
            <a:noFill/>
          </a:ln>
        </p:spPr>
      </p:pic>
      <p:pic>
        <p:nvPicPr>
          <p:cNvPr id="1262" name="Logo%20Ced%20color%20art" descr=""/>
          <p:cNvPicPr/>
          <p:nvPr/>
        </p:nvPicPr>
        <p:blipFill>
          <a:blip r:embed="rId2"/>
          <a:stretch/>
        </p:blipFill>
        <p:spPr>
          <a:xfrm>
            <a:off x="457200" y="304920"/>
            <a:ext cx="906480" cy="465120"/>
          </a:xfrm>
          <a:prstGeom prst="rect">
            <a:avLst/>
          </a:prstGeom>
          <a:ln w="0">
            <a:noFill/>
          </a:ln>
        </p:spPr>
      </p:pic>
      <p:pic>
        <p:nvPicPr>
          <p:cNvPr id="126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Logo%20Ced%20color%20art"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Logo%20Ced%20color%20art" descr=""/>
          <p:cNvPicPr/>
          <p:nvPr/>
        </p:nvPicPr>
        <p:blipFill>
          <a:blip r:embed="rId1"/>
          <a:stretch/>
        </p:blipFill>
        <p:spPr>
          <a:xfrm>
            <a:off x="457200" y="304920"/>
            <a:ext cx="906480" cy="465120"/>
          </a:xfrm>
          <a:prstGeom prst="rect">
            <a:avLst/>
          </a:prstGeom>
          <a:ln w="0">
            <a:noFill/>
          </a:ln>
        </p:spPr>
      </p:pic>
      <p:pic>
        <p:nvPicPr>
          <p:cNvPr id="67" name="AtodoSur"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Logo%20Ced%20color%20art" descr=""/>
          <p:cNvPicPr/>
          <p:nvPr/>
        </p:nvPicPr>
        <p:blipFill>
          <a:blip r:embed="rId1"/>
          <a:stretch/>
        </p:blipFill>
        <p:spPr>
          <a:xfrm>
            <a:off x="457200" y="304920"/>
            <a:ext cx="906480" cy="465120"/>
          </a:xfrm>
          <a:prstGeom prst="rect">
            <a:avLst/>
          </a:prstGeom>
          <a:ln w="0">
            <a:noFill/>
          </a:ln>
        </p:spPr>
      </p:pic>
      <p:pic>
        <p:nvPicPr>
          <p:cNvPr id="71" name="AtodoSur"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Logo%20Ced%20color%20art" descr=""/>
          <p:cNvPicPr/>
          <p:nvPr/>
        </p:nvPicPr>
        <p:blipFill>
          <a:blip r:embed="rId1"/>
          <a:stretch/>
        </p:blipFill>
        <p:spPr>
          <a:xfrm>
            <a:off x="457200" y="304920"/>
            <a:ext cx="906480" cy="465120"/>
          </a:xfrm>
          <a:prstGeom prst="rect">
            <a:avLst/>
          </a:prstGeom>
          <a:ln w="0">
            <a:noFill/>
          </a:ln>
        </p:spPr>
      </p:pic>
      <p:pic>
        <p:nvPicPr>
          <p:cNvPr id="75" name="AtodoSur"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PE02364_" descr=""/>
          <p:cNvPicPr/>
          <p:nvPr/>
        </p:nvPicPr>
        <p:blipFill>
          <a:blip r:embed="rId3"/>
          <a:stretch/>
        </p:blipFill>
        <p:spPr>
          <a:xfrm>
            <a:off x="609480" y="304920"/>
            <a:ext cx="7772400" cy="50450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Logo%20Ced%20color%20art" descr=""/>
          <p:cNvPicPr/>
          <p:nvPr/>
        </p:nvPicPr>
        <p:blipFill>
          <a:blip r:embed="rId1"/>
          <a:stretch/>
        </p:blipFill>
        <p:spPr>
          <a:xfrm>
            <a:off x="457200" y="304920"/>
            <a:ext cx="906480" cy="465120"/>
          </a:xfrm>
          <a:prstGeom prst="rect">
            <a:avLst/>
          </a:prstGeom>
          <a:ln w="0">
            <a:noFill/>
          </a:ln>
        </p:spPr>
      </p:pic>
      <p:pic>
        <p:nvPicPr>
          <p:cNvPr id="80" name="AtodoSur"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4-08-13T14:57:05Z</dcterms:modified>
  <cp:revision>76</cp:revision>
  <dc:subject/>
  <dc:title>La democracia en el Chile de hoy</dc:title>
</cp:coreProperties>
</file>