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516-4845-441C-9FF6-ED34F77219E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-1440" y="8682120"/>
            <a:ext cx="2973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-324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33240" y="817560"/>
            <a:ext cx="5438880" cy="4078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2FB-D863-434B-BFE4-EADD7956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7C2-B4F9-445B-8E66-E2ED5C6E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982-C73C-4EDE-8472-E1BE4BFA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4CA-2ED1-4D33-B0E6-3E097219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2778-D294-47C4-8C9A-C3391E5D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A3C0-5320-45CF-BAC7-0058E603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DFB9-5815-493D-8173-DE672569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06A1-A9E7-4209-AB63-691B2A77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BF5D-95AB-44FE-9445-72C7BAAA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44CD-6D46-4757-B729-55728AC4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7C5D-B238-48E7-B62F-9E2391B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DF3-049C-413F-A650-5B4B1062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0E8B-A21C-4AF6-9600-99D2C6AC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CDEB-3251-431A-AEE6-644D12E1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9CF4-E6E0-413D-86D8-25A02F10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C038-146D-4690-983E-3DF8C875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3609-97E0-4855-9879-F0AF4DE4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F32-0E7D-4C88-AA7D-4047D37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444-AA5E-4124-B59C-F03AA009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BBF-0E76-4E6C-A4D6-A58FCD22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48E-31F1-45A7-B968-F74DBC44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222-E4BB-4420-875D-6890F44C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CF6-8051-46C5-B57B-145DB3C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664-E588-478B-9F7C-EFA44DA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331D-1795-413E-AD9C-5852CE6815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9954-3473-46E8-BC59-A6679D8FA3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central.cl/" TargetMode="External"/><Relationship Id="rId2" Type="http://schemas.openxmlformats.org/officeDocument/2006/relationships/hyperlink" Target="http://www.svs.cl/" TargetMode="External"/><Relationship Id="rId3" Type="http://schemas.openxmlformats.org/officeDocument/2006/relationships/hyperlink" Target="http://www.sbif.cl/" TargetMode="External"/><Relationship Id="rId4" Type="http://schemas.openxmlformats.org/officeDocument/2006/relationships/hyperlink" Target="http://www.bolsantiago.cl/" TargetMode="External"/><Relationship Id="rId5" Type="http://schemas.openxmlformats.org/officeDocument/2006/relationships/hyperlink" Target="http://www.nyse.com/" TargetMode="External"/><Relationship Id="rId6" Type="http://schemas.openxmlformats.org/officeDocument/2006/relationships/hyperlink" Target="http://www.nasdaq.com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3040" y="2329920"/>
            <a:ext cx="591840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N56A</a:t>
            </a:r>
            <a:br>
              <a:rPr sz="3200"/>
            </a:b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ngeniería Económica </a:t>
            </a:r>
            <a:br>
              <a:rPr sz="3200"/>
            </a:b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y </a:t>
            </a:r>
            <a:br>
              <a:rPr sz="3200"/>
            </a:b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Gestión Financie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5734080"/>
            <a:ext cx="48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ts val="998"/>
              </a:lnSpc>
              <a:spcBef>
                <a:spcPts val="15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Departamento de Ingeniería Civil Industr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15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443700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puntes preparados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ván Alvarez 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Tahoma"/>
              </a:rPr>
              <a:t>Problemas Básicos de la Gestión Financiera</a:t>
            </a: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cisiones de Inversión o Presupuesto de Capi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ánto invert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osición de los activos de la empre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cisiones de Financiamiento (cómo conseguir los fondos necesarios para financiar las inversiones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osición de la deuda (plaz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uda vs. Cap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dividendos (cuándo y cuánto dinero reparti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cisiones de Administración de los Activos y Pasiv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iquidez y plazo de los activos y pasiv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n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iales de Ban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rredoras de Bol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rredoras de Segu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resas de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compra de activos circulant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ministradoras de Fondos de Inver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ministradoras de Fondos Mutu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sesorías Financie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gentes de Val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branzas y Recaud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404640"/>
            <a:ext cx="85341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Participantes del </a:t>
            </a: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Mercado de Capi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12480" y="888840"/>
            <a:ext cx="8488440" cy="56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lsas de Val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dores de Fondos de Pensiones (AFP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ito Central de Valores (DC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asificadores de Ries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anco Cent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perintendencias (Bancos e Inst. Financieras, Valores y Seguros, AFP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ciedades Anónim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istas Internacion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mpresas de apoy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al giro bancari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dbanc (Transacciones de dinero en líne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ransbank (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Administración de tarjetas de crédito, red de débito nacional, red de comercio electrónic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rvipag (Pago de cuenta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exus (Operador de tarjetas de crédit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CA (Cómputos y comunicacion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28600"/>
            <a:ext cx="8534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Participantes del </a:t>
            </a: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Mercado de Capitales</a:t>
            </a: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14400" y="426960"/>
            <a:ext cx="698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eaeaea"/>
                </a:solidFill>
                <a:latin typeface="Times New Roman"/>
              </a:rPr>
              <a:t>Mercado de Capitales en C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040" y="1081080"/>
            <a:ext cx="2486160" cy="388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82920" y="1004760"/>
            <a:ext cx="2087640" cy="324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66000" y="1095480"/>
            <a:ext cx="2209680" cy="43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22800" y="4437000"/>
            <a:ext cx="2514600" cy="202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7720" y="1204920"/>
            <a:ext cx="2146320" cy="42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Times New Roman"/>
              </a:rPr>
              <a:t>Emis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Sociedades Anóni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Bancos e Instituciones Financi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Estado (Banco Central, Tesorería, IN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Securitizado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Fondos Mutu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Fondos de Inver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Emisores Extranj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3520" y="990720"/>
            <a:ext cx="201132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Times New Roman"/>
              </a:rPr>
              <a:t>Intermediació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Corredores de Bol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Agentes de Val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Bancos e Inst. Finan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Times New Roman"/>
              </a:rPr>
              <a:t>Apoyo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Cámaras de Compens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Depósito Central de Val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1054080"/>
            <a:ext cx="2179440" cy="45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Times New Roman"/>
              </a:rPr>
              <a:t>Demand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) Inversionistas Institucional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AF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Adms. Fondos Mutuos, Fondos de Inversión,  Fondos de la Vivien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Cías de Segu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Bancos e Inst. Fina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2) Inversionistas Priv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3) Inversionistas Extranj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68520" y="4489560"/>
            <a:ext cx="239076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Times New Roman"/>
              </a:rPr>
              <a:t>Entes Regul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Superinten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-Banco Cent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Apoyo a la  Información: Clasificadoras de Riesgo, Auditores exter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Principales instrumentos del mercado de capit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rés Descontable del Banco Central de Chile (PDB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ré Reajustable del Banco Central de Chile (PR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entas de Ahor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enta de Ahorro a Plazo con giros difer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o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otas de Fondos Mutu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otas de Fondos de Inver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Principales instrumentos del mercado de capit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2584440"/>
            <a:ext cx="853416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apeles del Banco Central de Chile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: Estos son colocados en el mercado mediante licitaciones periódic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DBCs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: no son reajustables ni devengan intereses. Su vencimiento varía entre 1 y 364 días. Tienen derecho a participar en las licitaciones las empresas bancarias y sociedades financieras, y las AFPs, en caso de ser invitadas por el Banco Cent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Cs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: son reajustables de acuerdo a la variación de la UF y devengan intereses a una tasa fija anual. El plazo de estos títulos es de hasta 20 años. Tienen derecho a participar en las licitaciones las empresas bancarias, las sociedades financieras, las AFPs y las compañías de segu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Principales instrumentos del mercado de capitales</a:t>
            </a:r>
            <a:r>
              <a:rPr b="1" lang="es-MX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56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pósitos a Plaz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on emitidos por empresas bancarias y sociedades financie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pueden adquirir personas naturales y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unidad de valor puede ser: pesos corrientes, pesos reajustables, moneda extranje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plazos pueden ser: fijo, renovable, indefinido, alguna forma mixta de los anterio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Principales instrumentos del mercado de capit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uentas de Ahorro a Plaz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n emitidos por empresas bancarias y sociedades financier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os pueden adquirir personas naturales y juríd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unidad de valor es pesos corrient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plazo es indefinido. Se pueden realizar hasta 4 giros en el año sin perder derecho a reajuste (según UF o unidad pactad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uentas de Ahorro a Plazo Diferi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 diferencia de las cuentas de ahorro a plazo, los giros deben hacerse con un aviso previo de 30 días corrid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onto máximo a girar en cada oportunidad no puede superar las 30 UF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pueden realizar hasta 6 giros en el año sin perder intereses ni reajus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Principales instrumentos del mercado de capit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Una acción es un instrumento representativo de la propiedad de una sociedad anónima. Al adquirir una acción se participa de los beneficios y pérdidas que puede generar el nego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entidades emisoras son sociedades anónimas y sociedades en comandita por acci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acciones pueden ser ordinarias o preferidas. Estas últimas otorgan privilegios o preferencias respecto de dividendos, elección de directores u otras. Sin embargo, en contraste con las acciones ordinarias, deben ser de plazo defin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sociedades anónimas están obligadas por ley a distribuir como dividendo, en dinero, al menos el 30% de las utilidades líquidas de cada ejerci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Principales instrumentos del mercado de capit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Bonos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(también conocidos como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debentures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os emisores son empresas, principalmente sociedades anónimas. El emisor y el instrumento a ser emitido deben estar inscritos en el registro de valores de la Superintendencia de Valores y Segu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Generalmente, se emiten papeles de 500, 1.000, 5.000 y 10.000 UF, cuyos vencimientos deben ser superiores a 1 añ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tasa de interés de cada emisión la determina libremente la entidad emisora, o de acuerdo con las normas específicas que regulan su emis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amortización se realiza mediante cupones que comprenden capital e intere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emisión de bonos puede realizarse con o sin garantí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Tahoma"/>
              </a:rPr>
              <a:t>¿Qué son las finanzas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5150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inanzas es el estudio de cómo las personas asignan recursos escasos a través del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os características especiales de las decisiones financieras son que los costos y beneficios resultantes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de ella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distribuyen a lo larg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del tiem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 son conocidos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nticipadamente con certe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Ejempl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Si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desea iniciar un negocio propio, debe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arar l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s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stos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(habitualmente ciertos) con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ingresos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habitualmente inciertos)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 fin de determinar las ganancias futur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Principales instrumentos del mercado de capit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uotas de Fondos Mutu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Un fondo mutuo es el patrimonio integrado por aportes de personas naturales y jurídicas, denominadas partícipes, para su inversión en valores de oferta pública (ej. Banchile crecimiento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cuotas se expresan en pesos, moneda corri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cuotas no devengan intereses y son variables. El beneficio de la inversión proviene del incremento que puede producirse en el valor de la cuo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cuotas pueden ser liquidadas al momento del rescate o inmediatamente en el mercado secundar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isten tres tipos de fondos mutu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De inversión en instrumentos de renta fija a corto plaz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De inversión en instrumentos de renta fija de mediano y largo plaz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De inversión en instrumentos de renta variabl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Principales instrumentos del mercado de capit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84428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Cuotas de Fondos de Inver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entidades emisoras son fondos de inversión (ej.: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JP Morgan Money Market Fund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cuotas no son reajustables y su valor varía en el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cuotas no devengan intereses. Los fondos de inversión deben distribuir anualmente como dividendo al menos el 30% de los beneficios netos del ejerci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cuotas no pueden rescatarse antes de la liquidación del fondo. Sin embargo, pueden liquidarse inmediatamente en el mercado secundar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ahoma"/>
              </a:rPr>
              <a:t>Principales Indices Accionarios de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PSA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(Indice de Precios Selectivo de Acciones): Mide las variaciones de precios de las 40 acciones de mayor presencia bursátil. Los títulos que componen el indicador son seleccionados trimestral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GPA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Indice General de Precios de Acciones): Se constituye con casi la totalidad de las acciones cotizadas en Bol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Global (Bolsa Electrónica):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o conforman las 42 acciones más representativas y transadas de cuatro sectores básicos: Eléctrico, Servicios, Industria y Recursos Natu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ahoma"/>
              </a:rPr>
              <a:t>Los Indices de Wall Stree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ahoma"/>
              </a:rPr>
              <a:t>Dow Jon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s el indicador más antiguo de la Bolsa de Nueva York. Consiste en un conjunto de 4 indicadores (Industrial, Transporte, Servicio Público y un promedio ponderado que agrupa a los anteriores) que miden los precios de las acciones de las 65 principales compañías norteamerican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ahoma"/>
              </a:rPr>
              <a:t>Standard and Poor’s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_tradnl" sz="24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s otro índice de la Bolsa de Nueva York. Posee una base amplia de 500 acciones, perteneciente a compañías industriales (en su mayoría), empresas de transporte y de servicio público y compañías financier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ahoma"/>
              </a:rPr>
              <a:t>Nasdaq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tra bolsa que existe en EE.UU es el Nasdaq, donde se transan principalmente acciones de empresas de tecnología. El índice agrupa a 4700 compañías, entre las cuales se encuentra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Microsof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ahoma"/>
              </a:rPr>
              <a:t>Donde conseguir información sobre Mercado de Capit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nco Central de Chile,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bcentral.cl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perintendencia de Valores y Seguros,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svs.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perintendencia de Bancos e Instituciones Financieras,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www.sbif.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olsa de Comercio de Santiago,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www.bolsantiago.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w York Stock Exchange,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www.nyse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asdaq Stock Market,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www.nasdaq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cro entorno de la empres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2421000"/>
            <a:ext cx="1873440" cy="825480"/>
          </a:xfrm>
          <a:prstGeom prst="cloudCallout">
            <a:avLst>
              <a:gd name="adj1" fmla="val -21865"/>
              <a:gd name="adj2" fmla="val 5692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lí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589720"/>
            <a:ext cx="2303280" cy="863640"/>
          </a:xfrm>
          <a:prstGeom prst="cloudCallout">
            <a:avLst>
              <a:gd name="adj1" fmla="val -35666"/>
              <a:gd name="adj2" fmla="val 1397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005360"/>
            <a:ext cx="2952720" cy="863640"/>
          </a:xfrm>
          <a:prstGeom prst="cloudCallout">
            <a:avLst>
              <a:gd name="adj1" fmla="val -29245"/>
              <a:gd name="adj2" fmla="val 1709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dio Amb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3716280"/>
            <a:ext cx="2016360" cy="115272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2133720"/>
            <a:ext cx="1441440" cy="968400"/>
          </a:xfrm>
          <a:prstGeom prst="cloudCallout">
            <a:avLst>
              <a:gd name="adj1" fmla="val -3194"/>
              <a:gd name="adj2" fmla="val 46231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589720"/>
            <a:ext cx="2017800" cy="934920"/>
          </a:xfrm>
          <a:prstGeom prst="cloudCallout">
            <a:avLst>
              <a:gd name="adj1" fmla="val -12393"/>
              <a:gd name="adj2" fmla="val 36759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1916280"/>
            <a:ext cx="914400" cy="10587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2349360"/>
            <a:ext cx="2448000" cy="897120"/>
          </a:xfrm>
          <a:prstGeom prst="cloudCallout">
            <a:avLst>
              <a:gd name="adj1" fmla="val 2333"/>
              <a:gd name="adj2" fmla="val 6362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54480" y="2579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onó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5373720"/>
            <a:ext cx="914400" cy="91440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5734080"/>
            <a:ext cx="1943280" cy="825480"/>
          </a:xfrm>
          <a:prstGeom prst="cloudCallout">
            <a:avLst>
              <a:gd name="adj1" fmla="val -17402"/>
              <a:gd name="adj2" fmla="val 6480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2200" y="595008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3429000"/>
            <a:ext cx="2016000" cy="1944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noló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 empresa y sus grupos de interé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789360"/>
            <a:ext cx="1513080" cy="7920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MPR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716280"/>
            <a:ext cx="1728720" cy="9367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ovee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2708280"/>
            <a:ext cx="1729080" cy="792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s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2708280"/>
            <a:ext cx="1728720" cy="792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oci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3789360"/>
            <a:ext cx="1728720" cy="792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5013360"/>
            <a:ext cx="1728720" cy="792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cree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13360"/>
            <a:ext cx="1728720" cy="792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ccionis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5013360"/>
            <a:ext cx="1728720" cy="792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mple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2708280"/>
            <a:ext cx="1728720" cy="792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peti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414972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414972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48360" y="3357360"/>
            <a:ext cx="647640" cy="43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4581360"/>
            <a:ext cx="718920" cy="5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3500280"/>
            <a:ext cx="0" cy="28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3357720"/>
            <a:ext cx="647640" cy="43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16000" y="4581360"/>
            <a:ext cx="7189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¿Qué hace una empresa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 empres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r val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a todos los grupos de interé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izaremos, en particular la creación de valor para los accion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¿</a:t>
            </a: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Qué es el sistema financiero? (I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ra implementar sus decisiones financieras, las personas utilizan el “sistema financiero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inimos el sistema financiero como el conjunto de mercados e instituciones usados para contraer acuerdos financieros e intercambiar activos y riesg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sistema financiero incluye 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mercados de acciones, bonos y otros instrumentos financi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mediarios financieros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ej.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ancos y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añía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de seguros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mpresas de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sesoría financier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es regula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ores que rigen a dichas instituci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¿</a:t>
            </a: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Qué es el sistema financiero? (II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341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interacción entre los distintos participantes en el sistema financiero se muestra en el siguiente diagr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154560" y="3241800"/>
            <a:ext cx="207972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Unidades defic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3880" y="3241800"/>
            <a:ext cx="207972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Unidades exceden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43160" y="2033640"/>
            <a:ext cx="2921040" cy="1039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er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62240" y="3903840"/>
            <a:ext cx="2884680" cy="1058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Intermedi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70400" y="3022200"/>
            <a:ext cx="0" cy="91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25880" y="3036960"/>
            <a:ext cx="0" cy="906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63560" y="2542680"/>
            <a:ext cx="0" cy="7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63560" y="254304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70680" y="254304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13680" y="2543040"/>
            <a:ext cx="0" cy="7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38360" y="3894120"/>
            <a:ext cx="0" cy="54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38360" y="4437000"/>
            <a:ext cx="1536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45120" y="4414680"/>
            <a:ext cx="110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149960" y="3894120"/>
            <a:ext cx="0" cy="52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2600" y="5300640"/>
            <a:ext cx="85345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Ejempl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a persona natural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unidad excendentaria)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ra accione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a una empresa (unidad deficitari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, a través de un corredor (intermediario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¿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Qué es el sistema financiero? (III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 6 funciones fundamentales del sistema financier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ansferencia de recurs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a través del tiempo y del espac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(ej: conseguir un préstamo para financiar los estudi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dministración del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esg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ej: asegurar la casa contra incendios (familia); uso de instrumentos derivados (empres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g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 que facilita el intercamb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ntración d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recursos en un fondo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trega de i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la toma descentralizada de decision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ejo de problemas de incentiv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ej: riesgo moral, selección adversa, principal-agent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77960" y="411120"/>
            <a:ext cx="7329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imes New Roman"/>
              </a:rPr>
              <a:t>Flujo de Caja entre el Mercado de Capitales y las Operaciones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1880" y="1662120"/>
            <a:ext cx="2346120" cy="15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88920" y="1766880"/>
            <a:ext cx="187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peraciones de la Empresa (Conjunto de activos re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1646280"/>
            <a:ext cx="1706400" cy="156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94200" y="18748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División de Finan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2849400"/>
            <a:ext cx="6098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289548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54320" y="2117880"/>
            <a:ext cx="579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70160" y="1660680"/>
            <a:ext cx="5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2240" y="2712960"/>
            <a:ext cx="365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866920" y="2103480"/>
            <a:ext cx="1800" cy="625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486400" y="2087640"/>
            <a:ext cx="396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83120" y="2271600"/>
            <a:ext cx="65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(4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15200" y="1403280"/>
            <a:ext cx="1936800" cy="221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4880" y="1708200"/>
            <a:ext cx="1827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do de Capitales (inversores que poseen activos financier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1812960"/>
            <a:ext cx="82368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92600" y="3184560"/>
            <a:ext cx="7462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00600" y="1400040"/>
            <a:ext cx="65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00600" y="3228840"/>
            <a:ext cx="65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(4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871800"/>
            <a:ext cx="810756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(1) Aumento de caja por venta de activos financieros a los inversores (emisión de acciones y/o bon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(2) Caja invertida en activos reales (maquinaria, oficinas--activos tangibles--, conocimientos técnicos, marca, patente--activos intangibles-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(3) Caja generada por las operaciones de la empr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(4a) Caja reinvertida; (4b) Caja restituida a los inversores (dividendos, intereses bo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2:21:04Z</dcterms:created>
  <dc:creator>Home</dc:creator>
  <dc:description/>
  <dc:language>en-US</dc:language>
  <cp:lastModifiedBy>ivan.alvarez</cp:lastModifiedBy>
  <dcterms:modified xsi:type="dcterms:W3CDTF">2004-07-30T22:31:12Z</dcterms:modified>
  <cp:revision>52</cp:revision>
  <dc:subject/>
  <dc:title>Dirección Estratégica</dc:title>
</cp:coreProperties>
</file>