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0536-6B79-457B-9C41-6040183C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51178-3285-423C-8A4F-B7386A2C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9BDB-C502-43AF-BB6F-2475C174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49C31-04ED-4C4C-B89E-9240383F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ABF3A-57AF-4272-9D47-6DD73E3B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C806D-F0C3-4A7C-896E-BA8F96C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8BD8F-2285-433B-B6FC-971A45A9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41690-0375-4018-8030-3DB9C2F9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0EB4F-1105-474B-96B1-4AF7B5E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C354F-07AB-4F48-A282-E829D46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9CDDF-CF66-4811-94F2-E9B320EE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2203-E85D-4FAC-95EF-83B5E376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2B1-B629-45FB-96E0-F4377694E98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Apoyo de Est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72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 Judicial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/ Accesos L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8160" y="1776240"/>
            <a:ext cx="5819760" cy="43117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5819760" y="1687680"/>
            <a:ext cx="332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vital notar que se debe llegar a la entidad Carga por ambos lado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, pues en esta entidad es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 tabulado el esfuerzo requerido para combinaciones de pares ordenados de las entidades mencionada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. Por ejemplo,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nu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b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estado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do aud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querirá media hora semanal de dedicación d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cal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gnado a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° de Accesos L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631800" y="1838160"/>
            <a:ext cx="7926480" cy="279432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5886360" y="4633920"/>
            <a:ext cx="325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09160" y="1725120"/>
            <a:ext cx="8721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genera una nueva entidad con los atributos necesarios para responder la consulta, relacionada con el modelo. Una alternativa es asociar una entidad resumen al Fiscal, c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tributo Carga total asociada 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los atributos (Caso, Carga actual, Tipo de denuncia, Es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xisten varias alternativas, co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atributos al fiscal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fiscal (o a Asignación_Caso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caso (Tipo denuncia, Estado, Carg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punto crítico es asociar la Carga (por Tipo de denuncia y Estado de caso) para todos los Casos efectivamente asignados a un Fiscal, utilizando los identificadores asociados a los registros específic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96560" y="1712520"/>
            <a:ext cx="8947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nor costo de responder el requerimiento. Esto se traduce en menor tiempo de respuesta y de procesamiento (debido al menor número de accesos lógicos necesitados) en el momento de realizar la consulta, facilitando la interacción con el usuario, entregándole información oportuna y de mejor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yor requerimiento de espacio en disco (para el almacenamiento de la información adicional) y necesidad de destinar recursos del sistema a un proceso de actualización (con cierta periodicidad a definir) de la entidad resumen al cambiar los datos de orig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7929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descomposición de ubica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yor nivel de detalle en la localización (func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conectiv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es de agreg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erimientos de comunicación (Medio, Distan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cidir la distribución (replicación) de datos y procesos (descentralización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gración (actualiz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ción multi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0000"/>
                </a:solidFill>
                <a:latin typeface="Tahoma"/>
              </a:rPr>
              <a:t>Diseño Lógico de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2"/>
          <a:stretch/>
        </p:blipFill>
        <p:spPr>
          <a:xfrm>
            <a:off x="1305000" y="1565280"/>
            <a:ext cx="7839000" cy="529272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Diagrama de Conectivid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"/>
          <p:cNvSpPr/>
          <p:nvPr/>
        </p:nvSpPr>
        <p:spPr>
          <a:xfrm>
            <a:off x="6716880" y="5208480"/>
            <a:ext cx="24271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22360" y="1843200"/>
            <a:ext cx="30560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867280" y="1871640"/>
            <a:ext cx="32767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394920" y="1846440"/>
            <a:ext cx="8326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 multitienda posee un equipo central donde se realizan y almacenan todas las operaciones de crédi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 su vez, la multitienda está dividida en sucursales (tiendas), las cuales poseen equipos de procesamiento individual que permiten “compras fuera de línea” (no así avances en efectiv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s cajas poseen equipos PC “enmascarados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o podría representar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Problem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"/>
          <p:cNvGrpSpPr/>
          <p:nvPr/>
        </p:nvGrpSpPr>
        <p:grpSpPr>
          <a:xfrm>
            <a:off x="304920" y="1981080"/>
            <a:ext cx="4647600" cy="4343400"/>
            <a:chOff x="304920" y="1981080"/>
            <a:chExt cx="4647600" cy="4343400"/>
          </a:xfrm>
        </p:grpSpPr>
        <p:sp>
          <p:nvSpPr>
            <p:cNvPr id="1273" name=""/>
            <p:cNvSpPr/>
            <p:nvPr/>
          </p:nvSpPr>
          <p:spPr>
            <a:xfrm>
              <a:off x="304920" y="5486040"/>
              <a:ext cx="1371240" cy="838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aj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440" y="1981080"/>
              <a:ext cx="175248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Equipo Cen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De Créd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1960" y="3733560"/>
              <a:ext cx="2133360" cy="9144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Exter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2680" y="1981080"/>
              <a:ext cx="1599840" cy="83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óv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4920" y="3733560"/>
              <a:ext cx="137124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nd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913680" y="2819160"/>
              <a:ext cx="456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90360" y="4571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438280" y="24382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09680" y="2819160"/>
              <a:ext cx="1371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5181480" y="2216160"/>
            <a:ext cx="381024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descomp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n documentar los requerimientos de comunicación y manej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de Comunicación, Almacenamiento y Replicación de Datos (Procesos e Interfa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Almacenamiento central o distrib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Cajas de una Multitienda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9480" y="228600"/>
            <a:ext cx="7924680" cy="6400440"/>
            <a:chOff x="609480" y="228600"/>
            <a:chExt cx="7924680" cy="6400440"/>
          </a:xfrm>
        </p:grpSpPr>
        <p:sp>
          <p:nvSpPr>
            <p:cNvPr id="86" name=""/>
            <p:cNvSpPr/>
            <p:nvPr/>
          </p:nvSpPr>
          <p:spPr>
            <a:xfrm>
              <a:off x="609480" y="66816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75400" y="228600"/>
              <a:ext cx="6840000" cy="52920"/>
            </a:xfrm>
            <a:custGeom>
              <a:avLst/>
              <a:gdLst/>
              <a:ahLst/>
              <a:rect l="l" t="t" r="r" b="b"/>
              <a:pathLst>
                <a:path w="6961" h="59">
                  <a:moveTo>
                    <a:pt x="0" y="59"/>
                  </a:moveTo>
                  <a:lnTo>
                    <a:pt x="67" y="0"/>
                  </a:lnTo>
                  <a:lnTo>
                    <a:pt x="6961" y="0"/>
                  </a:lnTo>
                  <a:lnTo>
                    <a:pt x="6894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0240" y="228600"/>
              <a:ext cx="64800" cy="6400440"/>
            </a:xfrm>
            <a:custGeom>
              <a:avLst/>
              <a:gdLst/>
              <a:ahLst/>
              <a:rect l="l" t="t" r="r" b="b"/>
              <a:pathLst>
                <a:path w="67" h="6985">
                  <a:moveTo>
                    <a:pt x="0" y="59"/>
                  </a:moveTo>
                  <a:lnTo>
                    <a:pt x="67" y="0"/>
                  </a:lnTo>
                  <a:lnTo>
                    <a:pt x="67" y="6926"/>
                  </a:lnTo>
                  <a:lnTo>
                    <a:pt x="0" y="698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5400" y="281520"/>
              <a:ext cx="6774840" cy="6347520"/>
            </a:xfrm>
            <a:prstGeom prst="rect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7560" y="305280"/>
              <a:ext cx="251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ramework para Sistemas de In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06800" y="1208880"/>
              <a:ext cx="593640" cy="52920"/>
            </a:xfrm>
            <a:custGeom>
              <a:avLst/>
              <a:gdLst/>
              <a:ahLst/>
              <a:rect l="l" t="t" r="r" b="b"/>
              <a:pathLst>
                <a:path w="604" h="59">
                  <a:moveTo>
                    <a:pt x="0" y="59"/>
                  </a:moveTo>
                  <a:lnTo>
                    <a:pt x="67" y="0"/>
                  </a:lnTo>
                  <a:lnTo>
                    <a:pt x="604" y="0"/>
                  </a:lnTo>
                  <a:lnTo>
                    <a:pt x="53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3840" y="1208880"/>
              <a:ext cx="66600" cy="4276440"/>
            </a:xfrm>
            <a:custGeom>
              <a:avLst/>
              <a:gdLst/>
              <a:ahLst/>
              <a:rect l="l" t="t" r="r" b="b"/>
              <a:pathLst>
                <a:path w="67" h="4666">
                  <a:moveTo>
                    <a:pt x="0" y="59"/>
                  </a:moveTo>
                  <a:lnTo>
                    <a:pt x="67" y="0"/>
                  </a:lnTo>
                  <a:lnTo>
                    <a:pt x="67" y="4607"/>
                  </a:lnTo>
                  <a:lnTo>
                    <a:pt x="0" y="466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06800" y="1262160"/>
              <a:ext cx="526680" cy="4223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67400" y="445716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94440" y="445716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67400" y="451044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24640" y="4803480"/>
              <a:ext cx="331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STRUCT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46960" y="492264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10960" y="5074920"/>
              <a:ext cx="33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componente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7400" y="3373920"/>
              <a:ext cx="591120" cy="547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4440" y="337392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7400" y="3428640"/>
              <a:ext cx="526680" cy="97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4280" y="3747600"/>
              <a:ext cx="358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ISEñADOR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5280" y="383940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10240" y="3991680"/>
              <a:ext cx="348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especificación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7400" y="22924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4440" y="22924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7400" y="234540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7200" y="268092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USUARI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3480" y="275796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6920" y="2908440"/>
              <a:ext cx="361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requerimiento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7400" y="12088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94440" y="12088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7400" y="126216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4640" y="163584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CEP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8960" y="172404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09600" y="1826640"/>
              <a:ext cx="272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ALCAN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9320" y="5769360"/>
              <a:ext cx="1181520" cy="821160"/>
            </a:xfrm>
            <a:custGeom>
              <a:avLst/>
              <a:gdLst/>
              <a:ahLst/>
              <a:rect l="l" t="t" r="r" b="b"/>
              <a:pathLst>
                <a:path w="1204" h="897">
                  <a:moveTo>
                    <a:pt x="1204" y="0"/>
                  </a:moveTo>
                  <a:lnTo>
                    <a:pt x="1200" y="8"/>
                  </a:lnTo>
                  <a:lnTo>
                    <a:pt x="1200" y="16"/>
                  </a:lnTo>
                  <a:lnTo>
                    <a:pt x="1197" y="25"/>
                  </a:lnTo>
                  <a:lnTo>
                    <a:pt x="1190" y="33"/>
                  </a:lnTo>
                  <a:lnTo>
                    <a:pt x="1182" y="42"/>
                  </a:lnTo>
                  <a:lnTo>
                    <a:pt x="1175" y="49"/>
                  </a:lnTo>
                  <a:lnTo>
                    <a:pt x="1165" y="56"/>
                  </a:lnTo>
                  <a:lnTo>
                    <a:pt x="1155" y="64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3"/>
                  </a:lnTo>
                  <a:lnTo>
                    <a:pt x="1098" y="92"/>
                  </a:lnTo>
                  <a:lnTo>
                    <a:pt x="1081" y="99"/>
                  </a:lnTo>
                  <a:lnTo>
                    <a:pt x="1065" y="104"/>
                  </a:lnTo>
                  <a:lnTo>
                    <a:pt x="1046" y="111"/>
                  </a:lnTo>
                  <a:lnTo>
                    <a:pt x="1026" y="115"/>
                  </a:lnTo>
                  <a:lnTo>
                    <a:pt x="1004" y="121"/>
                  </a:lnTo>
                  <a:lnTo>
                    <a:pt x="984" y="126"/>
                  </a:lnTo>
                  <a:lnTo>
                    <a:pt x="959" y="132"/>
                  </a:lnTo>
                  <a:lnTo>
                    <a:pt x="935" y="136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3" y="151"/>
                  </a:lnTo>
                  <a:lnTo>
                    <a:pt x="806" y="154"/>
                  </a:lnTo>
                  <a:lnTo>
                    <a:pt x="778" y="157"/>
                  </a:lnTo>
                  <a:lnTo>
                    <a:pt x="749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2" y="161"/>
                  </a:lnTo>
                  <a:lnTo>
                    <a:pt x="632" y="164"/>
                  </a:lnTo>
                  <a:lnTo>
                    <a:pt x="568" y="164"/>
                  </a:lnTo>
                  <a:lnTo>
                    <a:pt x="541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49" y="158"/>
                  </a:lnTo>
                  <a:lnTo>
                    <a:pt x="422" y="157"/>
                  </a:lnTo>
                  <a:lnTo>
                    <a:pt x="394" y="154"/>
                  </a:lnTo>
                  <a:lnTo>
                    <a:pt x="365" y="151"/>
                  </a:lnTo>
                  <a:lnTo>
                    <a:pt x="342" y="146"/>
                  </a:lnTo>
                  <a:lnTo>
                    <a:pt x="313" y="143"/>
                  </a:lnTo>
                  <a:lnTo>
                    <a:pt x="290" y="140"/>
                  </a:lnTo>
                  <a:lnTo>
                    <a:pt x="265" y="136"/>
                  </a:lnTo>
                  <a:lnTo>
                    <a:pt x="241" y="132"/>
                  </a:lnTo>
                  <a:lnTo>
                    <a:pt x="216" y="126"/>
                  </a:lnTo>
                  <a:lnTo>
                    <a:pt x="196" y="121"/>
                  </a:lnTo>
                  <a:lnTo>
                    <a:pt x="174" y="115"/>
                  </a:lnTo>
                  <a:lnTo>
                    <a:pt x="154" y="111"/>
                  </a:lnTo>
                  <a:lnTo>
                    <a:pt x="136" y="104"/>
                  </a:lnTo>
                  <a:lnTo>
                    <a:pt x="119" y="99"/>
                  </a:lnTo>
                  <a:lnTo>
                    <a:pt x="101" y="92"/>
                  </a:lnTo>
                  <a:lnTo>
                    <a:pt x="87" y="83"/>
                  </a:lnTo>
                  <a:lnTo>
                    <a:pt x="70" y="78"/>
                  </a:lnTo>
                  <a:lnTo>
                    <a:pt x="59" y="71"/>
                  </a:lnTo>
                  <a:lnTo>
                    <a:pt x="45" y="64"/>
                  </a:lnTo>
                  <a:lnTo>
                    <a:pt x="35" y="56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733"/>
                  </a:lnTo>
                  <a:lnTo>
                    <a:pt x="0" y="743"/>
                  </a:lnTo>
                  <a:lnTo>
                    <a:pt x="3" y="750"/>
                  </a:lnTo>
                  <a:lnTo>
                    <a:pt x="7" y="758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5" y="783"/>
                  </a:lnTo>
                  <a:lnTo>
                    <a:pt x="35" y="790"/>
                  </a:lnTo>
                  <a:lnTo>
                    <a:pt x="45" y="798"/>
                  </a:lnTo>
                  <a:lnTo>
                    <a:pt x="59" y="803"/>
                  </a:lnTo>
                  <a:lnTo>
                    <a:pt x="70" y="811"/>
                  </a:lnTo>
                  <a:lnTo>
                    <a:pt x="87" y="818"/>
                  </a:lnTo>
                  <a:lnTo>
                    <a:pt x="101" y="826"/>
                  </a:lnTo>
                  <a:lnTo>
                    <a:pt x="119" y="833"/>
                  </a:lnTo>
                  <a:lnTo>
                    <a:pt x="136" y="839"/>
                  </a:lnTo>
                  <a:lnTo>
                    <a:pt x="154" y="843"/>
                  </a:lnTo>
                  <a:lnTo>
                    <a:pt x="174" y="848"/>
                  </a:lnTo>
                  <a:lnTo>
                    <a:pt x="196" y="854"/>
                  </a:lnTo>
                  <a:lnTo>
                    <a:pt x="216" y="861"/>
                  </a:lnTo>
                  <a:lnTo>
                    <a:pt x="241" y="864"/>
                  </a:lnTo>
                  <a:lnTo>
                    <a:pt x="265" y="868"/>
                  </a:lnTo>
                  <a:lnTo>
                    <a:pt x="290" y="873"/>
                  </a:lnTo>
                  <a:lnTo>
                    <a:pt x="313" y="876"/>
                  </a:lnTo>
                  <a:lnTo>
                    <a:pt x="342" y="880"/>
                  </a:lnTo>
                  <a:lnTo>
                    <a:pt x="365" y="883"/>
                  </a:lnTo>
                  <a:lnTo>
                    <a:pt x="394" y="886"/>
                  </a:lnTo>
                  <a:lnTo>
                    <a:pt x="422" y="889"/>
                  </a:lnTo>
                  <a:lnTo>
                    <a:pt x="449" y="891"/>
                  </a:lnTo>
                  <a:lnTo>
                    <a:pt x="478" y="894"/>
                  </a:lnTo>
                  <a:lnTo>
                    <a:pt x="510" y="897"/>
                  </a:lnTo>
                  <a:lnTo>
                    <a:pt x="541" y="897"/>
                  </a:lnTo>
                  <a:lnTo>
                    <a:pt x="568" y="897"/>
                  </a:lnTo>
                  <a:lnTo>
                    <a:pt x="632" y="897"/>
                  </a:lnTo>
                  <a:lnTo>
                    <a:pt x="662" y="897"/>
                  </a:lnTo>
                  <a:lnTo>
                    <a:pt x="691" y="897"/>
                  </a:lnTo>
                  <a:lnTo>
                    <a:pt x="723" y="894"/>
                  </a:lnTo>
                  <a:lnTo>
                    <a:pt x="749" y="891"/>
                  </a:lnTo>
                  <a:lnTo>
                    <a:pt x="778" y="889"/>
                  </a:lnTo>
                  <a:lnTo>
                    <a:pt x="806" y="886"/>
                  </a:lnTo>
                  <a:lnTo>
                    <a:pt x="833" y="883"/>
                  </a:lnTo>
                  <a:lnTo>
                    <a:pt x="862" y="880"/>
                  </a:lnTo>
                  <a:lnTo>
                    <a:pt x="887" y="876"/>
                  </a:lnTo>
                  <a:lnTo>
                    <a:pt x="914" y="873"/>
                  </a:lnTo>
                  <a:lnTo>
                    <a:pt x="935" y="868"/>
                  </a:lnTo>
                  <a:lnTo>
                    <a:pt x="959" y="864"/>
                  </a:lnTo>
                  <a:lnTo>
                    <a:pt x="984" y="861"/>
                  </a:lnTo>
                  <a:lnTo>
                    <a:pt x="1004" y="854"/>
                  </a:lnTo>
                  <a:lnTo>
                    <a:pt x="1026" y="848"/>
                  </a:lnTo>
                  <a:lnTo>
                    <a:pt x="1046" y="843"/>
                  </a:lnTo>
                  <a:lnTo>
                    <a:pt x="1065" y="839"/>
                  </a:lnTo>
                  <a:lnTo>
                    <a:pt x="1081" y="833"/>
                  </a:lnTo>
                  <a:lnTo>
                    <a:pt x="1098" y="826"/>
                  </a:lnTo>
                  <a:lnTo>
                    <a:pt x="1117" y="818"/>
                  </a:lnTo>
                  <a:lnTo>
                    <a:pt x="1130" y="811"/>
                  </a:lnTo>
                  <a:lnTo>
                    <a:pt x="1145" y="803"/>
                  </a:lnTo>
                  <a:lnTo>
                    <a:pt x="1155" y="798"/>
                  </a:lnTo>
                  <a:lnTo>
                    <a:pt x="1165" y="790"/>
                  </a:lnTo>
                  <a:lnTo>
                    <a:pt x="1175" y="783"/>
                  </a:lnTo>
                  <a:lnTo>
                    <a:pt x="1182" y="775"/>
                  </a:lnTo>
                  <a:lnTo>
                    <a:pt x="1190" y="765"/>
                  </a:lnTo>
                  <a:lnTo>
                    <a:pt x="1197" y="758"/>
                  </a:lnTo>
                  <a:lnTo>
                    <a:pt x="1200" y="750"/>
                  </a:lnTo>
                  <a:lnTo>
                    <a:pt x="1200" y="743"/>
                  </a:lnTo>
                  <a:lnTo>
                    <a:pt x="1204" y="733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59320" y="5621040"/>
              <a:ext cx="1181520" cy="298800"/>
            </a:xfrm>
            <a:custGeom>
              <a:avLst/>
              <a:gdLst/>
              <a:ahLst/>
              <a:rect l="l" t="t" r="r" b="b"/>
              <a:pathLst>
                <a:path w="1204" h="326">
                  <a:moveTo>
                    <a:pt x="600" y="0"/>
                  </a:moveTo>
                  <a:lnTo>
                    <a:pt x="632" y="0"/>
                  </a:lnTo>
                  <a:lnTo>
                    <a:pt x="662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49" y="4"/>
                  </a:lnTo>
                  <a:lnTo>
                    <a:pt x="778" y="7"/>
                  </a:lnTo>
                  <a:lnTo>
                    <a:pt x="806" y="10"/>
                  </a:lnTo>
                  <a:lnTo>
                    <a:pt x="833" y="12"/>
                  </a:lnTo>
                  <a:lnTo>
                    <a:pt x="862" y="14"/>
                  </a:lnTo>
                  <a:lnTo>
                    <a:pt x="887" y="20"/>
                  </a:lnTo>
                  <a:lnTo>
                    <a:pt x="914" y="22"/>
                  </a:lnTo>
                  <a:lnTo>
                    <a:pt x="935" y="28"/>
                  </a:lnTo>
                  <a:lnTo>
                    <a:pt x="959" y="32"/>
                  </a:lnTo>
                  <a:lnTo>
                    <a:pt x="984" y="37"/>
                  </a:lnTo>
                  <a:lnTo>
                    <a:pt x="1004" y="43"/>
                  </a:lnTo>
                  <a:lnTo>
                    <a:pt x="1026" y="47"/>
                  </a:lnTo>
                  <a:lnTo>
                    <a:pt x="1046" y="53"/>
                  </a:lnTo>
                  <a:lnTo>
                    <a:pt x="1065" y="57"/>
                  </a:lnTo>
                  <a:lnTo>
                    <a:pt x="1081" y="65"/>
                  </a:lnTo>
                  <a:lnTo>
                    <a:pt x="1098" y="71"/>
                  </a:lnTo>
                  <a:lnTo>
                    <a:pt x="1117" y="78"/>
                  </a:lnTo>
                  <a:lnTo>
                    <a:pt x="1130" y="85"/>
                  </a:lnTo>
                  <a:lnTo>
                    <a:pt x="1145" y="93"/>
                  </a:lnTo>
                  <a:lnTo>
                    <a:pt x="1155" y="100"/>
                  </a:lnTo>
                  <a:lnTo>
                    <a:pt x="1165" y="105"/>
                  </a:lnTo>
                  <a:lnTo>
                    <a:pt x="1175" y="115"/>
                  </a:lnTo>
                  <a:lnTo>
                    <a:pt x="1182" y="122"/>
                  </a:lnTo>
                  <a:lnTo>
                    <a:pt x="1190" y="130"/>
                  </a:lnTo>
                  <a:lnTo>
                    <a:pt x="1197" y="137"/>
                  </a:lnTo>
                  <a:lnTo>
                    <a:pt x="1200" y="144"/>
                  </a:lnTo>
                  <a:lnTo>
                    <a:pt x="1200" y="153"/>
                  </a:lnTo>
                  <a:lnTo>
                    <a:pt x="1204" y="162"/>
                  </a:lnTo>
                  <a:lnTo>
                    <a:pt x="1200" y="170"/>
                  </a:lnTo>
                  <a:lnTo>
                    <a:pt x="1200" y="178"/>
                  </a:lnTo>
                  <a:lnTo>
                    <a:pt x="1197" y="187"/>
                  </a:lnTo>
                  <a:lnTo>
                    <a:pt x="1190" y="195"/>
                  </a:lnTo>
                  <a:lnTo>
                    <a:pt x="1182" y="204"/>
                  </a:lnTo>
                  <a:lnTo>
                    <a:pt x="1175" y="211"/>
                  </a:lnTo>
                  <a:lnTo>
                    <a:pt x="1165" y="218"/>
                  </a:lnTo>
                  <a:lnTo>
                    <a:pt x="1155" y="226"/>
                  </a:lnTo>
                  <a:lnTo>
                    <a:pt x="1145" y="233"/>
                  </a:lnTo>
                  <a:lnTo>
                    <a:pt x="1130" y="240"/>
                  </a:lnTo>
                  <a:lnTo>
                    <a:pt x="1117" y="245"/>
                  </a:lnTo>
                  <a:lnTo>
                    <a:pt x="1098" y="254"/>
                  </a:lnTo>
                  <a:lnTo>
                    <a:pt x="1081" y="261"/>
                  </a:lnTo>
                  <a:lnTo>
                    <a:pt x="1065" y="266"/>
                  </a:lnTo>
                  <a:lnTo>
                    <a:pt x="1046" y="273"/>
                  </a:lnTo>
                  <a:lnTo>
                    <a:pt x="1026" y="277"/>
                  </a:lnTo>
                  <a:lnTo>
                    <a:pt x="1004" y="283"/>
                  </a:lnTo>
                  <a:lnTo>
                    <a:pt x="984" y="288"/>
                  </a:lnTo>
                  <a:lnTo>
                    <a:pt x="959" y="294"/>
                  </a:lnTo>
                  <a:lnTo>
                    <a:pt x="935" y="298"/>
                  </a:lnTo>
                  <a:lnTo>
                    <a:pt x="914" y="302"/>
                  </a:lnTo>
                  <a:lnTo>
                    <a:pt x="887" y="305"/>
                  </a:lnTo>
                  <a:lnTo>
                    <a:pt x="862" y="308"/>
                  </a:lnTo>
                  <a:lnTo>
                    <a:pt x="833" y="313"/>
                  </a:lnTo>
                  <a:lnTo>
                    <a:pt x="806" y="316"/>
                  </a:lnTo>
                  <a:lnTo>
                    <a:pt x="778" y="319"/>
                  </a:lnTo>
                  <a:lnTo>
                    <a:pt x="749" y="320"/>
                  </a:lnTo>
                  <a:lnTo>
                    <a:pt x="723" y="320"/>
                  </a:lnTo>
                  <a:lnTo>
                    <a:pt x="691" y="323"/>
                  </a:lnTo>
                  <a:lnTo>
                    <a:pt x="662" y="323"/>
                  </a:lnTo>
                  <a:lnTo>
                    <a:pt x="632" y="326"/>
                  </a:lnTo>
                  <a:lnTo>
                    <a:pt x="568" y="326"/>
                  </a:lnTo>
                  <a:lnTo>
                    <a:pt x="541" y="323"/>
                  </a:lnTo>
                  <a:lnTo>
                    <a:pt x="510" y="323"/>
                  </a:lnTo>
                  <a:lnTo>
                    <a:pt x="478" y="320"/>
                  </a:lnTo>
                  <a:lnTo>
                    <a:pt x="449" y="320"/>
                  </a:lnTo>
                  <a:lnTo>
                    <a:pt x="422" y="319"/>
                  </a:lnTo>
                  <a:lnTo>
                    <a:pt x="394" y="316"/>
                  </a:lnTo>
                  <a:lnTo>
                    <a:pt x="365" y="313"/>
                  </a:lnTo>
                  <a:lnTo>
                    <a:pt x="342" y="308"/>
                  </a:lnTo>
                  <a:lnTo>
                    <a:pt x="313" y="305"/>
                  </a:lnTo>
                  <a:lnTo>
                    <a:pt x="290" y="302"/>
                  </a:lnTo>
                  <a:lnTo>
                    <a:pt x="265" y="298"/>
                  </a:lnTo>
                  <a:lnTo>
                    <a:pt x="241" y="294"/>
                  </a:lnTo>
                  <a:lnTo>
                    <a:pt x="216" y="288"/>
                  </a:lnTo>
                  <a:lnTo>
                    <a:pt x="196" y="283"/>
                  </a:lnTo>
                  <a:lnTo>
                    <a:pt x="174" y="277"/>
                  </a:lnTo>
                  <a:lnTo>
                    <a:pt x="154" y="273"/>
                  </a:lnTo>
                  <a:lnTo>
                    <a:pt x="136" y="266"/>
                  </a:lnTo>
                  <a:lnTo>
                    <a:pt x="119" y="261"/>
                  </a:lnTo>
                  <a:lnTo>
                    <a:pt x="101" y="254"/>
                  </a:lnTo>
                  <a:lnTo>
                    <a:pt x="87" y="245"/>
                  </a:lnTo>
                  <a:lnTo>
                    <a:pt x="70" y="240"/>
                  </a:lnTo>
                  <a:lnTo>
                    <a:pt x="59" y="233"/>
                  </a:lnTo>
                  <a:lnTo>
                    <a:pt x="45" y="226"/>
                  </a:lnTo>
                  <a:lnTo>
                    <a:pt x="35" y="218"/>
                  </a:lnTo>
                  <a:lnTo>
                    <a:pt x="25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7"/>
                  </a:lnTo>
                  <a:lnTo>
                    <a:pt x="3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3" y="144"/>
                  </a:lnTo>
                  <a:lnTo>
                    <a:pt x="7" y="137"/>
                  </a:lnTo>
                  <a:lnTo>
                    <a:pt x="10" y="130"/>
                  </a:lnTo>
                  <a:lnTo>
                    <a:pt x="17" y="122"/>
                  </a:lnTo>
                  <a:lnTo>
                    <a:pt x="25" y="115"/>
                  </a:lnTo>
                  <a:lnTo>
                    <a:pt x="35" y="105"/>
                  </a:lnTo>
                  <a:lnTo>
                    <a:pt x="45" y="100"/>
                  </a:lnTo>
                  <a:lnTo>
                    <a:pt x="59" y="93"/>
                  </a:lnTo>
                  <a:lnTo>
                    <a:pt x="70" y="85"/>
                  </a:lnTo>
                  <a:lnTo>
                    <a:pt x="87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7"/>
                  </a:lnTo>
                  <a:lnTo>
                    <a:pt x="154" y="53"/>
                  </a:lnTo>
                  <a:lnTo>
                    <a:pt x="174" y="47"/>
                  </a:lnTo>
                  <a:lnTo>
                    <a:pt x="196" y="43"/>
                  </a:lnTo>
                  <a:lnTo>
                    <a:pt x="216" y="37"/>
                  </a:lnTo>
                  <a:lnTo>
                    <a:pt x="241" y="32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3" y="20"/>
                  </a:lnTo>
                  <a:lnTo>
                    <a:pt x="342" y="14"/>
                  </a:lnTo>
                  <a:lnTo>
                    <a:pt x="365" y="12"/>
                  </a:lnTo>
                  <a:lnTo>
                    <a:pt x="394" y="10"/>
                  </a:lnTo>
                  <a:lnTo>
                    <a:pt x="422" y="7"/>
                  </a:lnTo>
                  <a:lnTo>
                    <a:pt x="449" y="4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1" y="0"/>
                  </a:lnTo>
                  <a:lnTo>
                    <a:pt x="56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000" y="5742000"/>
              <a:ext cx="1181160" cy="821160"/>
            </a:xfrm>
            <a:custGeom>
              <a:avLst/>
              <a:gdLst/>
              <a:ahLst/>
              <a:rect l="l" t="t" r="r" b="b"/>
              <a:pathLst>
                <a:path w="1204" h="896">
                  <a:moveTo>
                    <a:pt x="1204" y="0"/>
                  </a:moveTo>
                  <a:lnTo>
                    <a:pt x="1201" y="7"/>
                  </a:lnTo>
                  <a:lnTo>
                    <a:pt x="1201" y="16"/>
                  </a:lnTo>
                  <a:lnTo>
                    <a:pt x="1197" y="25"/>
                  </a:lnTo>
                  <a:lnTo>
                    <a:pt x="1191" y="32"/>
                  </a:lnTo>
                  <a:lnTo>
                    <a:pt x="1182" y="41"/>
                  </a:lnTo>
                  <a:lnTo>
                    <a:pt x="1176" y="48"/>
                  </a:lnTo>
                  <a:lnTo>
                    <a:pt x="1166" y="56"/>
                  </a:lnTo>
                  <a:lnTo>
                    <a:pt x="1156" y="63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2"/>
                  </a:lnTo>
                  <a:lnTo>
                    <a:pt x="1099" y="91"/>
                  </a:lnTo>
                  <a:lnTo>
                    <a:pt x="1082" y="99"/>
                  </a:lnTo>
                  <a:lnTo>
                    <a:pt x="1065" y="103"/>
                  </a:lnTo>
                  <a:lnTo>
                    <a:pt x="1047" y="110"/>
                  </a:lnTo>
                  <a:lnTo>
                    <a:pt x="1026" y="115"/>
                  </a:lnTo>
                  <a:lnTo>
                    <a:pt x="1005" y="121"/>
                  </a:lnTo>
                  <a:lnTo>
                    <a:pt x="985" y="125"/>
                  </a:lnTo>
                  <a:lnTo>
                    <a:pt x="959" y="131"/>
                  </a:lnTo>
                  <a:lnTo>
                    <a:pt x="936" y="135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4" y="150"/>
                  </a:lnTo>
                  <a:lnTo>
                    <a:pt x="807" y="153"/>
                  </a:lnTo>
                  <a:lnTo>
                    <a:pt x="778" y="156"/>
                  </a:lnTo>
                  <a:lnTo>
                    <a:pt x="750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3" y="161"/>
                  </a:lnTo>
                  <a:lnTo>
                    <a:pt x="632" y="164"/>
                  </a:lnTo>
                  <a:lnTo>
                    <a:pt x="569" y="164"/>
                  </a:lnTo>
                  <a:lnTo>
                    <a:pt x="542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50" y="158"/>
                  </a:lnTo>
                  <a:lnTo>
                    <a:pt x="423" y="156"/>
                  </a:lnTo>
                  <a:lnTo>
                    <a:pt x="394" y="153"/>
                  </a:lnTo>
                  <a:lnTo>
                    <a:pt x="366" y="150"/>
                  </a:lnTo>
                  <a:lnTo>
                    <a:pt x="342" y="146"/>
                  </a:lnTo>
                  <a:lnTo>
                    <a:pt x="314" y="143"/>
                  </a:lnTo>
                  <a:lnTo>
                    <a:pt x="290" y="140"/>
                  </a:lnTo>
                  <a:lnTo>
                    <a:pt x="265" y="135"/>
                  </a:lnTo>
                  <a:lnTo>
                    <a:pt x="242" y="131"/>
                  </a:lnTo>
                  <a:lnTo>
                    <a:pt x="217" y="125"/>
                  </a:lnTo>
                  <a:lnTo>
                    <a:pt x="197" y="121"/>
                  </a:lnTo>
                  <a:lnTo>
                    <a:pt x="175" y="115"/>
                  </a:lnTo>
                  <a:lnTo>
                    <a:pt x="155" y="110"/>
                  </a:lnTo>
                  <a:lnTo>
                    <a:pt x="136" y="103"/>
                  </a:lnTo>
                  <a:lnTo>
                    <a:pt x="119" y="99"/>
                  </a:lnTo>
                  <a:lnTo>
                    <a:pt x="101" y="91"/>
                  </a:lnTo>
                  <a:lnTo>
                    <a:pt x="88" y="82"/>
                  </a:lnTo>
                  <a:lnTo>
                    <a:pt x="71" y="78"/>
                  </a:lnTo>
                  <a:lnTo>
                    <a:pt x="59" y="71"/>
                  </a:lnTo>
                  <a:lnTo>
                    <a:pt x="46" y="63"/>
                  </a:lnTo>
                  <a:lnTo>
                    <a:pt x="36" y="56"/>
                  </a:lnTo>
                  <a:lnTo>
                    <a:pt x="26" y="48"/>
                  </a:lnTo>
                  <a:lnTo>
                    <a:pt x="17" y="41"/>
                  </a:lnTo>
                  <a:lnTo>
                    <a:pt x="10" y="32"/>
                  </a:lnTo>
                  <a:lnTo>
                    <a:pt x="7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4" y="750"/>
                  </a:lnTo>
                  <a:lnTo>
                    <a:pt x="7" y="757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6" y="782"/>
                  </a:lnTo>
                  <a:lnTo>
                    <a:pt x="36" y="790"/>
                  </a:lnTo>
                  <a:lnTo>
                    <a:pt x="46" y="797"/>
                  </a:lnTo>
                  <a:lnTo>
                    <a:pt x="59" y="803"/>
                  </a:lnTo>
                  <a:lnTo>
                    <a:pt x="71" y="810"/>
                  </a:lnTo>
                  <a:lnTo>
                    <a:pt x="88" y="818"/>
                  </a:lnTo>
                  <a:lnTo>
                    <a:pt x="101" y="825"/>
                  </a:lnTo>
                  <a:lnTo>
                    <a:pt x="119" y="832"/>
                  </a:lnTo>
                  <a:lnTo>
                    <a:pt x="136" y="838"/>
                  </a:lnTo>
                  <a:lnTo>
                    <a:pt x="155" y="843"/>
                  </a:lnTo>
                  <a:lnTo>
                    <a:pt x="175" y="847"/>
                  </a:lnTo>
                  <a:lnTo>
                    <a:pt x="197" y="853"/>
                  </a:lnTo>
                  <a:lnTo>
                    <a:pt x="217" y="861"/>
                  </a:lnTo>
                  <a:lnTo>
                    <a:pt x="242" y="863"/>
                  </a:lnTo>
                  <a:lnTo>
                    <a:pt x="265" y="868"/>
                  </a:lnTo>
                  <a:lnTo>
                    <a:pt x="290" y="872"/>
                  </a:lnTo>
                  <a:lnTo>
                    <a:pt x="314" y="875"/>
                  </a:lnTo>
                  <a:lnTo>
                    <a:pt x="342" y="880"/>
                  </a:lnTo>
                  <a:lnTo>
                    <a:pt x="366" y="883"/>
                  </a:lnTo>
                  <a:lnTo>
                    <a:pt x="394" y="886"/>
                  </a:lnTo>
                  <a:lnTo>
                    <a:pt x="423" y="889"/>
                  </a:lnTo>
                  <a:lnTo>
                    <a:pt x="450" y="890"/>
                  </a:lnTo>
                  <a:lnTo>
                    <a:pt x="478" y="893"/>
                  </a:lnTo>
                  <a:lnTo>
                    <a:pt x="510" y="896"/>
                  </a:lnTo>
                  <a:lnTo>
                    <a:pt x="542" y="896"/>
                  </a:lnTo>
                  <a:lnTo>
                    <a:pt x="569" y="896"/>
                  </a:lnTo>
                  <a:lnTo>
                    <a:pt x="632" y="896"/>
                  </a:lnTo>
                  <a:lnTo>
                    <a:pt x="663" y="896"/>
                  </a:lnTo>
                  <a:lnTo>
                    <a:pt x="691" y="896"/>
                  </a:lnTo>
                  <a:lnTo>
                    <a:pt x="723" y="893"/>
                  </a:lnTo>
                  <a:lnTo>
                    <a:pt x="750" y="890"/>
                  </a:lnTo>
                  <a:lnTo>
                    <a:pt x="778" y="889"/>
                  </a:lnTo>
                  <a:lnTo>
                    <a:pt x="807" y="886"/>
                  </a:lnTo>
                  <a:lnTo>
                    <a:pt x="834" y="883"/>
                  </a:lnTo>
                  <a:lnTo>
                    <a:pt x="862" y="880"/>
                  </a:lnTo>
                  <a:lnTo>
                    <a:pt x="887" y="875"/>
                  </a:lnTo>
                  <a:lnTo>
                    <a:pt x="914" y="872"/>
                  </a:lnTo>
                  <a:lnTo>
                    <a:pt x="936" y="868"/>
                  </a:lnTo>
                  <a:lnTo>
                    <a:pt x="959" y="863"/>
                  </a:lnTo>
                  <a:lnTo>
                    <a:pt x="985" y="861"/>
                  </a:lnTo>
                  <a:lnTo>
                    <a:pt x="1005" y="853"/>
                  </a:lnTo>
                  <a:lnTo>
                    <a:pt x="1026" y="847"/>
                  </a:lnTo>
                  <a:lnTo>
                    <a:pt x="1047" y="843"/>
                  </a:lnTo>
                  <a:lnTo>
                    <a:pt x="1065" y="838"/>
                  </a:lnTo>
                  <a:lnTo>
                    <a:pt x="1082" y="832"/>
                  </a:lnTo>
                  <a:lnTo>
                    <a:pt x="1099" y="825"/>
                  </a:lnTo>
                  <a:lnTo>
                    <a:pt x="1117" y="818"/>
                  </a:lnTo>
                  <a:lnTo>
                    <a:pt x="1130" y="810"/>
                  </a:lnTo>
                  <a:lnTo>
                    <a:pt x="1145" y="803"/>
                  </a:lnTo>
                  <a:lnTo>
                    <a:pt x="1156" y="797"/>
                  </a:lnTo>
                  <a:lnTo>
                    <a:pt x="1166" y="790"/>
                  </a:lnTo>
                  <a:lnTo>
                    <a:pt x="1176" y="782"/>
                  </a:lnTo>
                  <a:lnTo>
                    <a:pt x="1182" y="775"/>
                  </a:lnTo>
                  <a:lnTo>
                    <a:pt x="1191" y="765"/>
                  </a:lnTo>
                  <a:lnTo>
                    <a:pt x="1197" y="757"/>
                  </a:lnTo>
                  <a:lnTo>
                    <a:pt x="1201" y="750"/>
                  </a:lnTo>
                  <a:lnTo>
                    <a:pt x="1201" y="742"/>
                  </a:lnTo>
                  <a:lnTo>
                    <a:pt x="1204" y="732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8000" y="5593680"/>
              <a:ext cx="1181160" cy="298800"/>
            </a:xfrm>
            <a:custGeom>
              <a:avLst/>
              <a:gdLst/>
              <a:ahLst/>
              <a:rect l="l" t="t" r="r" b="b"/>
              <a:pathLst>
                <a:path w="1204" h="327">
                  <a:moveTo>
                    <a:pt x="601" y="0"/>
                  </a:moveTo>
                  <a:lnTo>
                    <a:pt x="632" y="0"/>
                  </a:lnTo>
                  <a:lnTo>
                    <a:pt x="663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50" y="5"/>
                  </a:lnTo>
                  <a:lnTo>
                    <a:pt x="778" y="8"/>
                  </a:lnTo>
                  <a:lnTo>
                    <a:pt x="807" y="11"/>
                  </a:lnTo>
                  <a:lnTo>
                    <a:pt x="834" y="12"/>
                  </a:lnTo>
                  <a:lnTo>
                    <a:pt x="862" y="15"/>
                  </a:lnTo>
                  <a:lnTo>
                    <a:pt x="887" y="21"/>
                  </a:lnTo>
                  <a:lnTo>
                    <a:pt x="914" y="22"/>
                  </a:lnTo>
                  <a:lnTo>
                    <a:pt x="936" y="28"/>
                  </a:lnTo>
                  <a:lnTo>
                    <a:pt x="959" y="33"/>
                  </a:lnTo>
                  <a:lnTo>
                    <a:pt x="985" y="37"/>
                  </a:lnTo>
                  <a:lnTo>
                    <a:pt x="1005" y="43"/>
                  </a:lnTo>
                  <a:lnTo>
                    <a:pt x="1026" y="47"/>
                  </a:lnTo>
                  <a:lnTo>
                    <a:pt x="1047" y="53"/>
                  </a:lnTo>
                  <a:lnTo>
                    <a:pt x="1065" y="58"/>
                  </a:lnTo>
                  <a:lnTo>
                    <a:pt x="1082" y="65"/>
                  </a:lnTo>
                  <a:lnTo>
                    <a:pt x="1099" y="71"/>
                  </a:lnTo>
                  <a:lnTo>
                    <a:pt x="1117" y="78"/>
                  </a:lnTo>
                  <a:lnTo>
                    <a:pt x="1130" y="86"/>
                  </a:lnTo>
                  <a:lnTo>
                    <a:pt x="1145" y="93"/>
                  </a:lnTo>
                  <a:lnTo>
                    <a:pt x="1156" y="101"/>
                  </a:lnTo>
                  <a:lnTo>
                    <a:pt x="1166" y="105"/>
                  </a:lnTo>
                  <a:lnTo>
                    <a:pt x="1176" y="115"/>
                  </a:lnTo>
                  <a:lnTo>
                    <a:pt x="1182" y="123"/>
                  </a:lnTo>
                  <a:lnTo>
                    <a:pt x="1191" y="130"/>
                  </a:lnTo>
                  <a:lnTo>
                    <a:pt x="1197" y="138"/>
                  </a:lnTo>
                  <a:lnTo>
                    <a:pt x="1201" y="145"/>
                  </a:lnTo>
                  <a:lnTo>
                    <a:pt x="1201" y="154"/>
                  </a:lnTo>
                  <a:lnTo>
                    <a:pt x="1204" y="163"/>
                  </a:lnTo>
                  <a:lnTo>
                    <a:pt x="1201" y="170"/>
                  </a:lnTo>
                  <a:lnTo>
                    <a:pt x="1201" y="179"/>
                  </a:lnTo>
                  <a:lnTo>
                    <a:pt x="1197" y="188"/>
                  </a:lnTo>
                  <a:lnTo>
                    <a:pt x="1191" y="195"/>
                  </a:lnTo>
                  <a:lnTo>
                    <a:pt x="1182" y="204"/>
                  </a:lnTo>
                  <a:lnTo>
                    <a:pt x="1176" y="211"/>
                  </a:lnTo>
                  <a:lnTo>
                    <a:pt x="1166" y="219"/>
                  </a:lnTo>
                  <a:lnTo>
                    <a:pt x="1156" y="226"/>
                  </a:lnTo>
                  <a:lnTo>
                    <a:pt x="1145" y="234"/>
                  </a:lnTo>
                  <a:lnTo>
                    <a:pt x="1130" y="241"/>
                  </a:lnTo>
                  <a:lnTo>
                    <a:pt x="1117" y="245"/>
                  </a:lnTo>
                  <a:lnTo>
                    <a:pt x="1099" y="254"/>
                  </a:lnTo>
                  <a:lnTo>
                    <a:pt x="1082" y="262"/>
                  </a:lnTo>
                  <a:lnTo>
                    <a:pt x="1065" y="266"/>
                  </a:lnTo>
                  <a:lnTo>
                    <a:pt x="1047" y="273"/>
                  </a:lnTo>
                  <a:lnTo>
                    <a:pt x="1026" y="278"/>
                  </a:lnTo>
                  <a:lnTo>
                    <a:pt x="1005" y="284"/>
                  </a:lnTo>
                  <a:lnTo>
                    <a:pt x="985" y="288"/>
                  </a:lnTo>
                  <a:lnTo>
                    <a:pt x="959" y="294"/>
                  </a:lnTo>
                  <a:lnTo>
                    <a:pt x="936" y="298"/>
                  </a:lnTo>
                  <a:lnTo>
                    <a:pt x="914" y="303"/>
                  </a:lnTo>
                  <a:lnTo>
                    <a:pt x="887" y="306"/>
                  </a:lnTo>
                  <a:lnTo>
                    <a:pt x="862" y="309"/>
                  </a:lnTo>
                  <a:lnTo>
                    <a:pt x="834" y="313"/>
                  </a:lnTo>
                  <a:lnTo>
                    <a:pt x="807" y="316"/>
                  </a:lnTo>
                  <a:lnTo>
                    <a:pt x="778" y="319"/>
                  </a:lnTo>
                  <a:lnTo>
                    <a:pt x="750" y="321"/>
                  </a:lnTo>
                  <a:lnTo>
                    <a:pt x="723" y="321"/>
                  </a:lnTo>
                  <a:lnTo>
                    <a:pt x="691" y="324"/>
                  </a:lnTo>
                  <a:lnTo>
                    <a:pt x="663" y="324"/>
                  </a:lnTo>
                  <a:lnTo>
                    <a:pt x="632" y="327"/>
                  </a:lnTo>
                  <a:lnTo>
                    <a:pt x="569" y="327"/>
                  </a:lnTo>
                  <a:lnTo>
                    <a:pt x="542" y="324"/>
                  </a:lnTo>
                  <a:lnTo>
                    <a:pt x="510" y="324"/>
                  </a:lnTo>
                  <a:lnTo>
                    <a:pt x="478" y="321"/>
                  </a:lnTo>
                  <a:lnTo>
                    <a:pt x="450" y="321"/>
                  </a:lnTo>
                  <a:lnTo>
                    <a:pt x="423" y="319"/>
                  </a:lnTo>
                  <a:lnTo>
                    <a:pt x="394" y="316"/>
                  </a:lnTo>
                  <a:lnTo>
                    <a:pt x="366" y="313"/>
                  </a:lnTo>
                  <a:lnTo>
                    <a:pt x="342" y="309"/>
                  </a:lnTo>
                  <a:lnTo>
                    <a:pt x="314" y="306"/>
                  </a:lnTo>
                  <a:lnTo>
                    <a:pt x="290" y="303"/>
                  </a:lnTo>
                  <a:lnTo>
                    <a:pt x="265" y="298"/>
                  </a:lnTo>
                  <a:lnTo>
                    <a:pt x="242" y="294"/>
                  </a:lnTo>
                  <a:lnTo>
                    <a:pt x="217" y="288"/>
                  </a:lnTo>
                  <a:lnTo>
                    <a:pt x="197" y="284"/>
                  </a:lnTo>
                  <a:lnTo>
                    <a:pt x="175" y="278"/>
                  </a:lnTo>
                  <a:lnTo>
                    <a:pt x="155" y="273"/>
                  </a:lnTo>
                  <a:lnTo>
                    <a:pt x="136" y="266"/>
                  </a:lnTo>
                  <a:lnTo>
                    <a:pt x="119" y="262"/>
                  </a:lnTo>
                  <a:lnTo>
                    <a:pt x="101" y="254"/>
                  </a:lnTo>
                  <a:lnTo>
                    <a:pt x="88" y="245"/>
                  </a:lnTo>
                  <a:lnTo>
                    <a:pt x="71" y="241"/>
                  </a:lnTo>
                  <a:lnTo>
                    <a:pt x="59" y="234"/>
                  </a:lnTo>
                  <a:lnTo>
                    <a:pt x="46" y="226"/>
                  </a:lnTo>
                  <a:lnTo>
                    <a:pt x="36" y="219"/>
                  </a:lnTo>
                  <a:lnTo>
                    <a:pt x="26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8"/>
                  </a:lnTo>
                  <a:lnTo>
                    <a:pt x="4" y="179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4" y="145"/>
                  </a:lnTo>
                  <a:lnTo>
                    <a:pt x="7" y="138"/>
                  </a:lnTo>
                  <a:lnTo>
                    <a:pt x="10" y="130"/>
                  </a:lnTo>
                  <a:lnTo>
                    <a:pt x="17" y="123"/>
                  </a:lnTo>
                  <a:lnTo>
                    <a:pt x="26" y="115"/>
                  </a:lnTo>
                  <a:lnTo>
                    <a:pt x="36" y="105"/>
                  </a:lnTo>
                  <a:lnTo>
                    <a:pt x="46" y="101"/>
                  </a:lnTo>
                  <a:lnTo>
                    <a:pt x="59" y="93"/>
                  </a:lnTo>
                  <a:lnTo>
                    <a:pt x="71" y="86"/>
                  </a:lnTo>
                  <a:lnTo>
                    <a:pt x="88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8"/>
                  </a:lnTo>
                  <a:lnTo>
                    <a:pt x="155" y="53"/>
                  </a:lnTo>
                  <a:lnTo>
                    <a:pt x="175" y="47"/>
                  </a:lnTo>
                  <a:lnTo>
                    <a:pt x="197" y="43"/>
                  </a:lnTo>
                  <a:lnTo>
                    <a:pt x="217" y="37"/>
                  </a:lnTo>
                  <a:lnTo>
                    <a:pt x="242" y="33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4" y="21"/>
                  </a:lnTo>
                  <a:lnTo>
                    <a:pt x="342" y="15"/>
                  </a:lnTo>
                  <a:lnTo>
                    <a:pt x="366" y="12"/>
                  </a:lnTo>
                  <a:lnTo>
                    <a:pt x="394" y="11"/>
                  </a:lnTo>
                  <a:lnTo>
                    <a:pt x="423" y="8"/>
                  </a:lnTo>
                  <a:lnTo>
                    <a:pt x="450" y="5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2" y="0"/>
                  </a:lnTo>
                  <a:lnTo>
                    <a:pt x="569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8360" y="6098040"/>
              <a:ext cx="34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26080" y="62020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8000" y="445716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096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8000" y="451044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5120" y="4528800"/>
              <a:ext cx="672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tructura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8000" y="33739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096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8000" y="3428640"/>
              <a:ext cx="1182600" cy="9734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5240" y="3445560"/>
              <a:ext cx="73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de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8000" y="22924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096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28000" y="234540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1640" y="234000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uerimientos  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8000" y="12088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096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8000" y="126216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6520" y="1280520"/>
              <a:ext cx="735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ujeto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8000" y="6667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096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8000" y="721440"/>
              <a:ext cx="118260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254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68280" y="899280"/>
              <a:ext cx="1746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AT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272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000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2720" y="451044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2840" y="4528800"/>
              <a:ext cx="628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gramas Apli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272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000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2720" y="3428640"/>
              <a:ext cx="1186920" cy="9734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02480" y="348372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Aplicaci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272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3000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42720" y="234540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2000" y="236376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cesos de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272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3000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2720" y="126216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8880" y="1284120"/>
              <a:ext cx="843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Funcione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272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000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272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232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8680" y="932040"/>
              <a:ext cx="287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176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868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760" y="451044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15040" y="4528800"/>
              <a:ext cx="889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mponente Program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176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868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61760" y="3428640"/>
              <a:ext cx="1186920" cy="97344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7720" y="3445560"/>
              <a:ext cx="681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6176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868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1760" y="234540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9080" y="2340000"/>
              <a:ext cx="66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. de Interfa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176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868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1760" y="126216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23320" y="128412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ntexto del Siste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6176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4868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6176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1280" y="824040"/>
              <a:ext cx="244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09880" y="932040"/>
              <a:ext cx="31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8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6480" y="6537600"/>
              <a:ext cx="1141920" cy="3096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789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653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03920" y="6031800"/>
              <a:ext cx="453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99960" y="5714640"/>
              <a:ext cx="1131840" cy="198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6000" y="5745960"/>
              <a:ext cx="1131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83760" y="5593680"/>
              <a:ext cx="239760" cy="151920"/>
            </a:xfrm>
            <a:custGeom>
              <a:avLst/>
              <a:gdLst/>
              <a:ahLst/>
              <a:rect l="l" t="t" r="r" b="b"/>
              <a:pathLst>
                <a:path w="241" h="166">
                  <a:moveTo>
                    <a:pt x="0" y="166"/>
                  </a:moveTo>
                  <a:lnTo>
                    <a:pt x="0" y="132"/>
                  </a:lnTo>
                  <a:lnTo>
                    <a:pt x="24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99960" y="5593680"/>
              <a:ext cx="235440" cy="12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2720" y="5745960"/>
              <a:ext cx="406800" cy="791640"/>
            </a:xfrm>
            <a:custGeom>
              <a:avLst/>
              <a:gdLst/>
              <a:ahLst/>
              <a:rect l="l" t="t" r="r" b="b"/>
              <a:pathLst>
                <a:path w="410" h="865">
                  <a:moveTo>
                    <a:pt x="42" y="0"/>
                  </a:moveTo>
                  <a:lnTo>
                    <a:pt x="42" y="221"/>
                  </a:lnTo>
                  <a:lnTo>
                    <a:pt x="0" y="221"/>
                  </a:lnTo>
                  <a:lnTo>
                    <a:pt x="13" y="221"/>
                  </a:lnTo>
                  <a:lnTo>
                    <a:pt x="0" y="233"/>
                  </a:lnTo>
                  <a:lnTo>
                    <a:pt x="42" y="233"/>
                  </a:lnTo>
                  <a:lnTo>
                    <a:pt x="42" y="865"/>
                  </a:lnTo>
                  <a:lnTo>
                    <a:pt x="52" y="865"/>
                  </a:lnTo>
                  <a:lnTo>
                    <a:pt x="52" y="233"/>
                  </a:lnTo>
                  <a:lnTo>
                    <a:pt x="400" y="233"/>
                  </a:lnTo>
                  <a:lnTo>
                    <a:pt x="400" y="865"/>
                  </a:lnTo>
                  <a:lnTo>
                    <a:pt x="410" y="865"/>
                  </a:lnTo>
                  <a:lnTo>
                    <a:pt x="410" y="0"/>
                  </a:lnTo>
                  <a:lnTo>
                    <a:pt x="400" y="0"/>
                  </a:lnTo>
                  <a:lnTo>
                    <a:pt x="400" y="221"/>
                  </a:lnTo>
                  <a:lnTo>
                    <a:pt x="52" y="221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9640" y="5925240"/>
              <a:ext cx="32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63760" y="6029640"/>
              <a:ext cx="558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(and Hardware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920" y="61344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54440" y="6114240"/>
              <a:ext cx="595440" cy="89640"/>
            </a:xfrm>
            <a:custGeom>
              <a:avLst/>
              <a:gdLst/>
              <a:ahLst/>
              <a:rect l="l" t="t" r="r" b="b"/>
              <a:pathLst>
                <a:path w="605" h="99">
                  <a:moveTo>
                    <a:pt x="0" y="99"/>
                  </a:moveTo>
                  <a:lnTo>
                    <a:pt x="86" y="0"/>
                  </a:lnTo>
                  <a:lnTo>
                    <a:pt x="525" y="0"/>
                  </a:lnTo>
                  <a:lnTo>
                    <a:pt x="605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52280" y="6202080"/>
              <a:ext cx="601560" cy="23400"/>
            </a:xfrm>
            <a:custGeom>
              <a:avLst/>
              <a:gdLst/>
              <a:ahLst/>
              <a:rect l="l" t="t" r="r" b="b"/>
              <a:pathLst>
                <a:path w="613" h="27">
                  <a:moveTo>
                    <a:pt x="8" y="0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8" y="27"/>
                  </a:lnTo>
                  <a:lnTo>
                    <a:pt x="605" y="27"/>
                  </a:lnTo>
                  <a:lnTo>
                    <a:pt x="613" y="19"/>
                  </a:lnTo>
                  <a:lnTo>
                    <a:pt x="613" y="8"/>
                  </a:lnTo>
                  <a:lnTo>
                    <a:pt x="60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1320" y="5653800"/>
              <a:ext cx="667800" cy="40320"/>
            </a:xfrm>
            <a:custGeom>
              <a:avLst/>
              <a:gdLst/>
              <a:ahLst/>
              <a:rect l="l" t="t" r="r" b="b"/>
              <a:pathLst>
                <a:path w="681" h="42">
                  <a:moveTo>
                    <a:pt x="0" y="42"/>
                  </a:moveTo>
                  <a:lnTo>
                    <a:pt x="136" y="0"/>
                  </a:lnTo>
                  <a:lnTo>
                    <a:pt x="545" y="0"/>
                  </a:lnTo>
                  <a:lnTo>
                    <a:pt x="681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5480" y="5690880"/>
              <a:ext cx="699120" cy="478440"/>
            </a:xfrm>
            <a:custGeom>
              <a:avLst/>
              <a:gdLst/>
              <a:ahLst/>
              <a:rect l="l" t="t" r="r" b="b"/>
              <a:pathLst>
                <a:path w="714" h="523">
                  <a:moveTo>
                    <a:pt x="32" y="523"/>
                  </a:moveTo>
                  <a:lnTo>
                    <a:pt x="29" y="523"/>
                  </a:lnTo>
                  <a:lnTo>
                    <a:pt x="20" y="520"/>
                  </a:lnTo>
                  <a:lnTo>
                    <a:pt x="17" y="520"/>
                  </a:lnTo>
                  <a:lnTo>
                    <a:pt x="9" y="515"/>
                  </a:lnTo>
                  <a:lnTo>
                    <a:pt x="4" y="508"/>
                  </a:lnTo>
                  <a:lnTo>
                    <a:pt x="4" y="504"/>
                  </a:lnTo>
                  <a:lnTo>
                    <a:pt x="0" y="496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9" y="7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9" y="0"/>
                  </a:lnTo>
                  <a:lnTo>
                    <a:pt x="686" y="0"/>
                  </a:lnTo>
                  <a:lnTo>
                    <a:pt x="694" y="4"/>
                  </a:lnTo>
                  <a:lnTo>
                    <a:pt x="698" y="4"/>
                  </a:lnTo>
                  <a:lnTo>
                    <a:pt x="706" y="7"/>
                  </a:lnTo>
                  <a:lnTo>
                    <a:pt x="711" y="15"/>
                  </a:lnTo>
                  <a:lnTo>
                    <a:pt x="711" y="19"/>
                  </a:lnTo>
                  <a:lnTo>
                    <a:pt x="714" y="27"/>
                  </a:lnTo>
                  <a:lnTo>
                    <a:pt x="714" y="496"/>
                  </a:lnTo>
                  <a:lnTo>
                    <a:pt x="711" y="504"/>
                  </a:lnTo>
                  <a:lnTo>
                    <a:pt x="711" y="508"/>
                  </a:lnTo>
                  <a:lnTo>
                    <a:pt x="706" y="515"/>
                  </a:lnTo>
                  <a:lnTo>
                    <a:pt x="698" y="520"/>
                  </a:lnTo>
                  <a:lnTo>
                    <a:pt x="694" y="520"/>
                  </a:lnTo>
                  <a:lnTo>
                    <a:pt x="686" y="523"/>
                  </a:lnTo>
                  <a:lnTo>
                    <a:pt x="32" y="52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0000" y="5740560"/>
              <a:ext cx="550440" cy="373680"/>
            </a:xfrm>
            <a:custGeom>
              <a:avLst/>
              <a:gdLst/>
              <a:ahLst/>
              <a:rect l="l" t="t" r="r" b="b"/>
              <a:pathLst>
                <a:path w="560" h="407">
                  <a:moveTo>
                    <a:pt x="24" y="407"/>
                  </a:moveTo>
                  <a:lnTo>
                    <a:pt x="21" y="407"/>
                  </a:lnTo>
                  <a:lnTo>
                    <a:pt x="15" y="403"/>
                  </a:lnTo>
                  <a:lnTo>
                    <a:pt x="12" y="403"/>
                  </a:lnTo>
                  <a:lnTo>
                    <a:pt x="4" y="395"/>
                  </a:lnTo>
                  <a:lnTo>
                    <a:pt x="4" y="391"/>
                  </a:lnTo>
                  <a:lnTo>
                    <a:pt x="0" y="38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540" y="0"/>
                  </a:lnTo>
                  <a:lnTo>
                    <a:pt x="545" y="3"/>
                  </a:lnTo>
                  <a:lnTo>
                    <a:pt x="549" y="3"/>
                  </a:lnTo>
                  <a:lnTo>
                    <a:pt x="557" y="10"/>
                  </a:lnTo>
                  <a:lnTo>
                    <a:pt x="557" y="14"/>
                  </a:lnTo>
                  <a:lnTo>
                    <a:pt x="560" y="19"/>
                  </a:lnTo>
                  <a:lnTo>
                    <a:pt x="560" y="388"/>
                  </a:lnTo>
                  <a:lnTo>
                    <a:pt x="557" y="391"/>
                  </a:lnTo>
                  <a:lnTo>
                    <a:pt x="557" y="395"/>
                  </a:lnTo>
                  <a:lnTo>
                    <a:pt x="549" y="403"/>
                  </a:lnTo>
                  <a:lnTo>
                    <a:pt x="545" y="403"/>
                  </a:lnTo>
                  <a:lnTo>
                    <a:pt x="540" y="407"/>
                  </a:lnTo>
                  <a:lnTo>
                    <a:pt x="24" y="40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7400" y="6301080"/>
              <a:ext cx="935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6160" y="6337800"/>
              <a:ext cx="98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8160" y="6381720"/>
              <a:ext cx="1015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1760" y="6405480"/>
              <a:ext cx="1186920" cy="42120"/>
            </a:xfrm>
            <a:custGeom>
              <a:avLst/>
              <a:gdLst/>
              <a:ahLst/>
              <a:rect l="l" t="t" r="r" b="b"/>
              <a:pathLst>
                <a:path w="1207" h="46">
                  <a:moveTo>
                    <a:pt x="17" y="0"/>
                  </a:move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12" y="46"/>
                  </a:lnTo>
                  <a:lnTo>
                    <a:pt x="1195" y="46"/>
                  </a:lnTo>
                  <a:lnTo>
                    <a:pt x="1204" y="42"/>
                  </a:lnTo>
                  <a:lnTo>
                    <a:pt x="1207" y="39"/>
                  </a:lnTo>
                  <a:lnTo>
                    <a:pt x="1207" y="8"/>
                  </a:lnTo>
                  <a:lnTo>
                    <a:pt x="1204" y="3"/>
                  </a:lnTo>
                  <a:lnTo>
                    <a:pt x="119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3000" y="582480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6680" y="59292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82600" y="559368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4960" y="5635800"/>
              <a:ext cx="1029960" cy="890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69520" y="5716440"/>
              <a:ext cx="601200" cy="32436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69520" y="6120000"/>
              <a:ext cx="601200" cy="3258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8360" y="5806080"/>
              <a:ext cx="251640" cy="1411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8360" y="6213240"/>
              <a:ext cx="251640" cy="1393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95440" y="5978520"/>
              <a:ext cx="41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Network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69160" y="6082920"/>
              <a:ext cx="45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Tel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82600" y="445716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6592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2600" y="451044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16520" y="4528800"/>
              <a:ext cx="64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Programas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2600" y="33739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6592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82600" y="3428640"/>
              <a:ext cx="1183320" cy="973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57200" y="3445560"/>
              <a:ext cx="59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Esquema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82600" y="22924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592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2600" y="234540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09600" y="236376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Req. De Comun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2600" y="12088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6592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2600" y="126216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67560" y="1280520"/>
              <a:ext cx="785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Ubicaciones de Oper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2600" y="6667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6592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82600" y="721440"/>
              <a:ext cx="11833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782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1440" y="932040"/>
              <a:ext cx="300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GEOGRAF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1280" y="4873320"/>
              <a:ext cx="180360" cy="173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75160" y="4688280"/>
              <a:ext cx="1092240" cy="543960"/>
            </a:xfrm>
            <a:custGeom>
              <a:avLst/>
              <a:gdLst/>
              <a:ahLst/>
              <a:rect l="l" t="t" r="r" b="b"/>
              <a:pathLst>
                <a:path w="1113" h="594">
                  <a:moveTo>
                    <a:pt x="0" y="0"/>
                  </a:moveTo>
                  <a:lnTo>
                    <a:pt x="1113" y="0"/>
                  </a:lnTo>
                  <a:lnTo>
                    <a:pt x="1113" y="535"/>
                  </a:lnTo>
                  <a:lnTo>
                    <a:pt x="1103" y="519"/>
                  </a:lnTo>
                  <a:lnTo>
                    <a:pt x="1075" y="505"/>
                  </a:lnTo>
                  <a:lnTo>
                    <a:pt x="1029" y="493"/>
                  </a:lnTo>
                  <a:lnTo>
                    <a:pt x="972" y="482"/>
                  </a:lnTo>
                  <a:lnTo>
                    <a:pt x="909" y="480"/>
                  </a:lnTo>
                  <a:lnTo>
                    <a:pt x="835" y="476"/>
                  </a:lnTo>
                  <a:lnTo>
                    <a:pt x="760" y="480"/>
                  </a:lnTo>
                  <a:lnTo>
                    <a:pt x="694" y="482"/>
                  </a:lnTo>
                  <a:lnTo>
                    <a:pt x="640" y="493"/>
                  </a:lnTo>
                  <a:lnTo>
                    <a:pt x="590" y="505"/>
                  </a:lnTo>
                  <a:lnTo>
                    <a:pt x="567" y="519"/>
                  </a:lnTo>
                  <a:lnTo>
                    <a:pt x="558" y="535"/>
                  </a:lnTo>
                  <a:lnTo>
                    <a:pt x="545" y="551"/>
                  </a:lnTo>
                  <a:lnTo>
                    <a:pt x="521" y="564"/>
                  </a:lnTo>
                  <a:lnTo>
                    <a:pt x="471" y="578"/>
                  </a:lnTo>
                  <a:lnTo>
                    <a:pt x="418" y="588"/>
                  </a:lnTo>
                  <a:lnTo>
                    <a:pt x="352" y="591"/>
                  </a:lnTo>
                  <a:lnTo>
                    <a:pt x="277" y="594"/>
                  </a:lnTo>
                  <a:lnTo>
                    <a:pt x="203" y="591"/>
                  </a:lnTo>
                  <a:lnTo>
                    <a:pt x="141" y="588"/>
                  </a:lnTo>
                  <a:lnTo>
                    <a:pt x="82" y="578"/>
                  </a:lnTo>
                  <a:lnTo>
                    <a:pt x="37" y="564"/>
                  </a:lnTo>
                  <a:lnTo>
                    <a:pt x="8" y="551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9200" y="4703040"/>
              <a:ext cx="52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CREATE TABLE CUSTOMER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9560" y="4761360"/>
              <a:ext cx="683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(customer_no CHAR(10) NOT NULL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84880" y="1460160"/>
              <a:ext cx="5013360" cy="3819240"/>
              <a:chOff x="2684880" y="1460160"/>
              <a:chExt cx="5013360" cy="381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688480" y="4880520"/>
                <a:ext cx="72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_name CHAR(32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8840" y="4942800"/>
                <a:ext cx="713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 _rating CHAR(1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7040" y="5003280"/>
                <a:ext cx="54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balance_due DECIMAL(5,2)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85600" y="5061960"/>
                <a:ext cx="794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no_idx on CUSTOMER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85960" y="5122440"/>
                <a:ext cx="764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rt_idx on CUSTOM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8600" y="2863800"/>
                <a:ext cx="208440" cy="234720"/>
              </a:xfrm>
              <a:custGeom>
                <a:avLst/>
                <a:gdLst/>
                <a:ahLst/>
                <a:rect l="l" t="t" r="r" b="b"/>
                <a:pathLst>
                  <a:path w="211" h="257">
                    <a:moveTo>
                      <a:pt x="211" y="0"/>
                    </a:moveTo>
                    <a:lnTo>
                      <a:pt x="211" y="257"/>
                    </a:lnTo>
                    <a:lnTo>
                      <a:pt x="0" y="25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71200" y="2863800"/>
                <a:ext cx="1584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587040" y="286344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587040" y="286380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37860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04160" y="3084120"/>
                <a:ext cx="2736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32120" y="2853000"/>
                <a:ext cx="190440" cy="245520"/>
              </a:xfrm>
              <a:custGeom>
                <a:avLst/>
                <a:gdLst/>
                <a:ahLst/>
                <a:rect l="l" t="t" r="r" b="b"/>
                <a:pathLst>
                  <a:path w="194" h="267">
                    <a:moveTo>
                      <a:pt x="0" y="0"/>
                    </a:moveTo>
                    <a:lnTo>
                      <a:pt x="0" y="267"/>
                    </a:lnTo>
                    <a:lnTo>
                      <a:pt x="194" y="26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664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81628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99772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0000" y="3084120"/>
                <a:ext cx="27360" cy="28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84880" y="2618280"/>
                <a:ext cx="293040" cy="2347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91000" y="26276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89200" y="266976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89560" y="2713680"/>
                <a:ext cx="19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88480" y="2755800"/>
                <a:ext cx="20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rat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92080" y="2796120"/>
                <a:ext cx="14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-d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7280" y="2579760"/>
                <a:ext cx="296640" cy="2836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43760" y="2589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43040" y="263088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42320" y="2675160"/>
                <a:ext cx="17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40880" y="2717640"/>
                <a:ext cx="20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of-measur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40880" y="27594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pri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41960" y="280152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-availabl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22920" y="2977560"/>
                <a:ext cx="355320" cy="2433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30840" y="2988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29040" y="30286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9040" y="307296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9760" y="3115440"/>
                <a:ext cx="22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-order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9400" y="3157200"/>
                <a:ext cx="22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ies-order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89360" y="3989520"/>
                <a:ext cx="330120" cy="100800"/>
              </a:xfrm>
              <a:custGeom>
                <a:avLst/>
                <a:gdLst/>
                <a:ahLst/>
                <a:rect l="l" t="t" r="r" b="b"/>
                <a:pathLst>
                  <a:path w="335" h="109">
                    <a:moveTo>
                      <a:pt x="335" y="0"/>
                    </a:moveTo>
                    <a:lnTo>
                      <a:pt x="335" y="63"/>
                    </a:lnTo>
                    <a:lnTo>
                      <a:pt x="0" y="63"/>
                    </a:lnTo>
                    <a:lnTo>
                      <a:pt x="0" y="10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77840" y="408456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43680" y="3718080"/>
                <a:ext cx="153000" cy="207360"/>
              </a:xfrm>
              <a:custGeom>
                <a:avLst/>
                <a:gdLst/>
                <a:ahLst/>
                <a:rect l="l" t="t" r="r" b="b"/>
                <a:pathLst>
                  <a:path w="156" h="227">
                    <a:moveTo>
                      <a:pt x="0" y="227"/>
                    </a:moveTo>
                    <a:lnTo>
                      <a:pt x="0" y="105"/>
                    </a:lnTo>
                    <a:lnTo>
                      <a:pt x="156" y="105"/>
                    </a:lnTo>
                    <a:lnTo>
                      <a:pt x="156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4800" y="370188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4760" y="3778920"/>
                <a:ext cx="463320" cy="129960"/>
              </a:xfrm>
              <a:custGeom>
                <a:avLst/>
                <a:gdLst/>
                <a:ahLst/>
                <a:rect l="l" t="t" r="r" b="b"/>
                <a:pathLst>
                  <a:path w="471" h="142">
                    <a:moveTo>
                      <a:pt x="0" y="0"/>
                    </a:moveTo>
                    <a:lnTo>
                      <a:pt x="0" y="80"/>
                    </a:lnTo>
                    <a:lnTo>
                      <a:pt x="471" y="80"/>
                    </a:lnTo>
                    <a:lnTo>
                      <a:pt x="471" y="142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6560" y="390528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46160" y="3747600"/>
                <a:ext cx="414360" cy="177840"/>
              </a:xfrm>
              <a:custGeom>
                <a:avLst/>
                <a:gdLst/>
                <a:ahLst/>
                <a:rect l="l" t="t" r="r" b="b"/>
                <a:pathLst>
                  <a:path w="420" h="193">
                    <a:moveTo>
                      <a:pt x="420" y="193"/>
                    </a:moveTo>
                    <a:lnTo>
                      <a:pt x="42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526720" y="373860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2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4760" y="3956760"/>
                <a:ext cx="324360" cy="148320"/>
              </a:xfrm>
              <a:custGeom>
                <a:avLst/>
                <a:gdLst/>
                <a:ahLst/>
                <a:rect l="l" t="t" r="r" b="b"/>
                <a:pathLst>
                  <a:path w="330" h="163">
                    <a:moveTo>
                      <a:pt x="0" y="163"/>
                    </a:moveTo>
                    <a:lnTo>
                      <a:pt x="0" y="0"/>
                    </a:lnTo>
                    <a:lnTo>
                      <a:pt x="33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2732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0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54520" y="4154400"/>
                <a:ext cx="487080" cy="43920"/>
              </a:xfrm>
              <a:custGeom>
                <a:avLst/>
                <a:gdLst/>
                <a:ahLst/>
                <a:rect l="l" t="t" r="r" b="b"/>
                <a:pathLst>
                  <a:path w="497" h="47">
                    <a:moveTo>
                      <a:pt x="0" y="0"/>
                    </a:moveTo>
                    <a:lnTo>
                      <a:pt x="497" y="0"/>
                    </a:lnTo>
                    <a:lnTo>
                      <a:pt x="497" y="4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30080" y="419292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46160" y="4187520"/>
                <a:ext cx="526680" cy="58320"/>
              </a:xfrm>
              <a:custGeom>
                <a:avLst/>
                <a:gdLst/>
                <a:ahLst/>
                <a:rect l="l" t="t" r="r" b="b"/>
                <a:pathLst>
                  <a:path w="534" h="65">
                    <a:moveTo>
                      <a:pt x="534" y="65"/>
                    </a:move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34640" y="417132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2280" y="3989520"/>
                <a:ext cx="223920" cy="208800"/>
              </a:xfrm>
              <a:custGeom>
                <a:avLst/>
                <a:gdLst/>
                <a:ahLst/>
                <a:rect l="l" t="t" r="r" b="b"/>
                <a:pathLst>
                  <a:path w="228" h="227">
                    <a:moveTo>
                      <a:pt x="0" y="0"/>
                    </a:moveTo>
                    <a:lnTo>
                      <a:pt x="0" y="81"/>
                    </a:lnTo>
                    <a:lnTo>
                      <a:pt x="228" y="81"/>
                    </a:lnTo>
                    <a:lnTo>
                      <a:pt x="228" y="22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14320" y="419292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0840" y="3701880"/>
                <a:ext cx="190080" cy="25452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194" y="0"/>
                    </a:moveTo>
                    <a:lnTo>
                      <a:pt x="194" y="279"/>
                    </a:lnTo>
                    <a:lnTo>
                      <a:pt x="0" y="27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7320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0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57960" y="3668760"/>
                <a:ext cx="650160" cy="47520"/>
              </a:xfrm>
              <a:custGeom>
                <a:avLst/>
                <a:gdLst/>
                <a:ahLst/>
                <a:rect l="l" t="t" r="r" b="b"/>
                <a:pathLst>
                  <a:path w="662" h="52">
                    <a:moveTo>
                      <a:pt x="0" y="52"/>
                    </a:moveTo>
                    <a:lnTo>
                      <a:pt x="0" y="0"/>
                    </a:lnTo>
                    <a:lnTo>
                      <a:pt x="66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04160" y="365796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48920" y="3925440"/>
                <a:ext cx="223920" cy="63720"/>
              </a:xfrm>
              <a:custGeom>
                <a:avLst/>
                <a:gdLst/>
                <a:ahLst/>
                <a:rect l="l" t="t" r="r" b="b"/>
                <a:pathLst>
                  <a:path w="226" h="70">
                    <a:moveTo>
                      <a:pt x="35" y="0"/>
                    </a:moveTo>
                    <a:lnTo>
                      <a:pt x="32" y="0"/>
                    </a:lnTo>
                    <a:lnTo>
                      <a:pt x="28" y="0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3" y="48"/>
                    </a:lnTo>
                    <a:lnTo>
                      <a:pt x="3" y="52"/>
                    </a:lnTo>
                    <a:lnTo>
                      <a:pt x="5" y="54"/>
                    </a:lnTo>
                    <a:lnTo>
                      <a:pt x="8" y="60"/>
                    </a:lnTo>
                    <a:lnTo>
                      <a:pt x="15" y="64"/>
                    </a:lnTo>
                    <a:lnTo>
                      <a:pt x="18" y="65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5" y="70"/>
                    </a:lnTo>
                    <a:lnTo>
                      <a:pt x="189" y="70"/>
                    </a:lnTo>
                    <a:lnTo>
                      <a:pt x="193" y="70"/>
                    </a:lnTo>
                    <a:lnTo>
                      <a:pt x="196" y="68"/>
                    </a:lnTo>
                    <a:lnTo>
                      <a:pt x="199" y="68"/>
                    </a:lnTo>
                    <a:lnTo>
                      <a:pt x="203" y="67"/>
                    </a:lnTo>
                    <a:lnTo>
                      <a:pt x="206" y="65"/>
                    </a:lnTo>
                    <a:lnTo>
                      <a:pt x="210" y="64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2"/>
                    </a:lnTo>
                    <a:lnTo>
                      <a:pt x="221" y="48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39"/>
                    </a:lnTo>
                    <a:lnTo>
                      <a:pt x="226" y="34"/>
                    </a:lnTo>
                    <a:lnTo>
                      <a:pt x="225" y="31"/>
                    </a:lnTo>
                    <a:lnTo>
                      <a:pt x="225" y="27"/>
                    </a:lnTo>
                    <a:lnTo>
                      <a:pt x="225" y="24"/>
                    </a:lnTo>
                    <a:lnTo>
                      <a:pt x="221" y="21"/>
                    </a:lnTo>
                    <a:lnTo>
                      <a:pt x="221" y="18"/>
                    </a:lnTo>
                    <a:lnTo>
                      <a:pt x="220" y="15"/>
                    </a:lnTo>
                    <a:lnTo>
                      <a:pt x="215" y="9"/>
                    </a:lnTo>
                    <a:lnTo>
                      <a:pt x="210" y="6"/>
                    </a:lnTo>
                    <a:lnTo>
                      <a:pt x="206" y="5"/>
                    </a:lnTo>
                    <a:lnTo>
                      <a:pt x="203" y="3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8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7800" y="394380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36360" y="4105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5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9" y="60"/>
                    </a:lnTo>
                    <a:lnTo>
                      <a:pt x="15" y="63"/>
                    </a:lnTo>
                    <a:lnTo>
                      <a:pt x="19" y="66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29" y="69"/>
                    </a:lnTo>
                    <a:lnTo>
                      <a:pt x="32" y="69"/>
                    </a:lnTo>
                    <a:lnTo>
                      <a:pt x="35" y="71"/>
                    </a:lnTo>
                    <a:lnTo>
                      <a:pt x="190" y="71"/>
                    </a:lnTo>
                    <a:lnTo>
                      <a:pt x="193" y="69"/>
                    </a:lnTo>
                    <a:lnTo>
                      <a:pt x="198" y="69"/>
                    </a:lnTo>
                    <a:lnTo>
                      <a:pt x="201" y="69"/>
                    </a:lnTo>
                    <a:lnTo>
                      <a:pt x="205" y="66"/>
                    </a:lnTo>
                    <a:lnTo>
                      <a:pt x="208" y="66"/>
                    </a:lnTo>
                    <a:lnTo>
                      <a:pt x="211" y="63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3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1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1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09800" y="412488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Help +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27920" y="3635640"/>
                <a:ext cx="223920" cy="65880"/>
              </a:xfrm>
              <a:custGeom>
                <a:avLst/>
                <a:gdLst/>
                <a:ahLst/>
                <a:rect l="l" t="t" r="r" b="b"/>
                <a:pathLst>
                  <a:path w="228" h="71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10" y="59"/>
                    </a:lnTo>
                    <a:lnTo>
                      <a:pt x="15" y="64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9" y="70"/>
                    </a:lnTo>
                    <a:lnTo>
                      <a:pt x="34" y="70"/>
                    </a:lnTo>
                    <a:lnTo>
                      <a:pt x="37" y="71"/>
                    </a:lnTo>
                    <a:lnTo>
                      <a:pt x="191" y="71"/>
                    </a:lnTo>
                    <a:lnTo>
                      <a:pt x="195" y="70"/>
                    </a:lnTo>
                    <a:lnTo>
                      <a:pt x="198" y="70"/>
                    </a:lnTo>
                    <a:lnTo>
                      <a:pt x="202" y="68"/>
                    </a:lnTo>
                    <a:lnTo>
                      <a:pt x="205" y="67"/>
                    </a:lnTo>
                    <a:lnTo>
                      <a:pt x="208" y="67"/>
                    </a:lnTo>
                    <a:lnTo>
                      <a:pt x="212" y="64"/>
                    </a:lnTo>
                    <a:lnTo>
                      <a:pt x="217" y="59"/>
                    </a:lnTo>
                    <a:lnTo>
                      <a:pt x="222" y="55"/>
                    </a:lnTo>
                    <a:lnTo>
                      <a:pt x="223" y="52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2"/>
                    </a:lnTo>
                    <a:lnTo>
                      <a:pt x="227" y="39"/>
                    </a:lnTo>
                    <a:lnTo>
                      <a:pt x="228" y="34"/>
                    </a:lnTo>
                    <a:lnTo>
                      <a:pt x="227" y="31"/>
                    </a:lnTo>
                    <a:lnTo>
                      <a:pt x="227" y="27"/>
                    </a:lnTo>
                    <a:lnTo>
                      <a:pt x="225" y="24"/>
                    </a:lnTo>
                    <a:lnTo>
                      <a:pt x="223" y="21"/>
                    </a:lnTo>
                    <a:lnTo>
                      <a:pt x="223" y="18"/>
                    </a:lnTo>
                    <a:lnTo>
                      <a:pt x="222" y="15"/>
                    </a:lnTo>
                    <a:lnTo>
                      <a:pt x="217" y="9"/>
                    </a:lnTo>
                    <a:lnTo>
                      <a:pt x="212" y="6"/>
                    </a:lnTo>
                    <a:lnTo>
                      <a:pt x="208" y="3"/>
                    </a:lnTo>
                    <a:lnTo>
                      <a:pt x="205" y="2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6520" y="36410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05680" y="3670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73200" y="4213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6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4" y="53"/>
                    </a:lnTo>
                    <a:lnTo>
                      <a:pt x="5" y="56"/>
                    </a:lnTo>
                    <a:lnTo>
                      <a:pt x="9" y="61"/>
                    </a:lnTo>
                    <a:lnTo>
                      <a:pt x="15" y="65"/>
                    </a:lnTo>
                    <a:lnTo>
                      <a:pt x="17" y="66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9" y="71"/>
                    </a:lnTo>
                    <a:lnTo>
                      <a:pt x="32" y="71"/>
                    </a:lnTo>
                    <a:lnTo>
                      <a:pt x="36" y="71"/>
                    </a:lnTo>
                    <a:lnTo>
                      <a:pt x="190" y="71"/>
                    </a:lnTo>
                    <a:lnTo>
                      <a:pt x="193" y="71"/>
                    </a:lnTo>
                    <a:lnTo>
                      <a:pt x="198" y="71"/>
                    </a:lnTo>
                    <a:lnTo>
                      <a:pt x="201" y="69"/>
                    </a:lnTo>
                    <a:lnTo>
                      <a:pt x="205" y="68"/>
                    </a:lnTo>
                    <a:lnTo>
                      <a:pt x="208" y="66"/>
                    </a:lnTo>
                    <a:lnTo>
                      <a:pt x="212" y="65"/>
                    </a:lnTo>
                    <a:lnTo>
                      <a:pt x="215" y="61"/>
                    </a:lnTo>
                    <a:lnTo>
                      <a:pt x="220" y="56"/>
                    </a:lnTo>
                    <a:lnTo>
                      <a:pt x="222" y="53"/>
                    </a:lnTo>
                    <a:lnTo>
                      <a:pt x="223" y="50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2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2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5840" y="4220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37640" y="424980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79120" y="373320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g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91600" y="3654000"/>
                <a:ext cx="17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6680" y="3837240"/>
                <a:ext cx="13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65680" y="373320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Accept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7160" y="37695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hang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11360" y="3798720"/>
                <a:ext cx="3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f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69240" y="38282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ddres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12800" y="394380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23560" y="4035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Order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40760" y="394164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67080" y="402084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67800" y="4049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72480" y="40777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1320" y="414000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Product Lookup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15280" y="4233240"/>
                <a:ext cx="380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Lookup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76200" y="4957200"/>
                <a:ext cx="200520" cy="1483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55360" y="4782960"/>
                <a:ext cx="1008000" cy="496440"/>
              </a:xfrm>
              <a:custGeom>
                <a:avLst/>
                <a:gdLst/>
                <a:ahLst/>
                <a:rect l="l" t="t" r="r" b="b"/>
                <a:pathLst>
                  <a:path w="1026" h="544">
                    <a:moveTo>
                      <a:pt x="0" y="0"/>
                    </a:moveTo>
                    <a:lnTo>
                      <a:pt x="1026" y="0"/>
                    </a:lnTo>
                    <a:lnTo>
                      <a:pt x="1026" y="489"/>
                    </a:lnTo>
                    <a:lnTo>
                      <a:pt x="1018" y="476"/>
                    </a:lnTo>
                    <a:lnTo>
                      <a:pt x="991" y="462"/>
                    </a:lnTo>
                    <a:lnTo>
                      <a:pt x="951" y="451"/>
                    </a:lnTo>
                    <a:lnTo>
                      <a:pt x="897" y="442"/>
                    </a:lnTo>
                    <a:lnTo>
                      <a:pt x="838" y="439"/>
                    </a:lnTo>
                    <a:lnTo>
                      <a:pt x="771" y="436"/>
                    </a:lnTo>
                    <a:lnTo>
                      <a:pt x="701" y="439"/>
                    </a:lnTo>
                    <a:lnTo>
                      <a:pt x="640" y="442"/>
                    </a:lnTo>
                    <a:lnTo>
                      <a:pt x="592" y="451"/>
                    </a:lnTo>
                    <a:lnTo>
                      <a:pt x="545" y="462"/>
                    </a:lnTo>
                    <a:lnTo>
                      <a:pt x="521" y="476"/>
                    </a:lnTo>
                    <a:lnTo>
                      <a:pt x="515" y="489"/>
                    </a:lnTo>
                    <a:lnTo>
                      <a:pt x="505" y="505"/>
                    </a:lnTo>
                    <a:lnTo>
                      <a:pt x="481" y="517"/>
                    </a:lnTo>
                    <a:lnTo>
                      <a:pt x="434" y="527"/>
                    </a:lnTo>
                    <a:lnTo>
                      <a:pt x="386" y="538"/>
                    </a:lnTo>
                    <a:lnTo>
                      <a:pt x="325" y="541"/>
                    </a:lnTo>
                    <a:lnTo>
                      <a:pt x="255" y="544"/>
                    </a:lnTo>
                    <a:lnTo>
                      <a:pt x="188" y="541"/>
                    </a:lnTo>
                    <a:lnTo>
                      <a:pt x="129" y="538"/>
                    </a:lnTo>
                    <a:lnTo>
                      <a:pt x="75" y="527"/>
                    </a:lnTo>
                    <a:lnTo>
                      <a:pt x="35" y="517"/>
                    </a:lnTo>
                    <a:lnTo>
                      <a:pt x="8" y="505"/>
                    </a:lnTo>
                    <a:lnTo>
                      <a:pt x="0" y="4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72280" y="4794480"/>
                <a:ext cx="554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Help.ButtonClick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72640" y="4847400"/>
                <a:ext cx="52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Change Focus HelpDialog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73360" y="4898520"/>
                <a:ext cx="425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OK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0840" y="4955760"/>
                <a:ext cx="1699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Begin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71200" y="5005080"/>
                <a:ext cx="334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{proecdure}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70840" y="5056200"/>
                <a:ext cx="136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En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72640" y="5109480"/>
                <a:ext cx="494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Cancel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39800" y="4953600"/>
                <a:ext cx="216360" cy="157680"/>
              </a:xfrm>
              <a:prstGeom prst="ellipse">
                <a:avLst/>
              </a:prstGeom>
              <a:solidFill>
                <a:srgbClr val="ffffcc"/>
              </a:solidFill>
              <a:ln w="468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8280" y="4803480"/>
                <a:ext cx="957240" cy="460080"/>
              </a:xfrm>
              <a:custGeom>
                <a:avLst/>
                <a:gdLst/>
                <a:ahLst/>
                <a:rect l="l" t="t" r="r" b="b"/>
                <a:pathLst>
                  <a:path w="974" h="504">
                    <a:moveTo>
                      <a:pt x="0" y="0"/>
                    </a:moveTo>
                    <a:lnTo>
                      <a:pt x="974" y="0"/>
                    </a:lnTo>
                    <a:lnTo>
                      <a:pt x="974" y="454"/>
                    </a:lnTo>
                    <a:lnTo>
                      <a:pt x="968" y="440"/>
                    </a:lnTo>
                    <a:lnTo>
                      <a:pt x="942" y="430"/>
                    </a:lnTo>
                    <a:lnTo>
                      <a:pt x="902" y="418"/>
                    </a:lnTo>
                    <a:lnTo>
                      <a:pt x="852" y="411"/>
                    </a:lnTo>
                    <a:lnTo>
                      <a:pt x="797" y="408"/>
                    </a:lnTo>
                    <a:lnTo>
                      <a:pt x="733" y="403"/>
                    </a:lnTo>
                    <a:lnTo>
                      <a:pt x="666" y="408"/>
                    </a:lnTo>
                    <a:lnTo>
                      <a:pt x="609" y="411"/>
                    </a:lnTo>
                    <a:lnTo>
                      <a:pt x="562" y="418"/>
                    </a:lnTo>
                    <a:lnTo>
                      <a:pt x="517" y="430"/>
                    </a:lnTo>
                    <a:lnTo>
                      <a:pt x="496" y="440"/>
                    </a:lnTo>
                    <a:lnTo>
                      <a:pt x="488" y="454"/>
                    </a:lnTo>
                    <a:lnTo>
                      <a:pt x="478" y="468"/>
                    </a:lnTo>
                    <a:lnTo>
                      <a:pt x="458" y="480"/>
                    </a:lnTo>
                    <a:lnTo>
                      <a:pt x="413" y="491"/>
                    </a:lnTo>
                    <a:lnTo>
                      <a:pt x="366" y="499"/>
                    </a:lnTo>
                    <a:lnTo>
                      <a:pt x="309" y="501"/>
                    </a:lnTo>
                    <a:lnTo>
                      <a:pt x="242" y="504"/>
                    </a:lnTo>
                    <a:lnTo>
                      <a:pt x="178" y="501"/>
                    </a:lnTo>
                    <a:lnTo>
                      <a:pt x="123" y="499"/>
                    </a:lnTo>
                    <a:lnTo>
                      <a:pt x="72" y="491"/>
                    </a:lnTo>
                    <a:lnTo>
                      <a:pt x="32" y="480"/>
                    </a:lnTo>
                    <a:lnTo>
                      <a:pt x="7" y="468"/>
                    </a:lnTo>
                    <a:lnTo>
                      <a:pt x="0" y="4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468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83760" y="4814280"/>
                <a:ext cx="413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Create AccountType =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81240" y="4871160"/>
                <a:ext cx="20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alesClerk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85920" y="4924440"/>
                <a:ext cx="4777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85560" y="4979160"/>
                <a:ext cx="550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Custom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4120" y="5034600"/>
                <a:ext cx="541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ProductDir.Rights=rea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84840" y="5087520"/>
                <a:ext cx="57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AppDir.Rights=cop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0080" y="1676160"/>
                <a:ext cx="276840" cy="21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26280" y="1533240"/>
                <a:ext cx="963000" cy="505800"/>
              </a:xfrm>
              <a:custGeom>
                <a:avLst/>
                <a:gdLst/>
                <a:ahLst/>
                <a:rect l="l" t="t" r="r" b="b"/>
                <a:pathLst>
                  <a:path w="979" h="552">
                    <a:moveTo>
                      <a:pt x="0" y="0"/>
                    </a:moveTo>
                    <a:lnTo>
                      <a:pt x="979" y="0"/>
                    </a:lnTo>
                    <a:lnTo>
                      <a:pt x="979" y="497"/>
                    </a:lnTo>
                    <a:lnTo>
                      <a:pt x="971" y="481"/>
                    </a:lnTo>
                    <a:lnTo>
                      <a:pt x="946" y="469"/>
                    </a:lnTo>
                    <a:lnTo>
                      <a:pt x="906" y="457"/>
                    </a:lnTo>
                    <a:lnTo>
                      <a:pt x="855" y="449"/>
                    </a:lnTo>
                    <a:lnTo>
                      <a:pt x="800" y="446"/>
                    </a:lnTo>
                    <a:lnTo>
                      <a:pt x="735" y="443"/>
                    </a:lnTo>
                    <a:lnTo>
                      <a:pt x="671" y="446"/>
                    </a:lnTo>
                    <a:lnTo>
                      <a:pt x="611" y="449"/>
                    </a:lnTo>
                    <a:lnTo>
                      <a:pt x="564" y="457"/>
                    </a:lnTo>
                    <a:lnTo>
                      <a:pt x="520" y="469"/>
                    </a:lnTo>
                    <a:lnTo>
                      <a:pt x="498" y="481"/>
                    </a:lnTo>
                    <a:lnTo>
                      <a:pt x="492" y="497"/>
                    </a:lnTo>
                    <a:lnTo>
                      <a:pt x="480" y="512"/>
                    </a:lnTo>
                    <a:lnTo>
                      <a:pt x="458" y="524"/>
                    </a:lnTo>
                    <a:lnTo>
                      <a:pt x="414" y="536"/>
                    </a:lnTo>
                    <a:lnTo>
                      <a:pt x="368" y="545"/>
                    </a:lnTo>
                    <a:lnTo>
                      <a:pt x="307" y="547"/>
                    </a:lnTo>
                    <a:lnTo>
                      <a:pt x="243" y="552"/>
                    </a:lnTo>
                    <a:lnTo>
                      <a:pt x="178" y="547"/>
                    </a:lnTo>
                    <a:lnTo>
                      <a:pt x="123" y="545"/>
                    </a:lnTo>
                    <a:lnTo>
                      <a:pt x="72" y="536"/>
                    </a:lnTo>
                    <a:lnTo>
                      <a:pt x="32" y="524"/>
                    </a:lnTo>
                    <a:lnTo>
                      <a:pt x="7" y="512"/>
                    </a:lnTo>
                    <a:lnTo>
                      <a:pt x="0" y="4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48600" y="1551600"/>
                <a:ext cx="547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 order zero,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51120" y="1626840"/>
                <a:ext cx="556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one, or more products.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51480" y="1702080"/>
                <a:ext cx="614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Products may be ordered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49680" y="1778760"/>
                <a:ext cx="518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by zero, one, or more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47160" y="1855800"/>
                <a:ext cx="266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.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85320" y="1875960"/>
                <a:ext cx="1440" cy="1026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5320" y="1875960"/>
                <a:ext cx="317880" cy="102600"/>
              </a:xfrm>
              <a:custGeom>
                <a:avLst/>
                <a:gdLst/>
                <a:ahLst/>
                <a:rect l="l" t="t" r="r" b="b"/>
                <a:pathLst>
                  <a:path w="324" h="112">
                    <a:moveTo>
                      <a:pt x="0" y="0"/>
                    </a:moveTo>
                    <a:lnTo>
                      <a:pt x="0" y="55"/>
                    </a:lnTo>
                    <a:lnTo>
                      <a:pt x="324" y="55"/>
                    </a:lnTo>
                    <a:lnTo>
                      <a:pt x="32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6720" y="1875960"/>
                <a:ext cx="318600" cy="102600"/>
              </a:xfrm>
              <a:custGeom>
                <a:avLst/>
                <a:gdLst/>
                <a:ahLst/>
                <a:rect l="l" t="t" r="r" b="b"/>
                <a:pathLst>
                  <a:path w="323" h="112">
                    <a:moveTo>
                      <a:pt x="323" y="0"/>
                    </a:moveTo>
                    <a:lnTo>
                      <a:pt x="323" y="55"/>
                    </a:lnTo>
                    <a:lnTo>
                      <a:pt x="0" y="55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82640" y="1622880"/>
                <a:ext cx="202680" cy="1026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0" y="0"/>
                    </a:moveTo>
                    <a:lnTo>
                      <a:pt x="0" y="54"/>
                    </a:lnTo>
                    <a:lnTo>
                      <a:pt x="204" y="54"/>
                    </a:lnTo>
                    <a:lnTo>
                      <a:pt x="20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82480" y="1622880"/>
                <a:ext cx="199800" cy="10260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205" y="0"/>
                    </a:moveTo>
                    <a:lnTo>
                      <a:pt x="205" y="54"/>
                    </a:lnTo>
                    <a:lnTo>
                      <a:pt x="0" y="54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51240" y="147636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0560" y="15292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48920" y="1725480"/>
                <a:ext cx="2689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86720" y="178272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dvertis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33160" y="1978920"/>
                <a:ext cx="26928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08040" y="203004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51760" y="1725480"/>
                <a:ext cx="2671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34200" y="1782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al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5176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71200" y="2030040"/>
                <a:ext cx="15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ancellation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6820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29400" y="20300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2880" y="1839240"/>
                <a:ext cx="1440" cy="18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41360" y="20192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1" y="20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43240" y="1788120"/>
                <a:ext cx="208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473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52880" y="1564200"/>
                <a:ext cx="1440" cy="155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41360" y="171648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1" y="2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12680" y="1788120"/>
                <a:ext cx="22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387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60720" y="1736280"/>
                <a:ext cx="182520" cy="102600"/>
              </a:xfrm>
              <a:prstGeom prst="roundRect">
                <a:avLst>
                  <a:gd name="adj" fmla="val 16449"/>
                </a:avLst>
              </a:prstGeom>
              <a:solidFill>
                <a:srgbClr val="8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17600" y="174780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75840" y="177660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09680" y="18025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3016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3640" y="1776600"/>
                <a:ext cx="119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91680" y="1460160"/>
                <a:ext cx="2160" cy="10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10040" y="1474560"/>
                <a:ext cx="12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ccoun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01760" y="1496520"/>
                <a:ext cx="13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eivabl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10400" y="15256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Databa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6932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95960" y="1776600"/>
                <a:ext cx="13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are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60720" y="2037240"/>
                <a:ext cx="182520" cy="10404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21920" y="20775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n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96560" y="177660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01200" y="176220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10920" y="178812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16160" y="16174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15080" y="1905120"/>
                <a:ext cx="83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02120" y="19324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Vouch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52880" y="1659600"/>
                <a:ext cx="45360" cy="7128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7" y="0"/>
                    </a:moveTo>
                    <a:lnTo>
                      <a:pt x="0" y="37"/>
                    </a:lnTo>
                    <a:lnTo>
                      <a:pt x="0" y="77"/>
                    </a:lnTo>
                    <a:lnTo>
                      <a:pt x="47" y="4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33440" y="1694520"/>
                <a:ext cx="19440" cy="511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17"/>
                    </a:moveTo>
                    <a:lnTo>
                      <a:pt x="16" y="8"/>
                    </a:lnTo>
                    <a:lnTo>
                      <a:pt x="18" y="0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31640" y="172008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0"/>
                    </a:moveTo>
                    <a:lnTo>
                      <a:pt x="0" y="6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51080" y="169452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7" y="0"/>
                    </a:moveTo>
                    <a:lnTo>
                      <a:pt x="0" y="8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05120" y="1969200"/>
                <a:ext cx="115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8"/>
                    </a:moveTo>
                    <a:lnTo>
                      <a:pt x="7" y="25"/>
                    </a:lnTo>
                    <a:lnTo>
                      <a:pt x="7" y="44"/>
                    </a:lnTo>
                    <a:lnTo>
                      <a:pt x="14" y="40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17000" y="1967400"/>
                <a:ext cx="38880" cy="385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1"/>
                    </a:moveTo>
                    <a:lnTo>
                      <a:pt x="17" y="0"/>
                    </a:lnTo>
                    <a:lnTo>
                      <a:pt x="40" y="0"/>
                    </a:lnTo>
                    <a:lnTo>
                      <a:pt x="40" y="4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56240" y="1967400"/>
                <a:ext cx="21600" cy="5148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0" y="0"/>
                    </a:moveTo>
                    <a:lnTo>
                      <a:pt x="0" y="40"/>
                    </a:lnTo>
                    <a:lnTo>
                      <a:pt x="20" y="56"/>
                    </a:lnTo>
                    <a:lnTo>
                      <a:pt x="2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7840" y="1976760"/>
                <a:ext cx="21240" cy="4212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6"/>
                    </a:moveTo>
                    <a:lnTo>
                      <a:pt x="24" y="0"/>
                    </a:lnTo>
                    <a:lnTo>
                      <a:pt x="24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5280" y="201312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0"/>
                    </a:moveTo>
                    <a:lnTo>
                      <a:pt x="15" y="22"/>
                    </a:lnTo>
                    <a:lnTo>
                      <a:pt x="15" y="6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99440" y="1976760"/>
                <a:ext cx="19800" cy="529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0"/>
                    </a:moveTo>
                    <a:lnTo>
                      <a:pt x="18" y="21"/>
                    </a:lnTo>
                    <a:lnTo>
                      <a:pt x="15" y="40"/>
                    </a:lnTo>
                    <a:lnTo>
                      <a:pt x="15" y="5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65800" y="1982160"/>
                <a:ext cx="40680" cy="6408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3" y="71"/>
                    </a:moveTo>
                    <a:lnTo>
                      <a:pt x="0" y="49"/>
                    </a:lnTo>
                    <a:lnTo>
                      <a:pt x="8" y="25"/>
                    </a:lnTo>
                    <a:lnTo>
                      <a:pt x="41" y="0"/>
                    </a:lnTo>
                    <a:lnTo>
                      <a:pt x="41" y="40"/>
                    </a:lnTo>
                    <a:lnTo>
                      <a:pt x="8" y="65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06840" y="1976760"/>
                <a:ext cx="23400" cy="403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0" y="6"/>
                    </a:moveTo>
                    <a:lnTo>
                      <a:pt x="0" y="44"/>
                    </a:lnTo>
                    <a:lnTo>
                      <a:pt x="24" y="40"/>
                    </a:lnTo>
                    <a:lnTo>
                      <a:pt x="2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30240" y="1976760"/>
                <a:ext cx="45360" cy="514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0" y="0"/>
                    </a:moveTo>
                    <a:lnTo>
                      <a:pt x="47" y="16"/>
                    </a:lnTo>
                    <a:lnTo>
                      <a:pt x="47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77760" y="1993320"/>
                <a:ext cx="31320" cy="32760"/>
              </a:xfrm>
              <a:prstGeom prst="rect">
                <a:avLst/>
              </a:prstGeom>
              <a:solidFill>
                <a:srgbClr val="9fff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58480" y="2049840"/>
                <a:ext cx="19440" cy="5292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0" y="19"/>
                    </a:moveTo>
                    <a:lnTo>
                      <a:pt x="20" y="0"/>
                    </a:lnTo>
                    <a:lnTo>
                      <a:pt x="20" y="40"/>
                    </a:lnTo>
                    <a:lnTo>
                      <a:pt x="0" y="5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31120" y="2035440"/>
                <a:ext cx="3960" cy="3312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40840" y="2066400"/>
                <a:ext cx="17640" cy="3852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1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36880" y="203364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7" h="78">
                    <a:moveTo>
                      <a:pt x="0" y="0"/>
                    </a:moveTo>
                    <a:lnTo>
                      <a:pt x="7" y="38"/>
                    </a:lnTo>
                    <a:lnTo>
                      <a:pt x="7" y="7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58480" y="192168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0" y="6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74320" y="1901520"/>
                <a:ext cx="23400" cy="56880"/>
              </a:xfrm>
              <a:custGeom>
                <a:avLst/>
                <a:gdLst/>
                <a:ahLst/>
                <a:rect l="l" t="t" r="r" b="b"/>
                <a:pathLst>
                  <a:path w="23" h="64">
                    <a:moveTo>
                      <a:pt x="0" y="24"/>
                    </a:moveTo>
                    <a:lnTo>
                      <a:pt x="23" y="0"/>
                    </a:lnTo>
                    <a:lnTo>
                      <a:pt x="23" y="42"/>
                    </a:lnTo>
                    <a:lnTo>
                      <a:pt x="0" y="6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97720" y="188676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0" y="16"/>
                    </a:moveTo>
                    <a:lnTo>
                      <a:pt x="0" y="56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44800" y="192708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3" h="60">
                    <a:moveTo>
                      <a:pt x="13" y="0"/>
                    </a:moveTo>
                    <a:lnTo>
                      <a:pt x="13" y="41"/>
                    </a:lnTo>
                    <a:lnTo>
                      <a:pt x="12" y="53"/>
                    </a:lnTo>
                    <a:lnTo>
                      <a:pt x="8" y="60"/>
                    </a:lnTo>
                    <a:lnTo>
                      <a:pt x="3" y="53"/>
                    </a:lnTo>
                    <a:lnTo>
                      <a:pt x="0" y="38"/>
                    </a:lnTo>
                    <a:lnTo>
                      <a:pt x="1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07440" y="1881360"/>
                <a:ext cx="23400" cy="417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0" y="8"/>
                    </a:moveTo>
                    <a:lnTo>
                      <a:pt x="25" y="0"/>
                    </a:lnTo>
                    <a:lnTo>
                      <a:pt x="25" y="40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31200" y="1863360"/>
                <a:ext cx="17640" cy="5472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19"/>
                    </a:moveTo>
                    <a:lnTo>
                      <a:pt x="0" y="59"/>
                    </a:lnTo>
                    <a:lnTo>
                      <a:pt x="16" y="4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60720" y="1780560"/>
                <a:ext cx="11520" cy="529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0" y="16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1000" y="178272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0"/>
                    </a:moveTo>
                    <a:lnTo>
                      <a:pt x="10" y="13"/>
                    </a:lnTo>
                    <a:lnTo>
                      <a:pt x="10" y="5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44880" y="1800720"/>
                <a:ext cx="13680" cy="5832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4" y="0"/>
                    </a:moveTo>
                    <a:lnTo>
                      <a:pt x="0" y="25"/>
                    </a:lnTo>
                    <a:lnTo>
                      <a:pt x="0" y="65"/>
                    </a:lnTo>
                    <a:lnTo>
                      <a:pt x="14" y="4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35160" y="1824480"/>
                <a:ext cx="9720" cy="27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0"/>
                    </a:moveTo>
                    <a:lnTo>
                      <a:pt x="0" y="8"/>
                    </a:lnTo>
                    <a:lnTo>
                      <a:pt x="10" y="2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35600" y="1738440"/>
                <a:ext cx="133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5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4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7320" y="1736280"/>
                <a:ext cx="7920" cy="421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0" y="0"/>
                    </a:moveTo>
                    <a:lnTo>
                      <a:pt x="8" y="7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1560" y="173628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7" h="48">
                    <a:moveTo>
                      <a:pt x="7" y="0"/>
                    </a:moveTo>
                    <a:lnTo>
                      <a:pt x="7" y="38"/>
                    </a:lnTo>
                    <a:lnTo>
                      <a:pt x="0" y="48"/>
                    </a:lnTo>
                    <a:lnTo>
                      <a:pt x="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84120" y="1745640"/>
                <a:ext cx="37080" cy="42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39" y="0"/>
                    </a:moveTo>
                    <a:lnTo>
                      <a:pt x="31" y="2"/>
                    </a:lnTo>
                    <a:lnTo>
                      <a:pt x="0" y="6"/>
                    </a:lnTo>
                    <a:lnTo>
                      <a:pt x="0" y="46"/>
                    </a:lnTo>
                    <a:lnTo>
                      <a:pt x="31" y="42"/>
                    </a:lnTo>
                    <a:lnTo>
                      <a:pt x="39" y="4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70440" y="1751400"/>
                <a:ext cx="13680" cy="4716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3" y="0"/>
                    </a:moveTo>
                    <a:lnTo>
                      <a:pt x="13" y="40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1793520"/>
                <a:ext cx="60480" cy="128160"/>
              </a:xfrm>
              <a:custGeom>
                <a:avLst/>
                <a:gdLst/>
                <a:ahLst/>
                <a:rect l="l" t="t" r="r" b="b"/>
                <a:pathLst>
                  <a:path w="62" h="142">
                    <a:moveTo>
                      <a:pt x="0" y="0"/>
                    </a:moveTo>
                    <a:lnTo>
                      <a:pt x="0" y="42"/>
                    </a:lnTo>
                    <a:lnTo>
                      <a:pt x="22" y="74"/>
                    </a:lnTo>
                    <a:lnTo>
                      <a:pt x="62" y="142"/>
                    </a:lnTo>
                    <a:lnTo>
                      <a:pt x="62" y="104"/>
                    </a:lnTo>
                    <a:lnTo>
                      <a:pt x="2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68720" y="1888560"/>
                <a:ext cx="1152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82400" y="1886760"/>
                <a:ext cx="43200" cy="658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0" y="0"/>
                    </a:moveTo>
                    <a:lnTo>
                      <a:pt x="0" y="38"/>
                    </a:lnTo>
                    <a:lnTo>
                      <a:pt x="43" y="72"/>
                    </a:lnTo>
                    <a:lnTo>
                      <a:pt x="4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27400" y="191988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73120" y="192564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0"/>
                    </a:moveTo>
                    <a:lnTo>
                      <a:pt x="60" y="28"/>
                    </a:lnTo>
                    <a:lnTo>
                      <a:pt x="60" y="6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33600" y="195300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82920" y="1936440"/>
                <a:ext cx="1548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00560" y="1934640"/>
                <a:ext cx="33120" cy="6228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0" y="0"/>
                    </a:moveTo>
                    <a:lnTo>
                      <a:pt x="35" y="30"/>
                    </a:lnTo>
                    <a:lnTo>
                      <a:pt x="35" y="6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005720" y="1460160"/>
              <a:ext cx="3684600" cy="1726200"/>
              <a:chOff x="4005720" y="1460160"/>
              <a:chExt cx="3684600" cy="1726200"/>
            </a:xfrm>
          </p:grpSpPr>
          <p:sp>
            <p:nvSpPr>
              <p:cNvPr id="451" name=""/>
              <p:cNvSpPr/>
              <p:nvPr/>
            </p:nvSpPr>
            <p:spPr>
              <a:xfrm>
                <a:off x="7023960" y="1931040"/>
                <a:ext cx="15480" cy="6228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0"/>
                    </a:moveTo>
                    <a:lnTo>
                      <a:pt x="15" y="26"/>
                    </a:lnTo>
                    <a:lnTo>
                      <a:pt x="15" y="6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39440" y="19548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0"/>
                    </a:moveTo>
                    <a:lnTo>
                      <a:pt x="19" y="11"/>
                    </a:lnTo>
                    <a:lnTo>
                      <a:pt x="19" y="5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57080" y="1953000"/>
                <a:ext cx="11880" cy="471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4"/>
                    </a:lnTo>
                    <a:lnTo>
                      <a:pt x="0" y="54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9320" y="19530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0" y="0"/>
                    </a:moveTo>
                    <a:lnTo>
                      <a:pt x="21" y="9"/>
                    </a:lnTo>
                    <a:lnTo>
                      <a:pt x="21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18280" y="200268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0"/>
                    </a:moveTo>
                    <a:lnTo>
                      <a:pt x="44" y="13"/>
                    </a:lnTo>
                    <a:lnTo>
                      <a:pt x="44" y="55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90560" y="1958400"/>
                <a:ext cx="27360" cy="8064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0"/>
                    </a:moveTo>
                    <a:lnTo>
                      <a:pt x="29" y="47"/>
                    </a:lnTo>
                    <a:lnTo>
                      <a:pt x="29" y="87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5920" y="1575000"/>
                <a:ext cx="9720" cy="60480"/>
              </a:xfrm>
              <a:custGeom>
                <a:avLst/>
                <a:gdLst/>
                <a:ahLst/>
                <a:rect l="l" t="t" r="r" b="b"/>
                <a:pathLst>
                  <a:path w="10" h="67">
                    <a:moveTo>
                      <a:pt x="0" y="0"/>
                    </a:moveTo>
                    <a:lnTo>
                      <a:pt x="10" y="40"/>
                    </a:lnTo>
                    <a:lnTo>
                      <a:pt x="7" y="67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85920" y="1730880"/>
                <a:ext cx="13680" cy="51480"/>
              </a:xfrm>
              <a:custGeom>
                <a:avLst/>
                <a:gdLst/>
                <a:ahLst/>
                <a:rect l="l" t="t" r="r" b="b"/>
                <a:pathLst>
                  <a:path w="15" h="56">
                    <a:moveTo>
                      <a:pt x="0" y="0"/>
                    </a:moveTo>
                    <a:lnTo>
                      <a:pt x="15" y="21"/>
                    </a:lnTo>
                    <a:lnTo>
                      <a:pt x="12" y="34"/>
                    </a:lnTo>
                    <a:lnTo>
                      <a:pt x="12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38600" y="161388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8"/>
                    </a:moveTo>
                    <a:lnTo>
                      <a:pt x="55" y="0"/>
                    </a:lnTo>
                    <a:lnTo>
                      <a:pt x="55" y="39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19160" y="1621440"/>
                <a:ext cx="21240" cy="5472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22" y="0"/>
                    </a:moveTo>
                    <a:lnTo>
                      <a:pt x="22" y="38"/>
                    </a:lnTo>
                    <a:lnTo>
                      <a:pt x="0" y="60"/>
                    </a:lnTo>
                    <a:lnTo>
                      <a:pt x="0" y="2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43920" y="156816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2" y="0"/>
                    </a:moveTo>
                    <a:lnTo>
                      <a:pt x="4" y="25"/>
                    </a:lnTo>
                    <a:lnTo>
                      <a:pt x="0" y="40"/>
                    </a:lnTo>
                    <a:lnTo>
                      <a:pt x="26" y="31"/>
                    </a:lnTo>
                    <a:lnTo>
                      <a:pt x="32" y="4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09080" y="1590120"/>
                <a:ext cx="17280" cy="180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3"/>
                    </a:lnTo>
                    <a:lnTo>
                      <a:pt x="19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26720" y="1641240"/>
                <a:ext cx="11880" cy="529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0"/>
                    </a:moveTo>
                    <a:lnTo>
                      <a:pt x="0" y="16"/>
                    </a:lnTo>
                    <a:lnTo>
                      <a:pt x="0" y="57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22400" y="1657800"/>
                <a:ext cx="6120" cy="417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7" y="0"/>
                    </a:moveTo>
                    <a:lnTo>
                      <a:pt x="7" y="37"/>
                    </a:lnTo>
                    <a:lnTo>
                      <a:pt x="5" y="46"/>
                    </a:lnTo>
                    <a:lnTo>
                      <a:pt x="0" y="3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93320" y="1648800"/>
                <a:ext cx="15840" cy="198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0"/>
                    </a:moveTo>
                    <a:lnTo>
                      <a:pt x="0" y="14"/>
                    </a:lnTo>
                    <a:lnTo>
                      <a:pt x="5" y="20"/>
                    </a:lnTo>
                    <a:lnTo>
                      <a:pt x="15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3400" y="1685160"/>
                <a:ext cx="15840" cy="273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5" y="0"/>
                    </a:moveTo>
                    <a:lnTo>
                      <a:pt x="0" y="20"/>
                    </a:lnTo>
                    <a:lnTo>
                      <a:pt x="0" y="24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85920" y="1553040"/>
                <a:ext cx="1004400" cy="484200"/>
              </a:xfrm>
              <a:custGeom>
                <a:avLst/>
                <a:gdLst/>
                <a:ahLst/>
                <a:rect l="l" t="t" r="r" b="b"/>
                <a:pathLst>
                  <a:path w="1023" h="528">
                    <a:moveTo>
                      <a:pt x="520" y="0"/>
                    </a:moveTo>
                    <a:lnTo>
                      <a:pt x="30" y="0"/>
                    </a:lnTo>
                    <a:lnTo>
                      <a:pt x="35" y="22"/>
                    </a:lnTo>
                    <a:lnTo>
                      <a:pt x="32" y="28"/>
                    </a:lnTo>
                    <a:lnTo>
                      <a:pt x="0" y="23"/>
                    </a:lnTo>
                    <a:lnTo>
                      <a:pt x="10" y="65"/>
                    </a:lnTo>
                    <a:lnTo>
                      <a:pt x="2" y="142"/>
                    </a:lnTo>
                    <a:lnTo>
                      <a:pt x="5" y="164"/>
                    </a:lnTo>
                    <a:lnTo>
                      <a:pt x="0" y="193"/>
                    </a:lnTo>
                    <a:lnTo>
                      <a:pt x="15" y="214"/>
                    </a:lnTo>
                    <a:lnTo>
                      <a:pt x="12" y="227"/>
                    </a:lnTo>
                    <a:lnTo>
                      <a:pt x="37" y="264"/>
                    </a:lnTo>
                    <a:lnTo>
                      <a:pt x="75" y="331"/>
                    </a:lnTo>
                    <a:lnTo>
                      <a:pt x="89" y="331"/>
                    </a:lnTo>
                    <a:lnTo>
                      <a:pt x="132" y="363"/>
                    </a:lnTo>
                    <a:lnTo>
                      <a:pt x="183" y="363"/>
                    </a:lnTo>
                    <a:lnTo>
                      <a:pt x="183" y="372"/>
                    </a:lnTo>
                    <a:lnTo>
                      <a:pt x="241" y="398"/>
                    </a:lnTo>
                    <a:lnTo>
                      <a:pt x="290" y="398"/>
                    </a:lnTo>
                    <a:lnTo>
                      <a:pt x="290" y="382"/>
                    </a:lnTo>
                    <a:lnTo>
                      <a:pt x="310" y="382"/>
                    </a:lnTo>
                    <a:lnTo>
                      <a:pt x="345" y="412"/>
                    </a:lnTo>
                    <a:lnTo>
                      <a:pt x="362" y="440"/>
                    </a:lnTo>
                    <a:lnTo>
                      <a:pt x="379" y="449"/>
                    </a:lnTo>
                    <a:lnTo>
                      <a:pt x="391" y="435"/>
                    </a:lnTo>
                    <a:lnTo>
                      <a:pt x="412" y="444"/>
                    </a:lnTo>
                    <a:lnTo>
                      <a:pt x="441" y="490"/>
                    </a:lnTo>
                    <a:lnTo>
                      <a:pt x="485" y="505"/>
                    </a:lnTo>
                    <a:lnTo>
                      <a:pt x="480" y="480"/>
                    </a:lnTo>
                    <a:lnTo>
                      <a:pt x="488" y="460"/>
                    </a:lnTo>
                    <a:lnTo>
                      <a:pt x="521" y="432"/>
                    </a:lnTo>
                    <a:lnTo>
                      <a:pt x="545" y="428"/>
                    </a:lnTo>
                    <a:lnTo>
                      <a:pt x="590" y="444"/>
                    </a:lnTo>
                    <a:lnTo>
                      <a:pt x="627" y="446"/>
                    </a:lnTo>
                    <a:lnTo>
                      <a:pt x="620" y="427"/>
                    </a:lnTo>
                    <a:lnTo>
                      <a:pt x="634" y="418"/>
                    </a:lnTo>
                    <a:lnTo>
                      <a:pt x="651" y="418"/>
                    </a:lnTo>
                    <a:lnTo>
                      <a:pt x="674" y="418"/>
                    </a:lnTo>
                    <a:lnTo>
                      <a:pt x="694" y="434"/>
                    </a:lnTo>
                    <a:lnTo>
                      <a:pt x="718" y="429"/>
                    </a:lnTo>
                    <a:lnTo>
                      <a:pt x="736" y="449"/>
                    </a:lnTo>
                    <a:lnTo>
                      <a:pt x="733" y="468"/>
                    </a:lnTo>
                    <a:lnTo>
                      <a:pt x="748" y="490"/>
                    </a:lnTo>
                    <a:lnTo>
                      <a:pt x="754" y="490"/>
                    </a:lnTo>
                    <a:lnTo>
                      <a:pt x="759" y="528"/>
                    </a:lnTo>
                    <a:lnTo>
                      <a:pt x="776" y="525"/>
                    </a:lnTo>
                    <a:lnTo>
                      <a:pt x="796" y="508"/>
                    </a:lnTo>
                    <a:lnTo>
                      <a:pt x="793" y="490"/>
                    </a:lnTo>
                    <a:lnTo>
                      <a:pt x="786" y="465"/>
                    </a:lnTo>
                    <a:lnTo>
                      <a:pt x="766" y="431"/>
                    </a:lnTo>
                    <a:lnTo>
                      <a:pt x="763" y="415"/>
                    </a:lnTo>
                    <a:lnTo>
                      <a:pt x="775" y="387"/>
                    </a:lnTo>
                    <a:lnTo>
                      <a:pt x="776" y="375"/>
                    </a:lnTo>
                    <a:lnTo>
                      <a:pt x="793" y="369"/>
                    </a:lnTo>
                    <a:lnTo>
                      <a:pt x="816" y="345"/>
                    </a:lnTo>
                    <a:lnTo>
                      <a:pt x="827" y="331"/>
                    </a:lnTo>
                    <a:lnTo>
                      <a:pt x="852" y="323"/>
                    </a:lnTo>
                    <a:lnTo>
                      <a:pt x="870" y="304"/>
                    </a:lnTo>
                    <a:lnTo>
                      <a:pt x="855" y="270"/>
                    </a:lnTo>
                    <a:lnTo>
                      <a:pt x="865" y="260"/>
                    </a:lnTo>
                    <a:lnTo>
                      <a:pt x="875" y="242"/>
                    </a:lnTo>
                    <a:lnTo>
                      <a:pt x="879" y="236"/>
                    </a:lnTo>
                    <a:lnTo>
                      <a:pt x="870" y="226"/>
                    </a:lnTo>
                    <a:lnTo>
                      <a:pt x="870" y="217"/>
                    </a:lnTo>
                    <a:lnTo>
                      <a:pt x="880" y="230"/>
                    </a:lnTo>
                    <a:lnTo>
                      <a:pt x="892" y="215"/>
                    </a:lnTo>
                    <a:lnTo>
                      <a:pt x="895" y="199"/>
                    </a:lnTo>
                    <a:lnTo>
                      <a:pt x="890" y="196"/>
                    </a:lnTo>
                    <a:lnTo>
                      <a:pt x="892" y="193"/>
                    </a:lnTo>
                    <a:lnTo>
                      <a:pt x="895" y="189"/>
                    </a:lnTo>
                    <a:lnTo>
                      <a:pt x="902" y="181"/>
                    </a:lnTo>
                    <a:lnTo>
                      <a:pt x="936" y="177"/>
                    </a:lnTo>
                    <a:lnTo>
                      <a:pt x="944" y="175"/>
                    </a:lnTo>
                    <a:lnTo>
                      <a:pt x="949" y="165"/>
                    </a:lnTo>
                    <a:lnTo>
                      <a:pt x="957" y="173"/>
                    </a:lnTo>
                    <a:lnTo>
                      <a:pt x="972" y="167"/>
                    </a:lnTo>
                    <a:lnTo>
                      <a:pt x="961" y="165"/>
                    </a:lnTo>
                    <a:lnTo>
                      <a:pt x="952" y="150"/>
                    </a:lnTo>
                    <a:lnTo>
                      <a:pt x="959" y="146"/>
                    </a:lnTo>
                    <a:lnTo>
                      <a:pt x="954" y="137"/>
                    </a:lnTo>
                    <a:lnTo>
                      <a:pt x="957" y="134"/>
                    </a:lnTo>
                    <a:lnTo>
                      <a:pt x="972" y="125"/>
                    </a:lnTo>
                    <a:lnTo>
                      <a:pt x="974" y="119"/>
                    </a:lnTo>
                    <a:lnTo>
                      <a:pt x="1023" y="84"/>
                    </a:lnTo>
                    <a:lnTo>
                      <a:pt x="1019" y="72"/>
                    </a:lnTo>
                    <a:lnTo>
                      <a:pt x="1013" y="68"/>
                    </a:lnTo>
                    <a:lnTo>
                      <a:pt x="1006" y="40"/>
                    </a:lnTo>
                    <a:lnTo>
                      <a:pt x="993" y="44"/>
                    </a:lnTo>
                    <a:lnTo>
                      <a:pt x="986" y="40"/>
                    </a:lnTo>
                    <a:lnTo>
                      <a:pt x="972" y="48"/>
                    </a:lnTo>
                    <a:lnTo>
                      <a:pt x="957" y="77"/>
                    </a:lnTo>
                    <a:lnTo>
                      <a:pt x="946" y="93"/>
                    </a:lnTo>
                    <a:lnTo>
                      <a:pt x="907" y="93"/>
                    </a:lnTo>
                    <a:lnTo>
                      <a:pt x="882" y="93"/>
                    </a:lnTo>
                    <a:lnTo>
                      <a:pt x="857" y="116"/>
                    </a:lnTo>
                    <a:lnTo>
                      <a:pt x="862" y="125"/>
                    </a:lnTo>
                    <a:lnTo>
                      <a:pt x="845" y="136"/>
                    </a:lnTo>
                    <a:lnTo>
                      <a:pt x="828" y="134"/>
                    </a:lnTo>
                    <a:lnTo>
                      <a:pt x="808" y="133"/>
                    </a:lnTo>
                    <a:lnTo>
                      <a:pt x="805" y="146"/>
                    </a:lnTo>
                    <a:lnTo>
                      <a:pt x="796" y="153"/>
                    </a:lnTo>
                    <a:lnTo>
                      <a:pt x="783" y="164"/>
                    </a:lnTo>
                    <a:lnTo>
                      <a:pt x="759" y="174"/>
                    </a:lnTo>
                    <a:lnTo>
                      <a:pt x="743" y="174"/>
                    </a:lnTo>
                    <a:lnTo>
                      <a:pt x="733" y="168"/>
                    </a:lnTo>
                    <a:lnTo>
                      <a:pt x="733" y="164"/>
                    </a:lnTo>
                    <a:lnTo>
                      <a:pt x="748" y="143"/>
                    </a:lnTo>
                    <a:lnTo>
                      <a:pt x="744" y="119"/>
                    </a:lnTo>
                    <a:lnTo>
                      <a:pt x="739" y="118"/>
                    </a:lnTo>
                    <a:lnTo>
                      <a:pt x="724" y="127"/>
                    </a:lnTo>
                    <a:lnTo>
                      <a:pt x="721" y="119"/>
                    </a:lnTo>
                    <a:lnTo>
                      <a:pt x="736" y="106"/>
                    </a:lnTo>
                    <a:lnTo>
                      <a:pt x="731" y="87"/>
                    </a:lnTo>
                    <a:lnTo>
                      <a:pt x="706" y="79"/>
                    </a:lnTo>
                    <a:lnTo>
                      <a:pt x="681" y="103"/>
                    </a:lnTo>
                    <a:lnTo>
                      <a:pt x="672" y="125"/>
                    </a:lnTo>
                    <a:lnTo>
                      <a:pt x="677" y="143"/>
                    </a:lnTo>
                    <a:lnTo>
                      <a:pt x="669" y="168"/>
                    </a:lnTo>
                    <a:lnTo>
                      <a:pt x="661" y="171"/>
                    </a:lnTo>
                    <a:lnTo>
                      <a:pt x="654" y="168"/>
                    </a:lnTo>
                    <a:lnTo>
                      <a:pt x="649" y="150"/>
                    </a:lnTo>
                    <a:lnTo>
                      <a:pt x="654" y="113"/>
                    </a:lnTo>
                    <a:lnTo>
                      <a:pt x="666" y="97"/>
                    </a:lnTo>
                    <a:lnTo>
                      <a:pt x="661" y="93"/>
                    </a:lnTo>
                    <a:lnTo>
                      <a:pt x="645" y="93"/>
                    </a:lnTo>
                    <a:lnTo>
                      <a:pt x="667" y="74"/>
                    </a:lnTo>
                    <a:lnTo>
                      <a:pt x="721" y="66"/>
                    </a:lnTo>
                    <a:lnTo>
                      <a:pt x="697" y="51"/>
                    </a:lnTo>
                    <a:lnTo>
                      <a:pt x="666" y="65"/>
                    </a:lnTo>
                    <a:lnTo>
                      <a:pt x="637" y="53"/>
                    </a:lnTo>
                    <a:lnTo>
                      <a:pt x="654" y="40"/>
                    </a:lnTo>
                    <a:lnTo>
                      <a:pt x="639" y="37"/>
                    </a:lnTo>
                    <a:lnTo>
                      <a:pt x="599" y="57"/>
                    </a:lnTo>
                    <a:lnTo>
                      <a:pt x="594" y="47"/>
                    </a:lnTo>
                    <a:lnTo>
                      <a:pt x="568" y="54"/>
                    </a:lnTo>
                    <a:lnTo>
                      <a:pt x="573" y="41"/>
                    </a:lnTo>
                    <a:lnTo>
                      <a:pt x="600" y="16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73000" y="1794960"/>
                <a:ext cx="55080" cy="496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8" y="34"/>
                    </a:lnTo>
                    <a:lnTo>
                      <a:pt x="10" y="55"/>
                    </a:lnTo>
                    <a:lnTo>
                      <a:pt x="28" y="41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60720" y="1672560"/>
                <a:ext cx="52920" cy="4932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27" y="0"/>
                    </a:moveTo>
                    <a:lnTo>
                      <a:pt x="20" y="20"/>
                    </a:lnTo>
                    <a:lnTo>
                      <a:pt x="0" y="20"/>
                    </a:lnTo>
                    <a:lnTo>
                      <a:pt x="17" y="34"/>
                    </a:lnTo>
                    <a:lnTo>
                      <a:pt x="10" y="54"/>
                    </a:lnTo>
                    <a:lnTo>
                      <a:pt x="27" y="43"/>
                    </a:lnTo>
                    <a:lnTo>
                      <a:pt x="46" y="54"/>
                    </a:lnTo>
                    <a:lnTo>
                      <a:pt x="39" y="34"/>
                    </a:lnTo>
                    <a:lnTo>
                      <a:pt x="56" y="20"/>
                    </a:lnTo>
                    <a:lnTo>
                      <a:pt x="3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50360" y="1813680"/>
                <a:ext cx="55080" cy="493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9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9" y="34"/>
                    </a:lnTo>
                    <a:lnTo>
                      <a:pt x="10" y="55"/>
                    </a:lnTo>
                    <a:lnTo>
                      <a:pt x="29" y="42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09080" y="1742400"/>
                <a:ext cx="54720" cy="51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29" y="0"/>
                    </a:moveTo>
                    <a:lnTo>
                      <a:pt x="21" y="21"/>
                    </a:lnTo>
                    <a:lnTo>
                      <a:pt x="0" y="21"/>
                    </a:lnTo>
                    <a:lnTo>
                      <a:pt x="17" y="34"/>
                    </a:lnTo>
                    <a:lnTo>
                      <a:pt x="10" y="55"/>
                    </a:lnTo>
                    <a:lnTo>
                      <a:pt x="29" y="43"/>
                    </a:lnTo>
                    <a:lnTo>
                      <a:pt x="46" y="55"/>
                    </a:lnTo>
                    <a:lnTo>
                      <a:pt x="39" y="34"/>
                    </a:lnTo>
                    <a:lnTo>
                      <a:pt x="56" y="21"/>
                    </a:lnTo>
                    <a:lnTo>
                      <a:pt x="3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768360" y="1828440"/>
                <a:ext cx="42444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210800" y="1776240"/>
                <a:ext cx="11592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46160" y="1688760"/>
                <a:ext cx="230040" cy="87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41160" y="156060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" y="0"/>
                    </a:moveTo>
                    <a:lnTo>
                      <a:pt x="0" y="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2960" y="1549800"/>
                <a:ext cx="40680" cy="19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0" y="0"/>
                    </a:moveTo>
                    <a:lnTo>
                      <a:pt x="42" y="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12000" y="15696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7" y="0"/>
                    </a:moveTo>
                    <a:lnTo>
                      <a:pt x="10" y="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86440" y="1511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5" y="0"/>
                    </a:moveTo>
                    <a:lnTo>
                      <a:pt x="0" y="37"/>
                    </a:lnTo>
                    <a:lnTo>
                      <a:pt x="1" y="50"/>
                    </a:lnTo>
                    <a:lnTo>
                      <a:pt x="16" y="1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88240" y="1525680"/>
                <a:ext cx="23400" cy="439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0"/>
                    </a:moveTo>
                    <a:lnTo>
                      <a:pt x="0" y="34"/>
                    </a:lnTo>
                    <a:lnTo>
                      <a:pt x="10" y="47"/>
                    </a:lnTo>
                    <a:lnTo>
                      <a:pt x="25" y="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97960" y="1534680"/>
                <a:ext cx="29160" cy="42120"/>
              </a:xfrm>
              <a:custGeom>
                <a:avLst/>
                <a:gdLst/>
                <a:ahLst/>
                <a:rect l="l" t="t" r="r" b="b"/>
                <a:pathLst>
                  <a:path w="30" h="47">
                    <a:moveTo>
                      <a:pt x="15" y="0"/>
                    </a:moveTo>
                    <a:lnTo>
                      <a:pt x="0" y="38"/>
                    </a:lnTo>
                    <a:lnTo>
                      <a:pt x="15" y="47"/>
                    </a:lnTo>
                    <a:lnTo>
                      <a:pt x="30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12000" y="1542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15" y="0"/>
                    </a:moveTo>
                    <a:lnTo>
                      <a:pt x="34" y="1"/>
                    </a:lnTo>
                    <a:lnTo>
                      <a:pt x="17" y="38"/>
                    </a:lnTo>
                    <a:lnTo>
                      <a:pt x="0" y="3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29640" y="1538640"/>
                <a:ext cx="30960" cy="385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7" y="6"/>
                    </a:moveTo>
                    <a:lnTo>
                      <a:pt x="32" y="0"/>
                    </a:lnTo>
                    <a:lnTo>
                      <a:pt x="15" y="34"/>
                    </a:lnTo>
                    <a:lnTo>
                      <a:pt x="0" y="4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7f7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01920" y="1498320"/>
                <a:ext cx="62640" cy="4572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0" y="13"/>
                    </a:moveTo>
                    <a:lnTo>
                      <a:pt x="0" y="29"/>
                    </a:lnTo>
                    <a:lnTo>
                      <a:pt x="12" y="38"/>
                    </a:lnTo>
                    <a:lnTo>
                      <a:pt x="27" y="45"/>
                    </a:lnTo>
                    <a:lnTo>
                      <a:pt x="44" y="50"/>
                    </a:lnTo>
                    <a:lnTo>
                      <a:pt x="59" y="45"/>
                    </a:lnTo>
                    <a:lnTo>
                      <a:pt x="64" y="31"/>
                    </a:lnTo>
                    <a:lnTo>
                      <a:pt x="61" y="19"/>
                    </a:lnTo>
                    <a:lnTo>
                      <a:pt x="51" y="10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7" y="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99760" y="1512720"/>
                <a:ext cx="27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1503720"/>
                <a:ext cx="1980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21720" y="1498320"/>
                <a:ext cx="1152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937200" y="150192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940800" y="1509480"/>
                <a:ext cx="972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942600" y="151668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42960" y="1522080"/>
                <a:ext cx="2160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41160" y="1523880"/>
                <a:ext cx="1944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9360" y="1525680"/>
                <a:ext cx="5760" cy="1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927480" y="1523880"/>
                <a:ext cx="576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913800" y="1523880"/>
                <a:ext cx="15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1920" y="1518120"/>
                <a:ext cx="2520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25680" y="151272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27480" y="15004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55200" y="15184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153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3720" y="15148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68800" y="1481760"/>
                <a:ext cx="40680" cy="367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8" y="42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29640" y="1460160"/>
                <a:ext cx="5760" cy="435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47"/>
                    </a:moveTo>
                    <a:lnTo>
                      <a:pt x="3" y="47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57000" y="15037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6"/>
                    </a:moveTo>
                    <a:lnTo>
                      <a:pt x="1" y="19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37200" y="1536840"/>
                <a:ext cx="45360" cy="684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1" y="0"/>
                    </a:moveTo>
                    <a:lnTo>
                      <a:pt x="0" y="3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9360" y="15476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3" y="0"/>
                    </a:moveTo>
                    <a:lnTo>
                      <a:pt x="0" y="1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63120" y="15696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4720" y="15933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06320" y="161748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3" y="0"/>
                    </a:moveTo>
                    <a:lnTo>
                      <a:pt x="0" y="3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29720" y="16412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1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1320" y="1663200"/>
                <a:ext cx="115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4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72920" y="16869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94520" y="17110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2" y="0"/>
                    </a:moveTo>
                    <a:lnTo>
                      <a:pt x="0" y="3"/>
                    </a:lnTo>
                    <a:lnTo>
                      <a:pt x="11" y="16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16120" y="17348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12" y="14"/>
                    </a:lnTo>
                    <a:lnTo>
                      <a:pt x="1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38080" y="175680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3" y="0"/>
                    </a:moveTo>
                    <a:lnTo>
                      <a:pt x="0" y="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61480" y="17805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77400" y="1875960"/>
                <a:ext cx="21600" cy="23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58400" y="1877760"/>
                <a:ext cx="331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62360" y="1881360"/>
                <a:ext cx="2520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64520" y="1875960"/>
                <a:ext cx="2664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8878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887806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59120" y="1881360"/>
                <a:ext cx="338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68120" y="1888560"/>
                <a:ext cx="1368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68120" y="18885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5" y="9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1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8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76040" y="18961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7604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72080" y="1897560"/>
                <a:ext cx="3960" cy="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72080" y="189612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373880" y="1896120"/>
                <a:ext cx="216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369920" y="1897560"/>
                <a:ext cx="612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373520" y="18997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73880" y="1897560"/>
                <a:ext cx="2160" cy="57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79200" y="1881360"/>
                <a:ext cx="23400" cy="2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7760" y="1887120"/>
                <a:ext cx="2700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53" y="9024"/>
                    </a:moveTo>
                    <a:arcTo wR="10800" hR="10800" stAng="-567740" swAng="5967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53" y="9024"/>
                    </a:moveTo>
                    <a:arcTo wR="10800" hR="10800" stAng="-567740" swAng="596774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83160" y="1886760"/>
                <a:ext cx="1584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85680" y="18867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lnTo>
                      <a:pt x="5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3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9" y="10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9" y="7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8748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89640" y="18943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8907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91440" y="18907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914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324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89640" y="1894320"/>
                <a:ext cx="32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89640" y="189216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7291440" y="18907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7287480" y="18961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289640" y="1896120"/>
                <a:ext cx="57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91440" y="18943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09520" y="1875960"/>
                <a:ext cx="23040" cy="3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20600" y="1886760"/>
                <a:ext cx="25200" cy="19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01160" y="1896120"/>
                <a:ext cx="25200" cy="54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" y="6"/>
                    </a:moveTo>
                    <a:lnTo>
                      <a:pt x="27" y="6"/>
                    </a:lnTo>
                    <a:lnTo>
                      <a:pt x="27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7560" y="1896120"/>
                <a:ext cx="43200" cy="90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" y="9"/>
                    </a:moveTo>
                    <a:lnTo>
                      <a:pt x="42" y="6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0880" y="1850400"/>
                <a:ext cx="54720" cy="198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2" y="17"/>
                    </a:moveTo>
                    <a:lnTo>
                      <a:pt x="5" y="16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5" y="14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4" y="19"/>
                    </a:lnTo>
                    <a:lnTo>
                      <a:pt x="44" y="19"/>
                    </a:lnTo>
                    <a:lnTo>
                      <a:pt x="27" y="20"/>
                    </a:lnTo>
                    <a:lnTo>
                      <a:pt x="3" y="20"/>
                    </a:lnTo>
                    <a:lnTo>
                      <a:pt x="7" y="19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5" y="8"/>
                    </a:lnTo>
                    <a:lnTo>
                      <a:pt x="45" y="10"/>
                    </a:lnTo>
                    <a:lnTo>
                      <a:pt x="45" y="11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5" y="11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77840" y="1850400"/>
                <a:ext cx="47160" cy="144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5" y="13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49" y="16"/>
                    </a:lnTo>
                    <a:lnTo>
                      <a:pt x="39" y="9"/>
                    </a:lnTo>
                    <a:lnTo>
                      <a:pt x="34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67680" y="1848240"/>
                <a:ext cx="188280" cy="56880"/>
              </a:xfrm>
              <a:custGeom>
                <a:avLst/>
                <a:gdLst/>
                <a:ahLst/>
                <a:rect l="l" t="t" r="r" b="b"/>
                <a:pathLst>
                  <a:path w="191" h="62">
                    <a:moveTo>
                      <a:pt x="3" y="40"/>
                    </a:moveTo>
                    <a:lnTo>
                      <a:pt x="5" y="32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8" y="29"/>
                    </a:lnTo>
                    <a:lnTo>
                      <a:pt x="13" y="28"/>
                    </a:lnTo>
                    <a:lnTo>
                      <a:pt x="20" y="26"/>
                    </a:lnTo>
                    <a:lnTo>
                      <a:pt x="28" y="23"/>
                    </a:lnTo>
                    <a:lnTo>
                      <a:pt x="35" y="22"/>
                    </a:lnTo>
                    <a:lnTo>
                      <a:pt x="43" y="20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8" y="23"/>
                    </a:lnTo>
                    <a:lnTo>
                      <a:pt x="73" y="23"/>
                    </a:lnTo>
                    <a:lnTo>
                      <a:pt x="92" y="22"/>
                    </a:lnTo>
                    <a:lnTo>
                      <a:pt x="97" y="22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5" y="4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0" y="3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7"/>
                    </a:lnTo>
                    <a:lnTo>
                      <a:pt x="58" y="11"/>
                    </a:lnTo>
                    <a:lnTo>
                      <a:pt x="43" y="22"/>
                    </a:lnTo>
                    <a:lnTo>
                      <a:pt x="43" y="20"/>
                    </a:lnTo>
                    <a:lnTo>
                      <a:pt x="51" y="14"/>
                    </a:lnTo>
                    <a:lnTo>
                      <a:pt x="57" y="10"/>
                    </a:lnTo>
                    <a:lnTo>
                      <a:pt x="63" y="4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0" y="1"/>
                    </a:lnTo>
                    <a:lnTo>
                      <a:pt x="132" y="1"/>
                    </a:lnTo>
                    <a:lnTo>
                      <a:pt x="134" y="1"/>
                    </a:lnTo>
                    <a:lnTo>
                      <a:pt x="135" y="1"/>
                    </a:lnTo>
                    <a:lnTo>
                      <a:pt x="137" y="3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1"/>
                    </a:lnTo>
                    <a:lnTo>
                      <a:pt x="124" y="1"/>
                    </a:lnTo>
                    <a:lnTo>
                      <a:pt x="115" y="1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0" y="3"/>
                    </a:lnTo>
                    <a:lnTo>
                      <a:pt x="110" y="3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9" y="17"/>
                    </a:lnTo>
                    <a:lnTo>
                      <a:pt x="120" y="17"/>
                    </a:lnTo>
                    <a:lnTo>
                      <a:pt x="124" y="17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0" y="19"/>
                    </a:lnTo>
                    <a:lnTo>
                      <a:pt x="147" y="19"/>
                    </a:lnTo>
                    <a:lnTo>
                      <a:pt x="154" y="19"/>
                    </a:lnTo>
                    <a:lnTo>
                      <a:pt x="157" y="19"/>
                    </a:lnTo>
                    <a:lnTo>
                      <a:pt x="159" y="17"/>
                    </a:lnTo>
                    <a:lnTo>
                      <a:pt x="162" y="19"/>
                    </a:lnTo>
                    <a:lnTo>
                      <a:pt x="167" y="19"/>
                    </a:lnTo>
                    <a:lnTo>
                      <a:pt x="171" y="19"/>
                    </a:lnTo>
                    <a:lnTo>
                      <a:pt x="174" y="19"/>
                    </a:lnTo>
                    <a:lnTo>
                      <a:pt x="181" y="20"/>
                    </a:lnTo>
                    <a:lnTo>
                      <a:pt x="182" y="20"/>
                    </a:lnTo>
                    <a:lnTo>
                      <a:pt x="182" y="22"/>
                    </a:lnTo>
                    <a:lnTo>
                      <a:pt x="184" y="22"/>
                    </a:lnTo>
                    <a:lnTo>
                      <a:pt x="184" y="23"/>
                    </a:lnTo>
                    <a:lnTo>
                      <a:pt x="184" y="25"/>
                    </a:lnTo>
                    <a:lnTo>
                      <a:pt x="184" y="25"/>
                    </a:lnTo>
                    <a:lnTo>
                      <a:pt x="186" y="26"/>
                    </a:lnTo>
                    <a:lnTo>
                      <a:pt x="186" y="29"/>
                    </a:lnTo>
                    <a:lnTo>
                      <a:pt x="184" y="29"/>
                    </a:lnTo>
                    <a:lnTo>
                      <a:pt x="184" y="34"/>
                    </a:lnTo>
                    <a:lnTo>
                      <a:pt x="184" y="35"/>
                    </a:lnTo>
                    <a:lnTo>
                      <a:pt x="184" y="37"/>
                    </a:lnTo>
                    <a:lnTo>
                      <a:pt x="186" y="38"/>
                    </a:lnTo>
                    <a:lnTo>
                      <a:pt x="186" y="40"/>
                    </a:lnTo>
                    <a:lnTo>
                      <a:pt x="186" y="40"/>
                    </a:lnTo>
                    <a:lnTo>
                      <a:pt x="184" y="40"/>
                    </a:lnTo>
                    <a:lnTo>
                      <a:pt x="184" y="41"/>
                    </a:lnTo>
                    <a:lnTo>
                      <a:pt x="187" y="41"/>
                    </a:lnTo>
                    <a:lnTo>
                      <a:pt x="187" y="41"/>
                    </a:lnTo>
                    <a:lnTo>
                      <a:pt x="189" y="42"/>
                    </a:lnTo>
                    <a:lnTo>
                      <a:pt x="191" y="42"/>
                    </a:lnTo>
                    <a:lnTo>
                      <a:pt x="191" y="45"/>
                    </a:lnTo>
                    <a:lnTo>
                      <a:pt x="189" y="51"/>
                    </a:lnTo>
                    <a:lnTo>
                      <a:pt x="189" y="53"/>
                    </a:lnTo>
                    <a:lnTo>
                      <a:pt x="187" y="54"/>
                    </a:lnTo>
                    <a:lnTo>
                      <a:pt x="187" y="54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6" y="56"/>
                    </a:lnTo>
                    <a:lnTo>
                      <a:pt x="171" y="56"/>
                    </a:lnTo>
                    <a:lnTo>
                      <a:pt x="165" y="57"/>
                    </a:lnTo>
                    <a:lnTo>
                      <a:pt x="164" y="57"/>
                    </a:lnTo>
                    <a:lnTo>
                      <a:pt x="159" y="59"/>
                    </a:lnTo>
                    <a:lnTo>
                      <a:pt x="154" y="59"/>
                    </a:lnTo>
                    <a:lnTo>
                      <a:pt x="149" y="59"/>
                    </a:lnTo>
                    <a:lnTo>
                      <a:pt x="139" y="59"/>
                    </a:lnTo>
                    <a:lnTo>
                      <a:pt x="125" y="60"/>
                    </a:lnTo>
                    <a:lnTo>
                      <a:pt x="124" y="50"/>
                    </a:lnTo>
                    <a:lnTo>
                      <a:pt x="122" y="45"/>
                    </a:lnTo>
                    <a:lnTo>
                      <a:pt x="120" y="42"/>
                    </a:lnTo>
                    <a:lnTo>
                      <a:pt x="119" y="40"/>
                    </a:lnTo>
                    <a:lnTo>
                      <a:pt x="115" y="38"/>
                    </a:lnTo>
                    <a:lnTo>
                      <a:pt x="112" y="37"/>
                    </a:lnTo>
                    <a:lnTo>
                      <a:pt x="108" y="37"/>
                    </a:lnTo>
                    <a:lnTo>
                      <a:pt x="105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7" y="41"/>
                    </a:lnTo>
                    <a:lnTo>
                      <a:pt x="97" y="44"/>
                    </a:lnTo>
                    <a:lnTo>
                      <a:pt x="95" y="47"/>
                    </a:lnTo>
                    <a:lnTo>
                      <a:pt x="93" y="51"/>
                    </a:lnTo>
                    <a:lnTo>
                      <a:pt x="93" y="56"/>
                    </a:lnTo>
                    <a:lnTo>
                      <a:pt x="95" y="62"/>
                    </a:lnTo>
                    <a:lnTo>
                      <a:pt x="35" y="57"/>
                    </a:lnTo>
                    <a:lnTo>
                      <a:pt x="33" y="54"/>
                    </a:lnTo>
                    <a:lnTo>
                      <a:pt x="33" y="51"/>
                    </a:lnTo>
                    <a:lnTo>
                      <a:pt x="33" y="50"/>
                    </a:lnTo>
                    <a:lnTo>
                      <a:pt x="31" y="47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3" y="35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8" y="35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3" y="47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67680" y="18867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73440" y="1872360"/>
                <a:ext cx="135720" cy="5400"/>
              </a:xfrm>
              <a:custGeom>
                <a:avLst/>
                <a:gdLst/>
                <a:ahLst/>
                <a:rect l="l" t="t" r="r" b="b"/>
                <a:pathLst>
                  <a:path w="139" h="6">
                    <a:moveTo>
                      <a:pt x="0" y="6"/>
                    </a:moveTo>
                    <a:lnTo>
                      <a:pt x="5" y="5"/>
                    </a:lnTo>
                    <a:lnTo>
                      <a:pt x="8" y="5"/>
                    </a:lnTo>
                    <a:lnTo>
                      <a:pt x="13" y="5"/>
                    </a:lnTo>
                    <a:lnTo>
                      <a:pt x="25" y="3"/>
                    </a:lnTo>
                    <a:lnTo>
                      <a:pt x="41" y="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34" y="2"/>
                    </a:lnTo>
                    <a:lnTo>
                      <a:pt x="1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6160" y="1890720"/>
                <a:ext cx="3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77840" y="1848240"/>
                <a:ext cx="51120" cy="1656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4" y="1"/>
                    </a:moveTo>
                    <a:lnTo>
                      <a:pt x="19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24" y="19"/>
                    </a:lnTo>
                    <a:lnTo>
                      <a:pt x="32" y="19"/>
                    </a:lnTo>
                    <a:lnTo>
                      <a:pt x="40" y="19"/>
                    </a:lnTo>
                    <a:lnTo>
                      <a:pt x="5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05120" y="1866600"/>
                <a:ext cx="47160" cy="34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7" y="0"/>
                    </a:moveTo>
                    <a:lnTo>
                      <a:pt x="5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10" y="36"/>
                    </a:lnTo>
                    <a:lnTo>
                      <a:pt x="49" y="39"/>
                    </a:lnTo>
                    <a:lnTo>
                      <a:pt x="49" y="31"/>
                    </a:lnTo>
                    <a:lnTo>
                      <a:pt x="47" y="22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09080" y="1850400"/>
                <a:ext cx="58680" cy="198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26" y="3"/>
                    </a:moveTo>
                    <a:lnTo>
                      <a:pt x="22" y="5"/>
                    </a:lnTo>
                    <a:lnTo>
                      <a:pt x="21" y="8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9" y="24"/>
                    </a:lnTo>
                    <a:lnTo>
                      <a:pt x="42" y="24"/>
                    </a:lnTo>
                    <a:lnTo>
                      <a:pt x="56" y="24"/>
                    </a:lnTo>
                    <a:lnTo>
                      <a:pt x="57" y="24"/>
                    </a:lnTo>
                    <a:lnTo>
                      <a:pt x="57" y="22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38160" y="1888560"/>
                <a:ext cx="1843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85760" y="186480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13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9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05560" y="189072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28960" y="18907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5280" y="186660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0"/>
                    </a:moveTo>
                    <a:lnTo>
                      <a:pt x="13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87560" y="1892160"/>
                <a:ext cx="45000" cy="180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05560" y="1886760"/>
                <a:ext cx="4320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5" y="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99360" y="1886760"/>
                <a:ext cx="64440" cy="3600"/>
              </a:xfrm>
              <a:custGeom>
                <a:avLst/>
                <a:gdLst/>
                <a:ahLst/>
                <a:rect l="l" t="t" r="r" b="b"/>
                <a:pathLst>
                  <a:path w="66" h="4">
                    <a:moveTo>
                      <a:pt x="0" y="0"/>
                    </a:moveTo>
                    <a:lnTo>
                      <a:pt x="32" y="1"/>
                    </a:lnTo>
                    <a:lnTo>
                      <a:pt x="66" y="1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87560" y="1886760"/>
                <a:ext cx="68400" cy="540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1"/>
                    </a:moveTo>
                    <a:lnTo>
                      <a:pt x="17" y="3"/>
                    </a:lnTo>
                    <a:lnTo>
                      <a:pt x="25" y="3"/>
                    </a:lnTo>
                    <a:lnTo>
                      <a:pt x="44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1" y="3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32" y="7"/>
                    </a:lnTo>
                    <a:lnTo>
                      <a:pt x="2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05560" y="1875960"/>
                <a:ext cx="45000" cy="108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12"/>
                    </a:moveTo>
                    <a:lnTo>
                      <a:pt x="3" y="5"/>
                    </a:lnTo>
                    <a:lnTo>
                      <a:pt x="3" y="0"/>
                    </a:lnTo>
                    <a:lnTo>
                      <a:pt x="45" y="0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26" y="12"/>
                    </a:lnTo>
                    <a:lnTo>
                      <a:pt x="1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65960" y="18777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65960" y="1879560"/>
                <a:ext cx="12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07360" y="18795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9" y="1"/>
                    </a:lnTo>
                    <a:lnTo>
                      <a:pt x="12" y="1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07360" y="188136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9" y="0"/>
                    </a:lnTo>
                    <a:lnTo>
                      <a:pt x="12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42640" y="189072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25000" y="18921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446600" y="1890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35080" y="1870200"/>
                <a:ext cx="3960" cy="3600"/>
              </a:xfrm>
              <a:prstGeom prst="ellips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46160" y="185040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8" y="0"/>
                    </a:moveTo>
                    <a:lnTo>
                      <a:pt x="7" y="1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50120" y="18518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09080" y="1864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5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09080" y="186876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38600" y="2526840"/>
                <a:ext cx="105840" cy="4176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0" y="46"/>
                    </a:moveTo>
                    <a:lnTo>
                      <a:pt x="0" y="0"/>
                    </a:lnTo>
                    <a:lnTo>
                      <a:pt x="107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44800" y="251604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92840" y="3126240"/>
                <a:ext cx="921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8500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98160" y="2915280"/>
                <a:ext cx="2160" cy="129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84480" y="3043800"/>
                <a:ext cx="25560" cy="21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4" y="25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03320" y="3126240"/>
                <a:ext cx="1767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8044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09000" y="2952000"/>
                <a:ext cx="129600" cy="138960"/>
              </a:xfrm>
              <a:custGeom>
                <a:avLst/>
                <a:gdLst/>
                <a:ahLst/>
                <a:rect l="l" t="t" r="r" b="b"/>
                <a:pathLst>
                  <a:path w="133" h="150">
                    <a:moveTo>
                      <a:pt x="0" y="150"/>
                    </a:moveTo>
                    <a:lnTo>
                      <a:pt x="0" y="63"/>
                    </a:lnTo>
                    <a:lnTo>
                      <a:pt x="133" y="63"/>
                    </a:lnTo>
                    <a:lnTo>
                      <a:pt x="13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27080" y="293220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63120" y="2932200"/>
                <a:ext cx="1440" cy="1735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51240" y="310428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1" y="2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5720" y="2869560"/>
                <a:ext cx="141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47200" y="285840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33280" y="2631240"/>
                <a:ext cx="164880" cy="190800"/>
              </a:xfrm>
              <a:custGeom>
                <a:avLst/>
                <a:gdLst/>
                <a:ahLst/>
                <a:rect l="l" t="t" r="r" b="b"/>
                <a:pathLst>
                  <a:path w="168" h="21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1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84480" y="282204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4" y="26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638600" y="2713320"/>
                <a:ext cx="2160" cy="9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27080" y="268956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57800" y="2869560"/>
                <a:ext cx="1648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22680" y="2858400"/>
                <a:ext cx="2160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263120" y="2666160"/>
                <a:ext cx="1440" cy="120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51240" y="278712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1" y="26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57800" y="2631240"/>
                <a:ext cx="1648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22680" y="261828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44640" y="2568600"/>
                <a:ext cx="188280" cy="122760"/>
              </a:xfrm>
              <a:prstGeom prst="roundRect">
                <a:avLst>
                  <a:gd name="adj" fmla="val 16667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00080" y="259992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05480" y="2631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68800" y="2810520"/>
                <a:ext cx="18900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1596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06600" y="287136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44640" y="2810520"/>
                <a:ext cx="18828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288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86040" y="2871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04200" y="3065400"/>
                <a:ext cx="188280" cy="12096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51360" y="309492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67920" y="312804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0480" y="25945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14160" y="2616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33720" y="284400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73320" y="28659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46000" y="30913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74080" y="3115080"/>
                <a:ext cx="102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43160" y="284184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07680" y="2693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1000" y="2724480"/>
                <a:ext cx="8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373640" y="284184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84880" y="2516040"/>
              <a:ext cx="4942440" cy="1742400"/>
              <a:chOff x="2684880" y="2516040"/>
              <a:chExt cx="4942440" cy="1742400"/>
            </a:xfrm>
          </p:grpSpPr>
          <p:sp>
            <p:nvSpPr>
              <p:cNvPr id="652" name=""/>
              <p:cNvSpPr/>
              <p:nvPr/>
            </p:nvSpPr>
            <p:spPr>
              <a:xfrm>
                <a:off x="4163760" y="29887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ou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11280" y="302148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81400" y="305280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77600" y="26186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56880" y="274500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34920" y="277596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83680" y="2728800"/>
                <a:ext cx="18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20240" y="31136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quantit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18440" y="31424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in sto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61280" y="315720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821480" y="296136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40920" y="29926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92160" y="251604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ject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07200" y="299952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ice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67640" y="307656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80240" y="310968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ticke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07960" y="31226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07960" y="315396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75320" y="282564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92160" y="2994120"/>
                <a:ext cx="646920" cy="74880"/>
              </a:xfrm>
              <a:custGeom>
                <a:avLst/>
                <a:gdLst/>
                <a:ahLst/>
                <a:rect l="l" t="t" r="r" b="b"/>
                <a:pathLst>
                  <a:path w="657" h="83">
                    <a:moveTo>
                      <a:pt x="0" y="83"/>
                    </a:moveTo>
                    <a:lnTo>
                      <a:pt x="94" y="0"/>
                    </a:lnTo>
                    <a:lnTo>
                      <a:pt x="570" y="0"/>
                    </a:lnTo>
                    <a:lnTo>
                      <a:pt x="657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8560" y="3067200"/>
                <a:ext cx="654480" cy="20160"/>
              </a:xfrm>
              <a:custGeom>
                <a:avLst/>
                <a:gdLst/>
                <a:ahLst/>
                <a:rect l="l" t="t" r="r" b="b"/>
                <a:pathLst>
                  <a:path w="665" h="22">
                    <a:moveTo>
                      <a:pt x="8" y="0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8" y="22"/>
                    </a:lnTo>
                    <a:lnTo>
                      <a:pt x="655" y="22"/>
                    </a:lnTo>
                    <a:lnTo>
                      <a:pt x="665" y="16"/>
                    </a:lnTo>
                    <a:lnTo>
                      <a:pt x="665" y="6"/>
                    </a:lnTo>
                    <a:lnTo>
                      <a:pt x="65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55080" y="2598120"/>
                <a:ext cx="725400" cy="33120"/>
              </a:xfrm>
              <a:custGeom>
                <a:avLst/>
                <a:gdLst/>
                <a:ahLst/>
                <a:rect l="l" t="t" r="r" b="b"/>
                <a:pathLst>
                  <a:path w="739" h="37">
                    <a:moveTo>
                      <a:pt x="0" y="37"/>
                    </a:moveTo>
                    <a:lnTo>
                      <a:pt x="149" y="0"/>
                    </a:lnTo>
                    <a:lnTo>
                      <a:pt x="590" y="0"/>
                    </a:lnTo>
                    <a:lnTo>
                      <a:pt x="739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437440" y="2631240"/>
                <a:ext cx="762840" cy="412200"/>
              </a:xfrm>
              <a:custGeom>
                <a:avLst/>
                <a:gdLst/>
                <a:ahLst/>
                <a:rect l="l" t="t" r="r" b="b"/>
                <a:pathLst>
                  <a:path w="774" h="448">
                    <a:moveTo>
                      <a:pt x="35" y="448"/>
                    </a:moveTo>
                    <a:lnTo>
                      <a:pt x="30" y="448"/>
                    </a:lnTo>
                    <a:lnTo>
                      <a:pt x="22" y="444"/>
                    </a:lnTo>
                    <a:lnTo>
                      <a:pt x="17" y="444"/>
                    </a:lnTo>
                    <a:lnTo>
                      <a:pt x="8" y="441"/>
                    </a:lnTo>
                    <a:lnTo>
                      <a:pt x="3" y="435"/>
                    </a:lnTo>
                    <a:lnTo>
                      <a:pt x="3" y="432"/>
                    </a:lnTo>
                    <a:lnTo>
                      <a:pt x="0" y="425"/>
                    </a:lnTo>
                    <a:lnTo>
                      <a:pt x="0" y="22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8" y="5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742" y="0"/>
                    </a:lnTo>
                    <a:lnTo>
                      <a:pt x="752" y="2"/>
                    </a:lnTo>
                    <a:lnTo>
                      <a:pt x="756" y="2"/>
                    </a:lnTo>
                    <a:lnTo>
                      <a:pt x="764" y="5"/>
                    </a:lnTo>
                    <a:lnTo>
                      <a:pt x="769" y="13"/>
                    </a:lnTo>
                    <a:lnTo>
                      <a:pt x="769" y="16"/>
                    </a:lnTo>
                    <a:lnTo>
                      <a:pt x="774" y="22"/>
                    </a:lnTo>
                    <a:lnTo>
                      <a:pt x="774" y="425"/>
                    </a:lnTo>
                    <a:lnTo>
                      <a:pt x="769" y="432"/>
                    </a:lnTo>
                    <a:lnTo>
                      <a:pt x="769" y="435"/>
                    </a:lnTo>
                    <a:lnTo>
                      <a:pt x="764" y="441"/>
                    </a:lnTo>
                    <a:lnTo>
                      <a:pt x="756" y="444"/>
                    </a:lnTo>
                    <a:lnTo>
                      <a:pt x="752" y="444"/>
                    </a:lnTo>
                    <a:lnTo>
                      <a:pt x="742" y="448"/>
                    </a:lnTo>
                    <a:lnTo>
                      <a:pt x="35" y="448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18080" y="2671560"/>
                <a:ext cx="599400" cy="322200"/>
              </a:xfrm>
              <a:custGeom>
                <a:avLst/>
                <a:gdLst/>
                <a:ahLst/>
                <a:rect l="l" t="t" r="r" b="b"/>
                <a:pathLst>
                  <a:path w="608" h="353">
                    <a:moveTo>
                      <a:pt x="27" y="353"/>
                    </a:moveTo>
                    <a:lnTo>
                      <a:pt x="22" y="353"/>
                    </a:lnTo>
                    <a:lnTo>
                      <a:pt x="18" y="350"/>
                    </a:lnTo>
                    <a:lnTo>
                      <a:pt x="13" y="350"/>
                    </a:lnTo>
                    <a:lnTo>
                      <a:pt x="5" y="343"/>
                    </a:lnTo>
                    <a:lnTo>
                      <a:pt x="5" y="340"/>
                    </a:lnTo>
                    <a:lnTo>
                      <a:pt x="0" y="337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587" y="0"/>
                    </a:lnTo>
                    <a:lnTo>
                      <a:pt x="592" y="3"/>
                    </a:lnTo>
                    <a:lnTo>
                      <a:pt x="595" y="3"/>
                    </a:lnTo>
                    <a:lnTo>
                      <a:pt x="605" y="11"/>
                    </a:lnTo>
                    <a:lnTo>
                      <a:pt x="605" y="14"/>
                    </a:lnTo>
                    <a:lnTo>
                      <a:pt x="608" y="17"/>
                    </a:lnTo>
                    <a:lnTo>
                      <a:pt x="608" y="337"/>
                    </a:lnTo>
                    <a:lnTo>
                      <a:pt x="605" y="340"/>
                    </a:lnTo>
                    <a:lnTo>
                      <a:pt x="605" y="343"/>
                    </a:lnTo>
                    <a:lnTo>
                      <a:pt x="595" y="350"/>
                    </a:lnTo>
                    <a:lnTo>
                      <a:pt x="592" y="350"/>
                    </a:lnTo>
                    <a:lnTo>
                      <a:pt x="587" y="353"/>
                    </a:lnTo>
                    <a:lnTo>
                      <a:pt x="27" y="35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75320" y="276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75320" y="2735640"/>
                <a:ext cx="1450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75320" y="2735640"/>
                <a:ext cx="766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75320" y="279072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75320" y="282564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75320" y="282564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75320" y="285300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75320" y="285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75320" y="285300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75320" y="288072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75320" y="288072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75320" y="288072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75320" y="290808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75320" y="290808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75320" y="290808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91480" y="274104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91480" y="2797920"/>
                <a:ext cx="106200" cy="309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91480" y="285300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91480" y="2913480"/>
                <a:ext cx="106200" cy="327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46400" y="2671560"/>
                <a:ext cx="78120" cy="5292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40" y="15"/>
                    </a:moveTo>
                    <a:lnTo>
                      <a:pt x="50" y="0"/>
                    </a:lnTo>
                    <a:lnTo>
                      <a:pt x="48" y="17"/>
                    </a:lnTo>
                    <a:lnTo>
                      <a:pt x="67" y="12"/>
                    </a:lnTo>
                    <a:lnTo>
                      <a:pt x="55" y="23"/>
                    </a:lnTo>
                    <a:lnTo>
                      <a:pt x="72" y="25"/>
                    </a:lnTo>
                    <a:lnTo>
                      <a:pt x="57" y="28"/>
                    </a:lnTo>
                    <a:lnTo>
                      <a:pt x="78" y="45"/>
                    </a:lnTo>
                    <a:lnTo>
                      <a:pt x="50" y="34"/>
                    </a:lnTo>
                    <a:lnTo>
                      <a:pt x="46" y="54"/>
                    </a:lnTo>
                    <a:lnTo>
                      <a:pt x="40" y="37"/>
                    </a:lnTo>
                    <a:lnTo>
                      <a:pt x="23" y="59"/>
                    </a:lnTo>
                    <a:lnTo>
                      <a:pt x="31" y="34"/>
                    </a:lnTo>
                    <a:lnTo>
                      <a:pt x="6" y="42"/>
                    </a:lnTo>
                    <a:lnTo>
                      <a:pt x="26" y="25"/>
                    </a:lnTo>
                    <a:lnTo>
                      <a:pt x="0" y="12"/>
                    </a:lnTo>
                    <a:lnTo>
                      <a:pt x="31" y="18"/>
                    </a:lnTo>
                    <a:lnTo>
                      <a:pt x="31" y="2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320" y="2675520"/>
                <a:ext cx="62640" cy="4356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32" y="12"/>
                    </a:moveTo>
                    <a:lnTo>
                      <a:pt x="40" y="0"/>
                    </a:lnTo>
                    <a:lnTo>
                      <a:pt x="38" y="13"/>
                    </a:lnTo>
                    <a:lnTo>
                      <a:pt x="54" y="9"/>
                    </a:lnTo>
                    <a:lnTo>
                      <a:pt x="43" y="18"/>
                    </a:lnTo>
                    <a:lnTo>
                      <a:pt x="57" y="20"/>
                    </a:lnTo>
                    <a:lnTo>
                      <a:pt x="45" y="23"/>
                    </a:lnTo>
                    <a:lnTo>
                      <a:pt x="64" y="35"/>
                    </a:lnTo>
                    <a:lnTo>
                      <a:pt x="40" y="28"/>
                    </a:lnTo>
                    <a:lnTo>
                      <a:pt x="38" y="43"/>
                    </a:lnTo>
                    <a:lnTo>
                      <a:pt x="32" y="29"/>
                    </a:lnTo>
                    <a:lnTo>
                      <a:pt x="18" y="49"/>
                    </a:lnTo>
                    <a:lnTo>
                      <a:pt x="25" y="28"/>
                    </a:lnTo>
                    <a:lnTo>
                      <a:pt x="5" y="34"/>
                    </a:lnTo>
                    <a:lnTo>
                      <a:pt x="22" y="20"/>
                    </a:lnTo>
                    <a:lnTo>
                      <a:pt x="0" y="10"/>
                    </a:lnTo>
                    <a:lnTo>
                      <a:pt x="25" y="13"/>
                    </a:lnTo>
                    <a:lnTo>
                      <a:pt x="2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1880" y="26733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0080" y="267696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1880" y="267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5840" y="2676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73760" y="2682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75560" y="26809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5840" y="270648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1880" y="270072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3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09040" y="27082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01480" y="271368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1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97520" y="27100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99320" y="27082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07240" y="2706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05080" y="27064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95360" y="2708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1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99320" y="2717280"/>
                <a:ext cx="13680" cy="36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1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99320" y="271908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905080" y="2719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9040" y="268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  <a:moveTo>
                      <a:pt x="7" y="2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11200" y="26899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09040" y="269532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6840" y="2693880"/>
                <a:ext cx="9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00"/>
                    </a:solidFill>
                    <a:latin typeface="Arial"/>
                  </a:rPr>
                  <a:t>Firecracker Sale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6762600" y="2841840"/>
                <a:ext cx="144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50720" y="282564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4" y="0"/>
                    </a:moveTo>
                    <a:lnTo>
                      <a:pt x="27" y="23"/>
                    </a:ln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3680" y="2843640"/>
                <a:ext cx="153360" cy="78840"/>
              </a:xfrm>
              <a:custGeom>
                <a:avLst/>
                <a:gdLst/>
                <a:ahLst/>
                <a:rect l="l" t="t" r="r" b="b"/>
                <a:pathLst>
                  <a:path w="156" h="86">
                    <a:moveTo>
                      <a:pt x="156" y="86"/>
                    </a:moveTo>
                    <a:lnTo>
                      <a:pt x="156" y="3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1800" y="282744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4" y="0"/>
                    </a:moveTo>
                    <a:lnTo>
                      <a:pt x="25" y="22"/>
                    </a:lnTo>
                    <a:lnTo>
                      <a:pt x="0" y="2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67520" y="3039840"/>
                <a:ext cx="144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53480" y="31060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3" y="22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837480" y="298152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64920" y="297036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61480" y="2981520"/>
                <a:ext cx="312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40240" y="2970360"/>
                <a:ext cx="27000" cy="19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2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520" y="2680920"/>
                <a:ext cx="1440" cy="223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53480" y="29008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13" y="24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51760" y="2614680"/>
                <a:ext cx="204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52280" y="2603880"/>
                <a:ext cx="2520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23440" y="2614680"/>
                <a:ext cx="135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55200" y="260388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56400" y="2548800"/>
                <a:ext cx="16488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10400" y="25855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EDI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05360" y="261468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us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84360" y="2548800"/>
                <a:ext cx="16524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39440" y="25689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023960" y="26002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40880" y="2631240"/>
                <a:ext cx="3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69168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38840" y="29523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A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718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9444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35120" y="29412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22880" y="29703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Ware-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19280" y="29995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476120" y="2924280"/>
                <a:ext cx="1450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29400" y="2952360"/>
                <a:ext cx="43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N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01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679800" y="273960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743160" y="27561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04640" y="27835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310880" y="2739600"/>
                <a:ext cx="2160" cy="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77480" y="27561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Ea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32120" y="2787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84360" y="3128040"/>
                <a:ext cx="21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93720" y="314244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Maintenan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24680" y="317196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21040" y="2570760"/>
                <a:ext cx="2160" cy="8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55600" y="2585520"/>
                <a:ext cx="11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468560" y="2614680"/>
                <a:ext cx="9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atalo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46480" y="26002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211520" y="2583720"/>
                <a:ext cx="96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atalo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206120" y="26146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hang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35120" y="27450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27200" y="2775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70240" y="295236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70240" y="2982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57240" y="2968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18680" y="28641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29680" y="28605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3520" y="3058200"/>
                <a:ext cx="8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50720" y="4158000"/>
                <a:ext cx="131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25160" y="4145040"/>
                <a:ext cx="252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15"/>
                    </a:moveTo>
                    <a:lnTo>
                      <a:pt x="25" y="0"/>
                    </a:lnTo>
                    <a:lnTo>
                      <a:pt x="25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80840" y="3976560"/>
                <a:ext cx="216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469320" y="3948840"/>
                <a:ext cx="23400" cy="277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4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22840" y="3974760"/>
                <a:ext cx="1440" cy="9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10600" y="3947040"/>
                <a:ext cx="234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3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84880" y="3710880"/>
                <a:ext cx="475560" cy="2361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94600" y="3722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91720" y="3762360"/>
                <a:ext cx="401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o [Alpha 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92080" y="3800520"/>
                <a:ext cx="34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90280" y="3840840"/>
                <a:ext cx="421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rating [Alpha(1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93160" y="3881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_due [Real(5,2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4560" y="3683160"/>
                <a:ext cx="412560" cy="2653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286440" y="36907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85000" y="3732840"/>
                <a:ext cx="37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o [Alpha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284640" y="37713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82840" y="3811680"/>
                <a:ext cx="33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of_measure [Alpha(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279600" y="3853800"/>
                <a:ext cx="26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price [Real(3,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80320" y="38941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available [Integer(4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20520" y="4073400"/>
                <a:ext cx="404640" cy="170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26280" y="40827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23760" y="4123080"/>
                <a:ext cx="34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no [Alpha(12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24840" y="4161600"/>
                <a:ext cx="360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date [Date(mmddyyyy)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27360" y="4201920"/>
                <a:ext cx="31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.customer_no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82480" y="4057200"/>
                <a:ext cx="404640" cy="20124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92560" y="4066560"/>
                <a:ext cx="23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90400" y="4106880"/>
                <a:ext cx="21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.order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91480" y="4147200"/>
                <a:ext cx="27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.product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287520" y="418752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ordered [Integer(2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4139640"/>
                <a:ext cx="2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82680" y="41634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3" y="1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342320" y="41558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32864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6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070880" y="4155840"/>
                <a:ext cx="2160" cy="32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5540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82000" y="4000320"/>
                <a:ext cx="4143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82000" y="4000320"/>
                <a:ext cx="1393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344120" y="4000320"/>
                <a:ext cx="1375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4070520" y="4000320"/>
                <a:ext cx="4107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200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82000" y="3855960"/>
                <a:ext cx="144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7924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2000" y="3718080"/>
                <a:ext cx="2905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92920" y="3718080"/>
                <a:ext cx="2887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82000" y="3718080"/>
                <a:ext cx="144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71840" y="3628440"/>
                <a:ext cx="219960" cy="9108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41320" y="36392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402440" y="3661200"/>
                <a:ext cx="662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ing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19720" y="36849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184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420440" y="378612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417560" y="38080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080600" y="376380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28120" y="3786120"/>
                <a:ext cx="54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Initiatio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34240" y="380952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6236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01240" y="378612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Shutdow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718160" y="380808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069080" y="390852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128120" y="39326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Get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005720" y="3659760"/>
              <a:ext cx="3603600" cy="651960"/>
              <a:chOff x="4005720" y="3659760"/>
              <a:chExt cx="3603600" cy="651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17960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280" y="393948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69760" y="396144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64000" y="39855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721040" y="393948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85840" y="39614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File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78944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0572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07016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44960" y="4115880"/>
                <a:ext cx="601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70160" y="41378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28040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41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32600" y="41158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duc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35744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555440" y="4079160"/>
                <a:ext cx="2221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620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20600" y="411588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63176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30840" y="4079160"/>
                <a:ext cx="2239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4480" y="408816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22280" y="4115880"/>
                <a:ext cx="17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01760" y="413784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05720" y="423468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4" y="14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5"/>
                    </a:lnTo>
                    <a:lnTo>
                      <a:pt x="89" y="15"/>
                    </a:lnTo>
                    <a:lnTo>
                      <a:pt x="94" y="15"/>
                    </a:lnTo>
                    <a:lnTo>
                      <a:pt x="129" y="15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1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74" y="12"/>
                    </a:lnTo>
                    <a:lnTo>
                      <a:pt x="179" y="12"/>
                    </a:lnTo>
                    <a:lnTo>
                      <a:pt x="183" y="12"/>
                    </a:lnTo>
                    <a:lnTo>
                      <a:pt x="186" y="11"/>
                    </a:lnTo>
                    <a:lnTo>
                      <a:pt x="191" y="11"/>
                    </a:lnTo>
                    <a:lnTo>
                      <a:pt x="194" y="11"/>
                    </a:lnTo>
                    <a:lnTo>
                      <a:pt x="198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8" y="8"/>
                    </a:lnTo>
                    <a:lnTo>
                      <a:pt x="211" y="6"/>
                    </a:lnTo>
                    <a:lnTo>
                      <a:pt x="213" y="6"/>
                    </a:lnTo>
                    <a:lnTo>
                      <a:pt x="215" y="6"/>
                    </a:lnTo>
                    <a:lnTo>
                      <a:pt x="218" y="5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2"/>
                    </a:lnTo>
                    <a:lnTo>
                      <a:pt x="223" y="2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37400" y="426420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78600" y="4236480"/>
                <a:ext cx="219960" cy="14400"/>
              </a:xfrm>
              <a:custGeom>
                <a:avLst/>
                <a:gdLst/>
                <a:ahLst/>
                <a:rect l="l" t="t" r="r" b="b"/>
                <a:pathLst>
                  <a:path w="224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10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3" y="13"/>
                    </a:lnTo>
                    <a:lnTo>
                      <a:pt x="58" y="13"/>
                    </a:lnTo>
                    <a:lnTo>
                      <a:pt x="63" y="13"/>
                    </a:lnTo>
                    <a:lnTo>
                      <a:pt x="68" y="15"/>
                    </a:lnTo>
                    <a:lnTo>
                      <a:pt x="73" y="15"/>
                    </a:lnTo>
                    <a:lnTo>
                      <a:pt x="78" y="15"/>
                    </a:lnTo>
                    <a:lnTo>
                      <a:pt x="88" y="15"/>
                    </a:lnTo>
                    <a:lnTo>
                      <a:pt x="93" y="16"/>
                    </a:lnTo>
                    <a:lnTo>
                      <a:pt x="129" y="16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0" y="13"/>
                    </a:lnTo>
                    <a:lnTo>
                      <a:pt x="166" y="13"/>
                    </a:lnTo>
                    <a:lnTo>
                      <a:pt x="169" y="13"/>
                    </a:lnTo>
                    <a:lnTo>
                      <a:pt x="174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6" y="10"/>
                    </a:lnTo>
                    <a:lnTo>
                      <a:pt x="191" y="10"/>
                    </a:lnTo>
                    <a:lnTo>
                      <a:pt x="194" y="10"/>
                    </a:lnTo>
                    <a:lnTo>
                      <a:pt x="197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7" y="7"/>
                    </a:lnTo>
                    <a:lnTo>
                      <a:pt x="211" y="7"/>
                    </a:lnTo>
                    <a:lnTo>
                      <a:pt x="212" y="6"/>
                    </a:lnTo>
                    <a:lnTo>
                      <a:pt x="214" y="6"/>
                    </a:lnTo>
                    <a:lnTo>
                      <a:pt x="217" y="4"/>
                    </a:lnTo>
                    <a:lnTo>
                      <a:pt x="219" y="4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1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2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319640" y="4264200"/>
                <a:ext cx="525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Product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830840" y="422532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50" y="13"/>
                    </a:lnTo>
                    <a:lnTo>
                      <a:pt x="54" y="13"/>
                    </a:lnTo>
                    <a:lnTo>
                      <a:pt x="59" y="13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6"/>
                    </a:lnTo>
                    <a:lnTo>
                      <a:pt x="89" y="16"/>
                    </a:lnTo>
                    <a:lnTo>
                      <a:pt x="95" y="16"/>
                    </a:lnTo>
                    <a:lnTo>
                      <a:pt x="129" y="16"/>
                    </a:lnTo>
                    <a:lnTo>
                      <a:pt x="134" y="16"/>
                    </a:lnTo>
                    <a:lnTo>
                      <a:pt x="144" y="16"/>
                    </a:lnTo>
                    <a:lnTo>
                      <a:pt x="151" y="15"/>
                    </a:lnTo>
                    <a:lnTo>
                      <a:pt x="156" y="15"/>
                    </a:lnTo>
                    <a:lnTo>
                      <a:pt x="161" y="15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6" y="13"/>
                    </a:lnTo>
                    <a:lnTo>
                      <a:pt x="179" y="13"/>
                    </a:lnTo>
                    <a:lnTo>
                      <a:pt x="183" y="13"/>
                    </a:lnTo>
                    <a:lnTo>
                      <a:pt x="188" y="12"/>
                    </a:lnTo>
                    <a:lnTo>
                      <a:pt x="191" y="12"/>
                    </a:lnTo>
                    <a:lnTo>
                      <a:pt x="196" y="10"/>
                    </a:lnTo>
                    <a:lnTo>
                      <a:pt x="199" y="10"/>
                    </a:lnTo>
                    <a:lnTo>
                      <a:pt x="203" y="10"/>
                    </a:lnTo>
                    <a:lnTo>
                      <a:pt x="206" y="9"/>
                    </a:lnTo>
                    <a:lnTo>
                      <a:pt x="208" y="9"/>
                    </a:lnTo>
                    <a:lnTo>
                      <a:pt x="211" y="8"/>
                    </a:lnTo>
                    <a:lnTo>
                      <a:pt x="214" y="8"/>
                    </a:lnTo>
                    <a:lnTo>
                      <a:pt x="216" y="6"/>
                    </a:lnTo>
                    <a:lnTo>
                      <a:pt x="218" y="6"/>
                    </a:lnTo>
                    <a:lnTo>
                      <a:pt x="219" y="5"/>
                    </a:lnTo>
                    <a:lnTo>
                      <a:pt x="221" y="5"/>
                    </a:lnTo>
                    <a:lnTo>
                      <a:pt x="223" y="5"/>
                    </a:lnTo>
                    <a:lnTo>
                      <a:pt x="223" y="3"/>
                    </a:lnTo>
                    <a:lnTo>
                      <a:pt x="223" y="2"/>
                    </a:lnTo>
                    <a:lnTo>
                      <a:pt x="225" y="2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89880" y="42548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Ord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607880" y="4038480"/>
                <a:ext cx="144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432920" y="4038480"/>
                <a:ext cx="216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6951600" y="4084200"/>
                <a:ext cx="144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6776280" y="4084200"/>
                <a:ext cx="216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3480" y="3948840"/>
                <a:ext cx="139320" cy="86400"/>
              </a:xfrm>
              <a:custGeom>
                <a:avLst/>
                <a:gdLst/>
                <a:ahLst/>
                <a:rect l="l" t="t" r="r" b="b"/>
                <a:pathLst>
                  <a:path w="143" h="9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95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36200" y="393948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83080" y="403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0" y="2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76280" y="3912120"/>
                <a:ext cx="2160" cy="14652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66560" y="389772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0" y="0"/>
                    </a:moveTo>
                    <a:lnTo>
                      <a:pt x="20" y="21"/>
                    </a:lnTo>
                    <a:lnTo>
                      <a:pt x="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66560" y="405504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2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17680" y="3833640"/>
                <a:ext cx="119880" cy="74520"/>
              </a:xfrm>
              <a:custGeom>
                <a:avLst/>
                <a:gdLst/>
                <a:ahLst/>
                <a:rect l="l" t="t" r="r" b="b"/>
                <a:pathLst>
                  <a:path w="120" h="81">
                    <a:moveTo>
                      <a:pt x="120" y="81"/>
                    </a:moveTo>
                    <a:lnTo>
                      <a:pt x="68" y="81"/>
                    </a:lnTo>
                    <a:lnTo>
                      <a:pt x="6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3360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02200" y="38246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51680" y="3908520"/>
                <a:ext cx="29268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36200" y="389772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4076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994800" y="371052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154"/>
                    </a:moveTo>
                    <a:lnTo>
                      <a:pt x="0" y="0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985080" y="38466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2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41960" y="37015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224840" y="3710520"/>
                <a:ext cx="14112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206840" y="370152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64160" y="370152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35080" y="366516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5"/>
                    </a:moveTo>
                    <a:lnTo>
                      <a:pt x="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435080" y="3664800"/>
                <a:ext cx="57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8972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5"/>
                    </a:moveTo>
                    <a:lnTo>
                      <a:pt x="2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738972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29320" y="3725280"/>
                <a:ext cx="1440" cy="18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29320" y="3725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1356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751356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9200" y="366516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15"/>
                    </a:moveTo>
                    <a:lnTo>
                      <a:pt x="0" y="0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flipV="1">
                <a:off x="7548840" y="3664800"/>
                <a:ext cx="291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480080" y="3670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480080" y="3670560"/>
                <a:ext cx="2160" cy="3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426800" y="380232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25720" y="38314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infra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56080" y="4051440"/>
                <a:ext cx="76320" cy="115200"/>
              </a:xfrm>
              <a:custGeom>
                <a:avLst/>
                <a:gdLst/>
                <a:ahLst/>
                <a:rect l="l" t="t" r="r" b="b"/>
                <a:pathLst>
                  <a:path w="78" h="127">
                    <a:moveTo>
                      <a:pt x="15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7"/>
                    </a:lnTo>
                    <a:lnTo>
                      <a:pt x="78" y="127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156080" y="4051440"/>
                <a:ext cx="76320" cy="1656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0" y="17"/>
                    </a:moveTo>
                    <a:lnTo>
                      <a:pt x="15" y="0"/>
                    </a:lnTo>
                    <a:lnTo>
                      <a:pt x="66" y="0"/>
                    </a:lnTo>
                    <a:lnTo>
                      <a:pt x="78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56080" y="4068000"/>
                <a:ext cx="7632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197120" y="4075560"/>
                <a:ext cx="27360" cy="842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97120" y="40770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197120" y="40824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197120" y="408996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197120" y="409536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197120" y="41029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1913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189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85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18308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17912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7732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7336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171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167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8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6364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931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189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85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18308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8164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7732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33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71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7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1658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364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913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189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185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8308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912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732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17336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71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67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913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189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85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8308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7912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7732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7336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171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12600" y="4095360"/>
                <a:ext cx="2160" cy="72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97120" y="41065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97120" y="411372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97120" y="411948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202880" y="4091760"/>
                <a:ext cx="19440" cy="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214760" y="4110480"/>
                <a:ext cx="5760" cy="1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01080" y="4156200"/>
                <a:ext cx="9720" cy="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03520" y="4188960"/>
                <a:ext cx="18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AIX Serv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694200" y="3771720"/>
              <a:ext cx="1623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L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56960" y="3725640"/>
              <a:ext cx="5076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01960" y="3747600"/>
              <a:ext cx="5112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05480" y="3848760"/>
              <a:ext cx="163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NY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56360" y="3533040"/>
              <a:ext cx="141120" cy="5760"/>
            </a:xfrm>
            <a:custGeom>
              <a:avLst/>
              <a:gdLst/>
              <a:ahLst/>
              <a:rect l="l" t="t" r="r" b="b"/>
              <a:pathLst>
                <a:path w="142" h="5">
                  <a:moveTo>
                    <a:pt x="0" y="0"/>
                  </a:moveTo>
                  <a:lnTo>
                    <a:pt x="97" y="0"/>
                  </a:lnTo>
                  <a:lnTo>
                    <a:pt x="97" y="5"/>
                  </a:lnTo>
                  <a:lnTo>
                    <a:pt x="142" y="5"/>
                  </a:lnTo>
                  <a:lnTo>
                    <a:pt x="142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48520" y="3529800"/>
              <a:ext cx="48960" cy="3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3" y="5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89920" y="3529800"/>
              <a:ext cx="7560" cy="90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56360" y="3537000"/>
              <a:ext cx="147240" cy="5400"/>
            </a:xfrm>
            <a:custGeom>
              <a:avLst/>
              <a:gdLst/>
              <a:ahLst/>
              <a:rect l="l" t="t" r="r" b="b"/>
              <a:pathLst>
                <a:path w="149" h="7">
                  <a:moveTo>
                    <a:pt x="0" y="0"/>
                  </a:moveTo>
                  <a:lnTo>
                    <a:pt x="92" y="0"/>
                  </a:lnTo>
                  <a:lnTo>
                    <a:pt x="92" y="7"/>
                  </a:lnTo>
                  <a:lnTo>
                    <a:pt x="149" y="7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31520" y="3652560"/>
              <a:ext cx="21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mmunications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71840" y="3679920"/>
              <a:ext cx="12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51960" y="3733200"/>
              <a:ext cx="80640" cy="93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5592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6168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96744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7572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7968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55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61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6744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7572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796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55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61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744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7572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796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030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07040" y="3768120"/>
              <a:ext cx="144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1496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18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24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30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7040" y="3796920"/>
              <a:ext cx="144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1496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18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24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95160" y="3740400"/>
              <a:ext cx="29160" cy="19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99120" y="3744360"/>
              <a:ext cx="97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10640" y="3744360"/>
              <a:ext cx="118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22880" y="3755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99120" y="37533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10640" y="3753360"/>
              <a:ext cx="39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07040" y="3753360"/>
              <a:ext cx="3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51960" y="3723840"/>
              <a:ext cx="80640" cy="900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9"/>
                  </a:moveTo>
                  <a:lnTo>
                    <a:pt x="15" y="0"/>
                  </a:lnTo>
                  <a:lnTo>
                    <a:pt x="69" y="0"/>
                  </a:lnTo>
                  <a:lnTo>
                    <a:pt x="8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64920" y="3843360"/>
              <a:ext cx="525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38360" y="4123440"/>
              <a:ext cx="34560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80480" y="4101480"/>
              <a:ext cx="2736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nternet LAN AIX/Lan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61120" y="4129200"/>
              <a:ext cx="10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84480" y="3933000"/>
              <a:ext cx="3495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62960" y="392400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41120" y="3885120"/>
              <a:ext cx="3495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19600" y="387756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31640" y="4064760"/>
              <a:ext cx="8064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25880" y="4068360"/>
              <a:ext cx="921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24080" y="4072320"/>
              <a:ext cx="939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17960" y="4075920"/>
              <a:ext cx="10800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25880" y="4022640"/>
              <a:ext cx="9216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4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24080" y="4032000"/>
              <a:ext cx="93960" cy="273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870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10480" y="403560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794640" y="4037400"/>
              <a:ext cx="79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870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7870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10480" y="40485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870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910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9464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9860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0256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0652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39920" y="3978720"/>
              <a:ext cx="626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39920" y="3982320"/>
              <a:ext cx="62640" cy="4716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47840" y="3987720"/>
              <a:ext cx="489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791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791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791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813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1652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04800" y="4064760"/>
              <a:ext cx="8280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01200" y="4068360"/>
              <a:ext cx="900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99040" y="4072320"/>
              <a:ext cx="9432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93280" y="4075920"/>
              <a:ext cx="10584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1200" y="4022640"/>
              <a:ext cx="9000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3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99040" y="4032000"/>
              <a:ext cx="94320" cy="2736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598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85440" y="403560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67440" y="4037400"/>
              <a:ext cx="100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598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9598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985440" y="404856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6168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9638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96960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97572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778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98364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914520" y="3978720"/>
              <a:ext cx="608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48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912720" y="3982320"/>
              <a:ext cx="64800" cy="471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20640" y="3987720"/>
              <a:ext cx="507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519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519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519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41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9148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8432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84320" y="402264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4320" y="402660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7280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0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4320" y="3975120"/>
              <a:ext cx="885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9" y="0"/>
                  </a:lnTo>
                  <a:lnTo>
                    <a:pt x="76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0360" y="3986280"/>
              <a:ext cx="9252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41200" y="3987720"/>
              <a:ext cx="3132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64960" y="398952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49480" y="3989520"/>
              <a:ext cx="972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43720" y="3993120"/>
              <a:ext cx="291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41200" y="4000680"/>
              <a:ext cx="3132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64960" y="400248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437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46960" y="4000680"/>
              <a:ext cx="21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5128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5524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5920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31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96200" y="3930840"/>
              <a:ext cx="604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4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94040" y="3936600"/>
              <a:ext cx="64800" cy="457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3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1960" y="3940200"/>
              <a:ext cx="529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2" y="39"/>
                  </a:moveTo>
                  <a:lnTo>
                    <a:pt x="2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33640" y="3991680"/>
              <a:ext cx="57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33640" y="399312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3640" y="3997080"/>
              <a:ext cx="57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544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7100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928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57120" y="402264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57120" y="402660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4956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1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57120" y="3975120"/>
              <a:ext cx="903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8" y="0"/>
                  </a:lnTo>
                  <a:lnTo>
                    <a:pt x="75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57120" y="3986280"/>
              <a:ext cx="9036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16520" y="3987720"/>
              <a:ext cx="3096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0280" y="398952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4080" y="3989520"/>
              <a:ext cx="1188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16520" y="399312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616520" y="4000680"/>
              <a:ext cx="309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40280" y="400248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165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62228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62804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3020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3596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359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3320" y="3930840"/>
              <a:ext cx="586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69360" y="3936600"/>
              <a:ext cx="66600" cy="4572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76920" y="3940200"/>
              <a:ext cx="511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1" y="39"/>
                  </a:move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6800" y="3991680"/>
              <a:ext cx="75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8600" y="3993120"/>
              <a:ext cx="39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8600" y="3997080"/>
              <a:ext cx="39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1256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4884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50040" y="4864320"/>
              <a:ext cx="51120" cy="43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074480" y="4627800"/>
              <a:ext cx="1002240" cy="518760"/>
            </a:xfrm>
            <a:custGeom>
              <a:avLst/>
              <a:gdLst/>
              <a:ahLst/>
              <a:rect l="l" t="t" r="r" b="b"/>
              <a:pathLst>
                <a:path w="1020" h="565">
                  <a:moveTo>
                    <a:pt x="0" y="0"/>
                  </a:moveTo>
                  <a:lnTo>
                    <a:pt x="1020" y="0"/>
                  </a:lnTo>
                  <a:lnTo>
                    <a:pt x="1020" y="509"/>
                  </a:lnTo>
                  <a:lnTo>
                    <a:pt x="1011" y="493"/>
                  </a:lnTo>
                  <a:lnTo>
                    <a:pt x="984" y="481"/>
                  </a:lnTo>
                  <a:lnTo>
                    <a:pt x="943" y="469"/>
                  </a:lnTo>
                  <a:lnTo>
                    <a:pt x="891" y="459"/>
                  </a:lnTo>
                  <a:lnTo>
                    <a:pt x="834" y="456"/>
                  </a:lnTo>
                  <a:lnTo>
                    <a:pt x="765" y="453"/>
                  </a:lnTo>
                  <a:lnTo>
                    <a:pt x="696" y="456"/>
                  </a:lnTo>
                  <a:lnTo>
                    <a:pt x="637" y="459"/>
                  </a:lnTo>
                  <a:lnTo>
                    <a:pt x="587" y="469"/>
                  </a:lnTo>
                  <a:lnTo>
                    <a:pt x="542" y="481"/>
                  </a:lnTo>
                  <a:lnTo>
                    <a:pt x="518" y="493"/>
                  </a:lnTo>
                  <a:lnTo>
                    <a:pt x="512" y="509"/>
                  </a:lnTo>
                  <a:lnTo>
                    <a:pt x="500" y="525"/>
                  </a:lnTo>
                  <a:lnTo>
                    <a:pt x="476" y="537"/>
                  </a:lnTo>
                  <a:lnTo>
                    <a:pt x="431" y="549"/>
                  </a:lnTo>
                  <a:lnTo>
                    <a:pt x="383" y="559"/>
                  </a:lnTo>
                  <a:lnTo>
                    <a:pt x="322" y="562"/>
                  </a:lnTo>
                  <a:lnTo>
                    <a:pt x="254" y="565"/>
                  </a:lnTo>
                  <a:lnTo>
                    <a:pt x="186" y="562"/>
                  </a:lnTo>
                  <a:lnTo>
                    <a:pt x="129" y="559"/>
                  </a:lnTo>
                  <a:lnTo>
                    <a:pt x="76" y="549"/>
                  </a:lnTo>
                  <a:lnTo>
                    <a:pt x="34" y="537"/>
                  </a:lnTo>
                  <a:lnTo>
                    <a:pt x="7" y="525"/>
                  </a:lnTo>
                  <a:lnTo>
                    <a:pt x="0" y="5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88160" y="4640400"/>
              <a:ext cx="4410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VALIDATE_AN_ORDER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90320" y="4693680"/>
              <a:ext cx="736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 NO_MORE_ORDERS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96800" y="4746960"/>
              <a:ext cx="971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USTOMER_VALIDATIO   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092480" y="4800240"/>
              <a:ext cx="828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NO_MORE_ORDER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89960" y="4852800"/>
              <a:ext cx="592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PRODUCT_VALIDATI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91760" y="4906080"/>
              <a:ext cx="3740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END REPEAT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091040" y="4959360"/>
              <a:ext cx="627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REDIT_CHECK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91040" y="5012640"/>
              <a:ext cx="6681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IF CREDIT_CHECK 'BAD' THE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55120" y="2074680"/>
              <a:ext cx="362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 DE SIST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35040" y="1523880"/>
            <a:ext cx="850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iseño conceptua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Nivel de servici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definición de calida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: tiempos, errores, % de reprocesamient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ado: disponibilidad, holguras, inventari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Restriccion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recur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nentes adicional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manipulación de información, seguridad, modificaciones al optimizar acce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capacidad, trade off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sificación y detalle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SPD y Procedimientos Admi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eño Lógic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MI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Malla de Información Lóg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entiende por componente a un elemento estructural de una Mall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ueden ser procesos, funciones o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vienen de un modelo de procesos conceptual anterior, co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alla de decisión o inform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Modelamient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Lógico de Dato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2401920" y="5716080"/>
            <a:ext cx="6586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703080" y="1765440"/>
            <a:ext cx="78642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punto de partida es el MDC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querimient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relev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ificar los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accesos lóg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greg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dundanci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, optimizando el modelo para el ac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Caso Sistema Judici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"/>
          <p:cNvSpPr/>
          <p:nvPr/>
        </p:nvSpPr>
        <p:spPr>
          <a:xfrm>
            <a:off x="393840" y="2732040"/>
            <a:ext cx="838188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pues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0" y="2629080"/>
          <a:ext cx="91440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29080"/>
                    <a:ext cx="91440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0" y="190440"/>
          <a:ext cx="91440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44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2538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FD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IN55A</dc:creator>
  <dc:description/>
  <dc:language>en-US</dc:language>
  <cp:lastModifiedBy>Carla</cp:lastModifiedBy>
  <cp:lastPrinted>2003-08-13T00:09:53Z</cp:lastPrinted>
  <dcterms:modified xsi:type="dcterms:W3CDTF">2004-11-04T22:59:41Z</dcterms:modified>
  <cp:revision>109</cp:revision>
  <dc:subject>Sistemas</dc:subject>
  <dc:title>Auxiliar IN55A</dc:title>
</cp:coreProperties>
</file>