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42F8-B672-4CAA-B6BA-E4C6C89F5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6FD6-0209-4B52-A7F0-A9EC09B46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6A5E-D6F4-4D05-A32E-0A2E52489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1516-B1D3-48A8-B9C4-869F59930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60BE-6352-48B8-8ABA-ACABC8FF9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EA23-4FB3-4DB8-BA25-527CA6AC6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E282-4031-4EEB-9F16-7ECC6E2CC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AF3D-6E85-4076-81D9-EC55881B1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9F57-A0BC-4B1A-B4E3-3CE27DBA0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7EFF-4FCF-477A-879E-AE9E54D54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E5F7-240E-427B-9E34-4085FFB75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DCDD-52F9-48AC-B2E6-32B0F58AF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4494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Sistemas de Información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Otoñ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A0C-252C-44C3-A094-1B478A5216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Clase Auxiliar 0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743200"/>
            <a:ext cx="7772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 de Septiembre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Líneas de Redis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349360"/>
          <a:ext cx="8280360" cy="3434040"/>
        </p:xfrm>
        <a:graphic>
          <a:graphicData uri="http://schemas.openxmlformats.org/drawingml/2006/table">
            <a:tbl>
              <a:tblPr/>
              <a:tblGrid>
                <a:gridCol w="5327640"/>
                <a:gridCol w="1657440"/>
                <a:gridCol w="129528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de redise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u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Planificación de Inventario y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Control de Gest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Facturación y pago, realizarlas electrónicamente por medio de factura electrónica y transferencias de fond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tilización de medios electrón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7933680" y="3084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65720" y="5222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65720" y="378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65720" y="45021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CA9B-3CD6-4EC4-9479-E6D5F3FF9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Variables de Medición del REDIS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Propuestas de rediseñ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Número de veces que hay quiebre de sto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Diferencia entre estimación e historial de productos por perio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Cantidad de productos es buen estado que llegan a C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iempo de despacho del WSP a C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Número de veces que hay quiebres de “información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iempo de factur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iempo de pa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099D-E407-4E4A-9EF1-9D436AA17D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692280"/>
            <a:ext cx="8642160" cy="54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509760"/>
            <a:ext cx="7077240" cy="58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43C1-9278-430A-85B1-48436B7FE6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ilidad, es decir cuán alineada están los stakeholders con los cambios propuestos (MoC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acto, es decir, cuál es el resultado sobre el valor y apropiación del valor para la organ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ualitativo (Mo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uantit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EBAC-1CAA-4AB4-8D56-9A72010D70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79640" y="1988640"/>
            <a:ext cx="0" cy="33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30064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2080" y="1860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26080" y="53164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ac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2852640"/>
            <a:ext cx="7128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3500280"/>
            <a:ext cx="7128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716280"/>
            <a:ext cx="7128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4149720"/>
            <a:ext cx="71280" cy="71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3860640"/>
            <a:ext cx="7164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292640"/>
            <a:ext cx="71280" cy="71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365720"/>
            <a:ext cx="71280" cy="71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4797360"/>
            <a:ext cx="7164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941720"/>
            <a:ext cx="71640" cy="7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79E1-4646-4B41-B25C-E5ADBBAD6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415200" cy="4308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0A52-E65D-4190-A97A-38B3C97E8B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 d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68360" y="1492200"/>
            <a:ext cx="4756320" cy="474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C894-39E7-4F61-8F35-184F55AA65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aluación Cuantit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eoría de co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imul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odelos matemá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D06A-5470-4DB6-8B44-1618DFB8D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lección y Prior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3070080"/>
          <a:ext cx="7992720" cy="2303280"/>
        </p:xfrm>
        <a:graphic>
          <a:graphicData uri="http://schemas.openxmlformats.org/drawingml/2006/table">
            <a:tbl>
              <a:tblPr/>
              <a:tblGrid>
                <a:gridCol w="1333080"/>
                <a:gridCol w="1331640"/>
                <a:gridCol w="1333440"/>
                <a:gridCol w="1331640"/>
                <a:gridCol w="1331280"/>
                <a:gridCol w="13316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acto (M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acto (Cua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nómico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489320" y="193212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JEMPLO MATRIZ DE SEL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7877-37DD-42F9-BFD1-0DC4388906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mentarios Fin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19640" y="2276640"/>
            <a:ext cx="3348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Docum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xplicación de los cicl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mpacto en el proces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pueden identificar medidas por su impacto y facti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2595600"/>
            <a:ext cx="471636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5758-30B2-4E55-9DDA-15C620CE24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1812600"/>
            <a:ext cx="77724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lase Auxili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SO AC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uestas 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didas del 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8DA7-0ADF-4870-ACF7-20AEC5EA76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ctividades Identificad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41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hequeo inventario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spacho productos a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cisión de despacho a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lmacenaje en bodega 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misión y envío de 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misión reporte sema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actu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6CD0-162F-42CE-B949-E7CC74BC6C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25653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hequeo inventario C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5148000" cy="201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80560" y="47498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spacho productos a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07920" y="4437000"/>
            <a:ext cx="663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520" y="2444760"/>
            <a:ext cx="2751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cisión de despacho a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4280" y="5157720"/>
            <a:ext cx="268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lmacenaje en bodega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60120" y="244620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misión y envío de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3720" y="2852640"/>
            <a:ext cx="2559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misión reporte sem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86920" y="4797360"/>
            <a:ext cx="1290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ac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1098-3882-4BA5-B2DF-3659CF3D77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522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28036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80280" cy="511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7382-3CA3-4780-BD56-DD4542E4F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valuación Situación Actu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Quiebres de Sto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Utilización de tecnologí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Lead Time (larg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굴림"/>
              </a:rPr>
              <a:t>Transparencia de infor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10C0-3E55-4C37-9B2A-7B408F4C6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sos en 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06064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bjetivos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s de Efe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306864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finición de l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Líneas de Re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4149720"/>
            <a:ext cx="216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acilidad e Impa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5157720"/>
            <a:ext cx="2376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Priorización y estrate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0800000">
            <a:off x="1619280" y="2852640"/>
            <a:ext cx="720720" cy="100800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800000">
            <a:off x="3348000" y="3933720"/>
            <a:ext cx="720720" cy="100800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0800000">
            <a:off x="5435640" y="4941360"/>
            <a:ext cx="720720" cy="100836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5668-1B76-44E7-87F0-2341A5357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ontrolar la Gestión de despacho de tal manera q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 permita monitorear el sistema, y apoye la toma de decisio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gilizar los procedimientos asociados a los procesos de despach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lanificación de la gestión de administración del inventa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09DA-2E46-4C65-A543-4CDF57B0F5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íneas de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uctural y/o asignación de responsabilid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ursos (TI, Humanos, Instalaciones, Conocimient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9A6E-0812-41A7-807C-4A7EE2ABD5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Saby Vargas</dc:creator>
  <dc:description/>
  <dc:language>en-US</dc:language>
  <cp:lastModifiedBy>Alejandro Lama</cp:lastModifiedBy>
  <cp:lastPrinted>2001-07-30T13:16:05Z</cp:lastPrinted>
  <dcterms:modified xsi:type="dcterms:W3CDTF">2004-09-02T18:10:14Z</dcterms:modified>
  <cp:revision>164</cp:revision>
  <dc:subject>Ciclos Trabajo, Rediseño</dc:subject>
  <dc:title>Auxiliar IN55A</dc:title>
</cp:coreProperties>
</file>