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ED4A4-AA87-4FD1-B0C0-5EBAF4024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56B35-4D64-4D83-995A-DEB5FAA05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8BBFD-4343-4CF1-9F7D-291633013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F25DA-706B-41D6-8BAD-1B8320933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8831D-2C75-466A-9859-9C3BCCBF1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A2080-C305-4F1F-BBC5-5AC8A6A12D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32699-099C-4575-BE2A-0917A4899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950EE-A7FD-4FEF-8B1C-85C86C222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9F1C7-3552-40B9-945B-D5172FE6B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7DD52-9E85-464E-8E8D-B281728CC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00E0B-467F-40C0-BB11-D7B174EE5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58160-6463-4B64-9D40-CE6217799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4494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Sistemas de Información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Otoño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200</a:t>
            </a: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D983-01D9-4820-A724-5A495EAE131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Clase Auxiliar 0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4647960"/>
            <a:ext cx="77724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2743200"/>
            <a:ext cx="777240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 de Septiembre de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Líneas de Rediseñ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9640" y="2349360"/>
          <a:ext cx="8280360" cy="3434040"/>
        </p:xfrm>
        <a:graphic>
          <a:graphicData uri="http://schemas.openxmlformats.org/drawingml/2006/table">
            <a:tbl>
              <a:tblPr/>
              <a:tblGrid>
                <a:gridCol w="5327640"/>
                <a:gridCol w="1657440"/>
                <a:gridCol w="1295280"/>
              </a:tblGrid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ínea de redise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ru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Planificación de Inventario y produ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Control de Gest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Facturación y pago, realizarlas electrónicamente por medio de factura electrónica y transferencias de fond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Utilización de medios electrónic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7933680" y="30844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65720" y="52228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65720" y="37893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965720" y="45021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E008D-862A-4C24-8386-75FA11391F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569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Variables de Medición del REDISEÑ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  <a:ea typeface="굴림"/>
              </a:rPr>
              <a:t>Propuestas de rediseño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굴림"/>
              </a:rPr>
              <a:t>Número de veces que hay quiebre de sto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굴림"/>
              </a:rPr>
              <a:t>Diferencia entre estimación e historial de productos por perio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굴림"/>
              </a:rPr>
              <a:t>Cantidad de productos es buen estado que llegan a C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굴림"/>
              </a:rPr>
              <a:t>Tiempo de despacho del WSP a C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굴림"/>
              </a:rPr>
              <a:t>Número de veces que hay quiebres de “información”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굴림"/>
              </a:rPr>
              <a:t>Tiempo de factur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굴림"/>
              </a:rPr>
              <a:t>Tiempo de pa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2F481-4EA0-418F-8BF4-F60B0ECB24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Rediseñ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692280"/>
            <a:ext cx="8642160" cy="54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26920" y="509760"/>
            <a:ext cx="7077240" cy="587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41972-6D5B-4A6C-8768-E60CA36AD6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valu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Facilidad, es decir cuán alineada están los stakeholders con los cambios propuestos (MoC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mpacto, es decir, cuál es el resultado sobre el valor y apropiación del valor para la organ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ualitativo (MoC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uantita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04646-079F-435F-8115-E14127872F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valu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979640" y="1988640"/>
            <a:ext cx="0" cy="331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79640" y="5300640"/>
            <a:ext cx="496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2080" y="186048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Impa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26080" y="531648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Fac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40000" y="2852640"/>
            <a:ext cx="71280" cy="71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3500280"/>
            <a:ext cx="71280" cy="71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59280" y="3716280"/>
            <a:ext cx="71280" cy="71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00360" y="4149720"/>
            <a:ext cx="71280" cy="71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08360" y="3860640"/>
            <a:ext cx="71640" cy="71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4292640"/>
            <a:ext cx="71280" cy="71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4365720"/>
            <a:ext cx="71280" cy="71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08360" y="4797360"/>
            <a:ext cx="71640" cy="71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76720" y="4941720"/>
            <a:ext cx="71640" cy="71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7E05E-0A24-4490-B6FD-39D4512ED5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828800" y="1697040"/>
            <a:ext cx="6415200" cy="43084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C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7CD47-B568-41EF-BE8C-1CDFC1A3C4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jemplo de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268360" y="1492200"/>
            <a:ext cx="4756320" cy="474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C0AEE-3564-4F93-9C14-E416F30956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valuación Cuantitativ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Teoría de col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Simul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Modelos matemát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F630E-145D-4960-A91B-9F590DCA37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elección y Prioriz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39640" y="3070080"/>
          <a:ext cx="7992720" cy="2303280"/>
        </p:xfrm>
        <a:graphic>
          <a:graphicData uri="http://schemas.openxmlformats.org/drawingml/2006/table">
            <a:tbl>
              <a:tblPr/>
              <a:tblGrid>
                <a:gridCol w="1333080"/>
                <a:gridCol w="1331640"/>
                <a:gridCol w="1333440"/>
                <a:gridCol w="1331640"/>
                <a:gridCol w="1331280"/>
                <a:gridCol w="133164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n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c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acto (Mo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acto (Cua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conómico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le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489320" y="1932120"/>
            <a:ext cx="36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JEMPLO MATRIZ DE SEL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72A1F-F80B-4E15-9EAD-C97C79E2FE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mentarios Fina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219640" y="2276640"/>
            <a:ext cx="33480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Document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Explicación de los cicl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Impacto en el proces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Se pueden identificar medidas por su impacto y factibil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95280" y="2595600"/>
            <a:ext cx="4716360" cy="248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E8ED7-5986-4C2B-997D-3FBE57B375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2160" y="1812600"/>
            <a:ext cx="77724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lase Auxili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ASO AC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vantamiento situación actu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puestas Rediseñ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edidas del Rediseñ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diseñ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E6BFD-B615-4AA2-8003-56872E8ADE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Actividades Identificad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416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Chequeo inventario C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Despacho productos a C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Pag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Decisión de despacho a C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Almacenaje en bodega C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misión y envío de 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misión reporte seman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Factur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7DC44-251D-474F-B241-5CB3C34E41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66640" y="1752120"/>
            <a:ext cx="25653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Chequeo inventario C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195640" y="2781360"/>
            <a:ext cx="5148000" cy="2011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80560" y="47498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spacho productos a 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07920" y="4437000"/>
            <a:ext cx="663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P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5520" y="2444760"/>
            <a:ext cx="2751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cisión de despacho a 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74280" y="5157720"/>
            <a:ext cx="2683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Almacenaje en bodega 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60120" y="2446200"/>
            <a:ext cx="23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Emisión y envío de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53720" y="2852640"/>
            <a:ext cx="2559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Emisión reporte sem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86920" y="4797360"/>
            <a:ext cx="1290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Fact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3ADD6-E5FA-4FEA-809D-D558052149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5229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404640"/>
            <a:ext cx="8280360" cy="554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280280" cy="511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3EE33-DF3C-4BE3-BE36-6FCBFBA6FE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valuación Situación Actua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  <a:ea typeface="굴림"/>
              </a:rPr>
              <a:t>Contro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  <a:ea typeface="굴림"/>
              </a:rPr>
              <a:t>Quiebres de Sto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  <a:ea typeface="굴림"/>
              </a:rPr>
              <a:t>Utilización de tecnologí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  <a:ea typeface="굴림"/>
              </a:rPr>
              <a:t>Lead Time (largo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  <a:ea typeface="굴림"/>
              </a:rPr>
              <a:t>Transparencia de inform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DE467-58AF-46A5-87AE-5F8ED092E1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asos en 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2060640"/>
            <a:ext cx="2160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Objetivos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edidas de Efectiv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11280" y="3068640"/>
            <a:ext cx="2160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finición de l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Líneas de Re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4149720"/>
            <a:ext cx="2160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Evaluación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acilidad e Impa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27640" y="5157720"/>
            <a:ext cx="23767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Priorización y estrateg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 Impla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rot="10800000">
            <a:off x="1619280" y="2852640"/>
            <a:ext cx="720720" cy="1008000"/>
          </a:xfrm>
          <a:custGeom>
            <a:avLst/>
            <a:gdLst>
              <a:gd name="textAreaLeft" fmla="*/ 360 w 720720"/>
              <a:gd name="textAreaRight" fmla="*/ 721440 w 7207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0800000">
            <a:off x="3348000" y="3933720"/>
            <a:ext cx="720720" cy="1008000"/>
          </a:xfrm>
          <a:custGeom>
            <a:avLst/>
            <a:gdLst>
              <a:gd name="textAreaLeft" fmla="*/ 360 w 720720"/>
              <a:gd name="textAreaRight" fmla="*/ 721440 w 7207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rot="10800000">
            <a:off x="5435640" y="4941360"/>
            <a:ext cx="720720" cy="1008360"/>
          </a:xfrm>
          <a:custGeom>
            <a:avLst/>
            <a:gdLst>
              <a:gd name="textAreaLeft" fmla="*/ 360 w 720720"/>
              <a:gd name="textAreaRight" fmla="*/ 721440 w 720720"/>
              <a:gd name="textAreaTop" fmla="*/ 0 h 1008360"/>
              <a:gd name="textAreaBottom" fmla="*/ 10083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0B7D5-4E93-4BDC-B054-2C0272BD03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Controlar la Gestión de despacho de tal manera qu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 permita monitorear el sistema, y apoye la toma de decision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gilizar los procedimientos asociados a los procesos de despach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lanificación de la gestión de administración del inventar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7858E-E7FE-4CA6-BABF-F0A5ED659B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Líneas de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tructural y/o asignación de responsabilid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cursos (TI, Humanos, Instalaciones, Conocimient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FCA4C-62C6-48EE-BDE6-34A0040F53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Saby Vargas</dc:creator>
  <dc:description/>
  <dc:language>en-US</dc:language>
  <cp:lastModifiedBy>Alejandro Lama</cp:lastModifiedBy>
  <cp:lastPrinted>2001-07-30T13:16:05Z</cp:lastPrinted>
  <dcterms:modified xsi:type="dcterms:W3CDTF">2004-09-02T18:10:14Z</dcterms:modified>
  <cp:revision>164</cp:revision>
  <dc:subject>Ciclos Trabajo, Rediseño</dc:subject>
  <dc:title>Auxiliar IN55A</dc:title>
</cp:coreProperties>
</file>