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4BAEB-881A-4311-AE43-DFB03917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EC58D-F27E-446A-A20F-74F45FA9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C92DF-06FB-438A-9708-3299DB1A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75707-FC81-45A2-8760-F2BAA771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D30F1-A7EE-458B-98C2-E698C173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29055-7715-46CE-97E9-266FD977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DB78F-B4B5-4081-958D-11BFFE65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8D747-A4C9-4CA7-8195-AD3CEBCA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746E1-6FF7-4D9C-86C1-DE8CDD15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2AE43-23EF-4279-B23C-404BC1C9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1147A-D54E-4134-AADF-73C4FA5F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50C34-2CC5-4DDA-AA56-0BE1DD4A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C651-9526-4C43-A702-A94A153DDAC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Caso de Compañía de Seguros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rocesos de Nego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897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1342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añía de seguros gener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 actividades propias de la indust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sos princip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tención de Siniestr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arición de nuevos intermediarios en el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portunidad: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ructura de áre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a bien defini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clos de trabaj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diseñ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7640" y="2205000"/>
          <a:ext cx="9107280" cy="30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40" y="2205000"/>
                    <a:ext cx="91072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Areas de trabajo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Sistema Bien Definid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Objetivos (estado deseado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r las actividades de venta, clasificación y liquidación en el área de seguros generales con mayor eficiencia, ampliando la cobertura del canal Internet y el total de operaciones realizad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Medidas de efectividad (grado de cumplimiento)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operaciones en general mayor que el nivel actual, ejemplo un 20% en el año siguiente a la incorporación de la tecnologí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centaje de operaciones en plataforma Internet debe aumentar, ejemplo superior al 50% en el primer año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s requeridos para la realización de una venta menores, ejemplo debe reducirse al 50% del act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s, Peritos externos (siniestros), Distribuidores (Corredores de Seguros y Otros intermediarios, como nuevos entrantes, casas comerciales e instituciones financieras), Regulación (superintendencia de valores y seguros), Otros sitios INTERNET, Fuentes de información para los antecedentes de liquid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038480" y="1676520"/>
            <a:ext cx="4953240" cy="4419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edio Amb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Ciclo de Trabajo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520" y="1833480"/>
            <a:ext cx="80769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CT: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86040" y="838080"/>
            <a:ext cx="3352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CT: Siniestr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CT: Direcciones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clos d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Vent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tención de Siniestr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 coordinan bajo un nuevo ciclo padr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ención de Clie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ejecución ciclo principa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entas indirect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incluirán (además d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orredores de segur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intermediari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venta web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crea un nuevo ciclo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tabi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que agrupa 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actur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ag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ciclo d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lasificac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grega una nueva tarea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viar la ta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rrespondiente a todos los intermedi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8-04T05:49:59Z</dcterms:modified>
  <cp:revision>69</cp:revision>
  <dc:subject/>
  <dc:title>Introducción al Análisis de los Sistemas de Información Administrativos</dc:title>
</cp:coreProperties>
</file>