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CB18C-58DF-47BC-9C76-8BA3EA53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9EBEF-CAC7-4CC4-B839-DD53E06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4C34-70E7-4ACA-8C4C-C175701E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E641F-FBB4-4EC6-A962-3A0D235A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0B671-2CE7-44C3-AF86-0E63CCEB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7824-6E8C-485D-A576-E08182A0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D2D6E-7999-4ED6-9954-2F7D5AB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D868F-DF23-44B6-AF5A-1630943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D3DE7-36EF-41EA-B89B-8C8490BE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FB33B-4C2B-4FEC-8D67-2A83465C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61A78-57B2-47E8-8479-FEF923BF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6F2F9-FFEF-4855-8683-B25DB1E5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6700-2A6E-46D4-A494-EE57CA25A95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Caso de Compañía de Seguros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897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añía de seguros gener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actividades propias de la indust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s princip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arición de nuevos intermediarios en el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ortunidad: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 de ár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 bien defin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7640" y="2205000"/>
          <a:ext cx="910728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40" y="2205000"/>
                    <a:ext cx="91072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reas de trabajo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Sistema Bien Definid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Objetivos (estado desead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las actividades de venta, clasificación y liquidación en el área de seguros generales con mayor eficiencia, ampliando la cobertura del canal Internet y el total de operaciones realiz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edidas de efectividad (grado de cumplimiento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operaciones en general mayor que el nivel actual, ejemplo un 20% en el año siguiente a la incorporación de la tecnologí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centaje de operaciones en plataforma Internet debe aumentar, ejemplo superior al 50% en el primer añ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requeridos para la realización de una venta menores, ejemplo debe reducirse al 50% del act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s, Peritos externos (siniestros), Distribuidores (Corredores de Seguros y Otros intermediarios, como nuevos entrantes, casas comerciales e instituciones financieras), Regulación (superintendencia de valores y seguros), Otros sitios INTERNET, Fuentes de información para los antecedentes de liquid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953240" cy="4419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iclo de Trabajo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1833480"/>
            <a:ext cx="8076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040" y="8380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Siniest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Direccione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coordinan bajo un nuevo ciclo padr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Clie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jecución ciclo principa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ntas indirect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luirán (ademá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rredores de segu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 we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rea un nuevo ciclo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a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e agrupa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actu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g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icl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lasific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grega una nueva tarea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viar la t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rrespondiente a todos los intermedi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8-04T05:49:59Z</dcterms:modified>
  <cp:revision>69</cp:revision>
  <dc:subject/>
  <dc:title>Introducción al Análisis de los Sistemas de Información Administrativos</dc:title>
</cp:coreProperties>
</file>