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234C9-01D8-4D05-B2BC-03AF4686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BED2-A16C-40FC-BC75-7E57A0E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B1C18-56AC-45BF-A177-0700A89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D4D14-825D-4296-BAE6-87E9A250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FEBD3-91D6-46C5-B7E4-C60DB39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9E327-6ACF-4CE6-856F-3FBB4C3B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2B5F8-FAE9-4158-8E24-7E2278F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02594-25F2-4820-83BC-DD3C1B8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3198-D487-493E-8009-FDCB0CB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B59A2-E6B5-4205-AEC7-55761489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D5AA0-7985-4441-9421-B7A76C92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7C063-1445-4B6F-A484-423E7A58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93B-A36C-4D20-929D-E5549C14824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Caso de Compañía de Seguros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897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añía de seguros gener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actividades propias de la indust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s princip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arición de nuevos intermediarios en el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ortunidad: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 de ár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 bien defin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640" y="2205000"/>
          <a:ext cx="910728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40" y="2205000"/>
                    <a:ext cx="9107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reas de trabajo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Sistema Bien Definid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Objetivos (estado desead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las actividades de venta, clasificación y liquidación en el área de seguros generales con mayor eficiencia, ampliando la cobertura del canal Internet y el total de operaciones realiz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edidas de efectividad (grado de cumplimiento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operaciones en general mayor que el nivel actual, ejemplo un 20% en el año siguiente a la incorporación de la tecnologí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centaje de operaciones en plataforma Internet debe aumentar, ejemplo superior al 50% en el primer añ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requeridos para la realización de una venta menores, ejemplo debe reducirse al 50% del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s, Peritos externos (siniestros), Distribuidores (Corredores de Seguros y Otros intermediarios, como nuevos entrantes, casas comerciales e instituciones financieras), Regulación (superintendencia de valores y seguros), Otros sitios INTERNET, Fuentes de información para los antecedentes de liquid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953240" cy="4419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iclo de Trabajo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1833480"/>
            <a:ext cx="8076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040" y="8380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Siniest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Direccione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coordinan bajo un nuevo ciclo padr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Cl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jecución ciclo principa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ntas indirect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luirán (ademá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rredores de segu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 we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rea un nuevo ciclo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a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e agrupa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actu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g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icl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lasif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grega una nueva tarea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viar la t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rrespondiente a todos los intermedi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8-04T05:49:59Z</dcterms:modified>
  <cp:revision>69</cp:revision>
  <dc:subject/>
  <dc:title>Introducción al Análisis de los Sistemas de Información Administrativos</dc:title>
</cp:coreProperties>
</file>