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AD42E-560A-4215-A25D-E6944D88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17685-0718-4DE4-857E-EC27AED7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870B-41CB-46CA-8315-256026C0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0526B-BB2C-4F28-BB18-9D842AE5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1D4261-D3AC-423B-965D-65EA529E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A4295-C3A1-4B66-8B8F-B479DE46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83069-E081-47E2-9E82-E42EFCA2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7B745-14C7-4561-9997-24F8ED47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AE73B-CCC4-42DF-975A-0F656E13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CF273-E3D9-4F38-989F-667DE405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D27C0-5AD5-4D04-AF28-B1BEB9CC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1AD71-EEDB-465D-BADA-36CA94B4C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121-C23F-4844-A1AF-B11210F62FB3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Caso de Compañía de Seguros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897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añía de seguros gener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 actividades propias de la indust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os princip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en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arición de nuevos intermediarios en el mer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portunidad: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ructura de áre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a bien defini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clos de trabaj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diseñ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7640" y="2205000"/>
          <a:ext cx="9107280" cy="302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40" y="2205000"/>
                    <a:ext cx="91072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Areas de trabajo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Sistema Bien Definid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Objetivos (estado desead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ar las actividades de venta, clasificación y liquidación en el área de seguros generales con mayor eficiencia, ampliando la cobertura del canal Internet y el total de operaciones realizad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Medidas de efectividad (grado de cumplimiento)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operaciones en general mayor que el nivel actual, ejemplo un 20% en el año siguiente a la incorporación de la tecnología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centaje de operaciones en plataforma Internet debe aumentar, ejemplo superior al 50% en el primer año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requeridos para la realización de una venta menores, ejemplo debe reducirse al 50% del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s, Peritos externos (siniestros), Distribuidores (Corredores de Seguros y Otros intermediarios, como nuevos entrantes, casas comerciales e instituciones financieras), Regulación (superintendencia de valores y seguros), Otros sitios INTERNET, Fuentes de información para los antecedentes de liquid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953240" cy="4419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iclo de Trabajo Glob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1833480"/>
            <a:ext cx="8076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V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86040" y="838080"/>
            <a:ext cx="3352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Siniestr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Arial"/>
              </a:rPr>
              <a:t>CT: Direccione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clo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Atención de Sinie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coordinan bajo un nuevo ciclo padr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tención de Client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(ejecución ciclo principal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entas indirect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incluirán (además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orredores de segu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intermedi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venta we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crea un nuevo ciclo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a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e agrupa a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factu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go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cicl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lasificación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grega una nueva tarea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viar la ta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orrespondiente a todos los intermedi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8-04T05:49:59Z</dcterms:modified>
  <cp:revision>69</cp:revision>
  <dc:subject/>
  <dc:title>Introducción al Análisis de los Sistemas de Información Administrativos</dc:title>
</cp:coreProperties>
</file>