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907-106B-43A2-A0B8-DDD49823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0D2-F964-4697-BC7D-E64790DF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E1D-636A-4227-8361-C1331D10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13E-2599-4D4A-B31E-AE0FED6E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897-4B9D-4784-A02C-ADD4D35D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E2C-203B-4382-BA6A-1DCA341E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3D0-C3AA-4EAF-AAEC-EC3918E8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8E2-45CA-4560-A152-77EB6D07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928-9A69-49BF-841E-F8709E03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CC3-C541-4DFA-916D-3CCFF78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D12-D031-4FE1-AAF3-6CCC979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A9A-3436-4FF3-B1A2-7AE25C47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8BFE-E91C-424D-A31E-B7F61741DC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La lealtad del client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zar sistemas prob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nteponer la coherencia al desemp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ar primero los cambios entre los propios emple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ar los productos nuevos con clientes de confianza antes de darlos a conocer al r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clarar cuáles son las expectativas de los clientes, los empleados e intermedi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ar seguimiento a los fallos y evaluar las solu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marca de calidad no puede permitirse fallar en ciertos aspectos. Tiene que cumplir siempre sus promesas. Los consumidores esperar que el color del jugo Soprole no cambie de color o que la cerveza Kunstmann tenga siempre el mismo sab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alidad y la fiabilidad son fundamentales para establecer una relación duradera con el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uebas internas y fia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514600"/>
                <a:gridCol w="2438280"/>
                <a:gridCol w="3276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er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al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 empleados prueban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undo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be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ueba el prototipo con clientes de 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cer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zami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a vez probado, se comercializa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uebas internas y de fia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icrosoft colabora activamente con estudiantes de la zona de California que se prestan para probar nuevos softwares y averiguar fallas o limit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uitoni (fabricante de pasta y comida italiana de Nestlé) creó la casa Buitoni, un club para fanáticos de la comida (revistas con recetas, sugerencias de vinos, utensilios, y el Depto de desarrollo mantiene contacto con ell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Todo el mundo parte de la misma bas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tar de acuerdo sobre lo que es bue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jemplo de Star Trek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distribuidora contrató a una agencia para promocionar los 26 videos de la serie que salían al mercado cada 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 primero que hicieron fue asegurarse que los empleados se familiarizasen con la historia, cultura y lenguaje de Star Tr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Todo el mundo parte de la misma bas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jemplo de Star Trek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rector de Marketing organizó un semin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trata de un producto complejo, que los clientes conocen muy bien.... Si empleamos mal un término o usamos la nave equivocada, nuestra credibilidad caerá en picada, y con ella la del producto que vendemos (videos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Seguimiento y medida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imprescinble dar seguimiento a la calidad y fiabilidad de un producto o serv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 incógn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los sistemas de control y de seguimiento detectan una falla en la calidad, es necesario aplicar medidas de rectificación y compensaciones adecu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buena compensación puede mejorar notablemente el grado de satisfacción d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Qué clientes le conviene tener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ritish Air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de la opinión de sus clientes en distintos aspectos del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cubrieron que los clientes a los que se le había perdido una maleta y la recuperaron sin problemas califican mejor a la empresa que aquellos que no habían tenido ningún probl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todo marcha bien, el cliente da por sentado la calidad de desempeño y no valora el esfuerzo que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problemas agudizan la sensibilidad d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é ocurre cuando algo sale ma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umenta el interés por l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ociones: confusión, rabia, miedo a las consecu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ocupación por lo inmedi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fío al patrón habi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uede recordarse durante añ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5 pasos de una buena rectificació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solver de inmediato el problema y pedir disculp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ar una explicación convinc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itar que se rep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mostrar el valor de la empre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olver a ganar la confi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l punto de vista del client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onerse en el lugar del cliente y ver el problema desde su punto de vita es un elemento primpordial para llevar a cabo el primer pa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ra eso se debe comprender las consecuencias del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l punto de vista del client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de las mejores herramientas para resolver un problema es preguntarle al cliente qué puede hacer la empresa para compensarle... Generalmente en el momento el cliente dará soluciones sencillas y prácticas, si esperamos 3 días, no será así....El cliente siente que recupera el control de la situación al ser pregunt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ordemos qu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error puede considerarse una oportunidad para mejorar y actuar con respons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confianza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es ese estado que nos permite albergar expectativas positivas sobre la reacción que otros tendrían si atravesásemos una situación crític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es un contrato revoc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confianza requiere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se gana con el tiem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merican Express incluye el dato de “miembro desde.... Año XX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base para la confianza es la fi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strategias para gan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arios contactos influyen más que uno solo, por intenso que s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legar al consumidor a través de distintos 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tablecer una relación person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procesos automáticos se deben emplear con mesura y procurando no eliminar todo el contacto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con un gran potencial económ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tencial para compras futu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ormar parte de un gru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ajo costo de las entregas por cercanía o comod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bilidad de incrementar los márgenes de benefi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ilo de negociación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strategias para gan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tir el acceso libre 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ar consejos desinteres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strar consider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sar juntos por malos mo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rometerse con la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ara evitar perder la confianza del client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deben evitar los comportamientos que minan la confianza y alejan a los clientes que cuen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petar la confidencialidad de la información (no vender datos persona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mplir las promesas (las promesas incumplidas no se olvidan fácilmen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tar los asuntos de dinero con elegancia (no mostrar interés sólo por lo económ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 respecto a lo económico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petar a los clientes existentes: no ofrecer un trato más ventajoso a los nue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umentar el valor de la inversión de sus clientes con mejoras con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cobrar por lo que no sea neces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frecer explicaciones cla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primera impresión</a:t>
            </a: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el punto de arranque de toda re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dificil superar el estigma que puede suponer el desagrado o el “amor”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124080" y="2133720"/>
            <a:ext cx="2895480" cy="2590560"/>
            <a:chOff x="3124080" y="2133720"/>
            <a:chExt cx="2895480" cy="2590560"/>
          </a:xfrm>
        </p:grpSpPr>
        <p:sp>
          <p:nvSpPr>
            <p:cNvPr id="108" name=""/>
            <p:cNvSpPr/>
            <p:nvPr/>
          </p:nvSpPr>
          <p:spPr>
            <a:xfrm>
              <a:off x="3124080" y="2133720"/>
              <a:ext cx="2895480" cy="2590560"/>
            </a:xfrm>
            <a:custGeom>
              <a:avLst/>
              <a:gdLst>
                <a:gd name="textAreaLeft" fmla="*/ 305280 w 2895480"/>
                <a:gd name="textAreaRight" fmla="*/ 2590200 w 2895480"/>
                <a:gd name="textAreaTop" fmla="*/ 305280 h 2590560"/>
                <a:gd name="textAreaBottom" fmla="*/ 2285280 h 2590560"/>
              </a:gdLst>
              <a:ahLst/>
              <a:rect l="textAreaLeft" t="textAreaTop" r="textAreaRight" b="textAreaBottom"/>
              <a:pathLst>
                <a:path w="2414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0542" y="21600"/>
                  </a:lnTo>
                  <a:arcTo wR="3600" hR="3600" stAng="10800000" swAng="5400000"/>
                  <a:lnTo>
                    <a:pt x="2414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360" y="2666880"/>
              <a:ext cx="259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ahoma"/>
                </a:rPr>
                <a:t>Menciones en los medios de comunic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8600" y="2209680"/>
            <a:ext cx="2438280" cy="2362320"/>
          </a:xfrm>
          <a:prstGeom prst="rightArrow">
            <a:avLst>
              <a:gd name="adj1" fmla="val 50000"/>
              <a:gd name="adj2" fmla="val 258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720" y="2057400"/>
            <a:ext cx="2209680" cy="2819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28600"/>
            <a:ext cx="3733920" cy="167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90920" y="5104800"/>
            <a:ext cx="3886200" cy="1523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971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Comentario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66688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rimer contacto c/la empresa y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4572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ensajes public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90840" y="5486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Fuentes de una 1ra. im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onocer a los clientes que cuenta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iece siempre con una presentación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ure crear expectativas razon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ctualice la información a medida que avance la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erde las preferencias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sonalice la relación siempre que pue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pierda el conta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imer contact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primer contacto es el primer momento para intercambiar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Qué no conviene pregun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solicitar datos personales si no podemos dar un trato personalizado a cada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gunas preguntas son innecesariamente personales (ej. Consumo de bebidas alcohólicas, datos familiares, etc.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iderar el cansan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empresas son éxito cuentan con sistemas muy eficaces para recordar las preferencias de sus clientes, lo que les ha gustado y disgu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Ritz Carlton, si alguien se hospeda y de una cesta con frutas escoge una manzana, la empresa toma nota de ello y se ocupa de que al día siguiente no falten manzanas para esa habi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Otros elementos important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IJAR LAS 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clientes también deben saber qué  puede o no puede hacer l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ANTENERSE EN CONTACTO CON LOS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fechas de nacimiento no cambian, pero otros datos sí... Dirección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aturn – Smarterkid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clientes esperan poder ponerse en contacto con un proveedor cuando lo necesiten y confían en que éste responderá pronta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asegurarse que el cliente está satisfecho con la comunica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distintos a los de la compet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procedentes de sectores con un gran creci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uesto que el objetivo es la comprensión del mensaje, es conveniente conocer qué medio de comunicación prefiere 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empresa ha de considerar los distitntos factores y respetar las preferencias de los clien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 eso, logran un doble propósito: transmitir el mensaje y que el cliente sienta que tiene una comunicación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se exacerba de forma que una comunicación acertada pasa a ser una verdadera maravilla y un lamentable error se convierte en un desastre absol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cliente ha de sentir que entrar en contacto con la empresa es sencil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Formas de Comunicació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que plazo espera una respuesta un 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r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lamada telefó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Gestión del tiempo de los client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tender el valor que tiene el tiempo en la vida comercial del cliente es de gran ayuda para dar respuesta a sus neces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lación Tiempo Diner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1752480"/>
          <a:ext cx="8381880" cy="4800240"/>
        </p:xfrm>
        <a:graphic>
          <a:graphicData uri="http://schemas.openxmlformats.org/drawingml/2006/table">
            <a:tbl>
              <a:tblPr/>
              <a:tblGrid>
                <a:gridCol w="2793960"/>
                <a:gridCol w="2793600"/>
                <a:gridCol w="2794320"/>
              </a:tblGrid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mpo - categor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jemplo de consumi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jemplo de empre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co tiempo – much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co tiempo – poc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cho tiempo – much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cho tiempo – poc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¿Qué es rápido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percepción del tiempo es funda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lan de ataque para mejorar la percepción del tiempo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380880"/>
            <a:ext cx="426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ucir el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ñadir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Simplificar 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80880"/>
            <a:ext cx="426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ucir la sensación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tr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ntreten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5410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hora parece má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2286000"/>
            <a:ext cx="1600200" cy="2590920"/>
          </a:xfrm>
          <a:prstGeom prst="downArrow">
            <a:avLst>
              <a:gd name="adj1" fmla="val 50000"/>
              <a:gd name="adj2" fmla="val 404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2286000"/>
            <a:ext cx="1600200" cy="2590920"/>
          </a:xfrm>
          <a:prstGeom prst="downArrow">
            <a:avLst>
              <a:gd name="adj1" fmla="val 50000"/>
              <a:gd name="adj2" fmla="val 404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onsiga una experiencia memorab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segúrese de que el tiempo de desplazamineto merece la p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segúrese de que no surjan inconvenientes al i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ure que las actividades sean entreten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riquezca la experiencia con algo nue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uvenirs, fotografías, recuer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dique el tiempo necesario a la atención a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ree un entorno distendido y entreten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Valor para quienes tienen mucho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clientes con tiempo ayudan a repartir la carga y permiten sacar mayor partido al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tención fuera de horarios pe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Permiten hacer pruebas e investig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Recomiendan a otros el servi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ñalar los horarios en los que obtendrán mayor aten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Proporcionar una asistencia de mayor calidad fuera de horarios pe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ncentivar el uso de horarios con menos trabaj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xcelentes críticos para probar productos o investigar nuevas tend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os clientes con poco tiempo y diner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os clientes con poco tiempo, además disponen de poco dinero, la empresa debe procurar simplificar los productos y procedimientos al máximo y recurrir a los procesos automáticos para mantener los costos ba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lientes que pueden aportar nuevas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Un buen conocimiento de un sector comercial en expan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l uso de técnicas de pu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ner fama de innov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Que ofrezca la posibilidad de trabajar en un sector de gran cre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seo de experimentar junto con la e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r abierto a las sugerencias de los emple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 posiblidad de trabajar por metas comu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yudar a los clientes a organizar su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ijar expectativas temporales realistas en un primer momento es básico para crear una actitud positiva en 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Mantener informado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proveedor ha de ser un apoyo para 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fin de su empresa ha de ser el preparar a los clientes para el futuro que les esp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buena información, añade un valor a la relación comercial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 un elemento intangible,  pero es la base para la cooperación mutua y la lealt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emiar la lealt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clientes suelen ser conscientes de la importancia que se les conce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peran que su volumen de compras o la duración de la relación se traduzcan en un trato prefe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Formas de mostrar preferenci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visos con tiempo, adelanta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pacidad de actuar en el último mo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cceso restring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cio de información priorit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cio personaliz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stemas más sencil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rvicios personales adi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yo en los momentos dific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lebrar los buenos tiemp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nocer los h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rpresas agrad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cios segu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es pre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as ventajas pasan desapercibidas no se valo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cliente debe estar consciente de lo excepcional de las medi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 que buscan el mejor negoc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r en la vanguar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 que buscan el mejor negoc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zarlos para dar salida al P sobr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ar entrega de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ionar el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ca prior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brar por atención ext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entarlos a la compe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o de filtros para desmotiv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r en la vanguar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entar tend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r para probar nuevos productos y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estras de productos nue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dir consej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itar a actividades(seminarios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ón en foll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mios al mejor cl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B2B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B2B 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nir Equipo, Seleccionar segmento adecuado, colaboración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enerar lista de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alidar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r herramientas de ven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propensos a ser l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an a percio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an de forma habi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toman decisiones arriesg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 negocio está en expan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tan con empresas que tienen directores generales may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nir Equip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sonal de produc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en directamente al cliente (quién puede cooperar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leccionar el Segmento Adecuad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zar con segmento cercano y cooperador (buena relac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qué un cliente puede estar dispuesto a cooperar? Entregarle los resultados (benchmarking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Generar el listado de los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ementos que afectan los costos y beneficios en una oferta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n ser tangible y no tanto, técnicos, servicios e incluso aspectos soci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r el proceso completo, desde que el cliente adquiere el producto hasta que lo desec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Generar el listado de los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dejar fuera ningún elemento (error en el estud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te de los elementos saldrán de la observación y parte de las percepciones de los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 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uego de tener el listado de los elementos se deben valorizar en términos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útil que los miembros del equipo participen dentro del proceso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que el cliente piense que la información necesaria no existe (muchos datos, ardua tarea hasta llegar a la persona que tiene la información, lo sabe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 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ún la dimensión de lo que se esté hablando es más difícil llegar a asignar valor (sobretodo los menos tangib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hacer supuestos sobre las funcionalidades y desempeños cuando es más costoso  y difícil m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ordar ser explícito en los supuestos util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Validar el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valuaciones adicionales con Clientes del mismo seg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afi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mejora el entend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é casos son más conf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que es percepción hay que dar parámetros iniciales para que la gente tenga un punto de compa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Validar el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se de datos con valores estimados y descriptores de los clientes (características) que permitan explicar los resul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 analizar qué descriptores son más relevantes para los cambios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 Crear herramienta de ventas creadas en el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 persuadir a los clientes al conocer mej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illas claras que muestren ahorros en costos (valor agregado a los prospec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strar todos los ahorros en co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strar los resultados de otros clientes a los prospectos (estudiar cada cas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 Crear herramienta de ventas creadas en el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o puede estrechar la relación con los clientes actua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rvicios suplementarios (nuevas ofert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jorar las re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anar nuevos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jorar produ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, 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siempre se puede obtener los datos de primera fu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Confiar en las percepciones (Focus Grou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sos (como ejemp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ostrar prototipo (ejemplo de oferta de val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gunta: Cuánto estarían D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scusión del servicio entre las par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valuar de 1 a 10 las dimen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guntar nuevamente lo mismo: poner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ál sería más deseable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=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&lt;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&gt;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é hacer en cada caso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2:12:55Z</dcterms:created>
  <dc:creator>larenas</dc:creator>
  <dc:description/>
  <dc:language>en-US</dc:language>
  <cp:lastModifiedBy>Administrador</cp:lastModifiedBy>
  <dcterms:modified xsi:type="dcterms:W3CDTF">2004-10-26T14:54:27Z</dcterms:modified>
  <cp:revision>19</cp:revision>
  <dc:subject/>
  <dc:title>Título ....</dc:title>
</cp:coreProperties>
</file>