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0B65-0C0E-4D89-9ECF-A010C8200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B019-FB57-4B43-9421-FA0E5D659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0C30-949B-4768-9200-318C675FF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0E11-1115-462E-8CD1-E3279DB51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27AD-1BB6-4807-BB07-AB05B79AB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53E4-384F-422E-8613-FF9658D4F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1ED2-1AE4-4B74-AA47-FFA96B052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C2F0-70F6-4DA4-91DC-D270AE221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6091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418E-80F3-4982-9117-5FE13BF00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1F62-15DE-4960-91E9-240DC022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1305-28E9-4FF0-A522-E6AD9DE4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1C81-9214-4243-BBAD-08BBE003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7A8F8-E59F-4B4D-91E6-2C3CFEA7D38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ahoma"/>
              </a:rPr>
              <a:t>La lealtad del cliente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1989000"/>
            <a:ext cx="8280360" cy="43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d4d4d"/>
                </a:solidFill>
                <a:latin typeface="Verdana"/>
                <a:ea typeface="Times New Roman"/>
              </a:rPr>
              <a:t>La LEALTAD es un vínculo emocio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Fuerza afectiva basada en el respeto y la confi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Las planes como puntos, regalos etc. No generan lealtad por sí so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No es malo crear hábito! Es el primer paso pero (again) no crean lealtad por si sol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Cómo inspirar confianza?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Cómo inspirar confianza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Utilizar sistemas prob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Anteponer la coherencia al desempañ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robar primero los cambios entre los propios emple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robar los productos nuevos con clientes de confianza antes de darlos a conocer al res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Aclarar cuáles son las expectativas de los clientes, los empleados e intermediari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ar seguimiento a los fallos y evaluar las soluci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Cómo inspirar confianza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Una marca de calidad no puede permitirse fallar en ciertos aspectos. Tiene que cumplir siempre sus promesas. Los consumidores esperar que el color del jugo Soprole no cambie de color o que la cerveza Kunstmann tenga siempre el mismo sab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Cómo inspirar confianza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La calidad y la fiabilidad son fundamentales para establecer una relación duradera con el clien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Pruebas internas y fiabilidad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57200" y="1981080"/>
          <a:ext cx="8229600" cy="4542120"/>
        </p:xfrm>
        <a:graphic>
          <a:graphicData uri="http://schemas.openxmlformats.org/drawingml/2006/table">
            <a:tbl>
              <a:tblPr/>
              <a:tblGrid>
                <a:gridCol w="2514600"/>
                <a:gridCol w="2438280"/>
                <a:gridCol w="327672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imer pa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 alf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s empleados prueban el produ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gundo pa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 be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 prueba el prototipo con clientes de confianz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rcer pa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anzamient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a vez probado, se comercializa el produ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Pruebas internas y de fiabilidad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Microsoft colabora activamente con estudiantes de la zona de California que se prestan para probar nuevos softwares y averiguar fallas o limitaci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Buitoni (fabricante de pasta y comida italiana de Nestlé) creó la casa Buitoni, un club para fanáticos de la comida (revistas con recetas, sugerencias de vinos, utensilios, y el Depto de desarrollo mantiene contacto con ello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Todo el mundo parte de la misma base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star de acuerdo sobre lo que es buen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jemplo de Star Trek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a distribuidora contrató a una agencia para promocionar los 26 videos de la serie que salían al mercado cada añ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o primero que hicieron fue asegurarse que los empleados se familiarizasen con la historia, cultura y lenguaje de Star Tre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Todo el mundo parte de la misma base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jemplo de Star Trek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irector de Marketing organizó un seminar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Se trata de un producto complejo, que los clientes conocen muy bien.... Si empleamos mal un término o usamos la nave equivocada, nuestra credibilidad caerá en picada, y con ella la del producto que vendemos (videos)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Seguimiento y medidas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s imprescinble dar seguimiento a la calidad y fiabilidad de un producto o servic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liente incógni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Rectificaciones de Calidad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uando los sistemas de control y de seguimiento detectan una falla en la calidad, es necesario aplicar medidas de rectificación y compensaciones adecuad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Una buena compensación puede mejorar notablemente el grado de satisfacción del cl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Qué clientes le conviene tener?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Rectificaciones de Calidad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British Airway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ide la opinión de sus clientes en distintos aspectos del servic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escubrieron que los clientes a los que se le había perdido una maleta y la recuperaron sin problemas califican mejor a la empresa que aquellos que no habían tenido ningún proble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Rectificaciones de Calidad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uando todo marcha bien, el cliente da por sentado la calidad de desempeño y no valora el esfuerzo que impl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Los problemas agudizan la sensibilidad del cl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Rectificaciones de Calidad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Qué ocurre cuando algo sale mal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umenta el interés por la empre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mociones: confusión, rabia, miedo a las consecuenci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reocupación por lo inmedia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esafío al patrón habit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uede recordarse durante añ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5 pasos de una buena rectificación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Resolver de inmediato el problema y pedir disculp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ar una explicación convinc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vitar que se repi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emostrar el valor de la empre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Volver a ganar la confianz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El punto de vista del cliente...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onerse en el lugar del cliente y ver el problema desde su punto de vita es un elemento primpordial para llevar a cabo el primer pas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ara eso se debe comprender las consecuencias del err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El punto de vista del cliente...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Una de las mejores herramientas para resolver un problema es preguntarle al cliente qué puede hacer la empresa para compensarle... Generalmente en el momento el cliente dará soluciones sencillas y prácticas, si esperamos 3 días, no será así....El cliente siente que recupera el control de la situación al ser preguntad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Recordemos que...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Todo error puede considerarse una oportunidad para mejorar y actuar con responsabil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La confianza...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La confianza es ese estado que nos permite albergar expectativas positivas sobre la reacción que otros tendrían si atravesásemos una situación crítica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La confianza es un contrato revocabl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La confianza requiere tiempo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La confianza se gana con el tiemp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American Express incluye el dato de “miembro desde.... Año XX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La base para la confianza es la fiabil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Estrategias para ganar confianza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Varios contactos influyen más que uno solo, por intenso que se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Llegar al consumidor a través de distintos medi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stablecer una relación persona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Los procesos automáticos se deben emplear con mesura y procurando no eliminar todo el contacto human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Clientes que le conviene tener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lientes con un gran potencial económi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otencial para compras futur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Formar parte de un grup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Bajo costo de las entregas por cercanía o comod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osibilidad de incrementar los márgenes de benefici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stilo de negociación abie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Estrategias para ganar confianza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ermitir el acceso libre a inform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Dar consejos desinteresa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Mostrar consider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asar juntos por malos momen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Comprometerse con la comun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Para evitar perder la confianza del cliente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Se deben evitar los comportamientos que minan la confianza y alejan a los clientes que cuent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Respetar la confidencialidad de la información (no vender datos persona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umplir las promesas (las promesas incumplidas no se olvidan fácilment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Tratar los asuntos de dinero con elegancia (no mostrar interés sólo por lo económic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on respecto a lo económico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Respetar a los clientes existentes: no ofrecer un trato más ventajoso a los nuev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umentar el valor de la inversión de sus clientes con mejoras constan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No cobrar por lo que no sea necesar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Ofrecer explicaciones clar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La primera impresión</a:t>
            </a: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s el punto de arranque de toda rel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s dificil superar el estigma que puede suponer el desagrado o el “amor” inic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3124080" y="2133720"/>
            <a:ext cx="2895480" cy="2590560"/>
            <a:chOff x="3124080" y="2133720"/>
            <a:chExt cx="2895480" cy="2590560"/>
          </a:xfrm>
        </p:grpSpPr>
        <p:sp>
          <p:nvSpPr>
            <p:cNvPr id="108" name=""/>
            <p:cNvSpPr/>
            <p:nvPr/>
          </p:nvSpPr>
          <p:spPr>
            <a:xfrm>
              <a:off x="3124080" y="2133720"/>
              <a:ext cx="2895480" cy="2590560"/>
            </a:xfrm>
            <a:custGeom>
              <a:avLst/>
              <a:gdLst>
                <a:gd name="textAreaLeft" fmla="*/ 305280 w 2895480"/>
                <a:gd name="textAreaRight" fmla="*/ 2590200 w 2895480"/>
                <a:gd name="textAreaTop" fmla="*/ 305280 h 2590560"/>
                <a:gd name="textAreaBottom" fmla="*/ 2285280 h 2590560"/>
              </a:gdLst>
              <a:ahLst/>
              <a:rect l="textAreaLeft" t="textAreaTop" r="textAreaRight" b="textAreaBottom"/>
              <a:pathLst>
                <a:path w="24142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20542" y="21600"/>
                  </a:lnTo>
                  <a:arcTo wR="3600" hR="3600" stAng="10800000" swAng="5400000"/>
                  <a:lnTo>
                    <a:pt x="24142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76360" y="2666880"/>
              <a:ext cx="2590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00000"/>
                  </a:solidFill>
                  <a:latin typeface="Tahoma"/>
                </a:rPr>
                <a:t>Menciones en los medios de comunica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228600" y="2209680"/>
            <a:ext cx="2438280" cy="2362320"/>
          </a:xfrm>
          <a:prstGeom prst="rightArrow">
            <a:avLst>
              <a:gd name="adj1" fmla="val 50000"/>
              <a:gd name="adj2" fmla="val 2580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705720" y="2057400"/>
            <a:ext cx="2209680" cy="2819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743200" y="228600"/>
            <a:ext cx="3733920" cy="1676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590920" y="5104800"/>
            <a:ext cx="3886200" cy="1523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29718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Comentarios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705720" y="2666880"/>
            <a:ext cx="236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Primer contacto c/la empresa y emple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05320" y="45720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Mensajes publici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390840" y="548640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Fuentes de una 1ra. impre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Reconocer a los clientes que cuentan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mpiece siempre con una presentación fo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rocure crear expectativas razon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Actualice la información a medida que avance la rel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Recuerde las preferencias del cli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ersonalice la relación siempre que pue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No pierda el contac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Primer contacto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l primer contacto es el primer momento para intercambiar da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Qué no conviene pregun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No solicitar datos personales si no podemos dar un trato personalizado a cada cli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lgunas preguntas son innecesariamente personales (ej. Consumo de bebidas alcohólicas, datos familiares, etc...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onsiderar el cansanc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Las empresas son éxito cuentan con sistemas muy eficaces para recordar las preferencias de sus clientes, lo que les ha gustado y disgust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jemplo: Ritz Carlton, si alguien se hospeda y de una cesta con frutas escoge una manzana, la empresa toma nota de ello y se ocupa de que al día siguiente no falten manzanas para esa habit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Otros elementos importantes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FIJAR LAS EXPECTATIV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Los clientes también deben saber qué  puede o no puede hacer la empre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MANTENERSE EN CONTACTO CON LOS CLIEN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Las fechas de nacimiento no cambian, pero otros datos sí... Dirección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Saturn – Smarterkids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Accesibilidad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Los clientes esperan poder ponerse en contacto con un proveedor cuando lo necesiten y confían en que éste responderá prontam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¿Cómo asegurarse que el cliente está satisfecho con la comunicació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Clientes que le conviene tener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lientes distintos a los de la competen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lientes procedentes de sectores con un gran crecimie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Accesibilidad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uesto que el objetivo es la comprensión del mensaje, es conveniente conocer qué medio de comunicación prefiere el cli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La empresa ha de considerar los distitntos factores y respetar las preferencias de los client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on eso, logran un doble propósito: transmitir el mensaje y que el cliente sienta que tiene una comunicación de calid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Accesibilidad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Todo se exacerba de forma que una comunicación acertada pasa a ser una verdadera maravilla y un lamentable error se convierte en un desastre absolu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l cliente ha de sentir que entrar en contacto con la empresa es sencil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Formas de Comunicación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n que plazo espera una respuesta un client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ar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Llamada telefón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-mai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Gestión del tiempo de los clientes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ntender el valor que tiene el tiempo en la vida comercial del cliente es de gran ayuda para dar respuesta a sus necesida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Relación Tiempo Dinero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80880" y="1752480"/>
          <a:ext cx="8381880" cy="4800240"/>
        </p:xfrm>
        <a:graphic>
          <a:graphicData uri="http://schemas.openxmlformats.org/drawingml/2006/table">
            <a:tbl>
              <a:tblPr/>
              <a:tblGrid>
                <a:gridCol w="2793960"/>
                <a:gridCol w="2793600"/>
                <a:gridCol w="2794320"/>
              </a:tblGrid>
              <a:tr h="95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iempo - categorí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jemplo de consumid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jemplo de empres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co tiempo – mucho dine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co tiempo – poco dine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cho tiempo – mucho dine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cho tiempo – poco dine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¿Qué es rápido?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La percepción del tiempo es fundament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lan de ataque para mejorar la percepción del tiempo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04920" y="380880"/>
            <a:ext cx="4267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Reducir el tiempo r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Añadir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Simplificar el proc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76920" y="380880"/>
            <a:ext cx="4267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Reducir la sensación de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Distra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Entretenimi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57400" y="54100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ahoma"/>
              </a:rPr>
              <a:t>Ahora parece más ráp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90920" y="2286000"/>
            <a:ext cx="1600200" cy="2590920"/>
          </a:xfrm>
          <a:prstGeom prst="downArrow">
            <a:avLst>
              <a:gd name="adj1" fmla="val 50000"/>
              <a:gd name="adj2" fmla="val 4047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76920" y="2286000"/>
            <a:ext cx="1600200" cy="2590920"/>
          </a:xfrm>
          <a:prstGeom prst="downArrow">
            <a:avLst>
              <a:gd name="adj1" fmla="val 50000"/>
              <a:gd name="adj2" fmla="val 4047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Consiga una experiencia memorable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Asegúrese de que el tiempo de desplazamineto merece la pe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Asegúrese de que no surjan inconvenientes al ir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rocure que las actividades sean entretenid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nriquezca la experiencia con algo nue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Souvenirs, fotografías, recuer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edique el tiempo necesario a la atención al cli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ree un entorno distendido y entreteni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Valor para quienes tienen mucho tiempo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560" y="220932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Los clientes con tiempo ayudan a repartir la carga y permiten sacar mayor partido al siste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Atención fuera de horarios pea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-Permiten hacer pruebas e investig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-Recomiendan a otros el servic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Señalar los horarios en los que obtendrán mayor atenc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Proporcionar una asistencia de mayor calidad fuera de horarios pea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Incentivar el uso de horarios con menos trabaj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xcelentes críticos para probar productos o investigar nuevas tendenci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Los clientes con poco tiempo y dinero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Si los clientes con poco tiempo, además disponen de poco dinero, la empresa debe procurar simplificar los productos y procedimientos al máximo y recurrir a los procesos automáticos para mantener los costos baj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Clientes que le conviene tener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lientes que pueden aportar nuevas id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Un buen conocimiento de un sector comercial en expans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l uso de técnicas de pun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Tener fama de innovad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Que ofrezca la posibilidad de trabajar en un sector de gran crecimien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Deseo de experimentar junto con la empre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star abierto a las sugerencias de los emple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La posiblidad de trabajar por metas comu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Ayudar a los clientes a organizar su tiempo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Fijar expectativas temporales realistas en un primer momento es básico para crear una actitud positiva en el cl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Mantener informados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l proveedor ha de ser un apoyo para el cli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l fin de su empresa ha de ser el preparar a los clientes para el futuro que les espe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La buena información, añade un valor a la relación comercial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s un elemento intangible,  pero es la base para la cooperación mutua y la lealt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Premiar la lealtad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Los clientes suelen ser conscientes de la importancia que se les conce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speran que su volumen de compras o la duración de la relación se traduzcan en un trato prefer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1904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Formas de mostrar preferencia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visos con tiempo, adelantar inform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apacidad de actuar en el último momen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cceso restringi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Servicio de información prioritar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Servicio personaliza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Sistemas más sencill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ervicios personales adicion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poyo en los momentos dific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elebrar los buenos tiemp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Reconocer los hi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orpresas agrad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recios segur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ejores preci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Si las ventajas pasan desapercibidas no se valo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l cliente debe estar consciente de lo excepcional de las medid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Qué es lo que busca el cliente...</a:t>
            </a: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es que buscan el mejor negocio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ar en la vanguard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romis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gur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Qué es lo que busca el cliente...</a:t>
            </a: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es que buscan el mejor negocio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ilizarlos para dar salida al P sobra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ar entrega de produc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cionar el servic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ca priorid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brar por atención ext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entarlos a la compet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o de filtros para desmotiva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Qué es lo que busca el cliente...</a:t>
            </a: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	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ar en la vanguard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entar tendenci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r para probar nuevos productos y servic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romis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estras de productos nuev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dir consej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vitar a actividades(seminarios, et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nción en folle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mios al mejor clie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ahoma"/>
              </a:rPr>
              <a:t>Modelos de Valor B2B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ahoma"/>
              </a:rPr>
              <a:t>Modelos de Valor B2B  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unir Equipo, Seleccionar segmento adecuado, colaboración cl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Generar lista de elementos de val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colectar la inform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Validar mode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rear herramientas de ven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Tahoma"/>
              </a:rPr>
              <a:t>Clientes que le conviene tener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lientes propensos a ser le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ompran a percio no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ompran de forma habit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No toman decisiones arriesgad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Su negocio está en expans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Tratan con empresas que tienen directores generales mayo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ahoma"/>
              </a:rPr>
              <a:t>Modelos de Valor 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unir Equipo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ersonal de producció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arke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Vent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ocen directamente al cliente (quién puede cooperar?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ahoma"/>
              </a:rPr>
              <a:t>Modelos de Valor 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Seleccionar el Segmento Adecuado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menzar con segmento cercano y cooperador (buena relació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or qué un cliente puede estar dispuesto a cooperar? Entregarle los resultados (benchmarking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ahoma"/>
              </a:rPr>
              <a:t>Modelos de Valor 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2. Generar el listado de los elementos de val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lementos que afectan los costos y beneficios en una oferta de val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ueden ser tangible y no tanto, técnicos, servicios e incluso aspectos soci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nsiderar el proceso completo, desde que el cliente adquiere el producto hasta que lo desech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ahoma"/>
              </a:rPr>
              <a:t>Modelos de Valor 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2. Generar el listado de los elementos de val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No dejar fuera ningún elemento (error en el estudi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rte de los elementos saldrán de la observación y parte de las percepciones de los clien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ahoma"/>
              </a:rPr>
              <a:t>Modelos de Valor 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3. Recolectar la inform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uego de tener el listado de los elementos se deben valorizar en términos monetari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uede ser útil que los miembros del equipo participen dentro del proceso del cli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uede que el cliente piense que la información necesaria no existe (muchos datos, ardua tarea hasta llegar a la persona que tiene la información, lo sabe?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ahoma"/>
              </a:rPr>
              <a:t>Modelos de Valor 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3. Recolectar la inform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gún la dimensión de lo que se esté hablando es más difícil llegar a asignar valor (sobretodo los menos tangib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Hay que hacer supuestos sobre las funcionalidades y desempeños cuando es más costoso  y difícil med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cordar ser explícito en los supuestos utilizad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ahoma"/>
              </a:rPr>
              <a:t>Modelos de Valor 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4. Validar el Mode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valuaciones adicionales con Clientes del mismo segme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afir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mejora el entendimien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Qué casos son más conf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ado que es percepción hay que dar parámetros iniciales para que la gente tenga un punto de compar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ahoma"/>
              </a:rPr>
              <a:t>Modelos de Valor 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4. Validar el Mode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Base de datos con valores estimados y descriptores de los clientes (características) que permitan explicar los result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 puede analizar qué descriptores son más relevantes para los cambios de val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ahoma"/>
              </a:rPr>
              <a:t>Modelos de Valor 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5. Crear herramienta de ventas creadas en el val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 puede persuadir a los clientes al conocer mej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lanillas claras que muestren ahorros en costos (valor agregado a los prospecto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ostrar todos los ahorros en cos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ostrar los resultados de otros clientes a los prospectos (estudiar cada caso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ahoma"/>
              </a:rPr>
              <a:t>Modelos de Valor 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5. Crear herramienta de ventas creadas en el val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sto puede estrechar la relación con los clientes actua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ahoma"/>
              </a:rPr>
              <a:t>¿Qué esperan los clientes?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1989000"/>
            <a:ext cx="8280360" cy="49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500"/>
              </a:spcBef>
              <a:buClr>
                <a:srgbClr val="4d4d4d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F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La empresa cumple sus prom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- Ojo con las campañas publicitarias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2) Confi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Confiar en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Manejo de la información (B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3) Recono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La empresa recuerda mis neces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(Confío en empresas que me envían cartas ofreciendo productos que ya utilizo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ahoma"/>
              </a:rPr>
              <a:t>Modelos de Valor 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US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Servicios suplementarios (nuevas ofert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Mejorar las rela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Ganar nuevos clien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Mejorar produc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ahoma"/>
              </a:rPr>
              <a:t>Modelos de Valor, Focus Group 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No siempre se puede obtener los datos de primera fu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=&gt; Confiar en las percepciones (Focus Group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asos (como ejemp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ahoma"/>
              </a:rPr>
              <a:t>Focus Group 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Mostrar prototipo (ejemplo de oferta de valo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egunta: Cuánto estarían DP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iscusión del servicio entre las par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valuar de 1 a 10 las dimens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eguntar nuevamente lo mismo: poner precio fi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ahoma"/>
              </a:rPr>
              <a:t>Focus Group 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uál sería más deseable?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ecio Inicial = Precio Fi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ecio Inicial &lt; Precio Fi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ecio Inicial &gt; Precio Fi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Qué hacer en cada caso?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ahoma"/>
              </a:rPr>
              <a:t>¿Qué esperan los clientes?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89000"/>
            <a:ext cx="8280360" cy="36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4) Acce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Facilidad de ac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5) Servicio/As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Estar ahí cuando más se necesita (como los amigos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6)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Un buen proveedor orienta a sus clientes en qué comprar, cómo emplearlo, cuánto compr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ahoma"/>
              </a:rPr>
              <a:t>¿Qué esperan los clientes?</a:t>
            </a:r>
            <a:endParaRPr b="1" lang="en-US" sz="40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1989000"/>
            <a:ext cx="8280360" cy="47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7) Pre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Los clientes suelen estar conscientes de su importanc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La empresa lo está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El cliente compara su atención con la que reciben los ot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8) Person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Sentirse cómodo y cercano con la empres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d4d4d"/>
                </a:solidFill>
                <a:latin typeface="Verdan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8T22:12:55Z</dcterms:created>
  <dc:creator>larenas</dc:creator>
  <dc:description/>
  <dc:language>en-US</dc:language>
  <cp:lastModifiedBy>Administrador</cp:lastModifiedBy>
  <dcterms:modified xsi:type="dcterms:W3CDTF">2004-10-26T14:54:27Z</dcterms:modified>
  <cp:revision>19</cp:revision>
  <dc:subject/>
  <dc:title>Título ....</dc:title>
</cp:coreProperties>
</file>