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DD84-2CFB-4DB0-A405-5DD040813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5AD2-D990-4265-B44C-61E5DC771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D61C-B423-4B95-B689-692256159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EBB9-3760-4F08-93FE-7D5E70A729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8AEB-CFFE-4ABC-AB21-F475608777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222C-F6D8-4D68-ADA7-C8566C449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791C-FC94-49CA-8110-2029A5A46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0BE1-DE96-4DF4-B45E-269423BF0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C411-458A-428E-BE83-B9A04F638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991D-4268-4E38-92E0-702A43312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3B67-A8AF-4DBE-AC8A-FDD1E8C2A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65DF-6232-4A1F-AE02-BA0264F94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86800" y="-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0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9DBC-B184-4027-A9F6-657A6B653309}" type="slidenum">
              <a:rPr b="1" lang="es-ES_tradnl" sz="1000" spc="-1" strike="noStrike">
                <a:solidFill>
                  <a:srgbClr val="003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80" y="114300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A21A-3350-4DF0-9086-3DAD7DDB868A}" type="slidenum">
              <a:rPr b="1" lang="es-ES_tradnl" sz="1400" spc="-1" strike="noStrike">
                <a:solidFill>
                  <a:srgbClr val="0033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981080" y="659088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1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3399"/>
                </a:solidFill>
                <a:latin typeface="Tahoma"/>
              </a:rPr>
              <a:t>&lt;footer&gt;</a:t>
            </a:r>
            <a:r>
              <a:rPr b="1" lang="es-ES_tradnl" sz="1100" spc="-1" strike="noStrike">
                <a:solidFill>
                  <a:srgbClr val="003399"/>
                </a:solidFill>
                <a:latin typeface="Tahoma"/>
              </a:rPr>
              <a:t>INDICE NACIONAL DE SATISFACCIÓN DE CONSUMIDORES 1er. SEM. 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182880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2760" y="2362320"/>
            <a:ext cx="822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esentación de Resultados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Indice Nacional de Satisfacción de Consumidores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imer Semestre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143000"/>
          <a:ext cx="8966160" cy="53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6616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1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SEGUNDO SEMESTRE 2001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057400"/>
            <a:ext cx="855504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924360"/>
            <a:ext cx="85550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2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019240"/>
            <a:ext cx="855504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924360"/>
            <a:ext cx="85550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SEGUNDO  SEMESTRE 2002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955880"/>
            <a:ext cx="855504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924360"/>
            <a:ext cx="85550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55320" y="16765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Conocer y hacer pública la opinión de los chilenos en relación al servicio que reciben por lo que pagan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Crear movimiento de los ejecutivos hacia un enfoque de gestión de calidad moderno: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Objetivos del Índice Nacional de Satisfacción de Consumidores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77720" y="3779640"/>
            <a:ext cx="8547840" cy="792720"/>
            <a:chOff x="477720" y="3779640"/>
            <a:chExt cx="8547840" cy="792720"/>
          </a:xfrm>
        </p:grpSpPr>
        <p:grpSp>
          <p:nvGrpSpPr>
            <p:cNvPr id="47" name=""/>
            <p:cNvGrpSpPr/>
            <p:nvPr/>
          </p:nvGrpSpPr>
          <p:grpSpPr>
            <a:xfrm>
              <a:off x="477720" y="3779640"/>
              <a:ext cx="4031280" cy="792720"/>
              <a:chOff x="477720" y="3779640"/>
              <a:chExt cx="4031280" cy="792720"/>
            </a:xfrm>
          </p:grpSpPr>
          <p:sp>
            <p:nvSpPr>
              <p:cNvPr id="48" name=""/>
              <p:cNvSpPr/>
              <p:nvPr/>
            </p:nvSpPr>
            <p:spPr>
              <a:xfrm>
                <a:off x="477720" y="3895200"/>
                <a:ext cx="1600200" cy="55980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3366"/>
                    </a:solidFill>
                    <a:latin typeface="Tahoma"/>
                  </a:rPr>
                  <a:t>Satisfacción de client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066200" y="3895200"/>
                <a:ext cx="442800" cy="56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600" spc="-1" strike="noStrike">
                    <a:solidFill>
                      <a:srgbClr val="660033"/>
                    </a:solidFill>
                    <a:latin typeface="Tahoma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535120" y="3779640"/>
                <a:ext cx="1523880" cy="7927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3366"/>
                    </a:solidFill>
                    <a:latin typeface="Tahoma"/>
                  </a:rPr>
                  <a:t>Motivación del personal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085120" y="3895200"/>
                <a:ext cx="442800" cy="56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600" spc="-1" strike="noStrike">
                    <a:solidFill>
                      <a:srgbClr val="660033"/>
                    </a:solidFill>
                    <a:latin typeface="Tahoma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489560" y="3895200"/>
              <a:ext cx="4536000" cy="560160"/>
              <a:chOff x="4489560" y="3895200"/>
              <a:chExt cx="4536000" cy="56016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6022080" y="3895200"/>
                <a:ext cx="3003480" cy="560160"/>
                <a:chOff x="6022080" y="3895200"/>
                <a:chExt cx="3003480" cy="56016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7086240" y="4012560"/>
                  <a:ext cx="1939320" cy="32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ffffff"/>
                    </a:gs>
                    <a:gs pos="100000">
                      <a:srgbClr val="ffff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3300"/>
                      </a:solidFill>
                      <a:latin typeface="Tahoma"/>
                    </a:rPr>
                    <a:t>Competitiv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22080" y="3895200"/>
                  <a:ext cx="966960" cy="56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3600" spc="-1" strike="noStrike">
                      <a:solidFill>
                        <a:srgbClr val="660033"/>
                      </a:solidFill>
                      <a:latin typeface="Tahoma"/>
                    </a:rPr>
                    <a:t>&lt;=&gt;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4489560" y="4012560"/>
                <a:ext cx="1441080" cy="3268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3300"/>
                    </a:solidFill>
                    <a:latin typeface="Tahoma"/>
                  </a:rPr>
                  <a:t>Resulta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"/>
          <p:cNvSpPr/>
          <p:nvPr/>
        </p:nvSpPr>
        <p:spPr>
          <a:xfrm>
            <a:off x="3556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Aumentar la competitividad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72948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71720" y="1295280"/>
            <a:ext cx="160020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19360" y="1295280"/>
            <a:ext cx="125244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62560" y="1295280"/>
            <a:ext cx="22431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919680" y="1600200"/>
            <a:ext cx="4968720" cy="4952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3200" y="1600200"/>
            <a:ext cx="3289320" cy="4952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144792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2002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ND. TRANSAC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12002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ND. MEMBRES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ESULTADOS POR SUBSECTOR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25560" y="1143000"/>
          <a:ext cx="91188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9118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ERVICIOS DOMICILIARIO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-2556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DUSTRIAS TRANSACCIONAL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TELECOMUNICACION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-2556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DUSTRIA FINANCIERA Y PENSION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DUSTRIA DE LA SALUD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2556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ERVICIOS PÚBLICOS Y MUNICIPALIDAD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-2556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TRANSPORTE PÚBLICO</a:t>
            </a:r>
            <a:br>
              <a:rPr sz="28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83 entrevistas total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7480" y="1054080"/>
          <a:ext cx="8989920" cy="51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" y="1054080"/>
                    <a:ext cx="898992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etodología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7964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Población Objetivo :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Hombres y mujeres mayores de 21 años con teléfono en el hogar, residentes en hogares de las ciudades de Santiago, Viña del Mar/Valparaiso, Concepción/Talcahuano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Tipo de encuesta :</a:t>
            </a:r>
            <a:r>
              <a:rPr b="0" lang="es-ES" sz="1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Entrevista telefónica estructurada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Con una escala de calificación de 1 a 7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Muestra y Precisión Resultados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ahoma"/>
              </a:rPr>
              <a:t>Industria:</a:t>
            </a: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2" marL="885600" indent="-172440">
              <a:lnSpc>
                <a:spcPct val="115000"/>
              </a:lnSpc>
              <a:spcBef>
                <a:spcPts val="88"/>
              </a:spcBef>
              <a:spcAft>
                <a:spcPts val="88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Tahoma"/>
              </a:rPr>
              <a:t>500 entrevistas, 4,383% de error muestral al 95% de confianza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ahoma"/>
              </a:rPr>
              <a:t>Total:</a:t>
            </a: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 13.213 entrevistas,  +-0,93% de error muestral al 95% de confianza bajo supuesto de varianza máxima 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Ponderación de Resultados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Los resultados fueron ponderados por: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2" marL="885600" indent="-172440">
              <a:lnSpc>
                <a:spcPct val="115000"/>
              </a:lnSpc>
              <a:spcBef>
                <a:spcPts val="88"/>
              </a:spcBef>
              <a:spcAft>
                <a:spcPts val="88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Tahoma"/>
              </a:rPr>
              <a:t>el peso relativo de las ciudades bajo estudio en la población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2" marL="885600" indent="-172440">
              <a:lnSpc>
                <a:spcPct val="115000"/>
              </a:lnSpc>
              <a:spcBef>
                <a:spcPts val="88"/>
              </a:spcBef>
              <a:spcAft>
                <a:spcPts val="88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Tahoma"/>
              </a:rPr>
              <a:t>el peso relativo de cada estrato en la población de Santiago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Tahoma"/>
              </a:rPr>
              <a:t>Fecha de Campo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Tahoma"/>
              </a:rPr>
              <a:t>El trabajo de campo se desarrollo en los meses de </a:t>
            </a:r>
            <a:r>
              <a:rPr b="0" i="1" lang="es-ES_tradnl" sz="1600" spc="-1" strike="noStrike">
                <a:solidFill>
                  <a:srgbClr val="003399"/>
                </a:solidFill>
                <a:latin typeface="Tahoma"/>
              </a:rPr>
              <a:t>Abril-Junio</a:t>
            </a:r>
            <a:r>
              <a:rPr b="0" lang="es-ES_tradnl" sz="1600" spc="-1" strike="noStrike">
                <a:solidFill>
                  <a:srgbClr val="003399"/>
                </a:solidFill>
                <a:latin typeface="Tahoma"/>
              </a:rPr>
              <a:t> de 2003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Sectores que Presentan Cambios Estadísticamente Significativos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 4</a:t>
            </a:r>
            <a:br>
              <a:rPr sz="1600"/>
            </a:b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1143000"/>
          <a:ext cx="9021600" cy="51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0216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NITARIA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 500 registros por medición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066680"/>
          <a:ext cx="901692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016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SAPRES/FONASA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 ISAPRE 160/313 /226/192/193/ 157   FONASA 361/399/285/314/309/ 38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1066680"/>
          <a:ext cx="901692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016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RESTADORES DE SERVICIOS DE SALUD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 Privado 272/315/253/211/219  Público 190/339/241/246/247 Otros 43/60 /52/44/34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1096920"/>
          <a:ext cx="901692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6920"/>
                    <a:ext cx="9016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FINANCIERA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 500 registros por medición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96920"/>
          <a:ext cx="901692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6920"/>
                    <a:ext cx="9016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pa de Relación Precio/Valor y Satisfacción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Para Ambos Parámetros se Presentan los valores netos (% de notas 6 y 7 menos % de notas 1 a 4)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92776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ATISF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-410040" y="38354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36840" y="1568520"/>
            <a:ext cx="19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 NO satisfactorio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Baj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1568520"/>
            <a:ext cx="18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s Satisfactorios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Precio Adecu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5187960"/>
            <a:ext cx="17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s Satisfactorio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Alt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51879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 NO Satisfactorio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Alt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1447920"/>
            <a:ext cx="716292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3886200"/>
            <a:ext cx="3429000" cy="1447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1828800"/>
            <a:ext cx="2133720" cy="220968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800280" y="1295280"/>
          <a:ext cx="8343720" cy="47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1295280"/>
                    <a:ext cx="8343720" cy="47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pa de Relación Precio/Valor y Satisfacción 2002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300" spc="-1" strike="noStrike">
                <a:solidFill>
                  <a:srgbClr val="003399"/>
                </a:solidFill>
                <a:latin typeface="Tahoma"/>
              </a:rPr>
              <a:t>Para Ambos Parámetros se Presentan los valores netos (% de notas 6 y 7 menos % de notas 1 a 4)</a:t>
            </a:r>
            <a:br>
              <a:rPr sz="1300"/>
            </a:br>
            <a:r>
              <a:rPr b="1" i="1" lang="en-US" sz="1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58672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ATISF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019520" y="34560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1523880"/>
            <a:ext cx="19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 NO satisfactorio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Baj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81680" y="144792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s Satisfactorios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Precio Adecu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4800600"/>
            <a:ext cx="17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s Satisfactorio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Alt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5627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 NO Satisfactorio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Alt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20600" y="5791320"/>
            <a:ext cx="136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y = 0.9403x - 11.2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2 = 0.66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220968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ARMA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67480" y="2773440"/>
            <a:ext cx="152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ESTACIONES DE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97520" y="2604960"/>
            <a:ext cx="112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SUPERMERC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9200" y="2819520"/>
            <a:ext cx="119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REP. AUTOMÓV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2743200"/>
            <a:ext cx="152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RESTADORES SERV. SAL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22760" y="2895480"/>
            <a:ext cx="22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840" y="24382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COLEG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52720" y="3505320"/>
            <a:ext cx="125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ENERGÍA ELÉCTR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4680" y="4281480"/>
            <a:ext cx="109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AGUA POTABLE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12640" y="3048120"/>
            <a:ext cx="111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ELEFONÍA MÓV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0800" y="2514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IENDAS POR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0760" y="3138480"/>
            <a:ext cx="129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SERVICIOS PÚBL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89480" y="3290760"/>
            <a:ext cx="109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ISAPRE/ FONASA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15560" y="2986200"/>
            <a:ext cx="134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COMERCIO MINORI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21160" y="3290760"/>
            <a:ext cx="62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BAN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5040" y="351936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AF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3154320"/>
            <a:ext cx="533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4586400"/>
            <a:ext cx="78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MUNICIP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90720" y="4724280"/>
            <a:ext cx="14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RANSPORTE PÚBL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360" y="4572000"/>
            <a:ext cx="8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INANCIE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360" y="4495680"/>
            <a:ext cx="125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ELEFONÍA RED FI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1520" y="3214800"/>
            <a:ext cx="69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V C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43800" y="23763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Tahoma"/>
              </a:rPr>
              <a:t>SATISFACCIÓN GLOBAL CON EL SERVICIO POR GSE</a:t>
            </a:r>
            <a:br>
              <a:rPr sz="2000"/>
            </a:br>
            <a:r>
              <a:rPr b="1" i="1" lang="es-ES_tradnl" sz="2000" spc="-1" strike="noStrike">
                <a:solidFill>
                  <a:srgbClr val="ff0000"/>
                </a:solidFill>
                <a:latin typeface="Tahoma"/>
              </a:rPr>
              <a:t>Sat. Neta por Industria y GSE</a:t>
            </a:r>
            <a:br>
              <a:rPr sz="2000"/>
            </a:br>
            <a:r>
              <a:rPr b="1" i="1" lang="es-ES_tradnl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s-ES_tradnl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5160" y="3429000"/>
            <a:ext cx="3135240" cy="2813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951520" y="1219320"/>
            <a:ext cx="3135240" cy="1650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3135240" cy="2038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04920" y="1432080"/>
            <a:ext cx="5181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0000"/>
                </a:solidFill>
                <a:latin typeface="Tahoma"/>
              </a:rPr>
              <a:t>¿Estas diferencias tienen que ver con estrategias explícitas del negocio? O ¿Sólo por casualidad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OBLEMAS EN EL SERVICIO</a:t>
            </a:r>
            <a:endParaRPr b="1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Una tarea permanente de las empresas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Efectos de Problemas en el Servici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88920" y="1143000"/>
          <a:ext cx="905508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143000"/>
                    <a:ext cx="905508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formación Recolectada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15560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eneral con el servici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ercepción precio-valo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dicadores de lealtad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Referenci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ompra/Mantención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omentarios del Servicio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roblemas en el Servici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sa de Clientes con Problema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sa de Clientes con Solución Satisfactori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sa de Clientes que Comunican el Problem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lasificación Socioeconómica de los entrevistado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Efectos de Gestionar los Problemas en el Servici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3360" y="1219320"/>
          <a:ext cx="908064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219320"/>
                    <a:ext cx="908064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9" name="" descr=""/>
          <p:cNvPicPr/>
          <p:nvPr/>
        </p:nvPicPr>
        <p:blipFill>
          <a:blip r:embed="rId3"/>
          <a:srcRect l="4668" t="0" r="0" b="90956"/>
          <a:stretch/>
        </p:blipFill>
        <p:spPr>
          <a:xfrm>
            <a:off x="490680" y="685800"/>
            <a:ext cx="865332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ahoma"/>
              </a:rPr>
              <a:t>Tasa de Clientes con Problemas en el Servicio por Industrias</a:t>
            </a:r>
            <a:br>
              <a:rPr sz="2300"/>
            </a:br>
            <a:r>
              <a:rPr b="1" i="1" lang="en-US" sz="1800" spc="-1" strike="noStrike">
                <a:solidFill>
                  <a:srgbClr val="003399"/>
                </a:solidFill>
                <a:latin typeface="Tahoma"/>
              </a:rPr>
              <a:t>Base Total de Clientes por industria</a:t>
            </a:r>
            <a:br>
              <a:rPr sz="1800"/>
            </a:br>
            <a:r>
              <a:rPr b="1" i="1" lang="en-US" sz="1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8440" y="1212840"/>
          <a:ext cx="910764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1212840"/>
                    <a:ext cx="910764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Gestión de Problemas en el Servicio por Industrias % de Clientes con Problemas que Recibieron una Solución Satisfactori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Base Total de Clientes con problemas por industria y que lo comunican</a:t>
            </a:r>
            <a:br>
              <a:rPr sz="1600"/>
            </a:b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0" y="1212840"/>
          <a:ext cx="913608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2840"/>
                    <a:ext cx="913608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82760" y="2362320"/>
            <a:ext cx="822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esentación de Resultados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Indice Nacional de Satisfacción de Consumidores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imer Semestre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obertura del Índice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15848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Las industrias representadas en el índice se seleccionaron a partir de los siguientes criterios: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Sectores industriales de alta competencia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Alta penetración en la población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Alto número de clientes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Las Industrias representadas son: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AFP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Bancos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Financieras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Servicios Públicos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Prestadores de Servicios de Salud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Municipios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ISAPRE/FONASA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Energía Eléctrica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Agua Potable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Comercio Minorista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TV Cable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4098960" y="3057480"/>
            <a:ext cx="47908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Distribución de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Transporte Púb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Coleg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Super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Farma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Telefonía Red F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Telefonía Red Móv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Tiendas por Departamento (Grandes Tiend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Estaciones de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Internet (IS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Mall/Centros Comer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8920" y="1054080"/>
          <a:ext cx="899172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054080"/>
                    <a:ext cx="899172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RESENTACIÓN DE LOS RESULTADOS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8" name="Texto 15"/>
          <p:cNvSpPr/>
          <p:nvPr/>
        </p:nvSpPr>
        <p:spPr>
          <a:xfrm>
            <a:off x="6629400" y="1371600"/>
            <a:ext cx="243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Excelencia: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 % de entrevistados que califican con nota 6 y 7 la situación o aspecto de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562720" y="1676520"/>
            <a:ext cx="1218960" cy="76176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o 17"/>
          <p:cNvSpPr/>
          <p:nvPr/>
        </p:nvSpPr>
        <p:spPr>
          <a:xfrm>
            <a:off x="685800" y="4495680"/>
            <a:ext cx="2286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Deficiencia: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 % de entrevistados que califican con nota 4 ó menos la situación o aspecto de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819520" y="4266720"/>
            <a:ext cx="914400" cy="30492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o 15"/>
          <p:cNvSpPr/>
          <p:nvPr/>
        </p:nvSpPr>
        <p:spPr>
          <a:xfrm>
            <a:off x="6324480" y="44197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Satisfacción Neta: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 % de entrevistados que califican con notas 6 y 7 menos % que califican con notas 1 a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876560" y="3123720"/>
            <a:ext cx="1523880" cy="129564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1219320"/>
          <a:ext cx="9016920" cy="51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01692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Evolución Satisfacción Global con el Servicio</a:t>
            </a:r>
            <a:br>
              <a:rPr sz="2400"/>
            </a:br>
            <a:r>
              <a:rPr b="1" i="1" lang="en-US" sz="1800" spc="-1" strike="noStrike">
                <a:solidFill>
                  <a:srgbClr val="003399"/>
                </a:solidFill>
                <a:latin typeface="Tahoma"/>
              </a:rPr>
              <a:t>Base total clientes 13.213 entrevistados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1219320"/>
          <a:ext cx="9016920" cy="51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01692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Tahoma"/>
              </a:rPr>
              <a:t>EVOLUCIÓN SATISFACCIÓN GLOBAL CON EL SERVICIO SEGÚN NIVEL SOCIOECONÓMICO</a:t>
            </a:r>
            <a:br>
              <a:rPr sz="2000"/>
            </a:b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_tradnl" sz="1400" spc="-1" strike="noStrike">
                <a:solidFill>
                  <a:srgbClr val="003399"/>
                </a:solidFill>
                <a:latin typeface="Tahoma"/>
              </a:rPr>
              <a:t>Sat. Neta (% de notas 6 y 7 menos % de notas 1 a 4)</a:t>
            </a:r>
            <a:br>
              <a:rPr sz="1400"/>
            </a:br>
            <a:r>
              <a:rPr b="1" i="1" lang="es-ES_tradnl" sz="1400" spc="-1" strike="noStrike">
                <a:solidFill>
                  <a:srgbClr val="003399"/>
                </a:solidFill>
                <a:latin typeface="Tahoma"/>
              </a:rPr>
              <a:t>Base Total clientes por GSE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219320"/>
          <a:ext cx="9016920" cy="51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01692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Tahoma"/>
              </a:rPr>
              <a:t>EVOLUCIÓN SATISFACCIÓN GLOBAL CON EL SERVICIO SEGÚN ÁREA GEOGRÁFICA</a:t>
            </a:r>
            <a:br>
              <a:rPr sz="2000"/>
            </a:b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_tradnl" sz="1400" spc="-1" strike="noStrike">
                <a:solidFill>
                  <a:srgbClr val="003399"/>
                </a:solidFill>
                <a:latin typeface="Tahoma"/>
              </a:rPr>
              <a:t>Sat. Neta (% de notas 6 y 7 menos % de notas 1 a 4)</a:t>
            </a:r>
            <a:br>
              <a:rPr sz="1400"/>
            </a:br>
            <a:r>
              <a:rPr b="1" i="1" lang="es-ES_tradnl" sz="1400" spc="-1" strike="noStrike">
                <a:solidFill>
                  <a:srgbClr val="003399"/>
                </a:solidFill>
                <a:latin typeface="Tahoma"/>
              </a:rPr>
              <a:t>Base Total clientes por GSE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5:36:59Z</dcterms:created>
  <dc:creator>Claudio Mundi</dc:creator>
  <dc:description/>
  <dc:language>en-US</dc:language>
  <cp:lastModifiedBy>Administrador</cp:lastModifiedBy>
  <cp:lastPrinted>2003-10-08T20:41:56Z</cp:lastPrinted>
  <dcterms:modified xsi:type="dcterms:W3CDTF">2004-11-08T21:56:08Z</dcterms:modified>
  <cp:revision>353</cp:revision>
  <dc:subject/>
  <dc:title>Satisfacción Global con el Servicio En general, ¿Cuán satisfecho está usted con el servicio que le entrega….  En una escala de 1 a 7 Base: 500 encuestados por industria</dc:title>
</cp:coreProperties>
</file>