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3216-97A4-4083-9FE2-146DFEDFD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D490-0446-488D-AB72-C07E9B993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E021-F302-4311-87DE-D68232FA5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78FF-6FD8-4EA0-BB91-9B9C01979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6004-D15F-40A5-8E30-8E23A0A78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A3CC-1858-4DA8-9E15-DCC3707A3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65F0-BA4A-4D45-BD10-E525D46A1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6570-A6B6-4BF3-BF6D-25D098ADB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BDF0-15E9-4310-970E-0C5E708E5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18C3-9D36-4F7F-906C-B5FB37183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8021-92EA-4943-AC7A-F785C8322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3C1B-E38B-47CA-81F3-40C73EC60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8680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0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1C74-7A03-4224-B2C2-6020312BCE96}" type="slidenum">
              <a:rPr b="1" lang="es-ES_tradnl" sz="10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4300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7E1E-4829-4D21-819A-36F5BD005188}" type="slidenum">
              <a:rPr b="1" lang="es-ES_tradnl" sz="14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81080" y="659088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&lt;footer&gt;</a:t>
            </a:r>
            <a:r>
              <a:rPr b="1" lang="es-ES_tradnl" sz="1100" spc="-1" strike="noStrike">
                <a:solidFill>
                  <a:srgbClr val="003399"/>
                </a:solidFill>
                <a:latin typeface="Tahoma"/>
              </a:rPr>
              <a:t>INDICE NACIONAL DE SATISFACCIÓN DE CONSUMIDORES 1er. SEM.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29440"/>
            <a:ext cx="1828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143000"/>
          <a:ext cx="89661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661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SEMESTRE 2001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05740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01924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SEGUNDO  SEMESTRE 2002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55880"/>
            <a:ext cx="85550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924360"/>
            <a:ext cx="85550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53256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295280"/>
            <a:ext cx="21333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1295280"/>
            <a:ext cx="190512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19360" y="1295280"/>
            <a:ext cx="115092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5320" y="1676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nocer y hacer pública la opinión de los chilenos en relación al servicio que reciben por lo que paga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rear movimiento de los ejecutivos hacia un enfoque de gestión de calidad moderno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bjetivos del Índice Nacional de Satisfacción de Consumidore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77720" y="3779640"/>
            <a:ext cx="8547840" cy="792720"/>
            <a:chOff x="477720" y="3779640"/>
            <a:chExt cx="8547840" cy="792720"/>
          </a:xfrm>
        </p:grpSpPr>
        <p:grpSp>
          <p:nvGrpSpPr>
            <p:cNvPr id="47" name=""/>
            <p:cNvGrpSpPr/>
            <p:nvPr/>
          </p:nvGrpSpPr>
          <p:grpSpPr>
            <a:xfrm>
              <a:off x="477720" y="3779640"/>
              <a:ext cx="4031280" cy="792720"/>
              <a:chOff x="477720" y="3779640"/>
              <a:chExt cx="4031280" cy="792720"/>
            </a:xfrm>
          </p:grpSpPr>
          <p:sp>
            <p:nvSpPr>
              <p:cNvPr id="48" name=""/>
              <p:cNvSpPr/>
              <p:nvPr/>
            </p:nvSpPr>
            <p:spPr>
              <a:xfrm>
                <a:off x="477720" y="3895200"/>
                <a:ext cx="1600200" cy="5598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Satisfacción de clie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6620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35120" y="3779640"/>
                <a:ext cx="1523880" cy="7927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3366"/>
                    </a:solidFill>
                    <a:latin typeface="Tahoma"/>
                  </a:rPr>
                  <a:t>Motivación del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85120" y="3895200"/>
                <a:ext cx="44280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660033"/>
                    </a:solidFill>
                    <a:latin typeface="Tahoma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9560" y="3895200"/>
              <a:ext cx="4536000" cy="560160"/>
              <a:chOff x="4489560" y="3895200"/>
              <a:chExt cx="4536000" cy="5601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022080" y="3895200"/>
                <a:ext cx="3003480" cy="560160"/>
                <a:chOff x="6022080" y="3895200"/>
                <a:chExt cx="3003480" cy="5601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7086240" y="4012560"/>
                  <a:ext cx="1939320" cy="32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50000">
                      <a:srgbClr val="ffffff"/>
                    </a:gs>
                    <a:gs pos="100000">
                      <a:srgbClr val="ff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3300"/>
                      </a:solidFill>
                      <a:latin typeface="Tahoma"/>
                    </a:rPr>
                    <a:t>Competitiv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22080" y="3895200"/>
                  <a:ext cx="966960" cy="56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600" spc="-1" strike="noStrike">
                      <a:solidFill>
                        <a:srgbClr val="660033"/>
                      </a:solidFill>
                      <a:latin typeface="Tahoma"/>
                    </a:rPr>
                    <a:t>&lt;=&gt;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4489560" y="4012560"/>
                <a:ext cx="1441080" cy="3268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ahoma"/>
                  </a:rPr>
                  <a:t>Resul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"/>
          <p:cNvSpPr/>
          <p:nvPr/>
        </p:nvSpPr>
        <p:spPr>
          <a:xfrm>
            <a:off x="3556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umentar la competitividad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29480" y="1295280"/>
            <a:ext cx="2398680" cy="4953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1720" y="1295280"/>
            <a:ext cx="1600200" cy="495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9360" y="1295280"/>
            <a:ext cx="1252440" cy="495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1295280"/>
            <a:ext cx="1079280" cy="4953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295280"/>
            <a:ext cx="2243160" cy="4953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19680" y="1600200"/>
            <a:ext cx="496872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200" y="1600200"/>
            <a:ext cx="3289320" cy="495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44792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lobal con el Servicio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TRANSAC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1200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ND. MEMBRES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SULTADOS POR SUBSECTOR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25560" y="1143000"/>
          <a:ext cx="91188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9118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DOMICILIARIO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S TRANSACCIONAL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ELECOMUNICAC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FINANCIERA Y PENSION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USTRIA DE LA SALUD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ERVICIOS PÚBLICOS Y MUNICIPALIDADES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00 encuestados por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25560" y="1143000"/>
          <a:ext cx="8972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143000"/>
                    <a:ext cx="8972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br>
              <a:rPr sz="28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En general, ¿Cuán satisfecho está usted con el servicio que le entrega….  En una escala de 1 a 7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583 entrevistas total industria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480" y="1054080"/>
          <a:ext cx="8989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1054080"/>
                    <a:ext cx="8989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etodologí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7964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blación Objetivo 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Hombres y mujeres mayores de 21 años con teléfono en el hogar, residentes en hogares de las ciudades de Santiago, Viña del Mar/Valparaiso, Concepción/Talcahuano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Tipo de encuesta :</a:t>
            </a:r>
            <a:r>
              <a:rPr b="0" lang="es-E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Entrevista telefónica estructurad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Con una escala de calificación de 1 a 7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Muestra y Precisión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Industria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500 entrevistas, 4,383% de error muestral al 95% de confianz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ahoma"/>
              </a:rPr>
              <a:t>Total:</a:t>
            </a: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 13.213 entrevistas,  +-0,93% de error muestral al 95% de confianza bajo supuesto de varianza máxima 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</a:rPr>
              <a:t>Ponderación de Resultado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ahoma"/>
              </a:rPr>
              <a:t>Los resultados fueron ponderados por: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las ciudades bajo estudio en la población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2" marL="885600" indent="-17244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99"/>
                </a:solidFill>
                <a:latin typeface="Tahoma"/>
              </a:rPr>
              <a:t>el peso relativo de cada estrato en la población de Santiago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Fecha de Campo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357120" indent="-180000">
              <a:lnSpc>
                <a:spcPct val="115000"/>
              </a:lnSpc>
              <a:spcBef>
                <a:spcPts val="99"/>
              </a:spcBef>
              <a:spcAft>
                <a:spcPts val="99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El trabajo de campo se desarrollo en los meses de </a:t>
            </a:r>
            <a:r>
              <a:rPr b="0" i="1" lang="es-ES_tradnl" sz="1600" spc="-1" strike="noStrike">
                <a:solidFill>
                  <a:srgbClr val="003399"/>
                </a:solidFill>
                <a:latin typeface="Tahoma"/>
              </a:rPr>
              <a:t>Abril-Junio</a:t>
            </a:r>
            <a:r>
              <a:rPr b="0" lang="es-ES_tradnl" sz="1600" spc="-1" strike="noStrike">
                <a:solidFill>
                  <a:srgbClr val="003399"/>
                </a:solidFill>
                <a:latin typeface="Tahoma"/>
              </a:rPr>
              <a:t> de 2003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Sectores que Presentan Cambios Estadísticamente Significativos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 4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143000"/>
          <a:ext cx="902160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021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NITARI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APRES/FONASA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ISAPRE 160/313 /226/192/193/ 157   FONASA 361/399/285/314/309/ 38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06668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Privado 272/315/253/211/219  Público 190/339/241/246/247 Otros 43/60 /52/44/34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FINANCIERA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Satisfacción Neta: % de Notas 6 y 7 menos  % de notas 1 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Base:  500 registros por medición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96920"/>
          <a:ext cx="901692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6920"/>
                    <a:ext cx="9016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</a:t>
            </a:r>
            <a:br>
              <a:rPr sz="2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400"/>
            </a:br>
            <a:r>
              <a:rPr b="1" i="1" lang="en-US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9277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410040" y="38354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6840" y="15685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1568520"/>
            <a:ext cx="18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18796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1879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1447920"/>
            <a:ext cx="716292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3886200"/>
            <a:ext cx="3429000" cy="1447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1828800"/>
            <a:ext cx="2133720" cy="22096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00280" y="1295280"/>
          <a:ext cx="8343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295280"/>
                    <a:ext cx="8343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pa de Relación Precio/Valor y Satisfacción 2002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Para Ambos Parámetros se Presentan los valores netos (% de notas 6 y 7 menos % de notas 1 a 4)</a:t>
            </a:r>
            <a:br>
              <a:rPr sz="1300"/>
            </a:br>
            <a:r>
              <a:rPr b="1" i="1" lang="en-US" sz="1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5867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019520" y="345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52388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Baj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44792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s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Precio Adecu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80060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s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5627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Servicio NO Satisfactorio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ahoma"/>
              </a:rPr>
              <a:t>Alto 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0600" y="5791320"/>
            <a:ext cx="136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y = 0.9403x - 11.2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2 = 0.66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2096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ARMAC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277344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STACIONES DE SERVIC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97520" y="2604960"/>
            <a:ext cx="112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UPERMERC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200" y="2819520"/>
            <a:ext cx="119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REP. AUTOMÓVI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743200"/>
            <a:ext cx="152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ESTADORES SERV. SAL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2760" y="2895480"/>
            <a:ext cx="22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840" y="24382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LEG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2720" y="350532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ENERGÍA ELÉCT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4680" y="428148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GUA POTABLE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12640" y="3048120"/>
            <a:ext cx="111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MÓV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0800" y="2514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IENDAS POR DEPARTAMEN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0760" y="3138480"/>
            <a:ext cx="129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ERVICIOS PÚBL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329076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SAPRE/ FONASA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5560" y="298620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ERCIO MINOR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21160" y="3290760"/>
            <a:ext cx="6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5040" y="35193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154320"/>
            <a:ext cx="533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586400"/>
            <a:ext cx="78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NICIP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472428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RANSPORTE PÚBL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360" y="4572000"/>
            <a:ext cx="8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INANCIE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360" y="449568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ELEFONÍA RED FI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1520" y="321480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V C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23763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SATISFACCIÓN GLOBAL CON EL SERVICIO POR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Sat. Neta por Industria y GSE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5160" y="3429000"/>
            <a:ext cx="3135240" cy="2813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1520" y="1219320"/>
            <a:ext cx="3135240" cy="1650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3135240" cy="2038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04920" y="1432080"/>
            <a:ext cx="5181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Tahoma"/>
              </a:rPr>
              <a:t>¿Estas diferencias tienen que ver con estrategias explícitas del negocio? O ¿Sólo por casualida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1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Una tarea permanente de las empresas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8920" y="1143000"/>
          <a:ext cx="90550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43000"/>
                    <a:ext cx="90550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formación Recolectada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6520" y="115560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atisfacción general co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ercepción precio-valo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dicadores de lealtad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pra/Mantención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omentarios del Servicio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blemas en el Servicio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Problema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con Solución Satisfactori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394920" indent="-114120">
              <a:spcBef>
                <a:spcPts val="374"/>
              </a:spcBef>
              <a:spcAft>
                <a:spcPts val="374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sa de Clientes que Comunican el Problema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168480" indent="-168480"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lasificación Socioeconómica de los entrevistado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fectos de Gestionar los Problemas en el Servicio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3360" y="1219320"/>
          <a:ext cx="908064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219320"/>
                    <a:ext cx="908064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" descr=""/>
          <p:cNvPicPr/>
          <p:nvPr/>
        </p:nvPicPr>
        <p:blipFill>
          <a:blip r:embed="rId3"/>
          <a:srcRect l="4668" t="0" r="0" b="90956"/>
          <a:stretch/>
        </p:blipFill>
        <p:spPr>
          <a:xfrm>
            <a:off x="490680" y="685800"/>
            <a:ext cx="86533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ahoma"/>
              </a:rPr>
              <a:t>Tasa de Clientes con Problemas en el Servicio por Industrias</a:t>
            </a:r>
            <a:br>
              <a:rPr sz="23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de Clientes por industria</a:t>
            </a:r>
            <a:br>
              <a:rPr sz="18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8440" y="1212840"/>
          <a:ext cx="910764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212840"/>
                    <a:ext cx="910764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Gestión de Problemas en el Servicio por Industrias % de Clientes con Problemas que Recibieron una Solución Satisfactoria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24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Base Total de Clientes con problemas por industria y que lo comunican</a:t>
            </a:r>
            <a:br>
              <a:rPr sz="1600"/>
            </a:br>
            <a:r>
              <a:rPr b="1" i="1" lang="en-US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RIMER SEMESTRE 2003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212840"/>
          <a:ext cx="913608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2840"/>
                    <a:ext cx="913608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82760" y="2362320"/>
            <a:ext cx="822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esentación de Resultado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Indice Nacional de Satisfacción de Consumidores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rimer Semestre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bertura del Índice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15848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en el índice se seleccionaron a partir de los siguientes criterios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Sectores industriales de alta competencia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a penetración en la población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Alto número de clientes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Las Industrias representadas son: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FP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Ban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Financiera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Servicios Públic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Prestadores de Servicios de Salud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Municipios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ISAPRE/FONAS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Energía Eléctric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Agua Pot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Comercio Minorista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-2455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TV Cable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098960" y="3057480"/>
            <a:ext cx="47908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Distribución de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leg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Super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elefonía Red Mó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Tiendas por Departamento (Grandes Tiend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Estaciones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Internet (I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90000"/>
              </a:lnSpc>
              <a:spcBef>
                <a:spcPts val="437"/>
              </a:spcBef>
              <a:spcAft>
                <a:spcPts val="437"/>
              </a:spcAft>
              <a:buClr>
                <a:srgbClr val="66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Mall/Centr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8920" y="1054080"/>
          <a:ext cx="899172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054080"/>
                    <a:ext cx="899172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ESENTACIÓN DE LOS RESULTADOS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8" name="Texto 15"/>
          <p:cNvSpPr/>
          <p:nvPr/>
        </p:nvSpPr>
        <p:spPr>
          <a:xfrm>
            <a:off x="6629400" y="137160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Excel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6 y 7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720" y="1676520"/>
            <a:ext cx="1218960" cy="7617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o 17"/>
          <p:cNvSpPr/>
          <p:nvPr/>
        </p:nvSpPr>
        <p:spPr>
          <a:xfrm>
            <a:off x="685800" y="4495680"/>
            <a:ext cx="2286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Deficienci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 4 ó menos la situación o aspecto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520" y="4266720"/>
            <a:ext cx="91440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o 15"/>
          <p:cNvSpPr/>
          <p:nvPr/>
        </p:nvSpPr>
        <p:spPr>
          <a:xfrm>
            <a:off x="6324480" y="4419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Satisfacción Neta:</a:t>
            </a:r>
            <a:r>
              <a:rPr b="1" i="1" lang="en-US" sz="1400" spc="-1" strike="noStrike">
                <a:solidFill>
                  <a:srgbClr val="000066"/>
                </a:solidFill>
                <a:latin typeface="Tahoma"/>
              </a:rPr>
              <a:t> % de entrevistados que califican con notas 6 y 7 menos % que califican con notas 1 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876560" y="3123720"/>
            <a:ext cx="1523880" cy="129564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Evolución Satisfacción Global con el Servicio</a:t>
            </a:r>
            <a:br>
              <a:rPr sz="2400"/>
            </a:br>
            <a:r>
              <a:rPr b="1" i="1" lang="en-US" sz="1800" spc="-1" strike="noStrike">
                <a:solidFill>
                  <a:srgbClr val="003399"/>
                </a:solidFill>
                <a:latin typeface="Tahoma"/>
              </a:rPr>
              <a:t>Base total clientes 13.213 entrevistados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NIVEL SOCIOECONÓMICO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219320"/>
          <a:ext cx="901692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01692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</a:rPr>
              <a:t>EVOLUCIÓN SATISFACCIÓN GLOBAL CON EL SERVICIO SEGÚN ÁREA GEOGRÁFICA</a:t>
            </a:r>
            <a:br>
              <a:rPr sz="2000"/>
            </a:b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Sat. Neta (% de notas 6 y 7 menos % de notas 1 a 4)</a:t>
            </a:r>
            <a:br>
              <a:rPr sz="1400"/>
            </a:br>
            <a:r>
              <a:rPr b="1" i="1" lang="es-ES_tradnl" sz="1400" spc="-1" strike="noStrike">
                <a:solidFill>
                  <a:srgbClr val="003399"/>
                </a:solidFill>
                <a:latin typeface="Tahoma"/>
              </a:rPr>
              <a:t>Base Total clientes por GSE</a:t>
            </a:r>
            <a:endParaRPr b="1" lang="en-US" sz="1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5:36:59Z</dcterms:created>
  <dc:creator>Claudio Mundi</dc:creator>
  <dc:description/>
  <dc:language>en-US</dc:language>
  <cp:lastModifiedBy>Administrador</cp:lastModifiedBy>
  <cp:lastPrinted>2003-10-08T20:41:56Z</cp:lastPrinted>
  <dcterms:modified xsi:type="dcterms:W3CDTF">2004-11-08T21:56:08Z</dcterms:modified>
  <cp:revision>353</cp:revision>
  <dc:subject/>
  <dc:title>Satisfacción Global con el Servicio En general, ¿Cuán satisfecho está usted con el servicio que le entrega….  En una escala de 1 a 7 Base: 500 encuestados por industria</dc:title>
</cp:coreProperties>
</file>