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891-D347-49AC-97B1-B871335E3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B799-9915-4D38-BC09-4ED4AD5FA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2BC5-D98C-4F8B-ABC4-05CFC5586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194E-CA5B-4EB1-99AA-E986E536F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E3BA-6B46-479A-9187-A21D19AA9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1A44-EABC-4108-A355-12C03F9AC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1216-2B15-4EB1-8838-308A84F2A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A00A-96B1-4885-9707-2AE5E18B6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03F8-9D5B-42C1-B854-B32407107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B090-8DD0-4DAB-BBD0-628D26CE8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5A35-419B-4732-B94C-BFA043663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CF19-CB1E-49DB-9E0F-DB388DFCF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8680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8CF-3118-4092-B921-F6DC2B9DED43}" type="slidenum">
              <a:rPr b="1" lang="es-ES_tradnl" sz="10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43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4BBE-8653-447F-B088-6783C5134ED7}" type="slidenum">
              <a:rPr b="1" lang="es-ES_tradnl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81080" y="659088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&lt;footer&gt;</a:t>
            </a: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INDICE NACIONAL DE SATISFACCIÓN DE CONSUMIDORES 1er. SEM.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143000"/>
          <a:ext cx="89661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661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05740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01924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5588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676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nocer y hacer pública la opinión de los chilenos en relación al servicio que reciben por lo que paga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rear movimiento de los ejecutivos hacia un enfoque de gestión de calidad moderno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bjetivos del Índice Nacional de Satisfacción de Consumidore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7720" y="3779640"/>
            <a:ext cx="8547840" cy="792720"/>
            <a:chOff x="477720" y="3779640"/>
            <a:chExt cx="8547840" cy="792720"/>
          </a:xfrm>
        </p:grpSpPr>
        <p:grpSp>
          <p:nvGrpSpPr>
            <p:cNvPr id="47" name=""/>
            <p:cNvGrpSpPr/>
            <p:nvPr/>
          </p:nvGrpSpPr>
          <p:grpSpPr>
            <a:xfrm>
              <a:off x="477720" y="3779640"/>
              <a:ext cx="4031280" cy="792720"/>
              <a:chOff x="477720" y="3779640"/>
              <a:chExt cx="4031280" cy="792720"/>
            </a:xfrm>
          </p:grpSpPr>
          <p:sp>
            <p:nvSpPr>
              <p:cNvPr id="48" name=""/>
              <p:cNvSpPr/>
              <p:nvPr/>
            </p:nvSpPr>
            <p:spPr>
              <a:xfrm>
                <a:off x="477720" y="3895200"/>
                <a:ext cx="1600200" cy="5598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Satisfacción de clie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6620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35120" y="3779640"/>
                <a:ext cx="1523880" cy="7927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Motivación del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8512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9560" y="3895200"/>
              <a:ext cx="4536000" cy="560160"/>
              <a:chOff x="4489560" y="3895200"/>
              <a:chExt cx="4536000" cy="5601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022080" y="3895200"/>
                <a:ext cx="3003480" cy="560160"/>
                <a:chOff x="6022080" y="3895200"/>
                <a:chExt cx="3003480" cy="5601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086240" y="4012560"/>
                  <a:ext cx="193932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ffff"/>
                    </a:gs>
                    <a:gs pos="100000">
                      <a:srgbClr val="ff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3300"/>
                      </a:solidFill>
                      <a:latin typeface="Tahoma"/>
                    </a:rPr>
                    <a:t>Competitiv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22080" y="3895200"/>
                  <a:ext cx="966960" cy="56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600" spc="-1" strike="noStrike">
                      <a:solidFill>
                        <a:srgbClr val="660033"/>
                      </a:solidFill>
                      <a:latin typeface="Tahoma"/>
                    </a:rPr>
                    <a:t>&lt;=&gt;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4489560" y="4012560"/>
                <a:ext cx="1441080" cy="3268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ahoma"/>
                  </a:rPr>
                  <a:t>Resul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556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umentar la competitividad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2948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1720" y="1295280"/>
            <a:ext cx="160020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9360" y="1295280"/>
            <a:ext cx="125244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295280"/>
            <a:ext cx="22431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19680" y="1600200"/>
            <a:ext cx="496872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600200"/>
            <a:ext cx="3289320" cy="495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44792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TRANSAC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MEMBRES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SULTADOS POR SUBSECTOR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25560" y="1143000"/>
          <a:ext cx="91188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9118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DOMICILIARIO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S TRANSACCIONAL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ELECOMUNICAC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FINANCIERA Y PENS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DE LA SALUD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PÚBLICOS Y MUNICIPALIDAD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br>
              <a:rPr sz="28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83 entrevistas total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480" y="1054080"/>
          <a:ext cx="8989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054080"/>
                    <a:ext cx="8989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etodologí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7964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blación Objetivo 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Hombres y mujeres mayores de 21 años con teléfono en el hogar, residentes en hogares de las ciudades de Santiago, Viña del Mar/Valparaiso, Concepción/Talcahuano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Tipo de encuesta :</a:t>
            </a: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Entrevista telefónica estructurad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Con una escala de calificación de 1 a 7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Muestra y Precisión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Industria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500 entrevistas, 4,383% de error muestral al 95% de confianz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Total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13.213 entrevistas,  +-0,93% de error muestral al 95% de confianza bajo supuesto de varianza máxima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nderación de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Los resultados fueron ponderados por: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las ciudades bajo estudio en la población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cada estrato en la población de Santiago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Fecha de Campo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El trabajo de campo se desarrollo en los meses de </a:t>
            </a:r>
            <a:r>
              <a:rPr b="0" i="1" lang="es-ES_tradnl" sz="1600" spc="-1" strike="noStrike">
                <a:solidFill>
                  <a:srgbClr val="003399"/>
                </a:solidFill>
                <a:latin typeface="Tahoma"/>
              </a:rPr>
              <a:t>Abril-Junio</a:t>
            </a: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 de 2003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Sectores que Presentan Cambios Estadísticamente Significativos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 4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143000"/>
          <a:ext cx="90216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021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NITARI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APRES/FONAS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ISAPRE 160/313 /226/192/193/ 157   FONASA 361/399/285/314/309/ 38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Privado 272/315/253/211/219  Público 190/339/241/246/247 Otros 43/60 /52/44/34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FINANCIER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9277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410040" y="38354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6840" y="15685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156852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18796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79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447920"/>
            <a:ext cx="716292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3886200"/>
            <a:ext cx="3429000" cy="1447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1828800"/>
            <a:ext cx="2133720" cy="22096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00280" y="1295280"/>
          <a:ext cx="8343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295280"/>
                    <a:ext cx="8343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 2002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300"/>
            </a:b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019520" y="345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52388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44792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80060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5627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0600" y="5791320"/>
            <a:ext cx="136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 = 0.9403x - 11.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2 = 0.66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2096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ARMA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277344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STACIONES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97520" y="2604960"/>
            <a:ext cx="112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UPERMER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200" y="2819520"/>
            <a:ext cx="119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REP. AUTOMÓV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74320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ESTADORES SERV. SAL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2760" y="289548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840" y="24382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LEG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2720" y="350532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NERGÍA ELÉCT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4680" y="428148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GUA POTABLE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12640" y="3048120"/>
            <a:ext cx="111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MÓV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0800" y="2514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IENDAS POR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0760" y="3138480"/>
            <a:ext cx="129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ERVICIO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329076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SAPRE/ FONASA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5560" y="298620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ERCIO MINOR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21160" y="3290760"/>
            <a:ext cx="6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5040" y="35193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15432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586400"/>
            <a:ext cx="78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NICIP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472428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RANSPORTE PÚBL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4572000"/>
            <a:ext cx="8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360" y="449568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RED FI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1520" y="32148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V C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23763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SATISFACCIÓN GLOBAL CON EL SERVICIO POR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Sat. Neta por Industria y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5160" y="3429000"/>
            <a:ext cx="313524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1520" y="1219320"/>
            <a:ext cx="3135240" cy="1650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3135240" cy="2038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432080"/>
            <a:ext cx="5181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¿Estas diferencias tienen que ver con estrategias explícitas del negocio? O ¿Sólo por casualida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1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na tarea permanente de las empresas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8920" y="1143000"/>
          <a:ext cx="90550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3000"/>
                    <a:ext cx="90550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formación Recolectad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15560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eneral co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ercepción precio-valo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icadores de lealtad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pra/Mantenció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entarios del Servicio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Problema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Solución Satisfactor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que Comunican el Problem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asificación Socioeconómica de los entrevistado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Gestionar los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3360" y="1219320"/>
          <a:ext cx="908064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219320"/>
                    <a:ext cx="90806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" descr=""/>
          <p:cNvPicPr/>
          <p:nvPr/>
        </p:nvPicPr>
        <p:blipFill>
          <a:blip r:embed="rId3"/>
          <a:srcRect l="4668" t="0" r="0" b="90956"/>
          <a:stretch/>
        </p:blipFill>
        <p:spPr>
          <a:xfrm>
            <a:off x="490680" y="685800"/>
            <a:ext cx="86533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Tasa de Clientes con Problemas en el Servicio por Industrias</a:t>
            </a:r>
            <a:br>
              <a:rPr sz="23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de Clientes por industria</a:t>
            </a:r>
            <a:br>
              <a:rPr sz="18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8440" y="1212840"/>
          <a:ext cx="91076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212840"/>
                    <a:ext cx="91076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Gestión de Problemas en el Servicio por Industrias % de Clientes con Problemas que Recibieron una Solución Satisfactori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Base Total de Clientes con problemas por industria y que lo comunican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212840"/>
          <a:ext cx="913608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2840"/>
                    <a:ext cx="913608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bertura del Índice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15848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en el índice se seleccionaron a partir de los siguientes criterios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ectores industriales de alta competenci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a penetración en la población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o número de clientes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son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FP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Ban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Financiera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Servicios Públi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Municipi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ISAPRE/FONAS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Energía Eléctric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gua Pot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Comercio Minorist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TV C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098960" y="3057480"/>
            <a:ext cx="47908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Distribución d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leg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Super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Mó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iendas por Departamento (Grandes Tiend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Estaciones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Internet (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Mall/Centr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8920" y="1054080"/>
          <a:ext cx="8991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54080"/>
                    <a:ext cx="8991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ENTACIÓN DE LOS RESULTADO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Texto 15"/>
          <p:cNvSpPr/>
          <p:nvPr/>
        </p:nvSpPr>
        <p:spPr>
          <a:xfrm>
            <a:off x="6629400" y="137160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Excel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6 y 7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720" y="1676520"/>
            <a:ext cx="1218960" cy="7617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o 17"/>
          <p:cNvSpPr/>
          <p:nvPr/>
        </p:nvSpPr>
        <p:spPr>
          <a:xfrm>
            <a:off x="685800" y="4495680"/>
            <a:ext cx="2286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Defici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4 ó menos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4266720"/>
            <a:ext cx="91440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o 15"/>
          <p:cNvSpPr/>
          <p:nvPr/>
        </p:nvSpPr>
        <p:spPr>
          <a:xfrm>
            <a:off x="6324480" y="4419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Satisfacción Net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s 6 y 7 menos % que califican con notas 1 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876560" y="3123720"/>
            <a:ext cx="1523880" cy="12956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volución Satisfacción Global con el Servicio</a:t>
            </a:r>
            <a:br>
              <a:rPr sz="24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clientes 13.213 entrevistados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NIVEL SOCIOECONÓMICO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ÁREA GEOGRÁFICA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5:36:59Z</dcterms:created>
  <dc:creator>Claudio Mundi</dc:creator>
  <dc:description/>
  <dc:language>en-US</dc:language>
  <cp:lastModifiedBy>Administrador</cp:lastModifiedBy>
  <cp:lastPrinted>2003-10-08T20:41:56Z</cp:lastPrinted>
  <dcterms:modified xsi:type="dcterms:W3CDTF">2004-11-08T21:56:08Z</dcterms:modified>
  <cp:revision>353</cp:revision>
  <dc:subject/>
  <dc:title>Satisfacción Global con el Servicio En general, ¿Cuán satisfecho está usted con el servicio que le entrega….  En una escala de 1 a 7 Base: 500 encuestados por industria</dc:title>
</cp:coreProperties>
</file>