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716D6-848C-4C59-9360-CCBA427B1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D0FFA-6B90-4FB6-AA7A-E760E3B50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80F14-B875-419E-B6D7-5B76FC3B6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6A31-4C99-4922-8ABE-263A8DEA43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97178-3668-4D2A-B160-3D77541859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844D-4EAD-40E7-946A-90478BD5D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C41C7-2B93-41D6-9666-2D2711485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2D12C-93E7-40FD-B5F0-A1EBD373C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5CB4-AD16-4C3B-8F97-E1E1205BC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7A43D-1700-4595-A507-7EF8D2B02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4F83-6A06-4AE4-9E32-F3100334C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E1F55-F12C-41A9-82D9-F741B8795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552 Gestión de Cli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4644-1998-4D00-ACE6-08702D0AF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N552 – Gestión del Cliente</a:t>
            </a:r>
            <a:endParaRPr b="1" lang="en-US" sz="32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440" y="286992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800" spc="-1" strike="noStrike">
              <a:solidFill>
                <a:srgbClr val="dcf5b7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Profesor: William Young Hans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Semestre Primaver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Relaciones personales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1981080"/>
          <a:ext cx="8763120" cy="411480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482920"/>
                <a:gridCol w="1898640"/>
              </a:tblGrid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i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oco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uperfi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alid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Apasionad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Neutr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etitiv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a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lementari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Desigu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Trabaj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Multifuncion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o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2843280" y="6381720"/>
            <a:ext cx="5616360" cy="216000"/>
          </a:xfrm>
          <a:prstGeom prst="leftRightArrow">
            <a:avLst>
              <a:gd name="adj1" fmla="val 50000"/>
              <a:gd name="adj2" fmla="val 517626"/>
            </a:avLst>
          </a:prstGeom>
          <a:solidFill>
            <a:srgbClr val="dcf5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3A7A1-5828-4F63-AEC8-FDFB580F18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Relaciones personales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1981080"/>
          <a:ext cx="8763120" cy="411480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482920"/>
                <a:gridCol w="1898640"/>
              </a:tblGrid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i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oco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Profun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uperfi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alid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Apasionad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Neutr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etitiv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Equilibra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plementari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Desigu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dcf5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Trabaj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Multifuncion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Socia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2843280" y="6381720"/>
            <a:ext cx="5616360" cy="216000"/>
          </a:xfrm>
          <a:prstGeom prst="leftRightArrow">
            <a:avLst>
              <a:gd name="adj1" fmla="val 50000"/>
              <a:gd name="adj2" fmla="val 517626"/>
            </a:avLst>
          </a:prstGeom>
          <a:solidFill>
            <a:srgbClr val="dcf5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68360" y="1700280"/>
            <a:ext cx="2303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2852640"/>
            <a:ext cx="230328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04000" y="3933720"/>
            <a:ext cx="2340000" cy="719280"/>
          </a:xfrm>
          <a:prstGeom prst="flowChartSummingJuncti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8F5D8-F937-4BD4-9F58-4AB05F8569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racterísticas de una buena relación</a:t>
            </a: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989000"/>
            <a:ext cx="828036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DU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ÉS MUTU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60B89-762D-48AE-9E79-77C29162F0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racterísticas de una buena relación</a:t>
            </a: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989000"/>
            <a:ext cx="828036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cambio Consta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Ambas partes están al 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APL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4d4d4d"/>
                </a:solidFill>
                <a:latin typeface="Verdana"/>
                <a:ea typeface="Times New Roman"/>
              </a:rPr>
              <a:t>La información se util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A97BA-E6C2-4075-8B9F-ABB16F2084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Características de una buena relación</a:t>
            </a:r>
            <a:r>
              <a:rPr b="1" lang="es-ES_tradnl" sz="40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989000"/>
            <a:ext cx="82803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mbas partes escuchan, hablan, hacen preguntas y resp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DU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 suponen que van a durar por siempre. Las relaciones cortas suelen ser interes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TERÉS MUTU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7B814-68E7-4437-BFD3-4369BC5C01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989000"/>
            <a:ext cx="828036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41BD6-F50C-4B87-B50B-EF690189A5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1989000"/>
            <a:ext cx="828036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cumple sus prom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- Ojo con las campañas publicitaria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2)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r en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Manejo de la información (B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3) 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recuerda mis neces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(Confío en empresas que me envían cartas ofreciendo productos que ya utilizo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C1B34-EA8D-4BF7-A98C-0DC688D900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989000"/>
            <a:ext cx="8280360" cy="36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4) 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acilidad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5) 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star ahí cuando más se necesita (como los amigo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6)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Un buen proveedor orienta a sus clientes en qué comprar, cómo emplearlo, cuánto comp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CDBDC-1BA2-46FE-AF93-49C211ABE9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¿Qué esperan los clientes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989000"/>
            <a:ext cx="828036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7) 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os clientes suelen estar conscientes de su importa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lo está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l cliente compara su atención con la que reciben los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8) 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ntirse cómodo y cercano con la empr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5E31A-F019-4FB4-97CA-0EB96F7ABA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1989000"/>
            <a:ext cx="828036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           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AMIGO 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BANCO 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DENTISTA</a:t>
            </a:r>
            <a:endParaRPr b="1" lang="en-US" sz="20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5580000" y="1341360"/>
            <a:ext cx="0" cy="475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6000" y="1341360"/>
            <a:ext cx="0" cy="475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B51C0-BA8E-4D1C-A8A4-826D46319D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Introducción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Costos de adquisi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onseguir un nuevo cliente tiene una inversión inicial en distintas áreas del negoci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1402A-FB9D-4488-B49A-B5C60918E1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989000"/>
            <a:ext cx="828036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60093"/>
                </a:solidFill>
                <a:latin typeface="Verdana"/>
              </a:rPr>
              <a:t>	</a:t>
            </a: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Cómo logro….?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87D77-BE17-47F7-8EFA-8B36E793B6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Qué es lo que busca el cliente...</a:t>
            </a: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lientes que buscan el mejor negocio 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Estar en la vanguardia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ompromis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Seguridad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ACFFF-810B-43D5-80CB-67DF2AAFDB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Qué es lo que busca el cliente...</a:t>
            </a: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lientes que buscan el mejor negocio 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Utilizarlos para dar salida al P sobrante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Limitar entrega de productos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Racionar el servicio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Poca prioridad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Cobrar por atención extra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Orientarlos a la competencia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Uso de filtros para desmotivar 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68A88-D17C-4DF4-819F-AE48EEE9F9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Qué es lo que busca el cliente...</a:t>
            </a:r>
            <a:r>
              <a:rPr b="1" lang="en-US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Estar en la vanguardia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Comentar tendencias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Usar para probar nuevos productos y servicio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Compromis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Muestras de productos nuevos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Pedir consejos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Invitar a actividades(seminarios, etc)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Mención en folletos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Premios al mejor cliente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56294-8202-4B4D-BCBA-2A6F52117B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B2B 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Reunir Equipo, Seleccionar segmento adecuado, colaboración cliente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Generar lista de elementos de valor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Recolectar la informació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Validar modelo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Crear herramientas de venta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62DFA-BC3C-41C5-9D7D-8FAEEBD6FC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Reunir Equipo</a:t>
            </a: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ersonal de producción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Marketing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Ventas: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Conocen directamente al cliente (quién puede cooperar?)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B5CF2-8097-4A12-BD50-1A7824ECB7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Seleccionar el Segmento Adecuado</a:t>
            </a: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Comenzar con segmento cercano y cooperador (buena relación)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Por qué un cliente puede estar dispuesto a cooperar? Entregarle los resultados (benchmarking) 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FC837-FD9E-436E-951B-FDA0C168E4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2. Generar el listado de los elementos de valor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Elementos que afectan los costos y beneficios en una oferta de valor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Pueden ser tangible y no tanto, técnicos, servicios e incluso aspectos sociales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Considerar el proceso completo, desde que el cliente adquiere el producto hasta que lo desecha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19635-8D3A-4294-8AA6-47B3057529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2. Generar el listado de los elementos de valor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No dejar fuera ningún elemento (error en el estudio)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arte de los elementos saldrán de la observación y parte de las percepciones de los clientes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EBD5D-1D41-476F-8A18-EAA9021216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3. Recolectar la informació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Luego de tener el listado de los elementos se deben valorizar en términos monetarios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Puede ser útil que los miembros del equipo participen dentro del proceso del cliente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Puede que el cliente piense que la información necesaria no existe (muchos datos, ardua tarea hasta llegar a la persona que tiene la información, lo sabe?) 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D52AB-4BEC-4E8B-9D0F-8D352EB2D3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Verdana"/>
              </a:rPr>
              <a:t>Costos de adquisición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Investiga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Tiempo de análisis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Desarrollo del producto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Servicios y mantenimiento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934F3-7F2F-4E96-8FDA-3A1C711472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3. Recolectar la informació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Según la dimensión de lo que se esté hablando es más difícil llegar a asignar valor (sobretodo los menos tangibles)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Hay que hacer supuestos sobre las funcionalidades y desempeños cuando es más costoso  y difícil medir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Recordar ser explícito en los supuestos utilizados.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8FE50-0B44-4941-9832-B58DA87988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4. Validar el Modelo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Evaluaciones adicionales con Clientes del mismo segmento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Se afirma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Se mejora el entendimiento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Qué casos son más confiables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6009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Verdana"/>
              </a:rPr>
              <a:t>Dado que es percepción hay que dar parámetros iniciales para que la gente tenga un punto de comparación</a:t>
            </a:r>
            <a:endParaRPr b="1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1972B-1AED-40E6-8D4F-B443339459C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4. Validar el Model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Base de datos con valores estimados y descriptores de los clientes (características) que permitan explicar los resultados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Se puede analizar qué descriptores son más relevantes para los cambios de valor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13F10-DE41-49A1-95FA-320B6B42503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5. Crear herramienta de ventas creadas en el valor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Se puede persuadir a los clientes al conocer mejor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Planillas claras que muestren ahorros en costos (valor agregado a los prospectos)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Mostrar todos los ahorros en costo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</a:rPr>
              <a:t>Mostrar los resultados de otros clientes a los prospectos (estudiar cada caso) </a:t>
            </a: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A968E-D895-4449-9DC0-FD0C0AC104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5. Crear herramienta de ventas creadas en el valor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Esto puede estrechar la relación con los clientes actuales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2D6CC-2C88-4911-AA88-D6FDE2B35A8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USOS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Servicios suplementarios (nuevas ofertas)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Mejorar las relaciones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Ganar nuevos clientes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Mejorar product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53B35-F7C1-414B-A11C-51910FB7519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Modelos de Valor, Focus Group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No siempre se puede obtener los datos de primera fuente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=&gt; Confiar en las percepciones (Focus Group)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Verdana"/>
              </a:rPr>
              <a:t>Pasos (como ejemplo)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9B2A3-CF79-490D-A174-62DDBC791D8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Focus Group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Mostrar prototipo (ejemplo de oferta de valor)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egunta: Cuánto estarían DP?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Discusión del servicio entre las partes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Evaluar de 1 a 10 las dimensiones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eguntar nuevamente lo mismo: poner precio fina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BE2C8-049B-421C-9C39-A8CF47A59D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Focus Group 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Cuál sería más deseable??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ecio Inicial = Precio Fina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ecio Inicial &lt; Precio Fina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ecio Inicial &gt; Precio Final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Qué hacer en cada caso??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729C5-A265-4F81-BC68-B17457185A8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d60093"/>
                </a:solidFill>
                <a:latin typeface="Verdana"/>
              </a:rPr>
              <a:t>CTP 4</a:t>
            </a:r>
            <a:r>
              <a:rPr b="1" lang="es-ES" sz="4400" spc="-1" strike="noStrike">
                <a:solidFill>
                  <a:srgbClr val="d60093"/>
                </a:solidFill>
                <a:latin typeface="Verdana"/>
              </a:rPr>
              <a:t>	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Qué características  tienen los MCM pala el calculo de la LTV?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294840" indent="-294840">
              <a:lnSpc>
                <a:spcPct val="11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Cuáles son los supuestos de customer retention y  customer migration</a:t>
            </a:r>
            <a:r>
              <a:rPr b="1" lang="es-ES" sz="32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294840" indent="-29484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A qué corresponde el valor (i,j) de la matriz de transición paso-n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294840" indent="-29484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Explique el ejemplo presentado en la pizarra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294840" indent="-294840">
              <a:lnSpc>
                <a:spcPct val="110000"/>
              </a:lnSpc>
              <a:spcBef>
                <a:spcPts val="700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Verdana"/>
              </a:rPr>
              <a:t>Qué consideración (cuidados) se debe tener con MCM para asociar a RFM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294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EF49E-051E-4576-9EDB-4D0862E1368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Verdana"/>
              </a:rPr>
              <a:t>Costos de adquisición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Descuentos y muestras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Distribu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Comunicación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Equipo de ventas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E02F7-5CA2-4366-9D00-DFFFF4A938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36560" y="2717640"/>
                <a:ext cx="6245280" cy="259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eqAr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tate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P</m:t>
                              </m:r>
                            </m:e>
                            <m:e/>
                          </m:eqArr>
                        </m:e>
                        <m:e>
                          <m:eqArr>
                            <m:e>
                              <m:r>
                                <m:t xml:space="preserve">R</m:t>
                              </m:r>
                            </m:e>
                            <m:e/>
                          </m:eqAr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specto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liente</m:t>
                                </m:r>
                              </m:e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ntiguo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liente</m:t>
                                </m:r>
                              </m:e>
                            </m:mr>
                          </m:m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8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0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5E968-8A79-4614-A633-E9A90F2950A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Verdana"/>
              </a:rPr>
              <a:t>Costos de adquisición</a:t>
            </a:r>
            <a:endParaRPr b="1" lang="en-US" sz="48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6009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Verdana"/>
              </a:rPr>
              <a:t>Costo de adquirir un cliente en EE.UU (BCG)</a:t>
            </a: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US$7 vtas x catálogo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US$31 locales comerciales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d6009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Verdana"/>
              </a:rPr>
              <a:t>US$80 on line</a:t>
            </a:r>
            <a:endParaRPr b="1" lang="en-US" sz="3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407B4-216E-4C4B-BA58-5241CD1E2F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IN552 – Gestión del Cliente</a:t>
            </a:r>
            <a:endParaRPr b="1" lang="en-US" sz="32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440" y="2895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cf5b7"/>
                </a:solidFill>
                <a:latin typeface="Verdana"/>
              </a:rPr>
              <a:t>LEALTAD</a:t>
            </a:r>
            <a:r>
              <a:rPr b="0" lang="en-US" sz="2800" spc="-1" strike="noStrike">
                <a:solidFill>
                  <a:srgbClr val="dcf5b7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La lealtad del cliente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89000"/>
            <a:ext cx="8280360" cy="39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Definición de lealtad……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…”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tendencia de volver a comprar el mismo producto o acudir a un mismo proveedor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Inercia NO =&gt; LEALT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3F25B-3FEB-4C38-8DFC-239114DE43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La lealtad del cliente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989000"/>
            <a:ext cx="828036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Explicación de inerc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no hay compe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flojera del comprad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etc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Problemas con estos clientes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C0DD-DA0C-4C70-9112-6F07CE1634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bc1"/>
            </a:gs>
            <a:gs pos="100000">
              <a:srgbClr val="fcb0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d60093"/>
                </a:solidFill>
                <a:latin typeface="Verdana"/>
              </a:rPr>
              <a:t>La lealtad del cliente</a:t>
            </a:r>
            <a:endParaRPr b="1" lang="en-US" sz="4400" spc="-1" strike="noStrike">
              <a:solidFill>
                <a:srgbClr val="d60093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989000"/>
            <a:ext cx="8280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La LEALTAD es un vínculo emo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uerza afectiva basada en el respeto y la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s planes como puntos, regalos etc. No generan lealtad por sí s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No es malo crear hábito! Es el primer paso pero (again) no crean lealtad por si so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B Ingeniería de Marketing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ED87C-076B-4B01-A117-FD53418354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Administrador</cp:lastModifiedBy>
  <dcterms:modified xsi:type="dcterms:W3CDTF">2004-10-05T16:01:33Z</dcterms:modified>
  <cp:revision>403</cp:revision>
  <dc:subject/>
  <dc:title>IN58B Ingeniería de Marketing</dc:title>
</cp:coreProperties>
</file>