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8911-EA8C-417F-B3EF-9C5BF76B4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0D6A-6DC6-4F51-B9D4-C2E63F7E6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50AC-036E-4666-9125-8606333CA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7E89-4F54-4AAB-9120-2E1E1BCE3B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D455-891D-4DA8-907D-84D56466C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80D4-4307-4B86-B971-22765918D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1FEE-06A2-410A-A573-89CC2673B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8145-69B9-45C0-BF09-A944F098B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CCBA-2DE1-4A28-99B5-1B0A413E0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0F5D-2393-4AF5-A137-00B34B449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A14D-6040-40E5-8809-0C5C8F87B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E0E2-356C-476F-92DE-F8FFE48B7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58E-D1B9-48BD-9688-E7D631F8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D7BD-9DE9-4C5A-ABDB-26221E13B7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FAB9-795E-4AB4-87A9-E2EE8CC395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0951-D3FA-4BBA-9D2F-0078408BB3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EDA1-7B28-401C-9BE5-058CF6174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4432-BB64-4FA0-8567-0CD7A1E0B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4829-6288-47FE-9931-DBA8E6369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201D-BF10-43D9-A9D9-B666CC43A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1694-1E4F-4A37-9540-12EFBD3029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2387-35FD-4AF0-9FFF-E6985DF1FC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2277-1E91-49CF-8E90-FEA83085F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0CBF-73D0-45A3-BD9C-2C56EEA3A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ómo logro….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6E4F-8847-45EA-A239-AB2F9911D7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guridad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85A7-CC72-4B20-8DB6-AF4375DACD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tilizarlos para dar salida al P sobra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Limitar entrega de produc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acionar el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oca prioridad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brar por atención extr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Orientarlos a la competenci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o de filtros para desmotivar 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BE49-317C-427A-8AFD-448D72C909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mentar tendencia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ar para probar nuevos productos y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uestras de productos nuev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edir consej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Invitar a actividades(seminarios, etc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ención en folle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remios al mejor clie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1C70-8E4F-4F12-8EF6-10015DCE59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B2B 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unir Equipo, Seleccionar segmento adecuado, colaboración client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Generar lista de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idar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rear herramientas de vent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0A77-5CA5-41C8-A544-43EA34D701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Reunir Equip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ersonal de producción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entas: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nocen directamente al cliente (quién puede cooperar?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D97F-A514-43BF-9148-98E8A37EC1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leccionar el Segmento Adecuad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omenzar con segmento cercano y cooperador (buena relación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or qué un cliente puede estar dispuesto a cooperar? Entregarle los resultados (benchmarking)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7363-0BBA-40DE-8093-B1981CF24A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ementos que afectan los costos y beneficios en una oferta de val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n ser tangible y no tanto, técnicos, servicios e incluso aspectos sociale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Considerar el proceso completo, desde que el cliente adquiere el producto hasta que lo desech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703A-8169-4356-8FEF-DE496B5EC4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No dejar fuera ningún elemento (error en el estudio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arte de los elementos saldrán de la observación y parte de las percepciones de los clien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5F45-6B2C-489D-8464-0C25875158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Luego de tener el listado de los elementos se deben valorizar en términos monetario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ser útil que los miembros del equipo participen dentro del proceso del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que el cliente piense que la información necesaria no existe (muchos datos, ardua tarea hasta llegar a la persona que tiene la información, lo sabe?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A8E0-C733-437B-AFC1-1AA94F1F7F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B98E-2735-4E7F-B8A0-4388B628B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gún la dimensión de lo que se esté hablando es más difícil llegar a asignar valor (sobretodo los menos tangible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Hay que hacer supuestos sobre las funcionalidades y desempeños cuando es más costoso  y difícil medi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Recordar ser explícito en los supuestos utilizados.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683C-347D-4D61-A8F3-337E3CB8F7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valuaciones adicionales con Clientes del mismo segmen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afirm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mejora el entendimient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Qué casos son más confiable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Dado que es percepción hay que dar parámetros iniciales para que la gente tenga un punto de comparación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DD31-7D9E-4BCB-8653-7FA4D29E01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Base de datos con valores estimados y descriptores de los clientes (características) que permitan explicar los resultad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 puede analizar qué descriptores son más relevantes para los cambi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4EF2-F81E-47BB-938C-7B29ECFDEC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 puede persuadir a los clientes al conocer mej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lanillas claras que muestren ahorros en costos (valor agregado a los prospecto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todos los ahorros en cos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los resultados de otros clientes a los prospectos (estudiar cada caso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348C-0CAE-41B6-9F9F-74124CBA41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sto puede estrechar la relación con los 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88AC-EAA6-4AD5-8AEF-B7D3E18DB1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rvicios suplementarios (nuevas ofertas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las relacion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Ganar nuevos client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product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7AC1-ECFC-43A5-8783-8245314D5A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, 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No siempre se puede obtener los datos de primera fuent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=&gt; Confiar en las percepciones (Focus Group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asos (como ejemplo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2C8D-BBD3-4D0E-9C40-F8CE465DDF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ostrar prototipo (ejemplo de oferta de valor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: Cuánto estarían DP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Discusión del servicio entre las par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valuar de 1 a 10 las dimension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r nuevamente lo mismo: poner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5DC6-46DC-40D0-B0EA-026E79C0A9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ál sería más deseable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=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l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g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Qué hacer en cada caso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B426-3E83-4603-9518-A4795A4B44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CTP 4</a:t>
            </a: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aracterísticas  tienen los MCM pala el calculo de la LTV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Cuáles son los supuestos de customer retention y  customer migration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A qué corresponde el valor (i,j) de la matriz de transición paso-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Explique el ejemplo presentado en la pizarr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onsideración (cuidados) se debe tener con MCM para asociar a RFM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127D-4B87-49CF-A00C-3E10B32B10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C77A-ED97-4B65-B330-81E7190A9D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36560" y="2717640"/>
                <a:ext cx="6245280" cy="25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o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tigu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6050-8C4A-4DD3-9BBB-512D5DF26A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5356-5A79-477E-899C-A83A4D7C3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3B3F-A0CF-4C20-BD7D-39B260483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C8C3-E9C6-4200-A2BA-FDAFDE792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7143-A2EB-4917-98C9-18CFA3D6F5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10-05T16:01:33Z</dcterms:modified>
  <cp:revision>403</cp:revision>
  <dc:subject/>
  <dc:title>IN58B Ingeniería de Marketing</dc:title>
</cp:coreProperties>
</file>