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C09D-5395-4560-B9BC-CDCBF4392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AA18-0C78-4F60-87B3-0D9BF0456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0155-B648-41F5-8C3E-405656C98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1CE7-3D69-4EAA-9DFF-D37752FAE0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A5CF-DADD-4296-B6E9-0810F8F5CB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BD3F-5937-4C6C-A01D-753A05EE1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C616-6DA4-4C8D-868D-73ECB6131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BF7C-F09F-4999-9DC2-531A43A92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D097C-7016-438B-B930-0A28837C5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F7B2-7C21-4BFA-990E-DAC6F356E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F2B3-3BC2-418C-822C-C8DA2053D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175E-0C87-4A9A-8BA7-EB4356F79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552 Gestión de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28D9-0C58-4AC5-8FB3-4889B8B10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86992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dcf5b7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1595-4C16-48BA-8F67-67FFFE02B2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1700280"/>
            <a:ext cx="2303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852640"/>
            <a:ext cx="23032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3933720"/>
            <a:ext cx="2340000" cy="71928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0E12-5B21-4975-B25D-E5739AAAD7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989000"/>
            <a:ext cx="8280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0481-EE04-45C1-A131-650F571C29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989000"/>
            <a:ext cx="828036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cambio Const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tán a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La información se uti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DBC2-9F88-45F8-82A9-93433157F9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989000"/>
            <a:ext cx="82803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cuchan, hablan, hacen preguntas y resp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 suponen que van a durar por siempre. Las relaciones cortas suelen ser interes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5C8E-EED0-4575-B58B-4188C46898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66F1-0B3D-427A-AE98-AAF0C7388D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989000"/>
            <a:ext cx="82803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cumple sus prom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- Ojo con las campañas publicitaria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2)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r en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anejo de la información (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3)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recuerda mis nece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(Confío en empresas que me envían cartas ofreciendo productos que ya utiliz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5AB4-A71F-44F9-80C5-DA127A0BFE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989000"/>
            <a:ext cx="828036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4) 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acilidad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5) 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star ahí cuando más se necesita (como los amigo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6)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Un buen proveedor orienta a sus clientes en qué comprar, cómo emplearlo, cuánt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CCDC-EB32-4F33-8487-B7CEEA5D48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989000"/>
            <a:ext cx="828036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7) 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os clientes suelen estar conscientes de su importa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lo est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l cliente compara su atención con la que reciben los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8) 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ntirse cómodo y cercano con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36DC-6FF8-445F-89D1-4503754355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          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AMIG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BANC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DENTISTA</a:t>
            </a:r>
            <a:endParaRPr b="1" lang="en-US" sz="2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39F4-1D92-4279-855F-2149A6459E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Introducción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s de adquisi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onseguir un nuevo cliente tiene una inversión inicial en distintas áreas del negoci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3BA0-83D8-4D3C-9895-FDAC9F88F1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ómo logro….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6FDB8-394C-487E-B013-427182C2C7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Qué es lo que busca el cliente...</a:t>
            </a: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entes que buscan el mejor negocio 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Estar en la vanguardia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ompromis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guridad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FF5C-8662-493D-99FB-97C6847EA9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Qué es lo que busca el cliente...</a:t>
            </a: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entes que buscan el mejor negocio 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Utilizarlos para dar salida al P sobrante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Limitar entrega de producto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Racionar el servici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Poca prioridad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Cobrar por atención extra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Orientarlos a la competencia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Uso de filtros para desmotivar 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CBD7-0806-471F-B451-E9793F0A16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Qué es lo que busca el cliente...</a:t>
            </a: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Estar en la vanguardia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Comentar tendencia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Usar para probar nuevos productos y servici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ompromis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Muestras de productos nuevo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Pedir consejo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Invitar a actividades(seminarios, etc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Mención en folleto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Premios al mejor cliente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B406-542B-4DFB-B7AD-B2B43BC7B7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B2B 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Reunir Equipo, Seleccionar segmento adecuado, colaboración cliente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Generar lista de elementos de valor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Recolectar la informació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Validar modelo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rear herramientas de venta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9186-1C16-407F-B498-536647D06A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Reunir Equipo</a:t>
            </a: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ersonal de producción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Ventas: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nocen directamente al cliente (quién puede cooperar?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5A2D-B2C0-41E7-A02D-7B139762C7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Seleccionar el Segmento Adecuado</a:t>
            </a: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omenzar con segmento cercano y cooperador (buena relación)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Por qué un cliente puede estar dispuesto a cooperar? Entregarle los resultados (benchmarking) 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65515-A122-4530-84B5-BF846F925A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2. Generar el listado de los elementos de valor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lementos que afectan los costos y beneficios en una oferta de valo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Pueden ser tangible y no tanto, técnicos, servicios e incluso aspectos sociales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Considerar el proceso completo, desde que el cliente adquiere el producto hasta que lo desecha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511C-EE8C-48D1-910E-84747F29F8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2. Generar el listado de los elementos de valor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No dejar fuera ningún elemento (error en el estudio)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arte de los elementos saldrán de la observación y parte de las percepciones de los cliente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67D6-026A-4067-8288-E672CA3BC7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3. Recolectar la informació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Luego de tener el listado de los elementos se deben valorizar en términos monetarios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Puede ser útil que los miembros del equipo participen dentro del proceso del cliente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Puede que el cliente piense que la información necesaria no existe (muchos datos, ardua tarea hasta llegar a la persona que tiene la información, lo sabe?)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790B-C9A3-47E7-B4EB-B62559EA7A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Investig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Tiempo de análisi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arrollo del produc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Servicios y mantenimien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A937-33FF-423A-957C-69198801F4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3. Recolectar la informació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egún la dimensión de lo que se esté hablando es más difícil llegar a asignar valor (sobretodo los menos tangibles)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Hay que hacer supuestos sobre las funcionalidades y desempeños cuando es más costoso  y difícil medi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Recordar ser explícito en los supuestos utilizados.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F4BF-7DE2-401A-BD8F-A1D5C49705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4. Validar el Modelo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valuaciones adicionales con Clientes del mismo segmento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e afirma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e mejora el entendimient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Qué casos son más confiable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Dado que es percepción hay que dar parámetros iniciales para que la gente tenga un punto de comparación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8801-1D72-4296-AFEC-6FCC3FEBB5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4. Validar el Model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Base de datos con valores estimados y descriptores de los clientes (características) que permitan explicar los resultado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Se puede analizar qué descriptores son más relevantes para los cambios de valor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63BF-E1CF-45CC-A3F7-EE400A52FD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5. Crear herramienta de ventas creadas en el valor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e puede persuadir a los clientes al conocer mejo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Planillas claras que muestren ahorros en costos (valor agregado a los prospectos)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Mostrar todos los ahorros en costo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Mostrar los resultados de otros clientes a los prospectos (estudiar cada caso)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1D3D-8BDB-4EC8-8059-82B391C84B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5. Crear herramienta de ventas creadas en el valor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Esto puede estrechar la relación con los clientes actuales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73C6D-2379-4252-B98B-6E79E0FEE4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USO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Servicios suplementarios (nuevas ofertas)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Mejorar las relacione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Ganar nuevos cliente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Mejorar product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83600-0A3D-429E-AFD9-BE5BB22EA7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, Focus Group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No siempre se puede obtener los datos de primera fuente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=&gt; Confiar en las percepciones (Focus Group)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Pasos (como ejemplo)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7C2E-AEF7-49A5-AA8D-6BE1C3B00CA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Focus Group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Mostrar prototipo (ejemplo de oferta de valor)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gunta: Cuánto estarían DP?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Discusión del servicio entre las parte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Evaluar de 1 a 10 las dimensione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guntar nuevamente lo mismo: poner precio fina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4916-2A23-468E-BF74-94232DF19A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Focus Group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uál sería más deseable??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cio Inicial = Precio Fina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cio Inicial &lt; Precio Fina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cio Inicial &gt; Precio Fina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Qué hacer en cada caso??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D2FC-167D-4DFA-8D75-D289472A0F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60093"/>
                </a:solidFill>
                <a:latin typeface="Verdana"/>
              </a:rPr>
              <a:t>CTP 4</a:t>
            </a:r>
            <a:r>
              <a:rPr b="1" lang="es-ES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Qué características  tienen los MCM pala el calculo de la LTV?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294840" indent="-29484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Cuáles son los supuestos de customer retention y  customer migration</a:t>
            </a: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A qué corresponde el valor (i,j) de la matriz de transición paso-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Explique el ejemplo presentado en la pizarra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Qué consideración (cuidados) se debe tener con MCM para asociar a RFM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D93F-1BF2-44B1-A608-586FC42FF12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cuentos y muestr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istribu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munic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Equipo de vent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0703-C5C1-4F68-9DB3-BD53A8BF76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36560" y="2717640"/>
                <a:ext cx="6245280" cy="259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specto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liente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tiguo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liente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459E-E135-45CB-B35C-3D6F39687D4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 de adquirir un cliente en EE.UU (BCG)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7 vtas x catálog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31 locales comerciale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80 on line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70B1-D461-4B06-8CEA-47C3D0CC4C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f5b7"/>
                </a:solidFill>
                <a:latin typeface="Verdana"/>
              </a:rPr>
              <a:t>LEALTAD</a:t>
            </a:r>
            <a:r>
              <a:rPr b="0" lang="en-US" sz="2800" spc="-1" strike="noStrike">
                <a:solidFill>
                  <a:srgbClr val="dcf5b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89000"/>
            <a:ext cx="828036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efinición de lealtad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…”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tendencia de volver a comprar el mismo producto o acudir a un mismo proveedo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ercia NO =&gt; LEALT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1E73-4C4C-49B3-B6BB-9FDCD99D42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89000"/>
            <a:ext cx="828036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xplicación de inerc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no hay compe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flojera del compr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tc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Problemas con estos cliente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CD8D-EA54-431B-A2C9-4A72DD8873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989000"/>
            <a:ext cx="8280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La LEALTAD es un vínculo emo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uerza afectiva basada en el respeto y la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s planes como puntos, regalos etc. No generan lealtad por sí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No es malo crear hábito! Es el primer paso pero (again) no crean lealtad por si so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E712-D9C2-40E8-B362-2AF068E0AA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4-10-05T16:01:33Z</dcterms:modified>
  <cp:revision>403</cp:revision>
  <dc:subject/>
  <dc:title>IN58B Ingeniería de Marketing</dc:title>
</cp:coreProperties>
</file>