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844F-4653-43C6-862C-3185C8638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5194-D8C7-4A32-8725-C2675231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928E-5A40-44AA-867C-E186A92C5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D1A5-6741-4B6B-897E-9962F8727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596E-0A27-4D07-81BD-1FAB64FA8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AF93-BCB4-47C6-B944-4CA938A9D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FDCF-4CD8-41A4-A4E7-AE42212BC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4DE1-909A-4C7E-815F-E595C8FD2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8786-C8B5-47BF-84B8-15D44DE5D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4DC1-2A60-4593-8F64-730B72C57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9C24-6B11-4A6E-9A20-7FFD9511A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73CF-BB3E-429B-82B4-685E6C3B6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2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D63A-E5C9-4F60-92B9-9285F980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37F7-90A7-412E-B7D0-2CB352B0C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BD4B-7BF5-440F-94B4-DAD7E9701A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9624-2753-4715-B472-3D48380EED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9D2C-D852-45DE-82A3-EDEBC22352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703E-E2F0-4533-AE21-83BB25C45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C7C2-1CB1-406E-9A25-C64C0441EC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1CF0-F792-44FB-B103-91F5DB9360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DCAC-D87A-4233-BDDE-028C77A88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5378-03AD-4597-9F55-85744C6653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43C4-3BEF-47B1-B621-24D4A43AC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4F76-9EB0-4CA1-97D0-F026AF71E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EBD2-B949-4D54-92E0-ABC226DE4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AC02-050A-4167-9DAC-3E13FDFDD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0B0B-E3F7-4D05-864A-C667387F8C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F845-4734-40FD-8E17-08982B6B06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17F3-C54B-4E4A-B0F3-578390B39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1470-47C3-471B-9ECA-66FD262A45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Gonzalo</cp:lastModifiedBy>
  <dcterms:modified xsi:type="dcterms:W3CDTF">2004-09-28T04:52:58Z</dcterms:modified>
  <cp:revision>399</cp:revision>
  <dc:subject/>
  <dc:title>IN58B Ingeniería de Marketing</dc:title>
</cp:coreProperties>
</file>