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A5B9-3360-46E3-AA17-972C7698C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BD61-1BE6-4030-99C4-6EE76C468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B07E-3C9D-489A-87C9-6CE4E9F0E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FB61-77BB-499F-8E58-E271B83B02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177C-9B0F-4B4F-BC10-01B1FEBC47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6FE7-BBBC-44CD-A631-DEDB61049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D92E-FE80-484D-99D2-873046600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B5B0-E9D9-4A0E-8D93-0A02EFF9A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7D56-8AAA-4F11-B4B5-33BBE73F2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0DBF-D25C-454C-A29F-97AEB6AA5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BD32-14B8-4616-955A-8D6E8C13B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5589-E1B0-44D7-8926-2F6E4F55A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2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3079-59C3-4545-9DD2-C09EF067A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6992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f5b7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4AF9-9B56-433A-8548-7B3512311B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1700280"/>
            <a:ext cx="230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852640"/>
            <a:ext cx="23032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3933720"/>
            <a:ext cx="2340000" cy="71928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DF87-9888-4944-8FB4-453CBE4B3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98900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7564-9AAB-4DCC-ACFA-5BC8914B4C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989000"/>
            <a:ext cx="828036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cambio Const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tán a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La información se uti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D398-EC5A-49E8-8335-5740BE2815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280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cuchan, hablan, hacen preguntas y resp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 suponen que van a durar por siempre. Las relaciones cortas suelen ser intere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04AA-6FC0-425C-9D9A-6E77F5DF63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E020-4CBC-4105-814A-039453D973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DC1F-F7C3-4181-8606-7EF0335EE1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3F90-7EB7-4182-9D39-DA3BC7E3DF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C4AB-D541-431A-837D-EEEC55A86F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          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AMIG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BANC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DENTISTA</a:t>
            </a:r>
            <a:endParaRPr b="1" lang="en-US" sz="2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4390-5690-4C99-BCC3-E37E42C304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Introducción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s de adquisi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nseguir un nuevo cliente tiene una inversión inicial en distintas áreas del negoci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A224-8250-4E56-8674-4E50699981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Investig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Tiempo de análisi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arrollo del produc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Servicios y mantenimien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362C-44EB-45BF-BC76-398A6F3895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cuentos y muestr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istribu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munic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Equipo de vent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5DFF-D261-4321-AC4A-B00A9F5750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 de adquirir un cliente en EE.UU (BCG)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7 vtas x catálog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31 locales comercial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80 on lin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3282-3BBA-4F83-BDD3-3CC242190D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f5b7"/>
                </a:solidFill>
                <a:latin typeface="Verdana"/>
              </a:rPr>
              <a:t>LEALTAD</a:t>
            </a:r>
            <a:r>
              <a:rPr b="0" lang="en-US" sz="28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efinición de lealtad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…”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tendencia de volver a comprar el mismo producto o acudir a un mismo proveedo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ercia NO =&gt; LEAL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B4D1-E679-4D83-BAB2-59578F3209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xplicación de iner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no ha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flojera del compr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tc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Problemas con estos cliente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F35F-245F-4CA6-B017-94057F341A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210B-7EAA-42E8-ACFF-BB7F843019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Gonzalo</cp:lastModifiedBy>
  <dcterms:modified xsi:type="dcterms:W3CDTF">2004-09-28T04:52:58Z</dcterms:modified>
  <cp:revision>399</cp:revision>
  <dc:subject/>
  <dc:title>IN58B Ingeniería de Marketing</dc:title>
</cp:coreProperties>
</file>