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F5B5C-D3B2-44A0-A83D-BBB24E645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4E4E-70DB-4FD8-B808-BC18F73B7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4B5EE-9507-45F3-AB51-48AFDD38D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F9C79-86AF-42FB-A4F1-F3BB8B42E0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D7C2-E796-45BB-9EE9-58DB8405D1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9B28-4CFF-4F26-872C-9306B14E4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6300-27F5-44B9-9334-34202C767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2A733-6D8E-4EC8-9B33-BC2FB227D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C26E3-C3D6-405D-BD8D-A0EE9BFCE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8923-23BA-4D35-8866-D4E0DEEAF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94B96-304D-4FA6-8AE9-068BA390A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DD8CD-3D90-4B57-8A5D-8884224A5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522 Gestión de 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693E-40A5-4EAC-99E8-E9F7C9C64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440" y="286992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cf5b7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Relaciones personale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981080"/>
          <a:ext cx="8763120" cy="4114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482920"/>
                <a:gridCol w="1898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i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oc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uperfi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al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Apasion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Neutr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etitiv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a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lementar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Desigu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Trabaj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Multifuncion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o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843280" y="6381720"/>
            <a:ext cx="5616360" cy="216000"/>
          </a:xfrm>
          <a:prstGeom prst="leftRightArrow">
            <a:avLst>
              <a:gd name="adj1" fmla="val 50000"/>
              <a:gd name="adj2" fmla="val 517626"/>
            </a:avLst>
          </a:prstGeom>
          <a:solidFill>
            <a:srgbClr val="dcf5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D9917-ACEB-407C-8E54-EDB30F9AF3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Relaciones personale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981080"/>
          <a:ext cx="8763120" cy="4114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482920"/>
                <a:gridCol w="1898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i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oc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uperfi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al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Apasion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Neutr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etitiv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a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lementar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Desigu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Trabaj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Multifuncion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o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2843280" y="6381720"/>
            <a:ext cx="5616360" cy="216000"/>
          </a:xfrm>
          <a:prstGeom prst="leftRightArrow">
            <a:avLst>
              <a:gd name="adj1" fmla="val 50000"/>
              <a:gd name="adj2" fmla="val 517626"/>
            </a:avLst>
          </a:prstGeom>
          <a:solidFill>
            <a:srgbClr val="dcf5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1700280"/>
            <a:ext cx="2303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2852640"/>
            <a:ext cx="23032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3933720"/>
            <a:ext cx="2340000" cy="71928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3193-A2E7-4173-A24F-13D641B757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989000"/>
            <a:ext cx="828036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ÉS MUTU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E4886-7030-4FA8-A042-797446FF69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989000"/>
            <a:ext cx="828036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cambio Consta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Ambas partes están a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La información se uti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AC2A-E46A-4D38-82F4-8D7F6C47D9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989000"/>
            <a:ext cx="82803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mbas partes escuchan, hablan, hacen preguntas y resp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 suponen que van a durar por siempre. Las relaciones cortas suelen ser interes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ÉS MUTU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61E57-5B98-4CAB-A63C-06DA905AF3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989000"/>
            <a:ext cx="82803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CEFF4-DC13-4734-AF0F-F64B7149F2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1989000"/>
            <a:ext cx="82803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cumple sus prom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- Ojo con las campañas publicitaria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2)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r en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Manejo de la información (B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3) 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recuerda mis nece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(Confío en empresas que me envían cartas ofreciendo productos que ya utiliz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1BFD-7205-469E-9207-DD9EFAEF5F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989000"/>
            <a:ext cx="828036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4) 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acilidad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5) 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star ahí cuando más se necesita (como los amigo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6)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Un buen proveedor orienta a sus clientes en qué comprar, cómo emplearlo, cuánto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0E64B-84B8-4058-94A5-08F0947377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989000"/>
            <a:ext cx="828036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7) 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os clientes suelen estar conscientes de su importa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lo está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l cliente compara su atención con la que reciben los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8) 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ntirse cómodo y cercano con la em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B9783-8066-4CAD-96AE-D1D1D157C1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989000"/>
            <a:ext cx="82803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          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AMIGO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BANCO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DENTISTA</a:t>
            </a:r>
            <a:endParaRPr b="1" lang="en-US" sz="2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1341360"/>
            <a:ext cx="0" cy="475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1341360"/>
            <a:ext cx="0" cy="475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6D3D-5839-4914-BA5C-63C7DCAC4A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Introducción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stos de adquisi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onseguir un nuevo cliente tiene una inversión inicial en distintas áreas del negoci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AFD8-A9FE-4F3B-AA8B-70282F4A40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Investiga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Tiempo de análisi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esarrollo del producto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Servicios y mantenimiento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40E70-C625-42D9-903B-1664E4476B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escuentos y muestra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istribu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munica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Equipo de venta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BCE0-2625-47C6-9D72-0D4A0A00F1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sto de adquirir un cliente en EE.UU (BCG)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7 vtas x catálog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31 locales comerciales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80 on line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694E-7CC0-4DA2-86DF-5545EEDDD9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2895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cf5b7"/>
                </a:solidFill>
                <a:latin typeface="Verdana"/>
              </a:rPr>
              <a:t>LEALTAD</a:t>
            </a:r>
            <a:r>
              <a:rPr b="0" lang="en-US" sz="2800" spc="-1" strike="noStrike">
                <a:solidFill>
                  <a:srgbClr val="dcf5b7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89000"/>
            <a:ext cx="828036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efinición de lealtad…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…”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tendencia de volver a comprar el mismo producto o acudir a un mismo proveedo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ercia NO =&gt; LEALT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9F681-9DEA-434E-B3D4-5B4F2FD006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989000"/>
            <a:ext cx="828036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Explicación de inerc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no hay compe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flojera del compra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etc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Problemas con estos cliente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99CE-F007-494E-89FB-9CCCA2BBE8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989000"/>
            <a:ext cx="8280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La LEALTAD es un vínculo emo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uerza afectiva basada en el respeto y la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s planes como puntos, regalos etc. No generan lealtad por sí s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No es malo crear hábito! Es el primer paso pero (again) no crean lealtad por si so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56EB-822E-49D1-9423-0B1F7A5495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Gonzalo</cp:lastModifiedBy>
  <dcterms:modified xsi:type="dcterms:W3CDTF">2004-09-28T04:52:58Z</dcterms:modified>
  <cp:revision>399</cp:revision>
  <dc:subject/>
  <dc:title>IN58B Ingeniería de Marketing</dc:title>
</cp:coreProperties>
</file>