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F920-6877-41AB-8A24-7AA05FCFC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4DED-7447-440A-B6A0-B8A85A7BD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9687-A998-4516-9503-3ECD25E4A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EDFA-4192-4670-BF71-B0952D7AF2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B257-0D43-4201-B5DA-F21FAB3D0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8869-DC20-49C2-BF54-CF5B08FB0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D5A9-70D4-4327-AB11-7D4B88A0D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2AE9-E173-4766-A4D0-15B28D8C9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6013-D16D-4F2C-9AE9-694968B75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FDCA-E1B9-4E92-ACC4-9E28BF66E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C53E-A3D5-4CFA-BB79-087D59CCA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37BD-8872-4C22-A166-805E7FB8E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2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CB33-F438-4BBC-ADAF-D3F07FEB7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2F69-52A4-4AC2-955E-B10D835622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802B-C8FE-4AD4-834B-6CB32136B5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B92B-481F-4D34-8F48-33047F129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84D4-E8B6-44B9-BF81-DC74C56E02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0C42-0B67-4D32-961A-E488EEF4B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CC1B-FD1D-4DC0-9003-7129011CD7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421E-E85E-4152-BFF1-215FFEB7ED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173C-DE38-4F8E-879E-86DF6C9B4E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4361-F755-4151-A007-91127069C3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EF40-9C34-477A-9589-5AE9BC7B12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DC31-FDE1-48B1-9806-71157132C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C539-7F32-4B1C-9EC1-66822715F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BDF5-5CF7-4A3F-83F4-FDAECAA895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0F5B-51F0-4AF9-9D38-F37B0E21B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563F-04E4-4B87-8329-930CDC743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D27D-6621-498C-8AC1-BD96420DA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95D5-DF9C-41A1-A73B-9305FEBF4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Gonzalo</cp:lastModifiedBy>
  <dcterms:modified xsi:type="dcterms:W3CDTF">2004-09-28T04:52:58Z</dcterms:modified>
  <cp:revision>399</cp:revision>
  <dc:subject/>
  <dc:title>IN58B Ingeniería de Marketing</dc:title>
</cp:coreProperties>
</file>