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24BC-F3FF-40E5-B5BB-0309FB79D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F92C-C2C1-42BA-9867-3BD6624BB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9C55-927D-4DAF-AC6F-7E682295F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9971-C8B8-43A9-9B04-CD1558288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AA04-BB63-484A-87A7-13A24339D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1382-54FA-4B17-94C3-54809AC42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7862-AF3C-45A7-ADDE-0814F7943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FD0B-E536-4E41-87A6-3CC44A4C9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3C15-98FD-4A50-84D1-CAA803E8C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50B4-196D-468B-95A8-412661132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F12C-347C-43D8-A209-55CED423A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588C-22D5-4A5A-9779-82E92FC06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BD5-6F1A-4772-8722-D571A44F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60093"/>
                </a:solidFill>
                <a:latin typeface="Verdana"/>
              </a:rPr>
              <a:t>LTV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Modelo de Cadena de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2362320"/>
            <a:ext cx="807732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a empresa “J-avon” está tratando de captar a la Sra. Juan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logra la contribución neta será $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una compra por perío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uponemos que hay migración puede que la señora juanita no compre en varios períodos y después si lo h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Sra. Juanita tiene probabilidad de compra se gasta $M en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ree que la posibilidad de compra (P)  sólo depende de la última vez que lo hizo (recency)...si compró en el periodo anterior R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asume que si R=5 la S. J. Ya no volverá a comp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EA42-1C41-4B05-891E-8668C6182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l modelo Cadena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27000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3357720"/>
            <a:ext cx="115272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0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7072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7" idx="2"/>
          </p:cNvCxnSpPr>
          <p:nvPr/>
        </p:nvCxnSpPr>
        <p:spPr>
          <a:xfrm rot="5400000">
            <a:off x="250200" y="3337560"/>
            <a:ext cx="595800" cy="595800"/>
          </a:xfrm>
          <a:prstGeom prst="curvedConnector5">
            <a:avLst>
              <a:gd name="adj1" fmla="val -35187"/>
              <a:gd name="adj2" fmla="val 67593"/>
              <a:gd name="adj3" fmla="val -3518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68" idx="1"/>
          </p:cNvCxnSpPr>
          <p:nvPr/>
        </p:nvCxnSpPr>
        <p:spPr>
          <a:xfrm flipH="1" rot="16200000">
            <a:off x="17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7"/>
            <a:endCxn id="69" idx="1"/>
          </p:cNvCxnSpPr>
          <p:nvPr/>
        </p:nvCxnSpPr>
        <p:spPr>
          <a:xfrm flipH="1" rot="16200000">
            <a:off x="35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7"/>
            <a:endCxn id="70" idx="1"/>
          </p:cNvCxnSpPr>
          <p:nvPr/>
        </p:nvCxnSpPr>
        <p:spPr>
          <a:xfrm flipH="1" rot="16200000">
            <a:off x="534600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7"/>
            <a:endCxn id="71" idx="1"/>
          </p:cNvCxnSpPr>
          <p:nvPr/>
        </p:nvCxnSpPr>
        <p:spPr>
          <a:xfrm flipH="1" rot="16200000">
            <a:off x="7182000" y="2979360"/>
            <a:ext cx="2160" cy="1056240"/>
          </a:xfrm>
          <a:prstGeom prst="curvedConnector5">
            <a:avLst>
              <a:gd name="adj1" fmla="val -23800000"/>
              <a:gd name="adj2" fmla="val 49982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0"/>
            <a:endCxn id="71" idx="4"/>
          </p:cNvCxnSpPr>
          <p:nvPr/>
        </p:nvCxnSpPr>
        <p:spPr>
          <a:xfrm flipH="1" rot="16200000">
            <a:off x="7524360" y="3931200"/>
            <a:ext cx="1189800" cy="2520"/>
          </a:xfrm>
          <a:prstGeom prst="curvedConnector5">
            <a:avLst>
              <a:gd name="adj1" fmla="val -17615"/>
              <a:gd name="adj2" fmla="val 25350000"/>
              <a:gd name="adj3" fmla="val -1761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8" idx="4"/>
            <a:endCxn id="67" idx="4"/>
          </p:cNvCxnSpPr>
          <p:nvPr/>
        </p:nvCxnSpPr>
        <p:spPr>
          <a:xfrm rot="5400000">
            <a:off x="1744560" y="3628080"/>
            <a:ext cx="2160" cy="1801080"/>
          </a:xfrm>
          <a:prstGeom prst="curvedConnector5">
            <a:avLst>
              <a:gd name="adj1" fmla="val 13200000"/>
              <a:gd name="adj2" fmla="val 50000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4"/>
            <a:endCxn id="67" idx="4"/>
          </p:cNvCxnSpPr>
          <p:nvPr/>
        </p:nvCxnSpPr>
        <p:spPr>
          <a:xfrm rot="5400000">
            <a:off x="2644920" y="2728080"/>
            <a:ext cx="2160" cy="3601440"/>
          </a:xfrm>
          <a:prstGeom prst="curvedConnector5">
            <a:avLst>
              <a:gd name="adj1" fmla="val 54900000"/>
              <a:gd name="adj2" fmla="val 49995"/>
              <a:gd name="adj3" fmla="val 549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0" idx="4"/>
            <a:endCxn id="67" idx="4"/>
          </p:cNvCxnSpPr>
          <p:nvPr/>
        </p:nvCxnSpPr>
        <p:spPr>
          <a:xfrm rot="5400000">
            <a:off x="3544920" y="1828080"/>
            <a:ext cx="2160" cy="5401440"/>
          </a:xfrm>
          <a:prstGeom prst="curvedConnector5">
            <a:avLst>
              <a:gd name="adj1" fmla="val 119300000"/>
              <a:gd name="adj2" fmla="val 49996"/>
              <a:gd name="adj3" fmla="val 119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50920" y="2781360"/>
            <a:ext cx="8893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65720"/>
            <a:ext cx="856908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42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2BDF-9AFB-48AB-9D49-53669BB1D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0.00023 L 2.77778E-007 3.23699E-006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triz de Transición P (paso 1).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600"/>
            </a:br>
            <a:endParaRPr b="1" lang="en-US" sz="18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62040" y="2646360"/>
                <a:ext cx="609624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0DBA-0D28-4547-B812-DD0359083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atriz de transición paso–t está definida como la matriz de probabilidades de moverse de un estado a otro en exactamente t período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l elemento (i, j) de la matriz de transición paso–t corresponde a la probabilidad de la Señora Juanita de tener recency=j despues de de t periodos dado que empezó en 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las propiedades de las Cadenas de Markov es conocido que la matriz de transición del paso–t es exactamente la matriz producto de t matrices de paso 1.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19280" y="3573360"/>
                <a:ext cx="609588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B228-EF89-4F84-A3FB-5B0ABCEDF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lujos de caja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916280"/>
                <a:ext cx="334152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C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2997360"/>
            <a:ext cx="374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flujos serán función del recency de la Señora Jua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EF4F-77BC-47CB-BC2D-6C63C879C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Valor presente esperad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9640" y="1916280"/>
                <a:ext cx="399888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148360" y="2852640"/>
            <a:ext cx="384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 supone que J-avon es neutro al riesgo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1115-1A58-4C1F-8253-BCCDD33BF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35080" y="1916280"/>
                <a:ext cx="243828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upongamos que: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C=40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078F-346E-4FCB-BBF0-3F51ADC61F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09800" y="2179800"/>
                <a:ext cx="618624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91F1-8EA1-43AC-A6B1-7AF34779CB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7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67F5-915D-4A45-A841-40832A1D46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1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4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88E4-64C7-43A2-A73C-32266490CC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S  DE LTV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adquisició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Manejo de presupuestos para medios, tipos de promociones, etc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Apoyo a decisione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CC60-7BC5-45D1-AFF5-72492E843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9800" y="2203560"/>
                <a:ext cx="752292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6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2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6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6FC2-B3AE-4E1E-98DF-1EE124226A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3B73-B26D-44CA-9D32-BF0811A131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149720"/>
            <a:ext cx="230328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4066920" y="4508280"/>
            <a:ext cx="1873800" cy="43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12000" y="4797360"/>
            <a:ext cx="266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?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757B-0027-4F36-9CC5-E9878D9ED9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26D3-CFA2-46F0-97F6-6BC947A9F5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5084640"/>
            <a:ext cx="23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pasa si no invierto en R=4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endCxn id="125" idx="0"/>
          </p:cNvCxnSpPr>
          <p:nvPr/>
        </p:nvCxnSpPr>
        <p:spPr>
          <a:xfrm>
            <a:off x="3780000" y="4508280"/>
            <a:ext cx="101664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219640" y="4797360"/>
            <a:ext cx="3168720" cy="1511280"/>
          </a:xfrm>
          <a:prstGeom prst="cloudCallout">
            <a:avLst>
              <a:gd name="adj1" fmla="val -62777"/>
              <a:gd name="adj2" fmla="val -5903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B527-C919-4C88-BB03-22F564D651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292720" y="198900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uevo mode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860640"/>
            <a:ext cx="331164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ta con hacer p4=0 y el cuarto elemento de R igual 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>
            <a:off x="3780000" y="3428280"/>
            <a:ext cx="576360" cy="101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932360" y="1989000"/>
            <a:ext cx="3168720" cy="1511280"/>
          </a:xfrm>
          <a:prstGeom prst="cloudCallout">
            <a:avLst>
              <a:gd name="adj1" fmla="val -65731"/>
              <a:gd name="adj2" fmla="val 4495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89FE-FFD4-47A0-8262-4D7143516D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9480" y="2558880"/>
                <a:ext cx="240804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527A-8435-457D-8083-45C1E0E5D1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73360"/>
            <a:ext cx="777708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os flujos y los gastos de recapturar a la Señora Juanita dependen de cuando fue la última vez que compr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también que las probabilidades de compra varían con rec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20DD-1A7E-4681-A356-5A4EC6376B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ando 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2360" y="2932200"/>
                <a:ext cx="6757920" cy="29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</m:mr>
                    </m:m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03280" y="2133720"/>
                <a:ext cx="684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E6F1-01DC-48FF-8CA2-5F356A50B7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3:Customer Retention 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2040" y="3056040"/>
                <a:ext cx="609624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DFAE-5888-4EB8-A933-38426F33FC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Margen generado por e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98760" y="1066680"/>
                <a:ext cx="502596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F944-3BEA-4365-958A-B64C544D7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4…Incluir Prospecto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2565360"/>
                <a:ext cx="712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43E6-505B-48FA-B540-ABFFC83A6E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4…Ingresos Esperados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62040" y="2205000"/>
                <a:ext cx="609624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spec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orme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366A-4C05-41E2-8403-96926BAB7E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5: considerar frecuencia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26920" y="2389320"/>
                <a:ext cx="710568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/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F7AF-5BFB-4926-A26A-AD148E93BA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1"/>
            <a:endCxn id="149" idx="5"/>
          </p:cNvCxnSpPr>
          <p:nvPr/>
        </p:nvCxnSpPr>
        <p:spPr>
          <a:xfrm flipH="1" flipV="1">
            <a:off x="2283840" y="2299680"/>
            <a:ext cx="169596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3" idx="0"/>
            <a:endCxn id="150" idx="4"/>
          </p:cNvCxnSpPr>
          <p:nvPr/>
        </p:nvCxnSpPr>
        <p:spPr>
          <a:xfrm flipV="1">
            <a:off x="4463640" y="2511000"/>
            <a:ext cx="1080" cy="11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7"/>
            <a:endCxn id="151" idx="3"/>
          </p:cNvCxnSpPr>
          <p:nvPr/>
        </p:nvCxnSpPr>
        <p:spPr>
          <a:xfrm flipV="1">
            <a:off x="4947840" y="2299680"/>
            <a:ext cx="162468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3"/>
          </p:cNvCxnSpPr>
          <p:nvPr/>
        </p:nvCxnSpPr>
        <p:spPr>
          <a:xfrm flipH="1" flipV="1" rot="5400000">
            <a:off x="2784240" y="3979440"/>
            <a:ext cx="212040" cy="2180160"/>
          </a:xfrm>
          <a:prstGeom prst="curvedConnector5">
            <a:avLst>
              <a:gd name="adj1" fmla="val -99149"/>
              <a:gd name="adj2" fmla="val 49991"/>
              <a:gd name="adj3" fmla="val -991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4"/>
            <a:endCxn id="154" idx="4"/>
          </p:cNvCxnSpPr>
          <p:nvPr/>
        </p:nvCxnSpPr>
        <p:spPr>
          <a:xfrm flipH="1" rot="16200000">
            <a:off x="5758200" y="3879720"/>
            <a:ext cx="2160" cy="2592720"/>
          </a:xfrm>
          <a:prstGeom prst="curvedConnector5">
            <a:avLst>
              <a:gd name="adj1" fmla="val 13200000"/>
              <a:gd name="adj2" fmla="val 49993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79280" y="836640"/>
            <a:ext cx="8353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-1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(1,f+1,m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r-1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(r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(r+1,f,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3728-7269-4625-990D-9302EAAF19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Una no respuesta de un cliente..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=&gt;Fin de la rel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retentio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NO =&gt; Fin de la relación </a:t>
            </a:r>
            <a:r>
              <a:rPr b="1" lang="es-ES" sz="1600" spc="-1" strike="noStrike">
                <a:solidFill>
                  <a:srgbClr val="4d4d4d"/>
                </a:solidFill>
                <a:latin typeface="Verdana"/>
              </a:rPr>
              <a:t>(el cliente puede volver)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9318-728C-4B24-A023-82D98A695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Horizonte: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In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Foco en clientes actuales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 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  Considerar prospectos </a:t>
            </a:r>
            <a:r>
              <a:rPr b="1" lang="es-ES" sz="20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28AD-51F0-4F19-AB75-2BE1F15013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Verdana"/>
              </a:rPr>
              <a:t>Modelando las relaciones con los clientes con Cadenas de Markov</a:t>
            </a:r>
            <a:r>
              <a:rPr b="0" lang="es-MX" sz="40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 de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Flexibilidad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Reten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ospect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Uso de probabilidad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ores esperado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407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9117-E5C9-435B-834F-02062BD3D5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...</a:t>
            </a: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mbio de términos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(Pfeifer-Carraway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Grupos/paneles=&gt;Sra. Juanit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Tasa de retención=&gt;prob. De mantenerse como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greso esperad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4411-0E6D-45B8-8169-4FD65ACC8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Uso para mejorar la relación con el consumidor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Asociable a RFM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4318-DA46-45C7-AE90-F36F1CCFB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9-21T15:22:59Z</dcterms:modified>
  <cp:revision>387</cp:revision>
  <dc:subject/>
  <dc:title>IN58B Ingeniería de Marketing</dc:title>
</cp:coreProperties>
</file>