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C1B8D-FCA5-4B8F-8641-EB3363D8B0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A979A-2C1C-4E68-A67F-CDAB479C25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888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A4036-9AA0-4B65-BBE4-18559FBDEC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14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542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14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542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1A78D-E71E-4638-9EFB-C939597F82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EA3F7-591B-4E42-8232-5E93B47E62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D978E-91D9-46E3-BC6D-1CEE0C841E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C5C33-1DC1-42A8-8E6B-2460A9D1F6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34810-5F66-43F2-9FA2-DEC6421BD5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52D84-8FA0-4276-9EFC-C711D36A21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03F08-075D-4F56-8017-E6E0B01277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888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B1BE6-19F8-4B50-8532-8F82198089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84226-E710-405D-BFF9-A1C2A21F81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1" marL="631440" indent="-24264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2" marL="971280" indent="-19404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3" marL="1360080" indent="-19404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4" marL="1748520" indent="-19404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5" marL="1748520" indent="-194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6" marL="1748520" indent="-194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28240" y="6400440"/>
            <a:ext cx="5791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N552 Gestión de Cli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B9B54-FEB2-4C28-846D-AA036D0CF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IN552 – Gestión del Cliente</a:t>
            </a:r>
            <a:endParaRPr b="1" lang="en-US" sz="32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5440" y="28954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d60093"/>
                </a:solidFill>
                <a:latin typeface="Verdana"/>
              </a:rPr>
              <a:t>LTV</a:t>
            </a:r>
            <a:endParaRPr b="1" lang="en-US" sz="4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304920"/>
            <a:ext cx="5105520" cy="838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cultad de Ciencias Físicas y Matemá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952880" y="5638680"/>
            <a:ext cx="3733920" cy="838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Profesor: William Young Hans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Semestre Primavera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Verdana"/>
              </a:rPr>
              <a:t>Modelo de Cadena de Markov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819000" y="1085760"/>
          <a:ext cx="192420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9000" y="1085760"/>
                    <a:ext cx="19242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457200" y="2362320"/>
            <a:ext cx="8077320" cy="48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upongamos que la empresa “J-avon” está tratando de captar a la Sra. Juani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i lo logra la contribución neta será $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upongamos una compra por perío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i suponemos que hay migración puede que la señora juanita no compre en varios períodos y después si lo ha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i la Sra. Juanita tiene probabilidad de compra se gasta $M en man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e cree que la posibilidad de compra (P)  sólo depende de la última vez que lo hizo (recency)...si compró en el periodo anterior R=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e asume que si R=5 la S. J. Ya no volverá a compr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03185-C651-4B93-973E-4E2797EB578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El modelo Cadena Markov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67" name=""/>
          <p:cNvSpPr/>
          <p:nvPr/>
        </p:nvSpPr>
        <p:spPr>
          <a:xfrm>
            <a:off x="270000" y="3357720"/>
            <a:ext cx="1152360" cy="1150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70000" y="3357720"/>
            <a:ext cx="1152720" cy="1150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70360" y="3357720"/>
            <a:ext cx="1152360" cy="1150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670720" y="3357720"/>
            <a:ext cx="1152360" cy="1150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542360" y="3357720"/>
            <a:ext cx="1152360" cy="1150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67" idx="0"/>
            <a:endCxn id="67" idx="2"/>
          </p:cNvCxnSpPr>
          <p:nvPr/>
        </p:nvCxnSpPr>
        <p:spPr>
          <a:xfrm rot="5400000">
            <a:off x="250200" y="3337560"/>
            <a:ext cx="595800" cy="595800"/>
          </a:xfrm>
          <a:prstGeom prst="curvedConnector5">
            <a:avLst>
              <a:gd name="adj1" fmla="val -35187"/>
              <a:gd name="adj2" fmla="val 67593"/>
              <a:gd name="adj3" fmla="val -35187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7" idx="7"/>
            <a:endCxn id="68" idx="1"/>
          </p:cNvCxnSpPr>
          <p:nvPr/>
        </p:nvCxnSpPr>
        <p:spPr>
          <a:xfrm flipH="1" rot="16200000">
            <a:off x="1745640" y="3015000"/>
            <a:ext cx="2160" cy="984960"/>
          </a:xfrm>
          <a:prstGeom prst="curvedConnector5">
            <a:avLst>
              <a:gd name="adj1" fmla="val -23800000"/>
              <a:gd name="adj2" fmla="val 49981"/>
              <a:gd name="adj3" fmla="val -238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8" idx="7"/>
            <a:endCxn id="69" idx="1"/>
          </p:cNvCxnSpPr>
          <p:nvPr/>
        </p:nvCxnSpPr>
        <p:spPr>
          <a:xfrm flipH="1" rot="16200000">
            <a:off x="3545640" y="3015000"/>
            <a:ext cx="2160" cy="984960"/>
          </a:xfrm>
          <a:prstGeom prst="curvedConnector5">
            <a:avLst>
              <a:gd name="adj1" fmla="val -23800000"/>
              <a:gd name="adj2" fmla="val 49981"/>
              <a:gd name="adj3" fmla="val -238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9" idx="7"/>
            <a:endCxn id="70" idx="1"/>
          </p:cNvCxnSpPr>
          <p:nvPr/>
        </p:nvCxnSpPr>
        <p:spPr>
          <a:xfrm flipH="1" rot="16200000">
            <a:off x="5346000" y="3015000"/>
            <a:ext cx="2160" cy="984960"/>
          </a:xfrm>
          <a:prstGeom prst="curvedConnector5">
            <a:avLst>
              <a:gd name="adj1" fmla="val -23800000"/>
              <a:gd name="adj2" fmla="val 49981"/>
              <a:gd name="adj3" fmla="val -238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70" idx="7"/>
            <a:endCxn id="71" idx="1"/>
          </p:cNvCxnSpPr>
          <p:nvPr/>
        </p:nvCxnSpPr>
        <p:spPr>
          <a:xfrm flipH="1" rot="16200000">
            <a:off x="7182000" y="2979360"/>
            <a:ext cx="2160" cy="1056240"/>
          </a:xfrm>
          <a:prstGeom prst="curvedConnector5">
            <a:avLst>
              <a:gd name="adj1" fmla="val -23800000"/>
              <a:gd name="adj2" fmla="val 49982"/>
              <a:gd name="adj3" fmla="val -238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71" idx="0"/>
            <a:endCxn id="71" idx="4"/>
          </p:cNvCxnSpPr>
          <p:nvPr/>
        </p:nvCxnSpPr>
        <p:spPr>
          <a:xfrm flipH="1" rot="16200000">
            <a:off x="7524360" y="3931200"/>
            <a:ext cx="1189800" cy="2520"/>
          </a:xfrm>
          <a:prstGeom prst="curvedConnector5">
            <a:avLst>
              <a:gd name="adj1" fmla="val -17615"/>
              <a:gd name="adj2" fmla="val 25350000"/>
              <a:gd name="adj3" fmla="val -1761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68" idx="4"/>
            <a:endCxn id="67" idx="4"/>
          </p:cNvCxnSpPr>
          <p:nvPr/>
        </p:nvCxnSpPr>
        <p:spPr>
          <a:xfrm rot="5400000">
            <a:off x="1744560" y="3628080"/>
            <a:ext cx="2160" cy="1801080"/>
          </a:xfrm>
          <a:prstGeom prst="curvedConnector5">
            <a:avLst>
              <a:gd name="adj1" fmla="val 13200000"/>
              <a:gd name="adj2" fmla="val 50000"/>
              <a:gd name="adj3" fmla="val 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9" idx="4"/>
            <a:endCxn id="67" idx="4"/>
          </p:cNvCxnSpPr>
          <p:nvPr/>
        </p:nvCxnSpPr>
        <p:spPr>
          <a:xfrm rot="5400000">
            <a:off x="2644920" y="2728080"/>
            <a:ext cx="2160" cy="3601440"/>
          </a:xfrm>
          <a:prstGeom prst="curvedConnector5">
            <a:avLst>
              <a:gd name="adj1" fmla="val 54900000"/>
              <a:gd name="adj2" fmla="val 49995"/>
              <a:gd name="adj3" fmla="val 549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70" idx="4"/>
            <a:endCxn id="67" idx="4"/>
          </p:cNvCxnSpPr>
          <p:nvPr/>
        </p:nvCxnSpPr>
        <p:spPr>
          <a:xfrm rot="5400000">
            <a:off x="3544920" y="1828080"/>
            <a:ext cx="2160" cy="5401440"/>
          </a:xfrm>
          <a:prstGeom prst="curvedConnector5">
            <a:avLst>
              <a:gd name="adj1" fmla="val 119300000"/>
              <a:gd name="adj2" fmla="val 49996"/>
              <a:gd name="adj3" fmla="val 1193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250920" y="2781360"/>
            <a:ext cx="889308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1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1-p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1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1-p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2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1-p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3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1-p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4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332000" y="4365720"/>
            <a:ext cx="8569080" cy="24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2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3716280"/>
            <a:ext cx="8425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1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3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4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2211F-E63D-4C1C-9A86-90187558227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677 0.00023 L 2.77778E-007 3.23699E-006 E">
                                      <p:cBhvr>
                                        <p:cTn id="6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260280"/>
            <a:ext cx="8686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Matriz de Transición P (paso 1).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800"/>
            </a:br>
            <a:br>
              <a:rPr sz="1800"/>
            </a:br>
            <a:br>
              <a:rPr sz="1600"/>
            </a:br>
            <a:endParaRPr b="1" lang="en-US" sz="1800" spc="-1" strike="noStrike">
              <a:solidFill>
                <a:srgbClr val="d60093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562040" y="2646360"/>
                <a:ext cx="6096240" cy="278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94171-A6F6-4190-ABF3-ED77C171A8F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1197000"/>
            <a:ext cx="8686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La matriz de transición paso–t está definida como la matriz de probabilidades de moverse de un estado a otro en exactamente t períodos.</a:t>
            </a: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El elemento (i, j) de la matriz de transición paso–t corresponde a la probabilidad de la Señora Juanita de tener recency=j despues de de t periodos dado que empezó en i</a:t>
            </a: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e las propiedades de las Cadenas de Markov es conocido que la matriz de transición del paso–t es exactamente la matriz producto de t matrices de paso 1.</a:t>
            </a: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600"/>
            </a:br>
            <a:endParaRPr b="1" lang="en-US" sz="1600" spc="-1" strike="noStrike">
              <a:solidFill>
                <a:srgbClr val="d60093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619280" y="3573360"/>
                <a:ext cx="6095880" cy="278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9154D-799A-42D7-9E20-391F70E773E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Flujos de caja 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684360" y="1916280"/>
                <a:ext cx="3341520" cy="40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C</m:t>
                              </m:r>
                              <m:r>
                                <m:t xml:space="preserve">−</m:t>
                              </m:r>
                              <m:r>
                                <m:t xml:space="preserve">M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M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M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M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4284720" y="2852640"/>
            <a:ext cx="47037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76720" y="2997360"/>
            <a:ext cx="374328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Los flujos serán función del recency de la Señora Juan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1BF27-967F-4762-AD39-02DFA320667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Valor presente esperado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539640" y="1916280"/>
                <a:ext cx="3998880" cy="358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(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d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sup>
                                    </m:sSup>
                                    <m:r>
                                      <m:t xml:space="preserve">P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nary>
                        <m:r>
                          <m:t xml:space="preserve">R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</m:sSub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sSup>
                              <m:e>
                                <m:d>
                                  <m:dPr>
                                    <m:begChr m:val=""/>
                                    <m:endChr m:val="}"/>
                                  </m:dPr>
                                  <m:e>
                                    <m:r>
                                      <m:t xml:space="preserve">P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R</m:t>
                            </m:r>
                          </m:e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5148360" y="2852640"/>
            <a:ext cx="38401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Se supone que J-avon es neutro al riesgo </a:t>
            </a: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48CD7-35C3-4F1A-8AD7-9FFB74F32D9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Ejemplo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135080" y="1916280"/>
                <a:ext cx="2438280" cy="40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$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(</m:t>
                              </m:r>
                              <m:r>
                                <m:t xml:space="preserve">4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(</m:t>
                              </m:r>
                              <m:r>
                                <m:t xml:space="preserve">4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(</m:t>
                              </m:r>
                              <m:r>
                                <m:t xml:space="preserve">4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4284720" y="2852640"/>
            <a:ext cx="47037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Supongamos que:</a:t>
            </a:r>
            <a:br>
              <a:rPr sz="1800"/>
            </a:b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NC=40</a:t>
            </a:r>
            <a:br>
              <a:rPr sz="1800"/>
            </a:b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=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B6B1C-62BB-45EC-8D94-6B5F3809F1D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…</a:t>
            </a: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Ejemplo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009800" y="2179800"/>
                <a:ext cx="6186240" cy="32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8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F49D1-081B-4561-AC41-14C37CE5329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…</a:t>
            </a: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Ejemplo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009800" y="2198520"/>
                <a:ext cx="7522920" cy="273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30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10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560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80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40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80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87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5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807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15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5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50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A9562-DDD4-478E-9324-0343B66F440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…</a:t>
            </a: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Ejemplo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009800" y="2198520"/>
                <a:ext cx="7522920" cy="273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95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61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68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476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16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6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12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46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7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61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84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807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11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10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28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50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4B3E1-ED5F-4A34-82BB-325F2369909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USOS  DE LTV</a:t>
            </a: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	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Verdana"/>
              </a:rPr>
              <a:t>Presupuesto de gastos de adquisición </a:t>
            </a: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Verdana"/>
              </a:rPr>
              <a:t>Presupuesto de gastos de retención</a:t>
            </a: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Verdana"/>
              </a:rPr>
              <a:t>Manejo de presupuestos para medios, tipos de promociones, etc</a:t>
            </a: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Verdana"/>
              </a:rPr>
              <a:t>Apoyo a decisiones de retención</a:t>
            </a: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D4852-4156-4944-BE90-E5D7BB8C4EF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…</a:t>
            </a: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Ejemplo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009800" y="2203560"/>
                <a:ext cx="7522920" cy="27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397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36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88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428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4522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768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81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08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95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46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9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3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9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714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807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098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08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084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238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50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BF4EB-51E9-49C8-BA6C-DB253A13B75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...Ejemplo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135080" y="2558880"/>
                <a:ext cx="2438280" cy="27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$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5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15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4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20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592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80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4284720" y="2852640"/>
            <a:ext cx="47037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Valor presente de los flujos esperados para 4 perío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292E7-1D82-40B7-B8E7-9EBF1C0FC80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...Ejemplo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135080" y="2558880"/>
                <a:ext cx="2438280" cy="27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$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5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15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4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20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592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80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4284720" y="2852640"/>
            <a:ext cx="47037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Valor presente de los flujos esperados para 4 perío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92360" y="4149720"/>
            <a:ext cx="2303280" cy="647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/>
          <p:nvPr/>
        </p:nvCxnSpPr>
        <p:spPr>
          <a:xfrm>
            <a:off x="4066920" y="4508280"/>
            <a:ext cx="1873800" cy="433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6012000" y="4797360"/>
            <a:ext cx="26636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???????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43640" y="4149720"/>
            <a:ext cx="144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8EB16-0E0E-47D8-BDB0-2E5F1F8E66D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…</a:t>
            </a: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Ejemplo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135080" y="2558880"/>
                <a:ext cx="2438280" cy="27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$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5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20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5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554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51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820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4284720" y="2852640"/>
            <a:ext cx="47037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Horizonte infin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EE1E7-BEB7-455A-9AE3-0AC2240C015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…</a:t>
            </a: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Ejemplo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135080" y="2558880"/>
                <a:ext cx="2438280" cy="27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$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5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20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5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554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51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820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4284720" y="2852640"/>
            <a:ext cx="47037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Horizonte infin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63640" y="4221000"/>
            <a:ext cx="2016360" cy="503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580000" y="5084640"/>
            <a:ext cx="23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Qué pasa si no invierto en R=4?????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"/>
          <p:cNvCxnSpPr>
            <a:endCxn id="125" idx="0"/>
          </p:cNvCxnSpPr>
          <p:nvPr/>
        </p:nvCxnSpPr>
        <p:spPr>
          <a:xfrm>
            <a:off x="3780000" y="4508280"/>
            <a:ext cx="1016640" cy="153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5219640" y="4797360"/>
            <a:ext cx="3168720" cy="1511280"/>
          </a:xfrm>
          <a:prstGeom prst="cloudCallout">
            <a:avLst>
              <a:gd name="adj1" fmla="val -62777"/>
              <a:gd name="adj2" fmla="val -59032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F40BA-0A1D-4F18-9B44-D6648A7780C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…</a:t>
            </a: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Ejemplo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135080" y="2558880"/>
                <a:ext cx="2438280" cy="27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$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5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20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5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554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51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820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5292720" y="1989000"/>
            <a:ext cx="47037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Nuevo model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63640" y="4221000"/>
            <a:ext cx="2016360" cy="503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076720" y="3860640"/>
            <a:ext cx="3311640" cy="12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Res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Basta con hacer p4=0 y el cuarto elemento de R igual a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/>
          <p:nvPr/>
        </p:nvCxnSpPr>
        <p:spPr>
          <a:xfrm flipV="1">
            <a:off x="3780000" y="3428280"/>
            <a:ext cx="576360" cy="1018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4932360" y="1989000"/>
            <a:ext cx="3168720" cy="1511280"/>
          </a:xfrm>
          <a:prstGeom prst="cloudCallout">
            <a:avLst>
              <a:gd name="adj1" fmla="val -65731"/>
              <a:gd name="adj2" fmla="val 44958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EB7EB-89C5-4492-BEC2-13E56065781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…</a:t>
            </a: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Ejemplo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149480" y="2558880"/>
                <a:ext cx="2408040" cy="27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$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53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49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6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21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44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4284720" y="2852640"/>
            <a:ext cx="47037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CDA55-D38D-4B78-9E09-4BA6641C01C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Caso 2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1042920" y="1773360"/>
            <a:ext cx="777708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Supongamos que los flujos y los gastos de recapturar a la Señora Juanita dependen de cuando fue la última vez que compr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Supongamos también que las probabilidades de compra varían con rec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EB964-5F77-497D-B4E9-4F80A9B768C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Modelando Caso 2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692360" y="2932200"/>
                <a:ext cx="6757920" cy="29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1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1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1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1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</m:e>
                      </m:mr>
                      <m:mr>
                        <m:e>
                          <m:r>
                            <m:t xml:space="preserve">2</m:t>
                          </m:r>
                        </m:e>
                      </m:mr>
                      <m:mr>
                        <m:e>
                          <m:r>
                            <m:t xml:space="preserve">3</m:t>
                          </m:r>
                        </m:e>
                      </m:mr>
                      <m:mr>
                        <m:e>
                          <m:r>
                            <m:t xml:space="preserve">4</m:t>
                          </m:r>
                        </m:e>
                      </m:mr>
                      <m:mr>
                        <m:e>
                          <m:r>
                            <m:t xml:space="preserve">5</m:t>
                          </m:r>
                        </m:e>
                      </m:mr>
                    </m:m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403280" y="2133720"/>
                <a:ext cx="68407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ate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 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61F57-04DD-4A24-86EC-2800E55EE37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d60093"/>
                </a:solidFill>
                <a:latin typeface="Verdana"/>
              </a:rPr>
              <a:t>Caso 3:Customer Retention </a:t>
            </a:r>
            <a:endParaRPr b="1" lang="en-US" sz="4000" spc="-1" strike="noStrike">
              <a:solidFill>
                <a:srgbClr val="d60093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1562040" y="3056040"/>
                <a:ext cx="6096240" cy="19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eqAr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tate</m:t>
                              </m:r>
                            </m:e>
                            <m:e/>
                          </m:eqArr>
                        </m:e>
                        <m:e>
                          <m:eqArr>
                            <m:e>
                              <m:r>
                                <m:t xml:space="preserve">P</m:t>
                              </m:r>
                            </m:e>
                            <m:e/>
                          </m:eqArr>
                        </m:e>
                        <m:e>
                          <m:eqArr>
                            <m:e>
                              <m:r>
                                <m:t xml:space="preserve">R</m:t>
                              </m:r>
                            </m:e>
                            <m:e/>
                          </m:eqArr>
                        </m:e>
                      </m:mr>
                      <m:mr>
                        <m:e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ustomer</m:t>
                                </m:r>
                              </m:e>
                            </m:mr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ormer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ustomer</m:t>
                                </m:r>
                              </m:e>
                            </m:mr>
                          </m:m>
                        </m:e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r>
                                      <m:t xml:space="preserve">p</m:t>
                                    </m:r>
                                  </m:e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p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1</m:t>
                                    </m:r>
                                  </m:e>
                                </m:mr>
                              </m:m>
                            </m:e>
                          </m:d>
                        </m:e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C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N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B4B8F-5615-4D09-8958-373BC0C7E54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3276720"/>
            <a:ext cx="8305920" cy="33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 = Horizonte de Plan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Margen generado por el cliente el año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promocional dirigido al cliente el año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 = Tasa de Re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 = tasa de inte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 = Costo de Adquis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598760" y="1066680"/>
                <a:ext cx="5025960" cy="156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V</m:t>
                    </m:r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m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4977F-CA72-4CD1-B8F6-1E0078A87D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Caso 4…Incluir Prospectos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042920" y="2565360"/>
                <a:ext cx="7129440" cy="25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eqAr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tate</m:t>
                              </m:r>
                            </m:e>
                            <m:e/>
                          </m:eqArr>
                        </m:e>
                        <m:e>
                          <m:eqArr>
                            <m:e>
                              <m:r>
                                <m:t xml:space="preserve">P</m:t>
                              </m:r>
                            </m:e>
                            <m:e/>
                          </m:eqArr>
                        </m:e>
                        <m:e>
                          <m:eqArr>
                            <m:e>
                              <m:r>
                                <m:t xml:space="preserve">R</m:t>
                              </m:r>
                            </m:e>
                            <m:e/>
                          </m:eqArr>
                        </m:e>
                      </m:mr>
                      <m:mr>
                        <m:e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r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ospect</m:t>
                                </m:r>
                              </m:e>
                            </m:mr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ustomer</m:t>
                                </m:r>
                              </m:e>
                            </m:mr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ormer</m:t>
                                </m:r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ustomer</m:t>
                                </m:r>
                              </m:e>
                            </m:mr>
                          </m:m>
                        </m:e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</m:e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p</m:t>
                                    </m:r>
                                  </m:e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p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1</m:t>
                                    </m:r>
                                  </m:e>
                                </m:mr>
                              </m:m>
                            </m:e>
                          </m:d>
                        </m:e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C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M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0C7A6-AD34-48BB-BAA9-1721FF841F4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d60093"/>
                </a:solidFill>
                <a:latin typeface="Verdana"/>
              </a:rPr>
              <a:t>Caso 4…Ingresos Esperados</a:t>
            </a:r>
            <a:endParaRPr b="1" lang="en-US" sz="4000" spc="-1" strike="noStrike">
              <a:solidFill>
                <a:srgbClr val="d60093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1562040" y="2205000"/>
                <a:ext cx="6096240" cy="36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spec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d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ustomer</m:t>
                            </m:r>
                          </m:sub>
                        </m:sSub>
                      </m:e>
                      <m:e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ustome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C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p</m:t>
                                    </m:r>
                                  </m:num>
                                  <m:den>
                                    <m:r>
                                      <m:t xml:space="preserve">(</m:t>
                                    </m:r>
                                  </m:den>
                                </m:f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den>
                        </m:f>
                      </m:e>
                      <m:e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ormer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ustome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683DC-BF72-41BD-A3F4-383B2CEDF6E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d60093"/>
                </a:solidFill>
                <a:latin typeface="Verdana"/>
              </a:rPr>
              <a:t>Caso 5: considerar frecuencia</a:t>
            </a:r>
            <a:endParaRPr b="1" lang="en-US" sz="4000" spc="-1" strike="noStrike">
              <a:solidFill>
                <a:srgbClr val="d60093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826920" y="2389320"/>
                <a:ext cx="7105680" cy="27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eqAr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tate</m:t>
                              </m:r>
                            </m:e>
                            <m:e/>
                          </m:eqArr>
                        </m:e>
                        <m:e>
                          <m:eqArr>
                            <m:e>
                              <m:r>
                                <m:t xml:space="preserve">P</m:t>
                              </m:r>
                            </m:e>
                            <m:e/>
                          </m:eqArr>
                        </m:e>
                        <m:e>
                          <m:eqArr>
                            <m:e>
                              <m:r>
                                <m:t xml:space="preserve">R</m:t>
                              </m:r>
                            </m:e>
                            <m:e/>
                          </m:eqArr>
                        </m:e>
                      </m:mr>
                      <m:mr>
                        <m:e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requency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</m:e>
                            </m:mr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requency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2</m:t>
                                </m:r>
                              </m:e>
                            </m:mr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requency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3</m:t>
                                </m:r>
                              </m:e>
                            </m:mr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requency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4</m:t>
                                </m:r>
                              </m:e>
                            </m:mr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ormer</m:t>
                                </m:r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ustomer</m:t>
                                </m:r>
                              </m:e>
                            </m:mr>
                          </m:m>
                        </m:e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  <m:e/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  <m:e/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</m:e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</m:e>
                                  <m:e/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4</m:t>
                                        </m:r>
                                      </m:sub>
                                    </m:sSub>
                                  </m:e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4</m:t>
                                        </m:r>
                                      </m:sub>
                                    </m:sSub>
                                  </m:e>
                                  <m:e/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1</m:t>
                                    </m:r>
                                  </m:e>
                                  <m:e/>
                                </m:mr>
                              </m:m>
                            </m:e>
                          </m:d>
                        </m:e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NC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NC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NC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NC</m:t>
                                        </m:r>
                                      </m:e>
                                      <m:sub>
                                        <m:r>
                                          <m:t xml:space="preserve">4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4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C1694-7B85-4876-AA58-FB2248D1794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116000" y="1052640"/>
            <a:ext cx="1368360" cy="1439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80000" y="1052640"/>
            <a:ext cx="1368360" cy="1439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372360" y="1052640"/>
            <a:ext cx="1368360" cy="1439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16000" y="3716280"/>
            <a:ext cx="1368360" cy="1440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80000" y="3716280"/>
            <a:ext cx="1368360" cy="1440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372360" y="3716280"/>
            <a:ext cx="1368360" cy="1440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3" idx="1"/>
            <a:endCxn id="149" idx="5"/>
          </p:cNvCxnSpPr>
          <p:nvPr/>
        </p:nvCxnSpPr>
        <p:spPr>
          <a:xfrm flipH="1" flipV="1">
            <a:off x="2283840" y="2299680"/>
            <a:ext cx="1695960" cy="1608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3" idx="0"/>
            <a:endCxn id="150" idx="4"/>
          </p:cNvCxnSpPr>
          <p:nvPr/>
        </p:nvCxnSpPr>
        <p:spPr>
          <a:xfrm flipV="1">
            <a:off x="4463640" y="2511000"/>
            <a:ext cx="1080" cy="1186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3" idx="7"/>
            <a:endCxn id="151" idx="3"/>
          </p:cNvCxnSpPr>
          <p:nvPr/>
        </p:nvCxnSpPr>
        <p:spPr>
          <a:xfrm flipV="1">
            <a:off x="4947840" y="2299680"/>
            <a:ext cx="1624680" cy="1608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" name=""/>
          <p:cNvCxnSpPr>
            <a:stCxn id="152" idx="4"/>
            <a:endCxn id="153" idx="3"/>
          </p:cNvCxnSpPr>
          <p:nvPr/>
        </p:nvCxnSpPr>
        <p:spPr>
          <a:xfrm flipH="1" flipV="1" rot="5400000">
            <a:off x="2784240" y="3979440"/>
            <a:ext cx="212040" cy="2180160"/>
          </a:xfrm>
          <a:prstGeom prst="curvedConnector5">
            <a:avLst>
              <a:gd name="adj1" fmla="val -99149"/>
              <a:gd name="adj2" fmla="val 49991"/>
              <a:gd name="adj3" fmla="val -99149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53" idx="4"/>
            <a:endCxn id="154" idx="4"/>
          </p:cNvCxnSpPr>
          <p:nvPr/>
        </p:nvCxnSpPr>
        <p:spPr>
          <a:xfrm flipH="1" rot="16200000">
            <a:off x="5758200" y="3879720"/>
            <a:ext cx="2160" cy="2592720"/>
          </a:xfrm>
          <a:prstGeom prst="curvedConnector5">
            <a:avLst>
              <a:gd name="adj1" fmla="val 13200000"/>
              <a:gd name="adj2" fmla="val 49993"/>
              <a:gd name="adj3" fmla="val 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0" name=""/>
          <p:cNvSpPr/>
          <p:nvPr/>
        </p:nvSpPr>
        <p:spPr>
          <a:xfrm>
            <a:off x="179280" y="836640"/>
            <a:ext cx="835344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(1,f+1,m-1)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(1,f+1,m)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(1,f+1,m+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(r-1,f,m)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 (r,f,m)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(r+1,f,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2EE5C-BB7D-4D03-B94A-D34B6D46CCE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SUPUESTOS </a:t>
            </a: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	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d4d4d"/>
                </a:solidFill>
                <a:latin typeface="Verdana"/>
              </a:rPr>
              <a:t>Una no respuesta de un cliente...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d4d4d"/>
                </a:solidFill>
                <a:latin typeface="Verdana"/>
              </a:rPr>
              <a:t>=&gt;Fin de la relación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d60093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d4d4d"/>
                </a:solidFill>
                <a:latin typeface="Verdana"/>
              </a:rPr>
              <a:t>customer retention </a:t>
            </a: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d4d4d"/>
                </a:solidFill>
                <a:latin typeface="Verdana"/>
              </a:rPr>
              <a:t>NO =&gt; Fin de la relación </a:t>
            </a:r>
            <a:r>
              <a:rPr b="1" lang="es-ES" sz="1600" spc="-1" strike="noStrike">
                <a:solidFill>
                  <a:srgbClr val="4d4d4d"/>
                </a:solidFill>
                <a:latin typeface="Verdana"/>
              </a:rPr>
              <a:t>(el cliente puede volver)</a:t>
            </a:r>
            <a:endParaRPr b="1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d60093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d4d4d"/>
                </a:solidFill>
                <a:latin typeface="Verdana"/>
              </a:rPr>
              <a:t>customer migration</a:t>
            </a: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9A863-0E23-482E-831B-579F358E00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...SUPUESTOS </a:t>
            </a: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	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d4d4d"/>
                </a:solidFill>
                <a:latin typeface="Verdana"/>
              </a:rPr>
              <a:t>Horizonte: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d4d4d"/>
                </a:solidFill>
                <a:latin typeface="Verdana"/>
              </a:rPr>
              <a:t>Finito </a:t>
            </a:r>
            <a:r>
              <a:rPr b="1" lang="es-ES" sz="1800" spc="-1" strike="noStrike">
                <a:solidFill>
                  <a:srgbClr val="4d4d4d"/>
                </a:solidFill>
                <a:latin typeface="Verdana"/>
              </a:rPr>
              <a:t>(Berger &amp;Nasr)</a:t>
            </a:r>
            <a:endParaRPr b="1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d4d4d"/>
                </a:solidFill>
                <a:latin typeface="Verdana"/>
              </a:rPr>
              <a:t>Infinito </a:t>
            </a:r>
            <a:r>
              <a:rPr b="1" lang="es-ES" sz="1800" spc="-1" strike="noStrike">
                <a:solidFill>
                  <a:srgbClr val="4d4d4d"/>
                </a:solidFill>
                <a:latin typeface="Verdana"/>
              </a:rPr>
              <a:t>(blattberg)</a:t>
            </a:r>
            <a:endParaRPr b="1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d4d4d"/>
                </a:solidFill>
                <a:latin typeface="Verdana"/>
              </a:rPr>
              <a:t>Foco en clientes actuales </a:t>
            </a:r>
            <a:r>
              <a:rPr b="1" lang="es-ES" sz="1800" spc="-1" strike="noStrike">
                <a:solidFill>
                  <a:srgbClr val="4d4d4d"/>
                </a:solidFill>
                <a:latin typeface="Verdana"/>
              </a:rPr>
              <a:t>(Berger &amp;Nasr) </a:t>
            </a:r>
            <a:r>
              <a:rPr b="1" lang="es-ES" sz="3200" spc="-1" strike="noStrike">
                <a:solidFill>
                  <a:srgbClr val="4d4d4d"/>
                </a:solidFill>
                <a:latin typeface="Verdana"/>
              </a:rPr>
              <a:t>  Considerar prospectos </a:t>
            </a:r>
            <a:r>
              <a:rPr b="1" lang="es-ES" sz="2000" spc="-1" strike="noStrike">
                <a:solidFill>
                  <a:srgbClr val="4d4d4d"/>
                </a:solidFill>
                <a:latin typeface="Verdana"/>
              </a:rPr>
              <a:t>(blattberg)</a:t>
            </a: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123C4-3762-45C0-A1B0-DC3C4A06914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IN552 – Gestión del Cliente</a:t>
            </a:r>
            <a:endParaRPr b="1" lang="en-US" sz="32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440" y="28954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d60093"/>
                </a:solidFill>
                <a:latin typeface="Verdana"/>
              </a:rPr>
              <a:t>Modelando las relaciones con los clientes con Cadenas de Markov</a:t>
            </a:r>
            <a:r>
              <a:rPr b="0" lang="es-MX" sz="4000" spc="-1" strike="noStrike">
                <a:solidFill>
                  <a:srgbClr val="dcf5b7"/>
                </a:solidFill>
                <a:latin typeface="Verdana"/>
              </a:rPr>
              <a:t> </a:t>
            </a:r>
            <a:endParaRPr b="1" lang="en-US" sz="4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304920"/>
            <a:ext cx="5105520" cy="838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cultad de Ciencias Físicas y Matemá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52880" y="5638680"/>
            <a:ext cx="3733920" cy="838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Profesor: William Young Hans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Semestre Primavera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Uso de Cadenas de Markov para calculo de LTV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10000"/>
              </a:lnSpc>
              <a:spcBef>
                <a:spcPts val="1001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4d4d4d"/>
                </a:solidFill>
                <a:latin typeface="Verdana"/>
              </a:rPr>
              <a:t>Flexibilidad</a:t>
            </a:r>
            <a:endParaRPr b="1" lang="en-US" sz="4000" spc="-1" strike="noStrike">
              <a:solidFill>
                <a:srgbClr val="4d4d4d"/>
              </a:solidFill>
              <a:latin typeface="Verdana"/>
            </a:endParaRPr>
          </a:p>
          <a:p>
            <a:pPr lvl="4" marL="1810440" indent="-200880">
              <a:lnSpc>
                <a:spcPct val="10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Customer Retention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4" marL="1810440" indent="-200880">
              <a:lnSpc>
                <a:spcPct val="10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Customer Migration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4" marL="1810440" indent="-200880">
              <a:lnSpc>
                <a:spcPct val="10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Clientes actuales 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4" marL="1810440" indent="-200880">
              <a:lnSpc>
                <a:spcPct val="10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prospectos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1001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4d4d4d"/>
                </a:solidFill>
                <a:latin typeface="Verdana"/>
              </a:rPr>
              <a:t>Modelo Probabilístico</a:t>
            </a:r>
            <a:endParaRPr b="1" lang="en-US" sz="4000" spc="-1" strike="noStrike">
              <a:solidFill>
                <a:srgbClr val="4d4d4d"/>
              </a:solidFill>
              <a:latin typeface="Verdana"/>
            </a:endParaRPr>
          </a:p>
          <a:p>
            <a:pPr lvl="4" marL="1810440" indent="-200880">
              <a:lnSpc>
                <a:spcPct val="10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Uso de probabilidades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4" marL="1810440" indent="-200880">
              <a:lnSpc>
                <a:spcPct val="10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Valores esperados 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3" marL="140796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CA6C0-1AE9-4170-87D4-96FAB0B4CE5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... Cadenas de Markov para calculo de LTV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4d4d4d"/>
                </a:solidFill>
                <a:latin typeface="Verdana"/>
              </a:rPr>
              <a:t>...</a:t>
            </a:r>
            <a:r>
              <a:rPr b="1" lang="es-ES_tradnl" sz="4000" spc="-1" strike="noStrike">
                <a:solidFill>
                  <a:srgbClr val="4d4d4d"/>
                </a:solidFill>
                <a:latin typeface="Verdana"/>
              </a:rPr>
              <a:t>Modelo Probabilístico</a:t>
            </a:r>
            <a:endParaRPr b="1" lang="en-US" sz="40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d4d4d"/>
                </a:solidFill>
                <a:latin typeface="Verdana"/>
              </a:rPr>
              <a:t>Cambio de términos</a:t>
            </a:r>
            <a:r>
              <a:rPr b="1" lang="es-ES_tradnl" sz="44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4d4d4d"/>
                </a:solidFill>
                <a:latin typeface="Verdana"/>
              </a:rPr>
              <a:t>(Pfeifer-Carraway)</a:t>
            </a: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d60093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</a:rPr>
              <a:t>Grupos/paneles=&gt;Sra. Juanita</a:t>
            </a: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d60093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</a:rPr>
              <a:t>Tasa de retención=&gt;prob. De mantenerse como cliente</a:t>
            </a: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d60093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</a:rPr>
              <a:t>Ingreso esperado</a:t>
            </a: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4" marL="20574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72FFE-C786-49B8-913A-D910CFAEDFD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Cadenas de Markov para calculo de LTV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4d4d4d"/>
                </a:solidFill>
                <a:latin typeface="Verdana"/>
              </a:rPr>
              <a:t>Uso para mejorar la relación con el consumidor</a:t>
            </a:r>
            <a:endParaRPr b="1" lang="en-US" sz="40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00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4d4d4d"/>
                </a:solidFill>
                <a:latin typeface="Verdana"/>
              </a:rPr>
              <a:t>Asociable a RFM</a:t>
            </a:r>
            <a:r>
              <a:rPr b="1" lang="es-ES_tradnl" sz="4400" spc="-1" strike="noStrike">
                <a:solidFill>
                  <a:srgbClr val="4d4d4d"/>
                </a:solidFill>
                <a:latin typeface="Verdana"/>
              </a:rPr>
              <a:t> </a:t>
            </a:r>
            <a:endParaRPr b="1" lang="en-US" sz="4400" spc="-1" strike="noStrike">
              <a:solidFill>
                <a:srgbClr val="4d4d4d"/>
              </a:solidFill>
              <a:latin typeface="Verdana"/>
            </a:endParaRPr>
          </a:p>
          <a:p>
            <a:pPr lvl="3" marL="1600200" indent="0" algn="ctr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D7BF1-1D69-4D59-9503-AF89C11B256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4T04:32:08Z</dcterms:created>
  <dc:creator>Loreto Arenas</dc:creator>
  <dc:description/>
  <dc:language>en-US</dc:language>
  <cp:lastModifiedBy>Administrador</cp:lastModifiedBy>
  <dcterms:modified xsi:type="dcterms:W3CDTF">2004-09-21T15:22:59Z</dcterms:modified>
  <cp:revision>387</cp:revision>
  <dc:subject/>
  <dc:title>IN58B Ingeniería de Marketing</dc:title>
</cp:coreProperties>
</file>