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91E8E-B3F8-4BC9-A487-57B56EC541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956D4-B0D6-4E50-BF96-AF539D2F25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39A5A-F9EA-4829-9850-335FC0E038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14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542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14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542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BD575-1CEE-49CC-BB0E-DD8B1AC48B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69FEF-D650-415F-B0EF-7C5F1B53DE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21537-4857-4603-B7B0-1F491D1B5B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7D7F1-1080-43D6-8737-5377C3840D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8978A-10C0-4238-8DC9-03C69A00B4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214EE-28A5-4586-AA4F-BCAE07D5F7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E209A-E866-404D-9268-EE3AB021BE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01482-BA4B-43B7-823E-7D50313061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92528-FEA4-4C63-A260-26DABA8B46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240" y="6400440"/>
            <a:ext cx="5791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552 Gestión de Cli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6717-1BD2-4744-907D-C06444EC7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IN552 – Gestión del Cliente</a:t>
            </a:r>
            <a:endParaRPr b="1" lang="en-US" sz="32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440" y="28954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d60093"/>
                </a:solidFill>
                <a:latin typeface="Verdana"/>
              </a:rPr>
              <a:t>LTV</a:t>
            </a:r>
            <a:endParaRPr b="1" lang="en-US" sz="4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5638680"/>
            <a:ext cx="3733920" cy="838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Profesor: William Young Han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Semestre Primavera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Modelo de Cadena de Markov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19000" y="1085760"/>
          <a:ext cx="19242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1085760"/>
                    <a:ext cx="19242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457200" y="2362320"/>
            <a:ext cx="8077320" cy="48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upongamos que la empresa “J-avon” está tratando de captar a la Sra. Juan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 lo logra la contribución neta será $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upongamos una compra por perío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 suponemos que hay migración puede que la señora juanita no compre en varios períodos y después si lo ha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 la Sra. Juanita tiene probabilidad de compra se gasta $M en 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e cree que la posibilidad de compra (P)  sólo depende de la última vez que lo hizo (recency)...si compró en el periodo anterior R=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e asume que si R=5 la S. J. Ya no volverá a compr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86AE6-1DFC-44AE-9E37-FA0952D916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El modelo Cadena Markov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67" name=""/>
          <p:cNvSpPr/>
          <p:nvPr/>
        </p:nvSpPr>
        <p:spPr>
          <a:xfrm>
            <a:off x="270000" y="3357720"/>
            <a:ext cx="1152360" cy="1150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70000" y="3357720"/>
            <a:ext cx="1152720" cy="1150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70360" y="3357720"/>
            <a:ext cx="1152360" cy="1150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70720" y="3357720"/>
            <a:ext cx="1152360" cy="1150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2360" y="3357720"/>
            <a:ext cx="1152360" cy="1150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7" idx="0"/>
            <a:endCxn id="67" idx="2"/>
          </p:cNvCxnSpPr>
          <p:nvPr/>
        </p:nvCxnSpPr>
        <p:spPr>
          <a:xfrm rot="5400000">
            <a:off x="250200" y="3337560"/>
            <a:ext cx="595800" cy="595800"/>
          </a:xfrm>
          <a:prstGeom prst="curvedConnector5">
            <a:avLst>
              <a:gd name="adj1" fmla="val -35187"/>
              <a:gd name="adj2" fmla="val 67593"/>
              <a:gd name="adj3" fmla="val -3518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7" idx="7"/>
            <a:endCxn id="68" idx="1"/>
          </p:cNvCxnSpPr>
          <p:nvPr/>
        </p:nvCxnSpPr>
        <p:spPr>
          <a:xfrm flipH="1" rot="16200000">
            <a:off x="1745640" y="3015000"/>
            <a:ext cx="2160" cy="984960"/>
          </a:xfrm>
          <a:prstGeom prst="curvedConnector5">
            <a:avLst>
              <a:gd name="adj1" fmla="val -23800000"/>
              <a:gd name="adj2" fmla="val 49981"/>
              <a:gd name="adj3" fmla="val -238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8" idx="7"/>
            <a:endCxn id="69" idx="1"/>
          </p:cNvCxnSpPr>
          <p:nvPr/>
        </p:nvCxnSpPr>
        <p:spPr>
          <a:xfrm flipH="1" rot="16200000">
            <a:off x="3545640" y="3015000"/>
            <a:ext cx="2160" cy="984960"/>
          </a:xfrm>
          <a:prstGeom prst="curvedConnector5">
            <a:avLst>
              <a:gd name="adj1" fmla="val -23800000"/>
              <a:gd name="adj2" fmla="val 49981"/>
              <a:gd name="adj3" fmla="val -238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9" idx="7"/>
            <a:endCxn id="70" idx="1"/>
          </p:cNvCxnSpPr>
          <p:nvPr/>
        </p:nvCxnSpPr>
        <p:spPr>
          <a:xfrm flipH="1" rot="16200000">
            <a:off x="5346000" y="3015000"/>
            <a:ext cx="2160" cy="984960"/>
          </a:xfrm>
          <a:prstGeom prst="curvedConnector5">
            <a:avLst>
              <a:gd name="adj1" fmla="val -23800000"/>
              <a:gd name="adj2" fmla="val 49981"/>
              <a:gd name="adj3" fmla="val -238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70" idx="7"/>
            <a:endCxn id="71" idx="1"/>
          </p:cNvCxnSpPr>
          <p:nvPr/>
        </p:nvCxnSpPr>
        <p:spPr>
          <a:xfrm flipH="1" rot="16200000">
            <a:off x="7182000" y="2979360"/>
            <a:ext cx="2160" cy="1056240"/>
          </a:xfrm>
          <a:prstGeom prst="curvedConnector5">
            <a:avLst>
              <a:gd name="adj1" fmla="val -23800000"/>
              <a:gd name="adj2" fmla="val 49982"/>
              <a:gd name="adj3" fmla="val -238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1" idx="0"/>
            <a:endCxn id="71" idx="4"/>
          </p:cNvCxnSpPr>
          <p:nvPr/>
        </p:nvCxnSpPr>
        <p:spPr>
          <a:xfrm flipH="1" rot="16200000">
            <a:off x="7524360" y="3931200"/>
            <a:ext cx="1189800" cy="2520"/>
          </a:xfrm>
          <a:prstGeom prst="curvedConnector5">
            <a:avLst>
              <a:gd name="adj1" fmla="val -17615"/>
              <a:gd name="adj2" fmla="val 25350000"/>
              <a:gd name="adj3" fmla="val -1761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68" idx="4"/>
            <a:endCxn id="67" idx="4"/>
          </p:cNvCxnSpPr>
          <p:nvPr/>
        </p:nvCxnSpPr>
        <p:spPr>
          <a:xfrm rot="5400000">
            <a:off x="1744560" y="3628080"/>
            <a:ext cx="2160" cy="1801080"/>
          </a:xfrm>
          <a:prstGeom prst="curvedConnector5">
            <a:avLst>
              <a:gd name="adj1" fmla="val 13200000"/>
              <a:gd name="adj2" fmla="val 50000"/>
              <a:gd name="adj3" fmla="val 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9" idx="4"/>
            <a:endCxn id="67" idx="4"/>
          </p:cNvCxnSpPr>
          <p:nvPr/>
        </p:nvCxnSpPr>
        <p:spPr>
          <a:xfrm rot="5400000">
            <a:off x="2644920" y="2728080"/>
            <a:ext cx="2160" cy="3601440"/>
          </a:xfrm>
          <a:prstGeom prst="curvedConnector5">
            <a:avLst>
              <a:gd name="adj1" fmla="val 54900000"/>
              <a:gd name="adj2" fmla="val 49995"/>
              <a:gd name="adj3" fmla="val 549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70" idx="4"/>
            <a:endCxn id="67" idx="4"/>
          </p:cNvCxnSpPr>
          <p:nvPr/>
        </p:nvCxnSpPr>
        <p:spPr>
          <a:xfrm rot="5400000">
            <a:off x="3544920" y="1828080"/>
            <a:ext cx="2160" cy="5401440"/>
          </a:xfrm>
          <a:prstGeom prst="curvedConnector5">
            <a:avLst>
              <a:gd name="adj1" fmla="val 119300000"/>
              <a:gd name="adj2" fmla="val 49996"/>
              <a:gd name="adj3" fmla="val 1193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250920" y="2781360"/>
            <a:ext cx="88930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1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-p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1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1-p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-p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3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-p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4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4365720"/>
            <a:ext cx="8569080" cy="24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3716280"/>
            <a:ext cx="8425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4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62907-5C62-4984-A715-F59E4C8448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677 0.00023 L 2.77778E-007 3.23699E-006 E">
                                      <p:cBhvr>
                                        <p:cTn id="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260280"/>
            <a:ext cx="8686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atriz de Transición P (paso 1).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br>
              <a:rPr sz="1800"/>
            </a:br>
            <a:br>
              <a:rPr sz="1600"/>
            </a:br>
            <a:endParaRPr b="1" lang="en-US" sz="18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562040" y="2646360"/>
                <a:ext cx="6096240" cy="278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03904-0497-4938-A400-E923B1C442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1197000"/>
            <a:ext cx="8686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La matriz de transición paso–t está definida como la matriz de probabilidades de moverse de un estado a otro en exactamente t períodos.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l elemento (i, j) de la matriz de transición paso–t corresponde a la probabilidad de la Señora Juanita de tener recency=j despues de de t periodos dado que empezó en i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 las propiedades de las Cadenas de Markov es conocido que la matriz de transición del paso–t es exactamente la matriz producto de t matrices de paso 1.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600"/>
            </a:br>
            <a:endParaRPr b="1" lang="en-US" sz="16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619280" y="3573360"/>
                <a:ext cx="6095880" cy="278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F224B-9763-4E98-A744-4B0CE4F901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Flujos de caja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684360" y="1916280"/>
                <a:ext cx="334152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C</m:t>
                              </m:r>
                              <m:r>
                                <m:t xml:space="preserve">−</m:t>
                              </m:r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4284720" y="2852640"/>
            <a:ext cx="47037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76720" y="2997360"/>
            <a:ext cx="37432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os flujos serán función del recency de la Señora Juan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7386E-04C0-4E28-8302-8824AF8538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Valor presente esperad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39640" y="1916280"/>
                <a:ext cx="3998880" cy="358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d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  <m:r>
                          <m:t xml:space="preserve">R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</m:sSub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d>
                                  <m:dPr>
                                    <m:begChr m:val="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R</m:t>
                            </m:r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5148360" y="2852640"/>
            <a:ext cx="38401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Se supone que J-avon es neutro al riesgo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26BEF-4214-41A5-9F18-79EBD5B954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Ejempl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135080" y="1916280"/>
                <a:ext cx="243828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$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(</m:t>
                              </m:r>
                              <m:r>
                                <m:t xml:space="preserve">4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(</m:t>
                              </m:r>
                              <m:r>
                                <m:t xml:space="preserve">4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(</m:t>
                              </m:r>
                              <m:r>
                                <m:t xml:space="preserve">4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4284720" y="2852640"/>
            <a:ext cx="47037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Supongamos que: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NC=40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=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FCE81-0F07-4363-B985-D1461D5629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…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Ejempl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009800" y="2179800"/>
                <a:ext cx="6186240" cy="32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0B774-CE93-4F1E-8C8D-6CD1E8A6BD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…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Ejempl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009800" y="2198520"/>
                <a:ext cx="7522920" cy="27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30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10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60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0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0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80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87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5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7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15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5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50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28191-7B97-427A-9A57-493F6F8734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…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Ejempl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009800" y="2198520"/>
                <a:ext cx="7522920" cy="27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95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61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68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76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6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6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2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46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7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61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84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7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11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10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8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50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62698-2B1D-45F6-8219-5FA68854E3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USOS  DE LTV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Presupuesto de gastos de adquisición 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Presupuesto de gastos de retención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Manejo de presupuestos para medios, tipos de promociones, etc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</a:rPr>
              <a:t>Apoyo a decisiones de retención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E03AB-7983-4136-A30F-AABDF394A1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…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Ejempl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009800" y="2203560"/>
                <a:ext cx="7522920" cy="27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97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6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8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2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52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76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81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0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95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46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9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3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9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71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7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9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8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8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3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50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86213-7582-4284-BF47-475F452CE0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...Ejempl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135080" y="2558880"/>
                <a:ext cx="2438280" cy="27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$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5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0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92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8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4284720" y="2852640"/>
            <a:ext cx="47037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alor presente de los flujos esperados para 4 perío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92693-7665-4B86-BC54-93B0497F43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...Ejempl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135080" y="2558880"/>
                <a:ext cx="2438280" cy="27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$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5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0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92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8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4284720" y="2852640"/>
            <a:ext cx="47037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alor presente de los flujos esperados para 4 perío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92360" y="4149720"/>
            <a:ext cx="2303280" cy="64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/>
          <p:nvPr/>
        </p:nvCxnSpPr>
        <p:spPr>
          <a:xfrm>
            <a:off x="4066920" y="4508280"/>
            <a:ext cx="1873800" cy="433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6012000" y="4797360"/>
            <a:ext cx="2663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??????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43640" y="4149720"/>
            <a:ext cx="144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711D6-7BCB-4847-8618-06D954AB6E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…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Ejempl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135080" y="2558880"/>
                <a:ext cx="2438280" cy="27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$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20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54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51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2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4284720" y="2852640"/>
            <a:ext cx="47037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Horizonte infin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22FC4-7515-424B-BDB4-5E7157DB89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…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Ejempl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135080" y="2558880"/>
                <a:ext cx="2438280" cy="27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$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20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54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51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2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4284720" y="2852640"/>
            <a:ext cx="47037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Horizonte infin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4221000"/>
            <a:ext cx="2016360" cy="503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80000" y="5084640"/>
            <a:ext cx="23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Qué pasa si no invierto en R=4????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endCxn id="125" idx="0"/>
          </p:cNvCxnSpPr>
          <p:nvPr/>
        </p:nvCxnSpPr>
        <p:spPr>
          <a:xfrm>
            <a:off x="3780000" y="4508280"/>
            <a:ext cx="1016640" cy="153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5219640" y="4797360"/>
            <a:ext cx="3168720" cy="1511280"/>
          </a:xfrm>
          <a:prstGeom prst="cloudCallout">
            <a:avLst>
              <a:gd name="adj1" fmla="val -62777"/>
              <a:gd name="adj2" fmla="val -5903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39683-4714-4026-9FE1-E5CA77D84BC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…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Ejempl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135080" y="2558880"/>
                <a:ext cx="2438280" cy="27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$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20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54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51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2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5292720" y="1989000"/>
            <a:ext cx="47037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Nuevo model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63640" y="4221000"/>
            <a:ext cx="2016360" cy="503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76720" y="3860640"/>
            <a:ext cx="3311640" cy="12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es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asta con hacer p4=0 y el cuarto elemento de R igual a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/>
          <p:nvPr/>
        </p:nvCxnSpPr>
        <p:spPr>
          <a:xfrm flipV="1">
            <a:off x="3780000" y="3428280"/>
            <a:ext cx="576360" cy="1018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4932360" y="1989000"/>
            <a:ext cx="3168720" cy="1511280"/>
          </a:xfrm>
          <a:prstGeom prst="cloudCallout">
            <a:avLst>
              <a:gd name="adj1" fmla="val -65731"/>
              <a:gd name="adj2" fmla="val 44958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E96B7-9C6D-460D-894B-09DA84917BF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…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Ejemplo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149480" y="2558880"/>
                <a:ext cx="2408040" cy="27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$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9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21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44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$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4284720" y="2852640"/>
            <a:ext cx="47037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6F744-9203-4E8D-A5A0-A46C2D05121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Caso 2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1042920" y="1773360"/>
            <a:ext cx="777708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Supongamos que los flujos y los gastos de recapturar a la Señora Juanita dependen de cuando fue la última vez que compr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Supongamos también que las probabilidades de compra varían con rec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09F3E-4ABB-43C7-9B41-F0683A957FE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Modelando Caso 2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692360" y="2932200"/>
                <a:ext cx="6757920" cy="29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1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1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1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1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</m:mr>
                      <m:mr>
                        <m:e>
                          <m:r>
                            <m:t xml:space="preserve">3</m:t>
                          </m:r>
                        </m:e>
                      </m:mr>
                      <m:mr>
                        <m:e>
                          <m:r>
                            <m:t xml:space="preserve">4</m:t>
                          </m:r>
                        </m:e>
                      </m:mr>
                      <m:mr>
                        <m:e>
                          <m:r>
                            <m:t xml:space="preserve">5</m:t>
                          </m:r>
                        </m:e>
                      </m:mr>
                    </m:m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403280" y="2133720"/>
                <a:ext cx="68407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ate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DBA77-EC13-4415-BFBC-C9EA8CC999D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Caso 3:Customer Retention </a:t>
            </a:r>
            <a:endParaRPr b="1" lang="en-US" sz="40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562040" y="3056040"/>
                <a:ext cx="6096240" cy="19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eqAr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tate</m:t>
                              </m:r>
                            </m:e>
                            <m:e/>
                          </m:eqArr>
                        </m:e>
                        <m:e>
                          <m:eqArr>
                            <m:e>
                              <m:r>
                                <m:t xml:space="preserve">P</m:t>
                              </m:r>
                            </m:e>
                            <m:e/>
                          </m:eqArr>
                        </m:e>
                        <m:e>
                          <m:eqArr>
                            <m:e>
                              <m:r>
                                <m:t xml:space="preserve">R</m:t>
                              </m:r>
                            </m:e>
                            <m:e/>
                          </m:eqArr>
                        </m:e>
                      </m:mr>
                      <m:m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ustomer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ormer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ustomer</m:t>
                                </m:r>
                              </m:e>
                            </m:mr>
                          </m:m>
                        </m:e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p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p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C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D93C1-AFD2-43C5-8838-BC099D05D9F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276720"/>
            <a:ext cx="8305920" cy="33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 = Horizonte de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Margen generado por el cliente el año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promocional dirigido al cliente el año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 = Tasa de R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 = tasa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 = Costo de Adqui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598760" y="1066680"/>
                <a:ext cx="5025960" cy="156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V</m:t>
                    </m:r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2062B-2FE5-45D8-9653-7877F82A43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Caso 4…Incluir Prospectos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042920" y="2565360"/>
                <a:ext cx="7129440" cy="25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eqAr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tate</m:t>
                              </m:r>
                            </m:e>
                            <m:e/>
                          </m:eqArr>
                        </m:e>
                        <m:e>
                          <m:eqArr>
                            <m:e>
                              <m:r>
                                <m:t xml:space="preserve">P</m:t>
                              </m:r>
                            </m:e>
                            <m:e/>
                          </m:eqArr>
                        </m:e>
                        <m:e>
                          <m:eqArr>
                            <m:e>
                              <m:r>
                                <m:t xml:space="preserve">R</m:t>
                              </m:r>
                            </m:e>
                            <m:e/>
                          </m:eqArr>
                        </m:e>
                      </m:mr>
                      <m:m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r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ospect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ustomer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ormer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ustomer</m:t>
                                </m:r>
                              </m:e>
                            </m:mr>
                          </m:m>
                        </m:e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p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p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C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M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18CDC-44B8-493A-ADF1-5E2EF51C9D9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Caso 4…Ingresos Esperados</a:t>
            </a:r>
            <a:endParaRPr b="1" lang="en-US" sz="40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562040" y="2205000"/>
                <a:ext cx="6096240" cy="36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spec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ustomer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ustome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C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</m:den>
                                </m:f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ormer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ustome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8958E-FC1C-4434-8111-7A13872E1D0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Caso 5: considerar frecuencia</a:t>
            </a:r>
            <a:endParaRPr b="1" lang="en-US" sz="4000" spc="-1" strike="noStrike">
              <a:solidFill>
                <a:srgbClr val="d60093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826920" y="2389320"/>
                <a:ext cx="7105680" cy="27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eqAr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tate</m:t>
                              </m:r>
                            </m:e>
                            <m:e/>
                          </m:eqArr>
                        </m:e>
                        <m:e>
                          <m:eqArr>
                            <m:e>
                              <m:r>
                                <m:t xml:space="preserve">P</m:t>
                              </m:r>
                            </m:e>
                            <m:e/>
                          </m:eqArr>
                        </m:e>
                        <m:e>
                          <m:eqArr>
                            <m:e>
                              <m:r>
                                <m:t xml:space="preserve">R</m:t>
                              </m:r>
                            </m:e>
                            <m:e/>
                          </m:eqArr>
                        </m:e>
                      </m:mr>
                      <m:m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requency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requency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2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requency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3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requency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4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ormer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ustomer</m:t>
                                </m:r>
                              </m:e>
                            </m:mr>
                          </m:m>
                        </m:e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  <m:e/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  <m:e/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  <m:e/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</m:e>
                                  <m:e/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  <m:e/>
                                </m:mr>
                              </m:m>
                            </m:e>
                          </m:d>
                        </m:e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C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C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C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C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050ED-FA26-4D0E-B406-15ADC7920FE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16000" y="1052640"/>
            <a:ext cx="1368360" cy="1439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80000" y="1052640"/>
            <a:ext cx="1368360" cy="1439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72360" y="1052640"/>
            <a:ext cx="1368360" cy="1439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16000" y="3716280"/>
            <a:ext cx="1368360" cy="1440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80000" y="3716280"/>
            <a:ext cx="1368360" cy="1440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72360" y="3716280"/>
            <a:ext cx="1368360" cy="1440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3" idx="1"/>
            <a:endCxn id="149" idx="5"/>
          </p:cNvCxnSpPr>
          <p:nvPr/>
        </p:nvCxnSpPr>
        <p:spPr>
          <a:xfrm flipH="1" flipV="1">
            <a:off x="2283840" y="2299680"/>
            <a:ext cx="1695960" cy="1608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3" idx="0"/>
            <a:endCxn id="150" idx="4"/>
          </p:cNvCxnSpPr>
          <p:nvPr/>
        </p:nvCxnSpPr>
        <p:spPr>
          <a:xfrm flipV="1">
            <a:off x="4463640" y="2511000"/>
            <a:ext cx="1080" cy="118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3" idx="7"/>
            <a:endCxn id="151" idx="3"/>
          </p:cNvCxnSpPr>
          <p:nvPr/>
        </p:nvCxnSpPr>
        <p:spPr>
          <a:xfrm flipV="1">
            <a:off x="4947840" y="2299680"/>
            <a:ext cx="1624680" cy="1608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52" idx="4"/>
            <a:endCxn id="153" idx="3"/>
          </p:cNvCxnSpPr>
          <p:nvPr/>
        </p:nvCxnSpPr>
        <p:spPr>
          <a:xfrm flipH="1" flipV="1" rot="5400000">
            <a:off x="2784240" y="3979440"/>
            <a:ext cx="212040" cy="2180160"/>
          </a:xfrm>
          <a:prstGeom prst="curvedConnector5">
            <a:avLst>
              <a:gd name="adj1" fmla="val -99149"/>
              <a:gd name="adj2" fmla="val 49991"/>
              <a:gd name="adj3" fmla="val -9914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3" idx="4"/>
            <a:endCxn id="154" idx="4"/>
          </p:cNvCxnSpPr>
          <p:nvPr/>
        </p:nvCxnSpPr>
        <p:spPr>
          <a:xfrm flipH="1" rot="16200000">
            <a:off x="5758200" y="3879720"/>
            <a:ext cx="2160" cy="2592720"/>
          </a:xfrm>
          <a:prstGeom prst="curvedConnector5">
            <a:avLst>
              <a:gd name="adj1" fmla="val 13200000"/>
              <a:gd name="adj2" fmla="val 49993"/>
              <a:gd name="adj3" fmla="val 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179280" y="836640"/>
            <a:ext cx="835344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1,f+1,m-1)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1,f+1,m)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(1,f+1,m+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r-1,f,m)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(r,f,m)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(r+1,f,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CD124-E9ED-4FD0-BFFF-1A207CAC756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SUPUESTOS 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d4d4d"/>
                </a:solidFill>
                <a:latin typeface="Verdana"/>
              </a:rPr>
              <a:t>Una no respuesta de un cliente...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d4d4d"/>
                </a:solidFill>
                <a:latin typeface="Verdana"/>
              </a:rPr>
              <a:t>=&gt;Fin de la relación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Verdana"/>
              </a:rPr>
              <a:t>customer retention 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d4d4d"/>
                </a:solidFill>
                <a:latin typeface="Verdana"/>
              </a:rPr>
              <a:t>NO =&gt; Fin de la relación </a:t>
            </a:r>
            <a:r>
              <a:rPr b="1" lang="es-ES" sz="1600" spc="-1" strike="noStrike">
                <a:solidFill>
                  <a:srgbClr val="4d4d4d"/>
                </a:solidFill>
                <a:latin typeface="Verdana"/>
              </a:rPr>
              <a:t>(el cliente puede volver)</a:t>
            </a:r>
            <a:endParaRPr b="1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Verdana"/>
              </a:rPr>
              <a:t>customer migration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95039-BC07-4672-A043-EC46CCAE64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...SUPUESTOS 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d4d4d"/>
                </a:solidFill>
                <a:latin typeface="Verdana"/>
              </a:rPr>
              <a:t>Horizonte: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d4d4d"/>
                </a:solidFill>
                <a:latin typeface="Verdana"/>
              </a:rPr>
              <a:t>Finito </a:t>
            </a:r>
            <a:r>
              <a:rPr b="1" lang="es-ES" sz="1800" spc="-1" strike="noStrike">
                <a:solidFill>
                  <a:srgbClr val="4d4d4d"/>
                </a:solidFill>
                <a:latin typeface="Verdana"/>
              </a:rPr>
              <a:t>(Berger &amp;Nasr)</a:t>
            </a:r>
            <a:endParaRPr b="1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d4d4d"/>
                </a:solidFill>
                <a:latin typeface="Verdana"/>
              </a:rPr>
              <a:t>Infinito </a:t>
            </a:r>
            <a:r>
              <a:rPr b="1" lang="es-ES" sz="1800" spc="-1" strike="noStrike">
                <a:solidFill>
                  <a:srgbClr val="4d4d4d"/>
                </a:solidFill>
                <a:latin typeface="Verdana"/>
              </a:rPr>
              <a:t>(blattberg)</a:t>
            </a:r>
            <a:endParaRPr b="1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d4d4d"/>
                </a:solidFill>
                <a:latin typeface="Verdana"/>
              </a:rPr>
              <a:t>Foco en clientes actuales </a:t>
            </a:r>
            <a:r>
              <a:rPr b="1" lang="es-ES" sz="1800" spc="-1" strike="noStrike">
                <a:solidFill>
                  <a:srgbClr val="4d4d4d"/>
                </a:solidFill>
                <a:latin typeface="Verdana"/>
              </a:rPr>
              <a:t>(Berger &amp;Nasr) </a:t>
            </a:r>
            <a:r>
              <a:rPr b="1" lang="es-ES" sz="3200" spc="-1" strike="noStrike">
                <a:solidFill>
                  <a:srgbClr val="4d4d4d"/>
                </a:solidFill>
                <a:latin typeface="Verdana"/>
              </a:rPr>
              <a:t>  Considerar prospectos </a:t>
            </a:r>
            <a:r>
              <a:rPr b="1" lang="es-ES" sz="2000" spc="-1" strike="noStrike">
                <a:solidFill>
                  <a:srgbClr val="4d4d4d"/>
                </a:solidFill>
                <a:latin typeface="Verdana"/>
              </a:rPr>
              <a:t>(blattberg)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B96CE-BD85-4B19-8368-A142D0CC7D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IN552 – Gestión del Cliente</a:t>
            </a:r>
            <a:endParaRPr b="1" lang="en-US" sz="32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440" y="28954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d60093"/>
                </a:solidFill>
                <a:latin typeface="Verdana"/>
              </a:rPr>
              <a:t>Modelando las relaciones con los clientes con Cadenas de Markov</a:t>
            </a:r>
            <a:r>
              <a:rPr b="0" lang="es-MX" sz="4000" spc="-1" strike="noStrike">
                <a:solidFill>
                  <a:srgbClr val="dcf5b7"/>
                </a:solidFill>
                <a:latin typeface="Verdana"/>
              </a:rPr>
              <a:t> </a:t>
            </a:r>
            <a:endParaRPr b="1" lang="en-US" sz="4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5638680"/>
            <a:ext cx="3733920" cy="838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Profesor: William Young Han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Semestre Primavera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Uso de Cadenas de Markov para calculo de LTV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10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4d4d4d"/>
                </a:solidFill>
                <a:latin typeface="Verdana"/>
              </a:rPr>
              <a:t>Flexibilidad</a:t>
            </a:r>
            <a:endParaRPr b="1" lang="en-US" sz="4000" spc="-1" strike="noStrike">
              <a:solidFill>
                <a:srgbClr val="4d4d4d"/>
              </a:solidFill>
              <a:latin typeface="Verdana"/>
            </a:endParaRPr>
          </a:p>
          <a:p>
            <a:pPr lvl="4" marL="1810440" indent="-20088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Customer Retention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4" marL="1810440" indent="-20088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Customer Migration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4" marL="1810440" indent="-20088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Clientes actuales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4" marL="1810440" indent="-20088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prospectos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10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4d4d4d"/>
                </a:solidFill>
                <a:latin typeface="Verdana"/>
              </a:rPr>
              <a:t>Modelo Probabilístico</a:t>
            </a:r>
            <a:endParaRPr b="1" lang="en-US" sz="4000" spc="-1" strike="noStrike">
              <a:solidFill>
                <a:srgbClr val="4d4d4d"/>
              </a:solidFill>
              <a:latin typeface="Verdana"/>
            </a:endParaRPr>
          </a:p>
          <a:p>
            <a:pPr lvl="4" marL="1810440" indent="-20088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Uso de probabilidades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4" marL="1810440" indent="-20088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Valores esperados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3" marL="140796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474B3-306D-4AA9-8BAF-FF325C05F2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... Cadenas de Markov para calculo de LTV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4d4d4d"/>
                </a:solidFill>
                <a:latin typeface="Verdana"/>
              </a:rPr>
              <a:t>...</a:t>
            </a:r>
            <a:r>
              <a:rPr b="1" lang="es-ES_tradnl" sz="4000" spc="-1" strike="noStrike">
                <a:solidFill>
                  <a:srgbClr val="4d4d4d"/>
                </a:solidFill>
                <a:latin typeface="Verdana"/>
              </a:rPr>
              <a:t>Modelo Probabilístico</a:t>
            </a:r>
            <a:endParaRPr b="1" lang="en-US" sz="4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Cambio de términos</a:t>
            </a:r>
            <a:r>
              <a:rPr b="1" lang="es-ES_tradnl" sz="4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(Pfeifer-Carraway)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Grupos/paneles=&gt;Sra. Juanita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Tasa de retención=&gt;prob. De mantenerse como cliente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Ingreso esperado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4" marL="20574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41EFB-A283-4F59-9891-2CC947CBC6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Cadenas de Markov para calculo de LTV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4d4d4d"/>
                </a:solidFill>
                <a:latin typeface="Verdana"/>
              </a:rPr>
              <a:t>Uso para mejorar la relación con el consumidor</a:t>
            </a:r>
            <a:endParaRPr b="1" lang="en-US" sz="4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4d4d4d"/>
                </a:solidFill>
                <a:latin typeface="Verdana"/>
              </a:rPr>
              <a:t>Asociable a RFM</a:t>
            </a:r>
            <a:r>
              <a:rPr b="1" lang="es-ES_tradnl" sz="44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1" lang="en-US" sz="44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7E850-F461-4B90-B2DF-A0D60FADF7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Administrador</cp:lastModifiedBy>
  <dcterms:modified xsi:type="dcterms:W3CDTF">2004-09-21T15:22:59Z</dcterms:modified>
  <cp:revision>387</cp:revision>
  <dc:subject/>
  <dc:title>IN58B Ingeniería de Marketing</dc:title>
</cp:coreProperties>
</file>