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61CA6-7F09-4B82-ABEA-AF81D0D9F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73A51-CEB9-450C-B933-1D8886EAE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F54F8-DE34-4C74-B895-9D2ADBDB3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663FC-3CE7-47F7-BCA2-F241A4A902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B1814-8FE6-414C-B390-2A49D253B0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CBDC9-4984-4966-9B71-1E1B07300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F7AD-CF1C-4FF3-AB15-0D4BF4546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4529D-01AB-4148-97B3-E5313BFA9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C5A1B-8769-49BE-BF13-C6DFBB40A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0C0CE-50B0-458D-8808-C3406047B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A4613-E367-4374-A88D-99A2DCA2E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95E71-1921-41F6-9AA4-8667C80B9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552 Gestión de 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5AA0-11DD-491A-8661-BE8701641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N552 – Gestión del Cliente</a:t>
            </a:r>
            <a:endParaRPr b="1" lang="en-US" sz="32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440" y="2895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d60093"/>
                </a:solidFill>
                <a:latin typeface="Verdana"/>
              </a:rPr>
              <a:t>LTV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fesor: William Young Ha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Semestre Primaver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Modelo de Cadena de Markov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19000" y="1085760"/>
          <a:ext cx="19242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1085760"/>
                    <a:ext cx="1924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457200" y="2362320"/>
            <a:ext cx="807732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upongamos que la empresa “J-avon” está tratando de captar a la Sra. Juan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lo logra la contribución neta será $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upongamos una compra por perío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uponemos que hay migración puede que la señora juanita no compre en varios períodos y después si lo ha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la Sra. Juanita tiene probabilidad de compra se gasta $M en 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 cree que la posibilidad de compra (P)  sólo depende de la última vez que lo hizo (recency)...si compró en el periodo anterior R=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 asume que si R=5 la S. J. Ya no volverá a comp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F8847-9AD8-4C98-8A4B-26DDB90CC7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l modelo Cadena Markov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270000" y="3357720"/>
            <a:ext cx="1152360" cy="1150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70000" y="3357720"/>
            <a:ext cx="1152720" cy="1150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70360" y="3357720"/>
            <a:ext cx="1152360" cy="1150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70720" y="3357720"/>
            <a:ext cx="1152360" cy="1150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2360" y="3357720"/>
            <a:ext cx="1152360" cy="1150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7" idx="2"/>
          </p:cNvCxnSpPr>
          <p:nvPr/>
        </p:nvCxnSpPr>
        <p:spPr>
          <a:xfrm rot="5400000">
            <a:off x="250200" y="3337560"/>
            <a:ext cx="595800" cy="595800"/>
          </a:xfrm>
          <a:prstGeom prst="curvedConnector5">
            <a:avLst>
              <a:gd name="adj1" fmla="val -35187"/>
              <a:gd name="adj2" fmla="val 67593"/>
              <a:gd name="adj3" fmla="val -3518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7" idx="7"/>
            <a:endCxn id="68" idx="1"/>
          </p:cNvCxnSpPr>
          <p:nvPr/>
        </p:nvCxnSpPr>
        <p:spPr>
          <a:xfrm flipH="1" rot="16200000">
            <a:off x="1745640" y="3015000"/>
            <a:ext cx="2160" cy="984960"/>
          </a:xfrm>
          <a:prstGeom prst="curvedConnector5">
            <a:avLst>
              <a:gd name="adj1" fmla="val -23800000"/>
              <a:gd name="adj2" fmla="val 49981"/>
              <a:gd name="adj3" fmla="val -238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8" idx="7"/>
            <a:endCxn id="69" idx="1"/>
          </p:cNvCxnSpPr>
          <p:nvPr/>
        </p:nvCxnSpPr>
        <p:spPr>
          <a:xfrm flipH="1" rot="16200000">
            <a:off x="3545640" y="3015000"/>
            <a:ext cx="2160" cy="984960"/>
          </a:xfrm>
          <a:prstGeom prst="curvedConnector5">
            <a:avLst>
              <a:gd name="adj1" fmla="val -23800000"/>
              <a:gd name="adj2" fmla="val 49981"/>
              <a:gd name="adj3" fmla="val -238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9" idx="7"/>
            <a:endCxn id="70" idx="1"/>
          </p:cNvCxnSpPr>
          <p:nvPr/>
        </p:nvCxnSpPr>
        <p:spPr>
          <a:xfrm flipH="1" rot="16200000">
            <a:off x="5346000" y="3015000"/>
            <a:ext cx="2160" cy="984960"/>
          </a:xfrm>
          <a:prstGeom prst="curvedConnector5">
            <a:avLst>
              <a:gd name="adj1" fmla="val -23800000"/>
              <a:gd name="adj2" fmla="val 49981"/>
              <a:gd name="adj3" fmla="val -238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70" idx="7"/>
            <a:endCxn id="71" idx="1"/>
          </p:cNvCxnSpPr>
          <p:nvPr/>
        </p:nvCxnSpPr>
        <p:spPr>
          <a:xfrm flipH="1" rot="16200000">
            <a:off x="7182000" y="2979360"/>
            <a:ext cx="2160" cy="1056240"/>
          </a:xfrm>
          <a:prstGeom prst="curvedConnector5">
            <a:avLst>
              <a:gd name="adj1" fmla="val -23800000"/>
              <a:gd name="adj2" fmla="val 49982"/>
              <a:gd name="adj3" fmla="val -238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0"/>
            <a:endCxn id="71" idx="4"/>
          </p:cNvCxnSpPr>
          <p:nvPr/>
        </p:nvCxnSpPr>
        <p:spPr>
          <a:xfrm flipH="1" rot="16200000">
            <a:off x="7524360" y="3931200"/>
            <a:ext cx="1189800" cy="2520"/>
          </a:xfrm>
          <a:prstGeom prst="curvedConnector5">
            <a:avLst>
              <a:gd name="adj1" fmla="val -17615"/>
              <a:gd name="adj2" fmla="val 25350000"/>
              <a:gd name="adj3" fmla="val -1761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8" idx="4"/>
            <a:endCxn id="67" idx="4"/>
          </p:cNvCxnSpPr>
          <p:nvPr/>
        </p:nvCxnSpPr>
        <p:spPr>
          <a:xfrm rot="5400000">
            <a:off x="1744560" y="3628080"/>
            <a:ext cx="2160" cy="1801080"/>
          </a:xfrm>
          <a:prstGeom prst="curvedConnector5">
            <a:avLst>
              <a:gd name="adj1" fmla="val 13200000"/>
              <a:gd name="adj2" fmla="val 50000"/>
              <a:gd name="adj3" fmla="val 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9" idx="4"/>
            <a:endCxn id="67" idx="4"/>
          </p:cNvCxnSpPr>
          <p:nvPr/>
        </p:nvCxnSpPr>
        <p:spPr>
          <a:xfrm rot="5400000">
            <a:off x="2644920" y="2728080"/>
            <a:ext cx="2160" cy="3601440"/>
          </a:xfrm>
          <a:prstGeom prst="curvedConnector5">
            <a:avLst>
              <a:gd name="adj1" fmla="val 54900000"/>
              <a:gd name="adj2" fmla="val 49995"/>
              <a:gd name="adj3" fmla="val 549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0" idx="4"/>
            <a:endCxn id="67" idx="4"/>
          </p:cNvCxnSpPr>
          <p:nvPr/>
        </p:nvCxnSpPr>
        <p:spPr>
          <a:xfrm rot="5400000">
            <a:off x="3544920" y="1828080"/>
            <a:ext cx="2160" cy="5401440"/>
          </a:xfrm>
          <a:prstGeom prst="curvedConnector5">
            <a:avLst>
              <a:gd name="adj1" fmla="val 119300000"/>
              <a:gd name="adj2" fmla="val 49996"/>
              <a:gd name="adj3" fmla="val 119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250920" y="2781360"/>
            <a:ext cx="88930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-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1-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-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-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4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4365720"/>
            <a:ext cx="856908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3716280"/>
            <a:ext cx="8425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4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5AF66-2414-455B-8B2B-85316BE752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677 0.00023 L 2.77778E-007 3.23699E-006 E">
                                      <p:cBhvr>
                                        <p:cTn id="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60280"/>
            <a:ext cx="8686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atriz de Transición P (paso 1).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br>
              <a:rPr sz="1800"/>
            </a:br>
            <a:br>
              <a:rPr sz="1600"/>
            </a:br>
            <a:endParaRPr b="1" lang="en-US" sz="18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562040" y="2646360"/>
                <a:ext cx="6096240" cy="278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3BCF7-4185-444E-88FB-1C88A40B43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86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La matriz de transición paso–t está definida como la matriz de probabilidades de moverse de un estado a otro en exactamente t períodos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l elemento (i, j) de la matriz de transición paso–t corresponde a la probabilidad de la Señora Juanita de tener recency=j despues de de t periodos dado que empezó en i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 las propiedades de las Cadenas de Markov es conocido que la matriz de transición del paso–t es exactamente la matriz producto de t matrices de paso 1.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endParaRPr b="1" lang="en-US" sz="16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619280" y="3573360"/>
                <a:ext cx="6095880" cy="278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8E4DD-5010-40F5-AA81-5D31B80D51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Flujos de caja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84360" y="1916280"/>
                <a:ext cx="334152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C</m:t>
                              </m:r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2997360"/>
            <a:ext cx="3743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flujos serán función del recency de la Señora Jua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C1183-DBE7-4917-89CA-EC217D3467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Valor presente esperad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39640" y="1916280"/>
                <a:ext cx="3998880" cy="35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d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</m:sSub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d>
                                  <m:dPr>
                                    <m:begChr m:val="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R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5148360" y="2852640"/>
            <a:ext cx="38401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Se supone que J-avon es neutro al riesgo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DFB8F-6B56-490D-8E6A-3315C16F99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135080" y="1916280"/>
                <a:ext cx="243828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Supongamos que: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C=40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CFCB8-7F72-49F3-86DB-5B4781C423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009800" y="2179800"/>
                <a:ext cx="6186240" cy="32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A3E27-17B5-47B9-9CC9-23D22B6E78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009800" y="2198520"/>
                <a:ext cx="7522920" cy="27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3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1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6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8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87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5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7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5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5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50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A42D5-29CE-4C06-9A77-7C818225ED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009800" y="2198520"/>
                <a:ext cx="7522920" cy="27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5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1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8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76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6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6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2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46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7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61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84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7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1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50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7E2C7-1A86-48A9-8DCB-E5E33D894F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USOS  DE LTV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Presupuesto de gastos de adquisición 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Presupuesto de gastos de retención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Manejo de presupuestos para medios, tipos de promociones, etc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Apoyo a decisiones de retención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10C3E-3B53-467F-868F-BEBFDB73F3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009800" y="2203560"/>
                <a:ext cx="7522920" cy="27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9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6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8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2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52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76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81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5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46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9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3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9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71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7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9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8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8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3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50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087BD-F714-4928-BC9A-DAB11334DB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...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135080" y="2558880"/>
                <a:ext cx="243828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5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92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8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alor presente de los flujos esperados para 4 perí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CE67E-2868-4B7C-B3F7-6E854A197F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...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35080" y="2558880"/>
                <a:ext cx="243828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5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92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8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alor presente de los flujos esperados para 4 perí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4149720"/>
            <a:ext cx="2303280" cy="64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/>
          <p:nvPr/>
        </p:nvCxnSpPr>
        <p:spPr>
          <a:xfrm>
            <a:off x="4066920" y="4508280"/>
            <a:ext cx="1873800" cy="433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6012000" y="4797360"/>
            <a:ext cx="2663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??????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43640" y="414972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4EEC-4723-43A9-85A7-9D371BC9DA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135080" y="2558880"/>
                <a:ext cx="243828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54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1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2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Horizonte infin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740AE-7500-4074-A99C-78B39D3839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135080" y="2558880"/>
                <a:ext cx="243828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54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1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2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Horizonte infin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4221000"/>
            <a:ext cx="2016360" cy="503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5084640"/>
            <a:ext cx="23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Qué pasa si no invierto en R=4????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endCxn id="125" idx="0"/>
          </p:cNvCxnSpPr>
          <p:nvPr/>
        </p:nvCxnSpPr>
        <p:spPr>
          <a:xfrm>
            <a:off x="3780000" y="4508280"/>
            <a:ext cx="101664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219640" y="4797360"/>
            <a:ext cx="3168720" cy="1511280"/>
          </a:xfrm>
          <a:prstGeom prst="cloudCallout">
            <a:avLst>
              <a:gd name="adj1" fmla="val -62777"/>
              <a:gd name="adj2" fmla="val -5903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9D8A6-D207-4AF8-9DB9-8B409B5879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135080" y="2558880"/>
                <a:ext cx="243828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54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1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2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292720" y="198900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uevo model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4221000"/>
            <a:ext cx="2016360" cy="503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3860640"/>
            <a:ext cx="3311640" cy="12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es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asta con hacer p4=0 y el cuarto elemento de R igual a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 flipV="1">
            <a:off x="3780000" y="3428280"/>
            <a:ext cx="576360" cy="1018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932360" y="1989000"/>
            <a:ext cx="3168720" cy="1511280"/>
          </a:xfrm>
          <a:prstGeom prst="cloudCallout">
            <a:avLst>
              <a:gd name="adj1" fmla="val -65731"/>
              <a:gd name="adj2" fmla="val 44958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9BAE5-FAAD-47B5-B1BC-A42545E430E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149480" y="2558880"/>
                <a:ext cx="240804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9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21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44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1252E-6C54-44FE-BBFF-B1933675DF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Caso 2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1773360"/>
            <a:ext cx="777708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upongamos que los flujos y los gastos de recapturar a la Señora Juanita dependen de cuando fue la última vez que compr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upongamos también que las probabilidades de compra varían con rec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5E9F4-5660-4503-B809-84324BA8A0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ando Caso 2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92360" y="2932200"/>
                <a:ext cx="6757920" cy="29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1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1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1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1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</m:e>
                      </m:mr>
                    </m:m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403280" y="2133720"/>
                <a:ext cx="6840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ate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50AB9-B640-4A42-A1F0-97104FF76EF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so 3:Customer Retention 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562040" y="3056040"/>
                <a:ext cx="6096240" cy="19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ate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P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R</m:t>
                              </m:r>
                            </m:e>
                            <m:e/>
                          </m:eqAr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ustomer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orme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ustomer</m:t>
                                </m:r>
                              </m:e>
                            </m:mr>
                          </m:m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p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C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294A5-CDD2-42BE-9ED0-C95DFC789A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276720"/>
            <a:ext cx="83059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= Horizonte de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Margen generado por el cliente el año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promocional dirigido al cliente el año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 = Tasa de R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 = Costo de Adqui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598760" y="1066680"/>
                <a:ext cx="5025960" cy="15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V</m:t>
                    </m:r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AE11-68A1-48E9-9F84-5895A4270A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Caso 4…Incluir Prospectos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042920" y="2565360"/>
                <a:ext cx="712944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ate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P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R</m:t>
                              </m:r>
                            </m:e>
                            <m:e/>
                          </m:eqAr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spect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ustomer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ormer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ustomer</m:t>
                                </m:r>
                              </m:e>
                            </m:mr>
                          </m:m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p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C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M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D6F7D-7E17-4D19-AFDE-C4068B6C96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so 4…Ingresos Esperados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562040" y="2205000"/>
                <a:ext cx="6096240" cy="36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spec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stomer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stome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ormer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ustome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2EAB7-9942-452E-A7F0-8C60137AC27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so 5: considerar frecuencia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826920" y="2389320"/>
                <a:ext cx="7105680" cy="27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ate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P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R</m:t>
                              </m:r>
                            </m:e>
                            <m:e/>
                          </m:eqAr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equency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equency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2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equency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equency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4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ormer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ustomer</m:t>
                                </m:r>
                              </m:e>
                            </m:mr>
                          </m:m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/>
                                </m:mr>
                              </m:m>
                            </m:e>
                          </m:d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C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C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C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C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0C096-0FD0-45C3-8A92-6E1FEB9446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16000" y="1052640"/>
            <a:ext cx="1368360" cy="1439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0000" y="1052640"/>
            <a:ext cx="1368360" cy="1439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1052640"/>
            <a:ext cx="1368360" cy="1439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3716280"/>
            <a:ext cx="1368360" cy="144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80000" y="3716280"/>
            <a:ext cx="1368360" cy="144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72360" y="3716280"/>
            <a:ext cx="1368360" cy="144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3" idx="1"/>
            <a:endCxn id="149" idx="5"/>
          </p:cNvCxnSpPr>
          <p:nvPr/>
        </p:nvCxnSpPr>
        <p:spPr>
          <a:xfrm flipH="1" flipV="1">
            <a:off x="2283840" y="2299680"/>
            <a:ext cx="1695960" cy="1608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3" idx="0"/>
            <a:endCxn id="150" idx="4"/>
          </p:cNvCxnSpPr>
          <p:nvPr/>
        </p:nvCxnSpPr>
        <p:spPr>
          <a:xfrm flipV="1">
            <a:off x="4463640" y="2511000"/>
            <a:ext cx="1080" cy="11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3" idx="7"/>
            <a:endCxn id="151" idx="3"/>
          </p:cNvCxnSpPr>
          <p:nvPr/>
        </p:nvCxnSpPr>
        <p:spPr>
          <a:xfrm flipV="1">
            <a:off x="4947840" y="2299680"/>
            <a:ext cx="1624680" cy="1608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52" idx="4"/>
            <a:endCxn id="153" idx="3"/>
          </p:cNvCxnSpPr>
          <p:nvPr/>
        </p:nvCxnSpPr>
        <p:spPr>
          <a:xfrm flipH="1" flipV="1" rot="5400000">
            <a:off x="2784240" y="3979440"/>
            <a:ext cx="212040" cy="2180160"/>
          </a:xfrm>
          <a:prstGeom prst="curvedConnector5">
            <a:avLst>
              <a:gd name="adj1" fmla="val -99149"/>
              <a:gd name="adj2" fmla="val 49991"/>
              <a:gd name="adj3" fmla="val -9914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3" idx="4"/>
            <a:endCxn id="154" idx="4"/>
          </p:cNvCxnSpPr>
          <p:nvPr/>
        </p:nvCxnSpPr>
        <p:spPr>
          <a:xfrm flipH="1" rot="16200000">
            <a:off x="5758200" y="3879720"/>
            <a:ext cx="2160" cy="2592720"/>
          </a:xfrm>
          <a:prstGeom prst="curvedConnector5">
            <a:avLst>
              <a:gd name="adj1" fmla="val 13200000"/>
              <a:gd name="adj2" fmla="val 49993"/>
              <a:gd name="adj3" fmla="val 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79280" y="836640"/>
            <a:ext cx="835344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1,f+1,m-1)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1,f+1,m)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(1,f+1,m+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r-1,f,m)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(r,f,m)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(r+1,f,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01E77-4C26-46F8-A967-FF06B5387E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SUPUESTOS 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Verdana"/>
              </a:rPr>
              <a:t>Una no respuesta de un cliente...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=&gt;Fin de la relació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Verdana"/>
              </a:rPr>
              <a:t>customer retention 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NO =&gt; Fin de la relación </a:t>
            </a:r>
            <a:r>
              <a:rPr b="1" lang="es-ES" sz="1600" spc="-1" strike="noStrike">
                <a:solidFill>
                  <a:srgbClr val="4d4d4d"/>
                </a:solidFill>
                <a:latin typeface="Verdana"/>
              </a:rPr>
              <a:t>(el cliente puede volver)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Verdana"/>
              </a:rPr>
              <a:t>customer migration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60F30-C771-4BB3-A1BA-B73A589996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...SUPUESTOS 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Verdana"/>
              </a:rPr>
              <a:t>Horizonte: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Finito </a:t>
            </a:r>
            <a:r>
              <a:rPr b="1" lang="es-ES" sz="1800" spc="-1" strike="noStrike">
                <a:solidFill>
                  <a:srgbClr val="4d4d4d"/>
                </a:solidFill>
                <a:latin typeface="Verdana"/>
              </a:rPr>
              <a:t>(Berger &amp;Nasr)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Infinito </a:t>
            </a:r>
            <a:r>
              <a:rPr b="1" lang="es-ES" sz="1800" spc="-1" strike="noStrike">
                <a:solidFill>
                  <a:srgbClr val="4d4d4d"/>
                </a:solidFill>
                <a:latin typeface="Verdana"/>
              </a:rPr>
              <a:t>(blattberg)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Verdana"/>
              </a:rPr>
              <a:t>Foco en clientes actuales </a:t>
            </a:r>
            <a:r>
              <a:rPr b="1" lang="es-ES" sz="1800" spc="-1" strike="noStrike">
                <a:solidFill>
                  <a:srgbClr val="4d4d4d"/>
                </a:solidFill>
                <a:latin typeface="Verdana"/>
              </a:rPr>
              <a:t>(Berger &amp;Nasr) </a:t>
            </a:r>
            <a:r>
              <a:rPr b="1" lang="es-ES" sz="3200" spc="-1" strike="noStrike">
                <a:solidFill>
                  <a:srgbClr val="4d4d4d"/>
                </a:solidFill>
                <a:latin typeface="Verdana"/>
              </a:rPr>
              <a:t>  Considerar prospectos </a:t>
            </a:r>
            <a:r>
              <a:rPr b="1" lang="es-ES" sz="2000" spc="-1" strike="noStrike">
                <a:solidFill>
                  <a:srgbClr val="4d4d4d"/>
                </a:solidFill>
                <a:latin typeface="Verdana"/>
              </a:rPr>
              <a:t>(blattberg)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4EC4-D926-48D3-997F-04050885D9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N552 – Gestión del Cliente</a:t>
            </a:r>
            <a:endParaRPr b="1" lang="en-US" sz="32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2895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d60093"/>
                </a:solidFill>
                <a:latin typeface="Verdana"/>
              </a:rPr>
              <a:t>Modelando las relaciones con los clientes con Cadenas de Markov</a:t>
            </a:r>
            <a:r>
              <a:rPr b="0" lang="es-MX" sz="4000" spc="-1" strike="noStrike">
                <a:solidFill>
                  <a:srgbClr val="dcf5b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fesor: William Young Ha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Semestre Primaver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Uso de Cadenas de Markov para calculo de LTV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10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d4d4d"/>
                </a:solidFill>
                <a:latin typeface="Verdana"/>
              </a:rPr>
              <a:t>Flexibilidad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Customer Retentio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Customer Migratio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Clientes actuales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ospectos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10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d4d4d"/>
                </a:solidFill>
                <a:latin typeface="Verdana"/>
              </a:rPr>
              <a:t>Modelo Probabilístico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Uso de probabilidades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Valores esperados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3" marL="140796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40B9-407D-4841-906A-8C272BA1F6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... Cadenas de Markov para calculo de LTV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d4d4d"/>
                </a:solidFill>
                <a:latin typeface="Verdana"/>
              </a:rPr>
              <a:t>...</a:t>
            </a:r>
            <a:r>
              <a:rPr b="1" lang="es-ES_tradnl" sz="4000" spc="-1" strike="noStrike">
                <a:solidFill>
                  <a:srgbClr val="4d4d4d"/>
                </a:solidFill>
                <a:latin typeface="Verdana"/>
              </a:rPr>
              <a:t>Modelo Probabilístico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Cambio de términos</a:t>
            </a:r>
            <a:r>
              <a:rPr b="1" lang="es-ES_tradnl" sz="4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(Pfeifer-Carraway)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Grupos/paneles=&gt;Sra. Juanita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Tasa de retención=&gt;prob. De mantenerse como cliente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Ingreso esperado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829BB-5915-42AE-9282-C1B7E4E824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Cadenas de Markov para calculo de LTV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d4d4d"/>
                </a:solidFill>
                <a:latin typeface="Verdana"/>
              </a:rPr>
              <a:t>Uso para mejorar la relación con el consumidor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d4d4d"/>
                </a:solidFill>
                <a:latin typeface="Verdana"/>
              </a:rPr>
              <a:t>Asociable a RFM</a:t>
            </a:r>
            <a:r>
              <a:rPr b="1" lang="es-ES_tradnl" sz="44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1" lang="en-US" sz="44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6BC64-114C-4C6F-A697-D78BDC0931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Administrador</cp:lastModifiedBy>
  <dcterms:modified xsi:type="dcterms:W3CDTF">2004-09-21T15:22:59Z</dcterms:modified>
  <cp:revision>387</cp:revision>
  <dc:subject/>
  <dc:title>IN58B Ingeniería de Marketing</dc:title>
</cp:coreProperties>
</file>