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91E6-953E-47E1-8720-31B3D910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87D-33B4-46B8-8A63-D0CE05FA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BAA-9794-49FA-88C1-4B115EB1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CE1-E020-4474-AE37-7AD8EBFD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C7F-CDC5-4680-8DC2-43E38C52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7FA-FAAA-4FA5-91F8-92D6AD19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CB5-7380-4C72-97B9-4CE5416C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8E8-D46A-49D7-8963-FA988831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AF6-EACE-4F83-84FD-ECC9C705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1A2-31E3-42B5-BCB0-80B92553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3C0-DBD4-4113-BD36-682C07F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DF7-247A-4A62-B05D-8DBA2EE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E85-BAD8-41DA-A052-82C09080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4001-B994-40F0-9BEA-EDC95494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FERRANDO</cp:lastModifiedBy>
  <cp:lastPrinted>2004-09-22T20:35:45Z</cp:lastPrinted>
  <dcterms:modified xsi:type="dcterms:W3CDTF">2004-09-22T20:39:33Z</dcterms:modified>
  <cp:revision>6</cp:revision>
  <dc:subject/>
  <dc:title>Mercado de capitales</dc:title>
</cp:coreProperties>
</file>