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51D7-2ED6-4100-B7C1-9CF533F9C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955" name="PlaceHolder 2"/>
          <p:cNvSpPr>
            <a:spLocks noGrp="1"/>
          </p:cNvSpPr>
          <p:nvPr>
            <p:ph type="body"/>
          </p:nvPr>
        </p:nvSpPr>
        <p:spPr>
          <a:xfrm>
            <a:off x="228600" y="4343040"/>
            <a:ext cx="640080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y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shows performance results for various asset categories and also shows how investors have allocated their assets mostly in the large-cap categ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x on the left shows how performance can be found in the growth, value, and blend equity categ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x on the right shows how investors in variable products have concentrated their assets in large-cap stocks and tended to favor growth stocks over value stocks. As a result, many investors missed potential opportunities in the other asset categories – because their portfolios were underdivers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ing this problem is the tendency of investors to chase returns – following last year’s strong performer. Unfortunately it has not been a historically sound practice. Let’s take a look at w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957" name="PlaceHolder 2"/>
          <p:cNvSpPr>
            <a:spLocks noGrp="1"/>
          </p:cNvSpPr>
          <p:nvPr>
            <p:ph type="body"/>
          </p:nvPr>
        </p:nvSpPr>
        <p:spPr>
          <a:xfrm>
            <a:off x="228600" y="4343040"/>
            <a:ext cx="640080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y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shows performance results for various asset categories and also shows how investors have allocated their assets mostly in the large-cap categ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x on the left shows how performance can be found in the growth, value, and blend equity categ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x on the right shows how investors in variable products have concentrated their assets in large-cap stocks and tended to favor growth stocks over value stocks. As a result, many investors missed potential opportunities in the other asset categories – because their portfolios were underdivers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ing this problem is the tendency of investors to chase returns – following last year’s strong performer. Unfortunately it has not been a historically sound practice. Let’s take a look at w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8" name=""/>
          <p:cNvSpPr/>
          <p:nvPr/>
        </p:nvSpPr>
        <p:spPr>
          <a:xfrm>
            <a:off x="388476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9" name=""/>
          <p:cNvSpPr/>
          <p:nvPr/>
        </p:nvSpPr>
        <p:spPr>
          <a:xfrm>
            <a:off x="0" y="868536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0" name=""/>
          <p:cNvSpPr/>
          <p:nvPr/>
        </p:nvSpPr>
        <p:spPr>
          <a:xfrm>
            <a:off x="0" y="-144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1" name=""/>
          <p:cNvSpPr/>
          <p:nvPr/>
        </p:nvSpPr>
        <p:spPr>
          <a:xfrm>
            <a:off x="3884760" y="-1440"/>
            <a:ext cx="297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2" name=""/>
          <p:cNvSpPr/>
          <p:nvPr/>
        </p:nvSpPr>
        <p:spPr>
          <a:xfrm>
            <a:off x="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3" name=""/>
          <p:cNvSpPr/>
          <p:nvPr/>
        </p:nvSpPr>
        <p:spPr>
          <a:xfrm>
            <a:off x="0" y="-1440"/>
            <a:ext cx="297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4" name=""/>
          <p:cNvSpPr/>
          <p:nvPr/>
        </p:nvSpPr>
        <p:spPr>
          <a:xfrm>
            <a:off x="3884760" y="-1440"/>
            <a:ext cx="297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5" name=""/>
          <p:cNvSpPr/>
          <p:nvPr/>
        </p:nvSpPr>
        <p:spPr>
          <a:xfrm>
            <a:off x="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6" name=""/>
          <p:cNvSpPr/>
          <p:nvPr/>
        </p:nvSpPr>
        <p:spPr>
          <a:xfrm>
            <a:off x="0" y="-1440"/>
            <a:ext cx="297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7" name=""/>
          <p:cNvSpPr/>
          <p:nvPr/>
        </p:nvSpPr>
        <p:spPr>
          <a:xfrm>
            <a:off x="3884760" y="-1440"/>
            <a:ext cx="297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8" name=""/>
          <p:cNvSpPr/>
          <p:nvPr/>
        </p:nvSpPr>
        <p:spPr>
          <a:xfrm>
            <a:off x="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9" name=""/>
          <p:cNvSpPr/>
          <p:nvPr/>
        </p:nvSpPr>
        <p:spPr>
          <a:xfrm>
            <a:off x="0" y="-1440"/>
            <a:ext cx="297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0" name="PlaceHolder 1"/>
          <p:cNvSpPr>
            <a:spLocks noGrp="1"/>
          </p:cNvSpPr>
          <p:nvPr>
            <p:ph type="sldImg"/>
          </p:nvPr>
        </p:nvSpPr>
        <p:spPr>
          <a:xfrm>
            <a:off x="1144440" y="3808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1" name="PlaceHolder 2"/>
          <p:cNvSpPr>
            <a:spLocks noGrp="1"/>
          </p:cNvSpPr>
          <p:nvPr>
            <p:ph type="body"/>
          </p:nvPr>
        </p:nvSpPr>
        <p:spPr>
          <a:xfrm>
            <a:off x="762120" y="3878280"/>
            <a:ext cx="586728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delity Advisor Mid Cap Fund gives your clients exposure to the mid-cap unive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Star Overall Morningstar Rating for Class T as of 6/30/0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 Stars out of 322 Mid-Cap Growth Funds 5-Year Morningstar Rating, 6/30/02 – Class 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st performance is no guarantee of future results. You may have a gain or loss when you sell your share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 Stars out of 475 Mid-Cap Growth Funds 3-Year Morningstar Rating, 6/30/02 –  Class 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st performance is no guarantee of future result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ility to invest in growth or value stoc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each fund with at least a three-year history, Morningstar calculates a Morningstar Rating (based on a Morningstar Risk-Adjusted Return measure that accounts for variation in a funds monthly performance (including the effects of sales charges, loads and redemption fees), placing more emphasis on downward variations and rewarding consistent performance. The top 10% of funds in each category receive 5 stars, the next 22.5% receive 4 stars, the next 35% receive 3 stars, the next 22.5% receive 2 stars and the bottom 10% receive 1 star. (Each share class is counted as a fraction of one fund within this scale and rated separately, which may cause slight variations in the distribution percentages.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provided by Morningstar, Inc.</a:t>
            </a:r>
            <a:r>
              <a:rPr b="0" lang="en-US" sz="9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2002. All rights reserved. The information contained herein: (1) is proprietary to Morningstar and/or its affiliates; (2) may not be copied or redistributed; (3) is not warranted to accurate, complete, or timely. Neither Morningstar nor its content providers are responsible for any damages or losses arising from any use of this information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953" name="PlaceHolder 2"/>
          <p:cNvSpPr>
            <a:spLocks noGrp="1"/>
          </p:cNvSpPr>
          <p:nvPr>
            <p:ph type="body"/>
          </p:nvPr>
        </p:nvSpPr>
        <p:spPr>
          <a:xfrm>
            <a:off x="228600" y="4343040"/>
            <a:ext cx="640080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y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shows performance results for various asset categories and also shows how investors have allocated their assets mostly in the large-cap categ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x on the left shows how performance can be found in the growth, value, and blend equity categ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x on the right shows how investors in variable products have concentrated their assets in large-cap stocks and tended to favor growth stocks over value stocks. As a result, many investors missed potential opportunities in the other asset categories – because their portfolios were underdivers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ing this problem is the tendency of investors to chase returns – following last year’s strong performer. Unfortunately it has not been a historically sound practice. Let’s take a look at w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11DE-6AFD-4023-962C-1FE8D5EBC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AC80-6834-4BAF-83D9-E19E97B4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4720-2801-44CC-B09A-46D92D45D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489A-8F93-4891-B9F5-AB2D15E6F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DC37-1108-43B9-AE82-9B92524A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48F0-C3AA-463D-8B1E-7ACAC64A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EA96-7018-41C2-BF81-9BAEB547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5A76-B5C0-4E48-9DEA-261F1E21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924D-12AB-48DE-A17C-4E1D83F7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53CC-0BDF-48C6-AF42-BBED4857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FF01-0A7C-46D9-B0EE-9B8C21A4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A6F8-9016-413A-ACFE-11EF516A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C4E2-8D57-47F4-A71E-4676AAE69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3300"/>
                </a:solidFill>
                <a:latin typeface="Arial"/>
              </a:rPr>
              <a:t>Mercado de capitales en Chil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1" name=""/>
          <p:cNvSpPr/>
          <p:nvPr/>
        </p:nvSpPr>
        <p:spPr>
          <a:xfrm>
            <a:off x="3976560" y="4168800"/>
            <a:ext cx="1262880" cy="307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dfdfd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ías.Segu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2" name=""/>
          <p:cNvSpPr/>
          <p:nvPr/>
        </p:nvSpPr>
        <p:spPr>
          <a:xfrm>
            <a:off x="4613400" y="4470480"/>
            <a:ext cx="563400" cy="48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"/>
          <p:cNvSpPr/>
          <p:nvPr/>
        </p:nvSpPr>
        <p:spPr>
          <a:xfrm>
            <a:off x="5396400" y="2463840"/>
            <a:ext cx="1410480" cy="307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71b871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ondos Mutu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"/>
          <p:cNvSpPr/>
          <p:nvPr/>
        </p:nvSpPr>
        <p:spPr>
          <a:xfrm>
            <a:off x="6483240" y="2751120"/>
            <a:ext cx="560520" cy="27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"/>
          <p:cNvSpPr/>
          <p:nvPr/>
        </p:nvSpPr>
        <p:spPr>
          <a:xfrm>
            <a:off x="6567480" y="1573200"/>
            <a:ext cx="1352520" cy="307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bf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Fdos I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"/>
          <p:cNvSpPr/>
          <p:nvPr/>
        </p:nvSpPr>
        <p:spPr>
          <a:xfrm>
            <a:off x="7594560" y="1870200"/>
            <a:ext cx="80496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"/>
          <p:cNvSpPr/>
          <p:nvPr/>
        </p:nvSpPr>
        <p:spPr>
          <a:xfrm>
            <a:off x="5221440" y="3316320"/>
            <a:ext cx="736920" cy="30708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50000">
                <a:srgbClr val="b469b4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.I.C.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"/>
          <p:cNvSpPr/>
          <p:nvPr/>
        </p:nvSpPr>
        <p:spPr>
          <a:xfrm>
            <a:off x="5700600" y="3611520"/>
            <a:ext cx="29232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9" name=""/>
          <p:cNvGrpSpPr/>
          <p:nvPr/>
        </p:nvGrpSpPr>
        <p:grpSpPr>
          <a:xfrm>
            <a:off x="1055520" y="1998720"/>
            <a:ext cx="7589880" cy="3389400"/>
            <a:chOff x="1055520" y="1998720"/>
            <a:chExt cx="7589880" cy="3389400"/>
          </a:xfrm>
        </p:grpSpPr>
        <p:sp>
          <p:nvSpPr>
            <p:cNvPr id="3720" name=""/>
            <p:cNvSpPr/>
            <p:nvPr/>
          </p:nvSpPr>
          <p:spPr>
            <a:xfrm>
              <a:off x="1055520" y="5316480"/>
              <a:ext cx="7589880" cy="71640"/>
            </a:xfrm>
            <a:custGeom>
              <a:avLst/>
              <a:gdLst/>
              <a:ahLst/>
              <a:rect l="l" t="t" r="r" b="b"/>
              <a:pathLst>
                <a:path w="4781" h="45">
                  <a:moveTo>
                    <a:pt x="0" y="45"/>
                  </a:moveTo>
                  <a:lnTo>
                    <a:pt x="59" y="0"/>
                  </a:lnTo>
                  <a:lnTo>
                    <a:pt x="4781" y="0"/>
                  </a:lnTo>
                  <a:lnTo>
                    <a:pt x="4722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1055520" y="1998720"/>
              <a:ext cx="93960" cy="3389400"/>
            </a:xfrm>
            <a:custGeom>
              <a:avLst/>
              <a:gdLst/>
              <a:ahLst/>
              <a:rect l="l" t="t" r="r" b="b"/>
              <a:pathLst>
                <a:path w="59" h="2135">
                  <a:moveTo>
                    <a:pt x="0" y="2135"/>
                  </a:moveTo>
                  <a:lnTo>
                    <a:pt x="0" y="45"/>
                  </a:lnTo>
                  <a:lnTo>
                    <a:pt x="59" y="0"/>
                  </a:lnTo>
                  <a:lnTo>
                    <a:pt x="59" y="2090"/>
                  </a:lnTo>
                  <a:lnTo>
                    <a:pt x="0" y="2135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1149480" y="1998720"/>
              <a:ext cx="7495920" cy="33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1055520" y="5316480"/>
              <a:ext cx="7589880" cy="71640"/>
            </a:xfrm>
            <a:custGeom>
              <a:avLst/>
              <a:gdLst/>
              <a:ahLst/>
              <a:rect l="l" t="t" r="r" b="b"/>
              <a:pathLst>
                <a:path w="4781" h="45">
                  <a:moveTo>
                    <a:pt x="4781" y="0"/>
                  </a:moveTo>
                  <a:lnTo>
                    <a:pt x="4722" y="45"/>
                  </a:lnTo>
                  <a:lnTo>
                    <a:pt x="0" y="45"/>
                  </a:lnTo>
                  <a:lnTo>
                    <a:pt x="59" y="0"/>
                  </a:lnTo>
                  <a:lnTo>
                    <a:pt x="4781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1055520" y="1998720"/>
              <a:ext cx="93960" cy="3389400"/>
            </a:xfrm>
            <a:custGeom>
              <a:avLst/>
              <a:gdLst/>
              <a:ahLst/>
              <a:rect l="l" t="t" r="r" b="b"/>
              <a:pathLst>
                <a:path w="59" h="2135">
                  <a:moveTo>
                    <a:pt x="0" y="2135"/>
                  </a:moveTo>
                  <a:lnTo>
                    <a:pt x="0" y="45"/>
                  </a:lnTo>
                  <a:lnTo>
                    <a:pt x="59" y="0"/>
                  </a:lnTo>
                  <a:lnTo>
                    <a:pt x="59" y="2090"/>
                  </a:lnTo>
                  <a:lnTo>
                    <a:pt x="0" y="2135"/>
                  </a:lnTo>
                  <a:close/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1149480" y="1998720"/>
              <a:ext cx="7495920" cy="3317760"/>
            </a:xfrm>
            <a:prstGeom prst="rect">
              <a:avLst/>
            </a:prstGeom>
            <a:noFill/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1160640" y="5340240"/>
              <a:ext cx="1080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1171440" y="5340240"/>
              <a:ext cx="1296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1184400" y="534024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1195560" y="5340240"/>
              <a:ext cx="1080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1206360" y="5340240"/>
              <a:ext cx="1296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1219320" y="5340240"/>
              <a:ext cx="11160" cy="349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1230480" y="5340240"/>
              <a:ext cx="108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124128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1252440" y="5340240"/>
              <a:ext cx="1296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1265400" y="5340240"/>
              <a:ext cx="1080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1276200" y="534024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1287360" y="5340240"/>
              <a:ext cx="1296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1300320" y="5340240"/>
              <a:ext cx="1080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1160640" y="534024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1160640" y="5327640"/>
              <a:ext cx="10800" cy="475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1171440" y="5327640"/>
              <a:ext cx="129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1184400" y="532764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1195560" y="5327640"/>
              <a:ext cx="1080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1206360" y="5327640"/>
              <a:ext cx="129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1219320" y="5327640"/>
              <a:ext cx="11160" cy="475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1230480" y="5327640"/>
              <a:ext cx="108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1241280" y="532764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1252440" y="5327640"/>
              <a:ext cx="129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1265400" y="5327640"/>
              <a:ext cx="1080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1276200" y="532764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1287360" y="5327640"/>
              <a:ext cx="129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1300320" y="5327640"/>
              <a:ext cx="1080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1160640" y="532764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1160640" y="5327640"/>
              <a:ext cx="1080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1171440" y="5327640"/>
              <a:ext cx="129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1184400" y="532764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1195560" y="5327640"/>
              <a:ext cx="1080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1206360" y="5327640"/>
              <a:ext cx="129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1219320" y="5327640"/>
              <a:ext cx="1116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1230480" y="5327640"/>
              <a:ext cx="108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1241280" y="5327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1252440" y="5327640"/>
              <a:ext cx="129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1265400" y="5327640"/>
              <a:ext cx="1080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1276200" y="532764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1287360" y="5327640"/>
              <a:ext cx="129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1300320" y="5327640"/>
              <a:ext cx="1080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1160640" y="532764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1427040" y="5340240"/>
              <a:ext cx="111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1438200" y="5340240"/>
              <a:ext cx="1260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145080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1461960" y="5340240"/>
              <a:ext cx="1116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1473120" y="5340240"/>
              <a:ext cx="129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1486080" y="5340240"/>
              <a:ext cx="1080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149688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1508040" y="5340240"/>
              <a:ext cx="129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1521000" y="5340240"/>
              <a:ext cx="1080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1531800" y="53402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1542960" y="5340240"/>
              <a:ext cx="1116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1554120" y="5340240"/>
              <a:ext cx="1260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156672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1577880" y="5340240"/>
              <a:ext cx="1116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1427040" y="53402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1427040" y="5327640"/>
              <a:ext cx="11160" cy="475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1438200" y="5327640"/>
              <a:ext cx="1260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1450800" y="532764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1461960" y="5327640"/>
              <a:ext cx="11160" cy="475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1473120" y="5327640"/>
              <a:ext cx="129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1486080" y="5327640"/>
              <a:ext cx="1080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1496880" y="532764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1508040" y="5327640"/>
              <a:ext cx="129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1521000" y="5327640"/>
              <a:ext cx="1080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1531800" y="532764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1542960" y="5327640"/>
              <a:ext cx="11160" cy="475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1554120" y="5327640"/>
              <a:ext cx="1260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1566720" y="532764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1577880" y="5327640"/>
              <a:ext cx="1116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1427040" y="532764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66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1427040" y="5327640"/>
              <a:ext cx="11160" cy="475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1438200" y="5327640"/>
              <a:ext cx="1260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1450800" y="532764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1461960" y="5327640"/>
              <a:ext cx="1116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1473120" y="5327640"/>
              <a:ext cx="129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1486080" y="5327640"/>
              <a:ext cx="1080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1496880" y="5327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1508040" y="5327640"/>
              <a:ext cx="129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1521000" y="5327640"/>
              <a:ext cx="1080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1531800" y="532764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1542960" y="5327640"/>
              <a:ext cx="1116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1554120" y="5327640"/>
              <a:ext cx="1260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1566720" y="532764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1577880" y="532764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1427040" y="532764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66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1693800" y="5340240"/>
              <a:ext cx="1260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170640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171756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1728720" y="5340240"/>
              <a:ext cx="1116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1739880" y="5340240"/>
              <a:ext cx="1260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1752480" y="53402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176364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1774800" y="5340240"/>
              <a:ext cx="126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1787400" y="53402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1798560" y="53402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1809720" y="5340240"/>
              <a:ext cx="1260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182232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183348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1844640" y="5340240"/>
              <a:ext cx="1260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1693800" y="53402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1693800" y="5327640"/>
              <a:ext cx="12600" cy="475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1706400" y="532764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1717560" y="532764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1728720" y="5327640"/>
              <a:ext cx="11160" cy="475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1739880" y="5327640"/>
              <a:ext cx="1260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1752480" y="5327640"/>
              <a:ext cx="1116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1763640" y="532764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1774800" y="5327640"/>
              <a:ext cx="126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1787400" y="5327640"/>
              <a:ext cx="1116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1798560" y="532764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1809720" y="5327640"/>
              <a:ext cx="12600" cy="475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1822320" y="532764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1833480" y="532764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1844640" y="5327640"/>
              <a:ext cx="1260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1693800" y="532764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66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1798560" y="5327640"/>
              <a:ext cx="11160" cy="4752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1809720" y="5327640"/>
              <a:ext cx="12600" cy="4752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1822320" y="532764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1833480" y="532764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1844640" y="5327640"/>
              <a:ext cx="12600" cy="475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1798560" y="5327640"/>
              <a:ext cx="46080" cy="36360"/>
            </a:xfrm>
            <a:custGeom>
              <a:avLst/>
              <a:gdLst/>
              <a:ahLst/>
              <a:rect l="l" t="t" r="r" b="b"/>
              <a:pathLst>
                <a:path w="29" h="23">
                  <a:moveTo>
                    <a:pt x="0" y="23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1693800" y="5351400"/>
              <a:ext cx="12600" cy="1260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1706400" y="5351400"/>
              <a:ext cx="11160" cy="126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1717560" y="5351400"/>
              <a:ext cx="11160" cy="126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1728720" y="5351400"/>
              <a:ext cx="11160" cy="1260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1739880" y="5351400"/>
              <a:ext cx="1260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1752480" y="5351400"/>
              <a:ext cx="1116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1763640" y="5351400"/>
              <a:ext cx="11160" cy="126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1774800" y="5351400"/>
              <a:ext cx="12600" cy="126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1787400" y="5351400"/>
              <a:ext cx="11160" cy="12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1693800" y="5351400"/>
              <a:ext cx="10476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1693800" y="5327640"/>
              <a:ext cx="12600" cy="47520"/>
            </a:xfrm>
            <a:prstGeom prst="rect">
              <a:avLst/>
            </a:prstGeom>
            <a:solidFill>
              <a:srgbClr val="2b6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1706400" y="5327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1717560" y="5327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1728720" y="532764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1693800" y="532764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0"/>
                  </a:moveTo>
                  <a:lnTo>
                    <a:pt x="22" y="0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1728720" y="5327640"/>
              <a:ext cx="115920" cy="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1693800" y="5327640"/>
              <a:ext cx="12600" cy="363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1706400" y="532764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1717560" y="532764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1728720" y="5327640"/>
              <a:ext cx="1116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1739880" y="5327640"/>
              <a:ext cx="1260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1752480" y="532764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1763640" y="53276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1774800" y="532764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1787400" y="532764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1798560" y="532764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1809720" y="5327640"/>
              <a:ext cx="1260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1822320" y="532764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1833480" y="532764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1844640" y="532764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1693800" y="53276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1960560" y="5340240"/>
              <a:ext cx="1260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197316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198432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1995480" y="5340240"/>
              <a:ext cx="1260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2008080" y="53402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2019240" y="53402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203040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2041560" y="5340240"/>
              <a:ext cx="126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2054160" y="53402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2065320" y="53402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2076480" y="5340240"/>
              <a:ext cx="1260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208908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210024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2111400" y="5340240"/>
              <a:ext cx="1260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1960560" y="53402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1960560" y="5327640"/>
              <a:ext cx="12600" cy="475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1973160" y="532764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1984320" y="532764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1995480" y="5327640"/>
              <a:ext cx="12600" cy="475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2008080" y="532764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2019240" y="5327640"/>
              <a:ext cx="1116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2030400" y="532764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2041560" y="5327640"/>
              <a:ext cx="126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2054160" y="5327640"/>
              <a:ext cx="1116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2065320" y="532764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2076480" y="5327640"/>
              <a:ext cx="12600" cy="475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2089080" y="532764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2100240" y="532764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2111400" y="5327640"/>
              <a:ext cx="1260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1960560" y="532764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73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73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2076480" y="5327640"/>
              <a:ext cx="12600" cy="475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2089080" y="532764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2100240" y="532764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2111400" y="5327640"/>
              <a:ext cx="12600" cy="475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2076480" y="532764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2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1960560" y="5351400"/>
              <a:ext cx="12600" cy="1260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1973160" y="5351400"/>
              <a:ext cx="11160" cy="1260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1984320" y="5351400"/>
              <a:ext cx="11160" cy="1260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1995480" y="5351400"/>
              <a:ext cx="12600" cy="1260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2008080" y="5351400"/>
              <a:ext cx="1116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0" name=""/>
          <p:cNvGrpSpPr/>
          <p:nvPr/>
        </p:nvGrpSpPr>
        <p:grpSpPr>
          <a:xfrm>
            <a:off x="1960560" y="5268960"/>
            <a:ext cx="963720" cy="106200"/>
            <a:chOff x="1960560" y="5268960"/>
            <a:chExt cx="963720" cy="106200"/>
          </a:xfrm>
        </p:grpSpPr>
        <p:sp>
          <p:nvSpPr>
            <p:cNvPr id="3921" name=""/>
            <p:cNvSpPr/>
            <p:nvPr/>
          </p:nvSpPr>
          <p:spPr>
            <a:xfrm>
              <a:off x="2019240" y="5351400"/>
              <a:ext cx="1116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2030400" y="5351400"/>
              <a:ext cx="11160" cy="1260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2041560" y="5351400"/>
              <a:ext cx="12600" cy="1260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2054160" y="5351400"/>
              <a:ext cx="11160" cy="1260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2065320" y="5351400"/>
              <a:ext cx="11160" cy="12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1960560" y="5351400"/>
              <a:ext cx="11592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1960560" y="5327640"/>
              <a:ext cx="12600" cy="47520"/>
            </a:xfrm>
            <a:prstGeom prst="rect">
              <a:avLst/>
            </a:prstGeom>
            <a:solidFill>
              <a:srgbClr val="2b6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1973160" y="5327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1984320" y="5327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1995480" y="5327640"/>
              <a:ext cx="1260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1960560" y="532764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0"/>
                  </a:moveTo>
                  <a:lnTo>
                    <a:pt x="22" y="0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1995480" y="5327640"/>
              <a:ext cx="115920" cy="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1960560" y="5327640"/>
              <a:ext cx="12600" cy="363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1973160" y="532764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1984320" y="532764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1995480" y="5327640"/>
              <a:ext cx="1260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2008080" y="532764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2019240" y="532764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2030400" y="53276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2041560" y="532764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2054160" y="532764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2065320" y="532764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2076480" y="5327640"/>
              <a:ext cx="1260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2089080" y="532764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2100240" y="532764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2111400" y="532764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1960560" y="53276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2227320" y="5340240"/>
              <a:ext cx="1260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223992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225108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2262240" y="5340240"/>
              <a:ext cx="1260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2274840" y="53402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2286000" y="53402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2297160" y="5340240"/>
              <a:ext cx="126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230976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2320920" y="53402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2332080" y="5340240"/>
              <a:ext cx="1260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2344680" y="5340240"/>
              <a:ext cx="1116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2355840" y="53402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2367000" y="53402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2378160" y="5340240"/>
              <a:ext cx="1260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2227320" y="53402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4" y="15"/>
                  </a:moveTo>
                  <a:lnTo>
                    <a:pt x="95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74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2344680" y="5327640"/>
              <a:ext cx="11160" cy="475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2355840" y="5327640"/>
              <a:ext cx="11160" cy="475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2367000" y="5327640"/>
              <a:ext cx="11160" cy="475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2378160" y="5327640"/>
              <a:ext cx="12600" cy="47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2344680" y="5327640"/>
              <a:ext cx="33480" cy="3636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0" y="23"/>
                  </a:moveTo>
                  <a:lnTo>
                    <a:pt x="0" y="15"/>
                  </a:lnTo>
                  <a:lnTo>
                    <a:pt x="21" y="0"/>
                  </a:lnTo>
                  <a:lnTo>
                    <a:pt x="21" y="8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2227320" y="5351400"/>
              <a:ext cx="12600" cy="1260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2239920" y="5351400"/>
              <a:ext cx="11160" cy="1260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2251080" y="5351400"/>
              <a:ext cx="11160" cy="1260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2262240" y="5351400"/>
              <a:ext cx="12600" cy="1260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2274840" y="5351400"/>
              <a:ext cx="11160" cy="126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2286000" y="5351400"/>
              <a:ext cx="11160" cy="126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2297160" y="5351400"/>
              <a:ext cx="12600" cy="1260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2309760" y="5351400"/>
              <a:ext cx="11160" cy="1260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2320920" y="5351400"/>
              <a:ext cx="11160" cy="1260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2332080" y="5351400"/>
              <a:ext cx="12600" cy="12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2227320" y="5351400"/>
              <a:ext cx="11736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2227320" y="5327640"/>
              <a:ext cx="12600" cy="3636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2239920" y="5327640"/>
              <a:ext cx="1116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2251080" y="5327640"/>
              <a:ext cx="111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2262240" y="5327640"/>
              <a:ext cx="12600" cy="3636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2274840" y="5327640"/>
              <a:ext cx="1116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2286000" y="5327640"/>
              <a:ext cx="1116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2297160" y="532764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2309760" y="532764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2320920" y="5327640"/>
              <a:ext cx="1116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2332080" y="5327640"/>
              <a:ext cx="1260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2344680" y="5327640"/>
              <a:ext cx="11160" cy="3636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2355840" y="5327640"/>
              <a:ext cx="111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2367000" y="5327640"/>
              <a:ext cx="1116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2378160" y="5327640"/>
              <a:ext cx="1260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2227320" y="53276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4" y="15"/>
                  </a:moveTo>
                  <a:lnTo>
                    <a:pt x="95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74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2344680" y="5303880"/>
              <a:ext cx="11160" cy="601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2355840" y="5303880"/>
              <a:ext cx="11160" cy="601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2367000" y="5303880"/>
              <a:ext cx="11160" cy="601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2378160" y="5303880"/>
              <a:ext cx="12600" cy="601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2344680" y="5303880"/>
              <a:ext cx="33480" cy="4752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0" y="30"/>
                  </a:moveTo>
                  <a:lnTo>
                    <a:pt x="0" y="23"/>
                  </a:lnTo>
                  <a:lnTo>
                    <a:pt x="21" y="0"/>
                  </a:lnTo>
                  <a:lnTo>
                    <a:pt x="21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2227320" y="5340240"/>
              <a:ext cx="12600" cy="1116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2239920" y="5340240"/>
              <a:ext cx="11160" cy="111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2251080" y="5340240"/>
              <a:ext cx="11160" cy="1116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2262240" y="5340240"/>
              <a:ext cx="12600" cy="111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2274840" y="5340240"/>
              <a:ext cx="1116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2286000" y="5340240"/>
              <a:ext cx="1116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2297160" y="5340240"/>
              <a:ext cx="12600" cy="111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2309760" y="5340240"/>
              <a:ext cx="11160" cy="1116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2320920" y="5340240"/>
              <a:ext cx="11160" cy="111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2332080" y="5340240"/>
              <a:ext cx="12600" cy="11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2227320" y="5340240"/>
              <a:ext cx="117360" cy="11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2227320" y="5303880"/>
              <a:ext cx="12600" cy="475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2239920" y="530388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2251080" y="530388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2262240" y="5303880"/>
              <a:ext cx="1260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2274840" y="530388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2286000" y="5303880"/>
              <a:ext cx="1116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2297160" y="5303880"/>
              <a:ext cx="126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2309760" y="530388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2320920" y="5303880"/>
              <a:ext cx="1116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2332080" y="5303880"/>
              <a:ext cx="1260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2344680" y="5303880"/>
              <a:ext cx="1116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2355840" y="530388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2367000" y="530388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2378160" y="5303880"/>
              <a:ext cx="1260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2227320" y="530388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74" y="23"/>
                  </a:moveTo>
                  <a:lnTo>
                    <a:pt x="95" y="0"/>
                  </a:lnTo>
                  <a:lnTo>
                    <a:pt x="30" y="0"/>
                  </a:lnTo>
                  <a:lnTo>
                    <a:pt x="0" y="23"/>
                  </a:lnTo>
                  <a:lnTo>
                    <a:pt x="74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2506680" y="5340240"/>
              <a:ext cx="111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2517840" y="5340240"/>
              <a:ext cx="1260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2530440" y="534024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2541600" y="534024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2552760" y="5340240"/>
              <a:ext cx="1116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2563920" y="5340240"/>
              <a:ext cx="12600" cy="349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257652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2587680" y="53402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2598840" y="5340240"/>
              <a:ext cx="1260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2611440" y="534024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2622600" y="534024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2633760" y="5340240"/>
              <a:ext cx="1260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2646360" y="5340240"/>
              <a:ext cx="1116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2506680" y="534024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2611440" y="5316480"/>
              <a:ext cx="11160" cy="586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2622600" y="5316480"/>
              <a:ext cx="11160" cy="586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2633760" y="5316480"/>
              <a:ext cx="12600" cy="586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2646360" y="5316480"/>
              <a:ext cx="11160" cy="586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2611440" y="531648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3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2506680" y="5340240"/>
              <a:ext cx="11160" cy="237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2517840" y="5340240"/>
              <a:ext cx="1260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2530440" y="534024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2541600" y="5340240"/>
              <a:ext cx="11160" cy="237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2552760" y="5340240"/>
              <a:ext cx="1116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2563920" y="5340240"/>
              <a:ext cx="1260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2576520" y="534024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2587680" y="5340240"/>
              <a:ext cx="1116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2598840" y="5340240"/>
              <a:ext cx="12600" cy="23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2506680" y="534024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2506680" y="5316480"/>
              <a:ext cx="11160" cy="349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2517840" y="5316480"/>
              <a:ext cx="1260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2530440" y="531648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2541600" y="531648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2552760" y="5316480"/>
              <a:ext cx="111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2563920" y="5316480"/>
              <a:ext cx="12600" cy="349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2576520" y="531648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2587680" y="531648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2598840" y="5316480"/>
              <a:ext cx="1260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2611440" y="531648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2622600" y="531648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2633760" y="5316480"/>
              <a:ext cx="1260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2646360" y="5316480"/>
              <a:ext cx="1116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2506680" y="531648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2611440" y="5268960"/>
              <a:ext cx="11160" cy="824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2622600" y="5268960"/>
              <a:ext cx="11160" cy="824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2633760" y="5268960"/>
              <a:ext cx="12600" cy="824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2646360" y="5268960"/>
              <a:ext cx="11160" cy="824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2611440" y="5268960"/>
              <a:ext cx="34920" cy="7128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0" y="45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4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2506680" y="5303880"/>
              <a:ext cx="11160" cy="363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2517840" y="5303880"/>
              <a:ext cx="12600" cy="363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2530440" y="5303880"/>
              <a:ext cx="11160" cy="363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2541600" y="5303880"/>
              <a:ext cx="11160" cy="363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2552760" y="5303880"/>
              <a:ext cx="11160" cy="363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2563920" y="5303880"/>
              <a:ext cx="12600" cy="363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2576520" y="5303880"/>
              <a:ext cx="11160" cy="363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2587680" y="5303880"/>
              <a:ext cx="11160" cy="363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2598840" y="5303880"/>
              <a:ext cx="12600" cy="36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2506680" y="5303880"/>
              <a:ext cx="104760" cy="36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2506680" y="526896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2517840" y="526896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2530440" y="526896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2541600" y="526896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2552760" y="526896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2563920" y="5268960"/>
              <a:ext cx="1260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2576520" y="526896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2587680" y="526896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2598840" y="5268960"/>
              <a:ext cx="126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2611440" y="526896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2622600" y="526896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2633760" y="526896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2646360" y="526896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2506680" y="5268960"/>
              <a:ext cx="139680" cy="3492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66" y="22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2878200" y="5316480"/>
              <a:ext cx="11160" cy="586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2889360" y="5316480"/>
              <a:ext cx="11160" cy="586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2900520" y="5316480"/>
              <a:ext cx="12600" cy="586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2913120" y="5316480"/>
              <a:ext cx="11160" cy="586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2878200" y="531648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30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2773440" y="5351400"/>
              <a:ext cx="11160" cy="126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2784600" y="5351400"/>
              <a:ext cx="12600" cy="126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2797200" y="5351400"/>
              <a:ext cx="11160" cy="126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2808360" y="5351400"/>
              <a:ext cx="11160" cy="126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2819520" y="5351400"/>
              <a:ext cx="12600" cy="126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2832120" y="5351400"/>
              <a:ext cx="11160" cy="126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2843280" y="5351400"/>
              <a:ext cx="11160" cy="126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2854440" y="5351400"/>
              <a:ext cx="11160" cy="126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2865600" y="5351400"/>
              <a:ext cx="12600" cy="126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2773440" y="5351400"/>
              <a:ext cx="10476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2773440" y="5316480"/>
              <a:ext cx="1116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2784600" y="5316480"/>
              <a:ext cx="1260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2797200" y="5316480"/>
              <a:ext cx="111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2808360" y="531648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2819520" y="5316480"/>
              <a:ext cx="1260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2832120" y="5316480"/>
              <a:ext cx="11160" cy="475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2843280" y="531648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2854440" y="531648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2865600" y="5316480"/>
              <a:ext cx="1260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1" name=""/>
          <p:cNvGrpSpPr/>
          <p:nvPr/>
        </p:nvGrpSpPr>
        <p:grpSpPr>
          <a:xfrm>
            <a:off x="2773440" y="5245200"/>
            <a:ext cx="684000" cy="129960"/>
            <a:chOff x="2773440" y="5245200"/>
            <a:chExt cx="684000" cy="129960"/>
          </a:xfrm>
        </p:grpSpPr>
        <p:sp>
          <p:nvSpPr>
            <p:cNvPr id="4122" name=""/>
            <p:cNvSpPr/>
            <p:nvPr/>
          </p:nvSpPr>
          <p:spPr>
            <a:xfrm>
              <a:off x="2878200" y="531648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2889360" y="5316480"/>
              <a:ext cx="111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2900520" y="5316480"/>
              <a:ext cx="1260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2913120" y="5316480"/>
              <a:ext cx="1116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2773440" y="5316480"/>
              <a:ext cx="139680" cy="3492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66" y="22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2878200" y="5292720"/>
              <a:ext cx="11160" cy="712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2889360" y="5292720"/>
              <a:ext cx="11160" cy="71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2900520" y="5292720"/>
              <a:ext cx="12600" cy="71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2913120" y="5292720"/>
              <a:ext cx="11160" cy="71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2878200" y="5292720"/>
              <a:ext cx="34920" cy="5868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0" y="37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2773440" y="5316480"/>
              <a:ext cx="11160" cy="349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2784600" y="5316480"/>
              <a:ext cx="12600" cy="34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2797200" y="5316480"/>
              <a:ext cx="11160" cy="34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2808360" y="5316480"/>
              <a:ext cx="11160" cy="349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2819520" y="5316480"/>
              <a:ext cx="12600" cy="34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2832120" y="5316480"/>
              <a:ext cx="11160" cy="34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2843280" y="5316480"/>
              <a:ext cx="11160" cy="34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2854440" y="5316480"/>
              <a:ext cx="11160" cy="34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2865600" y="5316480"/>
              <a:ext cx="12600" cy="34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2773440" y="5316480"/>
              <a:ext cx="104760" cy="34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2773440" y="5292720"/>
              <a:ext cx="11160" cy="349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2784600" y="5292720"/>
              <a:ext cx="1260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2797200" y="529272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2808360" y="529272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2819520" y="5292720"/>
              <a:ext cx="1260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2832120" y="5292720"/>
              <a:ext cx="11160" cy="349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2843280" y="529272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2854440" y="529272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2865600" y="5292720"/>
              <a:ext cx="1260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2878200" y="529272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2889360" y="529272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2900520" y="5292720"/>
              <a:ext cx="1260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2913120" y="5292720"/>
              <a:ext cx="1116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2773440" y="529272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2878200" y="5256360"/>
              <a:ext cx="11160" cy="712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2889360" y="5256360"/>
              <a:ext cx="11160" cy="712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2900520" y="5256360"/>
              <a:ext cx="12600" cy="712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2913120" y="5256360"/>
              <a:ext cx="11160" cy="712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2878200" y="5256360"/>
              <a:ext cx="34920" cy="6012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3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2773440" y="5280120"/>
              <a:ext cx="11160" cy="363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2784600" y="5280120"/>
              <a:ext cx="12600" cy="363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2797200" y="5280120"/>
              <a:ext cx="11160" cy="363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2808360" y="5280120"/>
              <a:ext cx="11160" cy="363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2819520" y="5280120"/>
              <a:ext cx="12600" cy="363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2832120" y="5280120"/>
              <a:ext cx="11160" cy="363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2843280" y="5280120"/>
              <a:ext cx="11160" cy="363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2854440" y="5280120"/>
              <a:ext cx="11160" cy="363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2865600" y="5280120"/>
              <a:ext cx="12600" cy="36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2773440" y="5280120"/>
              <a:ext cx="104760" cy="36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2773440" y="5256360"/>
              <a:ext cx="111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2784600" y="525636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2797200" y="525636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2808360" y="525636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2819520" y="5256360"/>
              <a:ext cx="126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2832120" y="525636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2843280" y="52563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2854440" y="52563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2865600" y="5256360"/>
              <a:ext cx="126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2878200" y="525636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2889360" y="525636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2900520" y="525636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2913120" y="525636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2773440" y="525636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3144960" y="5303880"/>
              <a:ext cx="11160" cy="712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3156120" y="5303880"/>
              <a:ext cx="12600" cy="712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3168720" y="5303880"/>
              <a:ext cx="11160" cy="712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3179880" y="5303880"/>
              <a:ext cx="11160" cy="712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3144960" y="5303880"/>
              <a:ext cx="34920" cy="6012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3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3040200" y="5327640"/>
              <a:ext cx="10800" cy="363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3051000" y="5327640"/>
              <a:ext cx="12960" cy="36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3063960" y="5327640"/>
              <a:ext cx="11160" cy="36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3075120" y="5327640"/>
              <a:ext cx="11160" cy="363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3086280" y="5327640"/>
              <a:ext cx="12600" cy="36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3098880" y="5327640"/>
              <a:ext cx="11160" cy="36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3110040" y="5327640"/>
              <a:ext cx="11160" cy="36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3121200" y="5327640"/>
              <a:ext cx="12600" cy="36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3133800" y="5327640"/>
              <a:ext cx="11160" cy="36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3040200" y="5327640"/>
              <a:ext cx="104760" cy="36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3040200" y="5303880"/>
              <a:ext cx="1080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3051000" y="5303880"/>
              <a:ext cx="129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3063960" y="530388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3075120" y="530388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3086280" y="5303880"/>
              <a:ext cx="126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3098880" y="5303880"/>
              <a:ext cx="111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3110040" y="53038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3121200" y="530388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3133800" y="530388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3144960" y="530388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3156120" y="5303880"/>
              <a:ext cx="1260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3168720" y="530388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3179880" y="530388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3040200" y="530388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3144960" y="5280120"/>
              <a:ext cx="11160" cy="601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3156120" y="5280120"/>
              <a:ext cx="12600" cy="601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3168720" y="5280120"/>
              <a:ext cx="11160" cy="601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3179880" y="5280120"/>
              <a:ext cx="11160" cy="60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3144960" y="528012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3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3040200" y="5303880"/>
              <a:ext cx="10800" cy="237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3051000" y="5303880"/>
              <a:ext cx="1296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3063960" y="530388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3075120" y="5303880"/>
              <a:ext cx="11160" cy="237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3086280" y="5303880"/>
              <a:ext cx="1260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3098880" y="5303880"/>
              <a:ext cx="1116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3110040" y="530388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3121200" y="5303880"/>
              <a:ext cx="1260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3133800" y="5303880"/>
              <a:ext cx="11160" cy="23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3040200" y="530388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3040200" y="5280120"/>
              <a:ext cx="10800" cy="3636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3051000" y="5280120"/>
              <a:ext cx="1296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3063960" y="528012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3075120" y="528012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3086280" y="5280120"/>
              <a:ext cx="1260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3098880" y="5280120"/>
              <a:ext cx="11160" cy="3636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3110040" y="528012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3121200" y="528012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3133800" y="5280120"/>
              <a:ext cx="1116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3144960" y="528012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3156120" y="5280120"/>
              <a:ext cx="1260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3168720" y="5280120"/>
              <a:ext cx="1116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3179880" y="5280120"/>
              <a:ext cx="1116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3040200" y="528012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3144960" y="5256360"/>
              <a:ext cx="11160" cy="601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3156120" y="5256360"/>
              <a:ext cx="12600" cy="601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3168720" y="5256360"/>
              <a:ext cx="11160" cy="601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3179880" y="5256360"/>
              <a:ext cx="11160" cy="601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3144960" y="525636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3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3040200" y="5280120"/>
              <a:ext cx="10800" cy="237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3051000" y="5280120"/>
              <a:ext cx="1296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3063960" y="5280120"/>
              <a:ext cx="1116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3075120" y="5280120"/>
              <a:ext cx="11160" cy="237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3086280" y="5280120"/>
              <a:ext cx="1260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3098880" y="5280120"/>
              <a:ext cx="1116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3110040" y="5280120"/>
              <a:ext cx="1116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3121200" y="5280120"/>
              <a:ext cx="1260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3133800" y="5280120"/>
              <a:ext cx="11160" cy="23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3040200" y="528012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3040200" y="5256360"/>
              <a:ext cx="1080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3051000" y="5256360"/>
              <a:ext cx="129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3063960" y="525636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3075120" y="525636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3086280" y="5256360"/>
              <a:ext cx="126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3098880" y="525636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3110040" y="52563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3121200" y="525636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3133800" y="525636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3144960" y="525636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3156120" y="525636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3168720" y="525636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3179880" y="525636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3040200" y="525636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3411360" y="5280120"/>
              <a:ext cx="11160" cy="950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3422520" y="5280120"/>
              <a:ext cx="12960" cy="950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3435480" y="5280120"/>
              <a:ext cx="11160" cy="950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3446640" y="5280120"/>
              <a:ext cx="10800" cy="950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3411360" y="5280120"/>
              <a:ext cx="35280" cy="8388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8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3306600" y="5303880"/>
              <a:ext cx="12960" cy="6012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3319560" y="5303880"/>
              <a:ext cx="11160" cy="601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3330720" y="5303880"/>
              <a:ext cx="10800" cy="601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3341520" y="5303880"/>
              <a:ext cx="11160" cy="6012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3352680" y="5303880"/>
              <a:ext cx="12960" cy="601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3365640" y="5303880"/>
              <a:ext cx="10800" cy="601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3376440" y="5303880"/>
              <a:ext cx="11160" cy="601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3387600" y="5303880"/>
              <a:ext cx="12960" cy="601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3400560" y="5303880"/>
              <a:ext cx="10800" cy="601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3306600" y="5303880"/>
              <a:ext cx="104760" cy="60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3306600" y="5280120"/>
              <a:ext cx="129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3319560" y="528012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3330720" y="5280120"/>
              <a:ext cx="1080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3341520" y="528012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3352680" y="5280120"/>
              <a:ext cx="129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3365640" y="5280120"/>
              <a:ext cx="1080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3376440" y="528012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3387600" y="5280120"/>
              <a:ext cx="129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3400560" y="5280120"/>
              <a:ext cx="108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3411360" y="528012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3422520" y="5280120"/>
              <a:ext cx="129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3435480" y="528012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3446640" y="5280120"/>
              <a:ext cx="1080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3306600" y="5280120"/>
              <a:ext cx="14004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3411360" y="5245200"/>
              <a:ext cx="11160" cy="712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3422520" y="5245200"/>
              <a:ext cx="12960" cy="71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3435480" y="5245200"/>
              <a:ext cx="11160" cy="71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3446640" y="5245200"/>
              <a:ext cx="10800" cy="71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3411360" y="5245200"/>
              <a:ext cx="35280" cy="5868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0" y="37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22"/>
                  </a:lnTo>
                  <a:lnTo>
                    <a:pt x="0" y="3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3306600" y="5280120"/>
              <a:ext cx="12960" cy="237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3319560" y="5280120"/>
              <a:ext cx="1116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3330720" y="5280120"/>
              <a:ext cx="1080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3341520" y="5280120"/>
              <a:ext cx="11160" cy="237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3352680" y="5280120"/>
              <a:ext cx="1296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3365640" y="5280120"/>
              <a:ext cx="1080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3376440" y="528012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3387600" y="5280120"/>
              <a:ext cx="1296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3400560" y="5280120"/>
              <a:ext cx="10800" cy="23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3306600" y="528012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3306600" y="5245200"/>
              <a:ext cx="12960" cy="475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3319560" y="5245200"/>
              <a:ext cx="111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3330720" y="5245200"/>
              <a:ext cx="1080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3341520" y="524520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3352680" y="5245200"/>
              <a:ext cx="129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3365640" y="5245200"/>
              <a:ext cx="10800" cy="475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2" name=""/>
          <p:cNvGrpSpPr/>
          <p:nvPr/>
        </p:nvGrpSpPr>
        <p:grpSpPr>
          <a:xfrm>
            <a:off x="3306600" y="5219640"/>
            <a:ext cx="685800" cy="155520"/>
            <a:chOff x="3306600" y="5219640"/>
            <a:chExt cx="685800" cy="155520"/>
          </a:xfrm>
        </p:grpSpPr>
        <p:sp>
          <p:nvSpPr>
            <p:cNvPr id="4323" name=""/>
            <p:cNvSpPr/>
            <p:nvPr/>
          </p:nvSpPr>
          <p:spPr>
            <a:xfrm>
              <a:off x="3376440" y="524520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3387600" y="5245200"/>
              <a:ext cx="129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3400560" y="5245200"/>
              <a:ext cx="1080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3411360" y="524520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3422520" y="5245200"/>
              <a:ext cx="129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3435480" y="5245200"/>
              <a:ext cx="111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3446640" y="5245200"/>
              <a:ext cx="1080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3306600" y="5245200"/>
              <a:ext cx="140040" cy="3492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66" y="22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3411360" y="5245200"/>
              <a:ext cx="11160" cy="475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3422520" y="5245200"/>
              <a:ext cx="129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3435480" y="524520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3446640" y="5245200"/>
              <a:ext cx="10800" cy="475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3411360" y="5245200"/>
              <a:ext cx="3528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22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3306600" y="5268960"/>
              <a:ext cx="12960" cy="111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3319560" y="5268960"/>
              <a:ext cx="11160" cy="11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3330720" y="5268960"/>
              <a:ext cx="10800" cy="11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3341520" y="5268960"/>
              <a:ext cx="11160" cy="111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3352680" y="5268960"/>
              <a:ext cx="1296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3365640" y="5268960"/>
              <a:ext cx="1080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3376440" y="5268960"/>
              <a:ext cx="11160" cy="11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3387600" y="5268960"/>
              <a:ext cx="12960" cy="11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3400560" y="5268960"/>
              <a:ext cx="10800" cy="11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3306600" y="5268960"/>
              <a:ext cx="104760" cy="11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3306600" y="5245200"/>
              <a:ext cx="12960" cy="47520"/>
            </a:xfrm>
            <a:prstGeom prst="rect">
              <a:avLst/>
            </a:prstGeom>
            <a:solidFill>
              <a:srgbClr val="2b6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3319560" y="524520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3330720" y="5245200"/>
              <a:ext cx="108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3341520" y="524520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3306600" y="524520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2" y="0"/>
                  </a:moveTo>
                  <a:lnTo>
                    <a:pt x="22" y="0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3341520" y="5245200"/>
              <a:ext cx="105120" cy="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3306600" y="5245200"/>
              <a:ext cx="12960" cy="349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3319560" y="5245200"/>
              <a:ext cx="11160" cy="349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3330720" y="5245200"/>
              <a:ext cx="10800" cy="349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3341520" y="5245200"/>
              <a:ext cx="11160" cy="349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3352680" y="5245200"/>
              <a:ext cx="12960" cy="349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3365640" y="5245200"/>
              <a:ext cx="10800" cy="349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3376440" y="524520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3387600" y="5245200"/>
              <a:ext cx="129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3400560" y="5245200"/>
              <a:ext cx="10800" cy="349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3411360" y="5245200"/>
              <a:ext cx="11160" cy="349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3422520" y="5245200"/>
              <a:ext cx="12960" cy="349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3435480" y="5245200"/>
              <a:ext cx="11160" cy="349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3446640" y="5245200"/>
              <a:ext cx="1080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3306600" y="5245200"/>
              <a:ext cx="14004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3678120" y="5268960"/>
              <a:ext cx="11160" cy="1062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3689280" y="5268960"/>
              <a:ext cx="12600" cy="1062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3701880" y="5268960"/>
              <a:ext cx="11160" cy="1062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3713040" y="5268960"/>
              <a:ext cx="11160" cy="1062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3678120" y="526896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3573360" y="5292720"/>
              <a:ext cx="12960" cy="712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3586320" y="5292720"/>
              <a:ext cx="10800" cy="712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3597120" y="5292720"/>
              <a:ext cx="11160" cy="712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3608280" y="5292720"/>
              <a:ext cx="12960" cy="712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3621240" y="5292720"/>
              <a:ext cx="10800" cy="712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3632040" y="5292720"/>
              <a:ext cx="11160" cy="712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3643200" y="5292720"/>
              <a:ext cx="12960" cy="712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3656160" y="5292720"/>
              <a:ext cx="10800" cy="712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3666960" y="5292720"/>
              <a:ext cx="11160" cy="712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3573360" y="5292720"/>
              <a:ext cx="104760" cy="71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3573360" y="5268960"/>
              <a:ext cx="129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3586320" y="5268960"/>
              <a:ext cx="1080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3597120" y="526896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3608280" y="5268960"/>
              <a:ext cx="129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3621240" y="5268960"/>
              <a:ext cx="1080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3632040" y="5268960"/>
              <a:ext cx="11160" cy="349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3643200" y="5268960"/>
              <a:ext cx="129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3656160" y="5268960"/>
              <a:ext cx="108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3666960" y="5268960"/>
              <a:ext cx="1116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3678120" y="526896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3689280" y="5268960"/>
              <a:ext cx="1260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3701880" y="5268960"/>
              <a:ext cx="1116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3713040" y="5268960"/>
              <a:ext cx="1116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3573360" y="526896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3678120" y="5245200"/>
              <a:ext cx="11160" cy="586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3689280" y="5245200"/>
              <a:ext cx="12600" cy="586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3701880" y="5245200"/>
              <a:ext cx="11160" cy="586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3713040" y="5245200"/>
              <a:ext cx="11160" cy="586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3678120" y="524520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3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3573360" y="5268960"/>
              <a:ext cx="12960" cy="237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3586320" y="5268960"/>
              <a:ext cx="1080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3597120" y="526896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3608280" y="5268960"/>
              <a:ext cx="12960" cy="237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3621240" y="5268960"/>
              <a:ext cx="1080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3632040" y="5268960"/>
              <a:ext cx="1116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3643200" y="5268960"/>
              <a:ext cx="129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3656160" y="5268960"/>
              <a:ext cx="1080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3666960" y="5268960"/>
              <a:ext cx="11160" cy="23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3573360" y="526896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3573360" y="5245200"/>
              <a:ext cx="12960" cy="349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3586320" y="5245200"/>
              <a:ext cx="1080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3597120" y="524520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3608280" y="5245200"/>
              <a:ext cx="129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3621240" y="5245200"/>
              <a:ext cx="1080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3632040" y="5245200"/>
              <a:ext cx="11160" cy="349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3643200" y="5245200"/>
              <a:ext cx="129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3656160" y="5245200"/>
              <a:ext cx="1080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3666960" y="5245200"/>
              <a:ext cx="111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3678120" y="524520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3689280" y="5245200"/>
              <a:ext cx="1260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3701880" y="5245200"/>
              <a:ext cx="1116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3713040" y="5245200"/>
              <a:ext cx="1116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3573360" y="524520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3573360" y="5232240"/>
              <a:ext cx="12960" cy="4788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3586320" y="5232240"/>
              <a:ext cx="10800" cy="4788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3597120" y="5232240"/>
              <a:ext cx="11160" cy="4788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3608280" y="5232240"/>
              <a:ext cx="12960" cy="4788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3621240" y="5232240"/>
              <a:ext cx="10800" cy="4788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3632040" y="5232240"/>
              <a:ext cx="11160" cy="4788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3643200" y="5232240"/>
              <a:ext cx="12960" cy="4788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3656160" y="5232240"/>
              <a:ext cx="10800" cy="4788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3666960" y="5232240"/>
              <a:ext cx="11160" cy="4788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3678120" y="5232240"/>
              <a:ext cx="11160" cy="4788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3689280" y="5232240"/>
              <a:ext cx="12600" cy="4788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3701880" y="5232240"/>
              <a:ext cx="11160" cy="4788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3713040" y="5232240"/>
              <a:ext cx="11160" cy="4788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3573360" y="5232240"/>
              <a:ext cx="139680" cy="367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3944880" y="5256360"/>
              <a:ext cx="12600" cy="1188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3957480" y="5256360"/>
              <a:ext cx="11160" cy="1188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3968640" y="5256360"/>
              <a:ext cx="11160" cy="1188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3979800" y="5256360"/>
              <a:ext cx="12600" cy="1188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3944880" y="5256360"/>
              <a:ext cx="34920" cy="107640"/>
            </a:xfrm>
            <a:custGeom>
              <a:avLst/>
              <a:gdLst/>
              <a:ahLst/>
              <a:rect l="l" t="t" r="r" b="b"/>
              <a:pathLst>
                <a:path w="22" h="68">
                  <a:moveTo>
                    <a:pt x="0" y="6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53"/>
                  </a:lnTo>
                  <a:lnTo>
                    <a:pt x="0" y="6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3840120" y="5280120"/>
              <a:ext cx="12600" cy="838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3852720" y="5280120"/>
              <a:ext cx="11160" cy="838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3863880" y="5280120"/>
              <a:ext cx="11160" cy="838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3875040" y="5280120"/>
              <a:ext cx="12600" cy="838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3887640" y="5280120"/>
              <a:ext cx="11160" cy="838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3898800" y="5280120"/>
              <a:ext cx="11160" cy="838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3909960" y="5280120"/>
              <a:ext cx="12600" cy="838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3922560" y="5280120"/>
              <a:ext cx="11160" cy="838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3933720" y="5280120"/>
              <a:ext cx="11160" cy="83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3840120" y="5280120"/>
              <a:ext cx="104760" cy="83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3840120" y="5256360"/>
              <a:ext cx="1260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3852720" y="525636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3863880" y="525636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3875040" y="5256360"/>
              <a:ext cx="126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3887640" y="525636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3898800" y="5256360"/>
              <a:ext cx="111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9" name=""/>
            <p:cNvSpPr/>
            <p:nvPr/>
          </p:nvSpPr>
          <p:spPr>
            <a:xfrm>
              <a:off x="3909960" y="525636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3922560" y="525636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3933720" y="525636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3944880" y="5256360"/>
              <a:ext cx="126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3" name=""/>
            <p:cNvSpPr/>
            <p:nvPr/>
          </p:nvSpPr>
          <p:spPr>
            <a:xfrm>
              <a:off x="3957480" y="525636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3968640" y="525636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5" name=""/>
            <p:cNvSpPr/>
            <p:nvPr/>
          </p:nvSpPr>
          <p:spPr>
            <a:xfrm>
              <a:off x="3979800" y="5256360"/>
              <a:ext cx="1260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3840120" y="525636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3944880" y="5219640"/>
              <a:ext cx="12600" cy="730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3957480" y="5219640"/>
              <a:ext cx="11160" cy="730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3968640" y="5219640"/>
              <a:ext cx="11160" cy="730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3979800" y="5219640"/>
              <a:ext cx="12600" cy="730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3944880" y="521964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3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3840120" y="5256360"/>
              <a:ext cx="12600" cy="237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3852720" y="5256360"/>
              <a:ext cx="1116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3863880" y="5256360"/>
              <a:ext cx="1116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3875040" y="5256360"/>
              <a:ext cx="12600" cy="237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3887640" y="5256360"/>
              <a:ext cx="1116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7" name=""/>
            <p:cNvSpPr/>
            <p:nvPr/>
          </p:nvSpPr>
          <p:spPr>
            <a:xfrm>
              <a:off x="3898800" y="5256360"/>
              <a:ext cx="11160" cy="23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8" name=""/>
            <p:cNvSpPr/>
            <p:nvPr/>
          </p:nvSpPr>
          <p:spPr>
            <a:xfrm>
              <a:off x="3909960" y="5256360"/>
              <a:ext cx="12600" cy="23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3922560" y="5256360"/>
              <a:ext cx="11160" cy="23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0" name=""/>
            <p:cNvSpPr/>
            <p:nvPr/>
          </p:nvSpPr>
          <p:spPr>
            <a:xfrm>
              <a:off x="3933720" y="5256360"/>
              <a:ext cx="11160" cy="23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3840120" y="525636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3840120" y="5219640"/>
              <a:ext cx="12600" cy="493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3" name=""/>
            <p:cNvSpPr/>
            <p:nvPr/>
          </p:nvSpPr>
          <p:spPr>
            <a:xfrm>
              <a:off x="3852720" y="5219640"/>
              <a:ext cx="111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3863880" y="5219640"/>
              <a:ext cx="1116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3875040" y="5219640"/>
              <a:ext cx="1260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3887640" y="5219640"/>
              <a:ext cx="1116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7" name=""/>
            <p:cNvSpPr/>
            <p:nvPr/>
          </p:nvSpPr>
          <p:spPr>
            <a:xfrm>
              <a:off x="3898800" y="5219640"/>
              <a:ext cx="11160" cy="493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3909960" y="5219640"/>
              <a:ext cx="1260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3922560" y="521964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3933720" y="5219640"/>
              <a:ext cx="1116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3944880" y="5219640"/>
              <a:ext cx="1260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3957480" y="5219640"/>
              <a:ext cx="1116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3968640" y="5219640"/>
              <a:ext cx="111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3979800" y="5219640"/>
              <a:ext cx="12600" cy="493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3840120" y="5219640"/>
              <a:ext cx="139680" cy="367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3944880" y="5219640"/>
              <a:ext cx="12600" cy="493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3957480" y="5219640"/>
              <a:ext cx="11160" cy="493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3968640" y="5219640"/>
              <a:ext cx="11160" cy="493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3979800" y="5219640"/>
              <a:ext cx="12600" cy="493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3944880" y="521964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23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3840120" y="5245200"/>
              <a:ext cx="12600" cy="111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2" name=""/>
            <p:cNvSpPr/>
            <p:nvPr/>
          </p:nvSpPr>
          <p:spPr>
            <a:xfrm>
              <a:off x="3852720" y="5245200"/>
              <a:ext cx="11160" cy="11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3863880" y="5245200"/>
              <a:ext cx="11160" cy="11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3875040" y="5245200"/>
              <a:ext cx="12600" cy="111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3887640" y="5245200"/>
              <a:ext cx="1116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3898800" y="5245200"/>
              <a:ext cx="1116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7" name=""/>
            <p:cNvSpPr/>
            <p:nvPr/>
          </p:nvSpPr>
          <p:spPr>
            <a:xfrm>
              <a:off x="3909960" y="5245200"/>
              <a:ext cx="12600" cy="11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3922560" y="5245200"/>
              <a:ext cx="11160" cy="11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3933720" y="5245200"/>
              <a:ext cx="11160" cy="11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3840120" y="5245200"/>
              <a:ext cx="104760" cy="11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3840120" y="5219640"/>
              <a:ext cx="12600" cy="49320"/>
            </a:xfrm>
            <a:prstGeom prst="rect">
              <a:avLst/>
            </a:prstGeom>
            <a:solidFill>
              <a:srgbClr val="2b6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3852720" y="5219640"/>
              <a:ext cx="1116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3863880" y="5219640"/>
              <a:ext cx="1116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3875040" y="5219640"/>
              <a:ext cx="12600" cy="493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3840120" y="521964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0"/>
                  </a:moveTo>
                  <a:lnTo>
                    <a:pt x="22" y="0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3875040" y="5219640"/>
              <a:ext cx="104760" cy="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3840120" y="5219640"/>
              <a:ext cx="1260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3852720" y="5219640"/>
              <a:ext cx="111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3863880" y="521964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3875040" y="5219640"/>
              <a:ext cx="1260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3887640" y="5219640"/>
              <a:ext cx="1116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3898800" y="5219640"/>
              <a:ext cx="1116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3" name=""/>
          <p:cNvGrpSpPr/>
          <p:nvPr/>
        </p:nvGrpSpPr>
        <p:grpSpPr>
          <a:xfrm>
            <a:off x="3840120" y="5124600"/>
            <a:ext cx="963720" cy="250560"/>
            <a:chOff x="3840120" y="5124600"/>
            <a:chExt cx="963720" cy="250560"/>
          </a:xfrm>
        </p:grpSpPr>
        <p:sp>
          <p:nvSpPr>
            <p:cNvPr id="4524" name=""/>
            <p:cNvSpPr/>
            <p:nvPr/>
          </p:nvSpPr>
          <p:spPr>
            <a:xfrm>
              <a:off x="3909960" y="5219640"/>
              <a:ext cx="1260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3922560" y="521964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3933720" y="5219640"/>
              <a:ext cx="1116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3944880" y="5219640"/>
              <a:ext cx="1260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8" name=""/>
            <p:cNvSpPr/>
            <p:nvPr/>
          </p:nvSpPr>
          <p:spPr>
            <a:xfrm>
              <a:off x="3957480" y="521964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3968640" y="5219640"/>
              <a:ext cx="111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3979800" y="5219640"/>
              <a:ext cx="1260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1" name=""/>
            <p:cNvSpPr/>
            <p:nvPr/>
          </p:nvSpPr>
          <p:spPr>
            <a:xfrm>
              <a:off x="3840120" y="5219640"/>
              <a:ext cx="139680" cy="25560"/>
            </a:xfrm>
            <a:custGeom>
              <a:avLst/>
              <a:gdLst/>
              <a:ahLst/>
              <a:rect l="l" t="t" r="r" b="b"/>
              <a:pathLst>
                <a:path w="88" h="16">
                  <a:moveTo>
                    <a:pt x="66" y="16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6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4211640" y="5219640"/>
              <a:ext cx="12600" cy="15552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4224240" y="5219640"/>
              <a:ext cx="11160" cy="1555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4235400" y="5219640"/>
              <a:ext cx="11160" cy="1555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5" name=""/>
            <p:cNvSpPr/>
            <p:nvPr/>
          </p:nvSpPr>
          <p:spPr>
            <a:xfrm>
              <a:off x="4246560" y="5219640"/>
              <a:ext cx="12600" cy="15552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6" name=""/>
            <p:cNvSpPr/>
            <p:nvPr/>
          </p:nvSpPr>
          <p:spPr>
            <a:xfrm>
              <a:off x="4211640" y="5219640"/>
              <a:ext cx="34920" cy="144360"/>
            </a:xfrm>
            <a:custGeom>
              <a:avLst/>
              <a:gdLst/>
              <a:ahLst/>
              <a:rect l="l" t="t" r="r" b="b"/>
              <a:pathLst>
                <a:path w="22" h="91">
                  <a:moveTo>
                    <a:pt x="0" y="91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76"/>
                  </a:lnTo>
                  <a:lnTo>
                    <a:pt x="0" y="9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4108320" y="5245200"/>
              <a:ext cx="11160" cy="1188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8" name=""/>
            <p:cNvSpPr/>
            <p:nvPr/>
          </p:nvSpPr>
          <p:spPr>
            <a:xfrm>
              <a:off x="4119480" y="5245200"/>
              <a:ext cx="11160" cy="1188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9" name=""/>
            <p:cNvSpPr/>
            <p:nvPr/>
          </p:nvSpPr>
          <p:spPr>
            <a:xfrm>
              <a:off x="4130640" y="5245200"/>
              <a:ext cx="12600" cy="1188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4143240" y="5245200"/>
              <a:ext cx="11160" cy="1188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1" name=""/>
            <p:cNvSpPr/>
            <p:nvPr/>
          </p:nvSpPr>
          <p:spPr>
            <a:xfrm>
              <a:off x="4154400" y="5245200"/>
              <a:ext cx="11160" cy="1188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4165560" y="5245200"/>
              <a:ext cx="11160" cy="1188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4176720" y="5245200"/>
              <a:ext cx="12600" cy="1188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4189320" y="5245200"/>
              <a:ext cx="11160" cy="1188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4200480" y="5245200"/>
              <a:ext cx="11160" cy="118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4108320" y="5245200"/>
              <a:ext cx="103320" cy="118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4108320" y="521964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4119480" y="521964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4130640" y="521964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4143240" y="521964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4154400" y="521964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4165560" y="5219640"/>
              <a:ext cx="1116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4176720" y="521964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4" name=""/>
            <p:cNvSpPr/>
            <p:nvPr/>
          </p:nvSpPr>
          <p:spPr>
            <a:xfrm>
              <a:off x="4189320" y="521964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5" name=""/>
            <p:cNvSpPr/>
            <p:nvPr/>
          </p:nvSpPr>
          <p:spPr>
            <a:xfrm>
              <a:off x="4200480" y="521964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4211640" y="5219640"/>
              <a:ext cx="126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7" name=""/>
            <p:cNvSpPr/>
            <p:nvPr/>
          </p:nvSpPr>
          <p:spPr>
            <a:xfrm>
              <a:off x="4224240" y="521964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4235400" y="521964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9" name=""/>
            <p:cNvSpPr/>
            <p:nvPr/>
          </p:nvSpPr>
          <p:spPr>
            <a:xfrm>
              <a:off x="4246560" y="5219640"/>
              <a:ext cx="1260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0" name=""/>
            <p:cNvSpPr/>
            <p:nvPr/>
          </p:nvSpPr>
          <p:spPr>
            <a:xfrm>
              <a:off x="4108320" y="5219640"/>
              <a:ext cx="138240" cy="25560"/>
            </a:xfrm>
            <a:custGeom>
              <a:avLst/>
              <a:gdLst/>
              <a:ahLst/>
              <a:rect l="l" t="t" r="r" b="b"/>
              <a:pathLst>
                <a:path w="87" h="16">
                  <a:moveTo>
                    <a:pt x="65" y="16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5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1" name=""/>
            <p:cNvSpPr/>
            <p:nvPr/>
          </p:nvSpPr>
          <p:spPr>
            <a:xfrm>
              <a:off x="4211640" y="5184720"/>
              <a:ext cx="12600" cy="716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4224240" y="5184720"/>
              <a:ext cx="11160" cy="71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4235400" y="5184720"/>
              <a:ext cx="11160" cy="71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4246560" y="5184720"/>
              <a:ext cx="12600" cy="716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5" name=""/>
            <p:cNvSpPr/>
            <p:nvPr/>
          </p:nvSpPr>
          <p:spPr>
            <a:xfrm>
              <a:off x="4211640" y="518472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2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4108320" y="5208480"/>
              <a:ext cx="11160" cy="367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4119480" y="5208480"/>
              <a:ext cx="11160" cy="367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4130640" y="5208480"/>
              <a:ext cx="12600" cy="367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9" name=""/>
            <p:cNvSpPr/>
            <p:nvPr/>
          </p:nvSpPr>
          <p:spPr>
            <a:xfrm>
              <a:off x="4143240" y="5208480"/>
              <a:ext cx="11160" cy="367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4154400" y="5208480"/>
              <a:ext cx="11160" cy="367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"/>
            <p:cNvSpPr/>
            <p:nvPr/>
          </p:nvSpPr>
          <p:spPr>
            <a:xfrm>
              <a:off x="4165560" y="5208480"/>
              <a:ext cx="11160" cy="367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"/>
            <p:cNvSpPr/>
            <p:nvPr/>
          </p:nvSpPr>
          <p:spPr>
            <a:xfrm>
              <a:off x="4176720" y="5208480"/>
              <a:ext cx="12600" cy="367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4189320" y="5208480"/>
              <a:ext cx="11160" cy="367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4200480" y="5208480"/>
              <a:ext cx="11160" cy="36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4108320" y="5208480"/>
              <a:ext cx="10332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4108320" y="5184720"/>
              <a:ext cx="11160" cy="349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"/>
            <p:cNvSpPr/>
            <p:nvPr/>
          </p:nvSpPr>
          <p:spPr>
            <a:xfrm>
              <a:off x="4119480" y="5184720"/>
              <a:ext cx="1116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8" name=""/>
            <p:cNvSpPr/>
            <p:nvPr/>
          </p:nvSpPr>
          <p:spPr>
            <a:xfrm>
              <a:off x="4130640" y="5184720"/>
              <a:ext cx="1260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4143240" y="518472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4154400" y="5184720"/>
              <a:ext cx="111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4165560" y="5184720"/>
              <a:ext cx="11160" cy="349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4176720" y="5184720"/>
              <a:ext cx="1260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4189320" y="518472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4200480" y="5184720"/>
              <a:ext cx="111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4211640" y="5184720"/>
              <a:ext cx="1260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4224240" y="518472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7" name=""/>
            <p:cNvSpPr/>
            <p:nvPr/>
          </p:nvSpPr>
          <p:spPr>
            <a:xfrm>
              <a:off x="4235400" y="5184720"/>
              <a:ext cx="1116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4246560" y="5184720"/>
              <a:ext cx="1260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4108320" y="5184720"/>
              <a:ext cx="138240" cy="23760"/>
            </a:xfrm>
            <a:custGeom>
              <a:avLst/>
              <a:gdLst/>
              <a:ahLst/>
              <a:rect l="l" t="t" r="r" b="b"/>
              <a:pathLst>
                <a:path w="87" h="15">
                  <a:moveTo>
                    <a:pt x="65" y="15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5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4211640" y="5172120"/>
              <a:ext cx="12600" cy="475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4224240" y="517212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2" name=""/>
            <p:cNvSpPr/>
            <p:nvPr/>
          </p:nvSpPr>
          <p:spPr>
            <a:xfrm>
              <a:off x="4235400" y="517212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3" name=""/>
            <p:cNvSpPr/>
            <p:nvPr/>
          </p:nvSpPr>
          <p:spPr>
            <a:xfrm>
              <a:off x="4246560" y="5172120"/>
              <a:ext cx="12600" cy="475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4211640" y="517212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2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4108320" y="5195880"/>
              <a:ext cx="11160" cy="1260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4119480" y="5195880"/>
              <a:ext cx="11160" cy="126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7" name=""/>
            <p:cNvSpPr/>
            <p:nvPr/>
          </p:nvSpPr>
          <p:spPr>
            <a:xfrm>
              <a:off x="4130640" y="5195880"/>
              <a:ext cx="12600" cy="126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8" name=""/>
            <p:cNvSpPr/>
            <p:nvPr/>
          </p:nvSpPr>
          <p:spPr>
            <a:xfrm>
              <a:off x="4143240" y="5195880"/>
              <a:ext cx="11160" cy="1260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4154400" y="5195880"/>
              <a:ext cx="1116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4165560" y="5195880"/>
              <a:ext cx="1116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4176720" y="5195880"/>
              <a:ext cx="12600" cy="126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2" name=""/>
            <p:cNvSpPr/>
            <p:nvPr/>
          </p:nvSpPr>
          <p:spPr>
            <a:xfrm>
              <a:off x="4189320" y="5195880"/>
              <a:ext cx="11160" cy="126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3" name=""/>
            <p:cNvSpPr/>
            <p:nvPr/>
          </p:nvSpPr>
          <p:spPr>
            <a:xfrm>
              <a:off x="4200480" y="5195880"/>
              <a:ext cx="11160" cy="12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4" name=""/>
            <p:cNvSpPr/>
            <p:nvPr/>
          </p:nvSpPr>
          <p:spPr>
            <a:xfrm>
              <a:off x="4108320" y="5195880"/>
              <a:ext cx="10332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5" name=""/>
            <p:cNvSpPr/>
            <p:nvPr/>
          </p:nvSpPr>
          <p:spPr>
            <a:xfrm>
              <a:off x="4108320" y="5172120"/>
              <a:ext cx="111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6" name=""/>
            <p:cNvSpPr/>
            <p:nvPr/>
          </p:nvSpPr>
          <p:spPr>
            <a:xfrm>
              <a:off x="4119480" y="517212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7" name=""/>
            <p:cNvSpPr/>
            <p:nvPr/>
          </p:nvSpPr>
          <p:spPr>
            <a:xfrm>
              <a:off x="4130640" y="517212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8" name=""/>
            <p:cNvSpPr/>
            <p:nvPr/>
          </p:nvSpPr>
          <p:spPr>
            <a:xfrm>
              <a:off x="4143240" y="517212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4154400" y="517212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4165560" y="517212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4176720" y="517212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4189320" y="517212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4200480" y="517212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4" name=""/>
            <p:cNvSpPr/>
            <p:nvPr/>
          </p:nvSpPr>
          <p:spPr>
            <a:xfrm>
              <a:off x="4211640" y="517212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4224240" y="517212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6" name=""/>
            <p:cNvSpPr/>
            <p:nvPr/>
          </p:nvSpPr>
          <p:spPr>
            <a:xfrm>
              <a:off x="4235400" y="517212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4246560" y="517212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4108320" y="5172120"/>
              <a:ext cx="138240" cy="23760"/>
            </a:xfrm>
            <a:custGeom>
              <a:avLst/>
              <a:gdLst/>
              <a:ahLst/>
              <a:rect l="l" t="t" r="r" b="b"/>
              <a:pathLst>
                <a:path w="87" h="15">
                  <a:moveTo>
                    <a:pt x="65" y="15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5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4479840" y="5184720"/>
              <a:ext cx="11160" cy="190440"/>
            </a:xfrm>
            <a:prstGeom prst="rect">
              <a:avLst/>
            </a:prstGeom>
            <a:solidFill>
              <a:srgbClr val="141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4491000" y="5184720"/>
              <a:ext cx="11160" cy="190440"/>
            </a:xfrm>
            <a:prstGeom prst="rect">
              <a:avLst/>
            </a:prstGeom>
            <a:solidFill>
              <a:srgbClr val="34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4502160" y="5184720"/>
              <a:ext cx="11160" cy="190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"/>
            <p:cNvSpPr/>
            <p:nvPr/>
          </p:nvSpPr>
          <p:spPr>
            <a:xfrm>
              <a:off x="4513320" y="5184720"/>
              <a:ext cx="12600" cy="190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4525920" y="5184720"/>
              <a:ext cx="11160" cy="1904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4479840" y="5184720"/>
              <a:ext cx="46080" cy="179280"/>
            </a:xfrm>
            <a:custGeom>
              <a:avLst/>
              <a:gdLst/>
              <a:ahLst/>
              <a:rect l="l" t="t" r="r" b="b"/>
              <a:pathLst>
                <a:path w="29" h="113">
                  <a:moveTo>
                    <a:pt x="0" y="113"/>
                  </a:moveTo>
                  <a:lnTo>
                    <a:pt x="0" y="22"/>
                  </a:lnTo>
                  <a:lnTo>
                    <a:pt x="29" y="0"/>
                  </a:lnTo>
                  <a:lnTo>
                    <a:pt x="29" y="98"/>
                  </a:lnTo>
                  <a:lnTo>
                    <a:pt x="0" y="11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4375080" y="5219640"/>
              <a:ext cx="11160" cy="1443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4386240" y="5219640"/>
              <a:ext cx="11160" cy="144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4397400" y="5219640"/>
              <a:ext cx="12600" cy="144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4410000" y="5219640"/>
              <a:ext cx="11160" cy="1443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4421160" y="5219640"/>
              <a:ext cx="11160" cy="144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4432320" y="5219640"/>
              <a:ext cx="12600" cy="144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4444920" y="5219640"/>
              <a:ext cx="11160" cy="144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4456080" y="5219640"/>
              <a:ext cx="11160" cy="144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4467240" y="5219640"/>
              <a:ext cx="12600" cy="144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4375080" y="5219640"/>
              <a:ext cx="104760" cy="144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4375080" y="5184720"/>
              <a:ext cx="1116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4386240" y="5184720"/>
              <a:ext cx="11160" cy="475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4397400" y="5184720"/>
              <a:ext cx="12600" cy="475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4410000" y="5184720"/>
              <a:ext cx="11160" cy="475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4421160" y="5184720"/>
              <a:ext cx="11160" cy="475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4432320" y="5184720"/>
              <a:ext cx="12600" cy="475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4444920" y="518472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4456080" y="518472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4467240" y="5184720"/>
              <a:ext cx="12600" cy="475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4" name=""/>
            <p:cNvSpPr/>
            <p:nvPr/>
          </p:nvSpPr>
          <p:spPr>
            <a:xfrm>
              <a:off x="4479840" y="5184720"/>
              <a:ext cx="11160" cy="475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4491000" y="5184720"/>
              <a:ext cx="11160" cy="475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6" name=""/>
            <p:cNvSpPr/>
            <p:nvPr/>
          </p:nvSpPr>
          <p:spPr>
            <a:xfrm>
              <a:off x="4502160" y="5184720"/>
              <a:ext cx="11160" cy="475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4513320" y="5184720"/>
              <a:ext cx="12600" cy="475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4525920" y="5184720"/>
              <a:ext cx="1116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4375080" y="5184720"/>
              <a:ext cx="150840" cy="34920"/>
            </a:xfrm>
            <a:custGeom>
              <a:avLst/>
              <a:gdLst/>
              <a:ahLst/>
              <a:rect l="l" t="t" r="r" b="b"/>
              <a:pathLst>
                <a:path w="95" h="22">
                  <a:moveTo>
                    <a:pt x="66" y="22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0" name=""/>
            <p:cNvSpPr/>
            <p:nvPr/>
          </p:nvSpPr>
          <p:spPr>
            <a:xfrm>
              <a:off x="4479840" y="5137200"/>
              <a:ext cx="11160" cy="95040"/>
            </a:xfrm>
            <a:prstGeom prst="rect">
              <a:avLst/>
            </a:prstGeom>
            <a:solidFill>
              <a:srgbClr val="7d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4491000" y="5137200"/>
              <a:ext cx="11160" cy="95040"/>
            </a:xfrm>
            <a:prstGeom prst="rect">
              <a:avLst/>
            </a:prstGeom>
            <a:solidFill>
              <a:srgbClr val="6e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4502160" y="5137200"/>
              <a:ext cx="11160" cy="950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4513320" y="5137200"/>
              <a:ext cx="12600" cy="950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4525920" y="5137200"/>
              <a:ext cx="11160" cy="950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4479840" y="5137200"/>
              <a:ext cx="46080" cy="82440"/>
            </a:xfrm>
            <a:custGeom>
              <a:avLst/>
              <a:gdLst/>
              <a:ahLst/>
              <a:rect l="l" t="t" r="r" b="b"/>
              <a:pathLst>
                <a:path w="29" h="52">
                  <a:moveTo>
                    <a:pt x="0" y="52"/>
                  </a:moveTo>
                  <a:lnTo>
                    <a:pt x="0" y="22"/>
                  </a:lnTo>
                  <a:lnTo>
                    <a:pt x="29" y="0"/>
                  </a:lnTo>
                  <a:lnTo>
                    <a:pt x="29" y="30"/>
                  </a:lnTo>
                  <a:lnTo>
                    <a:pt x="0" y="5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4375080" y="5172120"/>
              <a:ext cx="11160" cy="475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4386240" y="5172120"/>
              <a:ext cx="11160" cy="475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4397400" y="5172120"/>
              <a:ext cx="12600" cy="475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4410000" y="5172120"/>
              <a:ext cx="11160" cy="475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4421160" y="5172120"/>
              <a:ext cx="11160" cy="475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4432320" y="5172120"/>
              <a:ext cx="12600" cy="475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4444920" y="5172120"/>
              <a:ext cx="11160" cy="475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4456080" y="5172120"/>
              <a:ext cx="11160" cy="475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4467240" y="5172120"/>
              <a:ext cx="12600" cy="47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4375080" y="5172120"/>
              <a:ext cx="104760" cy="47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4375080" y="5137200"/>
              <a:ext cx="11160" cy="475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4386240" y="513720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4397400" y="5137200"/>
              <a:ext cx="1260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4410000" y="5137200"/>
              <a:ext cx="11160" cy="475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4421160" y="513720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4432320" y="5137200"/>
              <a:ext cx="1260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4444920" y="513720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4456080" y="513720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4467240" y="5137200"/>
              <a:ext cx="1260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4479840" y="513720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4491000" y="5137200"/>
              <a:ext cx="11160" cy="475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4502160" y="513720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4513320" y="5137200"/>
              <a:ext cx="1260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4525920" y="5137200"/>
              <a:ext cx="1116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4375080" y="5137200"/>
              <a:ext cx="150840" cy="34920"/>
            </a:xfrm>
            <a:custGeom>
              <a:avLst/>
              <a:gdLst/>
              <a:ahLst/>
              <a:rect l="l" t="t" r="r" b="b"/>
              <a:pathLst>
                <a:path w="95" h="22">
                  <a:moveTo>
                    <a:pt x="66" y="22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4479840" y="5124600"/>
              <a:ext cx="11160" cy="6012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4491000" y="5124600"/>
              <a:ext cx="11160" cy="6012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4502160" y="5124600"/>
              <a:ext cx="11160" cy="601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4513320" y="5124600"/>
              <a:ext cx="12600" cy="601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4525920" y="5124600"/>
              <a:ext cx="11160" cy="601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4479840" y="5124600"/>
              <a:ext cx="46080" cy="475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0" y="30"/>
                  </a:moveTo>
                  <a:lnTo>
                    <a:pt x="0" y="23"/>
                  </a:lnTo>
                  <a:lnTo>
                    <a:pt x="29" y="0"/>
                  </a:lnTo>
                  <a:lnTo>
                    <a:pt x="29" y="8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4375080" y="5160960"/>
              <a:ext cx="11160" cy="111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4386240" y="5160960"/>
              <a:ext cx="11160" cy="11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4397400" y="5160960"/>
              <a:ext cx="12600" cy="11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4410000" y="5160960"/>
              <a:ext cx="11160" cy="111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4421160" y="5160960"/>
              <a:ext cx="1116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4432320" y="5160960"/>
              <a:ext cx="12600" cy="11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4444920" y="5160960"/>
              <a:ext cx="11160" cy="11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4456080" y="5160960"/>
              <a:ext cx="11160" cy="11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4467240" y="5160960"/>
              <a:ext cx="12600" cy="11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4375080" y="5160960"/>
              <a:ext cx="104760" cy="11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4375080" y="5124600"/>
              <a:ext cx="11160" cy="475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4386240" y="512460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4397400" y="5124600"/>
              <a:ext cx="1260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4410000" y="5124600"/>
              <a:ext cx="1116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4421160" y="512460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4432320" y="5124600"/>
              <a:ext cx="1260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4444920" y="512460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4456080" y="512460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4467240" y="5124600"/>
              <a:ext cx="1260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6" name=""/>
            <p:cNvSpPr/>
            <p:nvPr/>
          </p:nvSpPr>
          <p:spPr>
            <a:xfrm>
              <a:off x="4479840" y="512460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7" name=""/>
            <p:cNvSpPr/>
            <p:nvPr/>
          </p:nvSpPr>
          <p:spPr>
            <a:xfrm>
              <a:off x="4491000" y="5124600"/>
              <a:ext cx="1116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4502160" y="512460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4513320" y="5124600"/>
              <a:ext cx="1260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0" name=""/>
            <p:cNvSpPr/>
            <p:nvPr/>
          </p:nvSpPr>
          <p:spPr>
            <a:xfrm>
              <a:off x="4525920" y="512460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4375080" y="512460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66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2" name=""/>
            <p:cNvSpPr/>
            <p:nvPr/>
          </p:nvSpPr>
          <p:spPr>
            <a:xfrm>
              <a:off x="4746600" y="5137200"/>
              <a:ext cx="11160" cy="237960"/>
            </a:xfrm>
            <a:prstGeom prst="rect">
              <a:avLst/>
            </a:prstGeom>
            <a:solidFill>
              <a:srgbClr val="141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3" name=""/>
            <p:cNvSpPr/>
            <p:nvPr/>
          </p:nvSpPr>
          <p:spPr>
            <a:xfrm>
              <a:off x="4757760" y="5137200"/>
              <a:ext cx="11160" cy="237960"/>
            </a:xfrm>
            <a:prstGeom prst="rect">
              <a:avLst/>
            </a:prstGeom>
            <a:solidFill>
              <a:srgbClr val="34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4" name=""/>
            <p:cNvSpPr/>
            <p:nvPr/>
          </p:nvSpPr>
          <p:spPr>
            <a:xfrm>
              <a:off x="4768920" y="5137200"/>
              <a:ext cx="12600" cy="2379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5" name=""/>
            <p:cNvSpPr/>
            <p:nvPr/>
          </p:nvSpPr>
          <p:spPr>
            <a:xfrm>
              <a:off x="4781520" y="5137200"/>
              <a:ext cx="11160" cy="2379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6" name=""/>
            <p:cNvSpPr/>
            <p:nvPr/>
          </p:nvSpPr>
          <p:spPr>
            <a:xfrm>
              <a:off x="4792680" y="5137200"/>
              <a:ext cx="11160" cy="2379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4746600" y="5137200"/>
              <a:ext cx="46080" cy="226800"/>
            </a:xfrm>
            <a:custGeom>
              <a:avLst/>
              <a:gdLst/>
              <a:ahLst/>
              <a:rect l="l" t="t" r="r" b="b"/>
              <a:pathLst>
                <a:path w="29" h="143">
                  <a:moveTo>
                    <a:pt x="0" y="143"/>
                  </a:moveTo>
                  <a:lnTo>
                    <a:pt x="0" y="22"/>
                  </a:lnTo>
                  <a:lnTo>
                    <a:pt x="29" y="0"/>
                  </a:lnTo>
                  <a:lnTo>
                    <a:pt x="29" y="128"/>
                  </a:lnTo>
                  <a:lnTo>
                    <a:pt x="0" y="14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4641840" y="5172120"/>
              <a:ext cx="11160" cy="1918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9" name=""/>
            <p:cNvSpPr/>
            <p:nvPr/>
          </p:nvSpPr>
          <p:spPr>
            <a:xfrm>
              <a:off x="4653000" y="5172120"/>
              <a:ext cx="11160" cy="1918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4664160" y="5172120"/>
              <a:ext cx="12600" cy="1918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4676760" y="5172120"/>
              <a:ext cx="11160" cy="1918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2" name=""/>
            <p:cNvSpPr/>
            <p:nvPr/>
          </p:nvSpPr>
          <p:spPr>
            <a:xfrm>
              <a:off x="4687920" y="5172120"/>
              <a:ext cx="11160" cy="1918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4699080" y="5172120"/>
              <a:ext cx="12600" cy="1918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4" name=""/>
          <p:cNvGrpSpPr/>
          <p:nvPr/>
        </p:nvGrpSpPr>
        <p:grpSpPr>
          <a:xfrm>
            <a:off x="4641840" y="4994280"/>
            <a:ext cx="428760" cy="380880"/>
            <a:chOff x="4641840" y="4994280"/>
            <a:chExt cx="428760" cy="380880"/>
          </a:xfrm>
        </p:grpSpPr>
        <p:sp>
          <p:nvSpPr>
            <p:cNvPr id="4725" name=""/>
            <p:cNvSpPr/>
            <p:nvPr/>
          </p:nvSpPr>
          <p:spPr>
            <a:xfrm>
              <a:off x="4711680" y="5172120"/>
              <a:ext cx="11160" cy="1918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4722840" y="5172120"/>
              <a:ext cx="11160" cy="1918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7" name=""/>
            <p:cNvSpPr/>
            <p:nvPr/>
          </p:nvSpPr>
          <p:spPr>
            <a:xfrm>
              <a:off x="4734000" y="5172120"/>
              <a:ext cx="12600" cy="191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8" name=""/>
            <p:cNvSpPr/>
            <p:nvPr/>
          </p:nvSpPr>
          <p:spPr>
            <a:xfrm>
              <a:off x="4641840" y="5172120"/>
              <a:ext cx="104760" cy="191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9" name=""/>
            <p:cNvSpPr/>
            <p:nvPr/>
          </p:nvSpPr>
          <p:spPr>
            <a:xfrm>
              <a:off x="4641840" y="5137200"/>
              <a:ext cx="1116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0" name=""/>
            <p:cNvSpPr/>
            <p:nvPr/>
          </p:nvSpPr>
          <p:spPr>
            <a:xfrm>
              <a:off x="4653000" y="5137200"/>
              <a:ext cx="11160" cy="475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1" name=""/>
            <p:cNvSpPr/>
            <p:nvPr/>
          </p:nvSpPr>
          <p:spPr>
            <a:xfrm>
              <a:off x="4664160" y="5137200"/>
              <a:ext cx="12600" cy="475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4676760" y="5137200"/>
              <a:ext cx="11160" cy="475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3" name=""/>
            <p:cNvSpPr/>
            <p:nvPr/>
          </p:nvSpPr>
          <p:spPr>
            <a:xfrm>
              <a:off x="4687920" y="5137200"/>
              <a:ext cx="11160" cy="475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4" name=""/>
            <p:cNvSpPr/>
            <p:nvPr/>
          </p:nvSpPr>
          <p:spPr>
            <a:xfrm>
              <a:off x="4699080" y="5137200"/>
              <a:ext cx="12600" cy="475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5" name=""/>
            <p:cNvSpPr/>
            <p:nvPr/>
          </p:nvSpPr>
          <p:spPr>
            <a:xfrm>
              <a:off x="4711680" y="513720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6" name=""/>
            <p:cNvSpPr/>
            <p:nvPr/>
          </p:nvSpPr>
          <p:spPr>
            <a:xfrm>
              <a:off x="4722840" y="513720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7" name=""/>
            <p:cNvSpPr/>
            <p:nvPr/>
          </p:nvSpPr>
          <p:spPr>
            <a:xfrm>
              <a:off x="4734000" y="5137200"/>
              <a:ext cx="12600" cy="475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4746600" y="5137200"/>
              <a:ext cx="11160" cy="475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9" name=""/>
            <p:cNvSpPr/>
            <p:nvPr/>
          </p:nvSpPr>
          <p:spPr>
            <a:xfrm>
              <a:off x="4757760" y="5137200"/>
              <a:ext cx="11160" cy="475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0" name=""/>
            <p:cNvSpPr/>
            <p:nvPr/>
          </p:nvSpPr>
          <p:spPr>
            <a:xfrm>
              <a:off x="4768920" y="5137200"/>
              <a:ext cx="12600" cy="475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4781520" y="5137200"/>
              <a:ext cx="11160" cy="475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4792680" y="5137200"/>
              <a:ext cx="1116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3" name=""/>
            <p:cNvSpPr/>
            <p:nvPr/>
          </p:nvSpPr>
          <p:spPr>
            <a:xfrm>
              <a:off x="4641840" y="5137200"/>
              <a:ext cx="150840" cy="34920"/>
            </a:xfrm>
            <a:custGeom>
              <a:avLst/>
              <a:gdLst/>
              <a:ahLst/>
              <a:rect l="l" t="t" r="r" b="b"/>
              <a:pathLst>
                <a:path w="95" h="22">
                  <a:moveTo>
                    <a:pt x="66" y="22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4746600" y="5076720"/>
              <a:ext cx="11160" cy="108000"/>
            </a:xfrm>
            <a:prstGeom prst="rect">
              <a:avLst/>
            </a:prstGeom>
            <a:solidFill>
              <a:srgbClr val="7d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4757760" y="5076720"/>
              <a:ext cx="11160" cy="108000"/>
            </a:xfrm>
            <a:prstGeom prst="rect">
              <a:avLst/>
            </a:prstGeom>
            <a:solidFill>
              <a:srgbClr val="6e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4768920" y="5076720"/>
              <a:ext cx="12600" cy="1080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4781520" y="5076720"/>
              <a:ext cx="11160" cy="1080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4792680" y="5076720"/>
              <a:ext cx="11160" cy="10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4746600" y="5076720"/>
              <a:ext cx="46080" cy="95400"/>
            </a:xfrm>
            <a:custGeom>
              <a:avLst/>
              <a:gdLst/>
              <a:ahLst/>
              <a:rect l="l" t="t" r="r" b="b"/>
              <a:pathLst>
                <a:path w="29" h="60">
                  <a:moveTo>
                    <a:pt x="0" y="60"/>
                  </a:moveTo>
                  <a:lnTo>
                    <a:pt x="0" y="23"/>
                  </a:lnTo>
                  <a:lnTo>
                    <a:pt x="29" y="0"/>
                  </a:lnTo>
                  <a:lnTo>
                    <a:pt x="29" y="38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4641840" y="5113440"/>
              <a:ext cx="11160" cy="5868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4653000" y="5113440"/>
              <a:ext cx="11160" cy="586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2" name=""/>
            <p:cNvSpPr/>
            <p:nvPr/>
          </p:nvSpPr>
          <p:spPr>
            <a:xfrm>
              <a:off x="4664160" y="5113440"/>
              <a:ext cx="12600" cy="586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4676760" y="5113440"/>
              <a:ext cx="11160" cy="5868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4" name=""/>
            <p:cNvSpPr/>
            <p:nvPr/>
          </p:nvSpPr>
          <p:spPr>
            <a:xfrm>
              <a:off x="4687920" y="5113440"/>
              <a:ext cx="11160" cy="586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5" name=""/>
            <p:cNvSpPr/>
            <p:nvPr/>
          </p:nvSpPr>
          <p:spPr>
            <a:xfrm>
              <a:off x="4699080" y="5113440"/>
              <a:ext cx="12600" cy="586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4711680" y="5113440"/>
              <a:ext cx="11160" cy="586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7" name=""/>
            <p:cNvSpPr/>
            <p:nvPr/>
          </p:nvSpPr>
          <p:spPr>
            <a:xfrm>
              <a:off x="4722840" y="5113440"/>
              <a:ext cx="11160" cy="586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8" name=""/>
            <p:cNvSpPr/>
            <p:nvPr/>
          </p:nvSpPr>
          <p:spPr>
            <a:xfrm>
              <a:off x="4734000" y="5113440"/>
              <a:ext cx="12600" cy="58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"/>
            <p:cNvSpPr/>
            <p:nvPr/>
          </p:nvSpPr>
          <p:spPr>
            <a:xfrm>
              <a:off x="4641840" y="5113440"/>
              <a:ext cx="104760" cy="58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0" name=""/>
            <p:cNvSpPr/>
            <p:nvPr/>
          </p:nvSpPr>
          <p:spPr>
            <a:xfrm>
              <a:off x="4641840" y="5076720"/>
              <a:ext cx="11160" cy="4788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1" name=""/>
            <p:cNvSpPr/>
            <p:nvPr/>
          </p:nvSpPr>
          <p:spPr>
            <a:xfrm>
              <a:off x="4653000" y="5076720"/>
              <a:ext cx="11160" cy="4788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4664160" y="5076720"/>
              <a:ext cx="12600" cy="4788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3" name=""/>
            <p:cNvSpPr/>
            <p:nvPr/>
          </p:nvSpPr>
          <p:spPr>
            <a:xfrm>
              <a:off x="4676760" y="5076720"/>
              <a:ext cx="11160" cy="4788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4" name=""/>
            <p:cNvSpPr/>
            <p:nvPr/>
          </p:nvSpPr>
          <p:spPr>
            <a:xfrm>
              <a:off x="4687920" y="5076720"/>
              <a:ext cx="11160" cy="4788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5" name=""/>
            <p:cNvSpPr/>
            <p:nvPr/>
          </p:nvSpPr>
          <p:spPr>
            <a:xfrm>
              <a:off x="4699080" y="5076720"/>
              <a:ext cx="12600" cy="4788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6" name=""/>
            <p:cNvSpPr/>
            <p:nvPr/>
          </p:nvSpPr>
          <p:spPr>
            <a:xfrm>
              <a:off x="4711680" y="507672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7" name=""/>
            <p:cNvSpPr/>
            <p:nvPr/>
          </p:nvSpPr>
          <p:spPr>
            <a:xfrm>
              <a:off x="4722840" y="507672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4734000" y="5076720"/>
              <a:ext cx="12600" cy="4788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"/>
            <p:cNvSpPr/>
            <p:nvPr/>
          </p:nvSpPr>
          <p:spPr>
            <a:xfrm>
              <a:off x="4746600" y="5076720"/>
              <a:ext cx="11160" cy="4788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0" name=""/>
            <p:cNvSpPr/>
            <p:nvPr/>
          </p:nvSpPr>
          <p:spPr>
            <a:xfrm>
              <a:off x="4757760" y="5076720"/>
              <a:ext cx="11160" cy="4788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4768920" y="5076720"/>
              <a:ext cx="12600" cy="4788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2" name=""/>
            <p:cNvSpPr/>
            <p:nvPr/>
          </p:nvSpPr>
          <p:spPr>
            <a:xfrm>
              <a:off x="4781520" y="5076720"/>
              <a:ext cx="11160" cy="4788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3" name=""/>
            <p:cNvSpPr/>
            <p:nvPr/>
          </p:nvSpPr>
          <p:spPr>
            <a:xfrm>
              <a:off x="4792680" y="5076720"/>
              <a:ext cx="1116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4641840" y="5076720"/>
              <a:ext cx="150840" cy="3672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66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5" name=""/>
            <p:cNvSpPr/>
            <p:nvPr/>
          </p:nvSpPr>
          <p:spPr>
            <a:xfrm>
              <a:off x="4746600" y="5065560"/>
              <a:ext cx="11160" cy="5904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6" name=""/>
            <p:cNvSpPr/>
            <p:nvPr/>
          </p:nvSpPr>
          <p:spPr>
            <a:xfrm>
              <a:off x="4757760" y="5065560"/>
              <a:ext cx="11160" cy="5904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7" name=""/>
            <p:cNvSpPr/>
            <p:nvPr/>
          </p:nvSpPr>
          <p:spPr>
            <a:xfrm>
              <a:off x="4768920" y="5065560"/>
              <a:ext cx="12600" cy="590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8" name=""/>
            <p:cNvSpPr/>
            <p:nvPr/>
          </p:nvSpPr>
          <p:spPr>
            <a:xfrm>
              <a:off x="4781520" y="5065560"/>
              <a:ext cx="11160" cy="590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9" name=""/>
            <p:cNvSpPr/>
            <p:nvPr/>
          </p:nvSpPr>
          <p:spPr>
            <a:xfrm>
              <a:off x="4792680" y="5065560"/>
              <a:ext cx="11160" cy="590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4746600" y="5065560"/>
              <a:ext cx="46080" cy="4788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0" y="30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7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1" name=""/>
            <p:cNvSpPr/>
            <p:nvPr/>
          </p:nvSpPr>
          <p:spPr>
            <a:xfrm>
              <a:off x="4641840" y="5089680"/>
              <a:ext cx="11160" cy="237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2" name=""/>
            <p:cNvSpPr/>
            <p:nvPr/>
          </p:nvSpPr>
          <p:spPr>
            <a:xfrm>
              <a:off x="4653000" y="5089680"/>
              <a:ext cx="1116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3" name=""/>
            <p:cNvSpPr/>
            <p:nvPr/>
          </p:nvSpPr>
          <p:spPr>
            <a:xfrm>
              <a:off x="4664160" y="5089680"/>
              <a:ext cx="1260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4" name=""/>
            <p:cNvSpPr/>
            <p:nvPr/>
          </p:nvSpPr>
          <p:spPr>
            <a:xfrm>
              <a:off x="4676760" y="5089680"/>
              <a:ext cx="11160" cy="237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5" name=""/>
            <p:cNvSpPr/>
            <p:nvPr/>
          </p:nvSpPr>
          <p:spPr>
            <a:xfrm>
              <a:off x="4687920" y="5089680"/>
              <a:ext cx="1116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4699080" y="5089680"/>
              <a:ext cx="1260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7" name=""/>
            <p:cNvSpPr/>
            <p:nvPr/>
          </p:nvSpPr>
          <p:spPr>
            <a:xfrm>
              <a:off x="4711680" y="5089680"/>
              <a:ext cx="1116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8" name=""/>
            <p:cNvSpPr/>
            <p:nvPr/>
          </p:nvSpPr>
          <p:spPr>
            <a:xfrm>
              <a:off x="4722840" y="5089680"/>
              <a:ext cx="1116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9" name=""/>
            <p:cNvSpPr/>
            <p:nvPr/>
          </p:nvSpPr>
          <p:spPr>
            <a:xfrm>
              <a:off x="4734000" y="5089680"/>
              <a:ext cx="12600" cy="23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0" name=""/>
            <p:cNvSpPr/>
            <p:nvPr/>
          </p:nvSpPr>
          <p:spPr>
            <a:xfrm>
              <a:off x="4641840" y="5089680"/>
              <a:ext cx="1047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1" name=""/>
            <p:cNvSpPr/>
            <p:nvPr/>
          </p:nvSpPr>
          <p:spPr>
            <a:xfrm>
              <a:off x="4641840" y="5065560"/>
              <a:ext cx="11160" cy="349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4653000" y="5065560"/>
              <a:ext cx="1116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3" name=""/>
            <p:cNvSpPr/>
            <p:nvPr/>
          </p:nvSpPr>
          <p:spPr>
            <a:xfrm>
              <a:off x="4664160" y="5065560"/>
              <a:ext cx="1260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4" name=""/>
            <p:cNvSpPr/>
            <p:nvPr/>
          </p:nvSpPr>
          <p:spPr>
            <a:xfrm>
              <a:off x="4676760" y="5065560"/>
              <a:ext cx="1116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4687920" y="5065560"/>
              <a:ext cx="1116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4699080" y="5065560"/>
              <a:ext cx="1260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7" name=""/>
            <p:cNvSpPr/>
            <p:nvPr/>
          </p:nvSpPr>
          <p:spPr>
            <a:xfrm>
              <a:off x="4711680" y="506556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4722840" y="506556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9" name=""/>
            <p:cNvSpPr/>
            <p:nvPr/>
          </p:nvSpPr>
          <p:spPr>
            <a:xfrm>
              <a:off x="4734000" y="5065560"/>
              <a:ext cx="1260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0" name=""/>
            <p:cNvSpPr/>
            <p:nvPr/>
          </p:nvSpPr>
          <p:spPr>
            <a:xfrm>
              <a:off x="4746600" y="5065560"/>
              <a:ext cx="1116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1" name=""/>
            <p:cNvSpPr/>
            <p:nvPr/>
          </p:nvSpPr>
          <p:spPr>
            <a:xfrm>
              <a:off x="4757760" y="5065560"/>
              <a:ext cx="1116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4768920" y="5065560"/>
              <a:ext cx="1260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4781520" y="5065560"/>
              <a:ext cx="1116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4792680" y="5065560"/>
              <a:ext cx="1116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4641840" y="5065560"/>
              <a:ext cx="150840" cy="2412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5024520" y="5089680"/>
              <a:ext cx="11160" cy="2854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5035680" y="5089680"/>
              <a:ext cx="12600" cy="285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5048280" y="5089680"/>
              <a:ext cx="11160" cy="285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9" name=""/>
            <p:cNvSpPr/>
            <p:nvPr/>
          </p:nvSpPr>
          <p:spPr>
            <a:xfrm>
              <a:off x="5059440" y="5089680"/>
              <a:ext cx="11160" cy="285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5024520" y="5089680"/>
              <a:ext cx="34920" cy="274320"/>
            </a:xfrm>
            <a:custGeom>
              <a:avLst/>
              <a:gdLst/>
              <a:ahLst/>
              <a:rect l="l" t="t" r="r" b="b"/>
              <a:pathLst>
                <a:path w="22" h="173">
                  <a:moveTo>
                    <a:pt x="0" y="17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8"/>
                  </a:lnTo>
                  <a:lnTo>
                    <a:pt x="0" y="17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1" name=""/>
            <p:cNvSpPr/>
            <p:nvPr/>
          </p:nvSpPr>
          <p:spPr>
            <a:xfrm>
              <a:off x="4908600" y="5113440"/>
              <a:ext cx="11160" cy="25056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2" name=""/>
            <p:cNvSpPr/>
            <p:nvPr/>
          </p:nvSpPr>
          <p:spPr>
            <a:xfrm>
              <a:off x="4919760" y="5113440"/>
              <a:ext cx="12600" cy="25056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4932360" y="5113440"/>
              <a:ext cx="11160" cy="25056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4943520" y="5113440"/>
              <a:ext cx="11160" cy="25056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5" name=""/>
            <p:cNvSpPr/>
            <p:nvPr/>
          </p:nvSpPr>
          <p:spPr>
            <a:xfrm>
              <a:off x="4954680" y="5113440"/>
              <a:ext cx="12600" cy="250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4967280" y="5113440"/>
              <a:ext cx="11160" cy="250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7" name=""/>
            <p:cNvSpPr/>
            <p:nvPr/>
          </p:nvSpPr>
          <p:spPr>
            <a:xfrm>
              <a:off x="4978440" y="5113440"/>
              <a:ext cx="11160" cy="25056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8" name=""/>
            <p:cNvSpPr/>
            <p:nvPr/>
          </p:nvSpPr>
          <p:spPr>
            <a:xfrm>
              <a:off x="4989600" y="5113440"/>
              <a:ext cx="11160" cy="25056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5000760" y="5113440"/>
              <a:ext cx="12600" cy="25056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5013360" y="5113440"/>
              <a:ext cx="11160" cy="2505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1" name=""/>
            <p:cNvSpPr/>
            <p:nvPr/>
          </p:nvSpPr>
          <p:spPr>
            <a:xfrm>
              <a:off x="4908600" y="5113440"/>
              <a:ext cx="115920" cy="250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4908600" y="5089680"/>
              <a:ext cx="111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3" name=""/>
            <p:cNvSpPr/>
            <p:nvPr/>
          </p:nvSpPr>
          <p:spPr>
            <a:xfrm>
              <a:off x="4919760" y="5089680"/>
              <a:ext cx="1260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4932360" y="508968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4943520" y="5089680"/>
              <a:ext cx="1116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4954680" y="5089680"/>
              <a:ext cx="1260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4967280" y="508968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4978440" y="508968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4989600" y="508968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5000760" y="5089680"/>
              <a:ext cx="1260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5013360" y="508968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5024520" y="5089680"/>
              <a:ext cx="1116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3" name=""/>
            <p:cNvSpPr/>
            <p:nvPr/>
          </p:nvSpPr>
          <p:spPr>
            <a:xfrm>
              <a:off x="5035680" y="5089680"/>
              <a:ext cx="1260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5048280" y="508968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5059440" y="5089680"/>
              <a:ext cx="1116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4908600" y="508968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5024520" y="5018040"/>
              <a:ext cx="11160" cy="1065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5035680" y="5018040"/>
              <a:ext cx="12600" cy="1065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"/>
            <p:cNvSpPr/>
            <p:nvPr/>
          </p:nvSpPr>
          <p:spPr>
            <a:xfrm>
              <a:off x="5048280" y="5018040"/>
              <a:ext cx="11160" cy="1065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5059440" y="5018040"/>
              <a:ext cx="11160" cy="106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5024520" y="5018040"/>
              <a:ext cx="34920" cy="9540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4908600" y="5041800"/>
              <a:ext cx="11160" cy="7164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3" name=""/>
            <p:cNvSpPr/>
            <p:nvPr/>
          </p:nvSpPr>
          <p:spPr>
            <a:xfrm>
              <a:off x="4919760" y="5041800"/>
              <a:ext cx="12600" cy="7164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4" name=""/>
            <p:cNvSpPr/>
            <p:nvPr/>
          </p:nvSpPr>
          <p:spPr>
            <a:xfrm>
              <a:off x="4932360" y="5041800"/>
              <a:ext cx="11160" cy="7164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5" name=""/>
            <p:cNvSpPr/>
            <p:nvPr/>
          </p:nvSpPr>
          <p:spPr>
            <a:xfrm>
              <a:off x="4943520" y="5041800"/>
              <a:ext cx="11160" cy="7164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6" name=""/>
            <p:cNvSpPr/>
            <p:nvPr/>
          </p:nvSpPr>
          <p:spPr>
            <a:xfrm>
              <a:off x="4954680" y="5041800"/>
              <a:ext cx="12600" cy="716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7" name=""/>
            <p:cNvSpPr/>
            <p:nvPr/>
          </p:nvSpPr>
          <p:spPr>
            <a:xfrm>
              <a:off x="4967280" y="5041800"/>
              <a:ext cx="11160" cy="716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8" name=""/>
            <p:cNvSpPr/>
            <p:nvPr/>
          </p:nvSpPr>
          <p:spPr>
            <a:xfrm>
              <a:off x="4978440" y="5041800"/>
              <a:ext cx="11160" cy="7164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4989600" y="5041800"/>
              <a:ext cx="11160" cy="7164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5000760" y="5041800"/>
              <a:ext cx="12600" cy="7164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5013360" y="5041800"/>
              <a:ext cx="11160" cy="71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4908600" y="5041800"/>
              <a:ext cx="115920" cy="71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4908600" y="5018040"/>
              <a:ext cx="11160" cy="349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4919760" y="5018040"/>
              <a:ext cx="12600" cy="349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4932360" y="5018040"/>
              <a:ext cx="11160" cy="349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4943520" y="5018040"/>
              <a:ext cx="11160" cy="349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4954680" y="5018040"/>
              <a:ext cx="12600" cy="349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4967280" y="5018040"/>
              <a:ext cx="11160" cy="349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9" name=""/>
            <p:cNvSpPr/>
            <p:nvPr/>
          </p:nvSpPr>
          <p:spPr>
            <a:xfrm>
              <a:off x="4978440" y="501804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4989600" y="501804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5000760" y="5018040"/>
              <a:ext cx="12600" cy="349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5013360" y="5018040"/>
              <a:ext cx="11160" cy="349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5024520" y="5018040"/>
              <a:ext cx="11160" cy="349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4" name=""/>
            <p:cNvSpPr/>
            <p:nvPr/>
          </p:nvSpPr>
          <p:spPr>
            <a:xfrm>
              <a:off x="5035680" y="5018040"/>
              <a:ext cx="12600" cy="349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5" name=""/>
            <p:cNvSpPr/>
            <p:nvPr/>
          </p:nvSpPr>
          <p:spPr>
            <a:xfrm>
              <a:off x="5048280" y="5018040"/>
              <a:ext cx="11160" cy="349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6" name=""/>
            <p:cNvSpPr/>
            <p:nvPr/>
          </p:nvSpPr>
          <p:spPr>
            <a:xfrm>
              <a:off x="5059440" y="5018040"/>
              <a:ext cx="1116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7" name=""/>
            <p:cNvSpPr/>
            <p:nvPr/>
          </p:nvSpPr>
          <p:spPr>
            <a:xfrm>
              <a:off x="4908600" y="50180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8" name=""/>
            <p:cNvSpPr/>
            <p:nvPr/>
          </p:nvSpPr>
          <p:spPr>
            <a:xfrm>
              <a:off x="5024520" y="5005440"/>
              <a:ext cx="11160" cy="475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5035680" y="5005440"/>
              <a:ext cx="1260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0" name=""/>
            <p:cNvSpPr/>
            <p:nvPr/>
          </p:nvSpPr>
          <p:spPr>
            <a:xfrm>
              <a:off x="5048280" y="5005440"/>
              <a:ext cx="11160" cy="47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5059440" y="5005440"/>
              <a:ext cx="11160" cy="475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5024520" y="500544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2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4908600" y="5029200"/>
              <a:ext cx="11160" cy="1260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4" name=""/>
            <p:cNvSpPr/>
            <p:nvPr/>
          </p:nvSpPr>
          <p:spPr>
            <a:xfrm>
              <a:off x="4919760" y="5029200"/>
              <a:ext cx="12600" cy="1260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5" name=""/>
            <p:cNvSpPr/>
            <p:nvPr/>
          </p:nvSpPr>
          <p:spPr>
            <a:xfrm>
              <a:off x="4932360" y="5029200"/>
              <a:ext cx="11160" cy="1260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4943520" y="5029200"/>
              <a:ext cx="11160" cy="1260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4954680" y="5029200"/>
              <a:ext cx="1260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4967280" y="5029200"/>
              <a:ext cx="11160" cy="12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9" name=""/>
            <p:cNvSpPr/>
            <p:nvPr/>
          </p:nvSpPr>
          <p:spPr>
            <a:xfrm>
              <a:off x="4978440" y="5029200"/>
              <a:ext cx="11160" cy="1260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0" name=""/>
            <p:cNvSpPr/>
            <p:nvPr/>
          </p:nvSpPr>
          <p:spPr>
            <a:xfrm>
              <a:off x="4989600" y="5029200"/>
              <a:ext cx="11160" cy="1260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5000760" y="5029200"/>
              <a:ext cx="12600" cy="1260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5013360" y="5029200"/>
              <a:ext cx="11160" cy="12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4908600" y="5029200"/>
              <a:ext cx="11592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4" name=""/>
            <p:cNvSpPr/>
            <p:nvPr/>
          </p:nvSpPr>
          <p:spPr>
            <a:xfrm>
              <a:off x="4908600" y="5005440"/>
              <a:ext cx="11160" cy="363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5" name=""/>
            <p:cNvSpPr/>
            <p:nvPr/>
          </p:nvSpPr>
          <p:spPr>
            <a:xfrm>
              <a:off x="4919760" y="5005440"/>
              <a:ext cx="1260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4932360" y="500544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4943520" y="5005440"/>
              <a:ext cx="1116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4954680" y="5005440"/>
              <a:ext cx="1260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9" name=""/>
            <p:cNvSpPr/>
            <p:nvPr/>
          </p:nvSpPr>
          <p:spPr>
            <a:xfrm>
              <a:off x="4967280" y="500544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0" name=""/>
            <p:cNvSpPr/>
            <p:nvPr/>
          </p:nvSpPr>
          <p:spPr>
            <a:xfrm>
              <a:off x="4978440" y="50054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4989600" y="50054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2" name=""/>
            <p:cNvSpPr/>
            <p:nvPr/>
          </p:nvSpPr>
          <p:spPr>
            <a:xfrm>
              <a:off x="5000760" y="5005440"/>
              <a:ext cx="1260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5013360" y="500544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4" name=""/>
            <p:cNvSpPr/>
            <p:nvPr/>
          </p:nvSpPr>
          <p:spPr>
            <a:xfrm>
              <a:off x="5024520" y="5005440"/>
              <a:ext cx="1116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5" name=""/>
            <p:cNvSpPr/>
            <p:nvPr/>
          </p:nvSpPr>
          <p:spPr>
            <a:xfrm>
              <a:off x="5035680" y="5005440"/>
              <a:ext cx="1260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6" name=""/>
            <p:cNvSpPr/>
            <p:nvPr/>
          </p:nvSpPr>
          <p:spPr>
            <a:xfrm>
              <a:off x="5048280" y="500544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7" name=""/>
            <p:cNvSpPr/>
            <p:nvPr/>
          </p:nvSpPr>
          <p:spPr>
            <a:xfrm>
              <a:off x="5059440" y="500544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8" name=""/>
            <p:cNvSpPr/>
            <p:nvPr/>
          </p:nvSpPr>
          <p:spPr>
            <a:xfrm>
              <a:off x="4908600" y="50054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9" name=""/>
            <p:cNvSpPr/>
            <p:nvPr/>
          </p:nvSpPr>
          <p:spPr>
            <a:xfrm>
              <a:off x="5024520" y="4994280"/>
              <a:ext cx="11160" cy="4752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0" name=""/>
            <p:cNvSpPr/>
            <p:nvPr/>
          </p:nvSpPr>
          <p:spPr>
            <a:xfrm>
              <a:off x="5035680" y="4994280"/>
              <a:ext cx="12600" cy="475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5048280" y="4994280"/>
              <a:ext cx="11160" cy="475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2" name=""/>
            <p:cNvSpPr/>
            <p:nvPr/>
          </p:nvSpPr>
          <p:spPr>
            <a:xfrm>
              <a:off x="5059440" y="4994280"/>
              <a:ext cx="11160" cy="4752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3" name=""/>
            <p:cNvSpPr/>
            <p:nvPr/>
          </p:nvSpPr>
          <p:spPr>
            <a:xfrm>
              <a:off x="5024520" y="49942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22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0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4908600" y="5018040"/>
              <a:ext cx="11160" cy="1116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5" name=""/>
            <p:cNvSpPr/>
            <p:nvPr/>
          </p:nvSpPr>
          <p:spPr>
            <a:xfrm>
              <a:off x="4919760" y="5018040"/>
              <a:ext cx="12600" cy="1116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6" name=""/>
            <p:cNvSpPr/>
            <p:nvPr/>
          </p:nvSpPr>
          <p:spPr>
            <a:xfrm>
              <a:off x="4932360" y="5018040"/>
              <a:ext cx="11160" cy="1116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4943520" y="5018040"/>
              <a:ext cx="11160" cy="1116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8" name=""/>
            <p:cNvSpPr/>
            <p:nvPr/>
          </p:nvSpPr>
          <p:spPr>
            <a:xfrm>
              <a:off x="4954680" y="5018040"/>
              <a:ext cx="12600" cy="111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9" name=""/>
            <p:cNvSpPr/>
            <p:nvPr/>
          </p:nvSpPr>
          <p:spPr>
            <a:xfrm>
              <a:off x="4967280" y="5018040"/>
              <a:ext cx="11160" cy="111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4978440" y="5018040"/>
              <a:ext cx="11160" cy="1116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4989600" y="5018040"/>
              <a:ext cx="11160" cy="1116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2" name=""/>
            <p:cNvSpPr/>
            <p:nvPr/>
          </p:nvSpPr>
          <p:spPr>
            <a:xfrm>
              <a:off x="5000760" y="5018040"/>
              <a:ext cx="12600" cy="1116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5013360" y="5018040"/>
              <a:ext cx="11160" cy="111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4908600" y="5018040"/>
              <a:ext cx="115920" cy="11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5" name=""/>
            <p:cNvSpPr/>
            <p:nvPr/>
          </p:nvSpPr>
          <p:spPr>
            <a:xfrm>
              <a:off x="4908600" y="4994280"/>
              <a:ext cx="11160" cy="3492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4919760" y="4994280"/>
              <a:ext cx="12600" cy="349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7" name=""/>
            <p:cNvSpPr/>
            <p:nvPr/>
          </p:nvSpPr>
          <p:spPr>
            <a:xfrm>
              <a:off x="4932360" y="4994280"/>
              <a:ext cx="11160" cy="349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8" name=""/>
            <p:cNvSpPr/>
            <p:nvPr/>
          </p:nvSpPr>
          <p:spPr>
            <a:xfrm>
              <a:off x="4943520" y="4994280"/>
              <a:ext cx="11160" cy="3492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4954680" y="4994280"/>
              <a:ext cx="12600" cy="349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4967280" y="4994280"/>
              <a:ext cx="11160" cy="349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1" name=""/>
            <p:cNvSpPr/>
            <p:nvPr/>
          </p:nvSpPr>
          <p:spPr>
            <a:xfrm>
              <a:off x="4978440" y="4994280"/>
              <a:ext cx="1116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4989600" y="4994280"/>
              <a:ext cx="1116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5000760" y="4994280"/>
              <a:ext cx="12600" cy="349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5013360" y="4994280"/>
              <a:ext cx="11160" cy="349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5" name=""/>
          <p:cNvGrpSpPr/>
          <p:nvPr/>
        </p:nvGrpSpPr>
        <p:grpSpPr>
          <a:xfrm>
            <a:off x="4908600" y="4587840"/>
            <a:ext cx="696960" cy="787320"/>
            <a:chOff x="4908600" y="4587840"/>
            <a:chExt cx="696960" cy="787320"/>
          </a:xfrm>
        </p:grpSpPr>
        <p:sp>
          <p:nvSpPr>
            <p:cNvPr id="4926" name=""/>
            <p:cNvSpPr/>
            <p:nvPr/>
          </p:nvSpPr>
          <p:spPr>
            <a:xfrm>
              <a:off x="5024520" y="4994280"/>
              <a:ext cx="11160" cy="3492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5035680" y="4994280"/>
              <a:ext cx="12600" cy="349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5048280" y="4994280"/>
              <a:ext cx="11160" cy="349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5059440" y="4994280"/>
              <a:ext cx="11160" cy="349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4908600" y="499428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5291280" y="4970520"/>
              <a:ext cx="12600" cy="4046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2" name=""/>
            <p:cNvSpPr/>
            <p:nvPr/>
          </p:nvSpPr>
          <p:spPr>
            <a:xfrm>
              <a:off x="5303880" y="4970520"/>
              <a:ext cx="11160" cy="4046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3" name=""/>
            <p:cNvSpPr/>
            <p:nvPr/>
          </p:nvSpPr>
          <p:spPr>
            <a:xfrm>
              <a:off x="5315040" y="4970520"/>
              <a:ext cx="11160" cy="4046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5326200" y="4970520"/>
              <a:ext cx="10800" cy="4046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5" name=""/>
            <p:cNvSpPr/>
            <p:nvPr/>
          </p:nvSpPr>
          <p:spPr>
            <a:xfrm>
              <a:off x="5291280" y="4970520"/>
              <a:ext cx="34920" cy="393480"/>
            </a:xfrm>
            <a:custGeom>
              <a:avLst/>
              <a:gdLst/>
              <a:ahLst/>
              <a:rect l="l" t="t" r="r" b="b"/>
              <a:pathLst>
                <a:path w="22" h="248">
                  <a:moveTo>
                    <a:pt x="0" y="24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33"/>
                  </a:lnTo>
                  <a:lnTo>
                    <a:pt x="0" y="24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6" name=""/>
            <p:cNvSpPr/>
            <p:nvPr/>
          </p:nvSpPr>
          <p:spPr>
            <a:xfrm>
              <a:off x="5175360" y="4994280"/>
              <a:ext cx="11160" cy="36972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7" name=""/>
            <p:cNvSpPr/>
            <p:nvPr/>
          </p:nvSpPr>
          <p:spPr>
            <a:xfrm>
              <a:off x="5186520" y="4994280"/>
              <a:ext cx="12600" cy="36972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8" name=""/>
            <p:cNvSpPr/>
            <p:nvPr/>
          </p:nvSpPr>
          <p:spPr>
            <a:xfrm>
              <a:off x="5199120" y="4994280"/>
              <a:ext cx="11160" cy="36972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9" name=""/>
            <p:cNvSpPr/>
            <p:nvPr/>
          </p:nvSpPr>
          <p:spPr>
            <a:xfrm>
              <a:off x="5210280" y="4994280"/>
              <a:ext cx="11160" cy="36972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5221440" y="4994280"/>
              <a:ext cx="12600" cy="3697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1" name=""/>
            <p:cNvSpPr/>
            <p:nvPr/>
          </p:nvSpPr>
          <p:spPr>
            <a:xfrm>
              <a:off x="5234040" y="4994280"/>
              <a:ext cx="11160" cy="3697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2" name=""/>
            <p:cNvSpPr/>
            <p:nvPr/>
          </p:nvSpPr>
          <p:spPr>
            <a:xfrm>
              <a:off x="5245200" y="4994280"/>
              <a:ext cx="11160" cy="36972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3" name=""/>
            <p:cNvSpPr/>
            <p:nvPr/>
          </p:nvSpPr>
          <p:spPr>
            <a:xfrm>
              <a:off x="5256360" y="4994280"/>
              <a:ext cx="12600" cy="36972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4" name=""/>
            <p:cNvSpPr/>
            <p:nvPr/>
          </p:nvSpPr>
          <p:spPr>
            <a:xfrm>
              <a:off x="5268960" y="4994280"/>
              <a:ext cx="11160" cy="36972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5" name=""/>
            <p:cNvSpPr/>
            <p:nvPr/>
          </p:nvSpPr>
          <p:spPr>
            <a:xfrm>
              <a:off x="5280120" y="4994280"/>
              <a:ext cx="11160" cy="369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6" name=""/>
            <p:cNvSpPr/>
            <p:nvPr/>
          </p:nvSpPr>
          <p:spPr>
            <a:xfrm>
              <a:off x="5175360" y="4994280"/>
              <a:ext cx="115920" cy="369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7" name=""/>
            <p:cNvSpPr/>
            <p:nvPr/>
          </p:nvSpPr>
          <p:spPr>
            <a:xfrm>
              <a:off x="5175360" y="4970520"/>
              <a:ext cx="111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8" name=""/>
            <p:cNvSpPr/>
            <p:nvPr/>
          </p:nvSpPr>
          <p:spPr>
            <a:xfrm>
              <a:off x="5186520" y="4970520"/>
              <a:ext cx="1260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5199120" y="497052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0" name=""/>
            <p:cNvSpPr/>
            <p:nvPr/>
          </p:nvSpPr>
          <p:spPr>
            <a:xfrm>
              <a:off x="5210280" y="4970520"/>
              <a:ext cx="1116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1" name=""/>
            <p:cNvSpPr/>
            <p:nvPr/>
          </p:nvSpPr>
          <p:spPr>
            <a:xfrm>
              <a:off x="5221440" y="4970520"/>
              <a:ext cx="1260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5234040" y="497052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3" name=""/>
            <p:cNvSpPr/>
            <p:nvPr/>
          </p:nvSpPr>
          <p:spPr>
            <a:xfrm>
              <a:off x="5245200" y="497052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4" name=""/>
            <p:cNvSpPr/>
            <p:nvPr/>
          </p:nvSpPr>
          <p:spPr>
            <a:xfrm>
              <a:off x="5256360" y="4970520"/>
              <a:ext cx="126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5268960" y="497052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5280120" y="497052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7" name=""/>
            <p:cNvSpPr/>
            <p:nvPr/>
          </p:nvSpPr>
          <p:spPr>
            <a:xfrm>
              <a:off x="5291280" y="4970520"/>
              <a:ext cx="1260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5303880" y="497052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9" name=""/>
            <p:cNvSpPr/>
            <p:nvPr/>
          </p:nvSpPr>
          <p:spPr>
            <a:xfrm>
              <a:off x="5315040" y="497052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0" name=""/>
            <p:cNvSpPr/>
            <p:nvPr/>
          </p:nvSpPr>
          <p:spPr>
            <a:xfrm>
              <a:off x="5326200" y="4970520"/>
              <a:ext cx="1080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5175360" y="497052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2" name=""/>
            <p:cNvSpPr/>
            <p:nvPr/>
          </p:nvSpPr>
          <p:spPr>
            <a:xfrm>
              <a:off x="5291280" y="4862520"/>
              <a:ext cx="12600" cy="1429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3" name=""/>
            <p:cNvSpPr/>
            <p:nvPr/>
          </p:nvSpPr>
          <p:spPr>
            <a:xfrm>
              <a:off x="5303880" y="4862520"/>
              <a:ext cx="11160" cy="1429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5315040" y="4862520"/>
              <a:ext cx="11160" cy="1429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5" name=""/>
            <p:cNvSpPr/>
            <p:nvPr/>
          </p:nvSpPr>
          <p:spPr>
            <a:xfrm>
              <a:off x="5326200" y="4862520"/>
              <a:ext cx="10800" cy="1429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6" name=""/>
            <p:cNvSpPr/>
            <p:nvPr/>
          </p:nvSpPr>
          <p:spPr>
            <a:xfrm>
              <a:off x="5291280" y="4862520"/>
              <a:ext cx="34920" cy="131760"/>
            </a:xfrm>
            <a:custGeom>
              <a:avLst/>
              <a:gdLst/>
              <a:ahLst/>
              <a:rect l="l" t="t" r="r" b="b"/>
              <a:pathLst>
                <a:path w="22" h="83">
                  <a:moveTo>
                    <a:pt x="0" y="8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68"/>
                  </a:lnTo>
                  <a:lnTo>
                    <a:pt x="0" y="8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7" name=""/>
            <p:cNvSpPr/>
            <p:nvPr/>
          </p:nvSpPr>
          <p:spPr>
            <a:xfrm>
              <a:off x="5175360" y="4898880"/>
              <a:ext cx="11160" cy="9540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8" name=""/>
            <p:cNvSpPr/>
            <p:nvPr/>
          </p:nvSpPr>
          <p:spPr>
            <a:xfrm>
              <a:off x="5186520" y="4898880"/>
              <a:ext cx="12600" cy="9540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9" name=""/>
            <p:cNvSpPr/>
            <p:nvPr/>
          </p:nvSpPr>
          <p:spPr>
            <a:xfrm>
              <a:off x="5199120" y="4898880"/>
              <a:ext cx="11160" cy="9540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5210280" y="4898880"/>
              <a:ext cx="11160" cy="9540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1" name=""/>
            <p:cNvSpPr/>
            <p:nvPr/>
          </p:nvSpPr>
          <p:spPr>
            <a:xfrm>
              <a:off x="5221440" y="4898880"/>
              <a:ext cx="12600" cy="954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2" name=""/>
            <p:cNvSpPr/>
            <p:nvPr/>
          </p:nvSpPr>
          <p:spPr>
            <a:xfrm>
              <a:off x="5234040" y="4898880"/>
              <a:ext cx="11160" cy="954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3" name=""/>
            <p:cNvSpPr/>
            <p:nvPr/>
          </p:nvSpPr>
          <p:spPr>
            <a:xfrm>
              <a:off x="5245200" y="4898880"/>
              <a:ext cx="11160" cy="9540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4" name=""/>
            <p:cNvSpPr/>
            <p:nvPr/>
          </p:nvSpPr>
          <p:spPr>
            <a:xfrm>
              <a:off x="5256360" y="4898880"/>
              <a:ext cx="12600" cy="9540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5" name=""/>
            <p:cNvSpPr/>
            <p:nvPr/>
          </p:nvSpPr>
          <p:spPr>
            <a:xfrm>
              <a:off x="5268960" y="4898880"/>
              <a:ext cx="11160" cy="9540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5280120" y="4898880"/>
              <a:ext cx="11160" cy="95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7" name=""/>
            <p:cNvSpPr/>
            <p:nvPr/>
          </p:nvSpPr>
          <p:spPr>
            <a:xfrm>
              <a:off x="5175360" y="4898880"/>
              <a:ext cx="115920" cy="95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5175360" y="4862520"/>
              <a:ext cx="11160" cy="475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5186520" y="4862520"/>
              <a:ext cx="1260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5199120" y="486252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1" name=""/>
            <p:cNvSpPr/>
            <p:nvPr/>
          </p:nvSpPr>
          <p:spPr>
            <a:xfrm>
              <a:off x="5210280" y="4862520"/>
              <a:ext cx="11160" cy="475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5221440" y="4862520"/>
              <a:ext cx="1260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3" name=""/>
            <p:cNvSpPr/>
            <p:nvPr/>
          </p:nvSpPr>
          <p:spPr>
            <a:xfrm>
              <a:off x="5234040" y="4862520"/>
              <a:ext cx="1116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5245200" y="486252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5256360" y="4862520"/>
              <a:ext cx="126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5268960" y="4862520"/>
              <a:ext cx="11160" cy="475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5280120" y="4862520"/>
              <a:ext cx="11160" cy="475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5291280" y="4862520"/>
              <a:ext cx="12600" cy="475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9" name=""/>
            <p:cNvSpPr/>
            <p:nvPr/>
          </p:nvSpPr>
          <p:spPr>
            <a:xfrm>
              <a:off x="5303880" y="4862520"/>
              <a:ext cx="11160" cy="475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0" name=""/>
            <p:cNvSpPr/>
            <p:nvPr/>
          </p:nvSpPr>
          <p:spPr>
            <a:xfrm>
              <a:off x="5315040" y="4862520"/>
              <a:ext cx="11160" cy="475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5326200" y="4862520"/>
              <a:ext cx="1080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2" name=""/>
            <p:cNvSpPr/>
            <p:nvPr/>
          </p:nvSpPr>
          <p:spPr>
            <a:xfrm>
              <a:off x="5175360" y="486252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73" y="23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73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5291280" y="4838760"/>
              <a:ext cx="12600" cy="712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5303880" y="4838760"/>
              <a:ext cx="11160" cy="712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5315040" y="4838760"/>
              <a:ext cx="11160" cy="712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5326200" y="4838760"/>
              <a:ext cx="10800" cy="712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5291280" y="4838760"/>
              <a:ext cx="34920" cy="6012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8" name=""/>
            <p:cNvSpPr/>
            <p:nvPr/>
          </p:nvSpPr>
          <p:spPr>
            <a:xfrm>
              <a:off x="5175360" y="4875120"/>
              <a:ext cx="11160" cy="2376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5186520" y="4875120"/>
              <a:ext cx="12600" cy="237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5199120" y="4875120"/>
              <a:ext cx="11160" cy="2376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1" name=""/>
            <p:cNvSpPr/>
            <p:nvPr/>
          </p:nvSpPr>
          <p:spPr>
            <a:xfrm>
              <a:off x="5210280" y="4875120"/>
              <a:ext cx="11160" cy="237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2" name=""/>
            <p:cNvSpPr/>
            <p:nvPr/>
          </p:nvSpPr>
          <p:spPr>
            <a:xfrm>
              <a:off x="5221440" y="4875120"/>
              <a:ext cx="1260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5234040" y="4875120"/>
              <a:ext cx="1116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4" name=""/>
            <p:cNvSpPr/>
            <p:nvPr/>
          </p:nvSpPr>
          <p:spPr>
            <a:xfrm>
              <a:off x="5245200" y="4875120"/>
              <a:ext cx="11160" cy="237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5" name=""/>
            <p:cNvSpPr/>
            <p:nvPr/>
          </p:nvSpPr>
          <p:spPr>
            <a:xfrm>
              <a:off x="5256360" y="4875120"/>
              <a:ext cx="12600" cy="2376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6" name=""/>
            <p:cNvSpPr/>
            <p:nvPr/>
          </p:nvSpPr>
          <p:spPr>
            <a:xfrm>
              <a:off x="5268960" y="4875120"/>
              <a:ext cx="11160" cy="237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7" name=""/>
            <p:cNvSpPr/>
            <p:nvPr/>
          </p:nvSpPr>
          <p:spPr>
            <a:xfrm>
              <a:off x="5280120" y="4875120"/>
              <a:ext cx="11160" cy="23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8" name=""/>
            <p:cNvSpPr/>
            <p:nvPr/>
          </p:nvSpPr>
          <p:spPr>
            <a:xfrm>
              <a:off x="5175360" y="4875120"/>
              <a:ext cx="11592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9" name=""/>
            <p:cNvSpPr/>
            <p:nvPr/>
          </p:nvSpPr>
          <p:spPr>
            <a:xfrm>
              <a:off x="5175360" y="4838760"/>
              <a:ext cx="11160" cy="475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0" name=""/>
            <p:cNvSpPr/>
            <p:nvPr/>
          </p:nvSpPr>
          <p:spPr>
            <a:xfrm>
              <a:off x="5186520" y="4838760"/>
              <a:ext cx="1260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1" name=""/>
            <p:cNvSpPr/>
            <p:nvPr/>
          </p:nvSpPr>
          <p:spPr>
            <a:xfrm>
              <a:off x="5199120" y="483876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2" name=""/>
            <p:cNvSpPr/>
            <p:nvPr/>
          </p:nvSpPr>
          <p:spPr>
            <a:xfrm>
              <a:off x="5210280" y="4838760"/>
              <a:ext cx="1116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3" name=""/>
            <p:cNvSpPr/>
            <p:nvPr/>
          </p:nvSpPr>
          <p:spPr>
            <a:xfrm>
              <a:off x="5221440" y="4838760"/>
              <a:ext cx="1260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4" name=""/>
            <p:cNvSpPr/>
            <p:nvPr/>
          </p:nvSpPr>
          <p:spPr>
            <a:xfrm>
              <a:off x="5234040" y="4838760"/>
              <a:ext cx="1116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5245200" y="483876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6" name=""/>
            <p:cNvSpPr/>
            <p:nvPr/>
          </p:nvSpPr>
          <p:spPr>
            <a:xfrm>
              <a:off x="5256360" y="4838760"/>
              <a:ext cx="126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7" name=""/>
            <p:cNvSpPr/>
            <p:nvPr/>
          </p:nvSpPr>
          <p:spPr>
            <a:xfrm>
              <a:off x="5268960" y="4838760"/>
              <a:ext cx="1116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5280120" y="483876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9" name=""/>
            <p:cNvSpPr/>
            <p:nvPr/>
          </p:nvSpPr>
          <p:spPr>
            <a:xfrm>
              <a:off x="5291280" y="4838760"/>
              <a:ext cx="1260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0" name=""/>
            <p:cNvSpPr/>
            <p:nvPr/>
          </p:nvSpPr>
          <p:spPr>
            <a:xfrm>
              <a:off x="5303880" y="483876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1" name=""/>
            <p:cNvSpPr/>
            <p:nvPr/>
          </p:nvSpPr>
          <p:spPr>
            <a:xfrm>
              <a:off x="5315040" y="483876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2" name=""/>
            <p:cNvSpPr/>
            <p:nvPr/>
          </p:nvSpPr>
          <p:spPr>
            <a:xfrm>
              <a:off x="5326200" y="4838760"/>
              <a:ext cx="1080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3" name=""/>
            <p:cNvSpPr/>
            <p:nvPr/>
          </p:nvSpPr>
          <p:spPr>
            <a:xfrm>
              <a:off x="5175360" y="483876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73" y="23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73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5291280" y="4815000"/>
              <a:ext cx="12600" cy="7128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5" name=""/>
            <p:cNvSpPr/>
            <p:nvPr/>
          </p:nvSpPr>
          <p:spPr>
            <a:xfrm>
              <a:off x="5303880" y="4815000"/>
              <a:ext cx="11160" cy="712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6" name=""/>
            <p:cNvSpPr/>
            <p:nvPr/>
          </p:nvSpPr>
          <p:spPr>
            <a:xfrm>
              <a:off x="5315040" y="4815000"/>
              <a:ext cx="11160" cy="712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5326200" y="4815000"/>
              <a:ext cx="10800" cy="7128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8" name=""/>
            <p:cNvSpPr/>
            <p:nvPr/>
          </p:nvSpPr>
          <p:spPr>
            <a:xfrm>
              <a:off x="5291280" y="4815000"/>
              <a:ext cx="34920" cy="6012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9" name=""/>
            <p:cNvSpPr/>
            <p:nvPr/>
          </p:nvSpPr>
          <p:spPr>
            <a:xfrm>
              <a:off x="5175360" y="4849920"/>
              <a:ext cx="11160" cy="2520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5186520" y="4849920"/>
              <a:ext cx="12600" cy="2520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1" name=""/>
            <p:cNvSpPr/>
            <p:nvPr/>
          </p:nvSpPr>
          <p:spPr>
            <a:xfrm>
              <a:off x="5199120" y="4849920"/>
              <a:ext cx="11160" cy="2520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2" name=""/>
            <p:cNvSpPr/>
            <p:nvPr/>
          </p:nvSpPr>
          <p:spPr>
            <a:xfrm>
              <a:off x="5210280" y="4849920"/>
              <a:ext cx="11160" cy="2520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3" name=""/>
            <p:cNvSpPr/>
            <p:nvPr/>
          </p:nvSpPr>
          <p:spPr>
            <a:xfrm>
              <a:off x="5221440" y="4849920"/>
              <a:ext cx="12600" cy="252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4" name=""/>
            <p:cNvSpPr/>
            <p:nvPr/>
          </p:nvSpPr>
          <p:spPr>
            <a:xfrm>
              <a:off x="5234040" y="4849920"/>
              <a:ext cx="11160" cy="252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5" name=""/>
            <p:cNvSpPr/>
            <p:nvPr/>
          </p:nvSpPr>
          <p:spPr>
            <a:xfrm>
              <a:off x="5245200" y="4849920"/>
              <a:ext cx="11160" cy="2520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5256360" y="4849920"/>
              <a:ext cx="12600" cy="2520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7" name=""/>
            <p:cNvSpPr/>
            <p:nvPr/>
          </p:nvSpPr>
          <p:spPr>
            <a:xfrm>
              <a:off x="5268960" y="4849920"/>
              <a:ext cx="11160" cy="2520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8" name=""/>
            <p:cNvSpPr/>
            <p:nvPr/>
          </p:nvSpPr>
          <p:spPr>
            <a:xfrm>
              <a:off x="5280120" y="4849920"/>
              <a:ext cx="11160" cy="252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"/>
            <p:cNvSpPr/>
            <p:nvPr/>
          </p:nvSpPr>
          <p:spPr>
            <a:xfrm>
              <a:off x="5175360" y="4849920"/>
              <a:ext cx="115920" cy="25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0" name=""/>
            <p:cNvSpPr/>
            <p:nvPr/>
          </p:nvSpPr>
          <p:spPr>
            <a:xfrm>
              <a:off x="5175360" y="4815000"/>
              <a:ext cx="11160" cy="4752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5186520" y="4815000"/>
              <a:ext cx="12600" cy="475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5199120" y="4815000"/>
              <a:ext cx="11160" cy="475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3" name=""/>
            <p:cNvSpPr/>
            <p:nvPr/>
          </p:nvSpPr>
          <p:spPr>
            <a:xfrm>
              <a:off x="5210280" y="4815000"/>
              <a:ext cx="11160" cy="4752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4" name=""/>
            <p:cNvSpPr/>
            <p:nvPr/>
          </p:nvSpPr>
          <p:spPr>
            <a:xfrm>
              <a:off x="5221440" y="4815000"/>
              <a:ext cx="12600" cy="475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5234040" y="4815000"/>
              <a:ext cx="11160" cy="475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6" name=""/>
            <p:cNvSpPr/>
            <p:nvPr/>
          </p:nvSpPr>
          <p:spPr>
            <a:xfrm>
              <a:off x="5245200" y="481500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7" name=""/>
            <p:cNvSpPr/>
            <p:nvPr/>
          </p:nvSpPr>
          <p:spPr>
            <a:xfrm>
              <a:off x="5256360" y="4815000"/>
              <a:ext cx="1260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5268960" y="4815000"/>
              <a:ext cx="11160" cy="475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5280120" y="4815000"/>
              <a:ext cx="11160" cy="475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5291280" y="4815000"/>
              <a:ext cx="12600" cy="4752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5303880" y="4815000"/>
              <a:ext cx="11160" cy="475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2" name=""/>
            <p:cNvSpPr/>
            <p:nvPr/>
          </p:nvSpPr>
          <p:spPr>
            <a:xfrm>
              <a:off x="5315040" y="4815000"/>
              <a:ext cx="11160" cy="475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3" name=""/>
            <p:cNvSpPr/>
            <p:nvPr/>
          </p:nvSpPr>
          <p:spPr>
            <a:xfrm>
              <a:off x="5326200" y="4815000"/>
              <a:ext cx="1080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5175360" y="4815000"/>
              <a:ext cx="150840" cy="34920"/>
            </a:xfrm>
            <a:custGeom>
              <a:avLst/>
              <a:gdLst/>
              <a:ahLst/>
              <a:rect l="l" t="t" r="r" b="b"/>
              <a:pathLst>
                <a:path w="95" h="22">
                  <a:moveTo>
                    <a:pt x="73" y="22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22"/>
                  </a:lnTo>
                  <a:lnTo>
                    <a:pt x="73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5" name=""/>
            <p:cNvSpPr/>
            <p:nvPr/>
          </p:nvSpPr>
          <p:spPr>
            <a:xfrm>
              <a:off x="5557680" y="4778280"/>
              <a:ext cx="12960" cy="5968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5570640" y="4778280"/>
              <a:ext cx="11160" cy="5968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5581800" y="4778280"/>
              <a:ext cx="10800" cy="5968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8" name=""/>
            <p:cNvSpPr/>
            <p:nvPr/>
          </p:nvSpPr>
          <p:spPr>
            <a:xfrm>
              <a:off x="5592600" y="4778280"/>
              <a:ext cx="12960" cy="5968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9" name=""/>
            <p:cNvSpPr/>
            <p:nvPr/>
          </p:nvSpPr>
          <p:spPr>
            <a:xfrm>
              <a:off x="5557680" y="4778280"/>
              <a:ext cx="34920" cy="585720"/>
            </a:xfrm>
            <a:custGeom>
              <a:avLst/>
              <a:gdLst/>
              <a:ahLst/>
              <a:rect l="l" t="t" r="r" b="b"/>
              <a:pathLst>
                <a:path w="22" h="369">
                  <a:moveTo>
                    <a:pt x="0" y="369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54"/>
                  </a:lnTo>
                  <a:lnTo>
                    <a:pt x="0" y="36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5454720" y="4815000"/>
              <a:ext cx="11160" cy="5490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1" name=""/>
            <p:cNvSpPr/>
            <p:nvPr/>
          </p:nvSpPr>
          <p:spPr>
            <a:xfrm>
              <a:off x="5465880" y="4815000"/>
              <a:ext cx="11160" cy="5490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5477040" y="4815000"/>
              <a:ext cx="10800" cy="5490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5487840" y="4815000"/>
              <a:ext cx="12960" cy="5490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5500800" y="4815000"/>
              <a:ext cx="11160" cy="5490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5511960" y="4815000"/>
              <a:ext cx="10800" cy="5490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5522760" y="4815000"/>
              <a:ext cx="12960" cy="5490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7" name=""/>
            <p:cNvSpPr/>
            <p:nvPr/>
          </p:nvSpPr>
          <p:spPr>
            <a:xfrm>
              <a:off x="5535720" y="4815000"/>
              <a:ext cx="11160" cy="5490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5546880" y="4815000"/>
              <a:ext cx="10800" cy="5490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5454720" y="4815000"/>
              <a:ext cx="102960" cy="549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5454720" y="4778280"/>
              <a:ext cx="11160" cy="4788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5465880" y="4778280"/>
              <a:ext cx="11160" cy="4788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5477040" y="4778280"/>
              <a:ext cx="10800" cy="4788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5487840" y="4778280"/>
              <a:ext cx="12960" cy="4788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5500800" y="4778280"/>
              <a:ext cx="11160" cy="4788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5511960" y="4778280"/>
              <a:ext cx="10800" cy="4788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5522760" y="4778280"/>
              <a:ext cx="1296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5535720" y="4778280"/>
              <a:ext cx="1116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5546880" y="4778280"/>
              <a:ext cx="10800" cy="4788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5557680" y="4778280"/>
              <a:ext cx="12960" cy="4788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5570640" y="4778280"/>
              <a:ext cx="11160" cy="4788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5581800" y="4778280"/>
              <a:ext cx="10800" cy="4788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5592600" y="4778280"/>
              <a:ext cx="12960" cy="4788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5454720" y="4778280"/>
              <a:ext cx="137880" cy="3672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5" y="23"/>
                  </a:moveTo>
                  <a:lnTo>
                    <a:pt x="87" y="0"/>
                  </a:lnTo>
                  <a:lnTo>
                    <a:pt x="21" y="0"/>
                  </a:lnTo>
                  <a:lnTo>
                    <a:pt x="0" y="23"/>
                  </a:lnTo>
                  <a:lnTo>
                    <a:pt x="6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5557680" y="4635360"/>
              <a:ext cx="12960" cy="19080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5570640" y="4635360"/>
              <a:ext cx="11160" cy="1908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6" name=""/>
            <p:cNvSpPr/>
            <p:nvPr/>
          </p:nvSpPr>
          <p:spPr>
            <a:xfrm>
              <a:off x="5581800" y="4635360"/>
              <a:ext cx="10800" cy="1908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5592600" y="4635360"/>
              <a:ext cx="12960" cy="1908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8" name=""/>
            <p:cNvSpPr/>
            <p:nvPr/>
          </p:nvSpPr>
          <p:spPr>
            <a:xfrm>
              <a:off x="5557680" y="4635360"/>
              <a:ext cx="34920" cy="179640"/>
            </a:xfrm>
            <a:custGeom>
              <a:avLst/>
              <a:gdLst/>
              <a:ahLst/>
              <a:rect l="l" t="t" r="r" b="b"/>
              <a:pathLst>
                <a:path w="22" h="113">
                  <a:moveTo>
                    <a:pt x="0" y="11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0"/>
                  </a:lnTo>
                  <a:lnTo>
                    <a:pt x="0" y="11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9" name=""/>
            <p:cNvSpPr/>
            <p:nvPr/>
          </p:nvSpPr>
          <p:spPr>
            <a:xfrm>
              <a:off x="5454720" y="4672080"/>
              <a:ext cx="11160" cy="1429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0" name=""/>
            <p:cNvSpPr/>
            <p:nvPr/>
          </p:nvSpPr>
          <p:spPr>
            <a:xfrm>
              <a:off x="5465880" y="4672080"/>
              <a:ext cx="11160" cy="142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1" name=""/>
            <p:cNvSpPr/>
            <p:nvPr/>
          </p:nvSpPr>
          <p:spPr>
            <a:xfrm>
              <a:off x="5477040" y="4672080"/>
              <a:ext cx="10800" cy="142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2" name=""/>
            <p:cNvSpPr/>
            <p:nvPr/>
          </p:nvSpPr>
          <p:spPr>
            <a:xfrm>
              <a:off x="5487840" y="4672080"/>
              <a:ext cx="12960" cy="1429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5500800" y="4672080"/>
              <a:ext cx="11160" cy="142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5511960" y="4672080"/>
              <a:ext cx="10800" cy="142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5522760" y="4672080"/>
              <a:ext cx="12960" cy="142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5535720" y="4672080"/>
              <a:ext cx="11160" cy="142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5546880" y="4672080"/>
              <a:ext cx="10800" cy="142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5454720" y="4672080"/>
              <a:ext cx="102960" cy="142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5454720" y="4635360"/>
              <a:ext cx="11160" cy="4788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0" name=""/>
            <p:cNvSpPr/>
            <p:nvPr/>
          </p:nvSpPr>
          <p:spPr>
            <a:xfrm>
              <a:off x="5465880" y="4635360"/>
              <a:ext cx="1116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5477040" y="4635360"/>
              <a:ext cx="1080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5487840" y="4635360"/>
              <a:ext cx="129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5500800" y="4635360"/>
              <a:ext cx="1116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5511960" y="4635360"/>
              <a:ext cx="10800" cy="4788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5522760" y="4635360"/>
              <a:ext cx="129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5535720" y="463536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5546880" y="4635360"/>
              <a:ext cx="1080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5557680" y="4635360"/>
              <a:ext cx="129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9" name=""/>
            <p:cNvSpPr/>
            <p:nvPr/>
          </p:nvSpPr>
          <p:spPr>
            <a:xfrm>
              <a:off x="5570640" y="4635360"/>
              <a:ext cx="1116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0" name=""/>
            <p:cNvSpPr/>
            <p:nvPr/>
          </p:nvSpPr>
          <p:spPr>
            <a:xfrm>
              <a:off x="5581800" y="4635360"/>
              <a:ext cx="1080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5592600" y="4635360"/>
              <a:ext cx="1296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5454720" y="4635360"/>
              <a:ext cx="137880" cy="3672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5" y="23"/>
                  </a:moveTo>
                  <a:lnTo>
                    <a:pt x="87" y="0"/>
                  </a:lnTo>
                  <a:lnTo>
                    <a:pt x="21" y="0"/>
                  </a:lnTo>
                  <a:lnTo>
                    <a:pt x="0" y="23"/>
                  </a:lnTo>
                  <a:lnTo>
                    <a:pt x="6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5557680" y="4587840"/>
              <a:ext cx="12960" cy="9540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5570640" y="4587840"/>
              <a:ext cx="11160" cy="954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5" name=""/>
            <p:cNvSpPr/>
            <p:nvPr/>
          </p:nvSpPr>
          <p:spPr>
            <a:xfrm>
              <a:off x="5581800" y="4587840"/>
              <a:ext cx="10800" cy="954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6" name=""/>
            <p:cNvSpPr/>
            <p:nvPr/>
          </p:nvSpPr>
          <p:spPr>
            <a:xfrm>
              <a:off x="5592600" y="4587840"/>
              <a:ext cx="12960" cy="9540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5557680" y="458784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8" name=""/>
            <p:cNvSpPr/>
            <p:nvPr/>
          </p:nvSpPr>
          <p:spPr>
            <a:xfrm>
              <a:off x="5454720" y="4624560"/>
              <a:ext cx="11160" cy="475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9" name=""/>
            <p:cNvSpPr/>
            <p:nvPr/>
          </p:nvSpPr>
          <p:spPr>
            <a:xfrm>
              <a:off x="5465880" y="4624560"/>
              <a:ext cx="11160" cy="475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0" name=""/>
            <p:cNvSpPr/>
            <p:nvPr/>
          </p:nvSpPr>
          <p:spPr>
            <a:xfrm>
              <a:off x="5477040" y="4624560"/>
              <a:ext cx="10800" cy="475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5487840" y="4624560"/>
              <a:ext cx="12960" cy="475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2" name=""/>
            <p:cNvSpPr/>
            <p:nvPr/>
          </p:nvSpPr>
          <p:spPr>
            <a:xfrm>
              <a:off x="5500800" y="4624560"/>
              <a:ext cx="11160" cy="475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3" name=""/>
            <p:cNvSpPr/>
            <p:nvPr/>
          </p:nvSpPr>
          <p:spPr>
            <a:xfrm>
              <a:off x="5511960" y="4624560"/>
              <a:ext cx="10800" cy="475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4" name=""/>
            <p:cNvSpPr/>
            <p:nvPr/>
          </p:nvSpPr>
          <p:spPr>
            <a:xfrm>
              <a:off x="5522760" y="4624560"/>
              <a:ext cx="12960" cy="475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5" name=""/>
            <p:cNvSpPr/>
            <p:nvPr/>
          </p:nvSpPr>
          <p:spPr>
            <a:xfrm>
              <a:off x="5535720" y="4624560"/>
              <a:ext cx="11160" cy="475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6" name=""/>
          <p:cNvGrpSpPr/>
          <p:nvPr/>
        </p:nvGrpSpPr>
        <p:grpSpPr>
          <a:xfrm>
            <a:off x="5454720" y="4349880"/>
            <a:ext cx="684000" cy="1025280"/>
            <a:chOff x="5454720" y="4349880"/>
            <a:chExt cx="684000" cy="1025280"/>
          </a:xfrm>
        </p:grpSpPr>
        <p:sp>
          <p:nvSpPr>
            <p:cNvPr id="5127" name=""/>
            <p:cNvSpPr/>
            <p:nvPr/>
          </p:nvSpPr>
          <p:spPr>
            <a:xfrm>
              <a:off x="5546880" y="4624560"/>
              <a:ext cx="10800" cy="47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8" name=""/>
            <p:cNvSpPr/>
            <p:nvPr/>
          </p:nvSpPr>
          <p:spPr>
            <a:xfrm>
              <a:off x="5454720" y="4624560"/>
              <a:ext cx="102960" cy="47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5454720" y="458784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0" name=""/>
            <p:cNvSpPr/>
            <p:nvPr/>
          </p:nvSpPr>
          <p:spPr>
            <a:xfrm>
              <a:off x="5465880" y="4587840"/>
              <a:ext cx="111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1" name=""/>
            <p:cNvSpPr/>
            <p:nvPr/>
          </p:nvSpPr>
          <p:spPr>
            <a:xfrm>
              <a:off x="5477040" y="4587840"/>
              <a:ext cx="1080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2" name=""/>
            <p:cNvSpPr/>
            <p:nvPr/>
          </p:nvSpPr>
          <p:spPr>
            <a:xfrm>
              <a:off x="5487840" y="4587840"/>
              <a:ext cx="129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5500800" y="458784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5511960" y="4587840"/>
              <a:ext cx="1080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5522760" y="4587840"/>
              <a:ext cx="129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6" name=""/>
            <p:cNvSpPr/>
            <p:nvPr/>
          </p:nvSpPr>
          <p:spPr>
            <a:xfrm>
              <a:off x="5535720" y="45878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5546880" y="4587840"/>
              <a:ext cx="108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5557680" y="4587840"/>
              <a:ext cx="129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9" name=""/>
            <p:cNvSpPr/>
            <p:nvPr/>
          </p:nvSpPr>
          <p:spPr>
            <a:xfrm>
              <a:off x="5570640" y="458784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0" name=""/>
            <p:cNvSpPr/>
            <p:nvPr/>
          </p:nvSpPr>
          <p:spPr>
            <a:xfrm>
              <a:off x="5581800" y="4587840"/>
              <a:ext cx="108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5592600" y="4587840"/>
              <a:ext cx="129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2" name=""/>
            <p:cNvSpPr/>
            <p:nvPr/>
          </p:nvSpPr>
          <p:spPr>
            <a:xfrm>
              <a:off x="5454720" y="4587840"/>
              <a:ext cx="137880" cy="3672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5" y="23"/>
                  </a:moveTo>
                  <a:lnTo>
                    <a:pt x="87" y="0"/>
                  </a:lnTo>
                  <a:lnTo>
                    <a:pt x="21" y="0"/>
                  </a:lnTo>
                  <a:lnTo>
                    <a:pt x="0" y="23"/>
                  </a:lnTo>
                  <a:lnTo>
                    <a:pt x="6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3" name=""/>
            <p:cNvSpPr/>
            <p:nvPr/>
          </p:nvSpPr>
          <p:spPr>
            <a:xfrm>
              <a:off x="5454720" y="4587840"/>
              <a:ext cx="11160" cy="475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4" name=""/>
            <p:cNvSpPr/>
            <p:nvPr/>
          </p:nvSpPr>
          <p:spPr>
            <a:xfrm>
              <a:off x="5465880" y="4587840"/>
              <a:ext cx="111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5" name=""/>
            <p:cNvSpPr/>
            <p:nvPr/>
          </p:nvSpPr>
          <p:spPr>
            <a:xfrm>
              <a:off x="5477040" y="4587840"/>
              <a:ext cx="1080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6" name=""/>
            <p:cNvSpPr/>
            <p:nvPr/>
          </p:nvSpPr>
          <p:spPr>
            <a:xfrm>
              <a:off x="5487840" y="4587840"/>
              <a:ext cx="129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7" name=""/>
            <p:cNvSpPr/>
            <p:nvPr/>
          </p:nvSpPr>
          <p:spPr>
            <a:xfrm>
              <a:off x="5500800" y="4587840"/>
              <a:ext cx="1116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8" name=""/>
            <p:cNvSpPr/>
            <p:nvPr/>
          </p:nvSpPr>
          <p:spPr>
            <a:xfrm>
              <a:off x="5511960" y="4587840"/>
              <a:ext cx="10800" cy="475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9" name=""/>
            <p:cNvSpPr/>
            <p:nvPr/>
          </p:nvSpPr>
          <p:spPr>
            <a:xfrm>
              <a:off x="5522760" y="4587840"/>
              <a:ext cx="129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0" name=""/>
            <p:cNvSpPr/>
            <p:nvPr/>
          </p:nvSpPr>
          <p:spPr>
            <a:xfrm>
              <a:off x="5535720" y="458784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1" name=""/>
            <p:cNvSpPr/>
            <p:nvPr/>
          </p:nvSpPr>
          <p:spPr>
            <a:xfrm>
              <a:off x="5546880" y="4587840"/>
              <a:ext cx="1080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2" name=""/>
            <p:cNvSpPr/>
            <p:nvPr/>
          </p:nvSpPr>
          <p:spPr>
            <a:xfrm>
              <a:off x="5557680" y="4587840"/>
              <a:ext cx="129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3" name=""/>
            <p:cNvSpPr/>
            <p:nvPr/>
          </p:nvSpPr>
          <p:spPr>
            <a:xfrm>
              <a:off x="5570640" y="4587840"/>
              <a:ext cx="111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4" name=""/>
            <p:cNvSpPr/>
            <p:nvPr/>
          </p:nvSpPr>
          <p:spPr>
            <a:xfrm>
              <a:off x="5581800" y="4587840"/>
              <a:ext cx="1080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5" name=""/>
            <p:cNvSpPr/>
            <p:nvPr/>
          </p:nvSpPr>
          <p:spPr>
            <a:xfrm>
              <a:off x="5592600" y="4587840"/>
              <a:ext cx="1296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6" name=""/>
            <p:cNvSpPr/>
            <p:nvPr/>
          </p:nvSpPr>
          <p:spPr>
            <a:xfrm>
              <a:off x="5454720" y="4587840"/>
              <a:ext cx="137880" cy="3672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5" y="23"/>
                  </a:moveTo>
                  <a:lnTo>
                    <a:pt x="87" y="0"/>
                  </a:lnTo>
                  <a:lnTo>
                    <a:pt x="21" y="0"/>
                  </a:lnTo>
                  <a:lnTo>
                    <a:pt x="0" y="23"/>
                  </a:lnTo>
                  <a:lnTo>
                    <a:pt x="6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7" name=""/>
            <p:cNvSpPr/>
            <p:nvPr/>
          </p:nvSpPr>
          <p:spPr>
            <a:xfrm>
              <a:off x="5557680" y="4540320"/>
              <a:ext cx="12960" cy="950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5570640" y="4540320"/>
              <a:ext cx="11160" cy="950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5581800" y="4540320"/>
              <a:ext cx="10800" cy="950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5592600" y="4540320"/>
              <a:ext cx="12960" cy="950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5557680" y="454032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2" name=""/>
            <p:cNvSpPr/>
            <p:nvPr/>
          </p:nvSpPr>
          <p:spPr>
            <a:xfrm>
              <a:off x="5454720" y="4564080"/>
              <a:ext cx="11160" cy="6048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5465880" y="4564080"/>
              <a:ext cx="11160" cy="604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5477040" y="4564080"/>
              <a:ext cx="10800" cy="604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5487840" y="4564080"/>
              <a:ext cx="12960" cy="6048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5500800" y="4564080"/>
              <a:ext cx="11160" cy="604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7" name=""/>
            <p:cNvSpPr/>
            <p:nvPr/>
          </p:nvSpPr>
          <p:spPr>
            <a:xfrm>
              <a:off x="5511960" y="4564080"/>
              <a:ext cx="10800" cy="604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5522760" y="4564080"/>
              <a:ext cx="12960" cy="604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5535720" y="4564080"/>
              <a:ext cx="11160" cy="604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5546880" y="4564080"/>
              <a:ext cx="10800" cy="604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1" name=""/>
            <p:cNvSpPr/>
            <p:nvPr/>
          </p:nvSpPr>
          <p:spPr>
            <a:xfrm>
              <a:off x="5454720" y="4564080"/>
              <a:ext cx="102960" cy="60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2" name=""/>
            <p:cNvSpPr/>
            <p:nvPr/>
          </p:nvSpPr>
          <p:spPr>
            <a:xfrm>
              <a:off x="5454720" y="4540320"/>
              <a:ext cx="111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5465880" y="454032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5477040" y="4540320"/>
              <a:ext cx="108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5487840" y="4540320"/>
              <a:ext cx="129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5500800" y="454032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7" name=""/>
            <p:cNvSpPr/>
            <p:nvPr/>
          </p:nvSpPr>
          <p:spPr>
            <a:xfrm>
              <a:off x="5511960" y="4540320"/>
              <a:ext cx="1080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5522760" y="4540320"/>
              <a:ext cx="129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5535720" y="454032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5546880" y="4540320"/>
              <a:ext cx="108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1" name=""/>
            <p:cNvSpPr/>
            <p:nvPr/>
          </p:nvSpPr>
          <p:spPr>
            <a:xfrm>
              <a:off x="5557680" y="4540320"/>
              <a:ext cx="129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2" name=""/>
            <p:cNvSpPr/>
            <p:nvPr/>
          </p:nvSpPr>
          <p:spPr>
            <a:xfrm>
              <a:off x="5570640" y="454032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5581800" y="4540320"/>
              <a:ext cx="108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5592600" y="4540320"/>
              <a:ext cx="129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5454720" y="4540320"/>
              <a:ext cx="137880" cy="23760"/>
            </a:xfrm>
            <a:custGeom>
              <a:avLst/>
              <a:gdLst/>
              <a:ahLst/>
              <a:rect l="l" t="t" r="r" b="b"/>
              <a:pathLst>
                <a:path w="87" h="15">
                  <a:moveTo>
                    <a:pt x="65" y="15"/>
                  </a:moveTo>
                  <a:lnTo>
                    <a:pt x="87" y="0"/>
                  </a:lnTo>
                  <a:lnTo>
                    <a:pt x="21" y="0"/>
                  </a:lnTo>
                  <a:lnTo>
                    <a:pt x="0" y="15"/>
                  </a:lnTo>
                  <a:lnTo>
                    <a:pt x="65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6" name=""/>
            <p:cNvSpPr/>
            <p:nvPr/>
          </p:nvSpPr>
          <p:spPr>
            <a:xfrm>
              <a:off x="5824440" y="4648320"/>
              <a:ext cx="12960" cy="7268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7" name=""/>
            <p:cNvSpPr/>
            <p:nvPr/>
          </p:nvSpPr>
          <p:spPr>
            <a:xfrm>
              <a:off x="5837400" y="4648320"/>
              <a:ext cx="10800" cy="7268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8" name=""/>
            <p:cNvSpPr/>
            <p:nvPr/>
          </p:nvSpPr>
          <p:spPr>
            <a:xfrm>
              <a:off x="5848200" y="4648320"/>
              <a:ext cx="11160" cy="7268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9" name=""/>
            <p:cNvSpPr/>
            <p:nvPr/>
          </p:nvSpPr>
          <p:spPr>
            <a:xfrm>
              <a:off x="5859360" y="4648320"/>
              <a:ext cx="12960" cy="7268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0" name=""/>
            <p:cNvSpPr/>
            <p:nvPr/>
          </p:nvSpPr>
          <p:spPr>
            <a:xfrm>
              <a:off x="5824440" y="4648320"/>
              <a:ext cx="34920" cy="715680"/>
            </a:xfrm>
            <a:custGeom>
              <a:avLst/>
              <a:gdLst/>
              <a:ahLst/>
              <a:rect l="l" t="t" r="r" b="b"/>
              <a:pathLst>
                <a:path w="22" h="451">
                  <a:moveTo>
                    <a:pt x="0" y="451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436"/>
                  </a:lnTo>
                  <a:lnTo>
                    <a:pt x="0" y="45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1" name=""/>
            <p:cNvSpPr/>
            <p:nvPr/>
          </p:nvSpPr>
          <p:spPr>
            <a:xfrm>
              <a:off x="5721480" y="4683240"/>
              <a:ext cx="11160" cy="6807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2" name=""/>
            <p:cNvSpPr/>
            <p:nvPr/>
          </p:nvSpPr>
          <p:spPr>
            <a:xfrm>
              <a:off x="5732640" y="4683240"/>
              <a:ext cx="10800" cy="6807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3" name=""/>
            <p:cNvSpPr/>
            <p:nvPr/>
          </p:nvSpPr>
          <p:spPr>
            <a:xfrm>
              <a:off x="5743440" y="4683240"/>
              <a:ext cx="12960" cy="6807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4" name=""/>
            <p:cNvSpPr/>
            <p:nvPr/>
          </p:nvSpPr>
          <p:spPr>
            <a:xfrm>
              <a:off x="5756400" y="4683240"/>
              <a:ext cx="11160" cy="6807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5" name=""/>
            <p:cNvSpPr/>
            <p:nvPr/>
          </p:nvSpPr>
          <p:spPr>
            <a:xfrm>
              <a:off x="5767560" y="4683240"/>
              <a:ext cx="10800" cy="6807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6" name=""/>
            <p:cNvSpPr/>
            <p:nvPr/>
          </p:nvSpPr>
          <p:spPr>
            <a:xfrm>
              <a:off x="5778360" y="4683240"/>
              <a:ext cx="12960" cy="6807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7" name=""/>
            <p:cNvSpPr/>
            <p:nvPr/>
          </p:nvSpPr>
          <p:spPr>
            <a:xfrm>
              <a:off x="5791320" y="4683240"/>
              <a:ext cx="11160" cy="6807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8" name=""/>
            <p:cNvSpPr/>
            <p:nvPr/>
          </p:nvSpPr>
          <p:spPr>
            <a:xfrm>
              <a:off x="5802480" y="4683240"/>
              <a:ext cx="10800" cy="6807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9" name=""/>
            <p:cNvSpPr/>
            <p:nvPr/>
          </p:nvSpPr>
          <p:spPr>
            <a:xfrm>
              <a:off x="5813280" y="4683240"/>
              <a:ext cx="11160" cy="6807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0" name=""/>
            <p:cNvSpPr/>
            <p:nvPr/>
          </p:nvSpPr>
          <p:spPr>
            <a:xfrm>
              <a:off x="5721480" y="4683240"/>
              <a:ext cx="102960" cy="680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1" name=""/>
            <p:cNvSpPr/>
            <p:nvPr/>
          </p:nvSpPr>
          <p:spPr>
            <a:xfrm>
              <a:off x="5721480" y="4648320"/>
              <a:ext cx="1116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2" name=""/>
            <p:cNvSpPr/>
            <p:nvPr/>
          </p:nvSpPr>
          <p:spPr>
            <a:xfrm>
              <a:off x="5732640" y="4648320"/>
              <a:ext cx="1080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3" name=""/>
            <p:cNvSpPr/>
            <p:nvPr/>
          </p:nvSpPr>
          <p:spPr>
            <a:xfrm>
              <a:off x="5743440" y="4648320"/>
              <a:ext cx="129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4" name=""/>
            <p:cNvSpPr/>
            <p:nvPr/>
          </p:nvSpPr>
          <p:spPr>
            <a:xfrm>
              <a:off x="5756400" y="464832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5" name=""/>
            <p:cNvSpPr/>
            <p:nvPr/>
          </p:nvSpPr>
          <p:spPr>
            <a:xfrm>
              <a:off x="5767560" y="4648320"/>
              <a:ext cx="1080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6" name=""/>
            <p:cNvSpPr/>
            <p:nvPr/>
          </p:nvSpPr>
          <p:spPr>
            <a:xfrm>
              <a:off x="5778360" y="4648320"/>
              <a:ext cx="12960" cy="475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7" name=""/>
            <p:cNvSpPr/>
            <p:nvPr/>
          </p:nvSpPr>
          <p:spPr>
            <a:xfrm>
              <a:off x="5791320" y="464832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8" name=""/>
            <p:cNvSpPr/>
            <p:nvPr/>
          </p:nvSpPr>
          <p:spPr>
            <a:xfrm>
              <a:off x="5802480" y="4648320"/>
              <a:ext cx="1080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9" name=""/>
            <p:cNvSpPr/>
            <p:nvPr/>
          </p:nvSpPr>
          <p:spPr>
            <a:xfrm>
              <a:off x="5813280" y="4648320"/>
              <a:ext cx="1116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0" name=""/>
            <p:cNvSpPr/>
            <p:nvPr/>
          </p:nvSpPr>
          <p:spPr>
            <a:xfrm>
              <a:off x="5824440" y="4648320"/>
              <a:ext cx="129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1" name=""/>
            <p:cNvSpPr/>
            <p:nvPr/>
          </p:nvSpPr>
          <p:spPr>
            <a:xfrm>
              <a:off x="5837400" y="4648320"/>
              <a:ext cx="1080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2" name=""/>
            <p:cNvSpPr/>
            <p:nvPr/>
          </p:nvSpPr>
          <p:spPr>
            <a:xfrm>
              <a:off x="5848200" y="4648320"/>
              <a:ext cx="1116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3" name=""/>
            <p:cNvSpPr/>
            <p:nvPr/>
          </p:nvSpPr>
          <p:spPr>
            <a:xfrm>
              <a:off x="5859360" y="4648320"/>
              <a:ext cx="1296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5721480" y="4648320"/>
              <a:ext cx="137880" cy="34920"/>
            </a:xfrm>
            <a:custGeom>
              <a:avLst/>
              <a:gdLst/>
              <a:ahLst/>
              <a:rect l="l" t="t" r="r" b="b"/>
              <a:pathLst>
                <a:path w="87" h="22">
                  <a:moveTo>
                    <a:pt x="65" y="22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5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5" name=""/>
            <p:cNvSpPr/>
            <p:nvPr/>
          </p:nvSpPr>
          <p:spPr>
            <a:xfrm>
              <a:off x="5824440" y="4468680"/>
              <a:ext cx="12960" cy="2271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6" name=""/>
            <p:cNvSpPr/>
            <p:nvPr/>
          </p:nvSpPr>
          <p:spPr>
            <a:xfrm>
              <a:off x="5837400" y="4468680"/>
              <a:ext cx="10800" cy="2271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7" name=""/>
            <p:cNvSpPr/>
            <p:nvPr/>
          </p:nvSpPr>
          <p:spPr>
            <a:xfrm>
              <a:off x="5848200" y="4468680"/>
              <a:ext cx="11160" cy="2271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8" name=""/>
            <p:cNvSpPr/>
            <p:nvPr/>
          </p:nvSpPr>
          <p:spPr>
            <a:xfrm>
              <a:off x="5859360" y="4468680"/>
              <a:ext cx="12960" cy="227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9" name=""/>
            <p:cNvSpPr/>
            <p:nvPr/>
          </p:nvSpPr>
          <p:spPr>
            <a:xfrm>
              <a:off x="5824440" y="4468680"/>
              <a:ext cx="34920" cy="214560"/>
            </a:xfrm>
            <a:custGeom>
              <a:avLst/>
              <a:gdLst/>
              <a:ahLst/>
              <a:rect l="l" t="t" r="r" b="b"/>
              <a:pathLst>
                <a:path w="22" h="135">
                  <a:moveTo>
                    <a:pt x="0" y="135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13"/>
                  </a:lnTo>
                  <a:lnTo>
                    <a:pt x="0" y="13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0" name=""/>
            <p:cNvSpPr/>
            <p:nvPr/>
          </p:nvSpPr>
          <p:spPr>
            <a:xfrm>
              <a:off x="5721480" y="4492800"/>
              <a:ext cx="11160" cy="1904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1" name=""/>
            <p:cNvSpPr/>
            <p:nvPr/>
          </p:nvSpPr>
          <p:spPr>
            <a:xfrm>
              <a:off x="5732640" y="4492800"/>
              <a:ext cx="10800" cy="1904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2" name=""/>
            <p:cNvSpPr/>
            <p:nvPr/>
          </p:nvSpPr>
          <p:spPr>
            <a:xfrm>
              <a:off x="5743440" y="4492800"/>
              <a:ext cx="12960" cy="1904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3" name=""/>
            <p:cNvSpPr/>
            <p:nvPr/>
          </p:nvSpPr>
          <p:spPr>
            <a:xfrm>
              <a:off x="5756400" y="4492800"/>
              <a:ext cx="11160" cy="1904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4" name=""/>
            <p:cNvSpPr/>
            <p:nvPr/>
          </p:nvSpPr>
          <p:spPr>
            <a:xfrm>
              <a:off x="5767560" y="4492800"/>
              <a:ext cx="10800" cy="1904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5" name=""/>
            <p:cNvSpPr/>
            <p:nvPr/>
          </p:nvSpPr>
          <p:spPr>
            <a:xfrm>
              <a:off x="5778360" y="4492800"/>
              <a:ext cx="12960" cy="1904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6" name=""/>
            <p:cNvSpPr/>
            <p:nvPr/>
          </p:nvSpPr>
          <p:spPr>
            <a:xfrm>
              <a:off x="5791320" y="4492800"/>
              <a:ext cx="11160" cy="1904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7" name=""/>
            <p:cNvSpPr/>
            <p:nvPr/>
          </p:nvSpPr>
          <p:spPr>
            <a:xfrm>
              <a:off x="5802480" y="4492800"/>
              <a:ext cx="10800" cy="1904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8" name=""/>
            <p:cNvSpPr/>
            <p:nvPr/>
          </p:nvSpPr>
          <p:spPr>
            <a:xfrm>
              <a:off x="5813280" y="4492800"/>
              <a:ext cx="11160" cy="190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9" name=""/>
            <p:cNvSpPr/>
            <p:nvPr/>
          </p:nvSpPr>
          <p:spPr>
            <a:xfrm>
              <a:off x="5721480" y="4492800"/>
              <a:ext cx="102960" cy="1904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0" name=""/>
            <p:cNvSpPr/>
            <p:nvPr/>
          </p:nvSpPr>
          <p:spPr>
            <a:xfrm>
              <a:off x="5721480" y="4468680"/>
              <a:ext cx="1116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1" name=""/>
            <p:cNvSpPr/>
            <p:nvPr/>
          </p:nvSpPr>
          <p:spPr>
            <a:xfrm>
              <a:off x="5732640" y="4468680"/>
              <a:ext cx="108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2" name=""/>
            <p:cNvSpPr/>
            <p:nvPr/>
          </p:nvSpPr>
          <p:spPr>
            <a:xfrm>
              <a:off x="5743440" y="4468680"/>
              <a:ext cx="129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3" name=""/>
            <p:cNvSpPr/>
            <p:nvPr/>
          </p:nvSpPr>
          <p:spPr>
            <a:xfrm>
              <a:off x="5756400" y="446868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4" name=""/>
            <p:cNvSpPr/>
            <p:nvPr/>
          </p:nvSpPr>
          <p:spPr>
            <a:xfrm>
              <a:off x="5767560" y="4468680"/>
              <a:ext cx="108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5" name=""/>
            <p:cNvSpPr/>
            <p:nvPr/>
          </p:nvSpPr>
          <p:spPr>
            <a:xfrm>
              <a:off x="5778360" y="4468680"/>
              <a:ext cx="1296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6" name=""/>
            <p:cNvSpPr/>
            <p:nvPr/>
          </p:nvSpPr>
          <p:spPr>
            <a:xfrm>
              <a:off x="5791320" y="446868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7" name=""/>
            <p:cNvSpPr/>
            <p:nvPr/>
          </p:nvSpPr>
          <p:spPr>
            <a:xfrm>
              <a:off x="5802480" y="4468680"/>
              <a:ext cx="108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8" name=""/>
            <p:cNvSpPr/>
            <p:nvPr/>
          </p:nvSpPr>
          <p:spPr>
            <a:xfrm>
              <a:off x="5813280" y="446868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9" name=""/>
            <p:cNvSpPr/>
            <p:nvPr/>
          </p:nvSpPr>
          <p:spPr>
            <a:xfrm>
              <a:off x="5824440" y="4468680"/>
              <a:ext cx="129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0" name=""/>
            <p:cNvSpPr/>
            <p:nvPr/>
          </p:nvSpPr>
          <p:spPr>
            <a:xfrm>
              <a:off x="5837400" y="4468680"/>
              <a:ext cx="1080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1" name=""/>
            <p:cNvSpPr/>
            <p:nvPr/>
          </p:nvSpPr>
          <p:spPr>
            <a:xfrm>
              <a:off x="5848200" y="446868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2" name=""/>
            <p:cNvSpPr/>
            <p:nvPr/>
          </p:nvSpPr>
          <p:spPr>
            <a:xfrm>
              <a:off x="5859360" y="4468680"/>
              <a:ext cx="129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3" name=""/>
            <p:cNvSpPr/>
            <p:nvPr/>
          </p:nvSpPr>
          <p:spPr>
            <a:xfrm>
              <a:off x="5721480" y="4468680"/>
              <a:ext cx="137880" cy="24120"/>
            </a:xfrm>
            <a:custGeom>
              <a:avLst/>
              <a:gdLst/>
              <a:ahLst/>
              <a:rect l="l" t="t" r="r" b="b"/>
              <a:pathLst>
                <a:path w="87" h="15">
                  <a:moveTo>
                    <a:pt x="65" y="15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5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5824440" y="4408560"/>
              <a:ext cx="12960" cy="968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5" name=""/>
            <p:cNvSpPr/>
            <p:nvPr/>
          </p:nvSpPr>
          <p:spPr>
            <a:xfrm>
              <a:off x="5837400" y="4408560"/>
              <a:ext cx="10800" cy="96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6" name=""/>
            <p:cNvSpPr/>
            <p:nvPr/>
          </p:nvSpPr>
          <p:spPr>
            <a:xfrm>
              <a:off x="5848200" y="4408560"/>
              <a:ext cx="11160" cy="96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5859360" y="4408560"/>
              <a:ext cx="12960" cy="968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5824440" y="440856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8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5721480" y="4444920"/>
              <a:ext cx="11160" cy="4788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0" name=""/>
            <p:cNvSpPr/>
            <p:nvPr/>
          </p:nvSpPr>
          <p:spPr>
            <a:xfrm>
              <a:off x="5732640" y="4444920"/>
              <a:ext cx="10800" cy="478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1" name=""/>
            <p:cNvSpPr/>
            <p:nvPr/>
          </p:nvSpPr>
          <p:spPr>
            <a:xfrm>
              <a:off x="5743440" y="4444920"/>
              <a:ext cx="12960" cy="478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5756400" y="4444920"/>
              <a:ext cx="11160" cy="4788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5767560" y="4444920"/>
              <a:ext cx="10800" cy="478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5778360" y="4444920"/>
              <a:ext cx="12960" cy="478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5791320" y="4444920"/>
              <a:ext cx="11160" cy="478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5802480" y="4444920"/>
              <a:ext cx="10800" cy="478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5813280" y="4444920"/>
              <a:ext cx="11160" cy="47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5721480" y="4444920"/>
              <a:ext cx="102960" cy="47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5721480" y="440856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5732640" y="4408560"/>
              <a:ext cx="108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1" name=""/>
            <p:cNvSpPr/>
            <p:nvPr/>
          </p:nvSpPr>
          <p:spPr>
            <a:xfrm>
              <a:off x="5743440" y="4408560"/>
              <a:ext cx="129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5756400" y="440856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5767560" y="4408560"/>
              <a:ext cx="108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5778360" y="4408560"/>
              <a:ext cx="1296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5791320" y="440856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5802480" y="4408560"/>
              <a:ext cx="108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7" name=""/>
            <p:cNvSpPr/>
            <p:nvPr/>
          </p:nvSpPr>
          <p:spPr>
            <a:xfrm>
              <a:off x="5813280" y="440856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5824440" y="4408560"/>
              <a:ext cx="129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9" name=""/>
            <p:cNvSpPr/>
            <p:nvPr/>
          </p:nvSpPr>
          <p:spPr>
            <a:xfrm>
              <a:off x="5837400" y="4408560"/>
              <a:ext cx="1080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0" name=""/>
            <p:cNvSpPr/>
            <p:nvPr/>
          </p:nvSpPr>
          <p:spPr>
            <a:xfrm>
              <a:off x="5848200" y="4408560"/>
              <a:ext cx="111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5859360" y="4408560"/>
              <a:ext cx="129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5721480" y="4408560"/>
              <a:ext cx="137880" cy="3636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5" y="23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3" name=""/>
            <p:cNvSpPr/>
            <p:nvPr/>
          </p:nvSpPr>
          <p:spPr>
            <a:xfrm>
              <a:off x="5721480" y="4408560"/>
              <a:ext cx="11160" cy="475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5732640" y="4408560"/>
              <a:ext cx="1080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5" name=""/>
            <p:cNvSpPr/>
            <p:nvPr/>
          </p:nvSpPr>
          <p:spPr>
            <a:xfrm>
              <a:off x="5743440" y="4408560"/>
              <a:ext cx="129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6" name=""/>
            <p:cNvSpPr/>
            <p:nvPr/>
          </p:nvSpPr>
          <p:spPr>
            <a:xfrm>
              <a:off x="5756400" y="440856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5767560" y="4408560"/>
              <a:ext cx="1080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5778360" y="4408560"/>
              <a:ext cx="12960" cy="475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5791320" y="440856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5802480" y="4408560"/>
              <a:ext cx="1080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1" name=""/>
            <p:cNvSpPr/>
            <p:nvPr/>
          </p:nvSpPr>
          <p:spPr>
            <a:xfrm>
              <a:off x="5813280" y="4408560"/>
              <a:ext cx="1116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5824440" y="4408560"/>
              <a:ext cx="129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5837400" y="4408560"/>
              <a:ext cx="1080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5848200" y="4408560"/>
              <a:ext cx="111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5859360" y="4408560"/>
              <a:ext cx="1296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5721480" y="4408560"/>
              <a:ext cx="137880" cy="3636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5" y="23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7" name=""/>
            <p:cNvSpPr/>
            <p:nvPr/>
          </p:nvSpPr>
          <p:spPr>
            <a:xfrm>
              <a:off x="5824440" y="4349880"/>
              <a:ext cx="12960" cy="10620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8" name=""/>
            <p:cNvSpPr/>
            <p:nvPr/>
          </p:nvSpPr>
          <p:spPr>
            <a:xfrm>
              <a:off x="5837400" y="4349880"/>
              <a:ext cx="10800" cy="10620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5848200" y="4349880"/>
              <a:ext cx="11160" cy="10620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5859360" y="4349880"/>
              <a:ext cx="12960" cy="10620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1" name=""/>
            <p:cNvSpPr/>
            <p:nvPr/>
          </p:nvSpPr>
          <p:spPr>
            <a:xfrm>
              <a:off x="5824440" y="434988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37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5721480" y="4384800"/>
              <a:ext cx="11160" cy="6012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3" name=""/>
            <p:cNvSpPr/>
            <p:nvPr/>
          </p:nvSpPr>
          <p:spPr>
            <a:xfrm>
              <a:off x="5732640" y="4384800"/>
              <a:ext cx="10800" cy="6012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5743440" y="4384800"/>
              <a:ext cx="12960" cy="6012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5756400" y="4384800"/>
              <a:ext cx="11160" cy="6012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5767560" y="4384800"/>
              <a:ext cx="10800" cy="601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7" name=""/>
            <p:cNvSpPr/>
            <p:nvPr/>
          </p:nvSpPr>
          <p:spPr>
            <a:xfrm>
              <a:off x="5778360" y="4384800"/>
              <a:ext cx="12960" cy="601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5791320" y="4384800"/>
              <a:ext cx="11160" cy="6012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5802480" y="4384800"/>
              <a:ext cx="10800" cy="6012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5813280" y="4384800"/>
              <a:ext cx="11160" cy="601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5721480" y="4384800"/>
              <a:ext cx="102960" cy="60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5721480" y="4349880"/>
              <a:ext cx="11160" cy="475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5732640" y="4349880"/>
              <a:ext cx="1080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5743440" y="4349880"/>
              <a:ext cx="1296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5756400" y="4349880"/>
              <a:ext cx="111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5767560" y="4349880"/>
              <a:ext cx="1080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5778360" y="4349880"/>
              <a:ext cx="12960" cy="475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5791320" y="434988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9" name=""/>
            <p:cNvSpPr/>
            <p:nvPr/>
          </p:nvSpPr>
          <p:spPr>
            <a:xfrm>
              <a:off x="5802480" y="4349880"/>
              <a:ext cx="1080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5813280" y="4349880"/>
              <a:ext cx="1116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5824440" y="4349880"/>
              <a:ext cx="129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2" name=""/>
            <p:cNvSpPr/>
            <p:nvPr/>
          </p:nvSpPr>
          <p:spPr>
            <a:xfrm>
              <a:off x="5837400" y="4349880"/>
              <a:ext cx="1080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5848200" y="4349880"/>
              <a:ext cx="1116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5859360" y="4349880"/>
              <a:ext cx="1296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5721480" y="4349880"/>
              <a:ext cx="137880" cy="34920"/>
            </a:xfrm>
            <a:custGeom>
              <a:avLst/>
              <a:gdLst/>
              <a:ahLst/>
              <a:rect l="l" t="t" r="r" b="b"/>
              <a:pathLst>
                <a:path w="87" h="22">
                  <a:moveTo>
                    <a:pt x="65" y="22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5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6093000" y="4456080"/>
              <a:ext cx="10800" cy="9190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7" name=""/>
            <p:cNvSpPr/>
            <p:nvPr/>
          </p:nvSpPr>
          <p:spPr>
            <a:xfrm>
              <a:off x="6103800" y="4456080"/>
              <a:ext cx="11160" cy="919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8" name=""/>
            <p:cNvSpPr/>
            <p:nvPr/>
          </p:nvSpPr>
          <p:spPr>
            <a:xfrm>
              <a:off x="6114960" y="4456080"/>
              <a:ext cx="11160" cy="919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6126120" y="4456080"/>
              <a:ext cx="12600" cy="9190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0" name=""/>
            <p:cNvSpPr/>
            <p:nvPr/>
          </p:nvSpPr>
          <p:spPr>
            <a:xfrm>
              <a:off x="6093000" y="4456080"/>
              <a:ext cx="33120" cy="907920"/>
            </a:xfrm>
            <a:custGeom>
              <a:avLst/>
              <a:gdLst/>
              <a:ahLst/>
              <a:rect l="l" t="t" r="r" b="b"/>
              <a:pathLst>
                <a:path w="21" h="572">
                  <a:moveTo>
                    <a:pt x="0" y="572"/>
                  </a:moveTo>
                  <a:lnTo>
                    <a:pt x="0" y="16"/>
                  </a:lnTo>
                  <a:lnTo>
                    <a:pt x="21" y="0"/>
                  </a:lnTo>
                  <a:lnTo>
                    <a:pt x="21" y="557"/>
                  </a:lnTo>
                  <a:lnTo>
                    <a:pt x="0" y="57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5987880" y="4481640"/>
              <a:ext cx="11160" cy="8823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5999040" y="4481640"/>
              <a:ext cx="11160" cy="882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6010200" y="4481640"/>
              <a:ext cx="12600" cy="882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4" name=""/>
            <p:cNvSpPr/>
            <p:nvPr/>
          </p:nvSpPr>
          <p:spPr>
            <a:xfrm>
              <a:off x="6022800" y="4481640"/>
              <a:ext cx="11160" cy="8823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6033960" y="4481640"/>
              <a:ext cx="11160" cy="882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6" name=""/>
            <p:cNvSpPr/>
            <p:nvPr/>
          </p:nvSpPr>
          <p:spPr>
            <a:xfrm>
              <a:off x="6045120" y="4481640"/>
              <a:ext cx="12960" cy="882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7" name=""/>
          <p:cNvGrpSpPr/>
          <p:nvPr/>
        </p:nvGrpSpPr>
        <p:grpSpPr>
          <a:xfrm>
            <a:off x="5987880" y="3657600"/>
            <a:ext cx="417600" cy="1717560"/>
            <a:chOff x="5987880" y="3657600"/>
            <a:chExt cx="417600" cy="1717560"/>
          </a:xfrm>
        </p:grpSpPr>
        <p:sp>
          <p:nvSpPr>
            <p:cNvPr id="5328" name=""/>
            <p:cNvSpPr/>
            <p:nvPr/>
          </p:nvSpPr>
          <p:spPr>
            <a:xfrm>
              <a:off x="6058080" y="4481640"/>
              <a:ext cx="10800" cy="882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6068880" y="4481640"/>
              <a:ext cx="11160" cy="882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0" name=""/>
            <p:cNvSpPr/>
            <p:nvPr/>
          </p:nvSpPr>
          <p:spPr>
            <a:xfrm>
              <a:off x="6080040" y="4481640"/>
              <a:ext cx="12960" cy="882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5987880" y="4481640"/>
              <a:ext cx="105120" cy="882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2" name=""/>
            <p:cNvSpPr/>
            <p:nvPr/>
          </p:nvSpPr>
          <p:spPr>
            <a:xfrm>
              <a:off x="5987880" y="445608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3" name=""/>
            <p:cNvSpPr/>
            <p:nvPr/>
          </p:nvSpPr>
          <p:spPr>
            <a:xfrm>
              <a:off x="5999040" y="445608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6010200" y="445608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6022800" y="445608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6" name=""/>
            <p:cNvSpPr/>
            <p:nvPr/>
          </p:nvSpPr>
          <p:spPr>
            <a:xfrm>
              <a:off x="6033960" y="445608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6045120" y="4456080"/>
              <a:ext cx="1296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6058080" y="4456080"/>
              <a:ext cx="108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6068880" y="445608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6080040" y="4456080"/>
              <a:ext cx="129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6093000" y="4456080"/>
              <a:ext cx="108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6103800" y="445608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6114960" y="445608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6126120" y="4456080"/>
              <a:ext cx="1260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5987880" y="4456080"/>
              <a:ext cx="138240" cy="25560"/>
            </a:xfrm>
            <a:custGeom>
              <a:avLst/>
              <a:gdLst/>
              <a:ahLst/>
              <a:rect l="l" t="t" r="r" b="b"/>
              <a:pathLst>
                <a:path w="87" h="16">
                  <a:moveTo>
                    <a:pt x="66" y="16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6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6093000" y="4230720"/>
              <a:ext cx="10800" cy="2620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6103800" y="4230720"/>
              <a:ext cx="11160" cy="2620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6114960" y="4230720"/>
              <a:ext cx="11160" cy="2620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6126120" y="4230720"/>
              <a:ext cx="12600" cy="2620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6093000" y="4230720"/>
              <a:ext cx="33120" cy="250920"/>
            </a:xfrm>
            <a:custGeom>
              <a:avLst/>
              <a:gdLst/>
              <a:ahLst/>
              <a:rect l="l" t="t" r="r" b="b"/>
              <a:pathLst>
                <a:path w="21" h="158">
                  <a:moveTo>
                    <a:pt x="0" y="158"/>
                  </a:moveTo>
                  <a:lnTo>
                    <a:pt x="0" y="15"/>
                  </a:lnTo>
                  <a:lnTo>
                    <a:pt x="21" y="0"/>
                  </a:lnTo>
                  <a:lnTo>
                    <a:pt x="21" y="142"/>
                  </a:lnTo>
                  <a:lnTo>
                    <a:pt x="0" y="15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5987880" y="4254480"/>
              <a:ext cx="11160" cy="2271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5999040" y="4254480"/>
              <a:ext cx="11160" cy="2271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6010200" y="4254480"/>
              <a:ext cx="12600" cy="2271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6022800" y="4254480"/>
              <a:ext cx="11160" cy="2271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6033960" y="4254480"/>
              <a:ext cx="11160" cy="2271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6" name=""/>
            <p:cNvSpPr/>
            <p:nvPr/>
          </p:nvSpPr>
          <p:spPr>
            <a:xfrm>
              <a:off x="6045120" y="4254480"/>
              <a:ext cx="12960" cy="2271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6058080" y="4254480"/>
              <a:ext cx="10800" cy="2271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6068880" y="4254480"/>
              <a:ext cx="11160" cy="2271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6080040" y="4254480"/>
              <a:ext cx="12960" cy="227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0" name=""/>
            <p:cNvSpPr/>
            <p:nvPr/>
          </p:nvSpPr>
          <p:spPr>
            <a:xfrm>
              <a:off x="5987880" y="4254480"/>
              <a:ext cx="105120" cy="227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5987880" y="4230720"/>
              <a:ext cx="11160" cy="349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5999040" y="4230720"/>
              <a:ext cx="1116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6010200" y="4230720"/>
              <a:ext cx="1260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6022800" y="423072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6033960" y="4230720"/>
              <a:ext cx="111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6045120" y="4230720"/>
              <a:ext cx="12960" cy="349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6058080" y="4230720"/>
              <a:ext cx="1080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6068880" y="423072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6080040" y="4230720"/>
              <a:ext cx="129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6093000" y="4230720"/>
              <a:ext cx="1080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6103800" y="423072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6114960" y="4230720"/>
              <a:ext cx="1116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6126120" y="4230720"/>
              <a:ext cx="1260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5987880" y="4230720"/>
              <a:ext cx="138240" cy="23760"/>
            </a:xfrm>
            <a:custGeom>
              <a:avLst/>
              <a:gdLst/>
              <a:ahLst/>
              <a:rect l="l" t="t" r="r" b="b"/>
              <a:pathLst>
                <a:path w="87" h="15">
                  <a:moveTo>
                    <a:pt x="66" y="15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6093000" y="4159080"/>
              <a:ext cx="10800" cy="10656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6103800" y="4159080"/>
              <a:ext cx="11160" cy="1065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6114960" y="4159080"/>
              <a:ext cx="11160" cy="1065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6126120" y="4159080"/>
              <a:ext cx="12600" cy="10656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6093000" y="4159080"/>
              <a:ext cx="33120" cy="95400"/>
            </a:xfrm>
            <a:custGeom>
              <a:avLst/>
              <a:gdLst/>
              <a:ahLst/>
              <a:rect l="l" t="t" r="r" b="b"/>
              <a:pathLst>
                <a:path w="21" h="60">
                  <a:moveTo>
                    <a:pt x="0" y="60"/>
                  </a:moveTo>
                  <a:lnTo>
                    <a:pt x="0" y="15"/>
                  </a:lnTo>
                  <a:lnTo>
                    <a:pt x="21" y="0"/>
                  </a:lnTo>
                  <a:lnTo>
                    <a:pt x="21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5987880" y="4183200"/>
              <a:ext cx="11160" cy="7128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5999040" y="4183200"/>
              <a:ext cx="11160" cy="712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6010200" y="4183200"/>
              <a:ext cx="12600" cy="712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6022800" y="4183200"/>
              <a:ext cx="11160" cy="7128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6033960" y="4183200"/>
              <a:ext cx="11160" cy="712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6045120" y="4183200"/>
              <a:ext cx="12960" cy="712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6058080" y="4183200"/>
              <a:ext cx="10800" cy="712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6068880" y="4183200"/>
              <a:ext cx="11160" cy="712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6080040" y="4183200"/>
              <a:ext cx="12960" cy="712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5987880" y="4183200"/>
              <a:ext cx="105120" cy="71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5987880" y="4159080"/>
              <a:ext cx="11160" cy="349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5999040" y="4159080"/>
              <a:ext cx="11160" cy="349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2" name=""/>
            <p:cNvSpPr/>
            <p:nvPr/>
          </p:nvSpPr>
          <p:spPr>
            <a:xfrm>
              <a:off x="6010200" y="4159080"/>
              <a:ext cx="12600" cy="349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3" name=""/>
            <p:cNvSpPr/>
            <p:nvPr/>
          </p:nvSpPr>
          <p:spPr>
            <a:xfrm>
              <a:off x="6022800" y="4159080"/>
              <a:ext cx="11160" cy="349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6033960" y="4159080"/>
              <a:ext cx="11160" cy="349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6045120" y="4159080"/>
              <a:ext cx="12960" cy="349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6" name=""/>
            <p:cNvSpPr/>
            <p:nvPr/>
          </p:nvSpPr>
          <p:spPr>
            <a:xfrm>
              <a:off x="6058080" y="4159080"/>
              <a:ext cx="1080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6068880" y="415908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8" name=""/>
            <p:cNvSpPr/>
            <p:nvPr/>
          </p:nvSpPr>
          <p:spPr>
            <a:xfrm>
              <a:off x="6080040" y="4159080"/>
              <a:ext cx="12960" cy="349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6093000" y="4159080"/>
              <a:ext cx="10800" cy="349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6103800" y="4159080"/>
              <a:ext cx="11160" cy="349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6114960" y="4159080"/>
              <a:ext cx="11160" cy="349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2" name=""/>
            <p:cNvSpPr/>
            <p:nvPr/>
          </p:nvSpPr>
          <p:spPr>
            <a:xfrm>
              <a:off x="6126120" y="4159080"/>
              <a:ext cx="1260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5987880" y="4159080"/>
              <a:ext cx="138240" cy="24120"/>
            </a:xfrm>
            <a:custGeom>
              <a:avLst/>
              <a:gdLst/>
              <a:ahLst/>
              <a:rect l="l" t="t" r="r" b="b"/>
              <a:pathLst>
                <a:path w="87" h="15">
                  <a:moveTo>
                    <a:pt x="66" y="15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5987880" y="4146480"/>
              <a:ext cx="11160" cy="475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5999040" y="4146480"/>
              <a:ext cx="111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6010200" y="4146480"/>
              <a:ext cx="1260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6022800" y="414648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8" name=""/>
            <p:cNvSpPr/>
            <p:nvPr/>
          </p:nvSpPr>
          <p:spPr>
            <a:xfrm>
              <a:off x="6033960" y="4146480"/>
              <a:ext cx="1116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6045120" y="4146480"/>
              <a:ext cx="12960" cy="475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0" name=""/>
            <p:cNvSpPr/>
            <p:nvPr/>
          </p:nvSpPr>
          <p:spPr>
            <a:xfrm>
              <a:off x="6058080" y="4146480"/>
              <a:ext cx="1080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1" name=""/>
            <p:cNvSpPr/>
            <p:nvPr/>
          </p:nvSpPr>
          <p:spPr>
            <a:xfrm>
              <a:off x="6068880" y="414648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2" name=""/>
            <p:cNvSpPr/>
            <p:nvPr/>
          </p:nvSpPr>
          <p:spPr>
            <a:xfrm>
              <a:off x="6080040" y="4146480"/>
              <a:ext cx="1296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3" name=""/>
            <p:cNvSpPr/>
            <p:nvPr/>
          </p:nvSpPr>
          <p:spPr>
            <a:xfrm>
              <a:off x="6093000" y="4146480"/>
              <a:ext cx="1080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4" name=""/>
            <p:cNvSpPr/>
            <p:nvPr/>
          </p:nvSpPr>
          <p:spPr>
            <a:xfrm>
              <a:off x="6103800" y="4146480"/>
              <a:ext cx="111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6114960" y="4146480"/>
              <a:ext cx="111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6" name=""/>
            <p:cNvSpPr/>
            <p:nvPr/>
          </p:nvSpPr>
          <p:spPr>
            <a:xfrm>
              <a:off x="6126120" y="4146480"/>
              <a:ext cx="1260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7" name=""/>
            <p:cNvSpPr/>
            <p:nvPr/>
          </p:nvSpPr>
          <p:spPr>
            <a:xfrm>
              <a:off x="5987880" y="4146480"/>
              <a:ext cx="138240" cy="3672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6" y="23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6093000" y="4062240"/>
              <a:ext cx="10800" cy="13176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9" name=""/>
            <p:cNvSpPr/>
            <p:nvPr/>
          </p:nvSpPr>
          <p:spPr>
            <a:xfrm>
              <a:off x="6103800" y="4062240"/>
              <a:ext cx="11160" cy="1317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0" name=""/>
            <p:cNvSpPr/>
            <p:nvPr/>
          </p:nvSpPr>
          <p:spPr>
            <a:xfrm>
              <a:off x="6114960" y="4062240"/>
              <a:ext cx="11160" cy="1317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6126120" y="4062240"/>
              <a:ext cx="12600" cy="13176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2" name=""/>
            <p:cNvSpPr/>
            <p:nvPr/>
          </p:nvSpPr>
          <p:spPr>
            <a:xfrm>
              <a:off x="6093000" y="4062240"/>
              <a:ext cx="33120" cy="120960"/>
            </a:xfrm>
            <a:custGeom>
              <a:avLst/>
              <a:gdLst/>
              <a:ahLst/>
              <a:rect l="l" t="t" r="r" b="b"/>
              <a:pathLst>
                <a:path w="21" h="76">
                  <a:moveTo>
                    <a:pt x="0" y="76"/>
                  </a:moveTo>
                  <a:lnTo>
                    <a:pt x="0" y="23"/>
                  </a:lnTo>
                  <a:lnTo>
                    <a:pt x="21" y="0"/>
                  </a:lnTo>
                  <a:lnTo>
                    <a:pt x="21" y="53"/>
                  </a:lnTo>
                  <a:lnTo>
                    <a:pt x="0" y="7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5987880" y="4098960"/>
              <a:ext cx="11160" cy="8424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4" name=""/>
            <p:cNvSpPr/>
            <p:nvPr/>
          </p:nvSpPr>
          <p:spPr>
            <a:xfrm>
              <a:off x="5999040" y="4098960"/>
              <a:ext cx="11160" cy="842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6010200" y="4098960"/>
              <a:ext cx="12600" cy="842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6022800" y="4098960"/>
              <a:ext cx="11160" cy="8424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6033960" y="4098960"/>
              <a:ext cx="11160" cy="842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6045120" y="4098960"/>
              <a:ext cx="12960" cy="842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6058080" y="4098960"/>
              <a:ext cx="10800" cy="842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6068880" y="4098960"/>
              <a:ext cx="11160" cy="842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1" name=""/>
            <p:cNvSpPr/>
            <p:nvPr/>
          </p:nvSpPr>
          <p:spPr>
            <a:xfrm>
              <a:off x="6080040" y="4098960"/>
              <a:ext cx="12960" cy="842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5987880" y="4098960"/>
              <a:ext cx="105120" cy="842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3" name=""/>
            <p:cNvSpPr/>
            <p:nvPr/>
          </p:nvSpPr>
          <p:spPr>
            <a:xfrm>
              <a:off x="5987880" y="4062240"/>
              <a:ext cx="11160" cy="493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4" name=""/>
            <p:cNvSpPr/>
            <p:nvPr/>
          </p:nvSpPr>
          <p:spPr>
            <a:xfrm>
              <a:off x="5999040" y="4062240"/>
              <a:ext cx="11160" cy="493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5" name=""/>
            <p:cNvSpPr/>
            <p:nvPr/>
          </p:nvSpPr>
          <p:spPr>
            <a:xfrm>
              <a:off x="6010200" y="4062240"/>
              <a:ext cx="12600" cy="493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6022800" y="4062240"/>
              <a:ext cx="11160" cy="493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7" name=""/>
            <p:cNvSpPr/>
            <p:nvPr/>
          </p:nvSpPr>
          <p:spPr>
            <a:xfrm>
              <a:off x="6033960" y="4062240"/>
              <a:ext cx="11160" cy="493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6045120" y="4062240"/>
              <a:ext cx="12960" cy="493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9" name=""/>
            <p:cNvSpPr/>
            <p:nvPr/>
          </p:nvSpPr>
          <p:spPr>
            <a:xfrm>
              <a:off x="6058080" y="4062240"/>
              <a:ext cx="10800" cy="493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6068880" y="4062240"/>
              <a:ext cx="11160" cy="493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6080040" y="4062240"/>
              <a:ext cx="12960" cy="493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6093000" y="4062240"/>
              <a:ext cx="10800" cy="493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6103800" y="4062240"/>
              <a:ext cx="11160" cy="493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4" name=""/>
            <p:cNvSpPr/>
            <p:nvPr/>
          </p:nvSpPr>
          <p:spPr>
            <a:xfrm>
              <a:off x="6114960" y="4062240"/>
              <a:ext cx="11160" cy="493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6126120" y="4062240"/>
              <a:ext cx="12600" cy="493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6" name=""/>
            <p:cNvSpPr/>
            <p:nvPr/>
          </p:nvSpPr>
          <p:spPr>
            <a:xfrm>
              <a:off x="5987880" y="4062240"/>
              <a:ext cx="138240" cy="3672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66" y="23"/>
                  </a:moveTo>
                  <a:lnTo>
                    <a:pt x="8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7" name=""/>
            <p:cNvSpPr/>
            <p:nvPr/>
          </p:nvSpPr>
          <p:spPr>
            <a:xfrm>
              <a:off x="6359400" y="4111560"/>
              <a:ext cx="11160" cy="12636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8" name=""/>
            <p:cNvSpPr/>
            <p:nvPr/>
          </p:nvSpPr>
          <p:spPr>
            <a:xfrm>
              <a:off x="6370560" y="4111560"/>
              <a:ext cx="11160" cy="12636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9" name=""/>
            <p:cNvSpPr/>
            <p:nvPr/>
          </p:nvSpPr>
          <p:spPr>
            <a:xfrm>
              <a:off x="6381720" y="4111560"/>
              <a:ext cx="12600" cy="12636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0" name=""/>
            <p:cNvSpPr/>
            <p:nvPr/>
          </p:nvSpPr>
          <p:spPr>
            <a:xfrm>
              <a:off x="6394320" y="4111560"/>
              <a:ext cx="11160" cy="12636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1" name=""/>
            <p:cNvSpPr/>
            <p:nvPr/>
          </p:nvSpPr>
          <p:spPr>
            <a:xfrm>
              <a:off x="6359400" y="4111560"/>
              <a:ext cx="34920" cy="1252440"/>
            </a:xfrm>
            <a:custGeom>
              <a:avLst/>
              <a:gdLst/>
              <a:ahLst/>
              <a:rect l="l" t="t" r="r" b="b"/>
              <a:pathLst>
                <a:path w="22" h="789">
                  <a:moveTo>
                    <a:pt x="0" y="789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774"/>
                  </a:lnTo>
                  <a:lnTo>
                    <a:pt x="0" y="78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2" name=""/>
            <p:cNvSpPr/>
            <p:nvPr/>
          </p:nvSpPr>
          <p:spPr>
            <a:xfrm>
              <a:off x="6254640" y="4135320"/>
              <a:ext cx="11160" cy="12286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6265800" y="4135320"/>
              <a:ext cx="12600" cy="12286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4" name=""/>
            <p:cNvSpPr/>
            <p:nvPr/>
          </p:nvSpPr>
          <p:spPr>
            <a:xfrm>
              <a:off x="6278400" y="4135320"/>
              <a:ext cx="11160" cy="12286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6289560" y="4135320"/>
              <a:ext cx="11160" cy="12286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6300720" y="4135320"/>
              <a:ext cx="11160" cy="12286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6311880" y="4135320"/>
              <a:ext cx="12600" cy="12286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8" name=""/>
            <p:cNvSpPr/>
            <p:nvPr/>
          </p:nvSpPr>
          <p:spPr>
            <a:xfrm>
              <a:off x="6324480" y="4135320"/>
              <a:ext cx="11160" cy="12286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6335640" y="4135320"/>
              <a:ext cx="11160" cy="12286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6346800" y="4135320"/>
              <a:ext cx="12600" cy="1228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6254640" y="4135320"/>
              <a:ext cx="104760" cy="1228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2" name=""/>
            <p:cNvSpPr/>
            <p:nvPr/>
          </p:nvSpPr>
          <p:spPr>
            <a:xfrm>
              <a:off x="6254640" y="4111560"/>
              <a:ext cx="111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3" name=""/>
            <p:cNvSpPr/>
            <p:nvPr/>
          </p:nvSpPr>
          <p:spPr>
            <a:xfrm>
              <a:off x="6265800" y="4111560"/>
              <a:ext cx="1260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4" name=""/>
            <p:cNvSpPr/>
            <p:nvPr/>
          </p:nvSpPr>
          <p:spPr>
            <a:xfrm>
              <a:off x="6278400" y="411156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6289560" y="411156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6300720" y="4111560"/>
              <a:ext cx="1116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6311880" y="4111560"/>
              <a:ext cx="12600" cy="349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8" name=""/>
            <p:cNvSpPr/>
            <p:nvPr/>
          </p:nvSpPr>
          <p:spPr>
            <a:xfrm>
              <a:off x="6324480" y="411156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9" name=""/>
            <p:cNvSpPr/>
            <p:nvPr/>
          </p:nvSpPr>
          <p:spPr>
            <a:xfrm>
              <a:off x="6335640" y="411156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0" name=""/>
            <p:cNvSpPr/>
            <p:nvPr/>
          </p:nvSpPr>
          <p:spPr>
            <a:xfrm>
              <a:off x="6346800" y="4111560"/>
              <a:ext cx="1260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1" name=""/>
            <p:cNvSpPr/>
            <p:nvPr/>
          </p:nvSpPr>
          <p:spPr>
            <a:xfrm>
              <a:off x="6359400" y="411156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2" name=""/>
            <p:cNvSpPr/>
            <p:nvPr/>
          </p:nvSpPr>
          <p:spPr>
            <a:xfrm>
              <a:off x="6370560" y="411156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3" name=""/>
            <p:cNvSpPr/>
            <p:nvPr/>
          </p:nvSpPr>
          <p:spPr>
            <a:xfrm>
              <a:off x="6381720" y="4111560"/>
              <a:ext cx="1260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4" name=""/>
            <p:cNvSpPr/>
            <p:nvPr/>
          </p:nvSpPr>
          <p:spPr>
            <a:xfrm>
              <a:off x="6394320" y="4111560"/>
              <a:ext cx="1116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5" name=""/>
            <p:cNvSpPr/>
            <p:nvPr/>
          </p:nvSpPr>
          <p:spPr>
            <a:xfrm>
              <a:off x="6254640" y="411156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6" name=""/>
            <p:cNvSpPr/>
            <p:nvPr/>
          </p:nvSpPr>
          <p:spPr>
            <a:xfrm>
              <a:off x="6359400" y="3776760"/>
              <a:ext cx="11160" cy="3697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7" name=""/>
            <p:cNvSpPr/>
            <p:nvPr/>
          </p:nvSpPr>
          <p:spPr>
            <a:xfrm>
              <a:off x="6370560" y="3776760"/>
              <a:ext cx="11160" cy="3697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8" name=""/>
            <p:cNvSpPr/>
            <p:nvPr/>
          </p:nvSpPr>
          <p:spPr>
            <a:xfrm>
              <a:off x="6381720" y="3776760"/>
              <a:ext cx="12600" cy="3697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9" name=""/>
            <p:cNvSpPr/>
            <p:nvPr/>
          </p:nvSpPr>
          <p:spPr>
            <a:xfrm>
              <a:off x="6394320" y="3776760"/>
              <a:ext cx="11160" cy="3697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0" name=""/>
            <p:cNvSpPr/>
            <p:nvPr/>
          </p:nvSpPr>
          <p:spPr>
            <a:xfrm>
              <a:off x="6359400" y="3776760"/>
              <a:ext cx="34920" cy="358560"/>
            </a:xfrm>
            <a:custGeom>
              <a:avLst/>
              <a:gdLst/>
              <a:ahLst/>
              <a:rect l="l" t="t" r="r" b="b"/>
              <a:pathLst>
                <a:path w="22" h="226">
                  <a:moveTo>
                    <a:pt x="0" y="22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11"/>
                  </a:lnTo>
                  <a:lnTo>
                    <a:pt x="0" y="22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1" name=""/>
            <p:cNvSpPr/>
            <p:nvPr/>
          </p:nvSpPr>
          <p:spPr>
            <a:xfrm>
              <a:off x="6254640" y="3813120"/>
              <a:ext cx="11160" cy="32220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2" name=""/>
            <p:cNvSpPr/>
            <p:nvPr/>
          </p:nvSpPr>
          <p:spPr>
            <a:xfrm>
              <a:off x="6265800" y="3813120"/>
              <a:ext cx="12600" cy="3222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3" name=""/>
            <p:cNvSpPr/>
            <p:nvPr/>
          </p:nvSpPr>
          <p:spPr>
            <a:xfrm>
              <a:off x="6278400" y="3813120"/>
              <a:ext cx="11160" cy="3222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4" name=""/>
            <p:cNvSpPr/>
            <p:nvPr/>
          </p:nvSpPr>
          <p:spPr>
            <a:xfrm>
              <a:off x="6289560" y="3813120"/>
              <a:ext cx="11160" cy="32220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6300720" y="3813120"/>
              <a:ext cx="11160" cy="3222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6" name=""/>
            <p:cNvSpPr/>
            <p:nvPr/>
          </p:nvSpPr>
          <p:spPr>
            <a:xfrm>
              <a:off x="6311880" y="3813120"/>
              <a:ext cx="12600" cy="3222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7" name=""/>
            <p:cNvSpPr/>
            <p:nvPr/>
          </p:nvSpPr>
          <p:spPr>
            <a:xfrm>
              <a:off x="6324480" y="3813120"/>
              <a:ext cx="11160" cy="3222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8" name=""/>
            <p:cNvSpPr/>
            <p:nvPr/>
          </p:nvSpPr>
          <p:spPr>
            <a:xfrm>
              <a:off x="6335640" y="3813120"/>
              <a:ext cx="11160" cy="3222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9" name=""/>
            <p:cNvSpPr/>
            <p:nvPr/>
          </p:nvSpPr>
          <p:spPr>
            <a:xfrm>
              <a:off x="6346800" y="3813120"/>
              <a:ext cx="12600" cy="322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0" name=""/>
            <p:cNvSpPr/>
            <p:nvPr/>
          </p:nvSpPr>
          <p:spPr>
            <a:xfrm>
              <a:off x="6254640" y="3813120"/>
              <a:ext cx="104760" cy="322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6254640" y="3776760"/>
              <a:ext cx="11160" cy="475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2" name=""/>
            <p:cNvSpPr/>
            <p:nvPr/>
          </p:nvSpPr>
          <p:spPr>
            <a:xfrm>
              <a:off x="6265800" y="3776760"/>
              <a:ext cx="1260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3" name=""/>
            <p:cNvSpPr/>
            <p:nvPr/>
          </p:nvSpPr>
          <p:spPr>
            <a:xfrm>
              <a:off x="6278400" y="377676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4" name=""/>
            <p:cNvSpPr/>
            <p:nvPr/>
          </p:nvSpPr>
          <p:spPr>
            <a:xfrm>
              <a:off x="6289560" y="377676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5" name=""/>
            <p:cNvSpPr/>
            <p:nvPr/>
          </p:nvSpPr>
          <p:spPr>
            <a:xfrm>
              <a:off x="6300720" y="3776760"/>
              <a:ext cx="111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6" name=""/>
            <p:cNvSpPr/>
            <p:nvPr/>
          </p:nvSpPr>
          <p:spPr>
            <a:xfrm>
              <a:off x="6311880" y="3776760"/>
              <a:ext cx="12600" cy="475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7" name=""/>
            <p:cNvSpPr/>
            <p:nvPr/>
          </p:nvSpPr>
          <p:spPr>
            <a:xfrm>
              <a:off x="6324480" y="377676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8" name=""/>
            <p:cNvSpPr/>
            <p:nvPr/>
          </p:nvSpPr>
          <p:spPr>
            <a:xfrm>
              <a:off x="6335640" y="377676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9" name=""/>
            <p:cNvSpPr/>
            <p:nvPr/>
          </p:nvSpPr>
          <p:spPr>
            <a:xfrm>
              <a:off x="6346800" y="3776760"/>
              <a:ext cx="1260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0" name=""/>
            <p:cNvSpPr/>
            <p:nvPr/>
          </p:nvSpPr>
          <p:spPr>
            <a:xfrm>
              <a:off x="6359400" y="377676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6370560" y="377676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2" name=""/>
            <p:cNvSpPr/>
            <p:nvPr/>
          </p:nvSpPr>
          <p:spPr>
            <a:xfrm>
              <a:off x="6381720" y="3776760"/>
              <a:ext cx="1260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6394320" y="3776760"/>
              <a:ext cx="1116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4" name=""/>
            <p:cNvSpPr/>
            <p:nvPr/>
          </p:nvSpPr>
          <p:spPr>
            <a:xfrm>
              <a:off x="6254640" y="377676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6359400" y="3657600"/>
              <a:ext cx="11160" cy="1666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6370560" y="3657600"/>
              <a:ext cx="11160" cy="166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6381720" y="3657600"/>
              <a:ext cx="12600" cy="166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8" name=""/>
            <p:cNvSpPr/>
            <p:nvPr/>
          </p:nvSpPr>
          <p:spPr>
            <a:xfrm>
              <a:off x="6394320" y="3657600"/>
              <a:ext cx="11160" cy="1666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6359400" y="3657600"/>
              <a:ext cx="34920" cy="155520"/>
            </a:xfrm>
            <a:custGeom>
              <a:avLst/>
              <a:gdLst/>
              <a:ahLst/>
              <a:rect l="l" t="t" r="r" b="b"/>
              <a:pathLst>
                <a:path w="22" h="98">
                  <a:moveTo>
                    <a:pt x="0" y="98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75"/>
                  </a:lnTo>
                  <a:lnTo>
                    <a:pt x="0" y="9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0" name=""/>
            <p:cNvSpPr/>
            <p:nvPr/>
          </p:nvSpPr>
          <p:spPr>
            <a:xfrm>
              <a:off x="6254640" y="3693960"/>
              <a:ext cx="11160" cy="1191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1" name=""/>
            <p:cNvSpPr/>
            <p:nvPr/>
          </p:nvSpPr>
          <p:spPr>
            <a:xfrm>
              <a:off x="6265800" y="3693960"/>
              <a:ext cx="12600" cy="119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2" name=""/>
            <p:cNvSpPr/>
            <p:nvPr/>
          </p:nvSpPr>
          <p:spPr>
            <a:xfrm>
              <a:off x="6278400" y="3693960"/>
              <a:ext cx="11160" cy="119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3" name=""/>
            <p:cNvSpPr/>
            <p:nvPr/>
          </p:nvSpPr>
          <p:spPr>
            <a:xfrm>
              <a:off x="6289560" y="3693960"/>
              <a:ext cx="11160" cy="1191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4" name=""/>
            <p:cNvSpPr/>
            <p:nvPr/>
          </p:nvSpPr>
          <p:spPr>
            <a:xfrm>
              <a:off x="6300720" y="3693960"/>
              <a:ext cx="11160" cy="119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5" name=""/>
            <p:cNvSpPr/>
            <p:nvPr/>
          </p:nvSpPr>
          <p:spPr>
            <a:xfrm>
              <a:off x="6311880" y="3693960"/>
              <a:ext cx="12600" cy="119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6" name=""/>
            <p:cNvSpPr/>
            <p:nvPr/>
          </p:nvSpPr>
          <p:spPr>
            <a:xfrm>
              <a:off x="6324480" y="3693960"/>
              <a:ext cx="11160" cy="119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7" name=""/>
            <p:cNvSpPr/>
            <p:nvPr/>
          </p:nvSpPr>
          <p:spPr>
            <a:xfrm>
              <a:off x="6335640" y="3693960"/>
              <a:ext cx="11160" cy="119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6346800" y="3693960"/>
              <a:ext cx="12600" cy="119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9" name=""/>
            <p:cNvSpPr/>
            <p:nvPr/>
          </p:nvSpPr>
          <p:spPr>
            <a:xfrm>
              <a:off x="6254640" y="3693960"/>
              <a:ext cx="104760" cy="119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6254640" y="365760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1" name=""/>
            <p:cNvSpPr/>
            <p:nvPr/>
          </p:nvSpPr>
          <p:spPr>
            <a:xfrm>
              <a:off x="6265800" y="365760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2" name=""/>
            <p:cNvSpPr/>
            <p:nvPr/>
          </p:nvSpPr>
          <p:spPr>
            <a:xfrm>
              <a:off x="6278400" y="365760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3" name=""/>
            <p:cNvSpPr/>
            <p:nvPr/>
          </p:nvSpPr>
          <p:spPr>
            <a:xfrm>
              <a:off x="6289560" y="365760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6300720" y="365760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6311880" y="3657600"/>
              <a:ext cx="1260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6324480" y="365760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6335640" y="365760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8" name=""/>
          <p:cNvGrpSpPr/>
          <p:nvPr/>
        </p:nvGrpSpPr>
        <p:grpSpPr>
          <a:xfrm>
            <a:off x="6254640" y="3251160"/>
            <a:ext cx="417600" cy="2124000"/>
            <a:chOff x="6254640" y="3251160"/>
            <a:chExt cx="417600" cy="2124000"/>
          </a:xfrm>
        </p:grpSpPr>
        <p:sp>
          <p:nvSpPr>
            <p:cNvPr id="5529" name=""/>
            <p:cNvSpPr/>
            <p:nvPr/>
          </p:nvSpPr>
          <p:spPr>
            <a:xfrm>
              <a:off x="6346800" y="3657600"/>
              <a:ext cx="126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6359400" y="365760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6370560" y="365760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6381720" y="365760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6394320" y="365760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6254640" y="365760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6359400" y="3645000"/>
              <a:ext cx="11160" cy="6012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6370560" y="3645000"/>
              <a:ext cx="11160" cy="6012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6381720" y="3645000"/>
              <a:ext cx="12600" cy="6012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6394320" y="3645000"/>
              <a:ext cx="11160" cy="601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6359400" y="3645000"/>
              <a:ext cx="34920" cy="4896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0" y="3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0" y="3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6254640" y="3668760"/>
              <a:ext cx="11160" cy="2520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6265800" y="3668760"/>
              <a:ext cx="12600" cy="2520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6278400" y="3668760"/>
              <a:ext cx="11160" cy="2520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6289560" y="3668760"/>
              <a:ext cx="11160" cy="2520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6300720" y="3668760"/>
              <a:ext cx="11160" cy="2520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6311880" y="3668760"/>
              <a:ext cx="12600" cy="2520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6324480" y="3668760"/>
              <a:ext cx="11160" cy="2520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6335640" y="3668760"/>
              <a:ext cx="11160" cy="2520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6346800" y="3668760"/>
              <a:ext cx="12600" cy="25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6254640" y="3668760"/>
              <a:ext cx="104760" cy="25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6254640" y="3645000"/>
              <a:ext cx="1116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6265800" y="3645000"/>
              <a:ext cx="126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6278400" y="364500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6289560" y="364500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6300720" y="364500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5" name=""/>
            <p:cNvSpPr/>
            <p:nvPr/>
          </p:nvSpPr>
          <p:spPr>
            <a:xfrm>
              <a:off x="6311880" y="3645000"/>
              <a:ext cx="1260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6324480" y="364500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6335640" y="364500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6346800" y="3645000"/>
              <a:ext cx="1260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6359400" y="364500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6370560" y="364500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6381720" y="3645000"/>
              <a:ext cx="126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6394320" y="3645000"/>
              <a:ext cx="1116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6254640" y="364500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6359400" y="3525840"/>
              <a:ext cx="11160" cy="15552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6370560" y="3525840"/>
              <a:ext cx="11160" cy="1555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6381720" y="3525840"/>
              <a:ext cx="12600" cy="1555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6394320" y="3525840"/>
              <a:ext cx="11160" cy="15552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6359400" y="3525840"/>
              <a:ext cx="34920" cy="142920"/>
            </a:xfrm>
            <a:custGeom>
              <a:avLst/>
              <a:gdLst/>
              <a:ahLst/>
              <a:rect l="l" t="t" r="r" b="b"/>
              <a:pathLst>
                <a:path w="22" h="90">
                  <a:moveTo>
                    <a:pt x="0" y="90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75"/>
                  </a:lnTo>
                  <a:lnTo>
                    <a:pt x="0" y="9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6254640" y="3562200"/>
              <a:ext cx="11160" cy="10656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6265800" y="3562200"/>
              <a:ext cx="12600" cy="1065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6278400" y="3562200"/>
              <a:ext cx="11160" cy="1065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6289560" y="3562200"/>
              <a:ext cx="11160" cy="10656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6300720" y="3562200"/>
              <a:ext cx="11160" cy="1065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6311880" y="3562200"/>
              <a:ext cx="12600" cy="1065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6324480" y="3562200"/>
              <a:ext cx="11160" cy="1065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6" name=""/>
            <p:cNvSpPr/>
            <p:nvPr/>
          </p:nvSpPr>
          <p:spPr>
            <a:xfrm>
              <a:off x="6335640" y="3562200"/>
              <a:ext cx="11160" cy="1065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7" name=""/>
            <p:cNvSpPr/>
            <p:nvPr/>
          </p:nvSpPr>
          <p:spPr>
            <a:xfrm>
              <a:off x="6346800" y="3562200"/>
              <a:ext cx="12600" cy="1065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6254640" y="3562200"/>
              <a:ext cx="104760" cy="106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6254640" y="3525840"/>
              <a:ext cx="11160" cy="475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6265800" y="3525840"/>
              <a:ext cx="1260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6278400" y="3525840"/>
              <a:ext cx="1116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6289560" y="3525840"/>
              <a:ext cx="111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6300720" y="3525840"/>
              <a:ext cx="1116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6311880" y="3525840"/>
              <a:ext cx="12600" cy="475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6324480" y="352584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6335640" y="352584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6346800" y="3525840"/>
              <a:ext cx="1260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6359400" y="3525840"/>
              <a:ext cx="111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6370560" y="3525840"/>
              <a:ext cx="1116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6381720" y="3525840"/>
              <a:ext cx="1260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1" name=""/>
            <p:cNvSpPr/>
            <p:nvPr/>
          </p:nvSpPr>
          <p:spPr>
            <a:xfrm>
              <a:off x="6394320" y="3525840"/>
              <a:ext cx="1116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6254640" y="352584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6626160" y="3943440"/>
              <a:ext cx="11160" cy="143172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6637320" y="3943440"/>
              <a:ext cx="11160" cy="14317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6648480" y="3943440"/>
              <a:ext cx="12600" cy="14317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6661080" y="3943440"/>
              <a:ext cx="11160" cy="143172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6626160" y="3943440"/>
              <a:ext cx="34920" cy="1420560"/>
            </a:xfrm>
            <a:custGeom>
              <a:avLst/>
              <a:gdLst/>
              <a:ahLst/>
              <a:rect l="l" t="t" r="r" b="b"/>
              <a:pathLst>
                <a:path w="22" h="895">
                  <a:moveTo>
                    <a:pt x="0" y="895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880"/>
                  </a:lnTo>
                  <a:lnTo>
                    <a:pt x="0" y="89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6521400" y="3979800"/>
              <a:ext cx="11160" cy="13842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6532560" y="3979800"/>
              <a:ext cx="12600" cy="1384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6545160" y="3979800"/>
              <a:ext cx="11160" cy="1384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6556320" y="3979800"/>
              <a:ext cx="11160" cy="13842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6567480" y="3979800"/>
              <a:ext cx="12600" cy="1384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6580080" y="3979800"/>
              <a:ext cx="11160" cy="1384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6591240" y="3979800"/>
              <a:ext cx="11160" cy="1384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6602400" y="3979800"/>
              <a:ext cx="11160" cy="1384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6613560" y="3979800"/>
              <a:ext cx="12600" cy="1384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6521400" y="3979800"/>
              <a:ext cx="104760" cy="1384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6521400" y="3943440"/>
              <a:ext cx="1116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6532560" y="3943440"/>
              <a:ext cx="1260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6545160" y="3943440"/>
              <a:ext cx="111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6556320" y="394344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2" name=""/>
            <p:cNvSpPr/>
            <p:nvPr/>
          </p:nvSpPr>
          <p:spPr>
            <a:xfrm>
              <a:off x="6567480" y="3943440"/>
              <a:ext cx="1260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3" name=""/>
            <p:cNvSpPr/>
            <p:nvPr/>
          </p:nvSpPr>
          <p:spPr>
            <a:xfrm>
              <a:off x="6580080" y="3943440"/>
              <a:ext cx="11160" cy="475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6591240" y="394344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5" name=""/>
            <p:cNvSpPr/>
            <p:nvPr/>
          </p:nvSpPr>
          <p:spPr>
            <a:xfrm>
              <a:off x="6602400" y="394344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6613560" y="3943440"/>
              <a:ext cx="1260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6626160" y="394344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6637320" y="3943440"/>
              <a:ext cx="111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6648480" y="3943440"/>
              <a:ext cx="1260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6661080" y="3943440"/>
              <a:ext cx="1116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1" name=""/>
            <p:cNvSpPr/>
            <p:nvPr/>
          </p:nvSpPr>
          <p:spPr>
            <a:xfrm>
              <a:off x="6521400" y="394344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6626160" y="3549600"/>
              <a:ext cx="11160" cy="4413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6637320" y="3549600"/>
              <a:ext cx="11160" cy="4413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4" name=""/>
            <p:cNvSpPr/>
            <p:nvPr/>
          </p:nvSpPr>
          <p:spPr>
            <a:xfrm>
              <a:off x="6648480" y="3549600"/>
              <a:ext cx="12600" cy="4413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5" name=""/>
            <p:cNvSpPr/>
            <p:nvPr/>
          </p:nvSpPr>
          <p:spPr>
            <a:xfrm>
              <a:off x="6661080" y="3549600"/>
              <a:ext cx="11160" cy="4413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6" name=""/>
            <p:cNvSpPr/>
            <p:nvPr/>
          </p:nvSpPr>
          <p:spPr>
            <a:xfrm>
              <a:off x="6626160" y="3549600"/>
              <a:ext cx="34920" cy="430200"/>
            </a:xfrm>
            <a:custGeom>
              <a:avLst/>
              <a:gdLst/>
              <a:ahLst/>
              <a:rect l="l" t="t" r="r" b="b"/>
              <a:pathLst>
                <a:path w="22" h="271">
                  <a:moveTo>
                    <a:pt x="0" y="27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48"/>
                  </a:lnTo>
                  <a:lnTo>
                    <a:pt x="0" y="27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7" name=""/>
            <p:cNvSpPr/>
            <p:nvPr/>
          </p:nvSpPr>
          <p:spPr>
            <a:xfrm>
              <a:off x="6521400" y="3573360"/>
              <a:ext cx="11160" cy="4064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8" name=""/>
            <p:cNvSpPr/>
            <p:nvPr/>
          </p:nvSpPr>
          <p:spPr>
            <a:xfrm>
              <a:off x="6532560" y="3573360"/>
              <a:ext cx="12600" cy="4064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6545160" y="3573360"/>
              <a:ext cx="11160" cy="4064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0" name=""/>
            <p:cNvSpPr/>
            <p:nvPr/>
          </p:nvSpPr>
          <p:spPr>
            <a:xfrm>
              <a:off x="6556320" y="3573360"/>
              <a:ext cx="11160" cy="4064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1" name=""/>
            <p:cNvSpPr/>
            <p:nvPr/>
          </p:nvSpPr>
          <p:spPr>
            <a:xfrm>
              <a:off x="6567480" y="3573360"/>
              <a:ext cx="12600" cy="4064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6580080" y="3573360"/>
              <a:ext cx="11160" cy="4064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3" name=""/>
            <p:cNvSpPr/>
            <p:nvPr/>
          </p:nvSpPr>
          <p:spPr>
            <a:xfrm>
              <a:off x="6591240" y="3573360"/>
              <a:ext cx="11160" cy="4064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4" name=""/>
            <p:cNvSpPr/>
            <p:nvPr/>
          </p:nvSpPr>
          <p:spPr>
            <a:xfrm>
              <a:off x="6602400" y="3573360"/>
              <a:ext cx="11160" cy="4064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6613560" y="3573360"/>
              <a:ext cx="12600" cy="406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6" name=""/>
            <p:cNvSpPr/>
            <p:nvPr/>
          </p:nvSpPr>
          <p:spPr>
            <a:xfrm>
              <a:off x="6521400" y="3573360"/>
              <a:ext cx="104760" cy="4064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7" name=""/>
            <p:cNvSpPr/>
            <p:nvPr/>
          </p:nvSpPr>
          <p:spPr>
            <a:xfrm>
              <a:off x="6521400" y="3549600"/>
              <a:ext cx="1116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8" name=""/>
            <p:cNvSpPr/>
            <p:nvPr/>
          </p:nvSpPr>
          <p:spPr>
            <a:xfrm>
              <a:off x="6532560" y="3549600"/>
              <a:ext cx="126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9" name=""/>
            <p:cNvSpPr/>
            <p:nvPr/>
          </p:nvSpPr>
          <p:spPr>
            <a:xfrm>
              <a:off x="6545160" y="354960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0" name=""/>
            <p:cNvSpPr/>
            <p:nvPr/>
          </p:nvSpPr>
          <p:spPr>
            <a:xfrm>
              <a:off x="6556320" y="354960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6567480" y="3549600"/>
              <a:ext cx="126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2" name=""/>
            <p:cNvSpPr/>
            <p:nvPr/>
          </p:nvSpPr>
          <p:spPr>
            <a:xfrm>
              <a:off x="6580080" y="3549600"/>
              <a:ext cx="1116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3" name=""/>
            <p:cNvSpPr/>
            <p:nvPr/>
          </p:nvSpPr>
          <p:spPr>
            <a:xfrm>
              <a:off x="6591240" y="354960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6602400" y="354960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5" name=""/>
            <p:cNvSpPr/>
            <p:nvPr/>
          </p:nvSpPr>
          <p:spPr>
            <a:xfrm>
              <a:off x="6613560" y="3549600"/>
              <a:ext cx="126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6" name=""/>
            <p:cNvSpPr/>
            <p:nvPr/>
          </p:nvSpPr>
          <p:spPr>
            <a:xfrm>
              <a:off x="6626160" y="354960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7" name=""/>
            <p:cNvSpPr/>
            <p:nvPr/>
          </p:nvSpPr>
          <p:spPr>
            <a:xfrm>
              <a:off x="6637320" y="354960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8" name=""/>
            <p:cNvSpPr/>
            <p:nvPr/>
          </p:nvSpPr>
          <p:spPr>
            <a:xfrm>
              <a:off x="6648480" y="3549600"/>
              <a:ext cx="126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9" name=""/>
            <p:cNvSpPr/>
            <p:nvPr/>
          </p:nvSpPr>
          <p:spPr>
            <a:xfrm>
              <a:off x="6661080" y="3549600"/>
              <a:ext cx="111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0" name=""/>
            <p:cNvSpPr/>
            <p:nvPr/>
          </p:nvSpPr>
          <p:spPr>
            <a:xfrm>
              <a:off x="6521400" y="354960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1" name=""/>
            <p:cNvSpPr/>
            <p:nvPr/>
          </p:nvSpPr>
          <p:spPr>
            <a:xfrm>
              <a:off x="6626160" y="3406680"/>
              <a:ext cx="11160" cy="1796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2" name=""/>
            <p:cNvSpPr/>
            <p:nvPr/>
          </p:nvSpPr>
          <p:spPr>
            <a:xfrm>
              <a:off x="6637320" y="3406680"/>
              <a:ext cx="11160" cy="1796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3" name=""/>
            <p:cNvSpPr/>
            <p:nvPr/>
          </p:nvSpPr>
          <p:spPr>
            <a:xfrm>
              <a:off x="6648480" y="3406680"/>
              <a:ext cx="12600" cy="1796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4" name=""/>
            <p:cNvSpPr/>
            <p:nvPr/>
          </p:nvSpPr>
          <p:spPr>
            <a:xfrm>
              <a:off x="6661080" y="3406680"/>
              <a:ext cx="11160" cy="1796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5" name=""/>
            <p:cNvSpPr/>
            <p:nvPr/>
          </p:nvSpPr>
          <p:spPr>
            <a:xfrm>
              <a:off x="6626160" y="3406680"/>
              <a:ext cx="34920" cy="166680"/>
            </a:xfrm>
            <a:custGeom>
              <a:avLst/>
              <a:gdLst/>
              <a:ahLst/>
              <a:rect l="l" t="t" r="r" b="b"/>
              <a:pathLst>
                <a:path w="22" h="105">
                  <a:moveTo>
                    <a:pt x="0" y="105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0"/>
                  </a:lnTo>
                  <a:lnTo>
                    <a:pt x="0" y="10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6521400" y="3443400"/>
              <a:ext cx="11160" cy="1299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7" name=""/>
            <p:cNvSpPr/>
            <p:nvPr/>
          </p:nvSpPr>
          <p:spPr>
            <a:xfrm>
              <a:off x="6532560" y="3443400"/>
              <a:ext cx="12600" cy="129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8" name=""/>
            <p:cNvSpPr/>
            <p:nvPr/>
          </p:nvSpPr>
          <p:spPr>
            <a:xfrm>
              <a:off x="6545160" y="3443400"/>
              <a:ext cx="11160" cy="129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9" name=""/>
            <p:cNvSpPr/>
            <p:nvPr/>
          </p:nvSpPr>
          <p:spPr>
            <a:xfrm>
              <a:off x="6556320" y="3443400"/>
              <a:ext cx="11160" cy="1299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0" name=""/>
            <p:cNvSpPr/>
            <p:nvPr/>
          </p:nvSpPr>
          <p:spPr>
            <a:xfrm>
              <a:off x="6567480" y="3443400"/>
              <a:ext cx="12600" cy="129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1" name=""/>
            <p:cNvSpPr/>
            <p:nvPr/>
          </p:nvSpPr>
          <p:spPr>
            <a:xfrm>
              <a:off x="6580080" y="3443400"/>
              <a:ext cx="11160" cy="129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2" name=""/>
            <p:cNvSpPr/>
            <p:nvPr/>
          </p:nvSpPr>
          <p:spPr>
            <a:xfrm>
              <a:off x="6591240" y="3443400"/>
              <a:ext cx="11160" cy="129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3" name=""/>
            <p:cNvSpPr/>
            <p:nvPr/>
          </p:nvSpPr>
          <p:spPr>
            <a:xfrm>
              <a:off x="6602400" y="3443400"/>
              <a:ext cx="11160" cy="129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4" name=""/>
            <p:cNvSpPr/>
            <p:nvPr/>
          </p:nvSpPr>
          <p:spPr>
            <a:xfrm>
              <a:off x="6613560" y="3443400"/>
              <a:ext cx="12600" cy="129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5" name=""/>
            <p:cNvSpPr/>
            <p:nvPr/>
          </p:nvSpPr>
          <p:spPr>
            <a:xfrm>
              <a:off x="6521400" y="3443400"/>
              <a:ext cx="104760" cy="129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6" name=""/>
            <p:cNvSpPr/>
            <p:nvPr/>
          </p:nvSpPr>
          <p:spPr>
            <a:xfrm>
              <a:off x="6521400" y="3406680"/>
              <a:ext cx="11160" cy="4788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7" name=""/>
            <p:cNvSpPr/>
            <p:nvPr/>
          </p:nvSpPr>
          <p:spPr>
            <a:xfrm>
              <a:off x="6532560" y="3406680"/>
              <a:ext cx="12600" cy="4788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6545160" y="3406680"/>
              <a:ext cx="11160" cy="4788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9" name=""/>
            <p:cNvSpPr/>
            <p:nvPr/>
          </p:nvSpPr>
          <p:spPr>
            <a:xfrm>
              <a:off x="6556320" y="3406680"/>
              <a:ext cx="11160" cy="4788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0" name=""/>
            <p:cNvSpPr/>
            <p:nvPr/>
          </p:nvSpPr>
          <p:spPr>
            <a:xfrm>
              <a:off x="6567480" y="3406680"/>
              <a:ext cx="12600" cy="4788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1" name=""/>
            <p:cNvSpPr/>
            <p:nvPr/>
          </p:nvSpPr>
          <p:spPr>
            <a:xfrm>
              <a:off x="6580080" y="3406680"/>
              <a:ext cx="11160" cy="4788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2" name=""/>
            <p:cNvSpPr/>
            <p:nvPr/>
          </p:nvSpPr>
          <p:spPr>
            <a:xfrm>
              <a:off x="6591240" y="3406680"/>
              <a:ext cx="11160" cy="4788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3" name=""/>
            <p:cNvSpPr/>
            <p:nvPr/>
          </p:nvSpPr>
          <p:spPr>
            <a:xfrm>
              <a:off x="6602400" y="3406680"/>
              <a:ext cx="11160" cy="4788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4" name=""/>
            <p:cNvSpPr/>
            <p:nvPr/>
          </p:nvSpPr>
          <p:spPr>
            <a:xfrm>
              <a:off x="6613560" y="3406680"/>
              <a:ext cx="12600" cy="4788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5" name=""/>
            <p:cNvSpPr/>
            <p:nvPr/>
          </p:nvSpPr>
          <p:spPr>
            <a:xfrm>
              <a:off x="6626160" y="3406680"/>
              <a:ext cx="11160" cy="4788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6" name=""/>
            <p:cNvSpPr/>
            <p:nvPr/>
          </p:nvSpPr>
          <p:spPr>
            <a:xfrm>
              <a:off x="6637320" y="3406680"/>
              <a:ext cx="11160" cy="4788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6648480" y="3406680"/>
              <a:ext cx="12600" cy="4788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8" name=""/>
            <p:cNvSpPr/>
            <p:nvPr/>
          </p:nvSpPr>
          <p:spPr>
            <a:xfrm>
              <a:off x="6661080" y="3406680"/>
              <a:ext cx="11160" cy="4788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9" name=""/>
            <p:cNvSpPr/>
            <p:nvPr/>
          </p:nvSpPr>
          <p:spPr>
            <a:xfrm>
              <a:off x="6521400" y="3406680"/>
              <a:ext cx="139680" cy="367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6626160" y="3359160"/>
              <a:ext cx="11160" cy="954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1" name=""/>
            <p:cNvSpPr/>
            <p:nvPr/>
          </p:nvSpPr>
          <p:spPr>
            <a:xfrm>
              <a:off x="6637320" y="3359160"/>
              <a:ext cx="11160" cy="954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6648480" y="3359160"/>
              <a:ext cx="12600" cy="954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6661080" y="3359160"/>
              <a:ext cx="11160" cy="954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6626160" y="335916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6521400" y="3395520"/>
              <a:ext cx="11160" cy="4788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6532560" y="3395520"/>
              <a:ext cx="12600" cy="4788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6545160" y="3395520"/>
              <a:ext cx="11160" cy="4788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6556320" y="3395520"/>
              <a:ext cx="11160" cy="4788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9" name=""/>
            <p:cNvSpPr/>
            <p:nvPr/>
          </p:nvSpPr>
          <p:spPr>
            <a:xfrm>
              <a:off x="6567480" y="3395520"/>
              <a:ext cx="12600" cy="478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0" name=""/>
            <p:cNvSpPr/>
            <p:nvPr/>
          </p:nvSpPr>
          <p:spPr>
            <a:xfrm>
              <a:off x="6580080" y="3395520"/>
              <a:ext cx="11160" cy="478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1" name=""/>
            <p:cNvSpPr/>
            <p:nvPr/>
          </p:nvSpPr>
          <p:spPr>
            <a:xfrm>
              <a:off x="6591240" y="3395520"/>
              <a:ext cx="11160" cy="4788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6602400" y="3395520"/>
              <a:ext cx="11160" cy="4788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3" name=""/>
            <p:cNvSpPr/>
            <p:nvPr/>
          </p:nvSpPr>
          <p:spPr>
            <a:xfrm>
              <a:off x="6613560" y="3395520"/>
              <a:ext cx="12600" cy="47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6521400" y="3395520"/>
              <a:ext cx="104760" cy="47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6521400" y="3359160"/>
              <a:ext cx="11160" cy="475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6532560" y="3359160"/>
              <a:ext cx="1260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6545160" y="3359160"/>
              <a:ext cx="111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6556320" y="335916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6567480" y="3359160"/>
              <a:ext cx="1260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6580080" y="3359160"/>
              <a:ext cx="11160" cy="475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6591240" y="335916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2" name=""/>
            <p:cNvSpPr/>
            <p:nvPr/>
          </p:nvSpPr>
          <p:spPr>
            <a:xfrm>
              <a:off x="6602400" y="335916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6613560" y="3359160"/>
              <a:ext cx="1260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4" name=""/>
            <p:cNvSpPr/>
            <p:nvPr/>
          </p:nvSpPr>
          <p:spPr>
            <a:xfrm>
              <a:off x="6626160" y="335916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5" name=""/>
            <p:cNvSpPr/>
            <p:nvPr/>
          </p:nvSpPr>
          <p:spPr>
            <a:xfrm>
              <a:off x="6637320" y="3359160"/>
              <a:ext cx="111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6648480" y="3359160"/>
              <a:ext cx="1260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7" name=""/>
            <p:cNvSpPr/>
            <p:nvPr/>
          </p:nvSpPr>
          <p:spPr>
            <a:xfrm>
              <a:off x="6661080" y="3359160"/>
              <a:ext cx="1116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8" name=""/>
            <p:cNvSpPr/>
            <p:nvPr/>
          </p:nvSpPr>
          <p:spPr>
            <a:xfrm>
              <a:off x="6521400" y="335916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9" name=""/>
            <p:cNvSpPr/>
            <p:nvPr/>
          </p:nvSpPr>
          <p:spPr>
            <a:xfrm>
              <a:off x="6626160" y="3251160"/>
              <a:ext cx="11160" cy="15552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6637320" y="3251160"/>
              <a:ext cx="11160" cy="1555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1" name=""/>
            <p:cNvSpPr/>
            <p:nvPr/>
          </p:nvSpPr>
          <p:spPr>
            <a:xfrm>
              <a:off x="6648480" y="3251160"/>
              <a:ext cx="12600" cy="1555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2" name=""/>
            <p:cNvSpPr/>
            <p:nvPr/>
          </p:nvSpPr>
          <p:spPr>
            <a:xfrm>
              <a:off x="6661080" y="3251160"/>
              <a:ext cx="11160" cy="15552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6626160" y="3251160"/>
              <a:ext cx="34920" cy="144360"/>
            </a:xfrm>
            <a:custGeom>
              <a:avLst/>
              <a:gdLst/>
              <a:ahLst/>
              <a:rect l="l" t="t" r="r" b="b"/>
              <a:pathLst>
                <a:path w="22" h="91">
                  <a:moveTo>
                    <a:pt x="0" y="91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68"/>
                  </a:lnTo>
                  <a:lnTo>
                    <a:pt x="0" y="9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4" name=""/>
            <p:cNvSpPr/>
            <p:nvPr/>
          </p:nvSpPr>
          <p:spPr>
            <a:xfrm>
              <a:off x="6521400" y="3287880"/>
              <a:ext cx="11160" cy="10764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5" name=""/>
            <p:cNvSpPr/>
            <p:nvPr/>
          </p:nvSpPr>
          <p:spPr>
            <a:xfrm>
              <a:off x="6532560" y="3287880"/>
              <a:ext cx="12600" cy="1076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6" name=""/>
            <p:cNvSpPr/>
            <p:nvPr/>
          </p:nvSpPr>
          <p:spPr>
            <a:xfrm>
              <a:off x="6545160" y="3287880"/>
              <a:ext cx="11160" cy="1076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7" name=""/>
            <p:cNvSpPr/>
            <p:nvPr/>
          </p:nvSpPr>
          <p:spPr>
            <a:xfrm>
              <a:off x="6556320" y="3287880"/>
              <a:ext cx="11160" cy="10764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8" name=""/>
            <p:cNvSpPr/>
            <p:nvPr/>
          </p:nvSpPr>
          <p:spPr>
            <a:xfrm>
              <a:off x="6567480" y="3287880"/>
              <a:ext cx="12600" cy="1076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9" name=""/>
            <p:cNvSpPr/>
            <p:nvPr/>
          </p:nvSpPr>
          <p:spPr>
            <a:xfrm>
              <a:off x="6580080" y="3287880"/>
              <a:ext cx="11160" cy="1076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6591240" y="3287880"/>
              <a:ext cx="11160" cy="1076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1" name=""/>
            <p:cNvSpPr/>
            <p:nvPr/>
          </p:nvSpPr>
          <p:spPr>
            <a:xfrm>
              <a:off x="6602400" y="3287880"/>
              <a:ext cx="11160" cy="1076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2" name=""/>
            <p:cNvSpPr/>
            <p:nvPr/>
          </p:nvSpPr>
          <p:spPr>
            <a:xfrm>
              <a:off x="6613560" y="3287880"/>
              <a:ext cx="12600" cy="107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6521400" y="3287880"/>
              <a:ext cx="104760" cy="107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4" name=""/>
            <p:cNvSpPr/>
            <p:nvPr/>
          </p:nvSpPr>
          <p:spPr>
            <a:xfrm>
              <a:off x="6521400" y="3251160"/>
              <a:ext cx="11160" cy="493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5" name=""/>
            <p:cNvSpPr/>
            <p:nvPr/>
          </p:nvSpPr>
          <p:spPr>
            <a:xfrm>
              <a:off x="6532560" y="3251160"/>
              <a:ext cx="12600" cy="493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6" name=""/>
            <p:cNvSpPr/>
            <p:nvPr/>
          </p:nvSpPr>
          <p:spPr>
            <a:xfrm>
              <a:off x="6545160" y="3251160"/>
              <a:ext cx="11160" cy="493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7" name=""/>
            <p:cNvSpPr/>
            <p:nvPr/>
          </p:nvSpPr>
          <p:spPr>
            <a:xfrm>
              <a:off x="6556320" y="3251160"/>
              <a:ext cx="11160" cy="493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8" name=""/>
            <p:cNvSpPr/>
            <p:nvPr/>
          </p:nvSpPr>
          <p:spPr>
            <a:xfrm>
              <a:off x="6567480" y="3251160"/>
              <a:ext cx="12600" cy="493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9" name=""/>
          <p:cNvGrpSpPr/>
          <p:nvPr/>
        </p:nvGrpSpPr>
        <p:grpSpPr>
          <a:xfrm>
            <a:off x="6521400" y="3073320"/>
            <a:ext cx="684360" cy="2301840"/>
            <a:chOff x="6521400" y="3073320"/>
            <a:chExt cx="684360" cy="2301840"/>
          </a:xfrm>
        </p:grpSpPr>
        <p:sp>
          <p:nvSpPr>
            <p:cNvPr id="5730" name=""/>
            <p:cNvSpPr/>
            <p:nvPr/>
          </p:nvSpPr>
          <p:spPr>
            <a:xfrm>
              <a:off x="6580080" y="3251160"/>
              <a:ext cx="11160" cy="493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1" name=""/>
            <p:cNvSpPr/>
            <p:nvPr/>
          </p:nvSpPr>
          <p:spPr>
            <a:xfrm>
              <a:off x="6591240" y="3251160"/>
              <a:ext cx="11160" cy="493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2" name=""/>
            <p:cNvSpPr/>
            <p:nvPr/>
          </p:nvSpPr>
          <p:spPr>
            <a:xfrm>
              <a:off x="6602400" y="3251160"/>
              <a:ext cx="11160" cy="493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3" name=""/>
            <p:cNvSpPr/>
            <p:nvPr/>
          </p:nvSpPr>
          <p:spPr>
            <a:xfrm>
              <a:off x="6613560" y="3251160"/>
              <a:ext cx="12600" cy="493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4" name=""/>
            <p:cNvSpPr/>
            <p:nvPr/>
          </p:nvSpPr>
          <p:spPr>
            <a:xfrm>
              <a:off x="6626160" y="3251160"/>
              <a:ext cx="11160" cy="493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5" name=""/>
            <p:cNvSpPr/>
            <p:nvPr/>
          </p:nvSpPr>
          <p:spPr>
            <a:xfrm>
              <a:off x="6637320" y="3251160"/>
              <a:ext cx="11160" cy="493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6" name=""/>
            <p:cNvSpPr/>
            <p:nvPr/>
          </p:nvSpPr>
          <p:spPr>
            <a:xfrm>
              <a:off x="6648480" y="3251160"/>
              <a:ext cx="12600" cy="493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7" name=""/>
            <p:cNvSpPr/>
            <p:nvPr/>
          </p:nvSpPr>
          <p:spPr>
            <a:xfrm>
              <a:off x="6661080" y="3251160"/>
              <a:ext cx="11160" cy="493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8" name=""/>
            <p:cNvSpPr/>
            <p:nvPr/>
          </p:nvSpPr>
          <p:spPr>
            <a:xfrm>
              <a:off x="6521400" y="3251160"/>
              <a:ext cx="139680" cy="367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9" name=""/>
            <p:cNvSpPr/>
            <p:nvPr/>
          </p:nvSpPr>
          <p:spPr>
            <a:xfrm>
              <a:off x="6892920" y="3836880"/>
              <a:ext cx="11160" cy="15382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0" name=""/>
            <p:cNvSpPr/>
            <p:nvPr/>
          </p:nvSpPr>
          <p:spPr>
            <a:xfrm>
              <a:off x="6904080" y="3836880"/>
              <a:ext cx="12600" cy="15382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1" name=""/>
            <p:cNvSpPr/>
            <p:nvPr/>
          </p:nvSpPr>
          <p:spPr>
            <a:xfrm>
              <a:off x="6916680" y="3836880"/>
              <a:ext cx="11160" cy="15382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2" name=""/>
            <p:cNvSpPr/>
            <p:nvPr/>
          </p:nvSpPr>
          <p:spPr>
            <a:xfrm>
              <a:off x="6927840" y="3836880"/>
              <a:ext cx="11160" cy="15382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3" name=""/>
            <p:cNvSpPr/>
            <p:nvPr/>
          </p:nvSpPr>
          <p:spPr>
            <a:xfrm>
              <a:off x="6892920" y="3836880"/>
              <a:ext cx="34920" cy="1527120"/>
            </a:xfrm>
            <a:custGeom>
              <a:avLst/>
              <a:gdLst/>
              <a:ahLst/>
              <a:rect l="l" t="t" r="r" b="b"/>
              <a:pathLst>
                <a:path w="22" h="962">
                  <a:moveTo>
                    <a:pt x="0" y="962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947"/>
                  </a:lnTo>
                  <a:lnTo>
                    <a:pt x="0" y="96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4" name=""/>
            <p:cNvSpPr/>
            <p:nvPr/>
          </p:nvSpPr>
          <p:spPr>
            <a:xfrm>
              <a:off x="6788160" y="3860640"/>
              <a:ext cx="11160" cy="15033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5" name=""/>
            <p:cNvSpPr/>
            <p:nvPr/>
          </p:nvSpPr>
          <p:spPr>
            <a:xfrm>
              <a:off x="6799320" y="3860640"/>
              <a:ext cx="12600" cy="1503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6" name=""/>
            <p:cNvSpPr/>
            <p:nvPr/>
          </p:nvSpPr>
          <p:spPr>
            <a:xfrm>
              <a:off x="6811920" y="3860640"/>
              <a:ext cx="11160" cy="1503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7" name=""/>
            <p:cNvSpPr/>
            <p:nvPr/>
          </p:nvSpPr>
          <p:spPr>
            <a:xfrm>
              <a:off x="6823080" y="3860640"/>
              <a:ext cx="11160" cy="15033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8" name=""/>
            <p:cNvSpPr/>
            <p:nvPr/>
          </p:nvSpPr>
          <p:spPr>
            <a:xfrm>
              <a:off x="6834240" y="3860640"/>
              <a:ext cx="12600" cy="1503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9" name=""/>
            <p:cNvSpPr/>
            <p:nvPr/>
          </p:nvSpPr>
          <p:spPr>
            <a:xfrm>
              <a:off x="6846840" y="3860640"/>
              <a:ext cx="11160" cy="1503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0" name=""/>
            <p:cNvSpPr/>
            <p:nvPr/>
          </p:nvSpPr>
          <p:spPr>
            <a:xfrm>
              <a:off x="6858000" y="3860640"/>
              <a:ext cx="11160" cy="1503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1" name=""/>
            <p:cNvSpPr/>
            <p:nvPr/>
          </p:nvSpPr>
          <p:spPr>
            <a:xfrm>
              <a:off x="6869160" y="3860640"/>
              <a:ext cx="12600" cy="1503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2" name=""/>
            <p:cNvSpPr/>
            <p:nvPr/>
          </p:nvSpPr>
          <p:spPr>
            <a:xfrm>
              <a:off x="6881760" y="3860640"/>
              <a:ext cx="11160" cy="1503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3" name=""/>
            <p:cNvSpPr/>
            <p:nvPr/>
          </p:nvSpPr>
          <p:spPr>
            <a:xfrm>
              <a:off x="6788160" y="3860640"/>
              <a:ext cx="104760" cy="1503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4" name=""/>
            <p:cNvSpPr/>
            <p:nvPr/>
          </p:nvSpPr>
          <p:spPr>
            <a:xfrm>
              <a:off x="6788160" y="3836880"/>
              <a:ext cx="1116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5" name=""/>
            <p:cNvSpPr/>
            <p:nvPr/>
          </p:nvSpPr>
          <p:spPr>
            <a:xfrm>
              <a:off x="6799320" y="3836880"/>
              <a:ext cx="1260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6" name=""/>
            <p:cNvSpPr/>
            <p:nvPr/>
          </p:nvSpPr>
          <p:spPr>
            <a:xfrm>
              <a:off x="6811920" y="3836880"/>
              <a:ext cx="1116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6823080" y="383688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6834240" y="3836880"/>
              <a:ext cx="1260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6846840" y="3836880"/>
              <a:ext cx="11160" cy="349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6858000" y="383688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1" name=""/>
            <p:cNvSpPr/>
            <p:nvPr/>
          </p:nvSpPr>
          <p:spPr>
            <a:xfrm>
              <a:off x="6869160" y="3836880"/>
              <a:ext cx="126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6881760" y="3836880"/>
              <a:ext cx="11160" cy="349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3" name=""/>
            <p:cNvSpPr/>
            <p:nvPr/>
          </p:nvSpPr>
          <p:spPr>
            <a:xfrm>
              <a:off x="6892920" y="3836880"/>
              <a:ext cx="11160" cy="349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4" name=""/>
            <p:cNvSpPr/>
            <p:nvPr/>
          </p:nvSpPr>
          <p:spPr>
            <a:xfrm>
              <a:off x="6904080" y="3836880"/>
              <a:ext cx="12600" cy="349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5" name=""/>
            <p:cNvSpPr/>
            <p:nvPr/>
          </p:nvSpPr>
          <p:spPr>
            <a:xfrm>
              <a:off x="6916680" y="3836880"/>
              <a:ext cx="11160" cy="349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6927840" y="3836880"/>
              <a:ext cx="1116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7" name=""/>
            <p:cNvSpPr/>
            <p:nvPr/>
          </p:nvSpPr>
          <p:spPr>
            <a:xfrm>
              <a:off x="6788160" y="383688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8" name=""/>
            <p:cNvSpPr/>
            <p:nvPr/>
          </p:nvSpPr>
          <p:spPr>
            <a:xfrm>
              <a:off x="6892920" y="3359160"/>
              <a:ext cx="11160" cy="5126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6904080" y="3359160"/>
              <a:ext cx="12600" cy="512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0" name=""/>
            <p:cNvSpPr/>
            <p:nvPr/>
          </p:nvSpPr>
          <p:spPr>
            <a:xfrm>
              <a:off x="6916680" y="3359160"/>
              <a:ext cx="11160" cy="512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1" name=""/>
            <p:cNvSpPr/>
            <p:nvPr/>
          </p:nvSpPr>
          <p:spPr>
            <a:xfrm>
              <a:off x="6927840" y="3359160"/>
              <a:ext cx="11160" cy="5126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2" name=""/>
            <p:cNvSpPr/>
            <p:nvPr/>
          </p:nvSpPr>
          <p:spPr>
            <a:xfrm>
              <a:off x="6892920" y="3359160"/>
              <a:ext cx="34920" cy="501480"/>
            </a:xfrm>
            <a:custGeom>
              <a:avLst/>
              <a:gdLst/>
              <a:ahLst/>
              <a:rect l="l" t="t" r="r" b="b"/>
              <a:pathLst>
                <a:path w="22" h="316">
                  <a:moveTo>
                    <a:pt x="0" y="31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01"/>
                  </a:lnTo>
                  <a:lnTo>
                    <a:pt x="0" y="3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3" name=""/>
            <p:cNvSpPr/>
            <p:nvPr/>
          </p:nvSpPr>
          <p:spPr>
            <a:xfrm>
              <a:off x="6788160" y="3395520"/>
              <a:ext cx="11160" cy="4651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4" name=""/>
            <p:cNvSpPr/>
            <p:nvPr/>
          </p:nvSpPr>
          <p:spPr>
            <a:xfrm>
              <a:off x="6799320" y="3395520"/>
              <a:ext cx="12600" cy="4651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5" name=""/>
            <p:cNvSpPr/>
            <p:nvPr/>
          </p:nvSpPr>
          <p:spPr>
            <a:xfrm>
              <a:off x="6811920" y="3395520"/>
              <a:ext cx="11160" cy="4651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6" name=""/>
            <p:cNvSpPr/>
            <p:nvPr/>
          </p:nvSpPr>
          <p:spPr>
            <a:xfrm>
              <a:off x="6823080" y="3395520"/>
              <a:ext cx="11160" cy="4651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6834240" y="3395520"/>
              <a:ext cx="12600" cy="4651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8" name=""/>
            <p:cNvSpPr/>
            <p:nvPr/>
          </p:nvSpPr>
          <p:spPr>
            <a:xfrm>
              <a:off x="6846840" y="3395520"/>
              <a:ext cx="11160" cy="4651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9" name=""/>
            <p:cNvSpPr/>
            <p:nvPr/>
          </p:nvSpPr>
          <p:spPr>
            <a:xfrm>
              <a:off x="6858000" y="3395520"/>
              <a:ext cx="11160" cy="4651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6869160" y="3395520"/>
              <a:ext cx="12600" cy="4651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1" name=""/>
            <p:cNvSpPr/>
            <p:nvPr/>
          </p:nvSpPr>
          <p:spPr>
            <a:xfrm>
              <a:off x="6881760" y="3395520"/>
              <a:ext cx="11160" cy="465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2" name=""/>
            <p:cNvSpPr/>
            <p:nvPr/>
          </p:nvSpPr>
          <p:spPr>
            <a:xfrm>
              <a:off x="6788160" y="3395520"/>
              <a:ext cx="104760" cy="465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6788160" y="3359160"/>
              <a:ext cx="11160" cy="475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6799320" y="3359160"/>
              <a:ext cx="1260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6811920" y="335916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6823080" y="335916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7" name=""/>
            <p:cNvSpPr/>
            <p:nvPr/>
          </p:nvSpPr>
          <p:spPr>
            <a:xfrm>
              <a:off x="6834240" y="3359160"/>
              <a:ext cx="1260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8" name=""/>
            <p:cNvSpPr/>
            <p:nvPr/>
          </p:nvSpPr>
          <p:spPr>
            <a:xfrm>
              <a:off x="6846840" y="3359160"/>
              <a:ext cx="11160" cy="475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6858000" y="335916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0" name=""/>
            <p:cNvSpPr/>
            <p:nvPr/>
          </p:nvSpPr>
          <p:spPr>
            <a:xfrm>
              <a:off x="6869160" y="3359160"/>
              <a:ext cx="126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1" name=""/>
            <p:cNvSpPr/>
            <p:nvPr/>
          </p:nvSpPr>
          <p:spPr>
            <a:xfrm>
              <a:off x="6881760" y="3359160"/>
              <a:ext cx="111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6892920" y="335916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6904080" y="3359160"/>
              <a:ext cx="1260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6916680" y="3359160"/>
              <a:ext cx="111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6927840" y="3359160"/>
              <a:ext cx="1116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6788160" y="335916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6892920" y="3203640"/>
              <a:ext cx="11160" cy="2030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6904080" y="3203640"/>
              <a:ext cx="12600" cy="2030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9" name=""/>
            <p:cNvSpPr/>
            <p:nvPr/>
          </p:nvSpPr>
          <p:spPr>
            <a:xfrm>
              <a:off x="6916680" y="3203640"/>
              <a:ext cx="11160" cy="2030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0" name=""/>
            <p:cNvSpPr/>
            <p:nvPr/>
          </p:nvSpPr>
          <p:spPr>
            <a:xfrm>
              <a:off x="6927840" y="3203640"/>
              <a:ext cx="11160" cy="2030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1" name=""/>
            <p:cNvSpPr/>
            <p:nvPr/>
          </p:nvSpPr>
          <p:spPr>
            <a:xfrm>
              <a:off x="6892920" y="3203640"/>
              <a:ext cx="34920" cy="191880"/>
            </a:xfrm>
            <a:custGeom>
              <a:avLst/>
              <a:gdLst/>
              <a:ahLst/>
              <a:rect l="l" t="t" r="r" b="b"/>
              <a:pathLst>
                <a:path w="22" h="121">
                  <a:moveTo>
                    <a:pt x="0" y="121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8"/>
                  </a:lnTo>
                  <a:lnTo>
                    <a:pt x="0" y="12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2" name=""/>
            <p:cNvSpPr/>
            <p:nvPr/>
          </p:nvSpPr>
          <p:spPr>
            <a:xfrm>
              <a:off x="6788160" y="3240000"/>
              <a:ext cx="11160" cy="1555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3" name=""/>
            <p:cNvSpPr/>
            <p:nvPr/>
          </p:nvSpPr>
          <p:spPr>
            <a:xfrm>
              <a:off x="6799320" y="3240000"/>
              <a:ext cx="12600" cy="1555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4" name=""/>
            <p:cNvSpPr/>
            <p:nvPr/>
          </p:nvSpPr>
          <p:spPr>
            <a:xfrm>
              <a:off x="6811920" y="3240000"/>
              <a:ext cx="11160" cy="1555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5" name=""/>
            <p:cNvSpPr/>
            <p:nvPr/>
          </p:nvSpPr>
          <p:spPr>
            <a:xfrm>
              <a:off x="6823080" y="3240000"/>
              <a:ext cx="11160" cy="1555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6" name=""/>
            <p:cNvSpPr/>
            <p:nvPr/>
          </p:nvSpPr>
          <p:spPr>
            <a:xfrm>
              <a:off x="6834240" y="3240000"/>
              <a:ext cx="12600" cy="1555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7" name=""/>
            <p:cNvSpPr/>
            <p:nvPr/>
          </p:nvSpPr>
          <p:spPr>
            <a:xfrm>
              <a:off x="6846840" y="3240000"/>
              <a:ext cx="11160" cy="1555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8" name=""/>
            <p:cNvSpPr/>
            <p:nvPr/>
          </p:nvSpPr>
          <p:spPr>
            <a:xfrm>
              <a:off x="6858000" y="3240000"/>
              <a:ext cx="11160" cy="1555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9" name=""/>
            <p:cNvSpPr/>
            <p:nvPr/>
          </p:nvSpPr>
          <p:spPr>
            <a:xfrm>
              <a:off x="6869160" y="3240000"/>
              <a:ext cx="12600" cy="1555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0" name=""/>
            <p:cNvSpPr/>
            <p:nvPr/>
          </p:nvSpPr>
          <p:spPr>
            <a:xfrm>
              <a:off x="6881760" y="3240000"/>
              <a:ext cx="11160" cy="155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1" name=""/>
            <p:cNvSpPr/>
            <p:nvPr/>
          </p:nvSpPr>
          <p:spPr>
            <a:xfrm>
              <a:off x="6788160" y="3240000"/>
              <a:ext cx="104760" cy="155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2" name=""/>
            <p:cNvSpPr/>
            <p:nvPr/>
          </p:nvSpPr>
          <p:spPr>
            <a:xfrm>
              <a:off x="6788160" y="320364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3" name=""/>
            <p:cNvSpPr/>
            <p:nvPr/>
          </p:nvSpPr>
          <p:spPr>
            <a:xfrm>
              <a:off x="6799320" y="320364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4" name=""/>
            <p:cNvSpPr/>
            <p:nvPr/>
          </p:nvSpPr>
          <p:spPr>
            <a:xfrm>
              <a:off x="6811920" y="320364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5" name=""/>
            <p:cNvSpPr/>
            <p:nvPr/>
          </p:nvSpPr>
          <p:spPr>
            <a:xfrm>
              <a:off x="6823080" y="320364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6" name=""/>
            <p:cNvSpPr/>
            <p:nvPr/>
          </p:nvSpPr>
          <p:spPr>
            <a:xfrm>
              <a:off x="6834240" y="3203640"/>
              <a:ext cx="126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7" name=""/>
            <p:cNvSpPr/>
            <p:nvPr/>
          </p:nvSpPr>
          <p:spPr>
            <a:xfrm>
              <a:off x="6846840" y="3203640"/>
              <a:ext cx="1116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8" name=""/>
            <p:cNvSpPr/>
            <p:nvPr/>
          </p:nvSpPr>
          <p:spPr>
            <a:xfrm>
              <a:off x="6858000" y="32036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6869160" y="3203640"/>
              <a:ext cx="126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0" name=""/>
            <p:cNvSpPr/>
            <p:nvPr/>
          </p:nvSpPr>
          <p:spPr>
            <a:xfrm>
              <a:off x="6881760" y="320364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1" name=""/>
            <p:cNvSpPr/>
            <p:nvPr/>
          </p:nvSpPr>
          <p:spPr>
            <a:xfrm>
              <a:off x="6892920" y="320364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2" name=""/>
            <p:cNvSpPr/>
            <p:nvPr/>
          </p:nvSpPr>
          <p:spPr>
            <a:xfrm>
              <a:off x="6904080" y="3203640"/>
              <a:ext cx="1260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3" name=""/>
            <p:cNvSpPr/>
            <p:nvPr/>
          </p:nvSpPr>
          <p:spPr>
            <a:xfrm>
              <a:off x="6916680" y="3203640"/>
              <a:ext cx="111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4" name=""/>
            <p:cNvSpPr/>
            <p:nvPr/>
          </p:nvSpPr>
          <p:spPr>
            <a:xfrm>
              <a:off x="6927840" y="320364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6788160" y="320364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6892920" y="3144960"/>
              <a:ext cx="11160" cy="1062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6904080" y="3144960"/>
              <a:ext cx="1260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6916680" y="3144960"/>
              <a:ext cx="1116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6927840" y="3144960"/>
              <a:ext cx="11160" cy="1062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0" name=""/>
            <p:cNvSpPr/>
            <p:nvPr/>
          </p:nvSpPr>
          <p:spPr>
            <a:xfrm>
              <a:off x="6892920" y="314496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37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6788160" y="3179880"/>
              <a:ext cx="11160" cy="6012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2" name=""/>
            <p:cNvSpPr/>
            <p:nvPr/>
          </p:nvSpPr>
          <p:spPr>
            <a:xfrm>
              <a:off x="6799320" y="3179880"/>
              <a:ext cx="12600" cy="601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3" name=""/>
            <p:cNvSpPr/>
            <p:nvPr/>
          </p:nvSpPr>
          <p:spPr>
            <a:xfrm>
              <a:off x="6811920" y="3179880"/>
              <a:ext cx="11160" cy="601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4" name=""/>
            <p:cNvSpPr/>
            <p:nvPr/>
          </p:nvSpPr>
          <p:spPr>
            <a:xfrm>
              <a:off x="6823080" y="3179880"/>
              <a:ext cx="11160" cy="6012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5" name=""/>
            <p:cNvSpPr/>
            <p:nvPr/>
          </p:nvSpPr>
          <p:spPr>
            <a:xfrm>
              <a:off x="6834240" y="3179880"/>
              <a:ext cx="12600" cy="601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6" name=""/>
            <p:cNvSpPr/>
            <p:nvPr/>
          </p:nvSpPr>
          <p:spPr>
            <a:xfrm>
              <a:off x="6846840" y="3179880"/>
              <a:ext cx="11160" cy="601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6858000" y="3179880"/>
              <a:ext cx="11160" cy="601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8" name=""/>
            <p:cNvSpPr/>
            <p:nvPr/>
          </p:nvSpPr>
          <p:spPr>
            <a:xfrm>
              <a:off x="6869160" y="3179880"/>
              <a:ext cx="12600" cy="601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9" name=""/>
            <p:cNvSpPr/>
            <p:nvPr/>
          </p:nvSpPr>
          <p:spPr>
            <a:xfrm>
              <a:off x="6881760" y="3179880"/>
              <a:ext cx="11160" cy="60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0" name=""/>
            <p:cNvSpPr/>
            <p:nvPr/>
          </p:nvSpPr>
          <p:spPr>
            <a:xfrm>
              <a:off x="6788160" y="3179880"/>
              <a:ext cx="104760" cy="60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1" name=""/>
            <p:cNvSpPr/>
            <p:nvPr/>
          </p:nvSpPr>
          <p:spPr>
            <a:xfrm>
              <a:off x="6788160" y="3144960"/>
              <a:ext cx="11160" cy="475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2" name=""/>
            <p:cNvSpPr/>
            <p:nvPr/>
          </p:nvSpPr>
          <p:spPr>
            <a:xfrm>
              <a:off x="6799320" y="3144960"/>
              <a:ext cx="1260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3" name=""/>
            <p:cNvSpPr/>
            <p:nvPr/>
          </p:nvSpPr>
          <p:spPr>
            <a:xfrm>
              <a:off x="6811920" y="3144960"/>
              <a:ext cx="111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4" name=""/>
            <p:cNvSpPr/>
            <p:nvPr/>
          </p:nvSpPr>
          <p:spPr>
            <a:xfrm>
              <a:off x="6823080" y="314496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5" name=""/>
            <p:cNvSpPr/>
            <p:nvPr/>
          </p:nvSpPr>
          <p:spPr>
            <a:xfrm>
              <a:off x="6834240" y="3144960"/>
              <a:ext cx="1260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6" name=""/>
            <p:cNvSpPr/>
            <p:nvPr/>
          </p:nvSpPr>
          <p:spPr>
            <a:xfrm>
              <a:off x="6846840" y="3144960"/>
              <a:ext cx="11160" cy="475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7" name=""/>
            <p:cNvSpPr/>
            <p:nvPr/>
          </p:nvSpPr>
          <p:spPr>
            <a:xfrm>
              <a:off x="6858000" y="314496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8" name=""/>
            <p:cNvSpPr/>
            <p:nvPr/>
          </p:nvSpPr>
          <p:spPr>
            <a:xfrm>
              <a:off x="6869160" y="3144960"/>
              <a:ext cx="1260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9" name=""/>
            <p:cNvSpPr/>
            <p:nvPr/>
          </p:nvSpPr>
          <p:spPr>
            <a:xfrm>
              <a:off x="6881760" y="3144960"/>
              <a:ext cx="1116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0" name=""/>
            <p:cNvSpPr/>
            <p:nvPr/>
          </p:nvSpPr>
          <p:spPr>
            <a:xfrm>
              <a:off x="6892920" y="314496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1" name=""/>
            <p:cNvSpPr/>
            <p:nvPr/>
          </p:nvSpPr>
          <p:spPr>
            <a:xfrm>
              <a:off x="6904080" y="3144960"/>
              <a:ext cx="1260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2" name=""/>
            <p:cNvSpPr/>
            <p:nvPr/>
          </p:nvSpPr>
          <p:spPr>
            <a:xfrm>
              <a:off x="6916680" y="3144960"/>
              <a:ext cx="111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3" name=""/>
            <p:cNvSpPr/>
            <p:nvPr/>
          </p:nvSpPr>
          <p:spPr>
            <a:xfrm>
              <a:off x="6927840" y="3144960"/>
              <a:ext cx="1116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4" name=""/>
            <p:cNvSpPr/>
            <p:nvPr/>
          </p:nvSpPr>
          <p:spPr>
            <a:xfrm>
              <a:off x="6788160" y="3144960"/>
              <a:ext cx="139680" cy="3492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66" y="22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5" name=""/>
            <p:cNvSpPr/>
            <p:nvPr/>
          </p:nvSpPr>
          <p:spPr>
            <a:xfrm>
              <a:off x="6892920" y="3073320"/>
              <a:ext cx="11160" cy="11916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6" name=""/>
            <p:cNvSpPr/>
            <p:nvPr/>
          </p:nvSpPr>
          <p:spPr>
            <a:xfrm>
              <a:off x="6904080" y="3073320"/>
              <a:ext cx="12600" cy="1191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7" name=""/>
            <p:cNvSpPr/>
            <p:nvPr/>
          </p:nvSpPr>
          <p:spPr>
            <a:xfrm>
              <a:off x="6916680" y="3073320"/>
              <a:ext cx="11160" cy="1191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8" name=""/>
            <p:cNvSpPr/>
            <p:nvPr/>
          </p:nvSpPr>
          <p:spPr>
            <a:xfrm>
              <a:off x="6927840" y="3073320"/>
              <a:ext cx="11160" cy="11916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9" name=""/>
            <p:cNvSpPr/>
            <p:nvPr/>
          </p:nvSpPr>
          <p:spPr>
            <a:xfrm>
              <a:off x="6892920" y="3073320"/>
              <a:ext cx="34920" cy="106560"/>
            </a:xfrm>
            <a:custGeom>
              <a:avLst/>
              <a:gdLst/>
              <a:ahLst/>
              <a:rect l="l" t="t" r="r" b="b"/>
              <a:pathLst>
                <a:path w="22" h="67">
                  <a:moveTo>
                    <a:pt x="0" y="67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0" name=""/>
            <p:cNvSpPr/>
            <p:nvPr/>
          </p:nvSpPr>
          <p:spPr>
            <a:xfrm>
              <a:off x="6788160" y="3097080"/>
              <a:ext cx="11160" cy="8280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6799320" y="3097080"/>
              <a:ext cx="12600" cy="8280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2" name=""/>
            <p:cNvSpPr/>
            <p:nvPr/>
          </p:nvSpPr>
          <p:spPr>
            <a:xfrm>
              <a:off x="6811920" y="3097080"/>
              <a:ext cx="11160" cy="8280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3" name=""/>
            <p:cNvSpPr/>
            <p:nvPr/>
          </p:nvSpPr>
          <p:spPr>
            <a:xfrm>
              <a:off x="6823080" y="3097080"/>
              <a:ext cx="11160" cy="8280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4" name=""/>
            <p:cNvSpPr/>
            <p:nvPr/>
          </p:nvSpPr>
          <p:spPr>
            <a:xfrm>
              <a:off x="6834240" y="3097080"/>
              <a:ext cx="12600" cy="828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5" name=""/>
            <p:cNvSpPr/>
            <p:nvPr/>
          </p:nvSpPr>
          <p:spPr>
            <a:xfrm>
              <a:off x="6846840" y="3097080"/>
              <a:ext cx="11160" cy="828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6" name=""/>
            <p:cNvSpPr/>
            <p:nvPr/>
          </p:nvSpPr>
          <p:spPr>
            <a:xfrm>
              <a:off x="6858000" y="3097080"/>
              <a:ext cx="11160" cy="8280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7" name=""/>
            <p:cNvSpPr/>
            <p:nvPr/>
          </p:nvSpPr>
          <p:spPr>
            <a:xfrm>
              <a:off x="6869160" y="3097080"/>
              <a:ext cx="12600" cy="8280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8" name=""/>
            <p:cNvSpPr/>
            <p:nvPr/>
          </p:nvSpPr>
          <p:spPr>
            <a:xfrm>
              <a:off x="6881760" y="3097080"/>
              <a:ext cx="11160" cy="828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9" name=""/>
            <p:cNvSpPr/>
            <p:nvPr/>
          </p:nvSpPr>
          <p:spPr>
            <a:xfrm>
              <a:off x="6788160" y="3097080"/>
              <a:ext cx="104760" cy="82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0" name=""/>
            <p:cNvSpPr/>
            <p:nvPr/>
          </p:nvSpPr>
          <p:spPr>
            <a:xfrm>
              <a:off x="6788160" y="3073320"/>
              <a:ext cx="11160" cy="349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1" name=""/>
            <p:cNvSpPr/>
            <p:nvPr/>
          </p:nvSpPr>
          <p:spPr>
            <a:xfrm>
              <a:off x="6799320" y="3073320"/>
              <a:ext cx="12600" cy="349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2" name=""/>
            <p:cNvSpPr/>
            <p:nvPr/>
          </p:nvSpPr>
          <p:spPr>
            <a:xfrm>
              <a:off x="6811920" y="3073320"/>
              <a:ext cx="11160" cy="349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6823080" y="3073320"/>
              <a:ext cx="11160" cy="349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4" name=""/>
            <p:cNvSpPr/>
            <p:nvPr/>
          </p:nvSpPr>
          <p:spPr>
            <a:xfrm>
              <a:off x="6834240" y="3073320"/>
              <a:ext cx="12600" cy="349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5" name=""/>
            <p:cNvSpPr/>
            <p:nvPr/>
          </p:nvSpPr>
          <p:spPr>
            <a:xfrm>
              <a:off x="6846840" y="3073320"/>
              <a:ext cx="11160" cy="349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6858000" y="3073320"/>
              <a:ext cx="1116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7" name=""/>
            <p:cNvSpPr/>
            <p:nvPr/>
          </p:nvSpPr>
          <p:spPr>
            <a:xfrm>
              <a:off x="6869160" y="3073320"/>
              <a:ext cx="1260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8" name=""/>
            <p:cNvSpPr/>
            <p:nvPr/>
          </p:nvSpPr>
          <p:spPr>
            <a:xfrm>
              <a:off x="6881760" y="3073320"/>
              <a:ext cx="11160" cy="349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9" name=""/>
            <p:cNvSpPr/>
            <p:nvPr/>
          </p:nvSpPr>
          <p:spPr>
            <a:xfrm>
              <a:off x="6892920" y="3073320"/>
              <a:ext cx="11160" cy="349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0" name=""/>
            <p:cNvSpPr/>
            <p:nvPr/>
          </p:nvSpPr>
          <p:spPr>
            <a:xfrm>
              <a:off x="6904080" y="3073320"/>
              <a:ext cx="12600" cy="349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1" name=""/>
            <p:cNvSpPr/>
            <p:nvPr/>
          </p:nvSpPr>
          <p:spPr>
            <a:xfrm>
              <a:off x="6916680" y="3073320"/>
              <a:ext cx="11160" cy="349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2" name=""/>
            <p:cNvSpPr/>
            <p:nvPr/>
          </p:nvSpPr>
          <p:spPr>
            <a:xfrm>
              <a:off x="6927840" y="3073320"/>
              <a:ext cx="11160" cy="349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3" name=""/>
            <p:cNvSpPr/>
            <p:nvPr/>
          </p:nvSpPr>
          <p:spPr>
            <a:xfrm>
              <a:off x="6788160" y="307332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4" name=""/>
            <p:cNvSpPr/>
            <p:nvPr/>
          </p:nvSpPr>
          <p:spPr>
            <a:xfrm>
              <a:off x="7159680" y="3645000"/>
              <a:ext cx="11160" cy="173016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7170840" y="3645000"/>
              <a:ext cx="12600" cy="17301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6" name=""/>
            <p:cNvSpPr/>
            <p:nvPr/>
          </p:nvSpPr>
          <p:spPr>
            <a:xfrm>
              <a:off x="7183440" y="3645000"/>
              <a:ext cx="11160" cy="17301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7" name=""/>
            <p:cNvSpPr/>
            <p:nvPr/>
          </p:nvSpPr>
          <p:spPr>
            <a:xfrm>
              <a:off x="7194600" y="3645000"/>
              <a:ext cx="11160" cy="17301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8" name=""/>
            <p:cNvSpPr/>
            <p:nvPr/>
          </p:nvSpPr>
          <p:spPr>
            <a:xfrm>
              <a:off x="7159680" y="3645000"/>
              <a:ext cx="34920" cy="1719000"/>
            </a:xfrm>
            <a:custGeom>
              <a:avLst/>
              <a:gdLst/>
              <a:ahLst/>
              <a:rect l="l" t="t" r="r" b="b"/>
              <a:pathLst>
                <a:path w="22" h="1083">
                  <a:moveTo>
                    <a:pt x="0" y="108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1068"/>
                  </a:lnTo>
                  <a:lnTo>
                    <a:pt x="0" y="108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9" name=""/>
            <p:cNvSpPr/>
            <p:nvPr/>
          </p:nvSpPr>
          <p:spPr>
            <a:xfrm>
              <a:off x="7054920" y="3681360"/>
              <a:ext cx="12600" cy="168264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0" name=""/>
            <p:cNvSpPr/>
            <p:nvPr/>
          </p:nvSpPr>
          <p:spPr>
            <a:xfrm>
              <a:off x="7067520" y="3681360"/>
              <a:ext cx="11160" cy="168264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1" name=""/>
            <p:cNvSpPr/>
            <p:nvPr/>
          </p:nvSpPr>
          <p:spPr>
            <a:xfrm>
              <a:off x="7078680" y="3681360"/>
              <a:ext cx="11160" cy="168264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2" name=""/>
            <p:cNvSpPr/>
            <p:nvPr/>
          </p:nvSpPr>
          <p:spPr>
            <a:xfrm>
              <a:off x="7089840" y="3681360"/>
              <a:ext cx="12600" cy="168264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7102440" y="3681360"/>
              <a:ext cx="11160" cy="168264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7113600" y="3681360"/>
              <a:ext cx="11160" cy="168264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7124760" y="3681360"/>
              <a:ext cx="11160" cy="168264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6" name=""/>
            <p:cNvSpPr/>
            <p:nvPr/>
          </p:nvSpPr>
          <p:spPr>
            <a:xfrm>
              <a:off x="7135920" y="3681360"/>
              <a:ext cx="12600" cy="168264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7148520" y="3681360"/>
              <a:ext cx="11160" cy="16826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7054920" y="3681360"/>
              <a:ext cx="104760" cy="1682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7054920" y="3645000"/>
              <a:ext cx="12600" cy="489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7067520" y="3645000"/>
              <a:ext cx="11160" cy="489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1" name=""/>
            <p:cNvSpPr/>
            <p:nvPr/>
          </p:nvSpPr>
          <p:spPr>
            <a:xfrm>
              <a:off x="7078680" y="3645000"/>
              <a:ext cx="11160" cy="489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2" name=""/>
            <p:cNvSpPr/>
            <p:nvPr/>
          </p:nvSpPr>
          <p:spPr>
            <a:xfrm>
              <a:off x="7089840" y="3645000"/>
              <a:ext cx="12600" cy="489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7102440" y="3645000"/>
              <a:ext cx="11160" cy="489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4" name=""/>
            <p:cNvSpPr/>
            <p:nvPr/>
          </p:nvSpPr>
          <p:spPr>
            <a:xfrm>
              <a:off x="7113600" y="3645000"/>
              <a:ext cx="11160" cy="489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5" name=""/>
            <p:cNvSpPr/>
            <p:nvPr/>
          </p:nvSpPr>
          <p:spPr>
            <a:xfrm>
              <a:off x="7124760" y="3645000"/>
              <a:ext cx="11160" cy="489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6" name=""/>
            <p:cNvSpPr/>
            <p:nvPr/>
          </p:nvSpPr>
          <p:spPr>
            <a:xfrm>
              <a:off x="7135920" y="3645000"/>
              <a:ext cx="12600" cy="489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7" name=""/>
            <p:cNvSpPr/>
            <p:nvPr/>
          </p:nvSpPr>
          <p:spPr>
            <a:xfrm>
              <a:off x="7148520" y="3645000"/>
              <a:ext cx="11160" cy="489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8" name=""/>
            <p:cNvSpPr/>
            <p:nvPr/>
          </p:nvSpPr>
          <p:spPr>
            <a:xfrm>
              <a:off x="7159680" y="3645000"/>
              <a:ext cx="11160" cy="489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7170840" y="3645000"/>
              <a:ext cx="12600" cy="489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0" name=""/>
            <p:cNvSpPr/>
            <p:nvPr/>
          </p:nvSpPr>
          <p:spPr>
            <a:xfrm>
              <a:off x="7183440" y="3645000"/>
              <a:ext cx="11160" cy="489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7194600" y="3645000"/>
              <a:ext cx="11160" cy="489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7054920" y="3645000"/>
              <a:ext cx="139680" cy="363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3" name=""/>
            <p:cNvSpPr/>
            <p:nvPr/>
          </p:nvSpPr>
          <p:spPr>
            <a:xfrm>
              <a:off x="7159680" y="3097080"/>
              <a:ext cx="11160" cy="5968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7170840" y="3097080"/>
              <a:ext cx="12600" cy="5968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7183440" y="3097080"/>
              <a:ext cx="11160" cy="5968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7194600" y="3097080"/>
              <a:ext cx="11160" cy="5968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7" name=""/>
            <p:cNvSpPr/>
            <p:nvPr/>
          </p:nvSpPr>
          <p:spPr>
            <a:xfrm>
              <a:off x="7159680" y="3097080"/>
              <a:ext cx="34920" cy="584280"/>
            </a:xfrm>
            <a:custGeom>
              <a:avLst/>
              <a:gdLst/>
              <a:ahLst/>
              <a:rect l="l" t="t" r="r" b="b"/>
              <a:pathLst>
                <a:path w="22" h="368">
                  <a:moveTo>
                    <a:pt x="0" y="368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345"/>
                  </a:lnTo>
                  <a:lnTo>
                    <a:pt x="0" y="36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8" name=""/>
            <p:cNvSpPr/>
            <p:nvPr/>
          </p:nvSpPr>
          <p:spPr>
            <a:xfrm>
              <a:off x="7054920" y="3132000"/>
              <a:ext cx="12600" cy="5493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9" name=""/>
            <p:cNvSpPr/>
            <p:nvPr/>
          </p:nvSpPr>
          <p:spPr>
            <a:xfrm>
              <a:off x="7067520" y="3132000"/>
              <a:ext cx="11160" cy="5493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0" name=""/>
            <p:cNvSpPr/>
            <p:nvPr/>
          </p:nvSpPr>
          <p:spPr>
            <a:xfrm>
              <a:off x="7078680" y="3132000"/>
              <a:ext cx="11160" cy="5493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7089840" y="3132000"/>
              <a:ext cx="12600" cy="5493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2" name=""/>
            <p:cNvSpPr/>
            <p:nvPr/>
          </p:nvSpPr>
          <p:spPr>
            <a:xfrm>
              <a:off x="7102440" y="3132000"/>
              <a:ext cx="11160" cy="5493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3" name=""/>
            <p:cNvSpPr/>
            <p:nvPr/>
          </p:nvSpPr>
          <p:spPr>
            <a:xfrm>
              <a:off x="7113600" y="3132000"/>
              <a:ext cx="11160" cy="5493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4" name=""/>
            <p:cNvSpPr/>
            <p:nvPr/>
          </p:nvSpPr>
          <p:spPr>
            <a:xfrm>
              <a:off x="7124760" y="3132000"/>
              <a:ext cx="11160" cy="5493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5" name=""/>
            <p:cNvSpPr/>
            <p:nvPr/>
          </p:nvSpPr>
          <p:spPr>
            <a:xfrm>
              <a:off x="7135920" y="3132000"/>
              <a:ext cx="12600" cy="5493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6" name=""/>
            <p:cNvSpPr/>
            <p:nvPr/>
          </p:nvSpPr>
          <p:spPr>
            <a:xfrm>
              <a:off x="7148520" y="3132000"/>
              <a:ext cx="11160" cy="549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7054920" y="3132000"/>
              <a:ext cx="104760" cy="549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8" name=""/>
            <p:cNvSpPr/>
            <p:nvPr/>
          </p:nvSpPr>
          <p:spPr>
            <a:xfrm>
              <a:off x="7054920" y="3097080"/>
              <a:ext cx="12600" cy="4788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9" name=""/>
            <p:cNvSpPr/>
            <p:nvPr/>
          </p:nvSpPr>
          <p:spPr>
            <a:xfrm>
              <a:off x="7067520" y="3097080"/>
              <a:ext cx="1116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0" name=""/>
          <p:cNvGrpSpPr/>
          <p:nvPr/>
        </p:nvGrpSpPr>
        <p:grpSpPr>
          <a:xfrm>
            <a:off x="7054920" y="2727360"/>
            <a:ext cx="430200" cy="2647800"/>
            <a:chOff x="7054920" y="2727360"/>
            <a:chExt cx="430200" cy="2647800"/>
          </a:xfrm>
        </p:grpSpPr>
        <p:sp>
          <p:nvSpPr>
            <p:cNvPr id="5931" name=""/>
            <p:cNvSpPr/>
            <p:nvPr/>
          </p:nvSpPr>
          <p:spPr>
            <a:xfrm>
              <a:off x="7078680" y="3097080"/>
              <a:ext cx="1116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2" name=""/>
            <p:cNvSpPr/>
            <p:nvPr/>
          </p:nvSpPr>
          <p:spPr>
            <a:xfrm>
              <a:off x="7089840" y="3097080"/>
              <a:ext cx="1260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7102440" y="3097080"/>
              <a:ext cx="1116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4" name=""/>
            <p:cNvSpPr/>
            <p:nvPr/>
          </p:nvSpPr>
          <p:spPr>
            <a:xfrm>
              <a:off x="7113600" y="3097080"/>
              <a:ext cx="11160" cy="4788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5" name=""/>
            <p:cNvSpPr/>
            <p:nvPr/>
          </p:nvSpPr>
          <p:spPr>
            <a:xfrm>
              <a:off x="7124760" y="309708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7135920" y="3097080"/>
              <a:ext cx="1260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7" name=""/>
            <p:cNvSpPr/>
            <p:nvPr/>
          </p:nvSpPr>
          <p:spPr>
            <a:xfrm>
              <a:off x="7148520" y="3097080"/>
              <a:ext cx="1116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8" name=""/>
            <p:cNvSpPr/>
            <p:nvPr/>
          </p:nvSpPr>
          <p:spPr>
            <a:xfrm>
              <a:off x="7159680" y="3097080"/>
              <a:ext cx="111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9" name=""/>
            <p:cNvSpPr/>
            <p:nvPr/>
          </p:nvSpPr>
          <p:spPr>
            <a:xfrm>
              <a:off x="7170840" y="3097080"/>
              <a:ext cx="1260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0" name=""/>
            <p:cNvSpPr/>
            <p:nvPr/>
          </p:nvSpPr>
          <p:spPr>
            <a:xfrm>
              <a:off x="7183440" y="3097080"/>
              <a:ext cx="1116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1" name=""/>
            <p:cNvSpPr/>
            <p:nvPr/>
          </p:nvSpPr>
          <p:spPr>
            <a:xfrm>
              <a:off x="7194600" y="3097080"/>
              <a:ext cx="1116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2" name=""/>
            <p:cNvSpPr/>
            <p:nvPr/>
          </p:nvSpPr>
          <p:spPr>
            <a:xfrm>
              <a:off x="7054920" y="3097080"/>
              <a:ext cx="139680" cy="3492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66" y="22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3" name=""/>
            <p:cNvSpPr/>
            <p:nvPr/>
          </p:nvSpPr>
          <p:spPr>
            <a:xfrm>
              <a:off x="7159680" y="2870280"/>
              <a:ext cx="11160" cy="2746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4" name=""/>
            <p:cNvSpPr/>
            <p:nvPr/>
          </p:nvSpPr>
          <p:spPr>
            <a:xfrm>
              <a:off x="7170840" y="2870280"/>
              <a:ext cx="12600" cy="274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5" name=""/>
            <p:cNvSpPr/>
            <p:nvPr/>
          </p:nvSpPr>
          <p:spPr>
            <a:xfrm>
              <a:off x="7183440" y="2870280"/>
              <a:ext cx="11160" cy="274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6" name=""/>
            <p:cNvSpPr/>
            <p:nvPr/>
          </p:nvSpPr>
          <p:spPr>
            <a:xfrm>
              <a:off x="7194600" y="2870280"/>
              <a:ext cx="11160" cy="2746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7" name=""/>
            <p:cNvSpPr/>
            <p:nvPr/>
          </p:nvSpPr>
          <p:spPr>
            <a:xfrm>
              <a:off x="7159680" y="2870280"/>
              <a:ext cx="34920" cy="261720"/>
            </a:xfrm>
            <a:custGeom>
              <a:avLst/>
              <a:gdLst/>
              <a:ahLst/>
              <a:rect l="l" t="t" r="r" b="b"/>
              <a:pathLst>
                <a:path w="22" h="165">
                  <a:moveTo>
                    <a:pt x="0" y="165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43"/>
                  </a:lnTo>
                  <a:lnTo>
                    <a:pt x="0" y="16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8" name=""/>
            <p:cNvSpPr/>
            <p:nvPr/>
          </p:nvSpPr>
          <p:spPr>
            <a:xfrm>
              <a:off x="7054920" y="2894040"/>
              <a:ext cx="12600" cy="2379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9" name=""/>
            <p:cNvSpPr/>
            <p:nvPr/>
          </p:nvSpPr>
          <p:spPr>
            <a:xfrm>
              <a:off x="7067520" y="2894040"/>
              <a:ext cx="11160" cy="237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0" name=""/>
            <p:cNvSpPr/>
            <p:nvPr/>
          </p:nvSpPr>
          <p:spPr>
            <a:xfrm>
              <a:off x="7078680" y="2894040"/>
              <a:ext cx="11160" cy="237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1" name=""/>
            <p:cNvSpPr/>
            <p:nvPr/>
          </p:nvSpPr>
          <p:spPr>
            <a:xfrm>
              <a:off x="7089840" y="2894040"/>
              <a:ext cx="12600" cy="2379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2" name=""/>
            <p:cNvSpPr/>
            <p:nvPr/>
          </p:nvSpPr>
          <p:spPr>
            <a:xfrm>
              <a:off x="7102440" y="2894040"/>
              <a:ext cx="11160" cy="237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7113600" y="2894040"/>
              <a:ext cx="11160" cy="237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4" name=""/>
            <p:cNvSpPr/>
            <p:nvPr/>
          </p:nvSpPr>
          <p:spPr>
            <a:xfrm>
              <a:off x="7124760" y="2894040"/>
              <a:ext cx="11160" cy="237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5" name=""/>
            <p:cNvSpPr/>
            <p:nvPr/>
          </p:nvSpPr>
          <p:spPr>
            <a:xfrm>
              <a:off x="7135920" y="2894040"/>
              <a:ext cx="12600" cy="237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6" name=""/>
            <p:cNvSpPr/>
            <p:nvPr/>
          </p:nvSpPr>
          <p:spPr>
            <a:xfrm>
              <a:off x="7148520" y="2894040"/>
              <a:ext cx="11160" cy="237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7054920" y="2894040"/>
              <a:ext cx="104760" cy="237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8" name=""/>
            <p:cNvSpPr/>
            <p:nvPr/>
          </p:nvSpPr>
          <p:spPr>
            <a:xfrm>
              <a:off x="7054920" y="2870280"/>
              <a:ext cx="1260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9" name=""/>
            <p:cNvSpPr/>
            <p:nvPr/>
          </p:nvSpPr>
          <p:spPr>
            <a:xfrm>
              <a:off x="7067520" y="287028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0" name=""/>
            <p:cNvSpPr/>
            <p:nvPr/>
          </p:nvSpPr>
          <p:spPr>
            <a:xfrm>
              <a:off x="7078680" y="287028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1" name=""/>
            <p:cNvSpPr/>
            <p:nvPr/>
          </p:nvSpPr>
          <p:spPr>
            <a:xfrm>
              <a:off x="7089840" y="287028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2" name=""/>
            <p:cNvSpPr/>
            <p:nvPr/>
          </p:nvSpPr>
          <p:spPr>
            <a:xfrm>
              <a:off x="7102440" y="287028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3" name=""/>
            <p:cNvSpPr/>
            <p:nvPr/>
          </p:nvSpPr>
          <p:spPr>
            <a:xfrm>
              <a:off x="7113600" y="287028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4" name=""/>
            <p:cNvSpPr/>
            <p:nvPr/>
          </p:nvSpPr>
          <p:spPr>
            <a:xfrm>
              <a:off x="7124760" y="287028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5" name=""/>
            <p:cNvSpPr/>
            <p:nvPr/>
          </p:nvSpPr>
          <p:spPr>
            <a:xfrm>
              <a:off x="7135920" y="287028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6" name=""/>
            <p:cNvSpPr/>
            <p:nvPr/>
          </p:nvSpPr>
          <p:spPr>
            <a:xfrm>
              <a:off x="7148520" y="287028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7" name=""/>
            <p:cNvSpPr/>
            <p:nvPr/>
          </p:nvSpPr>
          <p:spPr>
            <a:xfrm>
              <a:off x="7159680" y="287028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8" name=""/>
            <p:cNvSpPr/>
            <p:nvPr/>
          </p:nvSpPr>
          <p:spPr>
            <a:xfrm>
              <a:off x="7170840" y="287028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7183440" y="287028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0" name=""/>
            <p:cNvSpPr/>
            <p:nvPr/>
          </p:nvSpPr>
          <p:spPr>
            <a:xfrm>
              <a:off x="7194600" y="287028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7054920" y="287028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7159680" y="2798640"/>
              <a:ext cx="11160" cy="1080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3" name=""/>
            <p:cNvSpPr/>
            <p:nvPr/>
          </p:nvSpPr>
          <p:spPr>
            <a:xfrm>
              <a:off x="7170840" y="2798640"/>
              <a:ext cx="12600" cy="1080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4" name=""/>
            <p:cNvSpPr/>
            <p:nvPr/>
          </p:nvSpPr>
          <p:spPr>
            <a:xfrm>
              <a:off x="7183440" y="2798640"/>
              <a:ext cx="11160" cy="1080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7194600" y="2798640"/>
              <a:ext cx="11160" cy="108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6" name=""/>
            <p:cNvSpPr/>
            <p:nvPr/>
          </p:nvSpPr>
          <p:spPr>
            <a:xfrm>
              <a:off x="7159680" y="2798640"/>
              <a:ext cx="34920" cy="9540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7" name=""/>
            <p:cNvSpPr/>
            <p:nvPr/>
          </p:nvSpPr>
          <p:spPr>
            <a:xfrm>
              <a:off x="7054920" y="2822400"/>
              <a:ext cx="12600" cy="7164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7067520" y="2822400"/>
              <a:ext cx="11160" cy="7164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9" name=""/>
            <p:cNvSpPr/>
            <p:nvPr/>
          </p:nvSpPr>
          <p:spPr>
            <a:xfrm>
              <a:off x="7078680" y="2822400"/>
              <a:ext cx="11160" cy="7164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7089840" y="2822400"/>
              <a:ext cx="12600" cy="7164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7102440" y="2822400"/>
              <a:ext cx="11160" cy="7164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7113600" y="2822400"/>
              <a:ext cx="11160" cy="7164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7124760" y="2822400"/>
              <a:ext cx="11160" cy="7164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7135920" y="2822400"/>
              <a:ext cx="12600" cy="7164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7148520" y="2822400"/>
              <a:ext cx="11160" cy="71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7054920" y="2822400"/>
              <a:ext cx="104760" cy="71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7054920" y="2798640"/>
              <a:ext cx="12600" cy="349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7067520" y="2798640"/>
              <a:ext cx="11160" cy="349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7078680" y="2798640"/>
              <a:ext cx="11160" cy="349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7089840" y="2798640"/>
              <a:ext cx="12600" cy="349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7102440" y="2798640"/>
              <a:ext cx="11160" cy="349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7113600" y="2798640"/>
              <a:ext cx="11160" cy="349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7124760" y="2798640"/>
              <a:ext cx="1116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7135920" y="2798640"/>
              <a:ext cx="1260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7148520" y="2798640"/>
              <a:ext cx="11160" cy="349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7159680" y="2798640"/>
              <a:ext cx="11160" cy="349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7170840" y="2798640"/>
              <a:ext cx="12600" cy="349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7183440" y="2798640"/>
              <a:ext cx="11160" cy="349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7194600" y="2798640"/>
              <a:ext cx="11160" cy="349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7054920" y="279864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7159680" y="2727360"/>
              <a:ext cx="11160" cy="10620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7170840" y="2727360"/>
              <a:ext cx="12600" cy="10620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7183440" y="2727360"/>
              <a:ext cx="11160" cy="10620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7194600" y="2727360"/>
              <a:ext cx="11160" cy="10620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7159680" y="272736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7054920" y="2751120"/>
              <a:ext cx="12600" cy="7128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7067520" y="2751120"/>
              <a:ext cx="11160" cy="712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7078680" y="2751120"/>
              <a:ext cx="11160" cy="712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7089840" y="2751120"/>
              <a:ext cx="12600" cy="7128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7102440" y="2751120"/>
              <a:ext cx="11160" cy="712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7113600" y="2751120"/>
              <a:ext cx="11160" cy="712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7124760" y="2751120"/>
              <a:ext cx="11160" cy="712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7135920" y="2751120"/>
              <a:ext cx="12600" cy="712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7148520" y="2751120"/>
              <a:ext cx="11160" cy="712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7054920" y="2751120"/>
              <a:ext cx="104760" cy="71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7054920" y="2727360"/>
              <a:ext cx="12600" cy="349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7067520" y="2727360"/>
              <a:ext cx="11160" cy="349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7078680" y="2727360"/>
              <a:ext cx="11160" cy="349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7089840" y="2727360"/>
              <a:ext cx="12600" cy="349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7102440" y="2727360"/>
              <a:ext cx="11160" cy="349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7113600" y="2727360"/>
              <a:ext cx="11160" cy="349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7124760" y="2727360"/>
              <a:ext cx="1116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7135920" y="2727360"/>
              <a:ext cx="1260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7148520" y="2727360"/>
              <a:ext cx="11160" cy="349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7159680" y="2727360"/>
              <a:ext cx="11160" cy="349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6" name=""/>
            <p:cNvSpPr/>
            <p:nvPr/>
          </p:nvSpPr>
          <p:spPr>
            <a:xfrm>
              <a:off x="7170840" y="2727360"/>
              <a:ext cx="12600" cy="349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7" name=""/>
            <p:cNvSpPr/>
            <p:nvPr/>
          </p:nvSpPr>
          <p:spPr>
            <a:xfrm>
              <a:off x="7183440" y="2727360"/>
              <a:ext cx="11160" cy="349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8" name=""/>
            <p:cNvSpPr/>
            <p:nvPr/>
          </p:nvSpPr>
          <p:spPr>
            <a:xfrm>
              <a:off x="7194600" y="2727360"/>
              <a:ext cx="11160" cy="349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9" name=""/>
            <p:cNvSpPr/>
            <p:nvPr/>
          </p:nvSpPr>
          <p:spPr>
            <a:xfrm>
              <a:off x="7054920" y="2727360"/>
              <a:ext cx="139680" cy="23760"/>
            </a:xfrm>
            <a:custGeom>
              <a:avLst/>
              <a:gdLst/>
              <a:ahLst/>
              <a:rect l="l" t="t" r="r" b="b"/>
              <a:pathLst>
                <a:path w="88" h="15">
                  <a:moveTo>
                    <a:pt x="66" y="15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0" name=""/>
            <p:cNvSpPr/>
            <p:nvPr/>
          </p:nvSpPr>
          <p:spPr>
            <a:xfrm>
              <a:off x="7426440" y="3633840"/>
              <a:ext cx="11160" cy="1741320"/>
            </a:xfrm>
            <a:prstGeom prst="rect">
              <a:avLst/>
            </a:prstGeom>
            <a:solidFill>
              <a:srgbClr val="141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7437600" y="3633840"/>
              <a:ext cx="12600" cy="1741320"/>
            </a:xfrm>
            <a:prstGeom prst="rect">
              <a:avLst/>
            </a:prstGeom>
            <a:solidFill>
              <a:srgbClr val="34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7450200" y="3633840"/>
              <a:ext cx="11160" cy="17413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3" name=""/>
            <p:cNvSpPr/>
            <p:nvPr/>
          </p:nvSpPr>
          <p:spPr>
            <a:xfrm>
              <a:off x="7461360" y="3633840"/>
              <a:ext cx="11160" cy="17413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4" name=""/>
            <p:cNvSpPr/>
            <p:nvPr/>
          </p:nvSpPr>
          <p:spPr>
            <a:xfrm>
              <a:off x="7472520" y="3633840"/>
              <a:ext cx="12600" cy="174132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7426440" y="3633840"/>
              <a:ext cx="46080" cy="1730160"/>
            </a:xfrm>
            <a:custGeom>
              <a:avLst/>
              <a:gdLst/>
              <a:ahLst/>
              <a:rect l="l" t="t" r="r" b="b"/>
              <a:pathLst>
                <a:path w="29" h="1090">
                  <a:moveTo>
                    <a:pt x="0" y="1090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1075"/>
                  </a:lnTo>
                  <a:lnTo>
                    <a:pt x="0" y="109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7321680" y="3657600"/>
              <a:ext cx="12600" cy="17064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7334280" y="3657600"/>
              <a:ext cx="11160" cy="17064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8" name=""/>
            <p:cNvSpPr/>
            <p:nvPr/>
          </p:nvSpPr>
          <p:spPr>
            <a:xfrm>
              <a:off x="7345440" y="3657600"/>
              <a:ext cx="11160" cy="17064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9" name=""/>
            <p:cNvSpPr/>
            <p:nvPr/>
          </p:nvSpPr>
          <p:spPr>
            <a:xfrm>
              <a:off x="7356600" y="3657600"/>
              <a:ext cx="12600" cy="17064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0" name=""/>
            <p:cNvSpPr/>
            <p:nvPr/>
          </p:nvSpPr>
          <p:spPr>
            <a:xfrm>
              <a:off x="7369200" y="3657600"/>
              <a:ext cx="11160" cy="17064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1" name=""/>
            <p:cNvSpPr/>
            <p:nvPr/>
          </p:nvSpPr>
          <p:spPr>
            <a:xfrm>
              <a:off x="7380360" y="3657600"/>
              <a:ext cx="11160" cy="17064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2" name=""/>
            <p:cNvSpPr/>
            <p:nvPr/>
          </p:nvSpPr>
          <p:spPr>
            <a:xfrm>
              <a:off x="7391520" y="3657600"/>
              <a:ext cx="12600" cy="17064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7404120" y="3657600"/>
              <a:ext cx="11160" cy="17064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7415280" y="3657600"/>
              <a:ext cx="11160" cy="17064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7321680" y="3657600"/>
              <a:ext cx="104760" cy="1706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6" name=""/>
            <p:cNvSpPr/>
            <p:nvPr/>
          </p:nvSpPr>
          <p:spPr>
            <a:xfrm>
              <a:off x="7321680" y="3633840"/>
              <a:ext cx="12600" cy="349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7334280" y="36338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8" name=""/>
            <p:cNvSpPr/>
            <p:nvPr/>
          </p:nvSpPr>
          <p:spPr>
            <a:xfrm>
              <a:off x="7345440" y="36338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7356600" y="3633840"/>
              <a:ext cx="12600" cy="349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0" name=""/>
            <p:cNvSpPr/>
            <p:nvPr/>
          </p:nvSpPr>
          <p:spPr>
            <a:xfrm>
              <a:off x="7369200" y="36338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7380360" y="36338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7391520" y="3633840"/>
              <a:ext cx="1260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7404120" y="3633840"/>
              <a:ext cx="11160" cy="349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4" name=""/>
            <p:cNvSpPr/>
            <p:nvPr/>
          </p:nvSpPr>
          <p:spPr>
            <a:xfrm>
              <a:off x="7415280" y="3633840"/>
              <a:ext cx="11160" cy="349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7426440" y="3633840"/>
              <a:ext cx="11160" cy="349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6" name=""/>
            <p:cNvSpPr/>
            <p:nvPr/>
          </p:nvSpPr>
          <p:spPr>
            <a:xfrm>
              <a:off x="7437600" y="3633840"/>
              <a:ext cx="12600" cy="349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7" name=""/>
            <p:cNvSpPr/>
            <p:nvPr/>
          </p:nvSpPr>
          <p:spPr>
            <a:xfrm>
              <a:off x="7450200" y="3633840"/>
              <a:ext cx="11160" cy="349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8" name=""/>
            <p:cNvSpPr/>
            <p:nvPr/>
          </p:nvSpPr>
          <p:spPr>
            <a:xfrm>
              <a:off x="7461360" y="3633840"/>
              <a:ext cx="11160" cy="349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9" name=""/>
            <p:cNvSpPr/>
            <p:nvPr/>
          </p:nvSpPr>
          <p:spPr>
            <a:xfrm>
              <a:off x="7472520" y="3633840"/>
              <a:ext cx="12600" cy="349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0" name=""/>
            <p:cNvSpPr/>
            <p:nvPr/>
          </p:nvSpPr>
          <p:spPr>
            <a:xfrm>
              <a:off x="7321680" y="36338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1" name=""/>
            <p:cNvSpPr/>
            <p:nvPr/>
          </p:nvSpPr>
          <p:spPr>
            <a:xfrm>
              <a:off x="7426440" y="3049560"/>
              <a:ext cx="11160" cy="619200"/>
            </a:xfrm>
            <a:prstGeom prst="rect">
              <a:avLst/>
            </a:prstGeom>
            <a:solidFill>
              <a:srgbClr val="7d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2" name=""/>
            <p:cNvSpPr/>
            <p:nvPr/>
          </p:nvSpPr>
          <p:spPr>
            <a:xfrm>
              <a:off x="7437600" y="3049560"/>
              <a:ext cx="12600" cy="619200"/>
            </a:xfrm>
            <a:prstGeom prst="rect">
              <a:avLst/>
            </a:prstGeom>
            <a:solidFill>
              <a:srgbClr val="6e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3" name=""/>
            <p:cNvSpPr/>
            <p:nvPr/>
          </p:nvSpPr>
          <p:spPr>
            <a:xfrm>
              <a:off x="7450200" y="3049560"/>
              <a:ext cx="11160" cy="6192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4" name=""/>
            <p:cNvSpPr/>
            <p:nvPr/>
          </p:nvSpPr>
          <p:spPr>
            <a:xfrm>
              <a:off x="7461360" y="3049560"/>
              <a:ext cx="11160" cy="6192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5" name=""/>
            <p:cNvSpPr/>
            <p:nvPr/>
          </p:nvSpPr>
          <p:spPr>
            <a:xfrm>
              <a:off x="7472520" y="3049560"/>
              <a:ext cx="12600" cy="6192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6" name=""/>
            <p:cNvSpPr/>
            <p:nvPr/>
          </p:nvSpPr>
          <p:spPr>
            <a:xfrm>
              <a:off x="7426440" y="3049560"/>
              <a:ext cx="46080" cy="608040"/>
            </a:xfrm>
            <a:custGeom>
              <a:avLst/>
              <a:gdLst/>
              <a:ahLst/>
              <a:rect l="l" t="t" r="r" b="b"/>
              <a:pathLst>
                <a:path w="29" h="383">
                  <a:moveTo>
                    <a:pt x="0" y="383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368"/>
                  </a:lnTo>
                  <a:lnTo>
                    <a:pt x="0" y="38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7" name=""/>
            <p:cNvSpPr/>
            <p:nvPr/>
          </p:nvSpPr>
          <p:spPr>
            <a:xfrm>
              <a:off x="7321680" y="3073320"/>
              <a:ext cx="12600" cy="58428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8" name=""/>
            <p:cNvSpPr/>
            <p:nvPr/>
          </p:nvSpPr>
          <p:spPr>
            <a:xfrm>
              <a:off x="7334280" y="3073320"/>
              <a:ext cx="11160" cy="5842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9" name=""/>
            <p:cNvSpPr/>
            <p:nvPr/>
          </p:nvSpPr>
          <p:spPr>
            <a:xfrm>
              <a:off x="7345440" y="3073320"/>
              <a:ext cx="11160" cy="5842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0" name=""/>
            <p:cNvSpPr/>
            <p:nvPr/>
          </p:nvSpPr>
          <p:spPr>
            <a:xfrm>
              <a:off x="7356600" y="3073320"/>
              <a:ext cx="12600" cy="58428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1" name=""/>
            <p:cNvSpPr/>
            <p:nvPr/>
          </p:nvSpPr>
          <p:spPr>
            <a:xfrm>
              <a:off x="7369200" y="3073320"/>
              <a:ext cx="11160" cy="5842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2" name=""/>
            <p:cNvSpPr/>
            <p:nvPr/>
          </p:nvSpPr>
          <p:spPr>
            <a:xfrm>
              <a:off x="7380360" y="3073320"/>
              <a:ext cx="11160" cy="5842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3" name=""/>
            <p:cNvSpPr/>
            <p:nvPr/>
          </p:nvSpPr>
          <p:spPr>
            <a:xfrm>
              <a:off x="7391520" y="3073320"/>
              <a:ext cx="12600" cy="5842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4" name=""/>
            <p:cNvSpPr/>
            <p:nvPr/>
          </p:nvSpPr>
          <p:spPr>
            <a:xfrm>
              <a:off x="7404120" y="3073320"/>
              <a:ext cx="11160" cy="5842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5" name=""/>
            <p:cNvSpPr/>
            <p:nvPr/>
          </p:nvSpPr>
          <p:spPr>
            <a:xfrm>
              <a:off x="7415280" y="3073320"/>
              <a:ext cx="11160" cy="584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6" name=""/>
            <p:cNvSpPr/>
            <p:nvPr/>
          </p:nvSpPr>
          <p:spPr>
            <a:xfrm>
              <a:off x="7321680" y="3073320"/>
              <a:ext cx="104760" cy="584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7" name=""/>
            <p:cNvSpPr/>
            <p:nvPr/>
          </p:nvSpPr>
          <p:spPr>
            <a:xfrm>
              <a:off x="7321680" y="3049560"/>
              <a:ext cx="12600" cy="349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8" name=""/>
            <p:cNvSpPr/>
            <p:nvPr/>
          </p:nvSpPr>
          <p:spPr>
            <a:xfrm>
              <a:off x="7334280" y="3049560"/>
              <a:ext cx="11160" cy="349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9" name=""/>
            <p:cNvSpPr/>
            <p:nvPr/>
          </p:nvSpPr>
          <p:spPr>
            <a:xfrm>
              <a:off x="7345440" y="3049560"/>
              <a:ext cx="11160" cy="349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0" name=""/>
            <p:cNvSpPr/>
            <p:nvPr/>
          </p:nvSpPr>
          <p:spPr>
            <a:xfrm>
              <a:off x="7356600" y="3049560"/>
              <a:ext cx="12600" cy="349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1" name=""/>
            <p:cNvSpPr/>
            <p:nvPr/>
          </p:nvSpPr>
          <p:spPr>
            <a:xfrm>
              <a:off x="7369200" y="3049560"/>
              <a:ext cx="11160" cy="349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2" name=""/>
            <p:cNvSpPr/>
            <p:nvPr/>
          </p:nvSpPr>
          <p:spPr>
            <a:xfrm>
              <a:off x="7380360" y="3049560"/>
              <a:ext cx="11160" cy="349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3" name=""/>
            <p:cNvSpPr/>
            <p:nvPr/>
          </p:nvSpPr>
          <p:spPr>
            <a:xfrm>
              <a:off x="7391520" y="3049560"/>
              <a:ext cx="1260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4" name=""/>
            <p:cNvSpPr/>
            <p:nvPr/>
          </p:nvSpPr>
          <p:spPr>
            <a:xfrm>
              <a:off x="7404120" y="304956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5" name=""/>
            <p:cNvSpPr/>
            <p:nvPr/>
          </p:nvSpPr>
          <p:spPr>
            <a:xfrm>
              <a:off x="7415280" y="3049560"/>
              <a:ext cx="11160" cy="349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6" name=""/>
            <p:cNvSpPr/>
            <p:nvPr/>
          </p:nvSpPr>
          <p:spPr>
            <a:xfrm>
              <a:off x="7426440" y="3049560"/>
              <a:ext cx="11160" cy="349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7" name=""/>
            <p:cNvSpPr/>
            <p:nvPr/>
          </p:nvSpPr>
          <p:spPr>
            <a:xfrm>
              <a:off x="7437600" y="3049560"/>
              <a:ext cx="12600" cy="349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8" name=""/>
            <p:cNvSpPr/>
            <p:nvPr/>
          </p:nvSpPr>
          <p:spPr>
            <a:xfrm>
              <a:off x="7450200" y="3049560"/>
              <a:ext cx="11160" cy="349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9" name=""/>
            <p:cNvSpPr/>
            <p:nvPr/>
          </p:nvSpPr>
          <p:spPr>
            <a:xfrm>
              <a:off x="7461360" y="3049560"/>
              <a:ext cx="11160" cy="349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0" name=""/>
            <p:cNvSpPr/>
            <p:nvPr/>
          </p:nvSpPr>
          <p:spPr>
            <a:xfrm>
              <a:off x="7472520" y="3049560"/>
              <a:ext cx="1260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1" name=""/>
            <p:cNvSpPr/>
            <p:nvPr/>
          </p:nvSpPr>
          <p:spPr>
            <a:xfrm>
              <a:off x="7321680" y="304956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2" name=""/>
            <p:cNvSpPr/>
            <p:nvPr/>
          </p:nvSpPr>
          <p:spPr>
            <a:xfrm>
              <a:off x="7426440" y="2894040"/>
              <a:ext cx="11160" cy="19044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3" name=""/>
            <p:cNvSpPr/>
            <p:nvPr/>
          </p:nvSpPr>
          <p:spPr>
            <a:xfrm>
              <a:off x="7437600" y="2894040"/>
              <a:ext cx="12600" cy="19044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4" name=""/>
            <p:cNvSpPr/>
            <p:nvPr/>
          </p:nvSpPr>
          <p:spPr>
            <a:xfrm>
              <a:off x="7450200" y="2894040"/>
              <a:ext cx="11160" cy="1904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5" name=""/>
            <p:cNvSpPr/>
            <p:nvPr/>
          </p:nvSpPr>
          <p:spPr>
            <a:xfrm>
              <a:off x="7461360" y="2894040"/>
              <a:ext cx="11160" cy="1904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6" name=""/>
            <p:cNvSpPr/>
            <p:nvPr/>
          </p:nvSpPr>
          <p:spPr>
            <a:xfrm>
              <a:off x="7472520" y="2894040"/>
              <a:ext cx="12600" cy="1904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7" name=""/>
            <p:cNvSpPr/>
            <p:nvPr/>
          </p:nvSpPr>
          <p:spPr>
            <a:xfrm>
              <a:off x="7426440" y="2894040"/>
              <a:ext cx="46080" cy="179280"/>
            </a:xfrm>
            <a:custGeom>
              <a:avLst/>
              <a:gdLst/>
              <a:ahLst/>
              <a:rect l="l" t="t" r="r" b="b"/>
              <a:pathLst>
                <a:path w="29" h="113">
                  <a:moveTo>
                    <a:pt x="0" y="113"/>
                  </a:moveTo>
                  <a:lnTo>
                    <a:pt x="0" y="23"/>
                  </a:lnTo>
                  <a:lnTo>
                    <a:pt x="29" y="0"/>
                  </a:lnTo>
                  <a:lnTo>
                    <a:pt x="29" y="98"/>
                  </a:lnTo>
                  <a:lnTo>
                    <a:pt x="0" y="11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8" name=""/>
            <p:cNvSpPr/>
            <p:nvPr/>
          </p:nvSpPr>
          <p:spPr>
            <a:xfrm>
              <a:off x="7321680" y="2930400"/>
              <a:ext cx="12600" cy="1429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9" name=""/>
            <p:cNvSpPr/>
            <p:nvPr/>
          </p:nvSpPr>
          <p:spPr>
            <a:xfrm>
              <a:off x="7334280" y="2930400"/>
              <a:ext cx="11160" cy="1429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0" name=""/>
            <p:cNvSpPr/>
            <p:nvPr/>
          </p:nvSpPr>
          <p:spPr>
            <a:xfrm>
              <a:off x="7345440" y="2930400"/>
              <a:ext cx="11160" cy="1429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1" name=""/>
            <p:cNvSpPr/>
            <p:nvPr/>
          </p:nvSpPr>
          <p:spPr>
            <a:xfrm>
              <a:off x="7356600" y="2930400"/>
              <a:ext cx="12600" cy="1429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2" name=""/>
            <p:cNvSpPr/>
            <p:nvPr/>
          </p:nvSpPr>
          <p:spPr>
            <a:xfrm>
              <a:off x="7369200" y="2930400"/>
              <a:ext cx="11160" cy="1429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3" name=""/>
            <p:cNvSpPr/>
            <p:nvPr/>
          </p:nvSpPr>
          <p:spPr>
            <a:xfrm>
              <a:off x="7380360" y="2930400"/>
              <a:ext cx="11160" cy="1429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4" name=""/>
            <p:cNvSpPr/>
            <p:nvPr/>
          </p:nvSpPr>
          <p:spPr>
            <a:xfrm>
              <a:off x="7391520" y="2930400"/>
              <a:ext cx="12600" cy="1429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5" name=""/>
            <p:cNvSpPr/>
            <p:nvPr/>
          </p:nvSpPr>
          <p:spPr>
            <a:xfrm>
              <a:off x="7404120" y="2930400"/>
              <a:ext cx="11160" cy="1429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6" name=""/>
            <p:cNvSpPr/>
            <p:nvPr/>
          </p:nvSpPr>
          <p:spPr>
            <a:xfrm>
              <a:off x="7415280" y="2930400"/>
              <a:ext cx="11160" cy="1429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7" name=""/>
            <p:cNvSpPr/>
            <p:nvPr/>
          </p:nvSpPr>
          <p:spPr>
            <a:xfrm>
              <a:off x="7321680" y="2930400"/>
              <a:ext cx="104760" cy="142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8" name=""/>
            <p:cNvSpPr/>
            <p:nvPr/>
          </p:nvSpPr>
          <p:spPr>
            <a:xfrm>
              <a:off x="7321680" y="2894040"/>
              <a:ext cx="12600" cy="475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9" name=""/>
            <p:cNvSpPr/>
            <p:nvPr/>
          </p:nvSpPr>
          <p:spPr>
            <a:xfrm>
              <a:off x="7334280" y="289404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0" name=""/>
            <p:cNvSpPr/>
            <p:nvPr/>
          </p:nvSpPr>
          <p:spPr>
            <a:xfrm>
              <a:off x="7345440" y="289404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1" name=""/>
            <p:cNvSpPr/>
            <p:nvPr/>
          </p:nvSpPr>
          <p:spPr>
            <a:xfrm>
              <a:off x="7356600" y="2894040"/>
              <a:ext cx="1260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2" name=""/>
            <p:cNvSpPr/>
            <p:nvPr/>
          </p:nvSpPr>
          <p:spPr>
            <a:xfrm>
              <a:off x="7369200" y="289404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3" name=""/>
            <p:cNvSpPr/>
            <p:nvPr/>
          </p:nvSpPr>
          <p:spPr>
            <a:xfrm>
              <a:off x="7380360" y="2894040"/>
              <a:ext cx="1116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4" name=""/>
            <p:cNvSpPr/>
            <p:nvPr/>
          </p:nvSpPr>
          <p:spPr>
            <a:xfrm>
              <a:off x="7391520" y="2894040"/>
              <a:ext cx="126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5" name=""/>
            <p:cNvSpPr/>
            <p:nvPr/>
          </p:nvSpPr>
          <p:spPr>
            <a:xfrm>
              <a:off x="7404120" y="289404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6" name=""/>
            <p:cNvSpPr/>
            <p:nvPr/>
          </p:nvSpPr>
          <p:spPr>
            <a:xfrm>
              <a:off x="7415280" y="2894040"/>
              <a:ext cx="11160" cy="475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7" name=""/>
            <p:cNvSpPr/>
            <p:nvPr/>
          </p:nvSpPr>
          <p:spPr>
            <a:xfrm>
              <a:off x="7426440" y="2894040"/>
              <a:ext cx="11160" cy="475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8" name=""/>
            <p:cNvSpPr/>
            <p:nvPr/>
          </p:nvSpPr>
          <p:spPr>
            <a:xfrm>
              <a:off x="7437600" y="2894040"/>
              <a:ext cx="12600" cy="475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9" name=""/>
            <p:cNvSpPr/>
            <p:nvPr/>
          </p:nvSpPr>
          <p:spPr>
            <a:xfrm>
              <a:off x="7450200" y="2894040"/>
              <a:ext cx="11160" cy="475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0" name=""/>
            <p:cNvSpPr/>
            <p:nvPr/>
          </p:nvSpPr>
          <p:spPr>
            <a:xfrm>
              <a:off x="7461360" y="2894040"/>
              <a:ext cx="11160" cy="475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1" name=""/>
            <p:cNvSpPr/>
            <p:nvPr/>
          </p:nvSpPr>
          <p:spPr>
            <a:xfrm>
              <a:off x="7472520" y="2894040"/>
              <a:ext cx="1260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2" name=""/>
            <p:cNvSpPr/>
            <p:nvPr/>
          </p:nvSpPr>
          <p:spPr>
            <a:xfrm>
              <a:off x="7321680" y="2894040"/>
              <a:ext cx="150840" cy="3636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66" y="23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3" name=""/>
            <p:cNvSpPr/>
            <p:nvPr/>
          </p:nvSpPr>
          <p:spPr>
            <a:xfrm>
              <a:off x="7426440" y="2833560"/>
              <a:ext cx="11160" cy="108000"/>
            </a:xfrm>
            <a:prstGeom prst="rect">
              <a:avLst/>
            </a:prstGeom>
            <a:solidFill>
              <a:srgbClr val="7f7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4" name=""/>
            <p:cNvSpPr/>
            <p:nvPr/>
          </p:nvSpPr>
          <p:spPr>
            <a:xfrm>
              <a:off x="7437600" y="2833560"/>
              <a:ext cx="12600" cy="108000"/>
            </a:xfrm>
            <a:prstGeom prst="rect">
              <a:avLst/>
            </a:prstGeom>
            <a:solidFill>
              <a:srgbClr val="7979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5" name=""/>
            <p:cNvSpPr/>
            <p:nvPr/>
          </p:nvSpPr>
          <p:spPr>
            <a:xfrm>
              <a:off x="7450200" y="2833560"/>
              <a:ext cx="11160" cy="1080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6" name=""/>
            <p:cNvSpPr/>
            <p:nvPr/>
          </p:nvSpPr>
          <p:spPr>
            <a:xfrm>
              <a:off x="7461360" y="2833560"/>
              <a:ext cx="11160" cy="1080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7" name=""/>
            <p:cNvSpPr/>
            <p:nvPr/>
          </p:nvSpPr>
          <p:spPr>
            <a:xfrm>
              <a:off x="7472520" y="2833560"/>
              <a:ext cx="12600" cy="108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8" name=""/>
            <p:cNvSpPr/>
            <p:nvPr/>
          </p:nvSpPr>
          <p:spPr>
            <a:xfrm>
              <a:off x="7426440" y="2833560"/>
              <a:ext cx="46080" cy="96840"/>
            </a:xfrm>
            <a:custGeom>
              <a:avLst/>
              <a:gdLst/>
              <a:ahLst/>
              <a:rect l="l" t="t" r="r" b="b"/>
              <a:pathLst>
                <a:path w="29" h="61">
                  <a:moveTo>
                    <a:pt x="0" y="61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38"/>
                  </a:lnTo>
                  <a:lnTo>
                    <a:pt x="0" y="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9" name=""/>
            <p:cNvSpPr/>
            <p:nvPr/>
          </p:nvSpPr>
          <p:spPr>
            <a:xfrm>
              <a:off x="7321680" y="2857680"/>
              <a:ext cx="12600" cy="7272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0" name=""/>
            <p:cNvSpPr/>
            <p:nvPr/>
          </p:nvSpPr>
          <p:spPr>
            <a:xfrm>
              <a:off x="7334280" y="2857680"/>
              <a:ext cx="11160" cy="727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1" name=""/>
          <p:cNvGrpSpPr/>
          <p:nvPr/>
        </p:nvGrpSpPr>
        <p:grpSpPr>
          <a:xfrm>
            <a:off x="7321680" y="2500200"/>
            <a:ext cx="430200" cy="2874960"/>
            <a:chOff x="7321680" y="2500200"/>
            <a:chExt cx="430200" cy="2874960"/>
          </a:xfrm>
        </p:grpSpPr>
        <p:sp>
          <p:nvSpPr>
            <p:cNvPr id="6132" name=""/>
            <p:cNvSpPr/>
            <p:nvPr/>
          </p:nvSpPr>
          <p:spPr>
            <a:xfrm>
              <a:off x="7345440" y="2857680"/>
              <a:ext cx="11160" cy="727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3" name=""/>
            <p:cNvSpPr/>
            <p:nvPr/>
          </p:nvSpPr>
          <p:spPr>
            <a:xfrm>
              <a:off x="7356600" y="2857680"/>
              <a:ext cx="12600" cy="7272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4" name=""/>
            <p:cNvSpPr/>
            <p:nvPr/>
          </p:nvSpPr>
          <p:spPr>
            <a:xfrm>
              <a:off x="7369200" y="2857680"/>
              <a:ext cx="11160" cy="727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5" name=""/>
            <p:cNvSpPr/>
            <p:nvPr/>
          </p:nvSpPr>
          <p:spPr>
            <a:xfrm>
              <a:off x="7380360" y="2857680"/>
              <a:ext cx="11160" cy="727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6" name=""/>
            <p:cNvSpPr/>
            <p:nvPr/>
          </p:nvSpPr>
          <p:spPr>
            <a:xfrm>
              <a:off x="7391520" y="2857680"/>
              <a:ext cx="12600" cy="727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7" name=""/>
            <p:cNvSpPr/>
            <p:nvPr/>
          </p:nvSpPr>
          <p:spPr>
            <a:xfrm>
              <a:off x="7404120" y="2857680"/>
              <a:ext cx="11160" cy="727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8" name=""/>
            <p:cNvSpPr/>
            <p:nvPr/>
          </p:nvSpPr>
          <p:spPr>
            <a:xfrm>
              <a:off x="7415280" y="2857680"/>
              <a:ext cx="11160" cy="72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9" name=""/>
            <p:cNvSpPr/>
            <p:nvPr/>
          </p:nvSpPr>
          <p:spPr>
            <a:xfrm>
              <a:off x="7321680" y="2857680"/>
              <a:ext cx="104760" cy="72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0" name=""/>
            <p:cNvSpPr/>
            <p:nvPr/>
          </p:nvSpPr>
          <p:spPr>
            <a:xfrm>
              <a:off x="7321680" y="2833560"/>
              <a:ext cx="12600" cy="367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1" name=""/>
            <p:cNvSpPr/>
            <p:nvPr/>
          </p:nvSpPr>
          <p:spPr>
            <a:xfrm>
              <a:off x="7334280" y="2833560"/>
              <a:ext cx="11160" cy="367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2" name=""/>
            <p:cNvSpPr/>
            <p:nvPr/>
          </p:nvSpPr>
          <p:spPr>
            <a:xfrm>
              <a:off x="7345440" y="2833560"/>
              <a:ext cx="11160" cy="367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3" name=""/>
            <p:cNvSpPr/>
            <p:nvPr/>
          </p:nvSpPr>
          <p:spPr>
            <a:xfrm>
              <a:off x="7356600" y="2833560"/>
              <a:ext cx="12600" cy="367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7369200" y="2833560"/>
              <a:ext cx="11160" cy="367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5" name=""/>
            <p:cNvSpPr/>
            <p:nvPr/>
          </p:nvSpPr>
          <p:spPr>
            <a:xfrm>
              <a:off x="7380360" y="2833560"/>
              <a:ext cx="11160" cy="367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6" name=""/>
            <p:cNvSpPr/>
            <p:nvPr/>
          </p:nvSpPr>
          <p:spPr>
            <a:xfrm>
              <a:off x="7391520" y="2833560"/>
              <a:ext cx="1260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7404120" y="283356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7415280" y="2833560"/>
              <a:ext cx="11160" cy="367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9" name=""/>
            <p:cNvSpPr/>
            <p:nvPr/>
          </p:nvSpPr>
          <p:spPr>
            <a:xfrm>
              <a:off x="7426440" y="2833560"/>
              <a:ext cx="11160" cy="367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0" name=""/>
            <p:cNvSpPr/>
            <p:nvPr/>
          </p:nvSpPr>
          <p:spPr>
            <a:xfrm>
              <a:off x="7437600" y="2833560"/>
              <a:ext cx="12600" cy="367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7450200" y="2833560"/>
              <a:ext cx="11160" cy="367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7461360" y="2833560"/>
              <a:ext cx="11160" cy="367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7472520" y="2833560"/>
              <a:ext cx="1260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7321680" y="2833560"/>
              <a:ext cx="150840" cy="2412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7426440" y="2786040"/>
              <a:ext cx="11160" cy="84240"/>
            </a:xfrm>
            <a:prstGeom prst="rect">
              <a:avLst/>
            </a:prstGeom>
            <a:solidFill>
              <a:srgbClr val="421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6" name=""/>
            <p:cNvSpPr/>
            <p:nvPr/>
          </p:nvSpPr>
          <p:spPr>
            <a:xfrm>
              <a:off x="7437600" y="2786040"/>
              <a:ext cx="12600" cy="84240"/>
            </a:xfrm>
            <a:prstGeom prst="rect">
              <a:avLst/>
            </a:prstGeom>
            <a:solidFill>
              <a:srgbClr val="4d3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7" name=""/>
            <p:cNvSpPr/>
            <p:nvPr/>
          </p:nvSpPr>
          <p:spPr>
            <a:xfrm>
              <a:off x="7450200" y="2786040"/>
              <a:ext cx="11160" cy="842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8" name=""/>
            <p:cNvSpPr/>
            <p:nvPr/>
          </p:nvSpPr>
          <p:spPr>
            <a:xfrm>
              <a:off x="7461360" y="2786040"/>
              <a:ext cx="11160" cy="842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9" name=""/>
            <p:cNvSpPr/>
            <p:nvPr/>
          </p:nvSpPr>
          <p:spPr>
            <a:xfrm>
              <a:off x="7472520" y="2786040"/>
              <a:ext cx="12600" cy="842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0" name=""/>
            <p:cNvSpPr/>
            <p:nvPr/>
          </p:nvSpPr>
          <p:spPr>
            <a:xfrm>
              <a:off x="7426440" y="2786040"/>
              <a:ext cx="46080" cy="7164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0" y="45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30"/>
                  </a:lnTo>
                  <a:lnTo>
                    <a:pt x="0" y="4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1" name=""/>
            <p:cNvSpPr/>
            <p:nvPr/>
          </p:nvSpPr>
          <p:spPr>
            <a:xfrm>
              <a:off x="7321680" y="2809800"/>
              <a:ext cx="12600" cy="4788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2" name=""/>
            <p:cNvSpPr/>
            <p:nvPr/>
          </p:nvSpPr>
          <p:spPr>
            <a:xfrm>
              <a:off x="7334280" y="2809800"/>
              <a:ext cx="11160" cy="478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3" name=""/>
            <p:cNvSpPr/>
            <p:nvPr/>
          </p:nvSpPr>
          <p:spPr>
            <a:xfrm>
              <a:off x="7345440" y="2809800"/>
              <a:ext cx="11160" cy="478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4" name=""/>
            <p:cNvSpPr/>
            <p:nvPr/>
          </p:nvSpPr>
          <p:spPr>
            <a:xfrm>
              <a:off x="7356600" y="2809800"/>
              <a:ext cx="12600" cy="4788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7369200" y="2809800"/>
              <a:ext cx="11160" cy="478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7380360" y="2809800"/>
              <a:ext cx="11160" cy="478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7391520" y="2809800"/>
              <a:ext cx="12600" cy="478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8" name=""/>
            <p:cNvSpPr/>
            <p:nvPr/>
          </p:nvSpPr>
          <p:spPr>
            <a:xfrm>
              <a:off x="7404120" y="2809800"/>
              <a:ext cx="11160" cy="478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9" name=""/>
            <p:cNvSpPr/>
            <p:nvPr/>
          </p:nvSpPr>
          <p:spPr>
            <a:xfrm>
              <a:off x="7415280" y="2809800"/>
              <a:ext cx="11160" cy="47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0" name=""/>
            <p:cNvSpPr/>
            <p:nvPr/>
          </p:nvSpPr>
          <p:spPr>
            <a:xfrm>
              <a:off x="7321680" y="2809800"/>
              <a:ext cx="104760" cy="47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1" name=""/>
            <p:cNvSpPr/>
            <p:nvPr/>
          </p:nvSpPr>
          <p:spPr>
            <a:xfrm>
              <a:off x="7321680" y="2786040"/>
              <a:ext cx="12600" cy="3636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2" name=""/>
            <p:cNvSpPr/>
            <p:nvPr/>
          </p:nvSpPr>
          <p:spPr>
            <a:xfrm>
              <a:off x="7334280" y="2786040"/>
              <a:ext cx="11160" cy="363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3" name=""/>
            <p:cNvSpPr/>
            <p:nvPr/>
          </p:nvSpPr>
          <p:spPr>
            <a:xfrm>
              <a:off x="7345440" y="2786040"/>
              <a:ext cx="11160" cy="363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4" name=""/>
            <p:cNvSpPr/>
            <p:nvPr/>
          </p:nvSpPr>
          <p:spPr>
            <a:xfrm>
              <a:off x="7356600" y="2786040"/>
              <a:ext cx="12600" cy="3636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5" name=""/>
            <p:cNvSpPr/>
            <p:nvPr/>
          </p:nvSpPr>
          <p:spPr>
            <a:xfrm>
              <a:off x="7369200" y="2786040"/>
              <a:ext cx="11160" cy="363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6" name=""/>
            <p:cNvSpPr/>
            <p:nvPr/>
          </p:nvSpPr>
          <p:spPr>
            <a:xfrm>
              <a:off x="7380360" y="2786040"/>
              <a:ext cx="11160" cy="363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7391520" y="278604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8" name=""/>
            <p:cNvSpPr/>
            <p:nvPr/>
          </p:nvSpPr>
          <p:spPr>
            <a:xfrm>
              <a:off x="7404120" y="278604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7415280" y="2786040"/>
              <a:ext cx="11160" cy="363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0" name=""/>
            <p:cNvSpPr/>
            <p:nvPr/>
          </p:nvSpPr>
          <p:spPr>
            <a:xfrm>
              <a:off x="7426440" y="2786040"/>
              <a:ext cx="11160" cy="363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1" name=""/>
            <p:cNvSpPr/>
            <p:nvPr/>
          </p:nvSpPr>
          <p:spPr>
            <a:xfrm>
              <a:off x="7437600" y="2786040"/>
              <a:ext cx="12600" cy="3636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2" name=""/>
            <p:cNvSpPr/>
            <p:nvPr/>
          </p:nvSpPr>
          <p:spPr>
            <a:xfrm>
              <a:off x="7450200" y="2786040"/>
              <a:ext cx="11160" cy="363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3" name=""/>
            <p:cNvSpPr/>
            <p:nvPr/>
          </p:nvSpPr>
          <p:spPr>
            <a:xfrm>
              <a:off x="7461360" y="2786040"/>
              <a:ext cx="11160" cy="363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4" name=""/>
            <p:cNvSpPr/>
            <p:nvPr/>
          </p:nvSpPr>
          <p:spPr>
            <a:xfrm>
              <a:off x="7472520" y="278604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5" name=""/>
            <p:cNvSpPr/>
            <p:nvPr/>
          </p:nvSpPr>
          <p:spPr>
            <a:xfrm>
              <a:off x="7321680" y="278604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66" y="15"/>
                  </a:moveTo>
                  <a:lnTo>
                    <a:pt x="95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6" name=""/>
            <p:cNvSpPr/>
            <p:nvPr/>
          </p:nvSpPr>
          <p:spPr>
            <a:xfrm>
              <a:off x="7705800" y="3454560"/>
              <a:ext cx="11160" cy="19206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7" name=""/>
            <p:cNvSpPr/>
            <p:nvPr/>
          </p:nvSpPr>
          <p:spPr>
            <a:xfrm>
              <a:off x="7716960" y="3454560"/>
              <a:ext cx="11160" cy="19206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8" name=""/>
            <p:cNvSpPr/>
            <p:nvPr/>
          </p:nvSpPr>
          <p:spPr>
            <a:xfrm>
              <a:off x="7728120" y="3454560"/>
              <a:ext cx="12600" cy="19206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9" name=""/>
            <p:cNvSpPr/>
            <p:nvPr/>
          </p:nvSpPr>
          <p:spPr>
            <a:xfrm>
              <a:off x="7740720" y="3454560"/>
              <a:ext cx="11160" cy="19206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0" name=""/>
            <p:cNvSpPr/>
            <p:nvPr/>
          </p:nvSpPr>
          <p:spPr>
            <a:xfrm>
              <a:off x="7705800" y="3454560"/>
              <a:ext cx="34920" cy="1909440"/>
            </a:xfrm>
            <a:custGeom>
              <a:avLst/>
              <a:gdLst/>
              <a:ahLst/>
              <a:rect l="l" t="t" r="r" b="b"/>
              <a:pathLst>
                <a:path w="22" h="1203">
                  <a:moveTo>
                    <a:pt x="0" y="120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188"/>
                  </a:lnTo>
                  <a:lnTo>
                    <a:pt x="0" y="120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1" name=""/>
            <p:cNvSpPr/>
            <p:nvPr/>
          </p:nvSpPr>
          <p:spPr>
            <a:xfrm>
              <a:off x="7589880" y="3478320"/>
              <a:ext cx="11160" cy="188568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2" name=""/>
            <p:cNvSpPr/>
            <p:nvPr/>
          </p:nvSpPr>
          <p:spPr>
            <a:xfrm>
              <a:off x="7601040" y="3478320"/>
              <a:ext cx="11160" cy="188568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3" name=""/>
            <p:cNvSpPr/>
            <p:nvPr/>
          </p:nvSpPr>
          <p:spPr>
            <a:xfrm>
              <a:off x="7612200" y="3478320"/>
              <a:ext cx="10800" cy="188568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4" name=""/>
            <p:cNvSpPr/>
            <p:nvPr/>
          </p:nvSpPr>
          <p:spPr>
            <a:xfrm>
              <a:off x="7623000" y="3478320"/>
              <a:ext cx="12960" cy="188568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5" name=""/>
            <p:cNvSpPr/>
            <p:nvPr/>
          </p:nvSpPr>
          <p:spPr>
            <a:xfrm>
              <a:off x="7635960" y="3478320"/>
              <a:ext cx="11160" cy="18856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6" name=""/>
            <p:cNvSpPr/>
            <p:nvPr/>
          </p:nvSpPr>
          <p:spPr>
            <a:xfrm>
              <a:off x="7647120" y="3478320"/>
              <a:ext cx="11160" cy="18856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7" name=""/>
            <p:cNvSpPr/>
            <p:nvPr/>
          </p:nvSpPr>
          <p:spPr>
            <a:xfrm>
              <a:off x="7658280" y="3478320"/>
              <a:ext cx="12600" cy="188568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8" name=""/>
            <p:cNvSpPr/>
            <p:nvPr/>
          </p:nvSpPr>
          <p:spPr>
            <a:xfrm>
              <a:off x="7670880" y="3478320"/>
              <a:ext cx="11160" cy="188568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9" name=""/>
            <p:cNvSpPr/>
            <p:nvPr/>
          </p:nvSpPr>
          <p:spPr>
            <a:xfrm>
              <a:off x="7682040" y="3478320"/>
              <a:ext cx="11160" cy="188568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0" name=""/>
            <p:cNvSpPr/>
            <p:nvPr/>
          </p:nvSpPr>
          <p:spPr>
            <a:xfrm>
              <a:off x="7693200" y="3478320"/>
              <a:ext cx="12600" cy="1885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1" name=""/>
            <p:cNvSpPr/>
            <p:nvPr/>
          </p:nvSpPr>
          <p:spPr>
            <a:xfrm>
              <a:off x="7589880" y="3478320"/>
              <a:ext cx="115920" cy="1885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2" name=""/>
            <p:cNvSpPr/>
            <p:nvPr/>
          </p:nvSpPr>
          <p:spPr>
            <a:xfrm>
              <a:off x="7589880" y="3454560"/>
              <a:ext cx="111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3" name=""/>
            <p:cNvSpPr/>
            <p:nvPr/>
          </p:nvSpPr>
          <p:spPr>
            <a:xfrm>
              <a:off x="7601040" y="3454560"/>
              <a:ext cx="11160" cy="3636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4" name=""/>
            <p:cNvSpPr/>
            <p:nvPr/>
          </p:nvSpPr>
          <p:spPr>
            <a:xfrm>
              <a:off x="7612200" y="3454560"/>
              <a:ext cx="10800" cy="3636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5" name=""/>
            <p:cNvSpPr/>
            <p:nvPr/>
          </p:nvSpPr>
          <p:spPr>
            <a:xfrm>
              <a:off x="7623000" y="3454560"/>
              <a:ext cx="12960" cy="3636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6" name=""/>
            <p:cNvSpPr/>
            <p:nvPr/>
          </p:nvSpPr>
          <p:spPr>
            <a:xfrm>
              <a:off x="7635960" y="3454560"/>
              <a:ext cx="11160" cy="3636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7" name=""/>
            <p:cNvSpPr/>
            <p:nvPr/>
          </p:nvSpPr>
          <p:spPr>
            <a:xfrm>
              <a:off x="7647120" y="3454560"/>
              <a:ext cx="11160" cy="3636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8" name=""/>
            <p:cNvSpPr/>
            <p:nvPr/>
          </p:nvSpPr>
          <p:spPr>
            <a:xfrm>
              <a:off x="7658280" y="345456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9" name=""/>
            <p:cNvSpPr/>
            <p:nvPr/>
          </p:nvSpPr>
          <p:spPr>
            <a:xfrm>
              <a:off x="7670880" y="345456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0" name=""/>
            <p:cNvSpPr/>
            <p:nvPr/>
          </p:nvSpPr>
          <p:spPr>
            <a:xfrm>
              <a:off x="7682040" y="3454560"/>
              <a:ext cx="11160" cy="3636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1" name=""/>
            <p:cNvSpPr/>
            <p:nvPr/>
          </p:nvSpPr>
          <p:spPr>
            <a:xfrm>
              <a:off x="7693200" y="3454560"/>
              <a:ext cx="12600" cy="3636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2" name=""/>
            <p:cNvSpPr/>
            <p:nvPr/>
          </p:nvSpPr>
          <p:spPr>
            <a:xfrm>
              <a:off x="7705800" y="3454560"/>
              <a:ext cx="11160" cy="3636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3" name=""/>
            <p:cNvSpPr/>
            <p:nvPr/>
          </p:nvSpPr>
          <p:spPr>
            <a:xfrm>
              <a:off x="7716960" y="3454560"/>
              <a:ext cx="11160" cy="3636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4" name=""/>
            <p:cNvSpPr/>
            <p:nvPr/>
          </p:nvSpPr>
          <p:spPr>
            <a:xfrm>
              <a:off x="7728120" y="3454560"/>
              <a:ext cx="12600" cy="3636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5" name=""/>
            <p:cNvSpPr/>
            <p:nvPr/>
          </p:nvSpPr>
          <p:spPr>
            <a:xfrm>
              <a:off x="7740720" y="345456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6" name=""/>
            <p:cNvSpPr/>
            <p:nvPr/>
          </p:nvSpPr>
          <p:spPr>
            <a:xfrm>
              <a:off x="7589880" y="345456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1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7" name=""/>
            <p:cNvSpPr/>
            <p:nvPr/>
          </p:nvSpPr>
          <p:spPr>
            <a:xfrm>
              <a:off x="7705800" y="2833560"/>
              <a:ext cx="11160" cy="6573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8" name=""/>
            <p:cNvSpPr/>
            <p:nvPr/>
          </p:nvSpPr>
          <p:spPr>
            <a:xfrm>
              <a:off x="7716960" y="2833560"/>
              <a:ext cx="11160" cy="6573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9" name=""/>
            <p:cNvSpPr/>
            <p:nvPr/>
          </p:nvSpPr>
          <p:spPr>
            <a:xfrm>
              <a:off x="7728120" y="2833560"/>
              <a:ext cx="12600" cy="6573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0" name=""/>
            <p:cNvSpPr/>
            <p:nvPr/>
          </p:nvSpPr>
          <p:spPr>
            <a:xfrm>
              <a:off x="7740720" y="2833560"/>
              <a:ext cx="11160" cy="6573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1" name=""/>
            <p:cNvSpPr/>
            <p:nvPr/>
          </p:nvSpPr>
          <p:spPr>
            <a:xfrm>
              <a:off x="7705800" y="2833560"/>
              <a:ext cx="34920" cy="644760"/>
            </a:xfrm>
            <a:custGeom>
              <a:avLst/>
              <a:gdLst/>
              <a:ahLst/>
              <a:rect l="l" t="t" r="r" b="b"/>
              <a:pathLst>
                <a:path w="22" h="406">
                  <a:moveTo>
                    <a:pt x="0" y="406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91"/>
                  </a:lnTo>
                  <a:lnTo>
                    <a:pt x="0" y="40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2" name=""/>
            <p:cNvSpPr/>
            <p:nvPr/>
          </p:nvSpPr>
          <p:spPr>
            <a:xfrm>
              <a:off x="7589880" y="2857680"/>
              <a:ext cx="11160" cy="62064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3" name=""/>
            <p:cNvSpPr/>
            <p:nvPr/>
          </p:nvSpPr>
          <p:spPr>
            <a:xfrm>
              <a:off x="7601040" y="2857680"/>
              <a:ext cx="11160" cy="62064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4" name=""/>
            <p:cNvSpPr/>
            <p:nvPr/>
          </p:nvSpPr>
          <p:spPr>
            <a:xfrm>
              <a:off x="7612200" y="2857680"/>
              <a:ext cx="10800" cy="62064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5" name=""/>
            <p:cNvSpPr/>
            <p:nvPr/>
          </p:nvSpPr>
          <p:spPr>
            <a:xfrm>
              <a:off x="7623000" y="2857680"/>
              <a:ext cx="12960" cy="62064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6" name=""/>
            <p:cNvSpPr/>
            <p:nvPr/>
          </p:nvSpPr>
          <p:spPr>
            <a:xfrm>
              <a:off x="7635960" y="2857680"/>
              <a:ext cx="11160" cy="6206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7" name=""/>
            <p:cNvSpPr/>
            <p:nvPr/>
          </p:nvSpPr>
          <p:spPr>
            <a:xfrm>
              <a:off x="7647120" y="2857680"/>
              <a:ext cx="11160" cy="6206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8" name=""/>
            <p:cNvSpPr/>
            <p:nvPr/>
          </p:nvSpPr>
          <p:spPr>
            <a:xfrm>
              <a:off x="7658280" y="2857680"/>
              <a:ext cx="12600" cy="62064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9" name=""/>
            <p:cNvSpPr/>
            <p:nvPr/>
          </p:nvSpPr>
          <p:spPr>
            <a:xfrm>
              <a:off x="7670880" y="2857680"/>
              <a:ext cx="11160" cy="62064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0" name=""/>
            <p:cNvSpPr/>
            <p:nvPr/>
          </p:nvSpPr>
          <p:spPr>
            <a:xfrm>
              <a:off x="7682040" y="2857680"/>
              <a:ext cx="11160" cy="62064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1" name=""/>
            <p:cNvSpPr/>
            <p:nvPr/>
          </p:nvSpPr>
          <p:spPr>
            <a:xfrm>
              <a:off x="7693200" y="2857680"/>
              <a:ext cx="12600" cy="620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2" name=""/>
            <p:cNvSpPr/>
            <p:nvPr/>
          </p:nvSpPr>
          <p:spPr>
            <a:xfrm>
              <a:off x="7589880" y="2857680"/>
              <a:ext cx="115920" cy="620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3" name=""/>
            <p:cNvSpPr/>
            <p:nvPr/>
          </p:nvSpPr>
          <p:spPr>
            <a:xfrm>
              <a:off x="7589880" y="2833560"/>
              <a:ext cx="11160" cy="367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4" name=""/>
            <p:cNvSpPr/>
            <p:nvPr/>
          </p:nvSpPr>
          <p:spPr>
            <a:xfrm>
              <a:off x="7601040" y="2833560"/>
              <a:ext cx="11160" cy="367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5" name=""/>
            <p:cNvSpPr/>
            <p:nvPr/>
          </p:nvSpPr>
          <p:spPr>
            <a:xfrm>
              <a:off x="7612200" y="2833560"/>
              <a:ext cx="10800" cy="367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6" name=""/>
            <p:cNvSpPr/>
            <p:nvPr/>
          </p:nvSpPr>
          <p:spPr>
            <a:xfrm>
              <a:off x="7623000" y="2833560"/>
              <a:ext cx="12960" cy="367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7" name=""/>
            <p:cNvSpPr/>
            <p:nvPr/>
          </p:nvSpPr>
          <p:spPr>
            <a:xfrm>
              <a:off x="7635960" y="2833560"/>
              <a:ext cx="11160" cy="367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8" name=""/>
            <p:cNvSpPr/>
            <p:nvPr/>
          </p:nvSpPr>
          <p:spPr>
            <a:xfrm>
              <a:off x="7647120" y="2833560"/>
              <a:ext cx="11160" cy="367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9" name=""/>
            <p:cNvSpPr/>
            <p:nvPr/>
          </p:nvSpPr>
          <p:spPr>
            <a:xfrm>
              <a:off x="7658280" y="283356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0" name=""/>
            <p:cNvSpPr/>
            <p:nvPr/>
          </p:nvSpPr>
          <p:spPr>
            <a:xfrm>
              <a:off x="7670880" y="283356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1" name=""/>
            <p:cNvSpPr/>
            <p:nvPr/>
          </p:nvSpPr>
          <p:spPr>
            <a:xfrm>
              <a:off x="7682040" y="2833560"/>
              <a:ext cx="11160" cy="367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2" name=""/>
            <p:cNvSpPr/>
            <p:nvPr/>
          </p:nvSpPr>
          <p:spPr>
            <a:xfrm>
              <a:off x="7693200" y="2833560"/>
              <a:ext cx="12600" cy="367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3" name=""/>
            <p:cNvSpPr/>
            <p:nvPr/>
          </p:nvSpPr>
          <p:spPr>
            <a:xfrm>
              <a:off x="7705800" y="2833560"/>
              <a:ext cx="11160" cy="367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4" name=""/>
            <p:cNvSpPr/>
            <p:nvPr/>
          </p:nvSpPr>
          <p:spPr>
            <a:xfrm>
              <a:off x="7716960" y="2833560"/>
              <a:ext cx="11160" cy="367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5" name=""/>
            <p:cNvSpPr/>
            <p:nvPr/>
          </p:nvSpPr>
          <p:spPr>
            <a:xfrm>
              <a:off x="7728120" y="2833560"/>
              <a:ext cx="12600" cy="367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6" name=""/>
            <p:cNvSpPr/>
            <p:nvPr/>
          </p:nvSpPr>
          <p:spPr>
            <a:xfrm>
              <a:off x="7740720" y="2833560"/>
              <a:ext cx="111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7" name=""/>
            <p:cNvSpPr/>
            <p:nvPr/>
          </p:nvSpPr>
          <p:spPr>
            <a:xfrm>
              <a:off x="7589880" y="2833560"/>
              <a:ext cx="150840" cy="2412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1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8" name=""/>
            <p:cNvSpPr/>
            <p:nvPr/>
          </p:nvSpPr>
          <p:spPr>
            <a:xfrm>
              <a:off x="7705800" y="2631960"/>
              <a:ext cx="11160" cy="2383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9" name=""/>
            <p:cNvSpPr/>
            <p:nvPr/>
          </p:nvSpPr>
          <p:spPr>
            <a:xfrm>
              <a:off x="7716960" y="2631960"/>
              <a:ext cx="11160" cy="2383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0" name=""/>
            <p:cNvSpPr/>
            <p:nvPr/>
          </p:nvSpPr>
          <p:spPr>
            <a:xfrm>
              <a:off x="7728120" y="2631960"/>
              <a:ext cx="12600" cy="2383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1" name=""/>
            <p:cNvSpPr/>
            <p:nvPr/>
          </p:nvSpPr>
          <p:spPr>
            <a:xfrm>
              <a:off x="7740720" y="2631960"/>
              <a:ext cx="11160" cy="2383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2" name=""/>
            <p:cNvSpPr/>
            <p:nvPr/>
          </p:nvSpPr>
          <p:spPr>
            <a:xfrm>
              <a:off x="7705800" y="2631960"/>
              <a:ext cx="34920" cy="225720"/>
            </a:xfrm>
            <a:custGeom>
              <a:avLst/>
              <a:gdLst/>
              <a:ahLst/>
              <a:rect l="l" t="t" r="r" b="b"/>
              <a:pathLst>
                <a:path w="22" h="142">
                  <a:moveTo>
                    <a:pt x="0" y="142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27"/>
                  </a:lnTo>
                  <a:lnTo>
                    <a:pt x="0" y="14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3" name=""/>
            <p:cNvSpPr/>
            <p:nvPr/>
          </p:nvSpPr>
          <p:spPr>
            <a:xfrm>
              <a:off x="7589880" y="2655720"/>
              <a:ext cx="11160" cy="20196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4" name=""/>
            <p:cNvSpPr/>
            <p:nvPr/>
          </p:nvSpPr>
          <p:spPr>
            <a:xfrm>
              <a:off x="7601040" y="2655720"/>
              <a:ext cx="11160" cy="2019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5" name=""/>
            <p:cNvSpPr/>
            <p:nvPr/>
          </p:nvSpPr>
          <p:spPr>
            <a:xfrm>
              <a:off x="7612200" y="2655720"/>
              <a:ext cx="10800" cy="20196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6" name=""/>
            <p:cNvSpPr/>
            <p:nvPr/>
          </p:nvSpPr>
          <p:spPr>
            <a:xfrm>
              <a:off x="7623000" y="2655720"/>
              <a:ext cx="12960" cy="2019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7" name=""/>
            <p:cNvSpPr/>
            <p:nvPr/>
          </p:nvSpPr>
          <p:spPr>
            <a:xfrm>
              <a:off x="7635960" y="2655720"/>
              <a:ext cx="11160" cy="201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8" name=""/>
            <p:cNvSpPr/>
            <p:nvPr/>
          </p:nvSpPr>
          <p:spPr>
            <a:xfrm>
              <a:off x="7647120" y="2655720"/>
              <a:ext cx="11160" cy="201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9" name=""/>
            <p:cNvSpPr/>
            <p:nvPr/>
          </p:nvSpPr>
          <p:spPr>
            <a:xfrm>
              <a:off x="7658280" y="2655720"/>
              <a:ext cx="12600" cy="2019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0" name=""/>
            <p:cNvSpPr/>
            <p:nvPr/>
          </p:nvSpPr>
          <p:spPr>
            <a:xfrm>
              <a:off x="7670880" y="2655720"/>
              <a:ext cx="11160" cy="20196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1" name=""/>
            <p:cNvSpPr/>
            <p:nvPr/>
          </p:nvSpPr>
          <p:spPr>
            <a:xfrm>
              <a:off x="7682040" y="2655720"/>
              <a:ext cx="11160" cy="2019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2" name=""/>
            <p:cNvSpPr/>
            <p:nvPr/>
          </p:nvSpPr>
          <p:spPr>
            <a:xfrm>
              <a:off x="7693200" y="2655720"/>
              <a:ext cx="12600" cy="201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3" name=""/>
            <p:cNvSpPr/>
            <p:nvPr/>
          </p:nvSpPr>
          <p:spPr>
            <a:xfrm>
              <a:off x="7589880" y="2655720"/>
              <a:ext cx="115920" cy="201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4" name=""/>
            <p:cNvSpPr/>
            <p:nvPr/>
          </p:nvSpPr>
          <p:spPr>
            <a:xfrm>
              <a:off x="7589880" y="2631960"/>
              <a:ext cx="11160" cy="349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5" name=""/>
            <p:cNvSpPr/>
            <p:nvPr/>
          </p:nvSpPr>
          <p:spPr>
            <a:xfrm>
              <a:off x="7601040" y="2631960"/>
              <a:ext cx="1116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6" name=""/>
            <p:cNvSpPr/>
            <p:nvPr/>
          </p:nvSpPr>
          <p:spPr>
            <a:xfrm>
              <a:off x="7612200" y="2631960"/>
              <a:ext cx="1080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7" name=""/>
            <p:cNvSpPr/>
            <p:nvPr/>
          </p:nvSpPr>
          <p:spPr>
            <a:xfrm>
              <a:off x="7623000" y="2631960"/>
              <a:ext cx="1296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8" name=""/>
            <p:cNvSpPr/>
            <p:nvPr/>
          </p:nvSpPr>
          <p:spPr>
            <a:xfrm>
              <a:off x="7635960" y="2631960"/>
              <a:ext cx="1116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9" name=""/>
            <p:cNvSpPr/>
            <p:nvPr/>
          </p:nvSpPr>
          <p:spPr>
            <a:xfrm>
              <a:off x="7647120" y="2631960"/>
              <a:ext cx="1116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0" name=""/>
            <p:cNvSpPr/>
            <p:nvPr/>
          </p:nvSpPr>
          <p:spPr>
            <a:xfrm>
              <a:off x="7658280" y="2631960"/>
              <a:ext cx="1260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1" name=""/>
            <p:cNvSpPr/>
            <p:nvPr/>
          </p:nvSpPr>
          <p:spPr>
            <a:xfrm>
              <a:off x="7670880" y="263196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2" name=""/>
            <p:cNvSpPr/>
            <p:nvPr/>
          </p:nvSpPr>
          <p:spPr>
            <a:xfrm>
              <a:off x="7682040" y="2631960"/>
              <a:ext cx="1116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3" name=""/>
            <p:cNvSpPr/>
            <p:nvPr/>
          </p:nvSpPr>
          <p:spPr>
            <a:xfrm>
              <a:off x="7693200" y="2631960"/>
              <a:ext cx="1260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4" name=""/>
            <p:cNvSpPr/>
            <p:nvPr/>
          </p:nvSpPr>
          <p:spPr>
            <a:xfrm>
              <a:off x="7705800" y="2631960"/>
              <a:ext cx="1116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5" name=""/>
            <p:cNvSpPr/>
            <p:nvPr/>
          </p:nvSpPr>
          <p:spPr>
            <a:xfrm>
              <a:off x="7716960" y="2631960"/>
              <a:ext cx="1116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6" name=""/>
            <p:cNvSpPr/>
            <p:nvPr/>
          </p:nvSpPr>
          <p:spPr>
            <a:xfrm>
              <a:off x="7728120" y="2631960"/>
              <a:ext cx="1260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7" name=""/>
            <p:cNvSpPr/>
            <p:nvPr/>
          </p:nvSpPr>
          <p:spPr>
            <a:xfrm>
              <a:off x="7740720" y="2631960"/>
              <a:ext cx="1116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8" name=""/>
            <p:cNvSpPr/>
            <p:nvPr/>
          </p:nvSpPr>
          <p:spPr>
            <a:xfrm>
              <a:off x="7589880" y="263196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1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9" name=""/>
            <p:cNvSpPr/>
            <p:nvPr/>
          </p:nvSpPr>
          <p:spPr>
            <a:xfrm>
              <a:off x="7705800" y="2560680"/>
              <a:ext cx="11160" cy="1062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0" name=""/>
            <p:cNvSpPr/>
            <p:nvPr/>
          </p:nvSpPr>
          <p:spPr>
            <a:xfrm>
              <a:off x="7716960" y="2560680"/>
              <a:ext cx="1116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1" name=""/>
            <p:cNvSpPr/>
            <p:nvPr/>
          </p:nvSpPr>
          <p:spPr>
            <a:xfrm>
              <a:off x="7728120" y="2560680"/>
              <a:ext cx="1260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7740720" y="2560680"/>
              <a:ext cx="11160" cy="1062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3" name=""/>
            <p:cNvSpPr/>
            <p:nvPr/>
          </p:nvSpPr>
          <p:spPr>
            <a:xfrm>
              <a:off x="7705800" y="256068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7589880" y="2584440"/>
              <a:ext cx="11160" cy="71280"/>
            </a:xfrm>
            <a:prstGeom prst="rect">
              <a:avLst/>
            </a:prstGeom>
            <a:solidFill>
              <a:srgbClr val="ffff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7601040" y="2584440"/>
              <a:ext cx="11160" cy="712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6" name=""/>
            <p:cNvSpPr/>
            <p:nvPr/>
          </p:nvSpPr>
          <p:spPr>
            <a:xfrm>
              <a:off x="7612200" y="2584440"/>
              <a:ext cx="10800" cy="71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7" name=""/>
            <p:cNvSpPr/>
            <p:nvPr/>
          </p:nvSpPr>
          <p:spPr>
            <a:xfrm>
              <a:off x="7623000" y="2584440"/>
              <a:ext cx="12960" cy="712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8" name=""/>
            <p:cNvSpPr/>
            <p:nvPr/>
          </p:nvSpPr>
          <p:spPr>
            <a:xfrm>
              <a:off x="7635960" y="2584440"/>
              <a:ext cx="11160" cy="712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9" name=""/>
            <p:cNvSpPr/>
            <p:nvPr/>
          </p:nvSpPr>
          <p:spPr>
            <a:xfrm>
              <a:off x="7647120" y="2584440"/>
              <a:ext cx="11160" cy="712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0" name=""/>
            <p:cNvSpPr/>
            <p:nvPr/>
          </p:nvSpPr>
          <p:spPr>
            <a:xfrm>
              <a:off x="7658280" y="2584440"/>
              <a:ext cx="12600" cy="712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1" name=""/>
            <p:cNvSpPr/>
            <p:nvPr/>
          </p:nvSpPr>
          <p:spPr>
            <a:xfrm>
              <a:off x="7670880" y="2584440"/>
              <a:ext cx="11160" cy="71280"/>
            </a:xfrm>
            <a:prstGeom prst="rect">
              <a:avLst/>
            </a:prstGeom>
            <a:solidFill>
              <a:srgbClr val="fff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2" name=""/>
            <p:cNvSpPr/>
            <p:nvPr/>
          </p:nvSpPr>
          <p:spPr>
            <a:xfrm>
              <a:off x="7682040" y="2584440"/>
              <a:ext cx="11160" cy="712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3" name=""/>
            <p:cNvSpPr/>
            <p:nvPr/>
          </p:nvSpPr>
          <p:spPr>
            <a:xfrm>
              <a:off x="7693200" y="2584440"/>
              <a:ext cx="12600" cy="71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4" name=""/>
            <p:cNvSpPr/>
            <p:nvPr/>
          </p:nvSpPr>
          <p:spPr>
            <a:xfrm>
              <a:off x="7589880" y="2584440"/>
              <a:ext cx="115920" cy="71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5" name=""/>
            <p:cNvSpPr/>
            <p:nvPr/>
          </p:nvSpPr>
          <p:spPr>
            <a:xfrm>
              <a:off x="7589880" y="2560680"/>
              <a:ext cx="11160" cy="349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6" name=""/>
            <p:cNvSpPr/>
            <p:nvPr/>
          </p:nvSpPr>
          <p:spPr>
            <a:xfrm>
              <a:off x="7601040" y="2560680"/>
              <a:ext cx="1116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7" name=""/>
            <p:cNvSpPr/>
            <p:nvPr/>
          </p:nvSpPr>
          <p:spPr>
            <a:xfrm>
              <a:off x="7612200" y="2560680"/>
              <a:ext cx="1080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8" name=""/>
            <p:cNvSpPr/>
            <p:nvPr/>
          </p:nvSpPr>
          <p:spPr>
            <a:xfrm>
              <a:off x="7623000" y="2560680"/>
              <a:ext cx="1296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9" name=""/>
            <p:cNvSpPr/>
            <p:nvPr/>
          </p:nvSpPr>
          <p:spPr>
            <a:xfrm>
              <a:off x="7635960" y="2560680"/>
              <a:ext cx="1116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0" name=""/>
            <p:cNvSpPr/>
            <p:nvPr/>
          </p:nvSpPr>
          <p:spPr>
            <a:xfrm>
              <a:off x="7647120" y="2560680"/>
              <a:ext cx="111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1" name=""/>
            <p:cNvSpPr/>
            <p:nvPr/>
          </p:nvSpPr>
          <p:spPr>
            <a:xfrm>
              <a:off x="7658280" y="2560680"/>
              <a:ext cx="1260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2" name=""/>
            <p:cNvSpPr/>
            <p:nvPr/>
          </p:nvSpPr>
          <p:spPr>
            <a:xfrm>
              <a:off x="7670880" y="2560680"/>
              <a:ext cx="1116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3" name=""/>
            <p:cNvSpPr/>
            <p:nvPr/>
          </p:nvSpPr>
          <p:spPr>
            <a:xfrm>
              <a:off x="7682040" y="2560680"/>
              <a:ext cx="111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4" name=""/>
            <p:cNvSpPr/>
            <p:nvPr/>
          </p:nvSpPr>
          <p:spPr>
            <a:xfrm>
              <a:off x="7693200" y="2560680"/>
              <a:ext cx="1260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5" name=""/>
            <p:cNvSpPr/>
            <p:nvPr/>
          </p:nvSpPr>
          <p:spPr>
            <a:xfrm>
              <a:off x="7705800" y="2560680"/>
              <a:ext cx="1116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6" name=""/>
            <p:cNvSpPr/>
            <p:nvPr/>
          </p:nvSpPr>
          <p:spPr>
            <a:xfrm>
              <a:off x="7716960" y="2560680"/>
              <a:ext cx="1116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7" name=""/>
            <p:cNvSpPr/>
            <p:nvPr/>
          </p:nvSpPr>
          <p:spPr>
            <a:xfrm>
              <a:off x="7728120" y="2560680"/>
              <a:ext cx="1260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8" name=""/>
            <p:cNvSpPr/>
            <p:nvPr/>
          </p:nvSpPr>
          <p:spPr>
            <a:xfrm>
              <a:off x="7740720" y="2560680"/>
              <a:ext cx="11160" cy="349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9" name=""/>
            <p:cNvSpPr/>
            <p:nvPr/>
          </p:nvSpPr>
          <p:spPr>
            <a:xfrm>
              <a:off x="7589880" y="256068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1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0" name=""/>
            <p:cNvSpPr/>
            <p:nvPr/>
          </p:nvSpPr>
          <p:spPr>
            <a:xfrm>
              <a:off x="7705800" y="2500200"/>
              <a:ext cx="11160" cy="9540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1" name=""/>
            <p:cNvSpPr/>
            <p:nvPr/>
          </p:nvSpPr>
          <p:spPr>
            <a:xfrm>
              <a:off x="7716960" y="2500200"/>
              <a:ext cx="11160" cy="9540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2" name=""/>
            <p:cNvSpPr/>
            <p:nvPr/>
          </p:nvSpPr>
          <p:spPr>
            <a:xfrm>
              <a:off x="7728120" y="2500200"/>
              <a:ext cx="12600" cy="9540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3" name=""/>
            <p:cNvSpPr/>
            <p:nvPr/>
          </p:nvSpPr>
          <p:spPr>
            <a:xfrm>
              <a:off x="7740720" y="2500200"/>
              <a:ext cx="11160" cy="9540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4" name=""/>
            <p:cNvSpPr/>
            <p:nvPr/>
          </p:nvSpPr>
          <p:spPr>
            <a:xfrm>
              <a:off x="7705800" y="250020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8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5" name=""/>
            <p:cNvSpPr/>
            <p:nvPr/>
          </p:nvSpPr>
          <p:spPr>
            <a:xfrm>
              <a:off x="7589880" y="2536920"/>
              <a:ext cx="11160" cy="4752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6" name=""/>
            <p:cNvSpPr/>
            <p:nvPr/>
          </p:nvSpPr>
          <p:spPr>
            <a:xfrm>
              <a:off x="7601040" y="2536920"/>
              <a:ext cx="11160" cy="4752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7" name=""/>
            <p:cNvSpPr/>
            <p:nvPr/>
          </p:nvSpPr>
          <p:spPr>
            <a:xfrm>
              <a:off x="7612200" y="2536920"/>
              <a:ext cx="10800" cy="4752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8" name=""/>
            <p:cNvSpPr/>
            <p:nvPr/>
          </p:nvSpPr>
          <p:spPr>
            <a:xfrm>
              <a:off x="7623000" y="2536920"/>
              <a:ext cx="12960" cy="4752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9" name=""/>
            <p:cNvSpPr/>
            <p:nvPr/>
          </p:nvSpPr>
          <p:spPr>
            <a:xfrm>
              <a:off x="7635960" y="2536920"/>
              <a:ext cx="11160" cy="475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0" name=""/>
            <p:cNvSpPr/>
            <p:nvPr/>
          </p:nvSpPr>
          <p:spPr>
            <a:xfrm>
              <a:off x="7647120" y="2536920"/>
              <a:ext cx="11160" cy="475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1" name=""/>
            <p:cNvSpPr/>
            <p:nvPr/>
          </p:nvSpPr>
          <p:spPr>
            <a:xfrm>
              <a:off x="7658280" y="2536920"/>
              <a:ext cx="12600" cy="4752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2" name=""/>
            <p:cNvSpPr/>
            <p:nvPr/>
          </p:nvSpPr>
          <p:spPr>
            <a:xfrm>
              <a:off x="7670880" y="2536920"/>
              <a:ext cx="11160" cy="4752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3" name=""/>
            <p:cNvSpPr/>
            <p:nvPr/>
          </p:nvSpPr>
          <p:spPr>
            <a:xfrm>
              <a:off x="7682040" y="2536920"/>
              <a:ext cx="11160" cy="4752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4" name=""/>
            <p:cNvSpPr/>
            <p:nvPr/>
          </p:nvSpPr>
          <p:spPr>
            <a:xfrm>
              <a:off x="7693200" y="2536920"/>
              <a:ext cx="12600" cy="475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5" name=""/>
            <p:cNvSpPr/>
            <p:nvPr/>
          </p:nvSpPr>
          <p:spPr>
            <a:xfrm>
              <a:off x="7589880" y="2536920"/>
              <a:ext cx="115920" cy="47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6" name=""/>
            <p:cNvSpPr/>
            <p:nvPr/>
          </p:nvSpPr>
          <p:spPr>
            <a:xfrm>
              <a:off x="7589880" y="2500200"/>
              <a:ext cx="11160" cy="4788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7" name=""/>
            <p:cNvSpPr/>
            <p:nvPr/>
          </p:nvSpPr>
          <p:spPr>
            <a:xfrm>
              <a:off x="7601040" y="2500200"/>
              <a:ext cx="11160" cy="4788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8" name=""/>
            <p:cNvSpPr/>
            <p:nvPr/>
          </p:nvSpPr>
          <p:spPr>
            <a:xfrm>
              <a:off x="7612200" y="2500200"/>
              <a:ext cx="10800" cy="4788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9" name=""/>
            <p:cNvSpPr/>
            <p:nvPr/>
          </p:nvSpPr>
          <p:spPr>
            <a:xfrm>
              <a:off x="7623000" y="2500200"/>
              <a:ext cx="12960" cy="4788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0" name=""/>
            <p:cNvSpPr/>
            <p:nvPr/>
          </p:nvSpPr>
          <p:spPr>
            <a:xfrm>
              <a:off x="7635960" y="2500200"/>
              <a:ext cx="11160" cy="4788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1" name=""/>
            <p:cNvSpPr/>
            <p:nvPr/>
          </p:nvSpPr>
          <p:spPr>
            <a:xfrm>
              <a:off x="7647120" y="2500200"/>
              <a:ext cx="11160" cy="4788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2" name=""/>
          <p:cNvGrpSpPr/>
          <p:nvPr/>
        </p:nvGrpSpPr>
        <p:grpSpPr>
          <a:xfrm>
            <a:off x="7589880" y="2344680"/>
            <a:ext cx="695160" cy="3030480"/>
            <a:chOff x="7589880" y="2344680"/>
            <a:chExt cx="695160" cy="3030480"/>
          </a:xfrm>
        </p:grpSpPr>
        <p:sp>
          <p:nvSpPr>
            <p:cNvPr id="6333" name=""/>
            <p:cNvSpPr/>
            <p:nvPr/>
          </p:nvSpPr>
          <p:spPr>
            <a:xfrm>
              <a:off x="7658280" y="2500200"/>
              <a:ext cx="12600" cy="4788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4" name=""/>
            <p:cNvSpPr/>
            <p:nvPr/>
          </p:nvSpPr>
          <p:spPr>
            <a:xfrm>
              <a:off x="7670880" y="2500200"/>
              <a:ext cx="11160" cy="4788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5" name=""/>
            <p:cNvSpPr/>
            <p:nvPr/>
          </p:nvSpPr>
          <p:spPr>
            <a:xfrm>
              <a:off x="7682040" y="2500200"/>
              <a:ext cx="11160" cy="4788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6" name=""/>
            <p:cNvSpPr/>
            <p:nvPr/>
          </p:nvSpPr>
          <p:spPr>
            <a:xfrm>
              <a:off x="7693200" y="2500200"/>
              <a:ext cx="12600" cy="4788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7705800" y="2500200"/>
              <a:ext cx="11160" cy="4788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7716960" y="2500200"/>
              <a:ext cx="11160" cy="4788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7728120" y="2500200"/>
              <a:ext cx="12600" cy="4788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7740720" y="2500200"/>
              <a:ext cx="11160" cy="4788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7589880" y="2500200"/>
              <a:ext cx="150840" cy="3672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73" y="23"/>
                  </a:moveTo>
                  <a:lnTo>
                    <a:pt x="95" y="0"/>
                  </a:lnTo>
                  <a:lnTo>
                    <a:pt x="21" y="0"/>
                  </a:lnTo>
                  <a:lnTo>
                    <a:pt x="0" y="23"/>
                  </a:lnTo>
                  <a:lnTo>
                    <a:pt x="73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2" name=""/>
            <p:cNvSpPr/>
            <p:nvPr/>
          </p:nvSpPr>
          <p:spPr>
            <a:xfrm>
              <a:off x="7972560" y="3371760"/>
              <a:ext cx="10800" cy="20034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7983360" y="3371760"/>
              <a:ext cx="11160" cy="20034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4" name=""/>
            <p:cNvSpPr/>
            <p:nvPr/>
          </p:nvSpPr>
          <p:spPr>
            <a:xfrm>
              <a:off x="7994520" y="3371760"/>
              <a:ext cx="12960" cy="20034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8007480" y="3371760"/>
              <a:ext cx="11160" cy="20034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7972560" y="3371760"/>
              <a:ext cx="34920" cy="1992240"/>
            </a:xfrm>
            <a:custGeom>
              <a:avLst/>
              <a:gdLst/>
              <a:ahLst/>
              <a:rect l="l" t="t" r="r" b="b"/>
              <a:pathLst>
                <a:path w="22" h="1255">
                  <a:moveTo>
                    <a:pt x="0" y="1255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1240"/>
                  </a:lnTo>
                  <a:lnTo>
                    <a:pt x="0" y="125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7856640" y="3406680"/>
              <a:ext cx="11160" cy="195732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7867800" y="3406680"/>
              <a:ext cx="10800" cy="195732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7878600" y="3406680"/>
              <a:ext cx="12960" cy="195732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0" name=""/>
            <p:cNvSpPr/>
            <p:nvPr/>
          </p:nvSpPr>
          <p:spPr>
            <a:xfrm>
              <a:off x="7891560" y="3406680"/>
              <a:ext cx="11160" cy="195732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1" name=""/>
            <p:cNvSpPr/>
            <p:nvPr/>
          </p:nvSpPr>
          <p:spPr>
            <a:xfrm>
              <a:off x="7902720" y="3406680"/>
              <a:ext cx="10800" cy="19573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2" name=""/>
            <p:cNvSpPr/>
            <p:nvPr/>
          </p:nvSpPr>
          <p:spPr>
            <a:xfrm>
              <a:off x="7913520" y="3406680"/>
              <a:ext cx="11160" cy="19573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3" name=""/>
            <p:cNvSpPr/>
            <p:nvPr/>
          </p:nvSpPr>
          <p:spPr>
            <a:xfrm>
              <a:off x="7924680" y="3406680"/>
              <a:ext cx="12960" cy="195732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7937640" y="3406680"/>
              <a:ext cx="10800" cy="195732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5" name=""/>
            <p:cNvSpPr/>
            <p:nvPr/>
          </p:nvSpPr>
          <p:spPr>
            <a:xfrm>
              <a:off x="7948440" y="3406680"/>
              <a:ext cx="11160" cy="195732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7959600" y="3406680"/>
              <a:ext cx="12960" cy="19573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7" name=""/>
            <p:cNvSpPr/>
            <p:nvPr/>
          </p:nvSpPr>
          <p:spPr>
            <a:xfrm>
              <a:off x="7856640" y="3406680"/>
              <a:ext cx="115920" cy="19573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8" name=""/>
            <p:cNvSpPr/>
            <p:nvPr/>
          </p:nvSpPr>
          <p:spPr>
            <a:xfrm>
              <a:off x="7856640" y="3371760"/>
              <a:ext cx="11160" cy="4788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9" name=""/>
            <p:cNvSpPr/>
            <p:nvPr/>
          </p:nvSpPr>
          <p:spPr>
            <a:xfrm>
              <a:off x="7867800" y="3371760"/>
              <a:ext cx="10800" cy="4788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0" name=""/>
            <p:cNvSpPr/>
            <p:nvPr/>
          </p:nvSpPr>
          <p:spPr>
            <a:xfrm>
              <a:off x="7878600" y="3371760"/>
              <a:ext cx="12960" cy="4788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1" name=""/>
            <p:cNvSpPr/>
            <p:nvPr/>
          </p:nvSpPr>
          <p:spPr>
            <a:xfrm>
              <a:off x="7891560" y="3371760"/>
              <a:ext cx="11160" cy="4788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2" name=""/>
            <p:cNvSpPr/>
            <p:nvPr/>
          </p:nvSpPr>
          <p:spPr>
            <a:xfrm>
              <a:off x="7902720" y="3371760"/>
              <a:ext cx="10800" cy="4788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3" name=""/>
            <p:cNvSpPr/>
            <p:nvPr/>
          </p:nvSpPr>
          <p:spPr>
            <a:xfrm>
              <a:off x="7913520" y="3371760"/>
              <a:ext cx="11160" cy="4788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4" name=""/>
            <p:cNvSpPr/>
            <p:nvPr/>
          </p:nvSpPr>
          <p:spPr>
            <a:xfrm>
              <a:off x="7924680" y="3371760"/>
              <a:ext cx="1296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5" name=""/>
            <p:cNvSpPr/>
            <p:nvPr/>
          </p:nvSpPr>
          <p:spPr>
            <a:xfrm>
              <a:off x="7937640" y="3371760"/>
              <a:ext cx="1080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6" name=""/>
            <p:cNvSpPr/>
            <p:nvPr/>
          </p:nvSpPr>
          <p:spPr>
            <a:xfrm>
              <a:off x="7948440" y="3371760"/>
              <a:ext cx="11160" cy="4788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7" name=""/>
            <p:cNvSpPr/>
            <p:nvPr/>
          </p:nvSpPr>
          <p:spPr>
            <a:xfrm>
              <a:off x="7959600" y="3371760"/>
              <a:ext cx="12960" cy="4788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8" name=""/>
            <p:cNvSpPr/>
            <p:nvPr/>
          </p:nvSpPr>
          <p:spPr>
            <a:xfrm>
              <a:off x="7972560" y="3371760"/>
              <a:ext cx="10800" cy="4788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9" name=""/>
            <p:cNvSpPr/>
            <p:nvPr/>
          </p:nvSpPr>
          <p:spPr>
            <a:xfrm>
              <a:off x="7983360" y="3371760"/>
              <a:ext cx="11160" cy="4788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0" name=""/>
            <p:cNvSpPr/>
            <p:nvPr/>
          </p:nvSpPr>
          <p:spPr>
            <a:xfrm>
              <a:off x="7994520" y="3371760"/>
              <a:ext cx="12960" cy="4788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1" name=""/>
            <p:cNvSpPr/>
            <p:nvPr/>
          </p:nvSpPr>
          <p:spPr>
            <a:xfrm>
              <a:off x="8007480" y="3371760"/>
              <a:ext cx="11160" cy="4788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2" name=""/>
            <p:cNvSpPr/>
            <p:nvPr/>
          </p:nvSpPr>
          <p:spPr>
            <a:xfrm>
              <a:off x="7856640" y="3371760"/>
              <a:ext cx="150840" cy="34920"/>
            </a:xfrm>
            <a:custGeom>
              <a:avLst/>
              <a:gdLst/>
              <a:ahLst/>
              <a:rect l="l" t="t" r="r" b="b"/>
              <a:pathLst>
                <a:path w="95" h="22">
                  <a:moveTo>
                    <a:pt x="73" y="22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22"/>
                  </a:lnTo>
                  <a:lnTo>
                    <a:pt x="73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3" name=""/>
            <p:cNvSpPr/>
            <p:nvPr/>
          </p:nvSpPr>
          <p:spPr>
            <a:xfrm>
              <a:off x="7972560" y="2703600"/>
              <a:ext cx="10800" cy="7160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4" name=""/>
            <p:cNvSpPr/>
            <p:nvPr/>
          </p:nvSpPr>
          <p:spPr>
            <a:xfrm>
              <a:off x="7983360" y="2703600"/>
              <a:ext cx="11160" cy="7160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5" name=""/>
            <p:cNvSpPr/>
            <p:nvPr/>
          </p:nvSpPr>
          <p:spPr>
            <a:xfrm>
              <a:off x="7994520" y="2703600"/>
              <a:ext cx="12960" cy="7160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8007480" y="2703600"/>
              <a:ext cx="11160" cy="7160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7" name=""/>
            <p:cNvSpPr/>
            <p:nvPr/>
          </p:nvSpPr>
          <p:spPr>
            <a:xfrm>
              <a:off x="7972560" y="2703600"/>
              <a:ext cx="34920" cy="703080"/>
            </a:xfrm>
            <a:custGeom>
              <a:avLst/>
              <a:gdLst/>
              <a:ahLst/>
              <a:rect l="l" t="t" r="r" b="b"/>
              <a:pathLst>
                <a:path w="22" h="443">
                  <a:moveTo>
                    <a:pt x="0" y="44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21"/>
                  </a:lnTo>
                  <a:lnTo>
                    <a:pt x="0" y="44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8" name=""/>
            <p:cNvSpPr/>
            <p:nvPr/>
          </p:nvSpPr>
          <p:spPr>
            <a:xfrm>
              <a:off x="7856640" y="2727360"/>
              <a:ext cx="11160" cy="67932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9" name=""/>
            <p:cNvSpPr/>
            <p:nvPr/>
          </p:nvSpPr>
          <p:spPr>
            <a:xfrm>
              <a:off x="7867800" y="2727360"/>
              <a:ext cx="10800" cy="67932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7878600" y="2727360"/>
              <a:ext cx="12960" cy="67932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1" name=""/>
            <p:cNvSpPr/>
            <p:nvPr/>
          </p:nvSpPr>
          <p:spPr>
            <a:xfrm>
              <a:off x="7891560" y="2727360"/>
              <a:ext cx="11160" cy="67932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2" name=""/>
            <p:cNvSpPr/>
            <p:nvPr/>
          </p:nvSpPr>
          <p:spPr>
            <a:xfrm>
              <a:off x="7902720" y="2727360"/>
              <a:ext cx="10800" cy="6793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3" name=""/>
            <p:cNvSpPr/>
            <p:nvPr/>
          </p:nvSpPr>
          <p:spPr>
            <a:xfrm>
              <a:off x="7913520" y="2727360"/>
              <a:ext cx="11160" cy="6793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4" name=""/>
            <p:cNvSpPr/>
            <p:nvPr/>
          </p:nvSpPr>
          <p:spPr>
            <a:xfrm>
              <a:off x="7924680" y="2727360"/>
              <a:ext cx="12960" cy="67932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5" name=""/>
            <p:cNvSpPr/>
            <p:nvPr/>
          </p:nvSpPr>
          <p:spPr>
            <a:xfrm>
              <a:off x="7937640" y="2727360"/>
              <a:ext cx="10800" cy="67932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6" name=""/>
            <p:cNvSpPr/>
            <p:nvPr/>
          </p:nvSpPr>
          <p:spPr>
            <a:xfrm>
              <a:off x="7948440" y="2727360"/>
              <a:ext cx="11160" cy="67932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7" name=""/>
            <p:cNvSpPr/>
            <p:nvPr/>
          </p:nvSpPr>
          <p:spPr>
            <a:xfrm>
              <a:off x="7959600" y="2727360"/>
              <a:ext cx="12960" cy="679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8" name=""/>
            <p:cNvSpPr/>
            <p:nvPr/>
          </p:nvSpPr>
          <p:spPr>
            <a:xfrm>
              <a:off x="7856640" y="2727360"/>
              <a:ext cx="115920" cy="6793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9" name=""/>
            <p:cNvSpPr/>
            <p:nvPr/>
          </p:nvSpPr>
          <p:spPr>
            <a:xfrm>
              <a:off x="7856640" y="2703600"/>
              <a:ext cx="11160" cy="349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0" name=""/>
            <p:cNvSpPr/>
            <p:nvPr/>
          </p:nvSpPr>
          <p:spPr>
            <a:xfrm>
              <a:off x="7867800" y="2703600"/>
              <a:ext cx="10800" cy="349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1" name=""/>
            <p:cNvSpPr/>
            <p:nvPr/>
          </p:nvSpPr>
          <p:spPr>
            <a:xfrm>
              <a:off x="7878600" y="2703600"/>
              <a:ext cx="12960" cy="349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2" name=""/>
            <p:cNvSpPr/>
            <p:nvPr/>
          </p:nvSpPr>
          <p:spPr>
            <a:xfrm>
              <a:off x="7891560" y="2703600"/>
              <a:ext cx="11160" cy="349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3" name=""/>
            <p:cNvSpPr/>
            <p:nvPr/>
          </p:nvSpPr>
          <p:spPr>
            <a:xfrm>
              <a:off x="7902720" y="2703600"/>
              <a:ext cx="10800" cy="349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4" name=""/>
            <p:cNvSpPr/>
            <p:nvPr/>
          </p:nvSpPr>
          <p:spPr>
            <a:xfrm>
              <a:off x="7913520" y="2703600"/>
              <a:ext cx="11160" cy="349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5" name=""/>
            <p:cNvSpPr/>
            <p:nvPr/>
          </p:nvSpPr>
          <p:spPr>
            <a:xfrm>
              <a:off x="7924680" y="2703600"/>
              <a:ext cx="129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6" name=""/>
            <p:cNvSpPr/>
            <p:nvPr/>
          </p:nvSpPr>
          <p:spPr>
            <a:xfrm>
              <a:off x="7937640" y="2703600"/>
              <a:ext cx="1080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7" name=""/>
            <p:cNvSpPr/>
            <p:nvPr/>
          </p:nvSpPr>
          <p:spPr>
            <a:xfrm>
              <a:off x="7948440" y="2703600"/>
              <a:ext cx="11160" cy="349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8" name=""/>
            <p:cNvSpPr/>
            <p:nvPr/>
          </p:nvSpPr>
          <p:spPr>
            <a:xfrm>
              <a:off x="7959600" y="2703600"/>
              <a:ext cx="12960" cy="349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9" name=""/>
            <p:cNvSpPr/>
            <p:nvPr/>
          </p:nvSpPr>
          <p:spPr>
            <a:xfrm>
              <a:off x="7972560" y="2703600"/>
              <a:ext cx="10800" cy="349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0" name=""/>
            <p:cNvSpPr/>
            <p:nvPr/>
          </p:nvSpPr>
          <p:spPr>
            <a:xfrm>
              <a:off x="7983360" y="2703600"/>
              <a:ext cx="11160" cy="349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1" name=""/>
            <p:cNvSpPr/>
            <p:nvPr/>
          </p:nvSpPr>
          <p:spPr>
            <a:xfrm>
              <a:off x="7994520" y="2703600"/>
              <a:ext cx="12960" cy="349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2" name=""/>
            <p:cNvSpPr/>
            <p:nvPr/>
          </p:nvSpPr>
          <p:spPr>
            <a:xfrm>
              <a:off x="8007480" y="2703600"/>
              <a:ext cx="1116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3" name=""/>
            <p:cNvSpPr/>
            <p:nvPr/>
          </p:nvSpPr>
          <p:spPr>
            <a:xfrm>
              <a:off x="7856640" y="270360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4" name=""/>
            <p:cNvSpPr/>
            <p:nvPr/>
          </p:nvSpPr>
          <p:spPr>
            <a:xfrm>
              <a:off x="7972560" y="2452680"/>
              <a:ext cx="10800" cy="2858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7983360" y="2452680"/>
              <a:ext cx="11160" cy="285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6" name=""/>
            <p:cNvSpPr/>
            <p:nvPr/>
          </p:nvSpPr>
          <p:spPr>
            <a:xfrm>
              <a:off x="7994520" y="2452680"/>
              <a:ext cx="12960" cy="285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7" name=""/>
            <p:cNvSpPr/>
            <p:nvPr/>
          </p:nvSpPr>
          <p:spPr>
            <a:xfrm>
              <a:off x="8007480" y="2452680"/>
              <a:ext cx="11160" cy="2858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7972560" y="2452680"/>
              <a:ext cx="34920" cy="274680"/>
            </a:xfrm>
            <a:custGeom>
              <a:avLst/>
              <a:gdLst/>
              <a:ahLst/>
              <a:rect l="l" t="t" r="r" b="b"/>
              <a:pathLst>
                <a:path w="22" h="173">
                  <a:moveTo>
                    <a:pt x="0" y="17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8"/>
                  </a:lnTo>
                  <a:lnTo>
                    <a:pt x="0" y="17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7856640" y="2476440"/>
              <a:ext cx="11160" cy="25092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0" name=""/>
            <p:cNvSpPr/>
            <p:nvPr/>
          </p:nvSpPr>
          <p:spPr>
            <a:xfrm>
              <a:off x="7867800" y="2476440"/>
              <a:ext cx="10800" cy="25092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1" name=""/>
            <p:cNvSpPr/>
            <p:nvPr/>
          </p:nvSpPr>
          <p:spPr>
            <a:xfrm>
              <a:off x="7878600" y="2476440"/>
              <a:ext cx="12960" cy="25092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7891560" y="2476440"/>
              <a:ext cx="11160" cy="25092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7902720" y="2476440"/>
              <a:ext cx="10800" cy="2509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7913520" y="2476440"/>
              <a:ext cx="11160" cy="2509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5" name=""/>
            <p:cNvSpPr/>
            <p:nvPr/>
          </p:nvSpPr>
          <p:spPr>
            <a:xfrm>
              <a:off x="7924680" y="2476440"/>
              <a:ext cx="12960" cy="25092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7937640" y="2476440"/>
              <a:ext cx="10800" cy="25092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7" name=""/>
            <p:cNvSpPr/>
            <p:nvPr/>
          </p:nvSpPr>
          <p:spPr>
            <a:xfrm>
              <a:off x="7948440" y="2476440"/>
              <a:ext cx="11160" cy="25092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8" name=""/>
            <p:cNvSpPr/>
            <p:nvPr/>
          </p:nvSpPr>
          <p:spPr>
            <a:xfrm>
              <a:off x="7959600" y="2476440"/>
              <a:ext cx="12960" cy="2509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9" name=""/>
            <p:cNvSpPr/>
            <p:nvPr/>
          </p:nvSpPr>
          <p:spPr>
            <a:xfrm>
              <a:off x="7856640" y="2476440"/>
              <a:ext cx="115920" cy="250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0" name=""/>
            <p:cNvSpPr/>
            <p:nvPr/>
          </p:nvSpPr>
          <p:spPr>
            <a:xfrm>
              <a:off x="7856640" y="2452680"/>
              <a:ext cx="11160" cy="349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1" name=""/>
            <p:cNvSpPr/>
            <p:nvPr/>
          </p:nvSpPr>
          <p:spPr>
            <a:xfrm>
              <a:off x="7867800" y="2452680"/>
              <a:ext cx="1080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2" name=""/>
            <p:cNvSpPr/>
            <p:nvPr/>
          </p:nvSpPr>
          <p:spPr>
            <a:xfrm>
              <a:off x="7878600" y="2452680"/>
              <a:ext cx="1296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3" name=""/>
            <p:cNvSpPr/>
            <p:nvPr/>
          </p:nvSpPr>
          <p:spPr>
            <a:xfrm>
              <a:off x="7891560" y="2452680"/>
              <a:ext cx="1116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4" name=""/>
            <p:cNvSpPr/>
            <p:nvPr/>
          </p:nvSpPr>
          <p:spPr>
            <a:xfrm>
              <a:off x="7902720" y="2452680"/>
              <a:ext cx="1080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5" name=""/>
            <p:cNvSpPr/>
            <p:nvPr/>
          </p:nvSpPr>
          <p:spPr>
            <a:xfrm>
              <a:off x="7913520" y="2452680"/>
              <a:ext cx="1116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6" name=""/>
            <p:cNvSpPr/>
            <p:nvPr/>
          </p:nvSpPr>
          <p:spPr>
            <a:xfrm>
              <a:off x="7924680" y="2452680"/>
              <a:ext cx="129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7" name=""/>
            <p:cNvSpPr/>
            <p:nvPr/>
          </p:nvSpPr>
          <p:spPr>
            <a:xfrm>
              <a:off x="7937640" y="2452680"/>
              <a:ext cx="1080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8" name=""/>
            <p:cNvSpPr/>
            <p:nvPr/>
          </p:nvSpPr>
          <p:spPr>
            <a:xfrm>
              <a:off x="7948440" y="2452680"/>
              <a:ext cx="1116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9" name=""/>
            <p:cNvSpPr/>
            <p:nvPr/>
          </p:nvSpPr>
          <p:spPr>
            <a:xfrm>
              <a:off x="7959600" y="2452680"/>
              <a:ext cx="1296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0" name=""/>
            <p:cNvSpPr/>
            <p:nvPr/>
          </p:nvSpPr>
          <p:spPr>
            <a:xfrm>
              <a:off x="7972560" y="2452680"/>
              <a:ext cx="1080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1" name=""/>
            <p:cNvSpPr/>
            <p:nvPr/>
          </p:nvSpPr>
          <p:spPr>
            <a:xfrm>
              <a:off x="7983360" y="2452680"/>
              <a:ext cx="1116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2" name=""/>
            <p:cNvSpPr/>
            <p:nvPr/>
          </p:nvSpPr>
          <p:spPr>
            <a:xfrm>
              <a:off x="7994520" y="2452680"/>
              <a:ext cx="1296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3" name=""/>
            <p:cNvSpPr/>
            <p:nvPr/>
          </p:nvSpPr>
          <p:spPr>
            <a:xfrm>
              <a:off x="8007480" y="2452680"/>
              <a:ext cx="1116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4" name=""/>
            <p:cNvSpPr/>
            <p:nvPr/>
          </p:nvSpPr>
          <p:spPr>
            <a:xfrm>
              <a:off x="7856640" y="245268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5" name=""/>
            <p:cNvSpPr/>
            <p:nvPr/>
          </p:nvSpPr>
          <p:spPr>
            <a:xfrm>
              <a:off x="7972560" y="2381400"/>
              <a:ext cx="10800" cy="1062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6" name=""/>
            <p:cNvSpPr/>
            <p:nvPr/>
          </p:nvSpPr>
          <p:spPr>
            <a:xfrm>
              <a:off x="7983360" y="2381400"/>
              <a:ext cx="1116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7" name=""/>
            <p:cNvSpPr/>
            <p:nvPr/>
          </p:nvSpPr>
          <p:spPr>
            <a:xfrm>
              <a:off x="7994520" y="2381400"/>
              <a:ext cx="1296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8" name=""/>
            <p:cNvSpPr/>
            <p:nvPr/>
          </p:nvSpPr>
          <p:spPr>
            <a:xfrm>
              <a:off x="8007480" y="2381400"/>
              <a:ext cx="11160" cy="1062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9" name=""/>
            <p:cNvSpPr/>
            <p:nvPr/>
          </p:nvSpPr>
          <p:spPr>
            <a:xfrm>
              <a:off x="7972560" y="238140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7856640" y="2405160"/>
              <a:ext cx="11160" cy="71280"/>
            </a:xfrm>
            <a:prstGeom prst="rect">
              <a:avLst/>
            </a:prstGeom>
            <a:solidFill>
              <a:srgbClr val="ffff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1" name=""/>
            <p:cNvSpPr/>
            <p:nvPr/>
          </p:nvSpPr>
          <p:spPr>
            <a:xfrm>
              <a:off x="7867800" y="2405160"/>
              <a:ext cx="10800" cy="712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2" name=""/>
            <p:cNvSpPr/>
            <p:nvPr/>
          </p:nvSpPr>
          <p:spPr>
            <a:xfrm>
              <a:off x="7878600" y="2405160"/>
              <a:ext cx="12960" cy="71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3" name=""/>
            <p:cNvSpPr/>
            <p:nvPr/>
          </p:nvSpPr>
          <p:spPr>
            <a:xfrm>
              <a:off x="7891560" y="2405160"/>
              <a:ext cx="11160" cy="712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4" name=""/>
            <p:cNvSpPr/>
            <p:nvPr/>
          </p:nvSpPr>
          <p:spPr>
            <a:xfrm>
              <a:off x="7902720" y="2405160"/>
              <a:ext cx="10800" cy="712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5" name=""/>
            <p:cNvSpPr/>
            <p:nvPr/>
          </p:nvSpPr>
          <p:spPr>
            <a:xfrm>
              <a:off x="7913520" y="2405160"/>
              <a:ext cx="11160" cy="712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6" name=""/>
            <p:cNvSpPr/>
            <p:nvPr/>
          </p:nvSpPr>
          <p:spPr>
            <a:xfrm>
              <a:off x="7924680" y="2405160"/>
              <a:ext cx="12960" cy="712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7" name=""/>
            <p:cNvSpPr/>
            <p:nvPr/>
          </p:nvSpPr>
          <p:spPr>
            <a:xfrm>
              <a:off x="7937640" y="2405160"/>
              <a:ext cx="10800" cy="71280"/>
            </a:xfrm>
            <a:prstGeom prst="rect">
              <a:avLst/>
            </a:prstGeom>
            <a:solidFill>
              <a:srgbClr val="fff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8" name=""/>
            <p:cNvSpPr/>
            <p:nvPr/>
          </p:nvSpPr>
          <p:spPr>
            <a:xfrm>
              <a:off x="7948440" y="2405160"/>
              <a:ext cx="11160" cy="712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9" name=""/>
            <p:cNvSpPr/>
            <p:nvPr/>
          </p:nvSpPr>
          <p:spPr>
            <a:xfrm>
              <a:off x="7959600" y="2405160"/>
              <a:ext cx="12960" cy="71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0" name=""/>
            <p:cNvSpPr/>
            <p:nvPr/>
          </p:nvSpPr>
          <p:spPr>
            <a:xfrm>
              <a:off x="7856640" y="2405160"/>
              <a:ext cx="115920" cy="71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1" name=""/>
            <p:cNvSpPr/>
            <p:nvPr/>
          </p:nvSpPr>
          <p:spPr>
            <a:xfrm>
              <a:off x="7856640" y="2381400"/>
              <a:ext cx="11160" cy="349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2" name=""/>
            <p:cNvSpPr/>
            <p:nvPr/>
          </p:nvSpPr>
          <p:spPr>
            <a:xfrm>
              <a:off x="7867800" y="2381400"/>
              <a:ext cx="1080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3" name=""/>
            <p:cNvSpPr/>
            <p:nvPr/>
          </p:nvSpPr>
          <p:spPr>
            <a:xfrm>
              <a:off x="7878600" y="2381400"/>
              <a:ext cx="1296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4" name=""/>
            <p:cNvSpPr/>
            <p:nvPr/>
          </p:nvSpPr>
          <p:spPr>
            <a:xfrm>
              <a:off x="7891560" y="2381400"/>
              <a:ext cx="1116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5" name=""/>
            <p:cNvSpPr/>
            <p:nvPr/>
          </p:nvSpPr>
          <p:spPr>
            <a:xfrm>
              <a:off x="7902720" y="2381400"/>
              <a:ext cx="1080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6" name=""/>
            <p:cNvSpPr/>
            <p:nvPr/>
          </p:nvSpPr>
          <p:spPr>
            <a:xfrm>
              <a:off x="7913520" y="2381400"/>
              <a:ext cx="111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7" name=""/>
            <p:cNvSpPr/>
            <p:nvPr/>
          </p:nvSpPr>
          <p:spPr>
            <a:xfrm>
              <a:off x="7924680" y="2381400"/>
              <a:ext cx="1296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8" name=""/>
            <p:cNvSpPr/>
            <p:nvPr/>
          </p:nvSpPr>
          <p:spPr>
            <a:xfrm>
              <a:off x="7937640" y="2381400"/>
              <a:ext cx="1080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9" name=""/>
            <p:cNvSpPr/>
            <p:nvPr/>
          </p:nvSpPr>
          <p:spPr>
            <a:xfrm>
              <a:off x="7948440" y="2381400"/>
              <a:ext cx="111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0" name=""/>
            <p:cNvSpPr/>
            <p:nvPr/>
          </p:nvSpPr>
          <p:spPr>
            <a:xfrm>
              <a:off x="7959600" y="2381400"/>
              <a:ext cx="1296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1" name=""/>
            <p:cNvSpPr/>
            <p:nvPr/>
          </p:nvSpPr>
          <p:spPr>
            <a:xfrm>
              <a:off x="7972560" y="2381400"/>
              <a:ext cx="1080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2" name=""/>
            <p:cNvSpPr/>
            <p:nvPr/>
          </p:nvSpPr>
          <p:spPr>
            <a:xfrm>
              <a:off x="7983360" y="2381400"/>
              <a:ext cx="1116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3" name=""/>
            <p:cNvSpPr/>
            <p:nvPr/>
          </p:nvSpPr>
          <p:spPr>
            <a:xfrm>
              <a:off x="7994520" y="2381400"/>
              <a:ext cx="1296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4" name=""/>
            <p:cNvSpPr/>
            <p:nvPr/>
          </p:nvSpPr>
          <p:spPr>
            <a:xfrm>
              <a:off x="8007480" y="2381400"/>
              <a:ext cx="11160" cy="349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5" name=""/>
            <p:cNvSpPr/>
            <p:nvPr/>
          </p:nvSpPr>
          <p:spPr>
            <a:xfrm>
              <a:off x="7856640" y="238140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6" name=""/>
            <p:cNvSpPr/>
            <p:nvPr/>
          </p:nvSpPr>
          <p:spPr>
            <a:xfrm>
              <a:off x="7972560" y="2344680"/>
              <a:ext cx="10800" cy="716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7" name=""/>
            <p:cNvSpPr/>
            <p:nvPr/>
          </p:nvSpPr>
          <p:spPr>
            <a:xfrm>
              <a:off x="7983360" y="2344680"/>
              <a:ext cx="1116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8" name=""/>
            <p:cNvSpPr/>
            <p:nvPr/>
          </p:nvSpPr>
          <p:spPr>
            <a:xfrm>
              <a:off x="7994520" y="2344680"/>
              <a:ext cx="1296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8007480" y="2344680"/>
              <a:ext cx="11160" cy="716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7972560" y="234468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3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1" name=""/>
            <p:cNvSpPr/>
            <p:nvPr/>
          </p:nvSpPr>
          <p:spPr>
            <a:xfrm>
              <a:off x="7856640" y="2368440"/>
              <a:ext cx="11160" cy="3672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2" name=""/>
            <p:cNvSpPr/>
            <p:nvPr/>
          </p:nvSpPr>
          <p:spPr>
            <a:xfrm>
              <a:off x="7867800" y="2368440"/>
              <a:ext cx="10800" cy="3672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3" name=""/>
            <p:cNvSpPr/>
            <p:nvPr/>
          </p:nvSpPr>
          <p:spPr>
            <a:xfrm>
              <a:off x="7878600" y="2368440"/>
              <a:ext cx="12960" cy="3672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4" name=""/>
            <p:cNvSpPr/>
            <p:nvPr/>
          </p:nvSpPr>
          <p:spPr>
            <a:xfrm>
              <a:off x="7891560" y="2368440"/>
              <a:ext cx="11160" cy="3672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5" name=""/>
            <p:cNvSpPr/>
            <p:nvPr/>
          </p:nvSpPr>
          <p:spPr>
            <a:xfrm>
              <a:off x="7902720" y="2368440"/>
              <a:ext cx="10800" cy="367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6" name=""/>
            <p:cNvSpPr/>
            <p:nvPr/>
          </p:nvSpPr>
          <p:spPr>
            <a:xfrm>
              <a:off x="7913520" y="2368440"/>
              <a:ext cx="11160" cy="367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7" name=""/>
            <p:cNvSpPr/>
            <p:nvPr/>
          </p:nvSpPr>
          <p:spPr>
            <a:xfrm>
              <a:off x="7924680" y="2368440"/>
              <a:ext cx="12960" cy="3672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8" name=""/>
            <p:cNvSpPr/>
            <p:nvPr/>
          </p:nvSpPr>
          <p:spPr>
            <a:xfrm>
              <a:off x="7937640" y="2368440"/>
              <a:ext cx="10800" cy="3672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9" name=""/>
            <p:cNvSpPr/>
            <p:nvPr/>
          </p:nvSpPr>
          <p:spPr>
            <a:xfrm>
              <a:off x="7948440" y="2368440"/>
              <a:ext cx="11160" cy="3672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0" name=""/>
            <p:cNvSpPr/>
            <p:nvPr/>
          </p:nvSpPr>
          <p:spPr>
            <a:xfrm>
              <a:off x="7959600" y="2368440"/>
              <a:ext cx="12960" cy="36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1" name=""/>
            <p:cNvSpPr/>
            <p:nvPr/>
          </p:nvSpPr>
          <p:spPr>
            <a:xfrm>
              <a:off x="7856640" y="2368440"/>
              <a:ext cx="11592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2" name=""/>
            <p:cNvSpPr/>
            <p:nvPr/>
          </p:nvSpPr>
          <p:spPr>
            <a:xfrm>
              <a:off x="7856640" y="2344680"/>
              <a:ext cx="11160" cy="3672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3" name=""/>
            <p:cNvSpPr/>
            <p:nvPr/>
          </p:nvSpPr>
          <p:spPr>
            <a:xfrm>
              <a:off x="7867800" y="2344680"/>
              <a:ext cx="10800" cy="367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4" name=""/>
            <p:cNvSpPr/>
            <p:nvPr/>
          </p:nvSpPr>
          <p:spPr>
            <a:xfrm>
              <a:off x="7878600" y="2344680"/>
              <a:ext cx="12960" cy="367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5" name=""/>
            <p:cNvSpPr/>
            <p:nvPr/>
          </p:nvSpPr>
          <p:spPr>
            <a:xfrm>
              <a:off x="7891560" y="2344680"/>
              <a:ext cx="11160" cy="3672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6" name=""/>
            <p:cNvSpPr/>
            <p:nvPr/>
          </p:nvSpPr>
          <p:spPr>
            <a:xfrm>
              <a:off x="7902720" y="2344680"/>
              <a:ext cx="10800" cy="367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7" name=""/>
            <p:cNvSpPr/>
            <p:nvPr/>
          </p:nvSpPr>
          <p:spPr>
            <a:xfrm>
              <a:off x="7913520" y="2344680"/>
              <a:ext cx="11160" cy="367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8" name=""/>
            <p:cNvSpPr/>
            <p:nvPr/>
          </p:nvSpPr>
          <p:spPr>
            <a:xfrm>
              <a:off x="7924680" y="2344680"/>
              <a:ext cx="1296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9" name=""/>
            <p:cNvSpPr/>
            <p:nvPr/>
          </p:nvSpPr>
          <p:spPr>
            <a:xfrm>
              <a:off x="7937640" y="2344680"/>
              <a:ext cx="1080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0" name=""/>
            <p:cNvSpPr/>
            <p:nvPr/>
          </p:nvSpPr>
          <p:spPr>
            <a:xfrm>
              <a:off x="7948440" y="2344680"/>
              <a:ext cx="11160" cy="367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1" name=""/>
            <p:cNvSpPr/>
            <p:nvPr/>
          </p:nvSpPr>
          <p:spPr>
            <a:xfrm>
              <a:off x="7959600" y="2344680"/>
              <a:ext cx="12960" cy="367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2" name=""/>
            <p:cNvSpPr/>
            <p:nvPr/>
          </p:nvSpPr>
          <p:spPr>
            <a:xfrm>
              <a:off x="7972560" y="2344680"/>
              <a:ext cx="10800" cy="3672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3" name=""/>
            <p:cNvSpPr/>
            <p:nvPr/>
          </p:nvSpPr>
          <p:spPr>
            <a:xfrm>
              <a:off x="7983360" y="2344680"/>
              <a:ext cx="11160" cy="367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4" name=""/>
            <p:cNvSpPr/>
            <p:nvPr/>
          </p:nvSpPr>
          <p:spPr>
            <a:xfrm>
              <a:off x="7994520" y="2344680"/>
              <a:ext cx="12960" cy="367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5" name=""/>
            <p:cNvSpPr/>
            <p:nvPr/>
          </p:nvSpPr>
          <p:spPr>
            <a:xfrm>
              <a:off x="8007480" y="2344680"/>
              <a:ext cx="11160" cy="367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6" name=""/>
            <p:cNvSpPr/>
            <p:nvPr/>
          </p:nvSpPr>
          <p:spPr>
            <a:xfrm>
              <a:off x="7856640" y="2344680"/>
              <a:ext cx="15084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7" name=""/>
            <p:cNvSpPr/>
            <p:nvPr/>
          </p:nvSpPr>
          <p:spPr>
            <a:xfrm>
              <a:off x="8238960" y="3395520"/>
              <a:ext cx="11160" cy="19796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8" name=""/>
            <p:cNvSpPr/>
            <p:nvPr/>
          </p:nvSpPr>
          <p:spPr>
            <a:xfrm>
              <a:off x="8250120" y="3395520"/>
              <a:ext cx="11160" cy="19796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9" name=""/>
            <p:cNvSpPr/>
            <p:nvPr/>
          </p:nvSpPr>
          <p:spPr>
            <a:xfrm>
              <a:off x="8261280" y="3395520"/>
              <a:ext cx="12600" cy="19796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0" name=""/>
            <p:cNvSpPr/>
            <p:nvPr/>
          </p:nvSpPr>
          <p:spPr>
            <a:xfrm>
              <a:off x="8273880" y="3395520"/>
              <a:ext cx="11160" cy="19796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1" name=""/>
            <p:cNvSpPr/>
            <p:nvPr/>
          </p:nvSpPr>
          <p:spPr>
            <a:xfrm>
              <a:off x="8238960" y="3395520"/>
              <a:ext cx="34920" cy="1968480"/>
            </a:xfrm>
            <a:custGeom>
              <a:avLst/>
              <a:gdLst/>
              <a:ahLst/>
              <a:rect l="l" t="t" r="r" b="b"/>
              <a:pathLst>
                <a:path w="22" h="1240">
                  <a:moveTo>
                    <a:pt x="0" y="1240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1225"/>
                  </a:lnTo>
                  <a:lnTo>
                    <a:pt x="0" y="124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2" name=""/>
            <p:cNvSpPr/>
            <p:nvPr/>
          </p:nvSpPr>
          <p:spPr>
            <a:xfrm>
              <a:off x="8123400" y="3430440"/>
              <a:ext cx="10800" cy="193356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3" name=""/>
            <p:cNvSpPr/>
            <p:nvPr/>
          </p:nvSpPr>
          <p:spPr>
            <a:xfrm>
              <a:off x="8134200" y="3430440"/>
              <a:ext cx="11160" cy="193356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4" name=""/>
            <p:cNvSpPr/>
            <p:nvPr/>
          </p:nvSpPr>
          <p:spPr>
            <a:xfrm>
              <a:off x="8145360" y="3430440"/>
              <a:ext cx="12960" cy="193356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5" name=""/>
            <p:cNvSpPr/>
            <p:nvPr/>
          </p:nvSpPr>
          <p:spPr>
            <a:xfrm>
              <a:off x="8158320" y="3430440"/>
              <a:ext cx="10800" cy="193356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6" name=""/>
            <p:cNvSpPr/>
            <p:nvPr/>
          </p:nvSpPr>
          <p:spPr>
            <a:xfrm>
              <a:off x="8169120" y="3430440"/>
              <a:ext cx="11160" cy="1933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7" name=""/>
            <p:cNvSpPr/>
            <p:nvPr/>
          </p:nvSpPr>
          <p:spPr>
            <a:xfrm>
              <a:off x="8180280" y="3430440"/>
              <a:ext cx="12960" cy="1933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8" name=""/>
            <p:cNvSpPr/>
            <p:nvPr/>
          </p:nvSpPr>
          <p:spPr>
            <a:xfrm>
              <a:off x="8193240" y="3430440"/>
              <a:ext cx="10800" cy="193356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9" name=""/>
            <p:cNvSpPr/>
            <p:nvPr/>
          </p:nvSpPr>
          <p:spPr>
            <a:xfrm>
              <a:off x="8204040" y="3430440"/>
              <a:ext cx="11160" cy="193356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0" name=""/>
            <p:cNvSpPr/>
            <p:nvPr/>
          </p:nvSpPr>
          <p:spPr>
            <a:xfrm>
              <a:off x="8215200" y="3430440"/>
              <a:ext cx="12960" cy="193356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1" name=""/>
            <p:cNvSpPr/>
            <p:nvPr/>
          </p:nvSpPr>
          <p:spPr>
            <a:xfrm>
              <a:off x="8228160" y="3430440"/>
              <a:ext cx="10800" cy="19335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2" name=""/>
            <p:cNvSpPr/>
            <p:nvPr/>
          </p:nvSpPr>
          <p:spPr>
            <a:xfrm>
              <a:off x="8123400" y="3430440"/>
              <a:ext cx="115560" cy="19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3" name=""/>
            <p:cNvSpPr/>
            <p:nvPr/>
          </p:nvSpPr>
          <p:spPr>
            <a:xfrm>
              <a:off x="8123400" y="3395520"/>
              <a:ext cx="10800" cy="4788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4" name=""/>
            <p:cNvSpPr/>
            <p:nvPr/>
          </p:nvSpPr>
          <p:spPr>
            <a:xfrm>
              <a:off x="8134200" y="3395520"/>
              <a:ext cx="11160" cy="4788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5" name=""/>
            <p:cNvSpPr/>
            <p:nvPr/>
          </p:nvSpPr>
          <p:spPr>
            <a:xfrm>
              <a:off x="8145360" y="3395520"/>
              <a:ext cx="12960" cy="4788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6" name=""/>
            <p:cNvSpPr/>
            <p:nvPr/>
          </p:nvSpPr>
          <p:spPr>
            <a:xfrm>
              <a:off x="8158320" y="3395520"/>
              <a:ext cx="10800" cy="4788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7" name=""/>
            <p:cNvSpPr/>
            <p:nvPr/>
          </p:nvSpPr>
          <p:spPr>
            <a:xfrm>
              <a:off x="8169120" y="3395520"/>
              <a:ext cx="11160" cy="4788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8" name=""/>
            <p:cNvSpPr/>
            <p:nvPr/>
          </p:nvSpPr>
          <p:spPr>
            <a:xfrm>
              <a:off x="8180280" y="3395520"/>
              <a:ext cx="12960" cy="4788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9" name=""/>
            <p:cNvSpPr/>
            <p:nvPr/>
          </p:nvSpPr>
          <p:spPr>
            <a:xfrm>
              <a:off x="8193240" y="3395520"/>
              <a:ext cx="1080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0" name=""/>
            <p:cNvSpPr/>
            <p:nvPr/>
          </p:nvSpPr>
          <p:spPr>
            <a:xfrm>
              <a:off x="8204040" y="3395520"/>
              <a:ext cx="1116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1" name=""/>
            <p:cNvSpPr/>
            <p:nvPr/>
          </p:nvSpPr>
          <p:spPr>
            <a:xfrm>
              <a:off x="8215200" y="3395520"/>
              <a:ext cx="12960" cy="4788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2" name=""/>
            <p:cNvSpPr/>
            <p:nvPr/>
          </p:nvSpPr>
          <p:spPr>
            <a:xfrm>
              <a:off x="8228160" y="3395520"/>
              <a:ext cx="10800" cy="4788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3" name=""/>
            <p:cNvSpPr/>
            <p:nvPr/>
          </p:nvSpPr>
          <p:spPr>
            <a:xfrm>
              <a:off x="8238960" y="3395520"/>
              <a:ext cx="11160" cy="4788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4" name=""/>
            <p:cNvSpPr/>
            <p:nvPr/>
          </p:nvSpPr>
          <p:spPr>
            <a:xfrm>
              <a:off x="8250120" y="3395520"/>
              <a:ext cx="11160" cy="4788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5" name=""/>
            <p:cNvSpPr/>
            <p:nvPr/>
          </p:nvSpPr>
          <p:spPr>
            <a:xfrm>
              <a:off x="8261280" y="3395520"/>
              <a:ext cx="12600" cy="4788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6" name=""/>
            <p:cNvSpPr/>
            <p:nvPr/>
          </p:nvSpPr>
          <p:spPr>
            <a:xfrm>
              <a:off x="8273880" y="3395520"/>
              <a:ext cx="11160" cy="4788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7" name=""/>
            <p:cNvSpPr/>
            <p:nvPr/>
          </p:nvSpPr>
          <p:spPr>
            <a:xfrm>
              <a:off x="8123400" y="3395520"/>
              <a:ext cx="150480" cy="34920"/>
            </a:xfrm>
            <a:custGeom>
              <a:avLst/>
              <a:gdLst/>
              <a:ahLst/>
              <a:rect l="l" t="t" r="r" b="b"/>
              <a:pathLst>
                <a:path w="95" h="22">
                  <a:moveTo>
                    <a:pt x="73" y="22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22"/>
                  </a:lnTo>
                  <a:lnTo>
                    <a:pt x="73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8" name=""/>
            <p:cNvSpPr/>
            <p:nvPr/>
          </p:nvSpPr>
          <p:spPr>
            <a:xfrm>
              <a:off x="8238960" y="2714760"/>
              <a:ext cx="11160" cy="7286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9" name=""/>
            <p:cNvSpPr/>
            <p:nvPr/>
          </p:nvSpPr>
          <p:spPr>
            <a:xfrm>
              <a:off x="8250120" y="2714760"/>
              <a:ext cx="11160" cy="728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0" name=""/>
            <p:cNvSpPr/>
            <p:nvPr/>
          </p:nvSpPr>
          <p:spPr>
            <a:xfrm>
              <a:off x="8261280" y="2714760"/>
              <a:ext cx="12600" cy="728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1" name=""/>
            <p:cNvSpPr/>
            <p:nvPr/>
          </p:nvSpPr>
          <p:spPr>
            <a:xfrm>
              <a:off x="8273880" y="2714760"/>
              <a:ext cx="11160" cy="7286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2" name=""/>
            <p:cNvSpPr/>
            <p:nvPr/>
          </p:nvSpPr>
          <p:spPr>
            <a:xfrm>
              <a:off x="8238960" y="2714760"/>
              <a:ext cx="34920" cy="715680"/>
            </a:xfrm>
            <a:custGeom>
              <a:avLst/>
              <a:gdLst/>
              <a:ahLst/>
              <a:rect l="l" t="t" r="r" b="b"/>
              <a:pathLst>
                <a:path w="22" h="451">
                  <a:moveTo>
                    <a:pt x="0" y="45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29"/>
                  </a:lnTo>
                  <a:lnTo>
                    <a:pt x="0" y="45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3" name=""/>
          <p:cNvGrpSpPr/>
          <p:nvPr/>
        </p:nvGrpSpPr>
        <p:grpSpPr>
          <a:xfrm>
            <a:off x="8123400" y="2344680"/>
            <a:ext cx="428400" cy="3030480"/>
            <a:chOff x="8123400" y="2344680"/>
            <a:chExt cx="428400" cy="3030480"/>
          </a:xfrm>
        </p:grpSpPr>
        <p:sp>
          <p:nvSpPr>
            <p:cNvPr id="6534" name=""/>
            <p:cNvSpPr/>
            <p:nvPr/>
          </p:nvSpPr>
          <p:spPr>
            <a:xfrm>
              <a:off x="8123400" y="2738520"/>
              <a:ext cx="10800" cy="69192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5" name=""/>
            <p:cNvSpPr/>
            <p:nvPr/>
          </p:nvSpPr>
          <p:spPr>
            <a:xfrm>
              <a:off x="8134200" y="2738520"/>
              <a:ext cx="11160" cy="69192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6" name=""/>
            <p:cNvSpPr/>
            <p:nvPr/>
          </p:nvSpPr>
          <p:spPr>
            <a:xfrm>
              <a:off x="8145360" y="2738520"/>
              <a:ext cx="12960" cy="69192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7" name=""/>
            <p:cNvSpPr/>
            <p:nvPr/>
          </p:nvSpPr>
          <p:spPr>
            <a:xfrm>
              <a:off x="8158320" y="2738520"/>
              <a:ext cx="10800" cy="69192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8" name=""/>
            <p:cNvSpPr/>
            <p:nvPr/>
          </p:nvSpPr>
          <p:spPr>
            <a:xfrm>
              <a:off x="8169120" y="2738520"/>
              <a:ext cx="11160" cy="691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9" name=""/>
            <p:cNvSpPr/>
            <p:nvPr/>
          </p:nvSpPr>
          <p:spPr>
            <a:xfrm>
              <a:off x="8180280" y="2738520"/>
              <a:ext cx="12960" cy="691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0" name=""/>
            <p:cNvSpPr/>
            <p:nvPr/>
          </p:nvSpPr>
          <p:spPr>
            <a:xfrm>
              <a:off x="8193240" y="2738520"/>
              <a:ext cx="10800" cy="69192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1" name=""/>
            <p:cNvSpPr/>
            <p:nvPr/>
          </p:nvSpPr>
          <p:spPr>
            <a:xfrm>
              <a:off x="8204040" y="2738520"/>
              <a:ext cx="11160" cy="69192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2" name=""/>
            <p:cNvSpPr/>
            <p:nvPr/>
          </p:nvSpPr>
          <p:spPr>
            <a:xfrm>
              <a:off x="8215200" y="2738520"/>
              <a:ext cx="12960" cy="69192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3" name=""/>
            <p:cNvSpPr/>
            <p:nvPr/>
          </p:nvSpPr>
          <p:spPr>
            <a:xfrm>
              <a:off x="8228160" y="2738520"/>
              <a:ext cx="10800" cy="691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4" name=""/>
            <p:cNvSpPr/>
            <p:nvPr/>
          </p:nvSpPr>
          <p:spPr>
            <a:xfrm>
              <a:off x="8123400" y="2738520"/>
              <a:ext cx="115560" cy="691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5" name=""/>
            <p:cNvSpPr/>
            <p:nvPr/>
          </p:nvSpPr>
          <p:spPr>
            <a:xfrm>
              <a:off x="8123400" y="2714760"/>
              <a:ext cx="10800" cy="3636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6" name=""/>
            <p:cNvSpPr/>
            <p:nvPr/>
          </p:nvSpPr>
          <p:spPr>
            <a:xfrm>
              <a:off x="8134200" y="2714760"/>
              <a:ext cx="1116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7" name=""/>
            <p:cNvSpPr/>
            <p:nvPr/>
          </p:nvSpPr>
          <p:spPr>
            <a:xfrm>
              <a:off x="8145360" y="2714760"/>
              <a:ext cx="129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8" name=""/>
            <p:cNvSpPr/>
            <p:nvPr/>
          </p:nvSpPr>
          <p:spPr>
            <a:xfrm>
              <a:off x="8158320" y="2714760"/>
              <a:ext cx="10800" cy="3636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9" name=""/>
            <p:cNvSpPr/>
            <p:nvPr/>
          </p:nvSpPr>
          <p:spPr>
            <a:xfrm>
              <a:off x="8169120" y="2714760"/>
              <a:ext cx="1116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0" name=""/>
            <p:cNvSpPr/>
            <p:nvPr/>
          </p:nvSpPr>
          <p:spPr>
            <a:xfrm>
              <a:off x="8180280" y="2714760"/>
              <a:ext cx="1296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1" name=""/>
            <p:cNvSpPr/>
            <p:nvPr/>
          </p:nvSpPr>
          <p:spPr>
            <a:xfrm>
              <a:off x="8193240" y="2714760"/>
              <a:ext cx="108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2" name=""/>
            <p:cNvSpPr/>
            <p:nvPr/>
          </p:nvSpPr>
          <p:spPr>
            <a:xfrm>
              <a:off x="8204040" y="271476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3" name=""/>
            <p:cNvSpPr/>
            <p:nvPr/>
          </p:nvSpPr>
          <p:spPr>
            <a:xfrm>
              <a:off x="8215200" y="2714760"/>
              <a:ext cx="1296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4" name=""/>
            <p:cNvSpPr/>
            <p:nvPr/>
          </p:nvSpPr>
          <p:spPr>
            <a:xfrm>
              <a:off x="8228160" y="2714760"/>
              <a:ext cx="1080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5" name=""/>
            <p:cNvSpPr/>
            <p:nvPr/>
          </p:nvSpPr>
          <p:spPr>
            <a:xfrm>
              <a:off x="8238960" y="2714760"/>
              <a:ext cx="11160" cy="3636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6" name=""/>
            <p:cNvSpPr/>
            <p:nvPr/>
          </p:nvSpPr>
          <p:spPr>
            <a:xfrm>
              <a:off x="8250120" y="2714760"/>
              <a:ext cx="111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7" name=""/>
            <p:cNvSpPr/>
            <p:nvPr/>
          </p:nvSpPr>
          <p:spPr>
            <a:xfrm>
              <a:off x="8261280" y="2714760"/>
              <a:ext cx="1260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8" name=""/>
            <p:cNvSpPr/>
            <p:nvPr/>
          </p:nvSpPr>
          <p:spPr>
            <a:xfrm>
              <a:off x="8273880" y="2714760"/>
              <a:ext cx="1116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9" name=""/>
            <p:cNvSpPr/>
            <p:nvPr/>
          </p:nvSpPr>
          <p:spPr>
            <a:xfrm>
              <a:off x="8123400" y="2714760"/>
              <a:ext cx="15048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0" name=""/>
            <p:cNvSpPr/>
            <p:nvPr/>
          </p:nvSpPr>
          <p:spPr>
            <a:xfrm>
              <a:off x="8238960" y="2452680"/>
              <a:ext cx="11160" cy="2984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1" name=""/>
            <p:cNvSpPr/>
            <p:nvPr/>
          </p:nvSpPr>
          <p:spPr>
            <a:xfrm>
              <a:off x="8250120" y="2452680"/>
              <a:ext cx="11160" cy="2984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2" name=""/>
            <p:cNvSpPr/>
            <p:nvPr/>
          </p:nvSpPr>
          <p:spPr>
            <a:xfrm>
              <a:off x="8261280" y="2452680"/>
              <a:ext cx="12600" cy="2984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3" name=""/>
            <p:cNvSpPr/>
            <p:nvPr/>
          </p:nvSpPr>
          <p:spPr>
            <a:xfrm>
              <a:off x="8273880" y="2452680"/>
              <a:ext cx="11160" cy="2984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4" name=""/>
            <p:cNvSpPr/>
            <p:nvPr/>
          </p:nvSpPr>
          <p:spPr>
            <a:xfrm>
              <a:off x="8238960" y="2452680"/>
              <a:ext cx="34920" cy="285840"/>
            </a:xfrm>
            <a:custGeom>
              <a:avLst/>
              <a:gdLst/>
              <a:ahLst/>
              <a:rect l="l" t="t" r="r" b="b"/>
              <a:pathLst>
                <a:path w="22" h="180">
                  <a:moveTo>
                    <a:pt x="0" y="18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65"/>
                  </a:lnTo>
                  <a:lnTo>
                    <a:pt x="0" y="18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5" name=""/>
            <p:cNvSpPr/>
            <p:nvPr/>
          </p:nvSpPr>
          <p:spPr>
            <a:xfrm>
              <a:off x="8123400" y="2476440"/>
              <a:ext cx="10800" cy="26208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6" name=""/>
            <p:cNvSpPr/>
            <p:nvPr/>
          </p:nvSpPr>
          <p:spPr>
            <a:xfrm>
              <a:off x="8134200" y="2476440"/>
              <a:ext cx="11160" cy="26208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7" name=""/>
            <p:cNvSpPr/>
            <p:nvPr/>
          </p:nvSpPr>
          <p:spPr>
            <a:xfrm>
              <a:off x="8145360" y="2476440"/>
              <a:ext cx="12960" cy="26208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8" name=""/>
            <p:cNvSpPr/>
            <p:nvPr/>
          </p:nvSpPr>
          <p:spPr>
            <a:xfrm>
              <a:off x="8158320" y="2476440"/>
              <a:ext cx="10800" cy="26208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9" name=""/>
            <p:cNvSpPr/>
            <p:nvPr/>
          </p:nvSpPr>
          <p:spPr>
            <a:xfrm>
              <a:off x="8169120" y="2476440"/>
              <a:ext cx="11160" cy="2620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0" name=""/>
            <p:cNvSpPr/>
            <p:nvPr/>
          </p:nvSpPr>
          <p:spPr>
            <a:xfrm>
              <a:off x="8180280" y="2476440"/>
              <a:ext cx="12960" cy="2620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1" name=""/>
            <p:cNvSpPr/>
            <p:nvPr/>
          </p:nvSpPr>
          <p:spPr>
            <a:xfrm>
              <a:off x="8193240" y="2476440"/>
              <a:ext cx="10800" cy="26208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2" name=""/>
            <p:cNvSpPr/>
            <p:nvPr/>
          </p:nvSpPr>
          <p:spPr>
            <a:xfrm>
              <a:off x="8204040" y="2476440"/>
              <a:ext cx="11160" cy="26208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3" name=""/>
            <p:cNvSpPr/>
            <p:nvPr/>
          </p:nvSpPr>
          <p:spPr>
            <a:xfrm>
              <a:off x="8215200" y="2476440"/>
              <a:ext cx="12960" cy="26208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4" name=""/>
            <p:cNvSpPr/>
            <p:nvPr/>
          </p:nvSpPr>
          <p:spPr>
            <a:xfrm>
              <a:off x="8228160" y="2476440"/>
              <a:ext cx="10800" cy="262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5" name=""/>
            <p:cNvSpPr/>
            <p:nvPr/>
          </p:nvSpPr>
          <p:spPr>
            <a:xfrm>
              <a:off x="8123400" y="2476440"/>
              <a:ext cx="115560" cy="262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6" name=""/>
            <p:cNvSpPr/>
            <p:nvPr/>
          </p:nvSpPr>
          <p:spPr>
            <a:xfrm>
              <a:off x="8123400" y="2452680"/>
              <a:ext cx="10800" cy="349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7" name=""/>
            <p:cNvSpPr/>
            <p:nvPr/>
          </p:nvSpPr>
          <p:spPr>
            <a:xfrm>
              <a:off x="8134200" y="2452680"/>
              <a:ext cx="1116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8" name=""/>
            <p:cNvSpPr/>
            <p:nvPr/>
          </p:nvSpPr>
          <p:spPr>
            <a:xfrm>
              <a:off x="8145360" y="2452680"/>
              <a:ext cx="1296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9" name=""/>
            <p:cNvSpPr/>
            <p:nvPr/>
          </p:nvSpPr>
          <p:spPr>
            <a:xfrm>
              <a:off x="8158320" y="2452680"/>
              <a:ext cx="1080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0" name=""/>
            <p:cNvSpPr/>
            <p:nvPr/>
          </p:nvSpPr>
          <p:spPr>
            <a:xfrm>
              <a:off x="8169120" y="2452680"/>
              <a:ext cx="1116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1" name=""/>
            <p:cNvSpPr/>
            <p:nvPr/>
          </p:nvSpPr>
          <p:spPr>
            <a:xfrm>
              <a:off x="8180280" y="2452680"/>
              <a:ext cx="1296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2" name=""/>
            <p:cNvSpPr/>
            <p:nvPr/>
          </p:nvSpPr>
          <p:spPr>
            <a:xfrm>
              <a:off x="8193240" y="2452680"/>
              <a:ext cx="1080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3" name=""/>
            <p:cNvSpPr/>
            <p:nvPr/>
          </p:nvSpPr>
          <p:spPr>
            <a:xfrm>
              <a:off x="8204040" y="245268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4" name=""/>
            <p:cNvSpPr/>
            <p:nvPr/>
          </p:nvSpPr>
          <p:spPr>
            <a:xfrm>
              <a:off x="8215200" y="2452680"/>
              <a:ext cx="12960" cy="349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5" name=""/>
            <p:cNvSpPr/>
            <p:nvPr/>
          </p:nvSpPr>
          <p:spPr>
            <a:xfrm>
              <a:off x="8228160" y="2452680"/>
              <a:ext cx="10800" cy="349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6" name=""/>
            <p:cNvSpPr/>
            <p:nvPr/>
          </p:nvSpPr>
          <p:spPr>
            <a:xfrm>
              <a:off x="8238960" y="2452680"/>
              <a:ext cx="11160" cy="349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7" name=""/>
            <p:cNvSpPr/>
            <p:nvPr/>
          </p:nvSpPr>
          <p:spPr>
            <a:xfrm>
              <a:off x="8250120" y="2452680"/>
              <a:ext cx="11160" cy="349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8" name=""/>
            <p:cNvSpPr/>
            <p:nvPr/>
          </p:nvSpPr>
          <p:spPr>
            <a:xfrm>
              <a:off x="8261280" y="2452680"/>
              <a:ext cx="12600" cy="349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9" name=""/>
            <p:cNvSpPr/>
            <p:nvPr/>
          </p:nvSpPr>
          <p:spPr>
            <a:xfrm>
              <a:off x="8273880" y="2452680"/>
              <a:ext cx="1116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0" name=""/>
            <p:cNvSpPr/>
            <p:nvPr/>
          </p:nvSpPr>
          <p:spPr>
            <a:xfrm>
              <a:off x="8123400" y="2452680"/>
              <a:ext cx="15048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1" name=""/>
            <p:cNvSpPr/>
            <p:nvPr/>
          </p:nvSpPr>
          <p:spPr>
            <a:xfrm>
              <a:off x="8238960" y="2381400"/>
              <a:ext cx="11160" cy="1062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2" name=""/>
            <p:cNvSpPr/>
            <p:nvPr/>
          </p:nvSpPr>
          <p:spPr>
            <a:xfrm>
              <a:off x="8250120" y="2381400"/>
              <a:ext cx="1116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3" name=""/>
            <p:cNvSpPr/>
            <p:nvPr/>
          </p:nvSpPr>
          <p:spPr>
            <a:xfrm>
              <a:off x="8261280" y="2381400"/>
              <a:ext cx="12600" cy="1062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4" name=""/>
            <p:cNvSpPr/>
            <p:nvPr/>
          </p:nvSpPr>
          <p:spPr>
            <a:xfrm>
              <a:off x="8273880" y="2381400"/>
              <a:ext cx="11160" cy="1062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5" name=""/>
            <p:cNvSpPr/>
            <p:nvPr/>
          </p:nvSpPr>
          <p:spPr>
            <a:xfrm>
              <a:off x="8238960" y="2381400"/>
              <a:ext cx="34920" cy="95040"/>
            </a:xfrm>
            <a:custGeom>
              <a:avLst/>
              <a:gdLst/>
              <a:ahLst/>
              <a:rect l="l" t="t" r="r" b="b"/>
              <a:pathLst>
                <a:path w="22" h="60">
                  <a:moveTo>
                    <a:pt x="0" y="6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6" name=""/>
            <p:cNvSpPr/>
            <p:nvPr/>
          </p:nvSpPr>
          <p:spPr>
            <a:xfrm>
              <a:off x="8123400" y="2405160"/>
              <a:ext cx="10800" cy="71280"/>
            </a:xfrm>
            <a:prstGeom prst="rect">
              <a:avLst/>
            </a:prstGeom>
            <a:solidFill>
              <a:srgbClr val="ffff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7" name=""/>
            <p:cNvSpPr/>
            <p:nvPr/>
          </p:nvSpPr>
          <p:spPr>
            <a:xfrm>
              <a:off x="8134200" y="2405160"/>
              <a:ext cx="11160" cy="712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8" name=""/>
            <p:cNvSpPr/>
            <p:nvPr/>
          </p:nvSpPr>
          <p:spPr>
            <a:xfrm>
              <a:off x="8145360" y="2405160"/>
              <a:ext cx="12960" cy="71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9" name=""/>
            <p:cNvSpPr/>
            <p:nvPr/>
          </p:nvSpPr>
          <p:spPr>
            <a:xfrm>
              <a:off x="8158320" y="2405160"/>
              <a:ext cx="10800" cy="712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0" name=""/>
            <p:cNvSpPr/>
            <p:nvPr/>
          </p:nvSpPr>
          <p:spPr>
            <a:xfrm>
              <a:off x="8169120" y="2405160"/>
              <a:ext cx="11160" cy="712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1" name=""/>
            <p:cNvSpPr/>
            <p:nvPr/>
          </p:nvSpPr>
          <p:spPr>
            <a:xfrm>
              <a:off x="8180280" y="2405160"/>
              <a:ext cx="12960" cy="712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2" name=""/>
            <p:cNvSpPr/>
            <p:nvPr/>
          </p:nvSpPr>
          <p:spPr>
            <a:xfrm>
              <a:off x="8193240" y="2405160"/>
              <a:ext cx="10800" cy="712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3" name=""/>
            <p:cNvSpPr/>
            <p:nvPr/>
          </p:nvSpPr>
          <p:spPr>
            <a:xfrm>
              <a:off x="8204040" y="2405160"/>
              <a:ext cx="11160" cy="71280"/>
            </a:xfrm>
            <a:prstGeom prst="rect">
              <a:avLst/>
            </a:prstGeom>
            <a:solidFill>
              <a:srgbClr val="fff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4" name=""/>
            <p:cNvSpPr/>
            <p:nvPr/>
          </p:nvSpPr>
          <p:spPr>
            <a:xfrm>
              <a:off x="8215200" y="2405160"/>
              <a:ext cx="12960" cy="712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5" name=""/>
            <p:cNvSpPr/>
            <p:nvPr/>
          </p:nvSpPr>
          <p:spPr>
            <a:xfrm>
              <a:off x="8228160" y="2405160"/>
              <a:ext cx="10800" cy="71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6" name=""/>
            <p:cNvSpPr/>
            <p:nvPr/>
          </p:nvSpPr>
          <p:spPr>
            <a:xfrm>
              <a:off x="8123400" y="2405160"/>
              <a:ext cx="115560" cy="71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7" name=""/>
            <p:cNvSpPr/>
            <p:nvPr/>
          </p:nvSpPr>
          <p:spPr>
            <a:xfrm>
              <a:off x="8123400" y="2381400"/>
              <a:ext cx="10800" cy="349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8" name=""/>
            <p:cNvSpPr/>
            <p:nvPr/>
          </p:nvSpPr>
          <p:spPr>
            <a:xfrm>
              <a:off x="8134200" y="2381400"/>
              <a:ext cx="1116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9" name=""/>
            <p:cNvSpPr/>
            <p:nvPr/>
          </p:nvSpPr>
          <p:spPr>
            <a:xfrm>
              <a:off x="8145360" y="2381400"/>
              <a:ext cx="1296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0" name=""/>
            <p:cNvSpPr/>
            <p:nvPr/>
          </p:nvSpPr>
          <p:spPr>
            <a:xfrm>
              <a:off x="8158320" y="2381400"/>
              <a:ext cx="1080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1" name=""/>
            <p:cNvSpPr/>
            <p:nvPr/>
          </p:nvSpPr>
          <p:spPr>
            <a:xfrm>
              <a:off x="8169120" y="2381400"/>
              <a:ext cx="1116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2" name=""/>
            <p:cNvSpPr/>
            <p:nvPr/>
          </p:nvSpPr>
          <p:spPr>
            <a:xfrm>
              <a:off x="8180280" y="2381400"/>
              <a:ext cx="129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3" name=""/>
            <p:cNvSpPr/>
            <p:nvPr/>
          </p:nvSpPr>
          <p:spPr>
            <a:xfrm>
              <a:off x="8193240" y="2381400"/>
              <a:ext cx="1080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4" name=""/>
            <p:cNvSpPr/>
            <p:nvPr/>
          </p:nvSpPr>
          <p:spPr>
            <a:xfrm>
              <a:off x="8204040" y="2381400"/>
              <a:ext cx="1116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5" name=""/>
            <p:cNvSpPr/>
            <p:nvPr/>
          </p:nvSpPr>
          <p:spPr>
            <a:xfrm>
              <a:off x="8215200" y="2381400"/>
              <a:ext cx="129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6" name=""/>
            <p:cNvSpPr/>
            <p:nvPr/>
          </p:nvSpPr>
          <p:spPr>
            <a:xfrm>
              <a:off x="8228160" y="2381400"/>
              <a:ext cx="1080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7" name=""/>
            <p:cNvSpPr/>
            <p:nvPr/>
          </p:nvSpPr>
          <p:spPr>
            <a:xfrm>
              <a:off x="8238960" y="2381400"/>
              <a:ext cx="1116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8" name=""/>
            <p:cNvSpPr/>
            <p:nvPr/>
          </p:nvSpPr>
          <p:spPr>
            <a:xfrm>
              <a:off x="8250120" y="2381400"/>
              <a:ext cx="1116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9" name=""/>
            <p:cNvSpPr/>
            <p:nvPr/>
          </p:nvSpPr>
          <p:spPr>
            <a:xfrm>
              <a:off x="8261280" y="2381400"/>
              <a:ext cx="1260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0" name=""/>
            <p:cNvSpPr/>
            <p:nvPr/>
          </p:nvSpPr>
          <p:spPr>
            <a:xfrm>
              <a:off x="8273880" y="2381400"/>
              <a:ext cx="11160" cy="349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1" name=""/>
            <p:cNvSpPr/>
            <p:nvPr/>
          </p:nvSpPr>
          <p:spPr>
            <a:xfrm>
              <a:off x="8123400" y="2381400"/>
              <a:ext cx="150480" cy="23760"/>
            </a:xfrm>
            <a:custGeom>
              <a:avLst/>
              <a:gdLst/>
              <a:ahLst/>
              <a:rect l="l" t="t" r="r" b="b"/>
              <a:pathLst>
                <a:path w="95" h="15">
                  <a:moveTo>
                    <a:pt x="73" y="15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3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2" name=""/>
            <p:cNvSpPr/>
            <p:nvPr/>
          </p:nvSpPr>
          <p:spPr>
            <a:xfrm>
              <a:off x="8238960" y="2344680"/>
              <a:ext cx="11160" cy="716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3" name=""/>
            <p:cNvSpPr/>
            <p:nvPr/>
          </p:nvSpPr>
          <p:spPr>
            <a:xfrm>
              <a:off x="8250120" y="2344680"/>
              <a:ext cx="1116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4" name=""/>
            <p:cNvSpPr/>
            <p:nvPr/>
          </p:nvSpPr>
          <p:spPr>
            <a:xfrm>
              <a:off x="8261280" y="2344680"/>
              <a:ext cx="1260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5" name=""/>
            <p:cNvSpPr/>
            <p:nvPr/>
          </p:nvSpPr>
          <p:spPr>
            <a:xfrm>
              <a:off x="8273880" y="2344680"/>
              <a:ext cx="11160" cy="716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6" name=""/>
            <p:cNvSpPr/>
            <p:nvPr/>
          </p:nvSpPr>
          <p:spPr>
            <a:xfrm>
              <a:off x="8238960" y="234468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3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7" name=""/>
            <p:cNvSpPr/>
            <p:nvPr/>
          </p:nvSpPr>
          <p:spPr>
            <a:xfrm>
              <a:off x="8123400" y="2381400"/>
              <a:ext cx="10800" cy="2376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8" name=""/>
            <p:cNvSpPr/>
            <p:nvPr/>
          </p:nvSpPr>
          <p:spPr>
            <a:xfrm>
              <a:off x="8134200" y="2381400"/>
              <a:ext cx="11160" cy="2376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9" name=""/>
            <p:cNvSpPr/>
            <p:nvPr/>
          </p:nvSpPr>
          <p:spPr>
            <a:xfrm>
              <a:off x="8145360" y="2381400"/>
              <a:ext cx="12960" cy="2376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0" name=""/>
            <p:cNvSpPr/>
            <p:nvPr/>
          </p:nvSpPr>
          <p:spPr>
            <a:xfrm>
              <a:off x="8158320" y="2381400"/>
              <a:ext cx="10800" cy="2376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1" name=""/>
            <p:cNvSpPr/>
            <p:nvPr/>
          </p:nvSpPr>
          <p:spPr>
            <a:xfrm>
              <a:off x="8169120" y="2381400"/>
              <a:ext cx="11160" cy="237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2" name=""/>
            <p:cNvSpPr/>
            <p:nvPr/>
          </p:nvSpPr>
          <p:spPr>
            <a:xfrm>
              <a:off x="8180280" y="2381400"/>
              <a:ext cx="12960" cy="237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3" name=""/>
            <p:cNvSpPr/>
            <p:nvPr/>
          </p:nvSpPr>
          <p:spPr>
            <a:xfrm>
              <a:off x="8193240" y="2381400"/>
              <a:ext cx="10800" cy="2376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4" name=""/>
            <p:cNvSpPr/>
            <p:nvPr/>
          </p:nvSpPr>
          <p:spPr>
            <a:xfrm>
              <a:off x="8204040" y="2381400"/>
              <a:ext cx="11160" cy="2376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5" name=""/>
            <p:cNvSpPr/>
            <p:nvPr/>
          </p:nvSpPr>
          <p:spPr>
            <a:xfrm>
              <a:off x="8215200" y="2381400"/>
              <a:ext cx="12960" cy="2376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6" name=""/>
            <p:cNvSpPr/>
            <p:nvPr/>
          </p:nvSpPr>
          <p:spPr>
            <a:xfrm>
              <a:off x="8228160" y="2381400"/>
              <a:ext cx="10800" cy="237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7" name=""/>
            <p:cNvSpPr/>
            <p:nvPr/>
          </p:nvSpPr>
          <p:spPr>
            <a:xfrm>
              <a:off x="8123400" y="2381400"/>
              <a:ext cx="1155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8" name=""/>
            <p:cNvSpPr/>
            <p:nvPr/>
          </p:nvSpPr>
          <p:spPr>
            <a:xfrm>
              <a:off x="8123400" y="2344680"/>
              <a:ext cx="10800" cy="4752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9" name=""/>
            <p:cNvSpPr/>
            <p:nvPr/>
          </p:nvSpPr>
          <p:spPr>
            <a:xfrm>
              <a:off x="8134200" y="2344680"/>
              <a:ext cx="11160" cy="475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0" name=""/>
            <p:cNvSpPr/>
            <p:nvPr/>
          </p:nvSpPr>
          <p:spPr>
            <a:xfrm>
              <a:off x="8145360" y="2344680"/>
              <a:ext cx="12960" cy="475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1" name=""/>
            <p:cNvSpPr/>
            <p:nvPr/>
          </p:nvSpPr>
          <p:spPr>
            <a:xfrm>
              <a:off x="8158320" y="2344680"/>
              <a:ext cx="10800" cy="4752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2" name=""/>
            <p:cNvSpPr/>
            <p:nvPr/>
          </p:nvSpPr>
          <p:spPr>
            <a:xfrm>
              <a:off x="8169120" y="2344680"/>
              <a:ext cx="11160" cy="475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3" name=""/>
            <p:cNvSpPr/>
            <p:nvPr/>
          </p:nvSpPr>
          <p:spPr>
            <a:xfrm>
              <a:off x="8180280" y="2344680"/>
              <a:ext cx="12960" cy="475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4" name=""/>
            <p:cNvSpPr/>
            <p:nvPr/>
          </p:nvSpPr>
          <p:spPr>
            <a:xfrm>
              <a:off x="8193240" y="2344680"/>
              <a:ext cx="1080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5" name=""/>
            <p:cNvSpPr/>
            <p:nvPr/>
          </p:nvSpPr>
          <p:spPr>
            <a:xfrm>
              <a:off x="8204040" y="234468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6" name=""/>
            <p:cNvSpPr/>
            <p:nvPr/>
          </p:nvSpPr>
          <p:spPr>
            <a:xfrm>
              <a:off x="8215200" y="2344680"/>
              <a:ext cx="12960" cy="475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7" name=""/>
            <p:cNvSpPr/>
            <p:nvPr/>
          </p:nvSpPr>
          <p:spPr>
            <a:xfrm>
              <a:off x="8228160" y="2344680"/>
              <a:ext cx="10800" cy="475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8" name=""/>
            <p:cNvSpPr/>
            <p:nvPr/>
          </p:nvSpPr>
          <p:spPr>
            <a:xfrm>
              <a:off x="8238960" y="2344680"/>
              <a:ext cx="11160" cy="4752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9" name=""/>
            <p:cNvSpPr/>
            <p:nvPr/>
          </p:nvSpPr>
          <p:spPr>
            <a:xfrm>
              <a:off x="8250120" y="2344680"/>
              <a:ext cx="11160" cy="475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0" name=""/>
            <p:cNvSpPr/>
            <p:nvPr/>
          </p:nvSpPr>
          <p:spPr>
            <a:xfrm>
              <a:off x="8261280" y="2344680"/>
              <a:ext cx="12600" cy="475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1" name=""/>
            <p:cNvSpPr/>
            <p:nvPr/>
          </p:nvSpPr>
          <p:spPr>
            <a:xfrm>
              <a:off x="8273880" y="2344680"/>
              <a:ext cx="1116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2" name=""/>
            <p:cNvSpPr/>
            <p:nvPr/>
          </p:nvSpPr>
          <p:spPr>
            <a:xfrm>
              <a:off x="8123400" y="2344680"/>
              <a:ext cx="150480" cy="3672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73" y="23"/>
                  </a:moveTo>
                  <a:lnTo>
                    <a:pt x="95" y="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73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3" name=""/>
            <p:cNvSpPr/>
            <p:nvPr/>
          </p:nvSpPr>
          <p:spPr>
            <a:xfrm>
              <a:off x="8505720" y="3395520"/>
              <a:ext cx="11160" cy="19796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4" name=""/>
            <p:cNvSpPr/>
            <p:nvPr/>
          </p:nvSpPr>
          <p:spPr>
            <a:xfrm>
              <a:off x="8516880" y="3395520"/>
              <a:ext cx="12600" cy="19796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5" name=""/>
            <p:cNvSpPr/>
            <p:nvPr/>
          </p:nvSpPr>
          <p:spPr>
            <a:xfrm>
              <a:off x="8529480" y="3395520"/>
              <a:ext cx="11160" cy="19796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6" name=""/>
            <p:cNvSpPr/>
            <p:nvPr/>
          </p:nvSpPr>
          <p:spPr>
            <a:xfrm>
              <a:off x="8540640" y="3395520"/>
              <a:ext cx="11160" cy="19796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7" name=""/>
            <p:cNvSpPr/>
            <p:nvPr/>
          </p:nvSpPr>
          <p:spPr>
            <a:xfrm>
              <a:off x="8505720" y="3395520"/>
              <a:ext cx="34920" cy="1968480"/>
            </a:xfrm>
            <a:custGeom>
              <a:avLst/>
              <a:gdLst/>
              <a:ahLst/>
              <a:rect l="l" t="t" r="r" b="b"/>
              <a:pathLst>
                <a:path w="22" h="1240">
                  <a:moveTo>
                    <a:pt x="0" y="1240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1225"/>
                  </a:lnTo>
                  <a:lnTo>
                    <a:pt x="0" y="124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8" name=""/>
            <p:cNvSpPr/>
            <p:nvPr/>
          </p:nvSpPr>
          <p:spPr>
            <a:xfrm>
              <a:off x="8400960" y="3430440"/>
              <a:ext cx="11160" cy="19335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9" name=""/>
            <p:cNvSpPr/>
            <p:nvPr/>
          </p:nvSpPr>
          <p:spPr>
            <a:xfrm>
              <a:off x="8412120" y="3430440"/>
              <a:ext cx="12600" cy="19335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0" name=""/>
            <p:cNvSpPr/>
            <p:nvPr/>
          </p:nvSpPr>
          <p:spPr>
            <a:xfrm>
              <a:off x="8424720" y="3430440"/>
              <a:ext cx="11160" cy="19335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1" name=""/>
            <p:cNvSpPr/>
            <p:nvPr/>
          </p:nvSpPr>
          <p:spPr>
            <a:xfrm>
              <a:off x="8435880" y="3430440"/>
              <a:ext cx="11160" cy="19335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2" name=""/>
            <p:cNvSpPr/>
            <p:nvPr/>
          </p:nvSpPr>
          <p:spPr>
            <a:xfrm>
              <a:off x="8447040" y="3430440"/>
              <a:ext cx="12600" cy="1933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3" name=""/>
            <p:cNvSpPr/>
            <p:nvPr/>
          </p:nvSpPr>
          <p:spPr>
            <a:xfrm>
              <a:off x="8459640" y="3430440"/>
              <a:ext cx="11160" cy="1933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4" name=""/>
            <p:cNvSpPr/>
            <p:nvPr/>
          </p:nvSpPr>
          <p:spPr>
            <a:xfrm>
              <a:off x="8470800" y="3430440"/>
              <a:ext cx="11160" cy="19335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5" name=""/>
            <p:cNvSpPr/>
            <p:nvPr/>
          </p:nvSpPr>
          <p:spPr>
            <a:xfrm>
              <a:off x="8481960" y="3430440"/>
              <a:ext cx="12600" cy="19335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6" name=""/>
            <p:cNvSpPr/>
            <p:nvPr/>
          </p:nvSpPr>
          <p:spPr>
            <a:xfrm>
              <a:off x="8494560" y="3430440"/>
              <a:ext cx="11160" cy="19335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7" name=""/>
            <p:cNvSpPr/>
            <p:nvPr/>
          </p:nvSpPr>
          <p:spPr>
            <a:xfrm>
              <a:off x="8400960" y="3430440"/>
              <a:ext cx="104760" cy="19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8" name=""/>
            <p:cNvSpPr/>
            <p:nvPr/>
          </p:nvSpPr>
          <p:spPr>
            <a:xfrm>
              <a:off x="8400960" y="3395520"/>
              <a:ext cx="11160" cy="4788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9" name=""/>
            <p:cNvSpPr/>
            <p:nvPr/>
          </p:nvSpPr>
          <p:spPr>
            <a:xfrm>
              <a:off x="8412120" y="3395520"/>
              <a:ext cx="12600" cy="4788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0" name=""/>
            <p:cNvSpPr/>
            <p:nvPr/>
          </p:nvSpPr>
          <p:spPr>
            <a:xfrm>
              <a:off x="8424720" y="3395520"/>
              <a:ext cx="11160" cy="4788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1" name=""/>
            <p:cNvSpPr/>
            <p:nvPr/>
          </p:nvSpPr>
          <p:spPr>
            <a:xfrm>
              <a:off x="8435880" y="3395520"/>
              <a:ext cx="11160" cy="4788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2" name=""/>
            <p:cNvSpPr/>
            <p:nvPr/>
          </p:nvSpPr>
          <p:spPr>
            <a:xfrm>
              <a:off x="8447040" y="3395520"/>
              <a:ext cx="12600" cy="4788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3" name=""/>
            <p:cNvSpPr/>
            <p:nvPr/>
          </p:nvSpPr>
          <p:spPr>
            <a:xfrm>
              <a:off x="8459640" y="3395520"/>
              <a:ext cx="11160" cy="4788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4" name=""/>
            <p:cNvSpPr/>
            <p:nvPr/>
          </p:nvSpPr>
          <p:spPr>
            <a:xfrm>
              <a:off x="8470800" y="3395520"/>
              <a:ext cx="1116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5" name=""/>
            <p:cNvSpPr/>
            <p:nvPr/>
          </p:nvSpPr>
          <p:spPr>
            <a:xfrm>
              <a:off x="8481960" y="3395520"/>
              <a:ext cx="12600" cy="4788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6" name=""/>
            <p:cNvSpPr/>
            <p:nvPr/>
          </p:nvSpPr>
          <p:spPr>
            <a:xfrm>
              <a:off x="8494560" y="3395520"/>
              <a:ext cx="11160" cy="4788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7" name=""/>
            <p:cNvSpPr/>
            <p:nvPr/>
          </p:nvSpPr>
          <p:spPr>
            <a:xfrm>
              <a:off x="8505720" y="3395520"/>
              <a:ext cx="11160" cy="4788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8" name=""/>
            <p:cNvSpPr/>
            <p:nvPr/>
          </p:nvSpPr>
          <p:spPr>
            <a:xfrm>
              <a:off x="8516880" y="3395520"/>
              <a:ext cx="12600" cy="4788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9" name=""/>
            <p:cNvSpPr/>
            <p:nvPr/>
          </p:nvSpPr>
          <p:spPr>
            <a:xfrm>
              <a:off x="8529480" y="3395520"/>
              <a:ext cx="11160" cy="4788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0" name=""/>
            <p:cNvSpPr/>
            <p:nvPr/>
          </p:nvSpPr>
          <p:spPr>
            <a:xfrm>
              <a:off x="8540640" y="3395520"/>
              <a:ext cx="11160" cy="4788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1" name=""/>
            <p:cNvSpPr/>
            <p:nvPr/>
          </p:nvSpPr>
          <p:spPr>
            <a:xfrm>
              <a:off x="8400960" y="3395520"/>
              <a:ext cx="139680" cy="34920"/>
            </a:xfrm>
            <a:custGeom>
              <a:avLst/>
              <a:gdLst/>
              <a:ahLst/>
              <a:rect l="l" t="t" r="r" b="b"/>
              <a:pathLst>
                <a:path w="88" h="22">
                  <a:moveTo>
                    <a:pt x="66" y="22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6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2" name=""/>
            <p:cNvSpPr/>
            <p:nvPr/>
          </p:nvSpPr>
          <p:spPr>
            <a:xfrm>
              <a:off x="8505720" y="2690640"/>
              <a:ext cx="11160" cy="7527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3" name=""/>
            <p:cNvSpPr/>
            <p:nvPr/>
          </p:nvSpPr>
          <p:spPr>
            <a:xfrm>
              <a:off x="8516880" y="2690640"/>
              <a:ext cx="12600" cy="7527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4" name=""/>
            <p:cNvSpPr/>
            <p:nvPr/>
          </p:nvSpPr>
          <p:spPr>
            <a:xfrm>
              <a:off x="8529480" y="2690640"/>
              <a:ext cx="11160" cy="7527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5" name=""/>
            <p:cNvSpPr/>
            <p:nvPr/>
          </p:nvSpPr>
          <p:spPr>
            <a:xfrm>
              <a:off x="8540640" y="2690640"/>
              <a:ext cx="11160" cy="7527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6" name=""/>
            <p:cNvSpPr/>
            <p:nvPr/>
          </p:nvSpPr>
          <p:spPr>
            <a:xfrm>
              <a:off x="8505720" y="2690640"/>
              <a:ext cx="34920" cy="739800"/>
            </a:xfrm>
            <a:custGeom>
              <a:avLst/>
              <a:gdLst/>
              <a:ahLst/>
              <a:rect l="l" t="t" r="r" b="b"/>
              <a:pathLst>
                <a:path w="22" h="466">
                  <a:moveTo>
                    <a:pt x="0" y="46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444"/>
                  </a:lnTo>
                  <a:lnTo>
                    <a:pt x="0" y="46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7" name=""/>
            <p:cNvSpPr/>
            <p:nvPr/>
          </p:nvSpPr>
          <p:spPr>
            <a:xfrm>
              <a:off x="8400960" y="2727360"/>
              <a:ext cx="11160" cy="70308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8" name=""/>
            <p:cNvSpPr/>
            <p:nvPr/>
          </p:nvSpPr>
          <p:spPr>
            <a:xfrm>
              <a:off x="8412120" y="2727360"/>
              <a:ext cx="12600" cy="7030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9" name=""/>
            <p:cNvSpPr/>
            <p:nvPr/>
          </p:nvSpPr>
          <p:spPr>
            <a:xfrm>
              <a:off x="8424720" y="2727360"/>
              <a:ext cx="11160" cy="7030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0" name=""/>
            <p:cNvSpPr/>
            <p:nvPr/>
          </p:nvSpPr>
          <p:spPr>
            <a:xfrm>
              <a:off x="8435880" y="2727360"/>
              <a:ext cx="11160" cy="70308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1" name=""/>
            <p:cNvSpPr/>
            <p:nvPr/>
          </p:nvSpPr>
          <p:spPr>
            <a:xfrm>
              <a:off x="8447040" y="2727360"/>
              <a:ext cx="12600" cy="7030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2" name=""/>
            <p:cNvSpPr/>
            <p:nvPr/>
          </p:nvSpPr>
          <p:spPr>
            <a:xfrm>
              <a:off x="8459640" y="2727360"/>
              <a:ext cx="11160" cy="7030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3" name=""/>
            <p:cNvSpPr/>
            <p:nvPr/>
          </p:nvSpPr>
          <p:spPr>
            <a:xfrm>
              <a:off x="8470800" y="2727360"/>
              <a:ext cx="11160" cy="7030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4" name=""/>
            <p:cNvSpPr/>
            <p:nvPr/>
          </p:nvSpPr>
          <p:spPr>
            <a:xfrm>
              <a:off x="8481960" y="2727360"/>
              <a:ext cx="12600" cy="7030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5" name=""/>
            <p:cNvSpPr/>
            <p:nvPr/>
          </p:nvSpPr>
          <p:spPr>
            <a:xfrm>
              <a:off x="8494560" y="2727360"/>
              <a:ext cx="11160" cy="703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6" name=""/>
            <p:cNvSpPr/>
            <p:nvPr/>
          </p:nvSpPr>
          <p:spPr>
            <a:xfrm>
              <a:off x="8400960" y="2727360"/>
              <a:ext cx="104760" cy="703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7" name=""/>
            <p:cNvSpPr/>
            <p:nvPr/>
          </p:nvSpPr>
          <p:spPr>
            <a:xfrm>
              <a:off x="8400960" y="2690640"/>
              <a:ext cx="11160" cy="4788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8" name=""/>
            <p:cNvSpPr/>
            <p:nvPr/>
          </p:nvSpPr>
          <p:spPr>
            <a:xfrm>
              <a:off x="8412120" y="2690640"/>
              <a:ext cx="1260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9" name=""/>
            <p:cNvSpPr/>
            <p:nvPr/>
          </p:nvSpPr>
          <p:spPr>
            <a:xfrm>
              <a:off x="8424720" y="2690640"/>
              <a:ext cx="1116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0" name=""/>
            <p:cNvSpPr/>
            <p:nvPr/>
          </p:nvSpPr>
          <p:spPr>
            <a:xfrm>
              <a:off x="8435880" y="2690640"/>
              <a:ext cx="111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1" name=""/>
            <p:cNvSpPr/>
            <p:nvPr/>
          </p:nvSpPr>
          <p:spPr>
            <a:xfrm>
              <a:off x="8447040" y="2690640"/>
              <a:ext cx="1260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2" name=""/>
            <p:cNvSpPr/>
            <p:nvPr/>
          </p:nvSpPr>
          <p:spPr>
            <a:xfrm>
              <a:off x="8459640" y="2690640"/>
              <a:ext cx="11160" cy="4788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3" name=""/>
            <p:cNvSpPr/>
            <p:nvPr/>
          </p:nvSpPr>
          <p:spPr>
            <a:xfrm>
              <a:off x="8470800" y="269064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4" name=""/>
            <p:cNvSpPr/>
            <p:nvPr/>
          </p:nvSpPr>
          <p:spPr>
            <a:xfrm>
              <a:off x="8481960" y="2690640"/>
              <a:ext cx="1260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5" name=""/>
            <p:cNvSpPr/>
            <p:nvPr/>
          </p:nvSpPr>
          <p:spPr>
            <a:xfrm>
              <a:off x="8494560" y="2690640"/>
              <a:ext cx="1116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6" name=""/>
            <p:cNvSpPr/>
            <p:nvPr/>
          </p:nvSpPr>
          <p:spPr>
            <a:xfrm>
              <a:off x="8505720" y="2690640"/>
              <a:ext cx="111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7" name=""/>
            <p:cNvSpPr/>
            <p:nvPr/>
          </p:nvSpPr>
          <p:spPr>
            <a:xfrm>
              <a:off x="8516880" y="2690640"/>
              <a:ext cx="1260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8" name=""/>
            <p:cNvSpPr/>
            <p:nvPr/>
          </p:nvSpPr>
          <p:spPr>
            <a:xfrm>
              <a:off x="8529480" y="2690640"/>
              <a:ext cx="1116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9" name=""/>
            <p:cNvSpPr/>
            <p:nvPr/>
          </p:nvSpPr>
          <p:spPr>
            <a:xfrm>
              <a:off x="8540640" y="2690640"/>
              <a:ext cx="1116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0" name=""/>
            <p:cNvSpPr/>
            <p:nvPr/>
          </p:nvSpPr>
          <p:spPr>
            <a:xfrm>
              <a:off x="8400960" y="2690640"/>
              <a:ext cx="139680" cy="367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66" y="23"/>
                  </a:moveTo>
                  <a:lnTo>
                    <a:pt x="88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1" name=""/>
            <p:cNvSpPr/>
            <p:nvPr/>
          </p:nvSpPr>
          <p:spPr>
            <a:xfrm>
              <a:off x="8505720" y="2344680"/>
              <a:ext cx="11160" cy="3938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2" name=""/>
            <p:cNvSpPr/>
            <p:nvPr/>
          </p:nvSpPr>
          <p:spPr>
            <a:xfrm>
              <a:off x="8516880" y="2344680"/>
              <a:ext cx="12600" cy="393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3" name=""/>
            <p:cNvSpPr/>
            <p:nvPr/>
          </p:nvSpPr>
          <p:spPr>
            <a:xfrm>
              <a:off x="8529480" y="2344680"/>
              <a:ext cx="11160" cy="393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4" name=""/>
            <p:cNvSpPr/>
            <p:nvPr/>
          </p:nvSpPr>
          <p:spPr>
            <a:xfrm>
              <a:off x="8540640" y="2344680"/>
              <a:ext cx="11160" cy="3938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5" name=""/>
            <p:cNvSpPr/>
            <p:nvPr/>
          </p:nvSpPr>
          <p:spPr>
            <a:xfrm>
              <a:off x="8505720" y="2344680"/>
              <a:ext cx="34920" cy="382680"/>
            </a:xfrm>
            <a:custGeom>
              <a:avLst/>
              <a:gdLst/>
              <a:ahLst/>
              <a:rect l="l" t="t" r="r" b="b"/>
              <a:pathLst>
                <a:path w="22" h="241">
                  <a:moveTo>
                    <a:pt x="0" y="241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18"/>
                  </a:lnTo>
                  <a:lnTo>
                    <a:pt x="0" y="24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6" name=""/>
            <p:cNvSpPr/>
            <p:nvPr/>
          </p:nvSpPr>
          <p:spPr>
            <a:xfrm>
              <a:off x="8400960" y="2381400"/>
              <a:ext cx="11160" cy="3459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7" name=""/>
            <p:cNvSpPr/>
            <p:nvPr/>
          </p:nvSpPr>
          <p:spPr>
            <a:xfrm>
              <a:off x="8412120" y="2381400"/>
              <a:ext cx="12600" cy="345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8" name=""/>
            <p:cNvSpPr/>
            <p:nvPr/>
          </p:nvSpPr>
          <p:spPr>
            <a:xfrm>
              <a:off x="8424720" y="2381400"/>
              <a:ext cx="11160" cy="345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9" name=""/>
            <p:cNvSpPr/>
            <p:nvPr/>
          </p:nvSpPr>
          <p:spPr>
            <a:xfrm>
              <a:off x="8435880" y="2381400"/>
              <a:ext cx="11160" cy="3459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0" name=""/>
            <p:cNvSpPr/>
            <p:nvPr/>
          </p:nvSpPr>
          <p:spPr>
            <a:xfrm>
              <a:off x="8447040" y="2381400"/>
              <a:ext cx="12600" cy="345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1" name=""/>
            <p:cNvSpPr/>
            <p:nvPr/>
          </p:nvSpPr>
          <p:spPr>
            <a:xfrm>
              <a:off x="8459640" y="2381400"/>
              <a:ext cx="11160" cy="345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2" name=""/>
            <p:cNvSpPr/>
            <p:nvPr/>
          </p:nvSpPr>
          <p:spPr>
            <a:xfrm>
              <a:off x="8470800" y="2381400"/>
              <a:ext cx="11160" cy="345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3" name=""/>
            <p:cNvSpPr/>
            <p:nvPr/>
          </p:nvSpPr>
          <p:spPr>
            <a:xfrm>
              <a:off x="8481960" y="2381400"/>
              <a:ext cx="12600" cy="345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4" name=""/>
            <p:cNvSpPr/>
            <p:nvPr/>
          </p:nvSpPr>
          <p:spPr>
            <a:xfrm>
              <a:off x="8494560" y="2381400"/>
              <a:ext cx="11160" cy="345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5" name=""/>
            <p:cNvSpPr/>
            <p:nvPr/>
          </p:nvSpPr>
          <p:spPr>
            <a:xfrm>
              <a:off x="8400960" y="2381400"/>
              <a:ext cx="104760" cy="345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6" name=""/>
            <p:cNvSpPr/>
            <p:nvPr/>
          </p:nvSpPr>
          <p:spPr>
            <a:xfrm>
              <a:off x="8400960" y="234468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7" name=""/>
            <p:cNvSpPr/>
            <p:nvPr/>
          </p:nvSpPr>
          <p:spPr>
            <a:xfrm>
              <a:off x="8412120" y="234468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8" name=""/>
            <p:cNvSpPr/>
            <p:nvPr/>
          </p:nvSpPr>
          <p:spPr>
            <a:xfrm>
              <a:off x="8424720" y="234468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9" name=""/>
            <p:cNvSpPr/>
            <p:nvPr/>
          </p:nvSpPr>
          <p:spPr>
            <a:xfrm>
              <a:off x="8435880" y="234468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0" name=""/>
            <p:cNvSpPr/>
            <p:nvPr/>
          </p:nvSpPr>
          <p:spPr>
            <a:xfrm>
              <a:off x="8447040" y="2344680"/>
              <a:ext cx="126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1" name=""/>
            <p:cNvSpPr/>
            <p:nvPr/>
          </p:nvSpPr>
          <p:spPr>
            <a:xfrm>
              <a:off x="8459640" y="2344680"/>
              <a:ext cx="1116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2" name=""/>
            <p:cNvSpPr/>
            <p:nvPr/>
          </p:nvSpPr>
          <p:spPr>
            <a:xfrm>
              <a:off x="8470800" y="234468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3" name=""/>
            <p:cNvSpPr/>
            <p:nvPr/>
          </p:nvSpPr>
          <p:spPr>
            <a:xfrm>
              <a:off x="8481960" y="2344680"/>
              <a:ext cx="126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4" name=""/>
          <p:cNvSpPr/>
          <p:nvPr/>
        </p:nvSpPr>
        <p:spPr>
          <a:xfrm>
            <a:off x="8494560" y="2344680"/>
            <a:ext cx="11160" cy="47520"/>
          </a:xfrm>
          <a:prstGeom prst="rect">
            <a:avLst/>
          </a:prstGeom>
          <a:solidFill>
            <a:srgbClr val="668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5" name=""/>
          <p:cNvSpPr/>
          <p:nvPr/>
        </p:nvSpPr>
        <p:spPr>
          <a:xfrm>
            <a:off x="8505720" y="2344680"/>
            <a:ext cx="11160" cy="47520"/>
          </a:xfrm>
          <a:prstGeom prst="rect">
            <a:avLst/>
          </a:prstGeom>
          <a:solidFill>
            <a:srgbClr val="567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6" name=""/>
          <p:cNvSpPr/>
          <p:nvPr/>
        </p:nvSpPr>
        <p:spPr>
          <a:xfrm>
            <a:off x="8516880" y="2344680"/>
            <a:ext cx="12600" cy="47520"/>
          </a:xfrm>
          <a:prstGeom prst="rect">
            <a:avLst/>
          </a:prstGeom>
          <a:solidFill>
            <a:srgbClr val="4071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7" name=""/>
          <p:cNvSpPr/>
          <p:nvPr/>
        </p:nvSpPr>
        <p:spPr>
          <a:xfrm>
            <a:off x="8529480" y="2344680"/>
            <a:ext cx="11160" cy="47520"/>
          </a:xfrm>
          <a:prstGeom prst="rect">
            <a:avLst/>
          </a:prstGeom>
          <a:solidFill>
            <a:srgbClr val="286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8" name=""/>
          <p:cNvSpPr/>
          <p:nvPr/>
        </p:nvSpPr>
        <p:spPr>
          <a:xfrm>
            <a:off x="8540640" y="2344680"/>
            <a:ext cx="11160" cy="47520"/>
          </a:xfrm>
          <a:prstGeom prst="rect">
            <a:avLst/>
          </a:prstGeom>
          <a:solidFill>
            <a:srgbClr val="0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9" name=""/>
          <p:cNvSpPr/>
          <p:nvPr/>
        </p:nvSpPr>
        <p:spPr>
          <a:xfrm>
            <a:off x="8400960" y="2344680"/>
            <a:ext cx="139680" cy="36720"/>
          </a:xfrm>
          <a:custGeom>
            <a:avLst/>
            <a:gdLst/>
            <a:ahLst/>
            <a:rect l="l" t="t" r="r" b="b"/>
            <a:pathLst>
              <a:path w="88" h="23">
                <a:moveTo>
                  <a:pt x="66" y="23"/>
                </a:moveTo>
                <a:lnTo>
                  <a:pt x="88" y="0"/>
                </a:lnTo>
                <a:lnTo>
                  <a:pt x="22" y="0"/>
                </a:lnTo>
                <a:lnTo>
                  <a:pt x="0" y="23"/>
                </a:lnTo>
                <a:lnTo>
                  <a:pt x="66" y="23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0" name=""/>
          <p:cNvSpPr/>
          <p:nvPr/>
        </p:nvSpPr>
        <p:spPr>
          <a:xfrm>
            <a:off x="8505720" y="2273400"/>
            <a:ext cx="11160" cy="118800"/>
          </a:xfrm>
          <a:prstGeom prst="rect">
            <a:avLst/>
          </a:prstGeom>
          <a:solidFill>
            <a:srgbClr val="7e7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1" name=""/>
          <p:cNvSpPr/>
          <p:nvPr/>
        </p:nvSpPr>
        <p:spPr>
          <a:xfrm>
            <a:off x="8516880" y="2273400"/>
            <a:ext cx="12600" cy="118800"/>
          </a:xfrm>
          <a:prstGeom prst="rect">
            <a:avLst/>
          </a:prstGeom>
          <a:solidFill>
            <a:srgbClr val="7676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2" name=""/>
          <p:cNvSpPr/>
          <p:nvPr/>
        </p:nvSpPr>
        <p:spPr>
          <a:xfrm>
            <a:off x="8529480" y="2273400"/>
            <a:ext cx="11160" cy="118800"/>
          </a:xfrm>
          <a:prstGeom prst="rect">
            <a:avLst/>
          </a:prstGeom>
          <a:solidFill>
            <a:srgbClr val="7676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3" name=""/>
          <p:cNvSpPr/>
          <p:nvPr/>
        </p:nvSpPr>
        <p:spPr>
          <a:xfrm>
            <a:off x="8540640" y="2273400"/>
            <a:ext cx="11160" cy="1188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4" name=""/>
          <p:cNvSpPr/>
          <p:nvPr/>
        </p:nvSpPr>
        <p:spPr>
          <a:xfrm>
            <a:off x="8505720" y="2273400"/>
            <a:ext cx="34920" cy="108000"/>
          </a:xfrm>
          <a:custGeom>
            <a:avLst/>
            <a:gdLst/>
            <a:ahLst/>
            <a:rect l="l" t="t" r="r" b="b"/>
            <a:pathLst>
              <a:path w="22" h="68">
                <a:moveTo>
                  <a:pt x="0" y="68"/>
                </a:moveTo>
                <a:lnTo>
                  <a:pt x="0" y="23"/>
                </a:lnTo>
                <a:lnTo>
                  <a:pt x="22" y="0"/>
                </a:lnTo>
                <a:lnTo>
                  <a:pt x="22" y="45"/>
                </a:lnTo>
                <a:lnTo>
                  <a:pt x="0" y="68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5" name=""/>
          <p:cNvSpPr/>
          <p:nvPr/>
        </p:nvSpPr>
        <p:spPr>
          <a:xfrm>
            <a:off x="8400960" y="2309760"/>
            <a:ext cx="11160" cy="71640"/>
          </a:xfrm>
          <a:prstGeom prst="rect">
            <a:avLst/>
          </a:prstGeom>
          <a:solidFill>
            <a:srgbClr val="fff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6" name=""/>
          <p:cNvSpPr/>
          <p:nvPr/>
        </p:nvSpPr>
        <p:spPr>
          <a:xfrm>
            <a:off x="8412120" y="2309760"/>
            <a:ext cx="12600" cy="71640"/>
          </a:xfrm>
          <a:prstGeom prst="rect">
            <a:avLst/>
          </a:prstGeom>
          <a:solidFill>
            <a:srgbClr val="fff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7" name=""/>
          <p:cNvSpPr/>
          <p:nvPr/>
        </p:nvSpPr>
        <p:spPr>
          <a:xfrm>
            <a:off x="8424720" y="2309760"/>
            <a:ext cx="11160" cy="71640"/>
          </a:xfrm>
          <a:prstGeom prst="rect">
            <a:avLst/>
          </a:prstGeom>
          <a:solidFill>
            <a:srgbClr val="ffff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8" name=""/>
          <p:cNvSpPr/>
          <p:nvPr/>
        </p:nvSpPr>
        <p:spPr>
          <a:xfrm>
            <a:off x="8435880" y="2309760"/>
            <a:ext cx="11160" cy="71640"/>
          </a:xfrm>
          <a:prstGeom prst="rect">
            <a:avLst/>
          </a:prstGeom>
          <a:solidFill>
            <a:srgbClr val="ffff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9" name=""/>
          <p:cNvSpPr/>
          <p:nvPr/>
        </p:nvSpPr>
        <p:spPr>
          <a:xfrm>
            <a:off x="8447040" y="2309760"/>
            <a:ext cx="12600" cy="71640"/>
          </a:xfrm>
          <a:prstGeom prst="rect">
            <a:avLst/>
          </a:prstGeom>
          <a:solidFill>
            <a:srgbClr val="fff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0" name=""/>
          <p:cNvSpPr/>
          <p:nvPr/>
        </p:nvSpPr>
        <p:spPr>
          <a:xfrm>
            <a:off x="8459640" y="2309760"/>
            <a:ext cx="11160" cy="71640"/>
          </a:xfrm>
          <a:prstGeom prst="rect">
            <a:avLst/>
          </a:prstGeom>
          <a:solidFill>
            <a:srgbClr val="fff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1" name=""/>
          <p:cNvSpPr/>
          <p:nvPr/>
        </p:nvSpPr>
        <p:spPr>
          <a:xfrm>
            <a:off x="8470800" y="2309760"/>
            <a:ext cx="11160" cy="71640"/>
          </a:xfrm>
          <a:prstGeom prst="rect">
            <a:avLst/>
          </a:prstGeom>
          <a:solidFill>
            <a:srgbClr val="ffff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2" name=""/>
          <p:cNvSpPr/>
          <p:nvPr/>
        </p:nvSpPr>
        <p:spPr>
          <a:xfrm>
            <a:off x="8481960" y="2309760"/>
            <a:ext cx="12600" cy="71640"/>
          </a:xfrm>
          <a:prstGeom prst="rect">
            <a:avLst/>
          </a:prstGeom>
          <a:solidFill>
            <a:srgbClr val="fff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3" name=""/>
          <p:cNvSpPr/>
          <p:nvPr/>
        </p:nvSpPr>
        <p:spPr>
          <a:xfrm>
            <a:off x="8494560" y="2309760"/>
            <a:ext cx="11160" cy="7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4" name=""/>
          <p:cNvSpPr/>
          <p:nvPr/>
        </p:nvSpPr>
        <p:spPr>
          <a:xfrm>
            <a:off x="8400960" y="2309760"/>
            <a:ext cx="104760" cy="716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5" name=""/>
          <p:cNvSpPr/>
          <p:nvPr/>
        </p:nvSpPr>
        <p:spPr>
          <a:xfrm>
            <a:off x="8400960" y="2273400"/>
            <a:ext cx="11160" cy="47520"/>
          </a:xfrm>
          <a:prstGeom prst="rect">
            <a:avLst/>
          </a:prstGeom>
          <a:solidFill>
            <a:srgbClr val="bebe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6" name=""/>
          <p:cNvSpPr/>
          <p:nvPr/>
        </p:nvSpPr>
        <p:spPr>
          <a:xfrm>
            <a:off x="8412120" y="2273400"/>
            <a:ext cx="12600" cy="47520"/>
          </a:xfrm>
          <a:prstGeom prst="rect">
            <a:avLst/>
          </a:prstGeom>
          <a:solidFill>
            <a:srgbClr val="beb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7" name=""/>
          <p:cNvSpPr/>
          <p:nvPr/>
        </p:nvSpPr>
        <p:spPr>
          <a:xfrm>
            <a:off x="8424720" y="2273400"/>
            <a:ext cx="11160" cy="47520"/>
          </a:xfrm>
          <a:prstGeom prst="rect">
            <a:avLst/>
          </a:prstGeom>
          <a:solidFill>
            <a:srgbClr val="bdbd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8" name=""/>
          <p:cNvSpPr/>
          <p:nvPr/>
        </p:nvSpPr>
        <p:spPr>
          <a:xfrm>
            <a:off x="8435880" y="2273400"/>
            <a:ext cx="11160" cy="47520"/>
          </a:xfrm>
          <a:prstGeom prst="rect">
            <a:avLst/>
          </a:prstGeom>
          <a:solidFill>
            <a:srgbClr val="bb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9" name=""/>
          <p:cNvSpPr/>
          <p:nvPr/>
        </p:nvSpPr>
        <p:spPr>
          <a:xfrm>
            <a:off x="8447040" y="2273400"/>
            <a:ext cx="12600" cy="47520"/>
          </a:xfrm>
          <a:prstGeom prst="rect">
            <a:avLst/>
          </a:prstGeom>
          <a:solidFill>
            <a:srgbClr val="bab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0" name=""/>
          <p:cNvSpPr/>
          <p:nvPr/>
        </p:nvSpPr>
        <p:spPr>
          <a:xfrm>
            <a:off x="8459640" y="2273400"/>
            <a:ext cx="11160" cy="47520"/>
          </a:xfrm>
          <a:prstGeom prst="rect">
            <a:avLst/>
          </a:prstGeom>
          <a:solidFill>
            <a:srgbClr val="b9b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1" name=""/>
          <p:cNvSpPr/>
          <p:nvPr/>
        </p:nvSpPr>
        <p:spPr>
          <a:xfrm>
            <a:off x="8470800" y="2273400"/>
            <a:ext cx="11160" cy="47520"/>
          </a:xfrm>
          <a:prstGeom prst="rect">
            <a:avLst/>
          </a:prstGeom>
          <a:solidFill>
            <a:srgbClr val="b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2" name=""/>
          <p:cNvSpPr/>
          <p:nvPr/>
        </p:nvSpPr>
        <p:spPr>
          <a:xfrm>
            <a:off x="8481960" y="2273400"/>
            <a:ext cx="12600" cy="47520"/>
          </a:xfrm>
          <a:prstGeom prst="rect">
            <a:avLst/>
          </a:prstGeom>
          <a:solidFill>
            <a:srgbClr val="b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3" name=""/>
          <p:cNvSpPr/>
          <p:nvPr/>
        </p:nvSpPr>
        <p:spPr>
          <a:xfrm>
            <a:off x="8494560" y="2273400"/>
            <a:ext cx="11160" cy="47520"/>
          </a:xfrm>
          <a:prstGeom prst="rect">
            <a:avLst/>
          </a:prstGeom>
          <a:solidFill>
            <a:srgbClr val="bab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4" name=""/>
          <p:cNvSpPr/>
          <p:nvPr/>
        </p:nvSpPr>
        <p:spPr>
          <a:xfrm>
            <a:off x="8505720" y="2273400"/>
            <a:ext cx="11160" cy="47520"/>
          </a:xfrm>
          <a:prstGeom prst="rect">
            <a:avLst/>
          </a:prstGeom>
          <a:solidFill>
            <a:srgbClr val="bb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5" name=""/>
          <p:cNvSpPr/>
          <p:nvPr/>
        </p:nvSpPr>
        <p:spPr>
          <a:xfrm>
            <a:off x="8516880" y="2273400"/>
            <a:ext cx="12600" cy="47520"/>
          </a:xfrm>
          <a:prstGeom prst="rect">
            <a:avLst/>
          </a:prstGeom>
          <a:solidFill>
            <a:srgbClr val="bdbd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6" name=""/>
          <p:cNvSpPr/>
          <p:nvPr/>
        </p:nvSpPr>
        <p:spPr>
          <a:xfrm>
            <a:off x="8529480" y="2273400"/>
            <a:ext cx="11160" cy="47520"/>
          </a:xfrm>
          <a:prstGeom prst="rect">
            <a:avLst/>
          </a:prstGeom>
          <a:solidFill>
            <a:srgbClr val="beb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7" name=""/>
          <p:cNvSpPr/>
          <p:nvPr/>
        </p:nvSpPr>
        <p:spPr>
          <a:xfrm>
            <a:off x="8540640" y="2273400"/>
            <a:ext cx="11160" cy="47520"/>
          </a:xfrm>
          <a:prstGeom prst="rect">
            <a:avLst/>
          </a:prstGeom>
          <a:solidFill>
            <a:srgbClr val="b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8" name=""/>
          <p:cNvSpPr/>
          <p:nvPr/>
        </p:nvSpPr>
        <p:spPr>
          <a:xfrm>
            <a:off x="8400960" y="2273400"/>
            <a:ext cx="139680" cy="36360"/>
          </a:xfrm>
          <a:custGeom>
            <a:avLst/>
            <a:gdLst/>
            <a:ahLst/>
            <a:rect l="l" t="t" r="r" b="b"/>
            <a:pathLst>
              <a:path w="88" h="23">
                <a:moveTo>
                  <a:pt x="66" y="23"/>
                </a:moveTo>
                <a:lnTo>
                  <a:pt x="88" y="0"/>
                </a:lnTo>
                <a:lnTo>
                  <a:pt x="22" y="0"/>
                </a:lnTo>
                <a:lnTo>
                  <a:pt x="0" y="23"/>
                </a:lnTo>
                <a:lnTo>
                  <a:pt x="66" y="23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9" name=""/>
          <p:cNvSpPr/>
          <p:nvPr/>
        </p:nvSpPr>
        <p:spPr>
          <a:xfrm>
            <a:off x="8505720" y="2249640"/>
            <a:ext cx="11160" cy="71280"/>
          </a:xfrm>
          <a:prstGeom prst="rect">
            <a:avLst/>
          </a:prstGeom>
          <a:solidFill>
            <a:srgbClr val="431a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0" name=""/>
          <p:cNvSpPr/>
          <p:nvPr/>
        </p:nvSpPr>
        <p:spPr>
          <a:xfrm>
            <a:off x="8516880" y="2249640"/>
            <a:ext cx="12600" cy="71280"/>
          </a:xfrm>
          <a:prstGeom prst="rect">
            <a:avLst/>
          </a:prstGeom>
          <a:solidFill>
            <a:srgbClr val="5445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1" name=""/>
          <p:cNvSpPr/>
          <p:nvPr/>
        </p:nvSpPr>
        <p:spPr>
          <a:xfrm>
            <a:off x="8529480" y="2249640"/>
            <a:ext cx="11160" cy="71280"/>
          </a:xfrm>
          <a:prstGeom prst="rect">
            <a:avLst/>
          </a:prstGeom>
          <a:solidFill>
            <a:srgbClr val="5445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2" name=""/>
          <p:cNvSpPr/>
          <p:nvPr/>
        </p:nvSpPr>
        <p:spPr>
          <a:xfrm>
            <a:off x="8540640" y="2249640"/>
            <a:ext cx="11160" cy="71280"/>
          </a:xfrm>
          <a:prstGeom prst="rect">
            <a:avLst/>
          </a:prstGeom>
          <a:solidFill>
            <a:srgbClr val="400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3" name=""/>
          <p:cNvSpPr/>
          <p:nvPr/>
        </p:nvSpPr>
        <p:spPr>
          <a:xfrm>
            <a:off x="8505720" y="2249640"/>
            <a:ext cx="34920" cy="60120"/>
          </a:xfrm>
          <a:custGeom>
            <a:avLst/>
            <a:gdLst/>
            <a:ahLst/>
            <a:rect l="l" t="t" r="r" b="b"/>
            <a:pathLst>
              <a:path w="22" h="38">
                <a:moveTo>
                  <a:pt x="0" y="38"/>
                </a:moveTo>
                <a:lnTo>
                  <a:pt x="0" y="23"/>
                </a:lnTo>
                <a:lnTo>
                  <a:pt x="22" y="0"/>
                </a:lnTo>
                <a:lnTo>
                  <a:pt x="22" y="15"/>
                </a:lnTo>
                <a:lnTo>
                  <a:pt x="0" y="38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4" name=""/>
          <p:cNvSpPr/>
          <p:nvPr/>
        </p:nvSpPr>
        <p:spPr>
          <a:xfrm>
            <a:off x="8400960" y="2286000"/>
            <a:ext cx="11160" cy="23760"/>
          </a:xfrm>
          <a:prstGeom prst="rect">
            <a:avLst/>
          </a:prstGeom>
          <a:solidFill>
            <a:srgbClr val="831a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5" name=""/>
          <p:cNvSpPr/>
          <p:nvPr/>
        </p:nvSpPr>
        <p:spPr>
          <a:xfrm>
            <a:off x="8412120" y="2286000"/>
            <a:ext cx="12600" cy="23760"/>
          </a:xfrm>
          <a:prstGeom prst="rect">
            <a:avLst/>
          </a:prstGeom>
          <a:solidFill>
            <a:srgbClr val="934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6" name=""/>
          <p:cNvSpPr/>
          <p:nvPr/>
        </p:nvSpPr>
        <p:spPr>
          <a:xfrm>
            <a:off x="8424720" y="2286000"/>
            <a:ext cx="11160" cy="23760"/>
          </a:xfrm>
          <a:prstGeom prst="rect">
            <a:avLst/>
          </a:prstGeom>
          <a:solidFill>
            <a:srgbClr val="ac6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7" name=""/>
          <p:cNvSpPr/>
          <p:nvPr/>
        </p:nvSpPr>
        <p:spPr>
          <a:xfrm>
            <a:off x="8435880" y="2286000"/>
            <a:ext cx="11160" cy="23760"/>
          </a:xfrm>
          <a:prstGeom prst="rect">
            <a:avLst/>
          </a:prstGeom>
          <a:solidFill>
            <a:srgbClr val="be80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8" name=""/>
          <p:cNvSpPr/>
          <p:nvPr/>
        </p:nvSpPr>
        <p:spPr>
          <a:xfrm>
            <a:off x="8447040" y="2286000"/>
            <a:ext cx="12600" cy="23760"/>
          </a:xfrm>
          <a:prstGeom prst="rect">
            <a:avLst/>
          </a:prstGeom>
          <a:solidFill>
            <a:srgbClr val="c58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9" name=""/>
          <p:cNvSpPr/>
          <p:nvPr/>
        </p:nvSpPr>
        <p:spPr>
          <a:xfrm>
            <a:off x="8459640" y="2286000"/>
            <a:ext cx="11160" cy="23760"/>
          </a:xfrm>
          <a:prstGeom prst="rect">
            <a:avLst/>
          </a:prstGeom>
          <a:solidFill>
            <a:srgbClr val="c58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0" name=""/>
          <p:cNvSpPr/>
          <p:nvPr/>
        </p:nvSpPr>
        <p:spPr>
          <a:xfrm>
            <a:off x="8470800" y="2286000"/>
            <a:ext cx="11160" cy="23760"/>
          </a:xfrm>
          <a:prstGeom prst="rect">
            <a:avLst/>
          </a:prstGeom>
          <a:solidFill>
            <a:srgbClr val="ac6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1" name=""/>
          <p:cNvSpPr/>
          <p:nvPr/>
        </p:nvSpPr>
        <p:spPr>
          <a:xfrm>
            <a:off x="8481960" y="2286000"/>
            <a:ext cx="12600" cy="23760"/>
          </a:xfrm>
          <a:prstGeom prst="rect">
            <a:avLst/>
          </a:prstGeom>
          <a:solidFill>
            <a:srgbClr val="934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2" name=""/>
          <p:cNvSpPr/>
          <p:nvPr/>
        </p:nvSpPr>
        <p:spPr>
          <a:xfrm>
            <a:off x="8494560" y="2286000"/>
            <a:ext cx="11160" cy="237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3" name=""/>
          <p:cNvSpPr/>
          <p:nvPr/>
        </p:nvSpPr>
        <p:spPr>
          <a:xfrm>
            <a:off x="8400960" y="2286000"/>
            <a:ext cx="104760" cy="23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4" name=""/>
          <p:cNvSpPr/>
          <p:nvPr/>
        </p:nvSpPr>
        <p:spPr>
          <a:xfrm>
            <a:off x="8400960" y="2249640"/>
            <a:ext cx="11160" cy="47520"/>
          </a:xfrm>
          <a:prstGeom prst="rect">
            <a:avLst/>
          </a:prstGeom>
          <a:solidFill>
            <a:srgbClr val="610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5" name=""/>
          <p:cNvSpPr/>
          <p:nvPr/>
        </p:nvSpPr>
        <p:spPr>
          <a:xfrm>
            <a:off x="8412120" y="2249640"/>
            <a:ext cx="12600" cy="47520"/>
          </a:xfrm>
          <a:prstGeom prst="rect">
            <a:avLst/>
          </a:prstGeom>
          <a:solidFill>
            <a:srgbClr val="652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6" name=""/>
          <p:cNvSpPr/>
          <p:nvPr/>
        </p:nvSpPr>
        <p:spPr>
          <a:xfrm>
            <a:off x="8424720" y="2249640"/>
            <a:ext cx="11160" cy="47520"/>
          </a:xfrm>
          <a:prstGeom prst="rect">
            <a:avLst/>
          </a:prstGeom>
          <a:solidFill>
            <a:srgbClr val="6e39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7" name=""/>
          <p:cNvSpPr/>
          <p:nvPr/>
        </p:nvSpPr>
        <p:spPr>
          <a:xfrm>
            <a:off x="8435880" y="2249640"/>
            <a:ext cx="11160" cy="47520"/>
          </a:xfrm>
          <a:prstGeom prst="rect">
            <a:avLst/>
          </a:prstGeom>
          <a:solidFill>
            <a:srgbClr val="784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8" name=""/>
          <p:cNvSpPr/>
          <p:nvPr/>
        </p:nvSpPr>
        <p:spPr>
          <a:xfrm>
            <a:off x="8447040" y="2249640"/>
            <a:ext cx="12600" cy="47520"/>
          </a:xfrm>
          <a:prstGeom prst="rect">
            <a:avLst/>
          </a:prstGeom>
          <a:solidFill>
            <a:srgbClr val="815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9" name=""/>
          <p:cNvSpPr/>
          <p:nvPr/>
        </p:nvSpPr>
        <p:spPr>
          <a:xfrm>
            <a:off x="8459640" y="2249640"/>
            <a:ext cx="11160" cy="47520"/>
          </a:xfrm>
          <a:prstGeom prst="rect">
            <a:avLst/>
          </a:prstGeom>
          <a:solidFill>
            <a:srgbClr val="8663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0" name=""/>
          <p:cNvSpPr/>
          <p:nvPr/>
        </p:nvSpPr>
        <p:spPr>
          <a:xfrm>
            <a:off x="8470800" y="2249640"/>
            <a:ext cx="11160" cy="47520"/>
          </a:xfrm>
          <a:prstGeom prst="rect">
            <a:avLst/>
          </a:prstGeom>
          <a:solidFill>
            <a:srgbClr val="89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1" name=""/>
          <p:cNvSpPr/>
          <p:nvPr/>
        </p:nvSpPr>
        <p:spPr>
          <a:xfrm>
            <a:off x="8481960" y="2249640"/>
            <a:ext cx="12600" cy="47520"/>
          </a:xfrm>
          <a:prstGeom prst="rect">
            <a:avLst/>
          </a:prstGeom>
          <a:solidFill>
            <a:srgbClr val="89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2" name=""/>
          <p:cNvSpPr/>
          <p:nvPr/>
        </p:nvSpPr>
        <p:spPr>
          <a:xfrm>
            <a:off x="8494560" y="2249640"/>
            <a:ext cx="11160" cy="47520"/>
          </a:xfrm>
          <a:prstGeom prst="rect">
            <a:avLst/>
          </a:prstGeom>
          <a:solidFill>
            <a:srgbClr val="815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3" name=""/>
          <p:cNvSpPr/>
          <p:nvPr/>
        </p:nvSpPr>
        <p:spPr>
          <a:xfrm>
            <a:off x="8505720" y="2249640"/>
            <a:ext cx="11160" cy="47520"/>
          </a:xfrm>
          <a:prstGeom prst="rect">
            <a:avLst/>
          </a:prstGeom>
          <a:solidFill>
            <a:srgbClr val="784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4" name=""/>
          <p:cNvSpPr/>
          <p:nvPr/>
        </p:nvSpPr>
        <p:spPr>
          <a:xfrm>
            <a:off x="8516880" y="2249640"/>
            <a:ext cx="12600" cy="47520"/>
          </a:xfrm>
          <a:prstGeom prst="rect">
            <a:avLst/>
          </a:prstGeom>
          <a:solidFill>
            <a:srgbClr val="6e39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5" name=""/>
          <p:cNvSpPr/>
          <p:nvPr/>
        </p:nvSpPr>
        <p:spPr>
          <a:xfrm>
            <a:off x="8529480" y="2249640"/>
            <a:ext cx="11160" cy="47520"/>
          </a:xfrm>
          <a:prstGeom prst="rect">
            <a:avLst/>
          </a:prstGeom>
          <a:solidFill>
            <a:srgbClr val="652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6" name=""/>
          <p:cNvSpPr/>
          <p:nvPr/>
        </p:nvSpPr>
        <p:spPr>
          <a:xfrm>
            <a:off x="8540640" y="2249640"/>
            <a:ext cx="11160" cy="47520"/>
          </a:xfrm>
          <a:prstGeom prst="rect">
            <a:avLst/>
          </a:prstGeom>
          <a:solidFill>
            <a:srgbClr val="600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7" name=""/>
          <p:cNvSpPr/>
          <p:nvPr/>
        </p:nvSpPr>
        <p:spPr>
          <a:xfrm>
            <a:off x="8400960" y="2249640"/>
            <a:ext cx="139680" cy="36360"/>
          </a:xfrm>
          <a:custGeom>
            <a:avLst/>
            <a:gdLst/>
            <a:ahLst/>
            <a:rect l="l" t="t" r="r" b="b"/>
            <a:pathLst>
              <a:path w="88" h="23">
                <a:moveTo>
                  <a:pt x="66" y="23"/>
                </a:moveTo>
                <a:lnTo>
                  <a:pt x="88" y="0"/>
                </a:lnTo>
                <a:lnTo>
                  <a:pt x="22" y="0"/>
                </a:lnTo>
                <a:lnTo>
                  <a:pt x="0" y="23"/>
                </a:lnTo>
                <a:lnTo>
                  <a:pt x="66" y="23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8" name=""/>
          <p:cNvSpPr/>
          <p:nvPr/>
        </p:nvSpPr>
        <p:spPr>
          <a:xfrm flipV="1">
            <a:off x="1055520" y="2069640"/>
            <a:ext cx="1800" cy="3318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9" name=""/>
          <p:cNvSpPr/>
          <p:nvPr/>
        </p:nvSpPr>
        <p:spPr>
          <a:xfrm flipH="1">
            <a:off x="1009440" y="5388120"/>
            <a:ext cx="45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0" name=""/>
          <p:cNvSpPr/>
          <p:nvPr/>
        </p:nvSpPr>
        <p:spPr>
          <a:xfrm flipH="1">
            <a:off x="1009440" y="4838760"/>
            <a:ext cx="45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1" name=""/>
          <p:cNvSpPr/>
          <p:nvPr/>
        </p:nvSpPr>
        <p:spPr>
          <a:xfrm flipH="1">
            <a:off x="1009440" y="4278240"/>
            <a:ext cx="45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2" name=""/>
          <p:cNvSpPr/>
          <p:nvPr/>
        </p:nvSpPr>
        <p:spPr>
          <a:xfrm flipH="1">
            <a:off x="1009440" y="3728880"/>
            <a:ext cx="45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3" name=""/>
          <p:cNvSpPr/>
          <p:nvPr/>
        </p:nvSpPr>
        <p:spPr>
          <a:xfrm flipH="1">
            <a:off x="1009440" y="3179880"/>
            <a:ext cx="45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4" name=""/>
          <p:cNvSpPr/>
          <p:nvPr/>
        </p:nvSpPr>
        <p:spPr>
          <a:xfrm flipH="1">
            <a:off x="1009440" y="2619360"/>
            <a:ext cx="45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5" name=""/>
          <p:cNvSpPr/>
          <p:nvPr/>
        </p:nvSpPr>
        <p:spPr>
          <a:xfrm flipH="1">
            <a:off x="1009440" y="2070000"/>
            <a:ext cx="45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6" name=""/>
          <p:cNvSpPr/>
          <p:nvPr/>
        </p:nvSpPr>
        <p:spPr>
          <a:xfrm>
            <a:off x="942840" y="5292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7" name=""/>
          <p:cNvSpPr/>
          <p:nvPr/>
        </p:nvSpPr>
        <p:spPr>
          <a:xfrm>
            <a:off x="587880" y="4743360"/>
            <a:ext cx="47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8" name=""/>
          <p:cNvSpPr/>
          <p:nvPr/>
        </p:nvSpPr>
        <p:spPr>
          <a:xfrm>
            <a:off x="587880" y="4183200"/>
            <a:ext cx="47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9" name=""/>
          <p:cNvSpPr/>
          <p:nvPr/>
        </p:nvSpPr>
        <p:spPr>
          <a:xfrm>
            <a:off x="587880" y="3633840"/>
            <a:ext cx="47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0" name=""/>
          <p:cNvSpPr/>
          <p:nvPr/>
        </p:nvSpPr>
        <p:spPr>
          <a:xfrm>
            <a:off x="587880" y="3084480"/>
            <a:ext cx="47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1" name=""/>
          <p:cNvSpPr/>
          <p:nvPr/>
        </p:nvSpPr>
        <p:spPr>
          <a:xfrm>
            <a:off x="587880" y="2523960"/>
            <a:ext cx="47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2" name=""/>
          <p:cNvSpPr/>
          <p:nvPr/>
        </p:nvSpPr>
        <p:spPr>
          <a:xfrm>
            <a:off x="587880" y="1974960"/>
            <a:ext cx="47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3" name=""/>
          <p:cNvSpPr/>
          <p:nvPr/>
        </p:nvSpPr>
        <p:spPr>
          <a:xfrm>
            <a:off x="1055520" y="5388120"/>
            <a:ext cx="74962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4" name=""/>
          <p:cNvSpPr/>
          <p:nvPr/>
        </p:nvSpPr>
        <p:spPr>
          <a:xfrm>
            <a:off x="105552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5" name=""/>
          <p:cNvSpPr/>
          <p:nvPr/>
        </p:nvSpPr>
        <p:spPr>
          <a:xfrm>
            <a:off x="132228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6" name=""/>
          <p:cNvSpPr/>
          <p:nvPr/>
        </p:nvSpPr>
        <p:spPr>
          <a:xfrm>
            <a:off x="158904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7" name=""/>
          <p:cNvSpPr/>
          <p:nvPr/>
        </p:nvSpPr>
        <p:spPr>
          <a:xfrm>
            <a:off x="185724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8" name=""/>
          <p:cNvSpPr/>
          <p:nvPr/>
        </p:nvSpPr>
        <p:spPr>
          <a:xfrm>
            <a:off x="212400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9" name=""/>
          <p:cNvSpPr/>
          <p:nvPr/>
        </p:nvSpPr>
        <p:spPr>
          <a:xfrm>
            <a:off x="239076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0" name=""/>
          <p:cNvSpPr/>
          <p:nvPr/>
        </p:nvSpPr>
        <p:spPr>
          <a:xfrm>
            <a:off x="265752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1" name=""/>
          <p:cNvSpPr/>
          <p:nvPr/>
        </p:nvSpPr>
        <p:spPr>
          <a:xfrm>
            <a:off x="292428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2" name=""/>
          <p:cNvSpPr/>
          <p:nvPr/>
        </p:nvSpPr>
        <p:spPr>
          <a:xfrm>
            <a:off x="319104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3" name=""/>
          <p:cNvSpPr/>
          <p:nvPr/>
        </p:nvSpPr>
        <p:spPr>
          <a:xfrm>
            <a:off x="347040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4" name=""/>
          <p:cNvSpPr/>
          <p:nvPr/>
        </p:nvSpPr>
        <p:spPr>
          <a:xfrm>
            <a:off x="373680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5" name=""/>
          <p:cNvSpPr/>
          <p:nvPr/>
        </p:nvSpPr>
        <p:spPr>
          <a:xfrm>
            <a:off x="400356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6" name=""/>
          <p:cNvSpPr/>
          <p:nvPr/>
        </p:nvSpPr>
        <p:spPr>
          <a:xfrm>
            <a:off x="427032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7" name=""/>
          <p:cNvSpPr/>
          <p:nvPr/>
        </p:nvSpPr>
        <p:spPr>
          <a:xfrm>
            <a:off x="453708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8" name=""/>
          <p:cNvSpPr/>
          <p:nvPr/>
        </p:nvSpPr>
        <p:spPr>
          <a:xfrm>
            <a:off x="480384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9" name=""/>
          <p:cNvSpPr/>
          <p:nvPr/>
        </p:nvSpPr>
        <p:spPr>
          <a:xfrm>
            <a:off x="507060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0" name=""/>
          <p:cNvSpPr/>
          <p:nvPr/>
        </p:nvSpPr>
        <p:spPr>
          <a:xfrm>
            <a:off x="533700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1" name=""/>
          <p:cNvSpPr/>
          <p:nvPr/>
        </p:nvSpPr>
        <p:spPr>
          <a:xfrm>
            <a:off x="560556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2" name=""/>
          <p:cNvSpPr/>
          <p:nvPr/>
        </p:nvSpPr>
        <p:spPr>
          <a:xfrm>
            <a:off x="587232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3" name=""/>
          <p:cNvSpPr/>
          <p:nvPr/>
        </p:nvSpPr>
        <p:spPr>
          <a:xfrm>
            <a:off x="614988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4" name=""/>
          <p:cNvSpPr/>
          <p:nvPr/>
        </p:nvSpPr>
        <p:spPr>
          <a:xfrm>
            <a:off x="641664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5" name=""/>
          <p:cNvSpPr/>
          <p:nvPr/>
        </p:nvSpPr>
        <p:spPr>
          <a:xfrm>
            <a:off x="668340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6" name=""/>
          <p:cNvSpPr/>
          <p:nvPr/>
        </p:nvSpPr>
        <p:spPr>
          <a:xfrm>
            <a:off x="695016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7" name=""/>
          <p:cNvSpPr/>
          <p:nvPr/>
        </p:nvSpPr>
        <p:spPr>
          <a:xfrm>
            <a:off x="721836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8" name=""/>
          <p:cNvSpPr/>
          <p:nvPr/>
        </p:nvSpPr>
        <p:spPr>
          <a:xfrm>
            <a:off x="748512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9" name=""/>
          <p:cNvSpPr/>
          <p:nvPr/>
        </p:nvSpPr>
        <p:spPr>
          <a:xfrm>
            <a:off x="775188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0" name=""/>
          <p:cNvSpPr/>
          <p:nvPr/>
        </p:nvSpPr>
        <p:spPr>
          <a:xfrm>
            <a:off x="8018640" y="5388120"/>
            <a:ext cx="144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1" name=""/>
          <p:cNvSpPr/>
          <p:nvPr/>
        </p:nvSpPr>
        <p:spPr>
          <a:xfrm>
            <a:off x="828504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2" name=""/>
          <p:cNvSpPr/>
          <p:nvPr/>
        </p:nvSpPr>
        <p:spPr>
          <a:xfrm>
            <a:off x="8551800" y="5388120"/>
            <a:ext cx="1800" cy="47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3" name=""/>
          <p:cNvSpPr/>
          <p:nvPr/>
        </p:nvSpPr>
        <p:spPr>
          <a:xfrm rot="16200000">
            <a:off x="100944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4" name=""/>
          <p:cNvSpPr/>
          <p:nvPr/>
        </p:nvSpPr>
        <p:spPr>
          <a:xfrm rot="16200000">
            <a:off x="127620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5" name=""/>
          <p:cNvSpPr/>
          <p:nvPr/>
        </p:nvSpPr>
        <p:spPr>
          <a:xfrm rot="16200000">
            <a:off x="154296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6" name=""/>
          <p:cNvSpPr/>
          <p:nvPr/>
        </p:nvSpPr>
        <p:spPr>
          <a:xfrm rot="16200000">
            <a:off x="18223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7" name=""/>
          <p:cNvSpPr/>
          <p:nvPr/>
        </p:nvSpPr>
        <p:spPr>
          <a:xfrm rot="16200000">
            <a:off x="208908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8" name=""/>
          <p:cNvSpPr/>
          <p:nvPr/>
        </p:nvSpPr>
        <p:spPr>
          <a:xfrm rot="16200000">
            <a:off x="235584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9" name=""/>
          <p:cNvSpPr/>
          <p:nvPr/>
        </p:nvSpPr>
        <p:spPr>
          <a:xfrm rot="16200000">
            <a:off x="262224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0" name=""/>
          <p:cNvSpPr/>
          <p:nvPr/>
        </p:nvSpPr>
        <p:spPr>
          <a:xfrm rot="16200000">
            <a:off x="288900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1" name=""/>
          <p:cNvSpPr/>
          <p:nvPr/>
        </p:nvSpPr>
        <p:spPr>
          <a:xfrm rot="16200000">
            <a:off x="315576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2" name=""/>
          <p:cNvSpPr/>
          <p:nvPr/>
        </p:nvSpPr>
        <p:spPr>
          <a:xfrm rot="16200000">
            <a:off x="342396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3" name=""/>
          <p:cNvSpPr/>
          <p:nvPr/>
        </p:nvSpPr>
        <p:spPr>
          <a:xfrm rot="16200000">
            <a:off x="36907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4" name=""/>
          <p:cNvSpPr/>
          <p:nvPr/>
        </p:nvSpPr>
        <p:spPr>
          <a:xfrm rot="16200000">
            <a:off x="395748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5" name=""/>
          <p:cNvSpPr/>
          <p:nvPr/>
        </p:nvSpPr>
        <p:spPr>
          <a:xfrm rot="16200000">
            <a:off x="422424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6" name=""/>
          <p:cNvSpPr/>
          <p:nvPr/>
        </p:nvSpPr>
        <p:spPr>
          <a:xfrm rot="16200000">
            <a:off x="450180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7" name=""/>
          <p:cNvSpPr/>
          <p:nvPr/>
        </p:nvSpPr>
        <p:spPr>
          <a:xfrm rot="16200000">
            <a:off x="476856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8" name=""/>
          <p:cNvSpPr/>
          <p:nvPr/>
        </p:nvSpPr>
        <p:spPr>
          <a:xfrm rot="16200000">
            <a:off x="50371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9" name=""/>
          <p:cNvSpPr/>
          <p:nvPr/>
        </p:nvSpPr>
        <p:spPr>
          <a:xfrm rot="16200000">
            <a:off x="53035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0" name=""/>
          <p:cNvSpPr/>
          <p:nvPr/>
        </p:nvSpPr>
        <p:spPr>
          <a:xfrm rot="16200000">
            <a:off x="557028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1" name=""/>
          <p:cNvSpPr/>
          <p:nvPr/>
        </p:nvSpPr>
        <p:spPr>
          <a:xfrm rot="16200000">
            <a:off x="583704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2" name=""/>
          <p:cNvSpPr/>
          <p:nvPr/>
        </p:nvSpPr>
        <p:spPr>
          <a:xfrm rot="16200000">
            <a:off x="610380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3" name=""/>
          <p:cNvSpPr/>
          <p:nvPr/>
        </p:nvSpPr>
        <p:spPr>
          <a:xfrm rot="16200000">
            <a:off x="637056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4" name=""/>
          <p:cNvSpPr/>
          <p:nvPr/>
        </p:nvSpPr>
        <p:spPr>
          <a:xfrm rot="16200000">
            <a:off x="66373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5" name=""/>
          <p:cNvSpPr/>
          <p:nvPr/>
        </p:nvSpPr>
        <p:spPr>
          <a:xfrm rot="16200000">
            <a:off x="69037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6" name=""/>
          <p:cNvSpPr/>
          <p:nvPr/>
        </p:nvSpPr>
        <p:spPr>
          <a:xfrm rot="16200000">
            <a:off x="717228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7" name=""/>
          <p:cNvSpPr/>
          <p:nvPr/>
        </p:nvSpPr>
        <p:spPr>
          <a:xfrm rot="16200000">
            <a:off x="744984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8" name=""/>
          <p:cNvSpPr/>
          <p:nvPr/>
        </p:nvSpPr>
        <p:spPr>
          <a:xfrm rot="16200000">
            <a:off x="771660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9" name=""/>
          <p:cNvSpPr/>
          <p:nvPr/>
        </p:nvSpPr>
        <p:spPr>
          <a:xfrm rot="16200000">
            <a:off x="798336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0" name=""/>
          <p:cNvSpPr/>
          <p:nvPr/>
        </p:nvSpPr>
        <p:spPr>
          <a:xfrm rot="16200000">
            <a:off x="8250120" y="54792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1" name=""/>
          <p:cNvSpPr/>
          <p:nvPr/>
        </p:nvSpPr>
        <p:spPr>
          <a:xfrm>
            <a:off x="1900800" y="4572000"/>
            <a:ext cx="190728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ondos de Pens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2" name=""/>
          <p:cNvSpPr/>
          <p:nvPr/>
        </p:nvSpPr>
        <p:spPr>
          <a:xfrm>
            <a:off x="444600" y="228600"/>
            <a:ext cx="86994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Arial"/>
              </a:rPr>
              <a:t>Evolución Inv. Institucionales</a:t>
            </a:r>
            <a:br>
              <a:rPr sz="3200"/>
            </a:br>
            <a:r>
              <a:rPr b="0" lang="es-CL" sz="1800" spc="-1" strike="noStrike">
                <a:solidFill>
                  <a:srgbClr val="ff3300"/>
                </a:solidFill>
                <a:latin typeface="Arial"/>
              </a:rPr>
              <a:t>US$ MM</a:t>
            </a:r>
            <a:br>
              <a:rPr sz="1800"/>
            </a:br>
            <a:r>
              <a:rPr b="1" lang="es-CL" sz="2800" spc="-1" strike="noStrike">
                <a:solidFill>
                  <a:srgbClr val="ff3300"/>
                </a:solidFill>
                <a:latin typeface="Arial"/>
              </a:rPr>
              <a:t>Fuente: Exposición J.M.Valente en ICAR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3" name=""/>
          <p:cNvSpPr/>
          <p:nvPr/>
        </p:nvSpPr>
        <p:spPr>
          <a:xfrm>
            <a:off x="3886200" y="4800600"/>
            <a:ext cx="2514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4" name="PlaceHolder 1"/>
          <p:cNvSpPr>
            <a:spLocks noGrp="1"/>
          </p:cNvSpPr>
          <p:nvPr>
            <p:ph type="title"/>
          </p:nvPr>
        </p:nvSpPr>
        <p:spPr>
          <a:xfrm>
            <a:off x="342720" y="29880"/>
            <a:ext cx="86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3300"/>
                </a:solidFill>
                <a:latin typeface="Arial"/>
              </a:rPr>
              <a:t>AFPs en el Mdo Capitales Chileno</a:t>
            </a:r>
            <a:br>
              <a:rPr sz="3600"/>
            </a:br>
            <a:r>
              <a:rPr b="0" lang="es-CL" sz="2000" spc="-1" strike="noStrike">
                <a:solidFill>
                  <a:srgbClr val="ff3300"/>
                </a:solidFill>
                <a:latin typeface="Arial"/>
              </a:rPr>
              <a:t>Diciembre 2002 </a:t>
            </a: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Fuente: Exposición J.M.Valente en ICARE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5" name=""/>
          <p:cNvSpPr/>
          <p:nvPr/>
        </p:nvSpPr>
        <p:spPr>
          <a:xfrm>
            <a:off x="-1080" y="1173240"/>
            <a:ext cx="38962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inanciamiento Sector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US$17.311 M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6" name=""/>
          <p:cNvSpPr/>
          <p:nvPr/>
        </p:nvSpPr>
        <p:spPr>
          <a:xfrm>
            <a:off x="290160" y="1781280"/>
            <a:ext cx="107532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tros: 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7" name=""/>
          <p:cNvSpPr/>
          <p:nvPr/>
        </p:nvSpPr>
        <p:spPr>
          <a:xfrm>
            <a:off x="3079440" y="2398680"/>
            <a:ext cx="1073880" cy="307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96969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AFPs: 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8" name=""/>
          <p:cNvSpPr/>
          <p:nvPr/>
        </p:nvSpPr>
        <p:spPr>
          <a:xfrm>
            <a:off x="5064120" y="1160640"/>
            <a:ext cx="41706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onos Bco y Letras Hipoteca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US$8.358 M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9" name=""/>
          <p:cNvSpPr/>
          <p:nvPr/>
        </p:nvSpPr>
        <p:spPr>
          <a:xfrm>
            <a:off x="5313240" y="1709640"/>
            <a:ext cx="107532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tros: 2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0" name=""/>
          <p:cNvSpPr/>
          <p:nvPr/>
        </p:nvSpPr>
        <p:spPr>
          <a:xfrm>
            <a:off x="8070480" y="2989440"/>
            <a:ext cx="1073880" cy="307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96969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AFPs: 7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1" name=""/>
          <p:cNvSpPr/>
          <p:nvPr/>
        </p:nvSpPr>
        <p:spPr>
          <a:xfrm>
            <a:off x="713160" y="4238640"/>
            <a:ext cx="22593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onos Empre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US$7.394 M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2" name=""/>
          <p:cNvSpPr/>
          <p:nvPr/>
        </p:nvSpPr>
        <p:spPr>
          <a:xfrm>
            <a:off x="504720" y="4967280"/>
            <a:ext cx="107532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tros: 5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3" name=""/>
          <p:cNvSpPr/>
          <p:nvPr/>
        </p:nvSpPr>
        <p:spPr>
          <a:xfrm>
            <a:off x="2571480" y="6416640"/>
            <a:ext cx="1073880" cy="307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96969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AFPs: 4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4" name=""/>
          <p:cNvSpPr/>
          <p:nvPr/>
        </p:nvSpPr>
        <p:spPr>
          <a:xfrm>
            <a:off x="6647400" y="4235400"/>
            <a:ext cx="18770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ciones S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(US$47.017 M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5" name=""/>
          <p:cNvSpPr/>
          <p:nvPr/>
        </p:nvSpPr>
        <p:spPr>
          <a:xfrm>
            <a:off x="5773680" y="4879800"/>
            <a:ext cx="107532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tros: 9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6" name=""/>
          <p:cNvSpPr/>
          <p:nvPr/>
        </p:nvSpPr>
        <p:spPr>
          <a:xfrm>
            <a:off x="7903800" y="6434280"/>
            <a:ext cx="1073880" cy="307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96969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AFPs: 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7" name=""/>
          <p:cNvSpPr/>
          <p:nvPr/>
        </p:nvSpPr>
        <p:spPr>
          <a:xfrm>
            <a:off x="2795400" y="3247920"/>
            <a:ext cx="107532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tros: 5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8" name=""/>
          <p:cNvSpPr/>
          <p:nvPr/>
        </p:nvSpPr>
        <p:spPr>
          <a:xfrm>
            <a:off x="6332040" y="3652920"/>
            <a:ext cx="1073880" cy="307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96969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AFPs: 4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9" name=""/>
          <p:cNvSpPr/>
          <p:nvPr/>
        </p:nvSpPr>
        <p:spPr>
          <a:xfrm>
            <a:off x="4012920" y="2749680"/>
            <a:ext cx="15372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pó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US$21.974 M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0" name="" descr=""/>
          <p:cNvPicPr/>
          <p:nvPr/>
        </p:nvPicPr>
        <p:blipFill>
          <a:blip r:embed="rId1"/>
          <a:stretch/>
        </p:blipFill>
        <p:spPr>
          <a:xfrm>
            <a:off x="-31680" y="1882800"/>
            <a:ext cx="3324240" cy="1557360"/>
          </a:xfrm>
          <a:prstGeom prst="rect">
            <a:avLst/>
          </a:prstGeom>
          <a:ln w="0">
            <a:noFill/>
          </a:ln>
        </p:spPr>
      </p:pic>
      <p:pic>
        <p:nvPicPr>
          <p:cNvPr id="6891" name="" descr=""/>
          <p:cNvPicPr/>
          <p:nvPr/>
        </p:nvPicPr>
        <p:blipFill>
          <a:blip r:embed="rId2"/>
          <a:stretch/>
        </p:blipFill>
        <p:spPr>
          <a:xfrm>
            <a:off x="5467320" y="1771560"/>
            <a:ext cx="3429000" cy="1476360"/>
          </a:xfrm>
          <a:prstGeom prst="rect">
            <a:avLst/>
          </a:prstGeom>
          <a:ln w="0">
            <a:noFill/>
          </a:ln>
        </p:spPr>
      </p:pic>
      <p:pic>
        <p:nvPicPr>
          <p:cNvPr id="6892" name="" descr=""/>
          <p:cNvPicPr/>
          <p:nvPr/>
        </p:nvPicPr>
        <p:blipFill>
          <a:blip r:embed="rId3"/>
          <a:stretch/>
        </p:blipFill>
        <p:spPr>
          <a:xfrm>
            <a:off x="3021120" y="3340080"/>
            <a:ext cx="3389040" cy="1569960"/>
          </a:xfrm>
          <a:prstGeom prst="rect">
            <a:avLst/>
          </a:prstGeom>
          <a:ln w="0">
            <a:noFill/>
          </a:ln>
        </p:spPr>
      </p:pic>
      <p:pic>
        <p:nvPicPr>
          <p:cNvPr id="6893" name="" descr=""/>
          <p:cNvPicPr/>
          <p:nvPr/>
        </p:nvPicPr>
        <p:blipFill>
          <a:blip r:embed="rId4"/>
          <a:stretch/>
        </p:blipFill>
        <p:spPr>
          <a:xfrm>
            <a:off x="5727600" y="5070600"/>
            <a:ext cx="3416400" cy="1323720"/>
          </a:xfrm>
          <a:prstGeom prst="rect">
            <a:avLst/>
          </a:prstGeom>
          <a:ln w="0">
            <a:noFill/>
          </a:ln>
        </p:spPr>
      </p:pic>
      <p:pic>
        <p:nvPicPr>
          <p:cNvPr id="6894" name="" descr=""/>
          <p:cNvPicPr/>
          <p:nvPr/>
        </p:nvPicPr>
        <p:blipFill>
          <a:blip r:embed="rId5"/>
          <a:stretch/>
        </p:blipFill>
        <p:spPr>
          <a:xfrm>
            <a:off x="144360" y="5143680"/>
            <a:ext cx="333540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Renta f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ligaciones a más de un año (mediano y largo plazo) que contrae el emisor con el poseedor del instru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al fuente de financiamiento utilizada por el Gobierno, empresas y el B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7% montos transados (2003) en el mercado chileno, bajo los 42% IIF. Acciones son sólo 3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Renta fija en 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co Central: PRC’s, BCU, BC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ras Hipotecar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os Corpora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resas priv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resas públ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resas privadas con garantía esta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os Securitiz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os Tesorería: BTU, B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C: Pagaré Reaju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da: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pón: 6,5% anual compu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: Cupón y amortizaciones semest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objetivo es la regulació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emite por lic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zos: 4, 8, 10, 12, 14 y 20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s: UF500, UF1.000, UF5.000 y UF10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2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5229000" cy="2962440"/>
          </a:xfrm>
          <a:prstGeom prst="rect">
            <a:avLst/>
          </a:prstGeom>
          <a:ln w="0">
            <a:noFill/>
          </a:ln>
        </p:spPr>
      </p:pic>
      <p:pic>
        <p:nvPicPr>
          <p:cNvPr id="6903" name="" descr=""/>
          <p:cNvPicPr/>
          <p:nvPr/>
        </p:nvPicPr>
        <p:blipFill>
          <a:blip r:embed="rId2"/>
          <a:stretch/>
        </p:blipFill>
        <p:spPr>
          <a:xfrm>
            <a:off x="3581280" y="2666880"/>
            <a:ext cx="4896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D: Pagaré Reajustable en dó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da: US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pón: 6% anual compu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: Cupones semestrales que pagan intereses y la amortización se paga al 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objetivo es la regulació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emite por lic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zos: 2,3 y 4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s: 50.000, 100.000, 500.000 y 1.000.000 US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U: Bonos del BC en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da: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pón: 5% anual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: Cupones semestrales que pagan intereses y la amortización se paga al 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objetivo es la regulació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emite por lic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zos: 5,10 y 20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s: 500, 1.000, 5.000 y 10.000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P: Bonos del BC en P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da: P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pón: 8% anual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: Cupones semestrales que pagan intereses y la amortización se paga al 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objetivo es la regulació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emite por lic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zos: 2 y 5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s: 5, 50, 100 millones de p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¿Qué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nto de instituciones, instrumentos y canales que hace posible el flujo de capitales desde las personas que ahorran a las que invie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Bolsa es el lugar que reune a ambos agentes para que realicen transacciones, a través de los corre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0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5248080" cy="3819600"/>
          </a:xfrm>
          <a:prstGeom prst="rect">
            <a:avLst/>
          </a:prstGeom>
          <a:ln w="0">
            <a:noFill/>
          </a:ln>
        </p:spPr>
      </p:pic>
      <p:pic>
        <p:nvPicPr>
          <p:cNvPr id="6911" name="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523872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D: Bonos del BC en dó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da: Dó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pón: 5% anual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: Cupones semestrales que pagan intereses y la amortización se paga al 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objetivo es la regulació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emite por lic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zos: 2 y 5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s: 50.000, 100.000, 500.000 y 1.000.000 US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o: Cupones de emisión reajustables opcionales en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da: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pón: sin cup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: Amortización al f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objetivo es la regulació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emite por canje de cupones PR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zos: Variable según plazo residual de los cupones PRC a canj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s: 500, 1.000, 5.000, 10.000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Letras Hipoteca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H: Letras de Crédito Hipotec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 objetivo es el financiamiento de viviendas y proyec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emiten en bolsa o fuera de 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da: 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ructura: Cupones trimestrales de interés y capi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zos: Sobre 1 a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tes: 10, 20, 50, 100, 500 y 1.000 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8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7581960" cy="4343400"/>
          </a:xfrm>
          <a:prstGeom prst="rect">
            <a:avLst/>
          </a:prstGeom>
          <a:ln w="0">
            <a:noFill/>
          </a:ln>
        </p:spPr>
      </p:pic>
      <p:pic>
        <p:nvPicPr>
          <p:cNvPr id="6919" name="" descr=""/>
          <p:cNvPicPr/>
          <p:nvPr/>
        </p:nvPicPr>
        <p:blipFill>
          <a:blip r:embed="rId2"/>
          <a:stretch/>
        </p:blipFill>
        <p:spPr>
          <a:xfrm>
            <a:off x="3581280" y="3048120"/>
            <a:ext cx="37623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Bonos Corpora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 objetivo es el financiamiento de proyectos o refinanciamiento de pas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emiten en bolsa o fuera de 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da: UF, $, US$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ructura: Li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zos: Sobre 1 a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tes: Li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2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5276880" cy="3867120"/>
          </a:xfrm>
          <a:prstGeom prst="rect">
            <a:avLst/>
          </a:prstGeom>
          <a:ln w="0">
            <a:noFill/>
          </a:ln>
        </p:spPr>
      </p:pic>
      <p:pic>
        <p:nvPicPr>
          <p:cNvPr id="6923" name="" descr=""/>
          <p:cNvPicPr/>
          <p:nvPr/>
        </p:nvPicPr>
        <p:blipFill>
          <a:blip r:embed="rId2"/>
          <a:stretch/>
        </p:blipFill>
        <p:spPr>
          <a:xfrm>
            <a:off x="3276720" y="2362320"/>
            <a:ext cx="528624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Bonos de la Tesor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TU: Bonos de la Tesorería en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objetivo es el financiamiento del Estado y prepago de pa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itación del 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da: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a emisión: 4,5% anual si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zos: 20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: Cupones con intereses y capital al 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s: 500, 1.000, 5.000 y 10.000 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Bonos de la Tesor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TP: Bonos de la Tesorería en P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objetivo es el financiamiento del Estado y prepago de pa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itación del 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da: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a emisión: 7,5% anual si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zos: 5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: Cupones con intereses y capital al 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s: 5, 50, 100 y 200 millones de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8" name="" descr=""/>
          <p:cNvPicPr/>
          <p:nvPr/>
        </p:nvPicPr>
        <p:blipFill>
          <a:blip r:embed="rId1"/>
          <a:stretch/>
        </p:blipFill>
        <p:spPr>
          <a:xfrm>
            <a:off x="2066760" y="1309680"/>
            <a:ext cx="50104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Un poco de his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40: Primeros intentos por crear una bol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84: 160 S.A. En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93: Se funda la Bolsa de Comercio de Santiago con 329 S.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9: Se funda la Bolsa Electró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1: Reforma al MK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3 Proyecto de Reforma al MK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termediación financi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ligaciones de corto plazo, menores a un a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a de financiamiento de CP o para regulación monet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: PRBC, PD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ósitos a plazo fi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dos mutu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ectos de comer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DBC:Pagaré Descontable 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tivo: regulación monet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da: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es: No deven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zo: Entre 1 y 364 d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tes: 5, 50, 100, 200 mill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nstrumentos del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BC:Pagaré Reajustable 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tivo: regulación monet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ación por remate holand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da: 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es: No deven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zo: Hasta 5 años (descontinua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tes: 500, 1000, 5000, 10000 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5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85800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Efectos de Comer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a para financiar Capital de trabajo frente a las líneas de créd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cimiento de hasta 36 meses por un período máximo de 10 años contados desde su inscripción en el Registro de Val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entado a SA de tamaño mediano a gran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ead es mayor al que dan los bancos para = clasificación de riesgo. (no es bancari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927760" y="592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ject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4000" cy="4857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44600" y="38160"/>
            <a:ext cx="869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ca5f"/>
                </a:solidFill>
                <a:latin typeface="Arial"/>
              </a:rPr>
              <a:t>Grandes Hitos del Mdo de Capitales</a:t>
            </a:r>
            <a:br>
              <a:rPr sz="3600"/>
            </a:b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IB REAL EN (MM$) Fuente:: Exposición J.M.Valente en ICARE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0880" y="4516560"/>
            <a:ext cx="214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974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iberalización de tasas de Inter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0240" y="3855960"/>
            <a:ext cx="2562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75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nversión Extranjera: DL 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perintendencia Bcos e Inst. Financie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ey Orgánica Banco Centr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26240" y="3525840"/>
            <a:ext cx="294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76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ociedades Administradoras de Fondos Mutu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65040" y="3246480"/>
            <a:ext cx="1684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79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ibertad Mdo Asegur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7400" y="2637000"/>
            <a:ext cx="2484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80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perintendencia de Valores y Segu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perintendencia de AF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Fondo de Pensiones: DL 3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61560" y="2192400"/>
            <a:ext cx="192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81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ey Mercado de Val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ey de Sociedades Anónim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-2026800" y="3997080"/>
            <a:ext cx="427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HILE: PIB Real (MM$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05280" y="3843360"/>
            <a:ext cx="19252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85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ivativaciones (1995-1999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ceso Mdo Accionario AF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vía privatizac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C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33960" y="3525840"/>
            <a:ext cx="184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86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va Ley General de Banc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23080" y="3059280"/>
            <a:ext cx="1704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89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lasificadoras de Ries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utonomía Banco Cent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reación F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03880" y="2795760"/>
            <a:ext cx="1517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90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locación ADR: C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645880" y="2567160"/>
            <a:ext cx="1500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91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misión Bono Ende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03800" y="2389320"/>
            <a:ext cx="106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93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reación D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52000" y="1963800"/>
            <a:ext cx="216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cc99"/>
                </a:solidFill>
                <a:latin typeface="Arial"/>
              </a:rPr>
              <a:t>1994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odificación Mk Capit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ia Seg. &amp; AFPs aut. Inv. Exteri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03080" y="5316480"/>
            <a:ext cx="1616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1996: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Creación de FI Interna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040" y="4802040"/>
            <a:ext cx="1072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1998: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Reducción 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Imp. Gana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Capi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99280" y="4297320"/>
            <a:ext cx="765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2000: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Ley OP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Bol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Offsh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94120" y="3868560"/>
            <a:ext cx="53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2001: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M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94120" y="3487680"/>
            <a:ext cx="53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2003: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ffffcc"/>
                </a:solidFill>
                <a:latin typeface="Arial"/>
              </a:rPr>
              <a:t>MK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27040" y="2751120"/>
            <a:ext cx="4872960" cy="179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985-19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egundo Período Privatizaciones (1985-198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cceso Mdo Accionario AFPs vía privatizaciones (198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reación de la Comisión Clasificadora de Riesgo (1985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ueva Ley General de Bancos (198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asificación de Riesgo (198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utonomía del Banco Central (198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reación de los FICE (198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30280" y="2095560"/>
            <a:ext cx="4745160" cy="2864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974-19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iberalización de Tasas de Interés (197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rco Regulatorio Inversión Extranjera DL 600 (197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uperintendencia de Bcos e Inst. Financiera (197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ey Orgánica Banco Central (197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rivatizaciones (1974-198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ociedades Administradoras de Fondos Mutuos (197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ibertad Mercado Asegurador (1979-198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uperintendencia de Valores y Seguros (198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uperintendencia de AFP (198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ondos de Pensiones: DL 3500 (198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ey Mercado de Valores (198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ey de Sociedades Anónimas (198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20080" y="1852560"/>
            <a:ext cx="4271040" cy="3290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990-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ercer Período Privatizaciones: Infraestructura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anitarias (1990-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locación primer ADR: CTC (199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misión de Bono Internacional: Endesa (199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reación DCV (199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odificación Mdo de Capitales (199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v. Institucionales autorizados invertir en 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xterior (199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reación de Fondos de Inversión Internacio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educción Impuesto Ganancia de Capital (199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ey de OPA y Gob. Corporativos (2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reación Bolsa Offshore (2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ercado de Capitales I (200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ercado de Capitales II (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Reforma de 19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regulación de los fondos de inver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ificación de los límites de inversión de las AF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ción de los Fondos de Inversión de Crédito Securitiz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Ley de Opa del 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ción de las O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ción de régimenes de gobierno corpor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ités de audito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icación de conflictos de interés de dire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jora calidad de información para quienes quieren hacer una O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Reforma MK I del 2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ectos de comer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a corta de acciones y bo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ción del impto. A la ganancia de capital (acciones alta presen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lsa Emer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baja de impuestos a los intereses de los inversionistas extranj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regula la industria de seguros y fondos mutu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ecciona la Ley de Ban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exibilización de mecanismos para AP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fondos de AFP..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e otras reforma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Proyect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Reforma al MK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entivos para el desarrollo de la industria del Capital de Riesgo: Garantías, Incentivos tribu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ción de Costos de transacción y contratatción comercial (Sociedades de Responsabilidad Limitada por Accio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bierno Corpo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alecimiento APV: EEUU 401-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joras a la fiscalización, control, sanción y coordinación (Inverlin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29880"/>
            <a:ext cx="8699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Arial"/>
              </a:rPr>
              <a:t>Evolución Inv. Institucionales</a:t>
            </a:r>
            <a:br>
              <a:rPr sz="3200"/>
            </a:br>
            <a:r>
              <a:rPr b="0" lang="es-CL" sz="1800" spc="-1" strike="noStrike">
                <a:solidFill>
                  <a:srgbClr val="ff3300"/>
                </a:solidFill>
                <a:latin typeface="Arial"/>
              </a:rPr>
              <a:t>COMO % DEL PIB </a:t>
            </a:r>
            <a:br>
              <a:rPr sz="1800"/>
            </a:br>
            <a:r>
              <a:rPr b="1" lang="es-CL" sz="2800" spc="-1" strike="noStrike">
                <a:solidFill>
                  <a:srgbClr val="ff3300"/>
                </a:solidFill>
                <a:latin typeface="Arial"/>
              </a:rPr>
              <a:t>Fuente: Exposición J.M.Valente en ICAR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38160" y="3792600"/>
            <a:ext cx="1262880" cy="307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dfdfd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ías.Segu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75000" y="4094280"/>
            <a:ext cx="563760" cy="48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53600" y="2354400"/>
            <a:ext cx="1410480" cy="307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71b871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ondos Mutu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926400" y="2660760"/>
            <a:ext cx="57456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1420920"/>
            <a:ext cx="1352520" cy="307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bf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Fdos I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04200" y="1717560"/>
            <a:ext cx="80460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30920" y="2930400"/>
            <a:ext cx="736920" cy="30708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50000">
                <a:srgbClr val="b469b4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.I.C.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3225960"/>
            <a:ext cx="2923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03320" y="1994040"/>
            <a:ext cx="7550280" cy="3373200"/>
            <a:chOff x="1003320" y="1994040"/>
            <a:chExt cx="7550280" cy="3373200"/>
          </a:xfrm>
        </p:grpSpPr>
        <p:sp>
          <p:nvSpPr>
            <p:cNvPr id="96" name=""/>
            <p:cNvSpPr/>
            <p:nvPr/>
          </p:nvSpPr>
          <p:spPr>
            <a:xfrm>
              <a:off x="1003320" y="5294160"/>
              <a:ext cx="7550280" cy="73080"/>
            </a:xfrm>
            <a:custGeom>
              <a:avLst/>
              <a:gdLst/>
              <a:ahLst/>
              <a:rect l="l" t="t" r="r" b="b"/>
              <a:pathLst>
                <a:path w="4756" h="46">
                  <a:moveTo>
                    <a:pt x="0" y="46"/>
                  </a:moveTo>
                  <a:lnTo>
                    <a:pt x="52" y="0"/>
                  </a:lnTo>
                  <a:lnTo>
                    <a:pt x="4756" y="0"/>
                  </a:lnTo>
                  <a:lnTo>
                    <a:pt x="4704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03320" y="1994040"/>
              <a:ext cx="82440" cy="3373200"/>
            </a:xfrm>
            <a:custGeom>
              <a:avLst/>
              <a:gdLst/>
              <a:ahLst/>
              <a:rect l="l" t="t" r="r" b="b"/>
              <a:pathLst>
                <a:path w="52" h="2125">
                  <a:moveTo>
                    <a:pt x="0" y="2125"/>
                  </a:moveTo>
                  <a:lnTo>
                    <a:pt x="0" y="46"/>
                  </a:lnTo>
                  <a:lnTo>
                    <a:pt x="52" y="0"/>
                  </a:lnTo>
                  <a:lnTo>
                    <a:pt x="52" y="2079"/>
                  </a:lnTo>
                  <a:lnTo>
                    <a:pt x="0" y="2125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85760" y="1994040"/>
              <a:ext cx="7467840" cy="330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03320" y="5294160"/>
              <a:ext cx="7550280" cy="73080"/>
            </a:xfrm>
            <a:custGeom>
              <a:avLst/>
              <a:gdLst/>
              <a:ahLst/>
              <a:rect l="l" t="t" r="r" b="b"/>
              <a:pathLst>
                <a:path w="4756" h="46">
                  <a:moveTo>
                    <a:pt x="4756" y="0"/>
                  </a:moveTo>
                  <a:lnTo>
                    <a:pt x="4704" y="46"/>
                  </a:lnTo>
                  <a:lnTo>
                    <a:pt x="0" y="46"/>
                  </a:lnTo>
                  <a:lnTo>
                    <a:pt x="52" y="0"/>
                  </a:lnTo>
                  <a:lnTo>
                    <a:pt x="4756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03320" y="1994040"/>
              <a:ext cx="82440" cy="3373200"/>
            </a:xfrm>
            <a:custGeom>
              <a:avLst/>
              <a:gdLst/>
              <a:ahLst/>
              <a:rect l="l" t="t" r="r" b="b"/>
              <a:pathLst>
                <a:path w="52" h="2125">
                  <a:moveTo>
                    <a:pt x="0" y="2125"/>
                  </a:moveTo>
                  <a:lnTo>
                    <a:pt x="0" y="46"/>
                  </a:lnTo>
                  <a:lnTo>
                    <a:pt x="52" y="0"/>
                  </a:lnTo>
                  <a:lnTo>
                    <a:pt x="52" y="2079"/>
                  </a:lnTo>
                  <a:lnTo>
                    <a:pt x="0" y="212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85760" y="1994040"/>
              <a:ext cx="7467840" cy="3300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09520" y="5318280"/>
              <a:ext cx="11160" cy="36360"/>
            </a:xfrm>
            <a:prstGeom prst="rect">
              <a:avLst/>
            </a:prstGeom>
            <a:solidFill>
              <a:srgbClr val="0e0e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20680" y="5318280"/>
              <a:ext cx="11160" cy="36360"/>
            </a:xfrm>
            <a:prstGeom prst="rect">
              <a:avLst/>
            </a:prstGeom>
            <a:solidFill>
              <a:srgbClr val="2222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31840" y="5318280"/>
              <a:ext cx="12600" cy="36360"/>
            </a:xfrm>
            <a:prstGeom prst="rect">
              <a:avLst/>
            </a:prstGeom>
            <a:solidFill>
              <a:srgbClr val="36366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44440" y="5318280"/>
              <a:ext cx="11160" cy="36360"/>
            </a:xfrm>
            <a:prstGeom prst="rect">
              <a:avLst/>
            </a:prstGeom>
            <a:solidFill>
              <a:srgbClr val="4848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55600" y="5318280"/>
              <a:ext cx="12960" cy="36360"/>
            </a:xfrm>
            <a:prstGeom prst="rect">
              <a:avLst/>
            </a:prstGeom>
            <a:solidFill>
              <a:srgbClr val="5656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68560" y="5318280"/>
              <a:ext cx="10800" cy="36360"/>
            </a:xfrm>
            <a:prstGeom prst="rect">
              <a:avLst/>
            </a:prstGeom>
            <a:solidFill>
              <a:srgbClr val="5d5d8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79360" y="5318280"/>
              <a:ext cx="12960" cy="36360"/>
            </a:xfrm>
            <a:prstGeom prst="rect">
              <a:avLst/>
            </a:prstGeom>
            <a:solidFill>
              <a:srgbClr val="6161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92320" y="5318280"/>
              <a:ext cx="11160" cy="36360"/>
            </a:xfrm>
            <a:prstGeom prst="rect">
              <a:avLst/>
            </a:prstGeom>
            <a:solidFill>
              <a:srgbClr val="6161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03480" y="5318280"/>
              <a:ext cx="12600" cy="36360"/>
            </a:xfrm>
            <a:prstGeom prst="rect">
              <a:avLst/>
            </a:prstGeom>
            <a:solidFill>
              <a:srgbClr val="5656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16080" y="5318280"/>
              <a:ext cx="11160" cy="36360"/>
            </a:xfrm>
            <a:prstGeom prst="rect">
              <a:avLst/>
            </a:prstGeom>
            <a:solidFill>
              <a:srgbClr val="4848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27240" y="5318280"/>
              <a:ext cx="11160" cy="36360"/>
            </a:xfrm>
            <a:prstGeom prst="rect">
              <a:avLst/>
            </a:prstGeom>
            <a:solidFill>
              <a:srgbClr val="36366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38400" y="5318280"/>
              <a:ext cx="12600" cy="36360"/>
            </a:xfrm>
            <a:prstGeom prst="rect">
              <a:avLst/>
            </a:prstGeom>
            <a:solidFill>
              <a:srgbClr val="2222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51000" y="5318280"/>
              <a:ext cx="11160" cy="36360"/>
            </a:xfrm>
            <a:prstGeom prst="rect">
              <a:avLst/>
            </a:prstGeom>
            <a:solidFill>
              <a:srgbClr val="0000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09520" y="5318280"/>
              <a:ext cx="14148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16080" y="5234040"/>
              <a:ext cx="11160" cy="120600"/>
            </a:xfrm>
            <a:prstGeom prst="rect">
              <a:avLst/>
            </a:prstGeom>
            <a:solidFill>
              <a:srgbClr val="7c1b1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27240" y="5234040"/>
              <a:ext cx="11160" cy="120600"/>
            </a:xfrm>
            <a:prstGeom prst="rect">
              <a:avLst/>
            </a:prstGeom>
            <a:solidFill>
              <a:srgbClr val="6549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38400" y="5234040"/>
              <a:ext cx="12600" cy="120600"/>
            </a:xfrm>
            <a:prstGeom prst="rect">
              <a:avLst/>
            </a:prstGeom>
            <a:solidFill>
              <a:srgbClr val="6549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51000" y="5234040"/>
              <a:ext cx="11160" cy="1206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6080" y="5234040"/>
              <a:ext cx="34920" cy="109440"/>
            </a:xfrm>
            <a:custGeom>
              <a:avLst/>
              <a:gdLst/>
              <a:ahLst/>
              <a:rect l="l" t="t" r="r" b="b"/>
              <a:pathLst>
                <a:path w="22" h="69">
                  <a:moveTo>
                    <a:pt x="0" y="69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53"/>
                  </a:lnTo>
                  <a:lnTo>
                    <a:pt x="0" y="6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09520" y="5257800"/>
              <a:ext cx="11160" cy="85680"/>
            </a:xfrm>
            <a:prstGeom prst="rect">
              <a:avLst/>
            </a:prstGeom>
            <a:solidFill>
              <a:srgbClr val="ff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20680" y="5257800"/>
              <a:ext cx="11160" cy="85680"/>
            </a:xfrm>
            <a:prstGeom prst="rect">
              <a:avLst/>
            </a:prstGeom>
            <a:solidFill>
              <a:srgbClr val="ff47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31840" y="5257800"/>
              <a:ext cx="12600" cy="85680"/>
            </a:xfrm>
            <a:prstGeom prst="rect">
              <a:avLst/>
            </a:prstGeom>
            <a:solidFill>
              <a:srgbClr val="ff6f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44440" y="5257800"/>
              <a:ext cx="11160" cy="85680"/>
            </a:xfrm>
            <a:prstGeom prst="rect">
              <a:avLst/>
            </a:prstGeom>
            <a:solidFill>
              <a:srgbClr val="ff888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55600" y="5257800"/>
              <a:ext cx="12960" cy="85680"/>
            </a:xfrm>
            <a:prstGeom prst="rect">
              <a:avLst/>
            </a:prstGeom>
            <a:solidFill>
              <a:srgbClr val="ff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168560" y="5257800"/>
              <a:ext cx="10800" cy="85680"/>
            </a:xfrm>
            <a:prstGeom prst="rect">
              <a:avLst/>
            </a:prstGeom>
            <a:solidFill>
              <a:srgbClr val="ff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79360" y="5257800"/>
              <a:ext cx="12960" cy="85680"/>
            </a:xfrm>
            <a:prstGeom prst="rect">
              <a:avLst/>
            </a:prstGeom>
            <a:solidFill>
              <a:srgbClr val="ff6f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92320" y="5257800"/>
              <a:ext cx="11160" cy="85680"/>
            </a:xfrm>
            <a:prstGeom prst="rect">
              <a:avLst/>
            </a:prstGeom>
            <a:solidFill>
              <a:srgbClr val="ff47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03480" y="5257800"/>
              <a:ext cx="12600" cy="85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09520" y="5257800"/>
              <a:ext cx="106560" cy="85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09520" y="5234040"/>
              <a:ext cx="11160" cy="36360"/>
            </a:xfrm>
            <a:prstGeom prst="rect">
              <a:avLst/>
            </a:prstGeom>
            <a:solidFill>
              <a:srgbClr val="be10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20680" y="5234040"/>
              <a:ext cx="11160" cy="36360"/>
            </a:xfrm>
            <a:prstGeom prst="rect">
              <a:avLst/>
            </a:prstGeom>
            <a:solidFill>
              <a:srgbClr val="bc262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31840" y="5234040"/>
              <a:ext cx="12600" cy="36360"/>
            </a:xfrm>
            <a:prstGeom prst="rect">
              <a:avLst/>
            </a:prstGeom>
            <a:solidFill>
              <a:srgbClr val="b83d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44440" y="5234040"/>
              <a:ext cx="11160" cy="36360"/>
            </a:xfrm>
            <a:prstGeom prst="rect">
              <a:avLst/>
            </a:prstGeom>
            <a:solidFill>
              <a:srgbClr val="b4515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55600" y="5234040"/>
              <a:ext cx="12960" cy="36360"/>
            </a:xfrm>
            <a:prstGeom prst="rect">
              <a:avLst/>
            </a:prstGeom>
            <a:solidFill>
              <a:srgbClr val="af616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68560" y="5234040"/>
              <a:ext cx="10800" cy="36360"/>
            </a:xfrm>
            <a:prstGeom prst="rect">
              <a:avLst/>
            </a:prstGeom>
            <a:solidFill>
              <a:srgbClr val="ac69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79360" y="5234040"/>
              <a:ext cx="12960" cy="36360"/>
            </a:xfrm>
            <a:prstGeom prst="rect">
              <a:avLst/>
            </a:prstGeom>
            <a:solidFill>
              <a:srgbClr val="ab6d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92320" y="5234040"/>
              <a:ext cx="11160" cy="36360"/>
            </a:xfrm>
            <a:prstGeom prst="rect">
              <a:avLst/>
            </a:prstGeom>
            <a:solidFill>
              <a:srgbClr val="ab6d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03480" y="5234040"/>
              <a:ext cx="12600" cy="36360"/>
            </a:xfrm>
            <a:prstGeom prst="rect">
              <a:avLst/>
            </a:prstGeom>
            <a:solidFill>
              <a:srgbClr val="af616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16080" y="5234040"/>
              <a:ext cx="11160" cy="36360"/>
            </a:xfrm>
            <a:prstGeom prst="rect">
              <a:avLst/>
            </a:prstGeom>
            <a:solidFill>
              <a:srgbClr val="b4515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27240" y="5234040"/>
              <a:ext cx="11160" cy="36360"/>
            </a:xfrm>
            <a:prstGeom prst="rect">
              <a:avLst/>
            </a:prstGeom>
            <a:solidFill>
              <a:srgbClr val="b83d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38400" y="5234040"/>
              <a:ext cx="12600" cy="36360"/>
            </a:xfrm>
            <a:prstGeom prst="rect">
              <a:avLst/>
            </a:prstGeom>
            <a:solidFill>
              <a:srgbClr val="bc262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51000" y="5234040"/>
              <a:ext cx="11160" cy="36360"/>
            </a:xfrm>
            <a:prstGeom prst="rect">
              <a:avLst/>
            </a:prstGeom>
            <a:solidFill>
              <a:srgbClr val="b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09520" y="5234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09520" y="5234040"/>
              <a:ext cx="11160" cy="36360"/>
            </a:xfrm>
            <a:prstGeom prst="rect">
              <a:avLst/>
            </a:prstGeom>
            <a:solidFill>
              <a:srgbClr val="11611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20680" y="5234040"/>
              <a:ext cx="11160" cy="36360"/>
            </a:xfrm>
            <a:prstGeom prst="rect">
              <a:avLst/>
            </a:prstGeom>
            <a:solidFill>
              <a:srgbClr val="2867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31840" y="5234040"/>
              <a:ext cx="12600" cy="36360"/>
            </a:xfrm>
            <a:prstGeom prst="rect">
              <a:avLst/>
            </a:prstGeom>
            <a:solidFill>
              <a:srgbClr val="40714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44440" y="5234040"/>
              <a:ext cx="11160" cy="36360"/>
            </a:xfrm>
            <a:prstGeom prst="rect">
              <a:avLst/>
            </a:prstGeom>
            <a:solidFill>
              <a:srgbClr val="567d5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55600" y="5234040"/>
              <a:ext cx="12960" cy="36360"/>
            </a:xfrm>
            <a:prstGeom prst="rect">
              <a:avLst/>
            </a:prstGeom>
            <a:solidFill>
              <a:srgbClr val="6687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68560" y="5234040"/>
              <a:ext cx="10800" cy="36360"/>
            </a:xfrm>
            <a:prstGeom prst="rect">
              <a:avLst/>
            </a:prstGeom>
            <a:solidFill>
              <a:srgbClr val="6f8d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79360" y="5234040"/>
              <a:ext cx="12960" cy="36360"/>
            </a:xfrm>
            <a:prstGeom prst="rect">
              <a:avLst/>
            </a:prstGeom>
            <a:solidFill>
              <a:srgbClr val="7390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92320" y="5234040"/>
              <a:ext cx="11160" cy="36360"/>
            </a:xfrm>
            <a:prstGeom prst="rect">
              <a:avLst/>
            </a:prstGeom>
            <a:solidFill>
              <a:srgbClr val="7390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03480" y="5234040"/>
              <a:ext cx="12600" cy="36360"/>
            </a:xfrm>
            <a:prstGeom prst="rect">
              <a:avLst/>
            </a:prstGeom>
            <a:solidFill>
              <a:srgbClr val="6687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16080" y="5234040"/>
              <a:ext cx="11160" cy="36360"/>
            </a:xfrm>
            <a:prstGeom prst="rect">
              <a:avLst/>
            </a:prstGeom>
            <a:solidFill>
              <a:srgbClr val="567d5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27240" y="5234040"/>
              <a:ext cx="11160" cy="36360"/>
            </a:xfrm>
            <a:prstGeom prst="rect">
              <a:avLst/>
            </a:prstGeom>
            <a:solidFill>
              <a:srgbClr val="40714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38400" y="5234040"/>
              <a:ext cx="12600" cy="36360"/>
            </a:xfrm>
            <a:prstGeom prst="rect">
              <a:avLst/>
            </a:prstGeom>
            <a:solidFill>
              <a:srgbClr val="2867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51000" y="5234040"/>
              <a:ext cx="11160" cy="36360"/>
            </a:xfrm>
            <a:prstGeom prst="rect">
              <a:avLst/>
            </a:prstGeom>
            <a:solidFill>
              <a:srgbClr val="006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09520" y="5234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09520" y="5234040"/>
              <a:ext cx="11160" cy="36360"/>
            </a:xfrm>
            <a:prstGeom prst="rect">
              <a:avLst/>
            </a:prstGeom>
            <a:solidFill>
              <a:srgbClr val="bebe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20680" y="5234040"/>
              <a:ext cx="11160" cy="36360"/>
            </a:xfrm>
            <a:prstGeom prst="rect">
              <a:avLst/>
            </a:prstGeom>
            <a:solidFill>
              <a:srgbClr val="bebe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31840" y="5234040"/>
              <a:ext cx="12600" cy="36360"/>
            </a:xfrm>
            <a:prstGeom prst="rect">
              <a:avLst/>
            </a:prstGeom>
            <a:solidFill>
              <a:srgbClr val="bdbd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44440" y="5234040"/>
              <a:ext cx="11160" cy="36360"/>
            </a:xfrm>
            <a:prstGeom prst="rect">
              <a:avLst/>
            </a:prstGeom>
            <a:solidFill>
              <a:srgbClr val="bbbb7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55600" y="5234040"/>
              <a:ext cx="12960" cy="36360"/>
            </a:xfrm>
            <a:prstGeom prst="rect">
              <a:avLst/>
            </a:prstGeom>
            <a:solidFill>
              <a:srgbClr val="baba9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68560" y="5234040"/>
              <a:ext cx="10800" cy="36360"/>
            </a:xfrm>
            <a:prstGeom prst="rect">
              <a:avLst/>
            </a:prstGeom>
            <a:solidFill>
              <a:srgbClr val="b9b99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79360" y="5234040"/>
              <a:ext cx="12960" cy="36360"/>
            </a:xfrm>
            <a:prstGeom prst="rect">
              <a:avLst/>
            </a:prstGeom>
            <a:solidFill>
              <a:srgbClr val="b9b9a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92320" y="5234040"/>
              <a:ext cx="11160" cy="36360"/>
            </a:xfrm>
            <a:prstGeom prst="rect">
              <a:avLst/>
            </a:prstGeom>
            <a:solidFill>
              <a:srgbClr val="b9b9a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03480" y="5234040"/>
              <a:ext cx="12600" cy="36360"/>
            </a:xfrm>
            <a:prstGeom prst="rect">
              <a:avLst/>
            </a:prstGeom>
            <a:solidFill>
              <a:srgbClr val="baba9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16080" y="5234040"/>
              <a:ext cx="11160" cy="36360"/>
            </a:xfrm>
            <a:prstGeom prst="rect">
              <a:avLst/>
            </a:prstGeom>
            <a:solidFill>
              <a:srgbClr val="bbbb7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27240" y="5234040"/>
              <a:ext cx="11160" cy="36360"/>
            </a:xfrm>
            <a:prstGeom prst="rect">
              <a:avLst/>
            </a:prstGeom>
            <a:solidFill>
              <a:srgbClr val="bdbd5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38400" y="5234040"/>
              <a:ext cx="12600" cy="36360"/>
            </a:xfrm>
            <a:prstGeom prst="rect">
              <a:avLst/>
            </a:prstGeom>
            <a:solidFill>
              <a:srgbClr val="bebe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51000" y="5234040"/>
              <a:ext cx="11160" cy="36360"/>
            </a:xfrm>
            <a:prstGeom prst="rect">
              <a:avLst/>
            </a:prstGeom>
            <a:solidFill>
              <a:srgbClr val="bfb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09520" y="5234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109520" y="5234040"/>
              <a:ext cx="11160" cy="36360"/>
            </a:xfrm>
            <a:prstGeom prst="rect">
              <a:avLst/>
            </a:prstGeom>
            <a:solidFill>
              <a:srgbClr val="610f6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20680" y="5234040"/>
              <a:ext cx="11160" cy="36360"/>
            </a:xfrm>
            <a:prstGeom prst="rect">
              <a:avLst/>
            </a:prstGeom>
            <a:solidFill>
              <a:srgbClr val="6524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31840" y="5234040"/>
              <a:ext cx="12600" cy="36360"/>
            </a:xfrm>
            <a:prstGeom prst="rect">
              <a:avLst/>
            </a:prstGeom>
            <a:solidFill>
              <a:srgbClr val="6e396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44440" y="5234040"/>
              <a:ext cx="11160" cy="36360"/>
            </a:xfrm>
            <a:prstGeom prst="rect">
              <a:avLst/>
            </a:prstGeom>
            <a:solidFill>
              <a:srgbClr val="784d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55600" y="5234040"/>
              <a:ext cx="12960" cy="36360"/>
            </a:xfrm>
            <a:prstGeom prst="rect">
              <a:avLst/>
            </a:prstGeom>
            <a:solidFill>
              <a:srgbClr val="815b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68560" y="5234040"/>
              <a:ext cx="10800" cy="36360"/>
            </a:xfrm>
            <a:prstGeom prst="rect">
              <a:avLst/>
            </a:prstGeom>
            <a:solidFill>
              <a:srgbClr val="8663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79360" y="5234040"/>
              <a:ext cx="12960" cy="36360"/>
            </a:xfrm>
            <a:prstGeom prst="rect">
              <a:avLst/>
            </a:prstGeom>
            <a:solidFill>
              <a:srgbClr val="8967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92320" y="5234040"/>
              <a:ext cx="11160" cy="36360"/>
            </a:xfrm>
            <a:prstGeom prst="rect">
              <a:avLst/>
            </a:prstGeom>
            <a:solidFill>
              <a:srgbClr val="8967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03480" y="5234040"/>
              <a:ext cx="12600" cy="36360"/>
            </a:xfrm>
            <a:prstGeom prst="rect">
              <a:avLst/>
            </a:prstGeom>
            <a:solidFill>
              <a:srgbClr val="815b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16080" y="5234040"/>
              <a:ext cx="11160" cy="36360"/>
            </a:xfrm>
            <a:prstGeom prst="rect">
              <a:avLst/>
            </a:prstGeom>
            <a:solidFill>
              <a:srgbClr val="784d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27240" y="5234040"/>
              <a:ext cx="11160" cy="36360"/>
            </a:xfrm>
            <a:prstGeom prst="rect">
              <a:avLst/>
            </a:prstGeom>
            <a:solidFill>
              <a:srgbClr val="6e396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38400" y="5234040"/>
              <a:ext cx="12600" cy="36360"/>
            </a:xfrm>
            <a:prstGeom prst="rect">
              <a:avLst/>
            </a:prstGeom>
            <a:solidFill>
              <a:srgbClr val="6524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51000" y="5234040"/>
              <a:ext cx="11160" cy="36360"/>
            </a:xfrm>
            <a:prstGeom prst="rect">
              <a:avLst/>
            </a:prstGeom>
            <a:solidFill>
              <a:srgbClr val="6000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09520" y="5234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68360" y="5318280"/>
              <a:ext cx="12600" cy="36360"/>
            </a:xfrm>
            <a:prstGeom prst="rect">
              <a:avLst/>
            </a:prstGeom>
            <a:solidFill>
              <a:srgbClr val="0e0e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80960" y="5318280"/>
              <a:ext cx="11160" cy="36360"/>
            </a:xfrm>
            <a:prstGeom prst="rect">
              <a:avLst/>
            </a:prstGeom>
            <a:solidFill>
              <a:srgbClr val="1f1f6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92120" y="5318280"/>
              <a:ext cx="11160" cy="36360"/>
            </a:xfrm>
            <a:prstGeom prst="rect">
              <a:avLst/>
            </a:prstGeom>
            <a:solidFill>
              <a:srgbClr val="32326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03280" y="5318280"/>
              <a:ext cx="12600" cy="36360"/>
            </a:xfrm>
            <a:prstGeom prst="rect">
              <a:avLst/>
            </a:prstGeom>
            <a:solidFill>
              <a:srgbClr val="44447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15880" y="5318280"/>
              <a:ext cx="11160" cy="36360"/>
            </a:xfrm>
            <a:prstGeom prst="rect">
              <a:avLst/>
            </a:prstGeom>
            <a:solidFill>
              <a:srgbClr val="52527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27040" y="5318280"/>
              <a:ext cx="12960" cy="36360"/>
            </a:xfrm>
            <a:prstGeom prst="rect">
              <a:avLst/>
            </a:prstGeom>
            <a:solidFill>
              <a:srgbClr val="5b5b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40000" y="5318280"/>
              <a:ext cx="10800" cy="36360"/>
            </a:xfrm>
            <a:prstGeom prst="rect">
              <a:avLst/>
            </a:prstGeom>
            <a:solidFill>
              <a:srgbClr val="6161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50800" y="5318280"/>
              <a:ext cx="12960" cy="36360"/>
            </a:xfrm>
            <a:prstGeom prst="rect">
              <a:avLst/>
            </a:prstGeom>
            <a:solidFill>
              <a:srgbClr val="6161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63760" y="5318280"/>
              <a:ext cx="11160" cy="36360"/>
            </a:xfrm>
            <a:prstGeom prst="rect">
              <a:avLst/>
            </a:prstGeom>
            <a:solidFill>
              <a:srgbClr val="5b5b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74920" y="5318280"/>
              <a:ext cx="11160" cy="36360"/>
            </a:xfrm>
            <a:prstGeom prst="rect">
              <a:avLst/>
            </a:prstGeom>
            <a:solidFill>
              <a:srgbClr val="52527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86080" y="5318280"/>
              <a:ext cx="12600" cy="36360"/>
            </a:xfrm>
            <a:prstGeom prst="rect">
              <a:avLst/>
            </a:prstGeom>
            <a:solidFill>
              <a:srgbClr val="4444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98680" y="5318280"/>
              <a:ext cx="11160" cy="36360"/>
            </a:xfrm>
            <a:prstGeom prst="rect">
              <a:avLst/>
            </a:prstGeom>
            <a:solidFill>
              <a:srgbClr val="32326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09840" y="5318280"/>
              <a:ext cx="12600" cy="36360"/>
            </a:xfrm>
            <a:prstGeom prst="rect">
              <a:avLst/>
            </a:prstGeom>
            <a:solidFill>
              <a:srgbClr val="1f1f6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22440" y="5318280"/>
              <a:ext cx="11160" cy="36360"/>
            </a:xfrm>
            <a:prstGeom prst="rect">
              <a:avLst/>
            </a:prstGeom>
            <a:solidFill>
              <a:srgbClr val="0000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68360" y="5318280"/>
              <a:ext cx="154080" cy="2520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67" y="16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74920" y="5257800"/>
              <a:ext cx="11160" cy="96840"/>
            </a:xfrm>
            <a:prstGeom prst="rect">
              <a:avLst/>
            </a:prstGeom>
            <a:solidFill>
              <a:srgbClr val="7d161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86080" y="5257800"/>
              <a:ext cx="12600" cy="96840"/>
            </a:xfrm>
            <a:prstGeom prst="rect">
              <a:avLst/>
            </a:prstGeom>
            <a:solidFill>
              <a:srgbClr val="6e3b3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98680" y="5257800"/>
              <a:ext cx="11160" cy="96840"/>
            </a:xfrm>
            <a:prstGeom prst="rect">
              <a:avLst/>
            </a:prstGeom>
            <a:solidFill>
              <a:srgbClr val="6549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09840" y="5257800"/>
              <a:ext cx="12600" cy="96840"/>
            </a:xfrm>
            <a:prstGeom prst="rect">
              <a:avLst/>
            </a:prstGeom>
            <a:solidFill>
              <a:srgbClr val="6549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22440" y="5257800"/>
              <a:ext cx="11160" cy="968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74920" y="5257800"/>
              <a:ext cx="47520" cy="85680"/>
            </a:xfrm>
            <a:custGeom>
              <a:avLst/>
              <a:gdLst/>
              <a:ahLst/>
              <a:rect l="l" t="t" r="r" b="b"/>
              <a:pathLst>
                <a:path w="30" h="54">
                  <a:moveTo>
                    <a:pt x="0" y="54"/>
                  </a:moveTo>
                  <a:lnTo>
                    <a:pt x="0" y="15"/>
                  </a:lnTo>
                  <a:lnTo>
                    <a:pt x="30" y="0"/>
                  </a:lnTo>
                  <a:lnTo>
                    <a:pt x="30" y="38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68360" y="5281560"/>
              <a:ext cx="12600" cy="61920"/>
            </a:xfrm>
            <a:prstGeom prst="rect">
              <a:avLst/>
            </a:prstGeom>
            <a:solidFill>
              <a:srgbClr val="ff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80960" y="5281560"/>
              <a:ext cx="11160" cy="61920"/>
            </a:xfrm>
            <a:prstGeom prst="rect">
              <a:avLst/>
            </a:prstGeom>
            <a:solidFill>
              <a:srgbClr val="ff47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92120" y="5281560"/>
              <a:ext cx="11160" cy="61920"/>
            </a:xfrm>
            <a:prstGeom prst="rect">
              <a:avLst/>
            </a:prstGeom>
            <a:solidFill>
              <a:srgbClr val="ff6f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03280" y="5281560"/>
              <a:ext cx="12600" cy="61920"/>
            </a:xfrm>
            <a:prstGeom prst="rect">
              <a:avLst/>
            </a:prstGeom>
            <a:solidFill>
              <a:srgbClr val="ff888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15880" y="5281560"/>
              <a:ext cx="11160" cy="61920"/>
            </a:xfrm>
            <a:prstGeom prst="rect">
              <a:avLst/>
            </a:prstGeom>
            <a:solidFill>
              <a:srgbClr val="ff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27040" y="5281560"/>
              <a:ext cx="12960" cy="61920"/>
            </a:xfrm>
            <a:prstGeom prst="rect">
              <a:avLst/>
            </a:prstGeom>
            <a:solidFill>
              <a:srgbClr val="ff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440000" y="5281560"/>
              <a:ext cx="10800" cy="61920"/>
            </a:xfrm>
            <a:prstGeom prst="rect">
              <a:avLst/>
            </a:prstGeom>
            <a:solidFill>
              <a:srgbClr val="ff6f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50800" y="5281560"/>
              <a:ext cx="12960" cy="61920"/>
            </a:xfrm>
            <a:prstGeom prst="rect">
              <a:avLst/>
            </a:prstGeom>
            <a:solidFill>
              <a:srgbClr val="ff47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63760" y="5281560"/>
              <a:ext cx="11160" cy="61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368360" y="5281560"/>
              <a:ext cx="106560" cy="61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68360" y="5257800"/>
              <a:ext cx="12600" cy="36360"/>
            </a:xfrm>
            <a:prstGeom prst="rect">
              <a:avLst/>
            </a:prstGeom>
            <a:solidFill>
              <a:srgbClr val="be0f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80960" y="5257800"/>
              <a:ext cx="11160" cy="36360"/>
            </a:xfrm>
            <a:prstGeom prst="rect">
              <a:avLst/>
            </a:prstGeom>
            <a:solidFill>
              <a:srgbClr val="bc23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92120" y="5257800"/>
              <a:ext cx="11160" cy="36360"/>
            </a:xfrm>
            <a:prstGeom prst="rect">
              <a:avLst/>
            </a:prstGeom>
            <a:solidFill>
              <a:srgbClr val="b9383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03280" y="5257800"/>
              <a:ext cx="12600" cy="36360"/>
            </a:xfrm>
            <a:prstGeom prst="rect">
              <a:avLst/>
            </a:prstGeom>
            <a:solidFill>
              <a:srgbClr val="b54d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15880" y="5257800"/>
              <a:ext cx="11160" cy="36360"/>
            </a:xfrm>
            <a:prstGeom prst="rect">
              <a:avLst/>
            </a:prstGeom>
            <a:solidFill>
              <a:srgbClr val="b05c5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27040" y="5257800"/>
              <a:ext cx="12960" cy="36360"/>
            </a:xfrm>
            <a:prstGeom prst="rect">
              <a:avLst/>
            </a:prstGeom>
            <a:solidFill>
              <a:srgbClr val="ad676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40000" y="5257800"/>
              <a:ext cx="10800" cy="36360"/>
            </a:xfrm>
            <a:prstGeom prst="rect">
              <a:avLst/>
            </a:prstGeom>
            <a:solidFill>
              <a:srgbClr val="ab6d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50800" y="5257800"/>
              <a:ext cx="12960" cy="36360"/>
            </a:xfrm>
            <a:prstGeom prst="rect">
              <a:avLst/>
            </a:prstGeom>
            <a:solidFill>
              <a:srgbClr val="ab6d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63760" y="5257800"/>
              <a:ext cx="11160" cy="36360"/>
            </a:xfrm>
            <a:prstGeom prst="rect">
              <a:avLst/>
            </a:prstGeom>
            <a:solidFill>
              <a:srgbClr val="ad676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74920" y="5257800"/>
              <a:ext cx="11160" cy="36360"/>
            </a:xfrm>
            <a:prstGeom prst="rect">
              <a:avLst/>
            </a:prstGeom>
            <a:solidFill>
              <a:srgbClr val="b05c5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486080" y="5257800"/>
              <a:ext cx="12600" cy="36360"/>
            </a:xfrm>
            <a:prstGeom prst="rect">
              <a:avLst/>
            </a:prstGeom>
            <a:solidFill>
              <a:srgbClr val="b54c4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98680" y="5257800"/>
              <a:ext cx="11160" cy="36360"/>
            </a:xfrm>
            <a:prstGeom prst="rect">
              <a:avLst/>
            </a:prstGeom>
            <a:solidFill>
              <a:srgbClr val="b9383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09840" y="5257800"/>
              <a:ext cx="12600" cy="36360"/>
            </a:xfrm>
            <a:prstGeom prst="rect">
              <a:avLst/>
            </a:prstGeom>
            <a:solidFill>
              <a:srgbClr val="bc23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22440" y="5257800"/>
              <a:ext cx="11160" cy="36360"/>
            </a:xfrm>
            <a:prstGeom prst="rect">
              <a:avLst/>
            </a:prstGeom>
            <a:solidFill>
              <a:srgbClr val="b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68360" y="5257800"/>
              <a:ext cx="154080" cy="23760"/>
            </a:xfrm>
            <a:custGeom>
              <a:avLst/>
              <a:gdLst/>
              <a:ahLst/>
              <a:rect l="l" t="t" r="r" b="b"/>
              <a:pathLst>
                <a:path w="97" h="15">
                  <a:moveTo>
                    <a:pt x="67" y="15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74920" y="5245200"/>
              <a:ext cx="11160" cy="48960"/>
            </a:xfrm>
            <a:prstGeom prst="rect">
              <a:avLst/>
            </a:prstGeom>
            <a:solidFill>
              <a:srgbClr val="1742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86080" y="5245200"/>
              <a:ext cx="12600" cy="48960"/>
            </a:xfrm>
            <a:prstGeom prst="rect">
              <a:avLst/>
            </a:prstGeom>
            <a:solidFill>
              <a:srgbClr val="3e523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98680" y="5245200"/>
              <a:ext cx="11160" cy="48960"/>
            </a:xfrm>
            <a:prstGeom prst="rect">
              <a:avLst/>
            </a:prstGeom>
            <a:solidFill>
              <a:srgbClr val="4d5a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09840" y="5245200"/>
              <a:ext cx="12600" cy="48960"/>
            </a:xfrm>
            <a:prstGeom prst="rect">
              <a:avLst/>
            </a:prstGeom>
            <a:solidFill>
              <a:srgbClr val="4d5a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22440" y="5245200"/>
              <a:ext cx="11160" cy="48960"/>
            </a:xfrm>
            <a:prstGeom prst="rect">
              <a:avLst/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474920" y="5245200"/>
              <a:ext cx="47520" cy="3636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0" y="23"/>
                  </a:moveTo>
                  <a:lnTo>
                    <a:pt x="0" y="16"/>
                  </a:lnTo>
                  <a:lnTo>
                    <a:pt x="30" y="0"/>
                  </a:lnTo>
                  <a:lnTo>
                    <a:pt x="30" y="8"/>
                  </a:lnTo>
                  <a:lnTo>
                    <a:pt x="0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68360" y="5270400"/>
              <a:ext cx="12600" cy="11160"/>
            </a:xfrm>
            <a:prstGeom prst="rect">
              <a:avLst/>
            </a:prstGeom>
            <a:solidFill>
              <a:srgbClr val="1d831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80960" y="5270400"/>
              <a:ext cx="11160" cy="11160"/>
            </a:xfrm>
            <a:prstGeom prst="rect">
              <a:avLst/>
            </a:prstGeom>
            <a:solidFill>
              <a:srgbClr val="4b964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92120" y="5270400"/>
              <a:ext cx="11160" cy="11160"/>
            </a:xfrm>
            <a:prstGeom prst="rect">
              <a:avLst/>
            </a:prstGeom>
            <a:solidFill>
              <a:srgbClr val="75b17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403280" y="5270400"/>
              <a:ext cx="12600" cy="11160"/>
            </a:xfrm>
            <a:prstGeom prst="rect">
              <a:avLst/>
            </a:prstGeom>
            <a:solidFill>
              <a:srgbClr val="90c59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15880" y="5270400"/>
              <a:ext cx="11160" cy="11160"/>
            </a:xfrm>
            <a:prstGeom prst="rect">
              <a:avLst/>
            </a:prstGeom>
            <a:solidFill>
              <a:srgbClr val="99cd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27040" y="5270400"/>
              <a:ext cx="12960" cy="11160"/>
            </a:xfrm>
            <a:prstGeom prst="rect">
              <a:avLst/>
            </a:prstGeom>
            <a:solidFill>
              <a:srgbClr val="99cd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440000" y="5270400"/>
              <a:ext cx="10800" cy="11160"/>
            </a:xfrm>
            <a:prstGeom prst="rect">
              <a:avLst/>
            </a:prstGeom>
            <a:solidFill>
              <a:srgbClr val="75b17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50800" y="5270400"/>
              <a:ext cx="12960" cy="11160"/>
            </a:xfrm>
            <a:prstGeom prst="rect">
              <a:avLst/>
            </a:prstGeom>
            <a:solidFill>
              <a:srgbClr val="4b964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63760" y="5270400"/>
              <a:ext cx="11160" cy="111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68360" y="5270400"/>
              <a:ext cx="106560" cy="11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68360" y="5245200"/>
              <a:ext cx="12600" cy="36360"/>
            </a:xfrm>
            <a:prstGeom prst="rect">
              <a:avLst/>
            </a:prstGeom>
            <a:solidFill>
              <a:srgbClr val="1061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380960" y="5245200"/>
              <a:ext cx="11160" cy="36360"/>
            </a:xfrm>
            <a:prstGeom prst="rect">
              <a:avLst/>
            </a:prstGeom>
            <a:solidFill>
              <a:srgbClr val="25662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392120" y="5245200"/>
              <a:ext cx="11160" cy="36360"/>
            </a:xfrm>
            <a:prstGeom prst="rect">
              <a:avLst/>
            </a:prstGeom>
            <a:solidFill>
              <a:srgbClr val="3c6f3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03280" y="5245200"/>
              <a:ext cx="12600" cy="36360"/>
            </a:xfrm>
            <a:prstGeom prst="rect">
              <a:avLst/>
            </a:prstGeom>
            <a:solidFill>
              <a:srgbClr val="517a5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15880" y="5245200"/>
              <a:ext cx="11160" cy="36360"/>
            </a:xfrm>
            <a:prstGeom prst="rect">
              <a:avLst/>
            </a:prstGeom>
            <a:solidFill>
              <a:srgbClr val="6284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27040" y="5245200"/>
              <a:ext cx="12960" cy="36360"/>
            </a:xfrm>
            <a:prstGeom prst="rect">
              <a:avLst/>
            </a:prstGeom>
            <a:solidFill>
              <a:srgbClr val="6c8b6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40000" y="5245200"/>
              <a:ext cx="10800" cy="36360"/>
            </a:xfrm>
            <a:prstGeom prst="rect">
              <a:avLst/>
            </a:prstGeom>
            <a:solidFill>
              <a:srgbClr val="7390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50800" y="5245200"/>
              <a:ext cx="12960" cy="36360"/>
            </a:xfrm>
            <a:prstGeom prst="rect">
              <a:avLst/>
            </a:prstGeom>
            <a:solidFill>
              <a:srgbClr val="73907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63760" y="5245200"/>
              <a:ext cx="11160" cy="36360"/>
            </a:xfrm>
            <a:prstGeom prst="rect">
              <a:avLst/>
            </a:prstGeom>
            <a:solidFill>
              <a:srgbClr val="6c8b6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474920" y="5245200"/>
              <a:ext cx="11160" cy="36360"/>
            </a:xfrm>
            <a:prstGeom prst="rect">
              <a:avLst/>
            </a:prstGeom>
            <a:solidFill>
              <a:srgbClr val="6284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486080" y="5245200"/>
              <a:ext cx="12600" cy="36360"/>
            </a:xfrm>
            <a:prstGeom prst="rect">
              <a:avLst/>
            </a:prstGeom>
            <a:solidFill>
              <a:srgbClr val="517a5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498680" y="5245200"/>
              <a:ext cx="11160" cy="36360"/>
            </a:xfrm>
            <a:prstGeom prst="rect">
              <a:avLst/>
            </a:prstGeom>
            <a:solidFill>
              <a:srgbClr val="3c6f3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509840" y="5245200"/>
              <a:ext cx="12600" cy="36360"/>
            </a:xfrm>
            <a:prstGeom prst="rect">
              <a:avLst/>
            </a:prstGeom>
            <a:solidFill>
              <a:srgbClr val="25662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522440" y="5245200"/>
              <a:ext cx="11160" cy="36360"/>
            </a:xfrm>
            <a:prstGeom prst="rect">
              <a:avLst/>
            </a:prstGeom>
            <a:solidFill>
              <a:srgbClr val="006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368360" y="5245200"/>
              <a:ext cx="154080" cy="2520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67" y="16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368360" y="5245200"/>
              <a:ext cx="12600" cy="36360"/>
            </a:xfrm>
            <a:prstGeom prst="rect">
              <a:avLst/>
            </a:prstGeom>
            <a:solidFill>
              <a:srgbClr val="bebe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80960" y="5245200"/>
              <a:ext cx="11160" cy="36360"/>
            </a:xfrm>
            <a:prstGeom prst="rect">
              <a:avLst/>
            </a:prstGeom>
            <a:solidFill>
              <a:srgbClr val="bebe3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392120" y="5245200"/>
              <a:ext cx="11160" cy="36360"/>
            </a:xfrm>
            <a:prstGeom prst="rect">
              <a:avLst/>
            </a:prstGeom>
            <a:solidFill>
              <a:srgbClr val="bdbd5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03280" y="5245200"/>
              <a:ext cx="12600" cy="36360"/>
            </a:xfrm>
            <a:prstGeom prst="rect">
              <a:avLst/>
            </a:prstGeom>
            <a:solidFill>
              <a:srgbClr val="bcbc7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415880" y="5245200"/>
              <a:ext cx="11160" cy="36360"/>
            </a:xfrm>
            <a:prstGeom prst="rect">
              <a:avLst/>
            </a:prstGeom>
            <a:solidFill>
              <a:srgbClr val="baba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27040" y="5245200"/>
              <a:ext cx="12960" cy="36360"/>
            </a:xfrm>
            <a:prstGeom prst="rect">
              <a:avLst/>
            </a:prstGeom>
            <a:solidFill>
              <a:srgbClr val="b9b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40000" y="5245200"/>
              <a:ext cx="10800" cy="36360"/>
            </a:xfrm>
            <a:prstGeom prst="rect">
              <a:avLst/>
            </a:prstGeom>
            <a:solidFill>
              <a:srgbClr val="b9b9a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50800" y="5245200"/>
              <a:ext cx="12960" cy="36360"/>
            </a:xfrm>
            <a:prstGeom prst="rect">
              <a:avLst/>
            </a:prstGeom>
            <a:solidFill>
              <a:srgbClr val="b9b9a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463760" y="5245200"/>
              <a:ext cx="11160" cy="36360"/>
            </a:xfrm>
            <a:prstGeom prst="rect">
              <a:avLst/>
            </a:prstGeom>
            <a:solidFill>
              <a:srgbClr val="b9b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74920" y="5245200"/>
              <a:ext cx="11160" cy="36360"/>
            </a:xfrm>
            <a:prstGeom prst="rect">
              <a:avLst/>
            </a:prstGeom>
            <a:solidFill>
              <a:srgbClr val="baba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486080" y="5245200"/>
              <a:ext cx="12600" cy="36360"/>
            </a:xfrm>
            <a:prstGeom prst="rect">
              <a:avLst/>
            </a:prstGeom>
            <a:solidFill>
              <a:srgbClr val="bcbc7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498680" y="5245200"/>
              <a:ext cx="11160" cy="36360"/>
            </a:xfrm>
            <a:prstGeom prst="rect">
              <a:avLst/>
            </a:prstGeom>
            <a:solidFill>
              <a:srgbClr val="bdbd5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509840" y="5245200"/>
              <a:ext cx="12600" cy="36360"/>
            </a:xfrm>
            <a:prstGeom prst="rect">
              <a:avLst/>
            </a:prstGeom>
            <a:solidFill>
              <a:srgbClr val="bebe3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22440" y="5245200"/>
              <a:ext cx="11160" cy="36360"/>
            </a:xfrm>
            <a:prstGeom prst="rect">
              <a:avLst/>
            </a:prstGeom>
            <a:solidFill>
              <a:srgbClr val="bfb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368360" y="5245200"/>
              <a:ext cx="154080" cy="2520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67" y="16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368360" y="5245200"/>
              <a:ext cx="12600" cy="36360"/>
            </a:xfrm>
            <a:prstGeom prst="rect">
              <a:avLst/>
            </a:prstGeom>
            <a:solidFill>
              <a:srgbClr val="610e6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380960" y="5245200"/>
              <a:ext cx="11160" cy="36360"/>
            </a:xfrm>
            <a:prstGeom prst="rect">
              <a:avLst/>
            </a:prstGeom>
            <a:solidFill>
              <a:srgbClr val="6521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92120" y="5245200"/>
              <a:ext cx="11160" cy="36360"/>
            </a:xfrm>
            <a:prstGeom prst="rect">
              <a:avLst/>
            </a:prstGeom>
            <a:solidFill>
              <a:srgbClr val="6c356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03280" y="5245200"/>
              <a:ext cx="12600" cy="36360"/>
            </a:xfrm>
            <a:prstGeom prst="rect">
              <a:avLst/>
            </a:prstGeom>
            <a:solidFill>
              <a:srgbClr val="7649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15880" y="5245200"/>
              <a:ext cx="11160" cy="36360"/>
            </a:xfrm>
            <a:prstGeom prst="rect">
              <a:avLst/>
            </a:prstGeom>
            <a:solidFill>
              <a:srgbClr val="7f57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427040" y="5245200"/>
              <a:ext cx="12960" cy="36360"/>
            </a:xfrm>
            <a:prstGeom prst="rect">
              <a:avLst/>
            </a:prstGeom>
            <a:solidFill>
              <a:srgbClr val="8561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440000" y="5245200"/>
              <a:ext cx="10800" cy="36360"/>
            </a:xfrm>
            <a:prstGeom prst="rect">
              <a:avLst/>
            </a:prstGeom>
            <a:solidFill>
              <a:srgbClr val="8967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50800" y="5245200"/>
              <a:ext cx="12960" cy="36360"/>
            </a:xfrm>
            <a:prstGeom prst="rect">
              <a:avLst/>
            </a:prstGeom>
            <a:solidFill>
              <a:srgbClr val="8967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63760" y="5245200"/>
              <a:ext cx="11160" cy="36360"/>
            </a:xfrm>
            <a:prstGeom prst="rect">
              <a:avLst/>
            </a:prstGeom>
            <a:solidFill>
              <a:srgbClr val="8561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474920" y="5245200"/>
              <a:ext cx="11160" cy="36360"/>
            </a:xfrm>
            <a:prstGeom prst="rect">
              <a:avLst/>
            </a:prstGeom>
            <a:solidFill>
              <a:srgbClr val="7f57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86080" y="5245200"/>
              <a:ext cx="12600" cy="36360"/>
            </a:xfrm>
            <a:prstGeom prst="rect">
              <a:avLst/>
            </a:prstGeom>
            <a:solidFill>
              <a:srgbClr val="7648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498680" y="5245200"/>
              <a:ext cx="11160" cy="36360"/>
            </a:xfrm>
            <a:prstGeom prst="rect">
              <a:avLst/>
            </a:prstGeom>
            <a:solidFill>
              <a:srgbClr val="6c356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509840" y="5245200"/>
              <a:ext cx="12600" cy="36360"/>
            </a:xfrm>
            <a:prstGeom prst="rect">
              <a:avLst/>
            </a:prstGeom>
            <a:solidFill>
              <a:srgbClr val="6521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22440" y="5245200"/>
              <a:ext cx="11160" cy="36360"/>
            </a:xfrm>
            <a:prstGeom prst="rect">
              <a:avLst/>
            </a:prstGeom>
            <a:solidFill>
              <a:srgbClr val="6000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368360" y="5245200"/>
              <a:ext cx="154080" cy="2520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67" y="16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639800" y="5318280"/>
              <a:ext cx="12960" cy="36360"/>
            </a:xfrm>
            <a:prstGeom prst="rect">
              <a:avLst/>
            </a:prstGeom>
            <a:solidFill>
              <a:srgbClr val="0e0e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652760" y="5318280"/>
              <a:ext cx="10800" cy="36360"/>
            </a:xfrm>
            <a:prstGeom prst="rect">
              <a:avLst/>
            </a:prstGeom>
            <a:solidFill>
              <a:srgbClr val="22226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1639800" y="5257800"/>
            <a:ext cx="554040" cy="96840"/>
            <a:chOff x="1639800" y="5257800"/>
            <a:chExt cx="554040" cy="96840"/>
          </a:xfrm>
        </p:grpSpPr>
        <p:sp>
          <p:nvSpPr>
            <p:cNvPr id="297" name=""/>
            <p:cNvSpPr/>
            <p:nvPr/>
          </p:nvSpPr>
          <p:spPr>
            <a:xfrm>
              <a:off x="1663560" y="531828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74720" y="5318280"/>
              <a:ext cx="129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687680" y="5318280"/>
              <a:ext cx="108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698480" y="5318280"/>
              <a:ext cx="129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11440" y="53182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22600" y="531828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35200" y="531828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46360" y="531828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57520" y="5318280"/>
              <a:ext cx="1260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770120" y="531828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781280" y="5318280"/>
              <a:ext cx="1260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39800" y="5318280"/>
              <a:ext cx="14148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46360" y="5270400"/>
              <a:ext cx="11160" cy="842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57520" y="5270400"/>
              <a:ext cx="12600" cy="842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770120" y="5270400"/>
              <a:ext cx="11160" cy="842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81280" y="5270400"/>
              <a:ext cx="12600" cy="842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46360" y="5270400"/>
              <a:ext cx="34920" cy="7308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0" y="4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39800" y="5307120"/>
              <a:ext cx="12960" cy="363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652760" y="5307120"/>
              <a:ext cx="10800" cy="363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663560" y="5307120"/>
              <a:ext cx="11160" cy="363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74720" y="5307120"/>
              <a:ext cx="12960" cy="363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687680" y="5307120"/>
              <a:ext cx="10800" cy="363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698480" y="5307120"/>
              <a:ext cx="12960" cy="363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711440" y="5307120"/>
              <a:ext cx="11160" cy="363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722600" y="5307120"/>
              <a:ext cx="12600" cy="363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735200" y="5307120"/>
              <a:ext cx="11160" cy="36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39800" y="5307120"/>
              <a:ext cx="106560" cy="36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39800" y="5270400"/>
              <a:ext cx="12960" cy="4788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652760" y="5270400"/>
              <a:ext cx="1080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663560" y="5270400"/>
              <a:ext cx="1116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674720" y="5270400"/>
              <a:ext cx="129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687680" y="5270400"/>
              <a:ext cx="1080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698480" y="5270400"/>
              <a:ext cx="12960" cy="4788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711440" y="527040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22600" y="5270400"/>
              <a:ext cx="1260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35200" y="5270400"/>
              <a:ext cx="1116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746360" y="5270400"/>
              <a:ext cx="111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57520" y="5270400"/>
              <a:ext cx="1260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770120" y="5270400"/>
              <a:ext cx="1116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781280" y="5270400"/>
              <a:ext cx="1260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639800" y="5270400"/>
              <a:ext cx="141480" cy="3672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746360" y="5257800"/>
              <a:ext cx="11160" cy="604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57520" y="5257800"/>
              <a:ext cx="12600" cy="604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770120" y="5257800"/>
              <a:ext cx="11160" cy="604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781280" y="5257800"/>
              <a:ext cx="12600" cy="604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746360" y="5257800"/>
              <a:ext cx="34920" cy="4932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0" y="3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0" y="3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639800" y="5281560"/>
              <a:ext cx="12960" cy="255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652760" y="5281560"/>
              <a:ext cx="10800" cy="255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663560" y="5281560"/>
              <a:ext cx="11160" cy="255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74720" y="5281560"/>
              <a:ext cx="12960" cy="255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687680" y="5281560"/>
              <a:ext cx="10800" cy="255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698480" y="5281560"/>
              <a:ext cx="12960" cy="255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711440" y="5281560"/>
              <a:ext cx="11160" cy="255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22600" y="5281560"/>
              <a:ext cx="12600" cy="255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735200" y="5281560"/>
              <a:ext cx="11160" cy="255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639800" y="5281560"/>
              <a:ext cx="106560" cy="25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39800" y="5257800"/>
              <a:ext cx="129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52760" y="5257800"/>
              <a:ext cx="108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663560" y="525780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74720" y="5257800"/>
              <a:ext cx="129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87680" y="5257800"/>
              <a:ext cx="108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98480" y="5257800"/>
              <a:ext cx="129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11440" y="525780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22600" y="525780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735200" y="525780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746360" y="525780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757520" y="525780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770120" y="525780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781280" y="525780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39800" y="525780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39800" y="5257800"/>
              <a:ext cx="1296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52760" y="5257800"/>
              <a:ext cx="108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63560" y="525780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74720" y="5257800"/>
              <a:ext cx="129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87680" y="5257800"/>
              <a:ext cx="1080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698480" y="5257800"/>
              <a:ext cx="1296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711440" y="525780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22600" y="525780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35200" y="525780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46360" y="525780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757520" y="5257800"/>
              <a:ext cx="1260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770120" y="525780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781280" y="5257800"/>
              <a:ext cx="1260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639800" y="525780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639800" y="5257800"/>
              <a:ext cx="129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652760" y="5257800"/>
              <a:ext cx="108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663560" y="525780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674720" y="5257800"/>
              <a:ext cx="129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687680" y="5257800"/>
              <a:ext cx="108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698480" y="5257800"/>
              <a:ext cx="129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711440" y="52578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22600" y="525780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35200" y="525780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746360" y="525780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57520" y="525780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770120" y="525780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81280" y="525780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639800" y="525780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11240" y="5318280"/>
              <a:ext cx="111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22400" y="531828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35000" y="531828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46160" y="5318280"/>
              <a:ext cx="129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59120" y="5318280"/>
              <a:ext cx="108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69920" y="5318280"/>
              <a:ext cx="129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82880" y="53182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94040" y="5318280"/>
              <a:ext cx="108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004840" y="5318280"/>
              <a:ext cx="129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017800" y="531828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028960" y="5318280"/>
              <a:ext cx="1260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41560" y="531828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052720" y="5318280"/>
              <a:ext cx="1260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11240" y="5318280"/>
              <a:ext cx="14148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17800" y="5281560"/>
              <a:ext cx="11160" cy="730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28960" y="5281560"/>
              <a:ext cx="12600" cy="730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41560" y="5281560"/>
              <a:ext cx="11160" cy="730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052720" y="5281560"/>
              <a:ext cx="12600" cy="730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017800" y="5281560"/>
              <a:ext cx="34920" cy="6192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0" y="39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3"/>
                  </a:lnTo>
                  <a:lnTo>
                    <a:pt x="0" y="3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11240" y="5318280"/>
              <a:ext cx="11160" cy="2520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922400" y="5318280"/>
              <a:ext cx="12600" cy="252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35000" y="5318280"/>
              <a:ext cx="11160" cy="252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46160" y="5318280"/>
              <a:ext cx="12960" cy="2520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59120" y="5318280"/>
              <a:ext cx="10800" cy="252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69920" y="5318280"/>
              <a:ext cx="12960" cy="252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82880" y="5318280"/>
              <a:ext cx="11160" cy="252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94040" y="5318280"/>
              <a:ext cx="10800" cy="252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04840" y="5318280"/>
              <a:ext cx="12960" cy="25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11240" y="5318280"/>
              <a:ext cx="106560" cy="25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911240" y="5281560"/>
              <a:ext cx="11160" cy="493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922400" y="5281560"/>
              <a:ext cx="1260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35000" y="5281560"/>
              <a:ext cx="1116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46160" y="5281560"/>
              <a:ext cx="1296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959120" y="5281560"/>
              <a:ext cx="1080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969920" y="5281560"/>
              <a:ext cx="12960" cy="493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82880" y="528156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94040" y="5281560"/>
              <a:ext cx="1080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004840" y="5281560"/>
              <a:ext cx="1296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17800" y="5281560"/>
              <a:ext cx="1116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028960" y="5281560"/>
              <a:ext cx="1260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041560" y="5281560"/>
              <a:ext cx="111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52720" y="5281560"/>
              <a:ext cx="12600" cy="493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11240" y="5281560"/>
              <a:ext cx="141480" cy="3672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017800" y="5257800"/>
              <a:ext cx="11160" cy="730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028960" y="5257800"/>
              <a:ext cx="12600" cy="730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041560" y="5257800"/>
              <a:ext cx="11160" cy="730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052720" y="5257800"/>
              <a:ext cx="12600" cy="730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017800" y="525780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911240" y="5281560"/>
              <a:ext cx="11160" cy="367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922400" y="5281560"/>
              <a:ext cx="1260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35000" y="5281560"/>
              <a:ext cx="1116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46160" y="5281560"/>
              <a:ext cx="12960" cy="367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59120" y="5281560"/>
              <a:ext cx="1080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69920" y="5281560"/>
              <a:ext cx="1296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2880" y="5281560"/>
              <a:ext cx="1116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94040" y="5281560"/>
              <a:ext cx="1080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004840" y="5281560"/>
              <a:ext cx="12960" cy="36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11240" y="5281560"/>
              <a:ext cx="10656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911240" y="5257800"/>
              <a:ext cx="111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22400" y="525780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935000" y="525780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46160" y="5257800"/>
              <a:ext cx="129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959120" y="5257800"/>
              <a:ext cx="108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69920" y="5257800"/>
              <a:ext cx="129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2880" y="525780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994040" y="5257800"/>
              <a:ext cx="108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004840" y="5257800"/>
              <a:ext cx="129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17800" y="525780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028960" y="525780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041560" y="525780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052720" y="525780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911240" y="525780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911240" y="5257800"/>
              <a:ext cx="1116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922400" y="5257800"/>
              <a:ext cx="126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935000" y="525780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946160" y="5257800"/>
              <a:ext cx="129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959120" y="5257800"/>
              <a:ext cx="1080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969920" y="5257800"/>
              <a:ext cx="1296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982880" y="525780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994040" y="5257800"/>
              <a:ext cx="108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004840" y="5257800"/>
              <a:ext cx="129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017800" y="525780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028960" y="5257800"/>
              <a:ext cx="1260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041560" y="525780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052720" y="5257800"/>
              <a:ext cx="1260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11240" y="525780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911240" y="5257800"/>
              <a:ext cx="111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922400" y="525780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935000" y="525780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946160" y="5257800"/>
              <a:ext cx="129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959120" y="5257800"/>
              <a:ext cx="108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969920" y="5257800"/>
              <a:ext cx="129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982880" y="52578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994040" y="5257800"/>
              <a:ext cx="108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04840" y="5257800"/>
              <a:ext cx="129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017800" y="525780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028960" y="525780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041560" y="525780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052720" y="525780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911240" y="525780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171880" y="5318280"/>
              <a:ext cx="1080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182680" y="531828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2171880" y="5160960"/>
            <a:ext cx="660240" cy="193680"/>
            <a:chOff x="2171880" y="5160960"/>
            <a:chExt cx="660240" cy="193680"/>
          </a:xfrm>
        </p:grpSpPr>
        <p:sp>
          <p:nvSpPr>
            <p:cNvPr id="498" name=""/>
            <p:cNvSpPr/>
            <p:nvPr/>
          </p:nvSpPr>
          <p:spPr>
            <a:xfrm>
              <a:off x="2193840" y="5318280"/>
              <a:ext cx="129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206800" y="5318280"/>
              <a:ext cx="108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217600" y="5318280"/>
              <a:ext cx="129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230560" y="5318280"/>
              <a:ext cx="111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241720" y="531828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254320" y="53182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265480" y="531828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76640" y="5318280"/>
              <a:ext cx="126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289240" y="531828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300400" y="531828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313000" y="531828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171880" y="5318280"/>
              <a:ext cx="14112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6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6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276640" y="5270400"/>
              <a:ext cx="12600" cy="842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289240" y="5270400"/>
              <a:ext cx="11160" cy="842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300400" y="5270400"/>
              <a:ext cx="12600" cy="842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313000" y="5270400"/>
              <a:ext cx="11160" cy="842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276640" y="5270400"/>
              <a:ext cx="36360" cy="7308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0" y="46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30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171880" y="5294160"/>
              <a:ext cx="10800" cy="493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82680" y="5294160"/>
              <a:ext cx="11160" cy="493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193840" y="5294160"/>
              <a:ext cx="12960" cy="493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206800" y="5294160"/>
              <a:ext cx="10800" cy="493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217600" y="5294160"/>
              <a:ext cx="12960" cy="493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230560" y="5294160"/>
              <a:ext cx="11160" cy="493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241720" y="5294160"/>
              <a:ext cx="12600" cy="493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254320" y="5294160"/>
              <a:ext cx="11160" cy="493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265480" y="5294160"/>
              <a:ext cx="11160" cy="49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171880" y="5294160"/>
              <a:ext cx="104760" cy="493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171880" y="5270400"/>
              <a:ext cx="1080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182680" y="527040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193840" y="5270400"/>
              <a:ext cx="129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06800" y="5270400"/>
              <a:ext cx="1080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217600" y="5270400"/>
              <a:ext cx="129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230560" y="5270400"/>
              <a:ext cx="1116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241720" y="527040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54320" y="527040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65480" y="527040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276640" y="5270400"/>
              <a:ext cx="1260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289240" y="527040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300400" y="5270400"/>
              <a:ext cx="126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313000" y="5270400"/>
              <a:ext cx="111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171880" y="527040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6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276640" y="5221440"/>
              <a:ext cx="12600" cy="856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289240" y="5221440"/>
              <a:ext cx="11160" cy="85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300400" y="5221440"/>
              <a:ext cx="12600" cy="85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313000" y="5221440"/>
              <a:ext cx="11160" cy="856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276640" y="5221440"/>
              <a:ext cx="36360" cy="7272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0" y="46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31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171880" y="5245200"/>
              <a:ext cx="10800" cy="489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182680" y="5245200"/>
              <a:ext cx="11160" cy="48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193840" y="5245200"/>
              <a:ext cx="12960" cy="48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06800" y="5245200"/>
              <a:ext cx="10800" cy="489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217600" y="5245200"/>
              <a:ext cx="12960" cy="48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230560" y="5245200"/>
              <a:ext cx="11160" cy="48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241720" y="5245200"/>
              <a:ext cx="12600" cy="48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254320" y="5245200"/>
              <a:ext cx="11160" cy="48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265480" y="5245200"/>
              <a:ext cx="11160" cy="48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171880" y="5245200"/>
              <a:ext cx="104760" cy="48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171880" y="5221440"/>
              <a:ext cx="1080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182680" y="522144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193840" y="5221440"/>
              <a:ext cx="129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206800" y="5221440"/>
              <a:ext cx="108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217600" y="5221440"/>
              <a:ext cx="129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230560" y="522144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41720" y="522144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254320" y="52214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265480" y="522144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276640" y="522144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289240" y="522144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300400" y="522144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313000" y="522144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171880" y="522144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6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171880" y="5221440"/>
              <a:ext cx="1080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182680" y="522144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193840" y="5221440"/>
              <a:ext cx="129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06800" y="5221440"/>
              <a:ext cx="108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17600" y="5221440"/>
              <a:ext cx="129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230560" y="5221440"/>
              <a:ext cx="1116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41720" y="522144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254320" y="522144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265480" y="522144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276640" y="5221440"/>
              <a:ext cx="126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289240" y="522144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300400" y="5221440"/>
              <a:ext cx="126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313000" y="5221440"/>
              <a:ext cx="1116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171880" y="522144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6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171880" y="5221440"/>
              <a:ext cx="1080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182680" y="522144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193840" y="5221440"/>
              <a:ext cx="129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206800" y="5221440"/>
              <a:ext cx="108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217600" y="5221440"/>
              <a:ext cx="129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230560" y="5221440"/>
              <a:ext cx="111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241720" y="522144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254320" y="522144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265480" y="522144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276640" y="522144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289240" y="522144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300400" y="522144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313000" y="522144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171880" y="522144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6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41520" y="5318280"/>
              <a:ext cx="1260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454120" y="531828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465280" y="5318280"/>
              <a:ext cx="129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478240" y="5318280"/>
              <a:ext cx="108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489040" y="5318280"/>
              <a:ext cx="129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502000" y="5318280"/>
              <a:ext cx="111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513160" y="531828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525760" y="53182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536920" y="531828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548080" y="5318280"/>
              <a:ext cx="126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560680" y="531828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71840" y="531828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584440" y="531828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441520" y="5318280"/>
              <a:ext cx="142920" cy="2520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67" y="16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548080" y="5257800"/>
              <a:ext cx="12600" cy="968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560680" y="5257800"/>
              <a:ext cx="11160" cy="968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571840" y="5257800"/>
              <a:ext cx="12600" cy="968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584440" y="5257800"/>
              <a:ext cx="11160" cy="968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548080" y="5257800"/>
              <a:ext cx="36360" cy="8568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0" y="54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38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441520" y="5281560"/>
              <a:ext cx="12600" cy="619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454120" y="5281560"/>
              <a:ext cx="11160" cy="61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465280" y="5281560"/>
              <a:ext cx="12960" cy="61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478240" y="5281560"/>
              <a:ext cx="10800" cy="619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489040" y="5281560"/>
              <a:ext cx="12960" cy="61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502000" y="5281560"/>
              <a:ext cx="11160" cy="61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13160" y="5281560"/>
              <a:ext cx="12600" cy="61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525760" y="5281560"/>
              <a:ext cx="11160" cy="61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536920" y="5281560"/>
              <a:ext cx="11160" cy="61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441520" y="5281560"/>
              <a:ext cx="106560" cy="61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441520" y="5257800"/>
              <a:ext cx="12600" cy="3636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454120" y="5257800"/>
              <a:ext cx="1116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465280" y="5257800"/>
              <a:ext cx="129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478240" y="5257800"/>
              <a:ext cx="1080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489040" y="5257800"/>
              <a:ext cx="1296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502000" y="5257800"/>
              <a:ext cx="11160" cy="3636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513160" y="525780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525760" y="525780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536920" y="5257800"/>
              <a:ext cx="1116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548080" y="5257800"/>
              <a:ext cx="1260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560680" y="525780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71840" y="5257800"/>
              <a:ext cx="1260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584440" y="5257800"/>
              <a:ext cx="1116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441520" y="525780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548080" y="5160960"/>
              <a:ext cx="12600" cy="13320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560680" y="5160960"/>
              <a:ext cx="11160" cy="1332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571840" y="5160960"/>
              <a:ext cx="12600" cy="1332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84440" y="5160960"/>
              <a:ext cx="11160" cy="13320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548080" y="5160960"/>
              <a:ext cx="36360" cy="120600"/>
            </a:xfrm>
            <a:custGeom>
              <a:avLst/>
              <a:gdLst/>
              <a:ahLst/>
              <a:rect l="l" t="t" r="r" b="b"/>
              <a:pathLst>
                <a:path w="23" h="76">
                  <a:moveTo>
                    <a:pt x="0" y="76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61"/>
                  </a:lnTo>
                  <a:lnTo>
                    <a:pt x="0" y="7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441520" y="5184720"/>
              <a:ext cx="12600" cy="9684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454120" y="5184720"/>
              <a:ext cx="11160" cy="968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465280" y="5184720"/>
              <a:ext cx="12960" cy="968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478240" y="5184720"/>
              <a:ext cx="10800" cy="9684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489040" y="5184720"/>
              <a:ext cx="12960" cy="968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502000" y="5184720"/>
              <a:ext cx="11160" cy="968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513160" y="5184720"/>
              <a:ext cx="12600" cy="968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25760" y="5184720"/>
              <a:ext cx="11160" cy="968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36920" y="5184720"/>
              <a:ext cx="11160" cy="96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441520" y="5184720"/>
              <a:ext cx="106560" cy="96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441520" y="5160960"/>
              <a:ext cx="1260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454120" y="516096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465280" y="5160960"/>
              <a:ext cx="129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78240" y="5160960"/>
              <a:ext cx="108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489040" y="5160960"/>
              <a:ext cx="129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502000" y="516096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513160" y="516096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25760" y="51609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536920" y="516096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548080" y="516096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560680" y="516096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571840" y="516096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584440" y="516096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441520" y="516096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441520" y="5160960"/>
              <a:ext cx="1260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454120" y="516096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465280" y="5160960"/>
              <a:ext cx="129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478240" y="5160960"/>
              <a:ext cx="108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489040" y="5160960"/>
              <a:ext cx="129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02000" y="5160960"/>
              <a:ext cx="1116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513160" y="516096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525760" y="516096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536920" y="516096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48080" y="5160960"/>
              <a:ext cx="126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560680" y="516096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71840" y="5160960"/>
              <a:ext cx="126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584440" y="5160960"/>
              <a:ext cx="1116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441520" y="516096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441520" y="5160960"/>
              <a:ext cx="1260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454120" y="516096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465280" y="5160960"/>
              <a:ext cx="129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478240" y="5160960"/>
              <a:ext cx="108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489040" y="5160960"/>
              <a:ext cx="129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502000" y="5160960"/>
              <a:ext cx="111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13160" y="516096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525760" y="516096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536920" y="516096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48080" y="516096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560680" y="516096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571840" y="516096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584440" y="516096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441520" y="516096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808360" y="5281560"/>
              <a:ext cx="11160" cy="73080"/>
            </a:xfrm>
            <a:prstGeom prst="rect">
              <a:avLst/>
            </a:prstGeom>
            <a:solidFill>
              <a:srgbClr val="141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819520" y="5281560"/>
              <a:ext cx="12600" cy="73080"/>
            </a:xfrm>
            <a:prstGeom prst="rect">
              <a:avLst/>
            </a:prstGeom>
            <a:solidFill>
              <a:srgbClr val="34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2701800" y="4991040"/>
            <a:ext cx="425520" cy="363600"/>
            <a:chOff x="2701800" y="4991040"/>
            <a:chExt cx="425520" cy="363600"/>
          </a:xfrm>
        </p:grpSpPr>
        <p:sp>
          <p:nvSpPr>
            <p:cNvPr id="699" name=""/>
            <p:cNvSpPr/>
            <p:nvPr/>
          </p:nvSpPr>
          <p:spPr>
            <a:xfrm>
              <a:off x="2832120" y="5281560"/>
              <a:ext cx="11160" cy="73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843280" y="5281560"/>
              <a:ext cx="12600" cy="73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855880" y="5281560"/>
              <a:ext cx="11160" cy="730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08360" y="5281560"/>
              <a:ext cx="47520" cy="6192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0" y="39"/>
                  </a:moveTo>
                  <a:lnTo>
                    <a:pt x="0" y="23"/>
                  </a:lnTo>
                  <a:lnTo>
                    <a:pt x="30" y="0"/>
                  </a:lnTo>
                  <a:lnTo>
                    <a:pt x="30" y="23"/>
                  </a:lnTo>
                  <a:lnTo>
                    <a:pt x="0" y="3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701800" y="5318280"/>
              <a:ext cx="11160" cy="252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712960" y="5318280"/>
              <a:ext cx="12600" cy="25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725560" y="5318280"/>
              <a:ext cx="11160" cy="25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736720" y="5318280"/>
              <a:ext cx="12960" cy="252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749680" y="5318280"/>
              <a:ext cx="11160" cy="25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760840" y="5318280"/>
              <a:ext cx="12600" cy="25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773440" y="5318280"/>
              <a:ext cx="11160" cy="25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784600" y="5318280"/>
              <a:ext cx="11160" cy="25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795760" y="5318280"/>
              <a:ext cx="12600" cy="25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701800" y="5318280"/>
              <a:ext cx="106560" cy="25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701800" y="5281560"/>
              <a:ext cx="11160" cy="493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12960" y="5281560"/>
              <a:ext cx="12600" cy="493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725560" y="5281560"/>
              <a:ext cx="11160" cy="493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736720" y="5281560"/>
              <a:ext cx="12960" cy="493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749680" y="5281560"/>
              <a:ext cx="11160" cy="493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760840" y="5281560"/>
              <a:ext cx="12600" cy="493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773440" y="528156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784600" y="528156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795760" y="5281560"/>
              <a:ext cx="12600" cy="493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808360" y="5281560"/>
              <a:ext cx="11160" cy="493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819520" y="5281560"/>
              <a:ext cx="12600" cy="493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832120" y="5281560"/>
              <a:ext cx="11160" cy="493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843280" y="5281560"/>
              <a:ext cx="12600" cy="493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855880" y="5281560"/>
              <a:ext cx="11160" cy="493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701800" y="5281560"/>
              <a:ext cx="154080" cy="36720"/>
            </a:xfrm>
            <a:custGeom>
              <a:avLst/>
              <a:gdLst/>
              <a:ahLst/>
              <a:rect l="l" t="t" r="r" b="b"/>
              <a:pathLst>
                <a:path w="97" h="23">
                  <a:moveTo>
                    <a:pt x="67" y="23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808360" y="5221440"/>
              <a:ext cx="11160" cy="109440"/>
            </a:xfrm>
            <a:prstGeom prst="rect">
              <a:avLst/>
            </a:prstGeom>
            <a:solidFill>
              <a:srgbClr val="7d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819520" y="5221440"/>
              <a:ext cx="12600" cy="109440"/>
            </a:xfrm>
            <a:prstGeom prst="rect">
              <a:avLst/>
            </a:prstGeom>
            <a:solidFill>
              <a:srgbClr val="6e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832120" y="5221440"/>
              <a:ext cx="11160" cy="1094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843280" y="5221440"/>
              <a:ext cx="12600" cy="1094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855880" y="5221440"/>
              <a:ext cx="11160" cy="1094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808360" y="5221440"/>
              <a:ext cx="47520" cy="96840"/>
            </a:xfrm>
            <a:custGeom>
              <a:avLst/>
              <a:gdLst/>
              <a:ahLst/>
              <a:rect l="l" t="t" r="r" b="b"/>
              <a:pathLst>
                <a:path w="30" h="61">
                  <a:moveTo>
                    <a:pt x="0" y="61"/>
                  </a:moveTo>
                  <a:lnTo>
                    <a:pt x="0" y="23"/>
                  </a:lnTo>
                  <a:lnTo>
                    <a:pt x="30" y="0"/>
                  </a:lnTo>
                  <a:lnTo>
                    <a:pt x="30" y="38"/>
                  </a:lnTo>
                  <a:lnTo>
                    <a:pt x="0" y="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701800" y="5257800"/>
              <a:ext cx="11160" cy="6048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712960" y="5257800"/>
              <a:ext cx="12600" cy="604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725560" y="5257800"/>
              <a:ext cx="11160" cy="604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736720" y="5257800"/>
              <a:ext cx="12960" cy="6048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749680" y="5257800"/>
              <a:ext cx="11160" cy="604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760840" y="5257800"/>
              <a:ext cx="12600" cy="604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773440" y="5257800"/>
              <a:ext cx="11160" cy="604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784600" y="5257800"/>
              <a:ext cx="11160" cy="604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795760" y="5257800"/>
              <a:ext cx="12600" cy="60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701800" y="5257800"/>
              <a:ext cx="106560" cy="60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701800" y="5221440"/>
              <a:ext cx="11160" cy="4896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712960" y="5221440"/>
              <a:ext cx="12600" cy="489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25560" y="5221440"/>
              <a:ext cx="11160" cy="489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736720" y="5221440"/>
              <a:ext cx="12960" cy="4896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749680" y="5221440"/>
              <a:ext cx="11160" cy="489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60840" y="5221440"/>
              <a:ext cx="12600" cy="489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73440" y="5221440"/>
              <a:ext cx="11160" cy="489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84600" y="5221440"/>
              <a:ext cx="11160" cy="489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795760" y="5221440"/>
              <a:ext cx="12600" cy="489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08360" y="5221440"/>
              <a:ext cx="11160" cy="489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19520" y="5221440"/>
              <a:ext cx="12600" cy="4896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832120" y="5221440"/>
              <a:ext cx="11160" cy="489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843280" y="5221440"/>
              <a:ext cx="12600" cy="489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855880" y="5221440"/>
              <a:ext cx="11160" cy="489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701800" y="5221440"/>
              <a:ext cx="154080" cy="36360"/>
            </a:xfrm>
            <a:custGeom>
              <a:avLst/>
              <a:gdLst/>
              <a:ahLst/>
              <a:rect l="l" t="t" r="r" b="b"/>
              <a:pathLst>
                <a:path w="97" h="23">
                  <a:moveTo>
                    <a:pt x="67" y="23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808360" y="5148360"/>
              <a:ext cx="11160" cy="12204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819520" y="5148360"/>
              <a:ext cx="12600" cy="12204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32120" y="5148360"/>
              <a:ext cx="11160" cy="1220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843280" y="5148360"/>
              <a:ext cx="12600" cy="1220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55880" y="5148360"/>
              <a:ext cx="11160" cy="1220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808360" y="5148360"/>
              <a:ext cx="47520" cy="109440"/>
            </a:xfrm>
            <a:custGeom>
              <a:avLst/>
              <a:gdLst/>
              <a:ahLst/>
              <a:rect l="l" t="t" r="r" b="b"/>
              <a:pathLst>
                <a:path w="30" h="69">
                  <a:moveTo>
                    <a:pt x="0" y="69"/>
                  </a:moveTo>
                  <a:lnTo>
                    <a:pt x="0" y="23"/>
                  </a:lnTo>
                  <a:lnTo>
                    <a:pt x="30" y="0"/>
                  </a:lnTo>
                  <a:lnTo>
                    <a:pt x="30" y="46"/>
                  </a:lnTo>
                  <a:lnTo>
                    <a:pt x="0" y="6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701800" y="5184720"/>
              <a:ext cx="11160" cy="7308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712960" y="5184720"/>
              <a:ext cx="12600" cy="730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5560" y="5184720"/>
              <a:ext cx="11160" cy="730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736720" y="5184720"/>
              <a:ext cx="12960" cy="7308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749680" y="5184720"/>
              <a:ext cx="11160" cy="730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760840" y="5184720"/>
              <a:ext cx="12600" cy="730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773440" y="5184720"/>
              <a:ext cx="11160" cy="730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784600" y="5184720"/>
              <a:ext cx="11160" cy="730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795760" y="5184720"/>
              <a:ext cx="12600" cy="73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701800" y="5184720"/>
              <a:ext cx="106560" cy="73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701800" y="5148360"/>
              <a:ext cx="11160" cy="489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712960" y="5148360"/>
              <a:ext cx="12600" cy="489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725560" y="5148360"/>
              <a:ext cx="11160" cy="489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36720" y="5148360"/>
              <a:ext cx="12960" cy="489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749680" y="5148360"/>
              <a:ext cx="11160" cy="489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760840" y="5148360"/>
              <a:ext cx="12600" cy="489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773440" y="5148360"/>
              <a:ext cx="11160" cy="489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784600" y="5148360"/>
              <a:ext cx="11160" cy="489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795760" y="5148360"/>
              <a:ext cx="12600" cy="489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08360" y="5148360"/>
              <a:ext cx="11160" cy="489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819520" y="5148360"/>
              <a:ext cx="12600" cy="489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832120" y="5148360"/>
              <a:ext cx="11160" cy="489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843280" y="5148360"/>
              <a:ext cx="12600" cy="489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855880" y="5148360"/>
              <a:ext cx="11160" cy="489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701800" y="5148360"/>
              <a:ext cx="154080" cy="36360"/>
            </a:xfrm>
            <a:custGeom>
              <a:avLst/>
              <a:gdLst/>
              <a:ahLst/>
              <a:rect l="l" t="t" r="r" b="b"/>
              <a:pathLst>
                <a:path w="97" h="23">
                  <a:moveTo>
                    <a:pt x="67" y="23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701800" y="5148360"/>
              <a:ext cx="11160" cy="4896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712960" y="5148360"/>
              <a:ext cx="12600" cy="4896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725560" y="5148360"/>
              <a:ext cx="11160" cy="4896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736720" y="5148360"/>
              <a:ext cx="12960" cy="4896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749680" y="5148360"/>
              <a:ext cx="11160" cy="4896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760840" y="5148360"/>
              <a:ext cx="12600" cy="4896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773440" y="5148360"/>
              <a:ext cx="11160" cy="489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784600" y="5148360"/>
              <a:ext cx="11160" cy="489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795760" y="5148360"/>
              <a:ext cx="12600" cy="4896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808360" y="5148360"/>
              <a:ext cx="11160" cy="4896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819520" y="5148360"/>
              <a:ext cx="12600" cy="4896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32120" y="5148360"/>
              <a:ext cx="11160" cy="4896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43280" y="5148360"/>
              <a:ext cx="12600" cy="4896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855880" y="5148360"/>
              <a:ext cx="11160" cy="489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701800" y="5148360"/>
              <a:ext cx="154080" cy="36360"/>
            </a:xfrm>
            <a:custGeom>
              <a:avLst/>
              <a:gdLst/>
              <a:ahLst/>
              <a:rect l="l" t="t" r="r" b="b"/>
              <a:pathLst>
                <a:path w="97" h="23">
                  <a:moveTo>
                    <a:pt x="67" y="23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701800" y="5148360"/>
              <a:ext cx="11160" cy="4896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712960" y="5148360"/>
              <a:ext cx="12600" cy="489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725560" y="5148360"/>
              <a:ext cx="11160" cy="489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736720" y="5148360"/>
              <a:ext cx="12960" cy="4896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749680" y="5148360"/>
              <a:ext cx="11160" cy="489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760840" y="5148360"/>
              <a:ext cx="12600" cy="489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773440" y="5148360"/>
              <a:ext cx="11160" cy="489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784600" y="5148360"/>
              <a:ext cx="11160" cy="489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795760" y="5148360"/>
              <a:ext cx="12600" cy="489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808360" y="5148360"/>
              <a:ext cx="11160" cy="489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819520" y="5148360"/>
              <a:ext cx="12600" cy="4896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832120" y="5148360"/>
              <a:ext cx="11160" cy="489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843280" y="5148360"/>
              <a:ext cx="12600" cy="489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55880" y="5148360"/>
              <a:ext cx="11160" cy="489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01800" y="5148360"/>
              <a:ext cx="154080" cy="36360"/>
            </a:xfrm>
            <a:custGeom>
              <a:avLst/>
              <a:gdLst/>
              <a:ahLst/>
              <a:rect l="l" t="t" r="r" b="b"/>
              <a:pathLst>
                <a:path w="97" h="23">
                  <a:moveTo>
                    <a:pt x="67" y="23"/>
                  </a:moveTo>
                  <a:lnTo>
                    <a:pt x="97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079800" y="5184720"/>
              <a:ext cx="11160" cy="16992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090960" y="5184720"/>
              <a:ext cx="12600" cy="1699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103560" y="5184720"/>
              <a:ext cx="11160" cy="1699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114720" y="5184720"/>
              <a:ext cx="12600" cy="16992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079800" y="5184720"/>
              <a:ext cx="34920" cy="158760"/>
            </a:xfrm>
            <a:custGeom>
              <a:avLst/>
              <a:gdLst/>
              <a:ahLst/>
              <a:rect l="l" t="t" r="r" b="b"/>
              <a:pathLst>
                <a:path w="22" h="100">
                  <a:moveTo>
                    <a:pt x="0" y="100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84"/>
                  </a:lnTo>
                  <a:lnTo>
                    <a:pt x="0" y="10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973240" y="5210280"/>
              <a:ext cx="11160" cy="1332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984400" y="5210280"/>
              <a:ext cx="12960" cy="133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997360" y="5210280"/>
              <a:ext cx="10800" cy="133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008160" y="5210280"/>
              <a:ext cx="12960" cy="1332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021120" y="5210280"/>
              <a:ext cx="11160" cy="133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032280" y="5210280"/>
              <a:ext cx="12600" cy="133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44880" y="5210280"/>
              <a:ext cx="11160" cy="133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056040" y="5210280"/>
              <a:ext cx="11160" cy="133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067200" y="5210280"/>
              <a:ext cx="12600" cy="133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973240" y="5210280"/>
              <a:ext cx="106560" cy="133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973240" y="518472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984400" y="5184720"/>
              <a:ext cx="129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997360" y="5184720"/>
              <a:ext cx="108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008160" y="5184720"/>
              <a:ext cx="129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021120" y="518472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032280" y="5184720"/>
              <a:ext cx="1260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044880" y="518472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056040" y="518472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067200" y="518472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079800" y="518472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090960" y="518472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103560" y="518472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114720" y="5184720"/>
              <a:ext cx="1260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973240" y="5184720"/>
              <a:ext cx="14148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079800" y="5087880"/>
              <a:ext cx="11160" cy="1335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090960" y="5087880"/>
              <a:ext cx="12600" cy="1335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103560" y="5087880"/>
              <a:ext cx="11160" cy="1335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114720" y="5087880"/>
              <a:ext cx="12600" cy="133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079800" y="5087880"/>
              <a:ext cx="34920" cy="122400"/>
            </a:xfrm>
            <a:custGeom>
              <a:avLst/>
              <a:gdLst/>
              <a:ahLst/>
              <a:rect l="l" t="t" r="r" b="b"/>
              <a:pathLst>
                <a:path w="22" h="77">
                  <a:moveTo>
                    <a:pt x="0" y="77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61"/>
                  </a:lnTo>
                  <a:lnTo>
                    <a:pt x="0" y="7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973240" y="5111640"/>
              <a:ext cx="11160" cy="986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984400" y="5111640"/>
              <a:ext cx="12960" cy="986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997360" y="5111640"/>
              <a:ext cx="10800" cy="986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008160" y="5111640"/>
              <a:ext cx="12960" cy="986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021120" y="5111640"/>
              <a:ext cx="11160" cy="986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032280" y="5111640"/>
              <a:ext cx="12600" cy="986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044880" y="5111640"/>
              <a:ext cx="11160" cy="986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056040" y="5111640"/>
              <a:ext cx="11160" cy="986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067200" y="5111640"/>
              <a:ext cx="12600" cy="98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973240" y="5111640"/>
              <a:ext cx="106560" cy="98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973240" y="5087880"/>
              <a:ext cx="1116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984400" y="5087880"/>
              <a:ext cx="129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997360" y="5087880"/>
              <a:ext cx="1080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08160" y="5087880"/>
              <a:ext cx="129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021120" y="508788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032280" y="5087880"/>
              <a:ext cx="1260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044880" y="508788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056040" y="508788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067200" y="5087880"/>
              <a:ext cx="126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079800" y="508788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090960" y="5087880"/>
              <a:ext cx="1260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103560" y="508788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114720" y="5087880"/>
              <a:ext cx="1260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973240" y="508788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079800" y="4991040"/>
              <a:ext cx="11160" cy="13356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90960" y="4991040"/>
              <a:ext cx="12600" cy="1335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103560" y="4991040"/>
              <a:ext cx="11160" cy="1335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114720" y="4991040"/>
              <a:ext cx="12600" cy="13356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079800" y="4991040"/>
              <a:ext cx="34920" cy="120600"/>
            </a:xfrm>
            <a:custGeom>
              <a:avLst/>
              <a:gdLst/>
              <a:ahLst/>
              <a:rect l="l" t="t" r="r" b="b"/>
              <a:pathLst>
                <a:path w="22" h="76">
                  <a:moveTo>
                    <a:pt x="0" y="76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61"/>
                  </a:lnTo>
                  <a:lnTo>
                    <a:pt x="0" y="7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973240" y="5014800"/>
              <a:ext cx="11160" cy="9684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984400" y="5014800"/>
              <a:ext cx="12960" cy="968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997360" y="5014800"/>
              <a:ext cx="10800" cy="968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008160" y="5014800"/>
              <a:ext cx="12960" cy="9684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021120" y="5014800"/>
              <a:ext cx="11160" cy="968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032280" y="5014800"/>
              <a:ext cx="12600" cy="968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044880" y="5014800"/>
              <a:ext cx="11160" cy="968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056040" y="5014800"/>
              <a:ext cx="11160" cy="968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067200" y="5014800"/>
              <a:ext cx="12600" cy="96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973240" y="5014800"/>
              <a:ext cx="106560" cy="96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973240" y="4991040"/>
              <a:ext cx="1116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984400" y="4991040"/>
              <a:ext cx="129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997360" y="4991040"/>
              <a:ext cx="1080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008160" y="4991040"/>
              <a:ext cx="129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021120" y="4991040"/>
              <a:ext cx="1116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032280" y="4991040"/>
              <a:ext cx="1260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2973240" y="4894200"/>
            <a:ext cx="684360" cy="460440"/>
            <a:chOff x="2973240" y="4894200"/>
            <a:chExt cx="684360" cy="460440"/>
          </a:xfrm>
        </p:grpSpPr>
        <p:sp>
          <p:nvSpPr>
            <p:cNvPr id="900" name=""/>
            <p:cNvSpPr/>
            <p:nvPr/>
          </p:nvSpPr>
          <p:spPr>
            <a:xfrm>
              <a:off x="3044880" y="499104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056040" y="499104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067200" y="499104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079800" y="499104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090960" y="4991040"/>
              <a:ext cx="1260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103560" y="4991040"/>
              <a:ext cx="111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114720" y="4991040"/>
              <a:ext cx="1260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973240" y="4991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973240" y="4991040"/>
              <a:ext cx="11160" cy="367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984400" y="4991040"/>
              <a:ext cx="1296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997360" y="4991040"/>
              <a:ext cx="1080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008160" y="4991040"/>
              <a:ext cx="129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021120" y="4991040"/>
              <a:ext cx="1116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032280" y="4991040"/>
              <a:ext cx="12600" cy="367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044880" y="499104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056040" y="499104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067200" y="4991040"/>
              <a:ext cx="1260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079800" y="4991040"/>
              <a:ext cx="111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090960" y="4991040"/>
              <a:ext cx="1260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103560" y="4991040"/>
              <a:ext cx="1116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114720" y="4991040"/>
              <a:ext cx="1260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973240" y="4991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973240" y="4991040"/>
              <a:ext cx="11160" cy="367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984400" y="4991040"/>
              <a:ext cx="12960" cy="367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997360" y="4991040"/>
              <a:ext cx="10800" cy="367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008160" y="4991040"/>
              <a:ext cx="12960" cy="367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021120" y="4991040"/>
              <a:ext cx="11160" cy="367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032280" y="4991040"/>
              <a:ext cx="12600" cy="367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044880" y="4991040"/>
              <a:ext cx="1116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056040" y="4991040"/>
              <a:ext cx="1116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067200" y="4991040"/>
              <a:ext cx="12600" cy="367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079800" y="4991040"/>
              <a:ext cx="11160" cy="367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090960" y="4991040"/>
              <a:ext cx="12600" cy="367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03560" y="4991040"/>
              <a:ext cx="11160" cy="367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114720" y="4991040"/>
              <a:ext cx="12600" cy="367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973240" y="4991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351240" y="5075280"/>
              <a:ext cx="11160" cy="27936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362400" y="5075280"/>
              <a:ext cx="12600" cy="2793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375000" y="5075280"/>
              <a:ext cx="11160" cy="2793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386160" y="5075280"/>
              <a:ext cx="11160" cy="2793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351240" y="5075280"/>
              <a:ext cx="34920" cy="268200"/>
            </a:xfrm>
            <a:custGeom>
              <a:avLst/>
              <a:gdLst/>
              <a:ahLst/>
              <a:rect l="l" t="t" r="r" b="b"/>
              <a:pathLst>
                <a:path w="22" h="169">
                  <a:moveTo>
                    <a:pt x="0" y="169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153"/>
                  </a:lnTo>
                  <a:lnTo>
                    <a:pt x="0" y="16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244680" y="5111640"/>
              <a:ext cx="11160" cy="23184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255840" y="5111640"/>
              <a:ext cx="12960" cy="23184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268800" y="5111640"/>
              <a:ext cx="10800" cy="23184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279600" y="5111640"/>
              <a:ext cx="12960" cy="23184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292560" y="5111640"/>
              <a:ext cx="11160" cy="23184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303720" y="5111640"/>
              <a:ext cx="11160" cy="23184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314880" y="5111640"/>
              <a:ext cx="12600" cy="23184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327480" y="5111640"/>
              <a:ext cx="11160" cy="23184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338640" y="5111640"/>
              <a:ext cx="12600" cy="231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244680" y="5111640"/>
              <a:ext cx="106560" cy="231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244680" y="5075280"/>
              <a:ext cx="11160" cy="493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255840" y="5075280"/>
              <a:ext cx="1296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268800" y="5075280"/>
              <a:ext cx="1080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279600" y="5075280"/>
              <a:ext cx="1296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292560" y="5075280"/>
              <a:ext cx="1116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303720" y="5075280"/>
              <a:ext cx="11160" cy="493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314880" y="5075280"/>
              <a:ext cx="1260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327480" y="507528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338640" y="5075280"/>
              <a:ext cx="1260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351240" y="5075280"/>
              <a:ext cx="1116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362400" y="5075280"/>
              <a:ext cx="1260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375000" y="5075280"/>
              <a:ext cx="1116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386160" y="5075280"/>
              <a:ext cx="11160" cy="493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244680" y="5075280"/>
              <a:ext cx="14148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351240" y="4978440"/>
              <a:ext cx="11160" cy="1461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362400" y="4978440"/>
              <a:ext cx="12600" cy="1461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375000" y="4978440"/>
              <a:ext cx="11160" cy="1461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386160" y="4978440"/>
              <a:ext cx="11160" cy="146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351240" y="4978440"/>
              <a:ext cx="34920" cy="133200"/>
            </a:xfrm>
            <a:custGeom>
              <a:avLst/>
              <a:gdLst/>
              <a:ahLst/>
              <a:rect l="l" t="t" r="r" b="b"/>
              <a:pathLst>
                <a:path w="22" h="84">
                  <a:moveTo>
                    <a:pt x="0" y="84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61"/>
                  </a:lnTo>
                  <a:lnTo>
                    <a:pt x="0" y="8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244680" y="5014800"/>
              <a:ext cx="11160" cy="968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255840" y="5014800"/>
              <a:ext cx="12960" cy="968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268800" y="5014800"/>
              <a:ext cx="10800" cy="968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279600" y="5014800"/>
              <a:ext cx="12960" cy="968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292560" y="5014800"/>
              <a:ext cx="11160" cy="968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303720" y="5014800"/>
              <a:ext cx="11160" cy="968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314880" y="5014800"/>
              <a:ext cx="12600" cy="968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327480" y="5014800"/>
              <a:ext cx="11160" cy="968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338640" y="5014800"/>
              <a:ext cx="12600" cy="96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244680" y="5014800"/>
              <a:ext cx="106560" cy="96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244680" y="4978440"/>
              <a:ext cx="11160" cy="493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255840" y="4978440"/>
              <a:ext cx="129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268800" y="4978440"/>
              <a:ext cx="1080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279600" y="4978440"/>
              <a:ext cx="1296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292560" y="4978440"/>
              <a:ext cx="1116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303720" y="4978440"/>
              <a:ext cx="11160" cy="493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314880" y="4978440"/>
              <a:ext cx="1260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327480" y="497844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338640" y="4978440"/>
              <a:ext cx="1260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351240" y="4978440"/>
              <a:ext cx="1116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362400" y="4978440"/>
              <a:ext cx="1260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375000" y="4978440"/>
              <a:ext cx="111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386160" y="4978440"/>
              <a:ext cx="11160" cy="493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244680" y="4978440"/>
              <a:ext cx="14148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351240" y="4967280"/>
              <a:ext cx="11160" cy="604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362400" y="4967280"/>
              <a:ext cx="12600" cy="604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375000" y="4967280"/>
              <a:ext cx="11160" cy="604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386160" y="4967280"/>
              <a:ext cx="11160" cy="604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351240" y="496728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3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244680" y="4991040"/>
              <a:ext cx="11160" cy="237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255840" y="4991040"/>
              <a:ext cx="1296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268800" y="4991040"/>
              <a:ext cx="1080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279600" y="4991040"/>
              <a:ext cx="12960" cy="237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292560" y="4991040"/>
              <a:ext cx="1116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303720" y="4991040"/>
              <a:ext cx="1116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314880" y="4991040"/>
              <a:ext cx="1260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327480" y="4991040"/>
              <a:ext cx="1116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338640" y="4991040"/>
              <a:ext cx="12600" cy="23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244680" y="4991040"/>
              <a:ext cx="1065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244680" y="4967280"/>
              <a:ext cx="111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255840" y="4967280"/>
              <a:ext cx="129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268800" y="4967280"/>
              <a:ext cx="108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279600" y="4967280"/>
              <a:ext cx="129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292560" y="496728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303720" y="496728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314880" y="496728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327480" y="496728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338640" y="4967280"/>
              <a:ext cx="126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351240" y="496728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362400" y="496728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375000" y="496728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386160" y="496728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244680" y="496728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244680" y="4967280"/>
              <a:ext cx="1116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255840" y="4967280"/>
              <a:ext cx="129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268800" y="4967280"/>
              <a:ext cx="1080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279600" y="4967280"/>
              <a:ext cx="129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292560" y="496728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303720" y="4967280"/>
              <a:ext cx="1116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314880" y="496728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327480" y="496728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338640" y="4967280"/>
              <a:ext cx="1260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351240" y="496728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362400" y="4967280"/>
              <a:ext cx="1260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375000" y="496728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386160" y="4967280"/>
              <a:ext cx="1116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244680" y="496728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244680" y="4967280"/>
              <a:ext cx="111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255840" y="4967280"/>
              <a:ext cx="129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268800" y="4967280"/>
              <a:ext cx="108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279600" y="4967280"/>
              <a:ext cx="129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292560" y="496728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303720" y="4967280"/>
              <a:ext cx="111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314880" y="496728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327480" y="496728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338640" y="4967280"/>
              <a:ext cx="126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351240" y="496728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362400" y="496728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375000" y="496728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386160" y="496728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244680" y="496728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610080" y="5014800"/>
              <a:ext cx="12600" cy="3398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622680" y="5014800"/>
              <a:ext cx="11160" cy="3398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633840" y="5014800"/>
              <a:ext cx="12600" cy="3398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646440" y="5014800"/>
              <a:ext cx="11160" cy="3398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610080" y="5014800"/>
              <a:ext cx="36360" cy="328680"/>
            </a:xfrm>
            <a:custGeom>
              <a:avLst/>
              <a:gdLst/>
              <a:ahLst/>
              <a:rect l="l" t="t" r="r" b="b"/>
              <a:pathLst>
                <a:path w="23" h="207">
                  <a:moveTo>
                    <a:pt x="0" y="207"/>
                  </a:moveTo>
                  <a:lnTo>
                    <a:pt x="0" y="16"/>
                  </a:lnTo>
                  <a:lnTo>
                    <a:pt x="23" y="0"/>
                  </a:lnTo>
                  <a:lnTo>
                    <a:pt x="23" y="191"/>
                  </a:lnTo>
                  <a:lnTo>
                    <a:pt x="0" y="20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503520" y="5040360"/>
              <a:ext cx="12960" cy="30312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516480" y="5040360"/>
              <a:ext cx="10800" cy="3031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527280" y="5040360"/>
              <a:ext cx="12960" cy="3031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540240" y="5040360"/>
              <a:ext cx="11160" cy="30312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551400" y="5040360"/>
              <a:ext cx="12600" cy="3031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564000" y="5040360"/>
              <a:ext cx="11160" cy="3031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575160" y="5040360"/>
              <a:ext cx="11160" cy="3031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586320" y="5040360"/>
              <a:ext cx="12600" cy="3031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598920" y="5040360"/>
              <a:ext cx="11160" cy="3031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503520" y="5040360"/>
              <a:ext cx="106560" cy="303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503520" y="5014800"/>
              <a:ext cx="129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516480" y="5014800"/>
              <a:ext cx="1080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527280" y="5014800"/>
              <a:ext cx="129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540240" y="501480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551400" y="501480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564000" y="5014800"/>
              <a:ext cx="1116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575160" y="501480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586320" y="501480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598920" y="501480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610080" y="5014800"/>
              <a:ext cx="126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622680" y="501480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633840" y="5014800"/>
              <a:ext cx="1260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646440" y="5014800"/>
              <a:ext cx="1116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503520" y="5014800"/>
              <a:ext cx="142920" cy="2556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67" y="16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610080" y="4894200"/>
              <a:ext cx="12600" cy="1573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622680" y="4894200"/>
              <a:ext cx="11160" cy="1573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633840" y="4894200"/>
              <a:ext cx="12600" cy="1573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646440" y="4894200"/>
              <a:ext cx="11160" cy="157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610080" y="4894200"/>
              <a:ext cx="36360" cy="1461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0" y="92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76"/>
                  </a:lnTo>
                  <a:lnTo>
                    <a:pt x="0" y="9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503520" y="4917960"/>
              <a:ext cx="12960" cy="12240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516480" y="4917960"/>
              <a:ext cx="10800" cy="1224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527280" y="4917960"/>
              <a:ext cx="12960" cy="1224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540240" y="4917960"/>
              <a:ext cx="11160" cy="12240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551400" y="4917960"/>
              <a:ext cx="12600" cy="1224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564000" y="4917960"/>
              <a:ext cx="11160" cy="1224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575160" y="4917960"/>
              <a:ext cx="11160" cy="1224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586320" y="4917960"/>
              <a:ext cx="12600" cy="1224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598920" y="4917960"/>
              <a:ext cx="11160" cy="122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503520" y="4917960"/>
              <a:ext cx="106560" cy="122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503520" y="4894200"/>
              <a:ext cx="1296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516480" y="4894200"/>
              <a:ext cx="108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527280" y="4894200"/>
              <a:ext cx="129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540240" y="489420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551400" y="4894200"/>
              <a:ext cx="126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3503520" y="4772160"/>
            <a:ext cx="696960" cy="582480"/>
            <a:chOff x="3503520" y="4772160"/>
            <a:chExt cx="696960" cy="582480"/>
          </a:xfrm>
        </p:grpSpPr>
        <p:sp>
          <p:nvSpPr>
            <p:cNvPr id="1101" name=""/>
            <p:cNvSpPr/>
            <p:nvPr/>
          </p:nvSpPr>
          <p:spPr>
            <a:xfrm>
              <a:off x="3564000" y="4894200"/>
              <a:ext cx="1116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575160" y="489420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586320" y="489420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598920" y="489420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610080" y="4894200"/>
              <a:ext cx="1260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622680" y="489420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633840" y="4894200"/>
              <a:ext cx="126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646440" y="4894200"/>
              <a:ext cx="111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503520" y="489420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610080" y="4870440"/>
              <a:ext cx="12600" cy="604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622680" y="4870440"/>
              <a:ext cx="11160" cy="604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633840" y="4870440"/>
              <a:ext cx="12600" cy="604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646440" y="4870440"/>
              <a:ext cx="11160" cy="604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610080" y="4870440"/>
              <a:ext cx="36360" cy="475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0" y="30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15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503520" y="4894200"/>
              <a:ext cx="12960" cy="237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516480" y="4894200"/>
              <a:ext cx="1080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527280" y="4894200"/>
              <a:ext cx="1296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540240" y="4894200"/>
              <a:ext cx="11160" cy="237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551400" y="4894200"/>
              <a:ext cx="1260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564000" y="4894200"/>
              <a:ext cx="11160" cy="237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575160" y="4894200"/>
              <a:ext cx="11160" cy="237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586320" y="4894200"/>
              <a:ext cx="12600" cy="237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598920" y="4894200"/>
              <a:ext cx="11160" cy="23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503520" y="4894200"/>
              <a:ext cx="1065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503520" y="4870440"/>
              <a:ext cx="12960" cy="349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516480" y="4870440"/>
              <a:ext cx="10800" cy="349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527280" y="4870440"/>
              <a:ext cx="12960" cy="349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540240" y="4870440"/>
              <a:ext cx="11160" cy="349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551400" y="4870440"/>
              <a:ext cx="12600" cy="349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564000" y="4870440"/>
              <a:ext cx="11160" cy="349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575160" y="4870440"/>
              <a:ext cx="1116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586320" y="4870440"/>
              <a:ext cx="12600" cy="349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598920" y="4870440"/>
              <a:ext cx="11160" cy="349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610080" y="4870440"/>
              <a:ext cx="12600" cy="349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622680" y="4870440"/>
              <a:ext cx="11160" cy="349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633840" y="4870440"/>
              <a:ext cx="12600" cy="349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646440" y="4870440"/>
              <a:ext cx="11160" cy="349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503520" y="487044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503520" y="4870440"/>
              <a:ext cx="12960" cy="349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516480" y="4870440"/>
              <a:ext cx="10800" cy="349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527280" y="4870440"/>
              <a:ext cx="12960" cy="349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540240" y="4870440"/>
              <a:ext cx="11160" cy="349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551400" y="4870440"/>
              <a:ext cx="12600" cy="349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564000" y="4870440"/>
              <a:ext cx="11160" cy="349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575160" y="4870440"/>
              <a:ext cx="1116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586320" y="4870440"/>
              <a:ext cx="1260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598920" y="4870440"/>
              <a:ext cx="11160" cy="349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610080" y="4870440"/>
              <a:ext cx="12600" cy="349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622680" y="4870440"/>
              <a:ext cx="11160" cy="349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633840" y="4870440"/>
              <a:ext cx="12600" cy="349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646440" y="4870440"/>
              <a:ext cx="11160" cy="349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503520" y="487044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503520" y="4870440"/>
              <a:ext cx="12960" cy="349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516480" y="4870440"/>
              <a:ext cx="10800" cy="349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527280" y="4870440"/>
              <a:ext cx="12960" cy="349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540240" y="4870440"/>
              <a:ext cx="11160" cy="349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551400" y="4870440"/>
              <a:ext cx="12600" cy="349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564000" y="4870440"/>
              <a:ext cx="11160" cy="349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575160" y="4870440"/>
              <a:ext cx="1116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586320" y="4870440"/>
              <a:ext cx="1260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598920" y="4870440"/>
              <a:ext cx="11160" cy="349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610080" y="4870440"/>
              <a:ext cx="12600" cy="349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622680" y="4870440"/>
              <a:ext cx="11160" cy="349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633840" y="4870440"/>
              <a:ext cx="12600" cy="349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646440" y="4870440"/>
              <a:ext cx="11160" cy="349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503520" y="487044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881520" y="4930920"/>
              <a:ext cx="12600" cy="42372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894120" y="4930920"/>
              <a:ext cx="11160" cy="4237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905280" y="4930920"/>
              <a:ext cx="12600" cy="42372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917880" y="4930920"/>
              <a:ext cx="11160" cy="42372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881520" y="4930920"/>
              <a:ext cx="36360" cy="412560"/>
            </a:xfrm>
            <a:custGeom>
              <a:avLst/>
              <a:gdLst/>
              <a:ahLst/>
              <a:rect l="l" t="t" r="r" b="b"/>
              <a:pathLst>
                <a:path w="23" h="260">
                  <a:moveTo>
                    <a:pt x="0" y="260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244"/>
                  </a:lnTo>
                  <a:lnTo>
                    <a:pt x="0" y="2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774960" y="4954680"/>
              <a:ext cx="12960" cy="3888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787920" y="4954680"/>
              <a:ext cx="10800" cy="3888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798720" y="4954680"/>
              <a:ext cx="12960" cy="3888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811680" y="4954680"/>
              <a:ext cx="11160" cy="3888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822840" y="4954680"/>
              <a:ext cx="10800" cy="3888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833640" y="4954680"/>
              <a:ext cx="12960" cy="3888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846600" y="4954680"/>
              <a:ext cx="11160" cy="3888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857760" y="4954680"/>
              <a:ext cx="12600" cy="3888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870360" y="4954680"/>
              <a:ext cx="11160" cy="388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774960" y="4954680"/>
              <a:ext cx="106560" cy="388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774960" y="4930920"/>
              <a:ext cx="129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787920" y="4930920"/>
              <a:ext cx="108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798720" y="4930920"/>
              <a:ext cx="129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811680" y="493092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822840" y="4930920"/>
              <a:ext cx="108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833640" y="4930920"/>
              <a:ext cx="129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846600" y="493092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857760" y="493092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870360" y="493092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881520" y="4930920"/>
              <a:ext cx="126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894120" y="493092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905280" y="493092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917880" y="493092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774960" y="4930920"/>
              <a:ext cx="14292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881520" y="4797360"/>
              <a:ext cx="12600" cy="1699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894120" y="4797360"/>
              <a:ext cx="11160" cy="1699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905280" y="4797360"/>
              <a:ext cx="12600" cy="1699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917880" y="4797360"/>
              <a:ext cx="11160" cy="1699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881520" y="4797360"/>
              <a:ext cx="36360" cy="157320"/>
            </a:xfrm>
            <a:custGeom>
              <a:avLst/>
              <a:gdLst/>
              <a:ahLst/>
              <a:rect l="l" t="t" r="r" b="b"/>
              <a:pathLst>
                <a:path w="23" h="99">
                  <a:moveTo>
                    <a:pt x="0" y="99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23" y="84"/>
                  </a:lnTo>
                  <a:lnTo>
                    <a:pt x="0" y="9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774960" y="4834080"/>
              <a:ext cx="12960" cy="12060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787920" y="4834080"/>
              <a:ext cx="10800" cy="1206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798720" y="4834080"/>
              <a:ext cx="12960" cy="1206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811680" y="4834080"/>
              <a:ext cx="11160" cy="12060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822840" y="4834080"/>
              <a:ext cx="10800" cy="1206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833640" y="4834080"/>
              <a:ext cx="12960" cy="1206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846600" y="4834080"/>
              <a:ext cx="11160" cy="1206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857760" y="4834080"/>
              <a:ext cx="12600" cy="1206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870360" y="4834080"/>
              <a:ext cx="11160" cy="120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774960" y="4834080"/>
              <a:ext cx="106560" cy="120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774960" y="4797360"/>
              <a:ext cx="12960" cy="475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787920" y="4797360"/>
              <a:ext cx="1080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798720" y="4797360"/>
              <a:ext cx="129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811680" y="479736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822840" y="4797360"/>
              <a:ext cx="1080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833640" y="4797360"/>
              <a:ext cx="12960" cy="475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846600" y="479736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857760" y="4797360"/>
              <a:ext cx="126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870360" y="4797360"/>
              <a:ext cx="111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881520" y="4797360"/>
              <a:ext cx="1260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894120" y="479736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905280" y="4797360"/>
              <a:ext cx="1260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917880" y="4797360"/>
              <a:ext cx="1116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774960" y="4797360"/>
              <a:ext cx="142920" cy="3672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67" y="23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881520" y="4772160"/>
              <a:ext cx="12600" cy="727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894120" y="4772160"/>
              <a:ext cx="11160" cy="727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905280" y="4772160"/>
              <a:ext cx="12600" cy="727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917880" y="4772160"/>
              <a:ext cx="11160" cy="727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881520" y="4772160"/>
              <a:ext cx="36360" cy="619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0" y="39"/>
                  </a:moveTo>
                  <a:lnTo>
                    <a:pt x="0" y="16"/>
                  </a:lnTo>
                  <a:lnTo>
                    <a:pt x="23" y="0"/>
                  </a:lnTo>
                  <a:lnTo>
                    <a:pt x="23" y="16"/>
                  </a:lnTo>
                  <a:lnTo>
                    <a:pt x="0" y="3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774960" y="4797360"/>
              <a:ext cx="12960" cy="367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787920" y="4797360"/>
              <a:ext cx="1080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798720" y="4797360"/>
              <a:ext cx="1296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811680" y="4797360"/>
              <a:ext cx="11160" cy="367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822840" y="4797360"/>
              <a:ext cx="1080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833640" y="4797360"/>
              <a:ext cx="1296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846600" y="4797360"/>
              <a:ext cx="1116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857760" y="4797360"/>
              <a:ext cx="1260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870360" y="4797360"/>
              <a:ext cx="11160" cy="36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774960" y="4797360"/>
              <a:ext cx="10656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774960" y="4772160"/>
              <a:ext cx="129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787920" y="4772160"/>
              <a:ext cx="108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798720" y="4772160"/>
              <a:ext cx="129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811680" y="477216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822840" y="4772160"/>
              <a:ext cx="108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833640" y="4772160"/>
              <a:ext cx="129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846600" y="47721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857760" y="477216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870360" y="477216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881520" y="477216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894120" y="477216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905280" y="477216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917880" y="477216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774960" y="4772160"/>
              <a:ext cx="142920" cy="2520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67" y="16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774960" y="4772160"/>
              <a:ext cx="1296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787920" y="4772160"/>
              <a:ext cx="108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798720" y="4772160"/>
              <a:ext cx="129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811680" y="477216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822840" y="4772160"/>
              <a:ext cx="1080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833640" y="4772160"/>
              <a:ext cx="1296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846600" y="477216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857760" y="477216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870360" y="477216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881520" y="4772160"/>
              <a:ext cx="126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894120" y="477216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905280" y="4772160"/>
              <a:ext cx="1260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917880" y="4772160"/>
              <a:ext cx="1116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774960" y="4772160"/>
              <a:ext cx="142920" cy="2520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67" y="16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774960" y="4772160"/>
              <a:ext cx="129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787920" y="4772160"/>
              <a:ext cx="108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798720" y="4772160"/>
              <a:ext cx="129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811680" y="477216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822840" y="4772160"/>
              <a:ext cx="108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833640" y="4772160"/>
              <a:ext cx="129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846600" y="477216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857760" y="477216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870360" y="477216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881520" y="477216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894120" y="477216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905280" y="477216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917880" y="477216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774960" y="4772160"/>
              <a:ext cx="142920" cy="2520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67" y="16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141800" y="4857840"/>
              <a:ext cx="11160" cy="496800"/>
            </a:xfrm>
            <a:prstGeom prst="rect">
              <a:avLst/>
            </a:prstGeom>
            <a:solidFill>
              <a:srgbClr val="141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152960" y="4857840"/>
              <a:ext cx="12600" cy="496800"/>
            </a:xfrm>
            <a:prstGeom prst="rect">
              <a:avLst/>
            </a:prstGeom>
            <a:solidFill>
              <a:srgbClr val="34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165560" y="4857840"/>
              <a:ext cx="11160" cy="4968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176720" y="4857840"/>
              <a:ext cx="11160" cy="4968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187880" y="4857840"/>
              <a:ext cx="12600" cy="4968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141800" y="4857840"/>
              <a:ext cx="46080" cy="485640"/>
            </a:xfrm>
            <a:custGeom>
              <a:avLst/>
              <a:gdLst/>
              <a:ahLst/>
              <a:rect l="l" t="t" r="r" b="b"/>
              <a:pathLst>
                <a:path w="29" h="306">
                  <a:moveTo>
                    <a:pt x="0" y="306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290"/>
                  </a:lnTo>
                  <a:lnTo>
                    <a:pt x="0" y="30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035600" y="4881600"/>
              <a:ext cx="10800" cy="4618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046400" y="4881600"/>
              <a:ext cx="12960" cy="4618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059360" y="4881600"/>
              <a:ext cx="11160" cy="4618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070520" y="4881600"/>
              <a:ext cx="12600" cy="4618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083120" y="4881600"/>
              <a:ext cx="11160" cy="4618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094280" y="4881600"/>
              <a:ext cx="11160" cy="4618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105440" y="4881600"/>
              <a:ext cx="12600" cy="4618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118040" y="4881600"/>
              <a:ext cx="11160" cy="4618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129200" y="4881600"/>
              <a:ext cx="12600" cy="461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035600" y="4881600"/>
              <a:ext cx="106200" cy="461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035600" y="4857840"/>
              <a:ext cx="1080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046400" y="4857840"/>
              <a:ext cx="12960" cy="3636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059360" y="4857840"/>
              <a:ext cx="11160" cy="3636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4035600" y="4591080"/>
            <a:ext cx="423720" cy="763560"/>
            <a:chOff x="4035600" y="4591080"/>
            <a:chExt cx="423720" cy="763560"/>
          </a:xfrm>
        </p:grpSpPr>
        <p:sp>
          <p:nvSpPr>
            <p:cNvPr id="1302" name=""/>
            <p:cNvSpPr/>
            <p:nvPr/>
          </p:nvSpPr>
          <p:spPr>
            <a:xfrm>
              <a:off x="4070520" y="4857840"/>
              <a:ext cx="12600" cy="3636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083120" y="4857840"/>
              <a:ext cx="11160" cy="3636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094280" y="4857840"/>
              <a:ext cx="11160" cy="3636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105440" y="485784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118040" y="485784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129200" y="4857840"/>
              <a:ext cx="12600" cy="3636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141800" y="4857840"/>
              <a:ext cx="11160" cy="3636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152960" y="4857840"/>
              <a:ext cx="12600" cy="3636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165560" y="4857840"/>
              <a:ext cx="11160" cy="3636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176720" y="4857840"/>
              <a:ext cx="11160" cy="3636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187880" y="4857840"/>
              <a:ext cx="1260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035600" y="4857840"/>
              <a:ext cx="152280" cy="2376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67" y="15"/>
                  </a:moveTo>
                  <a:lnTo>
                    <a:pt x="96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141800" y="4711680"/>
              <a:ext cx="11160" cy="182520"/>
            </a:xfrm>
            <a:prstGeom prst="rect">
              <a:avLst/>
            </a:prstGeom>
            <a:solidFill>
              <a:srgbClr val="7d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152960" y="4711680"/>
              <a:ext cx="12600" cy="182520"/>
            </a:xfrm>
            <a:prstGeom prst="rect">
              <a:avLst/>
            </a:prstGeom>
            <a:solidFill>
              <a:srgbClr val="6e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165560" y="4711680"/>
              <a:ext cx="11160" cy="1825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176720" y="4711680"/>
              <a:ext cx="11160" cy="1825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187880" y="4711680"/>
              <a:ext cx="12600" cy="182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141800" y="4711680"/>
              <a:ext cx="46080" cy="169920"/>
            </a:xfrm>
            <a:custGeom>
              <a:avLst/>
              <a:gdLst/>
              <a:ahLst/>
              <a:rect l="l" t="t" r="r" b="b"/>
              <a:pathLst>
                <a:path w="29" h="107">
                  <a:moveTo>
                    <a:pt x="0" y="107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92"/>
                  </a:lnTo>
                  <a:lnTo>
                    <a:pt x="0" y="10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035600" y="4735440"/>
              <a:ext cx="10800" cy="1461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046400" y="4735440"/>
              <a:ext cx="12960" cy="1461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059360" y="4735440"/>
              <a:ext cx="11160" cy="1461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070520" y="4735440"/>
              <a:ext cx="12600" cy="1461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083120" y="4735440"/>
              <a:ext cx="11160" cy="1461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094280" y="4735440"/>
              <a:ext cx="11160" cy="1461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105440" y="4735440"/>
              <a:ext cx="12600" cy="1461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118040" y="4735440"/>
              <a:ext cx="11160" cy="1461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129200" y="4735440"/>
              <a:ext cx="12600" cy="146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035600" y="4735440"/>
              <a:ext cx="106200" cy="146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035600" y="4711680"/>
              <a:ext cx="10800" cy="3636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046400" y="4711680"/>
              <a:ext cx="1296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059360" y="4711680"/>
              <a:ext cx="111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070520" y="4711680"/>
              <a:ext cx="12600" cy="3636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083120" y="4711680"/>
              <a:ext cx="1116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094280" y="4711680"/>
              <a:ext cx="1116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105440" y="471168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118040" y="471168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129200" y="4711680"/>
              <a:ext cx="1260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141800" y="4711680"/>
              <a:ext cx="1116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152960" y="4711680"/>
              <a:ext cx="12600" cy="3636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165560" y="4711680"/>
              <a:ext cx="111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176720" y="4711680"/>
              <a:ext cx="1116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187880" y="4711680"/>
              <a:ext cx="1260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035600" y="4711680"/>
              <a:ext cx="152280" cy="2376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67" y="15"/>
                  </a:moveTo>
                  <a:lnTo>
                    <a:pt x="96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141800" y="4664160"/>
              <a:ext cx="11160" cy="8388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152960" y="4664160"/>
              <a:ext cx="12600" cy="8388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165560" y="4664160"/>
              <a:ext cx="11160" cy="838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176720" y="4664160"/>
              <a:ext cx="11160" cy="838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187880" y="4664160"/>
              <a:ext cx="12600" cy="838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141800" y="4664160"/>
              <a:ext cx="46080" cy="7128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0" y="45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30"/>
                  </a:lnTo>
                  <a:lnTo>
                    <a:pt x="0" y="4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035600" y="4687920"/>
              <a:ext cx="10800" cy="475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046400" y="4687920"/>
              <a:ext cx="12960" cy="475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059360" y="4687920"/>
              <a:ext cx="11160" cy="475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070520" y="4687920"/>
              <a:ext cx="12600" cy="475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083120" y="4687920"/>
              <a:ext cx="11160" cy="475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094280" y="4687920"/>
              <a:ext cx="11160" cy="475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105440" y="4687920"/>
              <a:ext cx="12600" cy="475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118040" y="4687920"/>
              <a:ext cx="11160" cy="475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129200" y="4687920"/>
              <a:ext cx="12600" cy="47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035600" y="4687920"/>
              <a:ext cx="106200" cy="47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035600" y="4664160"/>
              <a:ext cx="10800" cy="363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046400" y="4664160"/>
              <a:ext cx="129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059360" y="466416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070520" y="4664160"/>
              <a:ext cx="1260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083120" y="466416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094280" y="466416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105440" y="466416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118040" y="46641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129200" y="4664160"/>
              <a:ext cx="1260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141800" y="466416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152960" y="4664160"/>
              <a:ext cx="1260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165560" y="466416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176720" y="466416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187880" y="466416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035600" y="4664160"/>
              <a:ext cx="152280" cy="2376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67" y="15"/>
                  </a:moveTo>
                  <a:lnTo>
                    <a:pt x="96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035600" y="4664160"/>
              <a:ext cx="10800" cy="3636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046400" y="4664160"/>
              <a:ext cx="12960" cy="3636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059360" y="4664160"/>
              <a:ext cx="11160" cy="3636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070520" y="4664160"/>
              <a:ext cx="12600" cy="3636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083120" y="4664160"/>
              <a:ext cx="11160" cy="3636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094280" y="4664160"/>
              <a:ext cx="11160" cy="3636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105440" y="466416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118040" y="466416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129200" y="4664160"/>
              <a:ext cx="12600" cy="3636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141800" y="4664160"/>
              <a:ext cx="11160" cy="3636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152960" y="4664160"/>
              <a:ext cx="12600" cy="3636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165560" y="4664160"/>
              <a:ext cx="11160" cy="3636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176720" y="4664160"/>
              <a:ext cx="11160" cy="3636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187880" y="4664160"/>
              <a:ext cx="1260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035600" y="4664160"/>
              <a:ext cx="152280" cy="2376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67" y="15"/>
                  </a:moveTo>
                  <a:lnTo>
                    <a:pt x="96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035600" y="4664160"/>
              <a:ext cx="10800" cy="3636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046400" y="4664160"/>
              <a:ext cx="12960" cy="363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059360" y="4664160"/>
              <a:ext cx="11160" cy="363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070520" y="4664160"/>
              <a:ext cx="12600" cy="3636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083120" y="4664160"/>
              <a:ext cx="11160" cy="363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094280" y="4664160"/>
              <a:ext cx="11160" cy="363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105440" y="466416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118040" y="466416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129200" y="4664160"/>
              <a:ext cx="12600" cy="363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141800" y="4664160"/>
              <a:ext cx="11160" cy="363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152960" y="4664160"/>
              <a:ext cx="12600" cy="3636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165560" y="4664160"/>
              <a:ext cx="11160" cy="363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176720" y="4664160"/>
              <a:ext cx="11160" cy="363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187880" y="466416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035600" y="4664160"/>
              <a:ext cx="152280" cy="2376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67" y="15"/>
                  </a:moveTo>
                  <a:lnTo>
                    <a:pt x="96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413240" y="4797360"/>
              <a:ext cx="11160" cy="5572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424400" y="4797360"/>
              <a:ext cx="12600" cy="5572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437000" y="4797360"/>
              <a:ext cx="11160" cy="5572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448160" y="4797360"/>
              <a:ext cx="11160" cy="5572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413240" y="4797360"/>
              <a:ext cx="34920" cy="546120"/>
            </a:xfrm>
            <a:custGeom>
              <a:avLst/>
              <a:gdLst/>
              <a:ahLst/>
              <a:rect l="l" t="t" r="r" b="b"/>
              <a:pathLst>
                <a:path w="22" h="344">
                  <a:moveTo>
                    <a:pt x="0" y="344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28"/>
                  </a:lnTo>
                  <a:lnTo>
                    <a:pt x="0" y="34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307040" y="4821120"/>
              <a:ext cx="10800" cy="5223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317840" y="4821120"/>
              <a:ext cx="12960" cy="522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330800" y="4821120"/>
              <a:ext cx="11160" cy="522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341960" y="4821120"/>
              <a:ext cx="12600" cy="5223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354560" y="4821120"/>
              <a:ext cx="11160" cy="522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365720" y="4821120"/>
              <a:ext cx="11160" cy="522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376880" y="4821120"/>
              <a:ext cx="12600" cy="522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389480" y="4821120"/>
              <a:ext cx="11160" cy="522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400640" y="4821120"/>
              <a:ext cx="12600" cy="522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307040" y="4821120"/>
              <a:ext cx="106200" cy="522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307040" y="4797360"/>
              <a:ext cx="1080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317840" y="4797360"/>
              <a:ext cx="129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330800" y="479736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341960" y="4797360"/>
              <a:ext cx="126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354560" y="479736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365720" y="4797360"/>
              <a:ext cx="1116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376880" y="479736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389480" y="479736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400640" y="479736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413240" y="479736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424400" y="479736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437000" y="479736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448160" y="4797360"/>
              <a:ext cx="1116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307040" y="479736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413240" y="4638600"/>
              <a:ext cx="11160" cy="1954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424400" y="4638600"/>
              <a:ext cx="12600" cy="1954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437000" y="4638600"/>
              <a:ext cx="11160" cy="1954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448160" y="4638600"/>
              <a:ext cx="11160" cy="1954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413240" y="4638600"/>
              <a:ext cx="34920" cy="182520"/>
            </a:xfrm>
            <a:custGeom>
              <a:avLst/>
              <a:gdLst/>
              <a:ahLst/>
              <a:rect l="l" t="t" r="r" b="b"/>
              <a:pathLst>
                <a:path w="22" h="115">
                  <a:moveTo>
                    <a:pt x="0" y="115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100"/>
                  </a:lnTo>
                  <a:lnTo>
                    <a:pt x="0" y="1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307040" y="4664160"/>
              <a:ext cx="10800" cy="1569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317840" y="4664160"/>
              <a:ext cx="12960" cy="1569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330800" y="4664160"/>
              <a:ext cx="11160" cy="1569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341960" y="4664160"/>
              <a:ext cx="12600" cy="1569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354560" y="4664160"/>
              <a:ext cx="11160" cy="1569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365720" y="4664160"/>
              <a:ext cx="11160" cy="1569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376880" y="4664160"/>
              <a:ext cx="12600" cy="1569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389480" y="4664160"/>
              <a:ext cx="11160" cy="1569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400640" y="4664160"/>
              <a:ext cx="12600" cy="156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307040" y="4664160"/>
              <a:ext cx="106200" cy="156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307040" y="4638600"/>
              <a:ext cx="1080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317840" y="4638600"/>
              <a:ext cx="129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330800" y="463860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341960" y="4638600"/>
              <a:ext cx="1260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354560" y="463860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365720" y="4638600"/>
              <a:ext cx="1116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376880" y="463860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389480" y="463860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400640" y="4638600"/>
              <a:ext cx="126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413240" y="463860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424400" y="4638600"/>
              <a:ext cx="1260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437000" y="463860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448160" y="4638600"/>
              <a:ext cx="111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307040" y="4638600"/>
              <a:ext cx="14112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413240" y="4591080"/>
              <a:ext cx="11160" cy="842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424400" y="4591080"/>
              <a:ext cx="12600" cy="842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437000" y="4591080"/>
              <a:ext cx="11160" cy="842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448160" y="4591080"/>
              <a:ext cx="11160" cy="842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413240" y="4591080"/>
              <a:ext cx="34920" cy="7308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0" y="4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307040" y="4627440"/>
              <a:ext cx="10800" cy="367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317840" y="4627440"/>
              <a:ext cx="1296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330800" y="4627440"/>
              <a:ext cx="1116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341960" y="4627440"/>
              <a:ext cx="12600" cy="367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354560" y="4627440"/>
              <a:ext cx="1116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365720" y="4627440"/>
              <a:ext cx="1116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376880" y="4627440"/>
              <a:ext cx="1260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389480" y="4627440"/>
              <a:ext cx="1116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400640" y="4627440"/>
              <a:ext cx="12600" cy="36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307040" y="4627440"/>
              <a:ext cx="10620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307040" y="4591080"/>
              <a:ext cx="1080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317840" y="4591080"/>
              <a:ext cx="129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330800" y="459108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341960" y="4591080"/>
              <a:ext cx="1260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354560" y="459108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365720" y="4591080"/>
              <a:ext cx="1116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376880" y="4591080"/>
              <a:ext cx="1260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389480" y="459108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400640" y="4591080"/>
              <a:ext cx="126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413240" y="459108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424400" y="4591080"/>
              <a:ext cx="1260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437000" y="4591080"/>
              <a:ext cx="111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448160" y="4591080"/>
              <a:ext cx="1116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307040" y="459108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307040" y="4591080"/>
              <a:ext cx="10800" cy="475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317840" y="4591080"/>
              <a:ext cx="129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330800" y="4591080"/>
              <a:ext cx="1116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341960" y="4591080"/>
              <a:ext cx="1260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354560" y="4591080"/>
              <a:ext cx="1116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365720" y="4591080"/>
              <a:ext cx="11160" cy="475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376880" y="4591080"/>
              <a:ext cx="1260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389480" y="459108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400640" y="4591080"/>
              <a:ext cx="12600" cy="475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2" name=""/>
          <p:cNvGrpSpPr/>
          <p:nvPr/>
        </p:nvGrpSpPr>
        <p:grpSpPr>
          <a:xfrm>
            <a:off x="4307040" y="4408560"/>
            <a:ext cx="684000" cy="946080"/>
            <a:chOff x="4307040" y="4408560"/>
            <a:chExt cx="684000" cy="946080"/>
          </a:xfrm>
        </p:grpSpPr>
        <p:sp>
          <p:nvSpPr>
            <p:cNvPr id="1503" name=""/>
            <p:cNvSpPr/>
            <p:nvPr/>
          </p:nvSpPr>
          <p:spPr>
            <a:xfrm>
              <a:off x="4413240" y="4591080"/>
              <a:ext cx="11160" cy="475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424400" y="4591080"/>
              <a:ext cx="12600" cy="475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437000" y="4591080"/>
              <a:ext cx="11160" cy="475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448160" y="4591080"/>
              <a:ext cx="1116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307040" y="459108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307040" y="4591080"/>
              <a:ext cx="10800" cy="475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317840" y="4591080"/>
              <a:ext cx="1296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330800" y="4591080"/>
              <a:ext cx="1116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341960" y="4591080"/>
              <a:ext cx="1260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354560" y="4591080"/>
              <a:ext cx="1116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365720" y="4591080"/>
              <a:ext cx="11160" cy="475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376880" y="4591080"/>
              <a:ext cx="1260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389480" y="459108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4400640" y="4591080"/>
              <a:ext cx="1260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413240" y="4591080"/>
              <a:ext cx="111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424400" y="4591080"/>
              <a:ext cx="1260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437000" y="4591080"/>
              <a:ext cx="1116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448160" y="4591080"/>
              <a:ext cx="1116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307040" y="459108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684680" y="4772160"/>
              <a:ext cx="11160" cy="5824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695840" y="4772160"/>
              <a:ext cx="11160" cy="582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707000" y="4772160"/>
              <a:ext cx="12600" cy="582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719600" y="4772160"/>
              <a:ext cx="11160" cy="582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684680" y="4772160"/>
              <a:ext cx="34920" cy="571320"/>
            </a:xfrm>
            <a:custGeom>
              <a:avLst/>
              <a:gdLst/>
              <a:ahLst/>
              <a:rect l="l" t="t" r="r" b="b"/>
              <a:pathLst>
                <a:path w="22" h="360">
                  <a:moveTo>
                    <a:pt x="0" y="360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344"/>
                  </a:lnTo>
                  <a:lnTo>
                    <a:pt x="0" y="36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578480" y="4797360"/>
              <a:ext cx="11160" cy="54612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589640" y="4797360"/>
              <a:ext cx="12600" cy="5461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602240" y="4797360"/>
              <a:ext cx="11160" cy="5461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613400" y="4797360"/>
              <a:ext cx="11160" cy="54612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624560" y="4797360"/>
              <a:ext cx="12600" cy="5461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637160" y="4797360"/>
              <a:ext cx="11160" cy="5461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648320" y="4797360"/>
              <a:ext cx="12600" cy="5461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660920" y="4797360"/>
              <a:ext cx="11160" cy="5461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672080" y="4797360"/>
              <a:ext cx="12600" cy="5461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578480" y="4797360"/>
              <a:ext cx="106200" cy="546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578480" y="4772160"/>
              <a:ext cx="111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589640" y="477216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602240" y="477216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4613400" y="477216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624560" y="4772160"/>
              <a:ext cx="126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637160" y="4772160"/>
              <a:ext cx="111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648320" y="477216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4660920" y="477216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672080" y="4772160"/>
              <a:ext cx="126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4684680" y="477216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4695840" y="477216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4707000" y="477216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719600" y="477216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578480" y="4772160"/>
              <a:ext cx="14112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4684680" y="4602240"/>
              <a:ext cx="11160" cy="2062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4695840" y="4602240"/>
              <a:ext cx="11160" cy="206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707000" y="4602240"/>
              <a:ext cx="12600" cy="206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719600" y="4602240"/>
              <a:ext cx="11160" cy="206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4684680" y="4602240"/>
              <a:ext cx="34920" cy="195120"/>
            </a:xfrm>
            <a:custGeom>
              <a:avLst/>
              <a:gdLst/>
              <a:ahLst/>
              <a:rect l="l" t="t" r="r" b="b"/>
              <a:pathLst>
                <a:path w="22" h="123">
                  <a:moveTo>
                    <a:pt x="0" y="123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107"/>
                  </a:lnTo>
                  <a:lnTo>
                    <a:pt x="0" y="1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578480" y="4627440"/>
              <a:ext cx="11160" cy="1699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589640" y="4627440"/>
              <a:ext cx="12600" cy="169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602240" y="4627440"/>
              <a:ext cx="11160" cy="169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613400" y="4627440"/>
              <a:ext cx="11160" cy="1699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624560" y="4627440"/>
              <a:ext cx="12600" cy="169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637160" y="4627440"/>
              <a:ext cx="11160" cy="1699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648320" y="4627440"/>
              <a:ext cx="12600" cy="1699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660920" y="4627440"/>
              <a:ext cx="11160" cy="1699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672080" y="4627440"/>
              <a:ext cx="12600" cy="169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578480" y="4627440"/>
              <a:ext cx="106200" cy="169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578480" y="4602240"/>
              <a:ext cx="11160" cy="3636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4589640" y="4602240"/>
              <a:ext cx="1260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4602240" y="460224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613400" y="460224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624560" y="4602240"/>
              <a:ext cx="1260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637160" y="4602240"/>
              <a:ext cx="11160" cy="3636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648320" y="460224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660920" y="460224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672080" y="4602240"/>
              <a:ext cx="1260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684680" y="460224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695840" y="460224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707000" y="4602240"/>
              <a:ext cx="1260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719600" y="4602240"/>
              <a:ext cx="1116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578480" y="4602240"/>
              <a:ext cx="14112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684680" y="4554360"/>
              <a:ext cx="11160" cy="842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695840" y="4554360"/>
              <a:ext cx="11160" cy="842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707000" y="4554360"/>
              <a:ext cx="12600" cy="842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719600" y="4554360"/>
              <a:ext cx="11160" cy="842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684680" y="4554360"/>
              <a:ext cx="34920" cy="7308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0" y="46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578480" y="4578480"/>
              <a:ext cx="11160" cy="489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589640" y="4578480"/>
              <a:ext cx="12600" cy="48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602240" y="4578480"/>
              <a:ext cx="11160" cy="48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613400" y="4578480"/>
              <a:ext cx="11160" cy="489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624560" y="4578480"/>
              <a:ext cx="12600" cy="48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637160" y="4578480"/>
              <a:ext cx="11160" cy="489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648320" y="4578480"/>
              <a:ext cx="12600" cy="489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660920" y="4578480"/>
              <a:ext cx="11160" cy="489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672080" y="4578480"/>
              <a:ext cx="12600" cy="48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578480" y="4578480"/>
              <a:ext cx="106200" cy="48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578480" y="4554360"/>
              <a:ext cx="1116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589640" y="4554360"/>
              <a:ext cx="126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602240" y="455436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613400" y="455436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624560" y="455436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637160" y="4554360"/>
              <a:ext cx="1116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648320" y="4554360"/>
              <a:ext cx="1260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660920" y="455436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672080" y="455436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684680" y="455436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695840" y="455436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707000" y="4554360"/>
              <a:ext cx="126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719600" y="4554360"/>
              <a:ext cx="1116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578480" y="4554360"/>
              <a:ext cx="14112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578480" y="4554360"/>
              <a:ext cx="11160" cy="367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589640" y="4554360"/>
              <a:ext cx="1260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602240" y="4554360"/>
              <a:ext cx="1116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613400" y="4554360"/>
              <a:ext cx="111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624560" y="4554360"/>
              <a:ext cx="1260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637160" y="4554360"/>
              <a:ext cx="11160" cy="367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648320" y="4554360"/>
              <a:ext cx="1260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60920" y="455436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672080" y="4554360"/>
              <a:ext cx="1260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684680" y="4554360"/>
              <a:ext cx="111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695840" y="4554360"/>
              <a:ext cx="1116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707000" y="4554360"/>
              <a:ext cx="1260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719600" y="4554360"/>
              <a:ext cx="1116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578480" y="4554360"/>
              <a:ext cx="14112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4578480" y="4554360"/>
              <a:ext cx="11160" cy="367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4589640" y="4554360"/>
              <a:ext cx="12600" cy="367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4602240" y="4554360"/>
              <a:ext cx="11160" cy="367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613400" y="4554360"/>
              <a:ext cx="11160" cy="367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4624560" y="4554360"/>
              <a:ext cx="12600" cy="367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4637160" y="4554360"/>
              <a:ext cx="11160" cy="367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648320" y="4554360"/>
              <a:ext cx="1260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4660920" y="4554360"/>
              <a:ext cx="1116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4672080" y="4554360"/>
              <a:ext cx="12600" cy="367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684680" y="4554360"/>
              <a:ext cx="11160" cy="367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695840" y="4554360"/>
              <a:ext cx="11160" cy="367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4707000" y="4554360"/>
              <a:ext cx="12600" cy="367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719600" y="4554360"/>
              <a:ext cx="11160" cy="367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578480" y="4554360"/>
              <a:ext cx="14112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943520" y="4651200"/>
              <a:ext cx="12600" cy="7034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956120" y="4651200"/>
              <a:ext cx="11160" cy="703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967280" y="4651200"/>
              <a:ext cx="11160" cy="703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978440" y="4651200"/>
              <a:ext cx="12600" cy="7034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943520" y="4651200"/>
              <a:ext cx="34920" cy="692280"/>
            </a:xfrm>
            <a:custGeom>
              <a:avLst/>
              <a:gdLst/>
              <a:ahLst/>
              <a:rect l="l" t="t" r="r" b="b"/>
              <a:pathLst>
                <a:path w="22" h="436">
                  <a:moveTo>
                    <a:pt x="0" y="43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420"/>
                  </a:lnTo>
                  <a:lnTo>
                    <a:pt x="0" y="43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836960" y="4687920"/>
              <a:ext cx="12960" cy="6555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849920" y="4687920"/>
              <a:ext cx="11160" cy="6555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861080" y="4687920"/>
              <a:ext cx="12600" cy="6555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873680" y="4687920"/>
              <a:ext cx="11160" cy="6555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884840" y="4687920"/>
              <a:ext cx="11160" cy="655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896000" y="4687920"/>
              <a:ext cx="12600" cy="655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908600" y="4687920"/>
              <a:ext cx="11160" cy="6555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919760" y="4687920"/>
              <a:ext cx="12600" cy="6555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932360" y="4687920"/>
              <a:ext cx="11160" cy="6555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836960" y="4687920"/>
              <a:ext cx="106560" cy="655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836960" y="4651200"/>
              <a:ext cx="12960" cy="493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849920" y="4651200"/>
              <a:ext cx="1116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861080" y="4651200"/>
              <a:ext cx="1260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4873680" y="4651200"/>
              <a:ext cx="1116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884840" y="4651200"/>
              <a:ext cx="1116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896000" y="4651200"/>
              <a:ext cx="12600" cy="493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908600" y="465120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919760" y="4651200"/>
              <a:ext cx="1260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4932360" y="4651200"/>
              <a:ext cx="1116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943520" y="4651200"/>
              <a:ext cx="1260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956120" y="4651200"/>
              <a:ext cx="1116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967280" y="4651200"/>
              <a:ext cx="1116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978440" y="4651200"/>
              <a:ext cx="12600" cy="493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836960" y="4651200"/>
              <a:ext cx="141480" cy="3672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943520" y="4457880"/>
              <a:ext cx="12600" cy="2426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956120" y="4457880"/>
              <a:ext cx="11160" cy="242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967280" y="4457880"/>
              <a:ext cx="11160" cy="2426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978440" y="4457880"/>
              <a:ext cx="12600" cy="2426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943520" y="4457880"/>
              <a:ext cx="34920" cy="230040"/>
            </a:xfrm>
            <a:custGeom>
              <a:avLst/>
              <a:gdLst/>
              <a:ahLst/>
              <a:rect l="l" t="t" r="r" b="b"/>
              <a:pathLst>
                <a:path w="22" h="145">
                  <a:moveTo>
                    <a:pt x="0" y="145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22"/>
                  </a:lnTo>
                  <a:lnTo>
                    <a:pt x="0" y="14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836960" y="4481640"/>
              <a:ext cx="12960" cy="20628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849920" y="4481640"/>
              <a:ext cx="11160" cy="2062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861080" y="4481640"/>
              <a:ext cx="12600" cy="2062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4873680" y="4481640"/>
              <a:ext cx="11160" cy="20628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4884840" y="4481640"/>
              <a:ext cx="11160" cy="2062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896000" y="4481640"/>
              <a:ext cx="12600" cy="2062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908600" y="4481640"/>
              <a:ext cx="11160" cy="2062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919760" y="4481640"/>
              <a:ext cx="12600" cy="2062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932360" y="4481640"/>
              <a:ext cx="11160" cy="206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836960" y="4481640"/>
              <a:ext cx="106560" cy="206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836960" y="4457880"/>
              <a:ext cx="12960" cy="3636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849920" y="4457880"/>
              <a:ext cx="1116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861080" y="4457880"/>
              <a:ext cx="1260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873680" y="445788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884840" y="4457880"/>
              <a:ext cx="1116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896000" y="4457880"/>
              <a:ext cx="12600" cy="3636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908600" y="445788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4919760" y="445788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4932360" y="4457880"/>
              <a:ext cx="1116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943520" y="4457880"/>
              <a:ext cx="1260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4956120" y="445788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967280" y="4457880"/>
              <a:ext cx="1116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978440" y="4457880"/>
              <a:ext cx="1260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836960" y="445788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943520" y="4408560"/>
              <a:ext cx="12600" cy="856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956120" y="4408560"/>
              <a:ext cx="11160" cy="85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967280" y="4408560"/>
              <a:ext cx="11160" cy="85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978440" y="4408560"/>
              <a:ext cx="12600" cy="856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4943520" y="4408560"/>
              <a:ext cx="34920" cy="7308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0" y="46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1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4836960" y="4444920"/>
              <a:ext cx="12960" cy="367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4849920" y="4444920"/>
              <a:ext cx="1116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861080" y="4444920"/>
              <a:ext cx="1260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3" name=""/>
          <p:cNvGrpSpPr/>
          <p:nvPr/>
        </p:nvGrpSpPr>
        <p:grpSpPr>
          <a:xfrm>
            <a:off x="4836960" y="4056120"/>
            <a:ext cx="696960" cy="1298520"/>
            <a:chOff x="4836960" y="4056120"/>
            <a:chExt cx="696960" cy="1298520"/>
          </a:xfrm>
        </p:grpSpPr>
        <p:sp>
          <p:nvSpPr>
            <p:cNvPr id="1704" name=""/>
            <p:cNvSpPr/>
            <p:nvPr/>
          </p:nvSpPr>
          <p:spPr>
            <a:xfrm>
              <a:off x="4873680" y="4444920"/>
              <a:ext cx="11160" cy="367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884840" y="4444920"/>
              <a:ext cx="1116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896000" y="4444920"/>
              <a:ext cx="12600" cy="36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908600" y="4444920"/>
              <a:ext cx="11160" cy="36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919760" y="4444920"/>
              <a:ext cx="12600" cy="36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4932360" y="4444920"/>
              <a:ext cx="11160" cy="36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836960" y="4444920"/>
              <a:ext cx="10656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836960" y="4408560"/>
              <a:ext cx="12960" cy="493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849920" y="4408560"/>
              <a:ext cx="11160" cy="493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861080" y="4408560"/>
              <a:ext cx="12600" cy="493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873680" y="4408560"/>
              <a:ext cx="11160" cy="493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884840" y="4408560"/>
              <a:ext cx="11160" cy="493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896000" y="4408560"/>
              <a:ext cx="12600" cy="493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908600" y="4408560"/>
              <a:ext cx="1116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919760" y="4408560"/>
              <a:ext cx="1260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932360" y="4408560"/>
              <a:ext cx="11160" cy="493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943520" y="4408560"/>
              <a:ext cx="12600" cy="493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4956120" y="4408560"/>
              <a:ext cx="11160" cy="493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967280" y="4408560"/>
              <a:ext cx="11160" cy="493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978440" y="4408560"/>
              <a:ext cx="12600" cy="493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836960" y="4408560"/>
              <a:ext cx="14148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836960" y="4408560"/>
              <a:ext cx="12960" cy="493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849920" y="4408560"/>
              <a:ext cx="11160" cy="493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4861080" y="4408560"/>
              <a:ext cx="12600" cy="493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4873680" y="4408560"/>
              <a:ext cx="11160" cy="493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4884840" y="4408560"/>
              <a:ext cx="11160" cy="493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4896000" y="4408560"/>
              <a:ext cx="12600" cy="493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908600" y="4408560"/>
              <a:ext cx="11160" cy="493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919760" y="4408560"/>
              <a:ext cx="12600" cy="493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932360" y="4408560"/>
              <a:ext cx="11160" cy="493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943520" y="4408560"/>
              <a:ext cx="12600" cy="493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956120" y="4408560"/>
              <a:ext cx="11160" cy="493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967280" y="4408560"/>
              <a:ext cx="11160" cy="493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978440" y="4408560"/>
              <a:ext cx="12600" cy="493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836960" y="4408560"/>
              <a:ext cx="14148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943520" y="4395960"/>
              <a:ext cx="12600" cy="6192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956120" y="4395960"/>
              <a:ext cx="11160" cy="619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967280" y="4395960"/>
              <a:ext cx="11160" cy="6192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978440" y="4395960"/>
              <a:ext cx="12600" cy="6192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943520" y="4395960"/>
              <a:ext cx="34920" cy="4896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0" y="31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0" y="3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836960" y="4421160"/>
              <a:ext cx="12960" cy="2376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849920" y="4421160"/>
              <a:ext cx="11160" cy="237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861080" y="4421160"/>
              <a:ext cx="12600" cy="237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873680" y="4421160"/>
              <a:ext cx="11160" cy="2376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884840" y="4421160"/>
              <a:ext cx="11160" cy="237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896000" y="4421160"/>
              <a:ext cx="12600" cy="237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908600" y="4421160"/>
              <a:ext cx="11160" cy="237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919760" y="4421160"/>
              <a:ext cx="12600" cy="237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932360" y="4421160"/>
              <a:ext cx="11160" cy="237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836960" y="4421160"/>
              <a:ext cx="10656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836960" y="4395960"/>
              <a:ext cx="129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849920" y="439596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861080" y="439596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873680" y="439596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884840" y="439596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896000" y="4395960"/>
              <a:ext cx="1260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908600" y="439596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919760" y="439596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932360" y="439596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943520" y="439596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956120" y="439596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967280" y="439596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978440" y="439596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836960" y="4395960"/>
              <a:ext cx="14148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5214960" y="4421160"/>
              <a:ext cx="11160" cy="9334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226120" y="4421160"/>
              <a:ext cx="12600" cy="933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238720" y="4421160"/>
              <a:ext cx="11160" cy="933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249880" y="4421160"/>
              <a:ext cx="12600" cy="933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214960" y="4421160"/>
              <a:ext cx="34920" cy="922320"/>
            </a:xfrm>
            <a:custGeom>
              <a:avLst/>
              <a:gdLst/>
              <a:ahLst/>
              <a:rect l="l" t="t" r="r" b="b"/>
              <a:pathLst>
                <a:path w="22" h="581">
                  <a:moveTo>
                    <a:pt x="0" y="581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565"/>
                  </a:lnTo>
                  <a:lnTo>
                    <a:pt x="0" y="58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5108400" y="4457880"/>
              <a:ext cx="12960" cy="8856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5121360" y="4457880"/>
              <a:ext cx="11160" cy="8856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132520" y="4457880"/>
              <a:ext cx="11160" cy="8856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143680" y="4457880"/>
              <a:ext cx="12600" cy="8856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156280" y="4457880"/>
              <a:ext cx="11160" cy="8856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167440" y="4457880"/>
              <a:ext cx="12600" cy="8856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180040" y="4457880"/>
              <a:ext cx="11160" cy="8856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191200" y="4457880"/>
              <a:ext cx="12600" cy="8856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203800" y="4457880"/>
              <a:ext cx="11160" cy="8856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108400" y="4457880"/>
              <a:ext cx="106560" cy="885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108400" y="4421160"/>
              <a:ext cx="1296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121360" y="4421160"/>
              <a:ext cx="1116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132520" y="4421160"/>
              <a:ext cx="111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143680" y="4421160"/>
              <a:ext cx="1260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156280" y="4421160"/>
              <a:ext cx="1116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5167440" y="4421160"/>
              <a:ext cx="12600" cy="475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180040" y="442116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5191200" y="4421160"/>
              <a:ext cx="1260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5203800" y="4421160"/>
              <a:ext cx="1116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214960" y="442116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226120" y="4421160"/>
              <a:ext cx="1260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238720" y="4421160"/>
              <a:ext cx="1116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249880" y="4421160"/>
              <a:ext cx="1260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108400" y="4421160"/>
              <a:ext cx="141480" cy="3672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5214960" y="4178160"/>
              <a:ext cx="11160" cy="2905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5226120" y="4178160"/>
              <a:ext cx="12600" cy="2905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238720" y="4178160"/>
              <a:ext cx="11160" cy="2905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249880" y="4178160"/>
              <a:ext cx="12600" cy="2905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214960" y="4178160"/>
              <a:ext cx="34920" cy="279720"/>
            </a:xfrm>
            <a:custGeom>
              <a:avLst/>
              <a:gdLst/>
              <a:ahLst/>
              <a:rect l="l" t="t" r="r" b="b"/>
              <a:pathLst>
                <a:path w="22" h="176">
                  <a:moveTo>
                    <a:pt x="0" y="176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53"/>
                  </a:lnTo>
                  <a:lnTo>
                    <a:pt x="0" y="17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5108400" y="4202280"/>
              <a:ext cx="12960" cy="25560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121360" y="4202280"/>
              <a:ext cx="11160" cy="2556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132520" y="4202280"/>
              <a:ext cx="11160" cy="2556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143680" y="4202280"/>
              <a:ext cx="12600" cy="25560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156280" y="4202280"/>
              <a:ext cx="11160" cy="2556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167440" y="4202280"/>
              <a:ext cx="12600" cy="25560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180040" y="4202280"/>
              <a:ext cx="11160" cy="25560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191200" y="4202280"/>
              <a:ext cx="12600" cy="25560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203800" y="4202280"/>
              <a:ext cx="11160" cy="255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108400" y="4202280"/>
              <a:ext cx="106560" cy="255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108400" y="4178160"/>
              <a:ext cx="1296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121360" y="417816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132520" y="417816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143680" y="4178160"/>
              <a:ext cx="1260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156280" y="417816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167440" y="4178160"/>
              <a:ext cx="1260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180040" y="417816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191200" y="417816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203800" y="417816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214960" y="417816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226120" y="4178160"/>
              <a:ext cx="1260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238720" y="417816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249880" y="4178160"/>
              <a:ext cx="1260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108400" y="4178160"/>
              <a:ext cx="14148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214960" y="4118040"/>
              <a:ext cx="11160" cy="968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226120" y="4118040"/>
              <a:ext cx="12600" cy="96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238720" y="4118040"/>
              <a:ext cx="11160" cy="968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249880" y="4118040"/>
              <a:ext cx="12600" cy="968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214960" y="411804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8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108400" y="4141800"/>
              <a:ext cx="12960" cy="6048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121360" y="4141800"/>
              <a:ext cx="11160" cy="604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132520" y="4141800"/>
              <a:ext cx="11160" cy="604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143680" y="4141800"/>
              <a:ext cx="12600" cy="6048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5156280" y="4141800"/>
              <a:ext cx="11160" cy="604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5167440" y="4141800"/>
              <a:ext cx="12600" cy="604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180040" y="4141800"/>
              <a:ext cx="11160" cy="604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5191200" y="4141800"/>
              <a:ext cx="12600" cy="604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203800" y="4141800"/>
              <a:ext cx="11160" cy="604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108400" y="4141800"/>
              <a:ext cx="106560" cy="60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108400" y="4118040"/>
              <a:ext cx="1296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5121360" y="411804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5132520" y="411804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5143680" y="411804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5156280" y="411804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5167440" y="4118040"/>
              <a:ext cx="1260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5180040" y="41180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5191200" y="411804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5203800" y="411804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5214960" y="411804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5226120" y="411804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238720" y="411804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5249880" y="411804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108400" y="4118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5108400" y="4118040"/>
              <a:ext cx="1296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5121360" y="411804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132520" y="411804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143680" y="4118040"/>
              <a:ext cx="126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5156280" y="411804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5167440" y="4118040"/>
              <a:ext cx="1260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5180040" y="411804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5191200" y="411804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203800" y="411804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5214960" y="411804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5226120" y="4118040"/>
              <a:ext cx="1260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5238720" y="411804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5249880" y="4118040"/>
              <a:ext cx="1260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5108400" y="4118040"/>
              <a:ext cx="14148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214960" y="4056120"/>
              <a:ext cx="11160" cy="9828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5226120" y="4056120"/>
              <a:ext cx="12600" cy="982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5238720" y="4056120"/>
              <a:ext cx="11160" cy="982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249880" y="4056120"/>
              <a:ext cx="12600" cy="9828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5214960" y="4056120"/>
              <a:ext cx="34920" cy="85680"/>
            </a:xfrm>
            <a:custGeom>
              <a:avLst/>
              <a:gdLst/>
              <a:ahLst/>
              <a:rect l="l" t="t" r="r" b="b"/>
              <a:pathLst>
                <a:path w="22" h="54">
                  <a:moveTo>
                    <a:pt x="0" y="54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39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5108400" y="4081320"/>
              <a:ext cx="12960" cy="6048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5121360" y="4081320"/>
              <a:ext cx="11160" cy="604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5132520" y="4081320"/>
              <a:ext cx="11160" cy="604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143680" y="4081320"/>
              <a:ext cx="12600" cy="6048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156280" y="4081320"/>
              <a:ext cx="11160" cy="604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167440" y="4081320"/>
              <a:ext cx="12600" cy="604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5180040" y="4081320"/>
              <a:ext cx="11160" cy="604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5191200" y="4081320"/>
              <a:ext cx="12600" cy="604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203800" y="4081320"/>
              <a:ext cx="11160" cy="604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108400" y="4081320"/>
              <a:ext cx="106560" cy="60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5108400" y="4056120"/>
              <a:ext cx="129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5121360" y="405612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5132520" y="405612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143680" y="405612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156280" y="405612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167440" y="4056120"/>
              <a:ext cx="1260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180040" y="405612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191200" y="405612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5203800" y="405612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214960" y="405612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226120" y="405612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5238720" y="405612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249880" y="405612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5108400" y="4056120"/>
              <a:ext cx="14148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475240" y="4178160"/>
              <a:ext cx="11160" cy="1176480"/>
            </a:xfrm>
            <a:prstGeom prst="rect">
              <a:avLst/>
            </a:prstGeom>
            <a:solidFill>
              <a:srgbClr val="1414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5486400" y="4178160"/>
              <a:ext cx="11160" cy="1176480"/>
            </a:xfrm>
            <a:prstGeom prst="rect">
              <a:avLst/>
            </a:prstGeom>
            <a:solidFill>
              <a:srgbClr val="34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497560" y="4178160"/>
              <a:ext cx="12600" cy="1176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5510160" y="4178160"/>
              <a:ext cx="11160" cy="1176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5521320" y="4178160"/>
              <a:ext cx="12600" cy="1176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475240" y="4178160"/>
              <a:ext cx="46080" cy="1165320"/>
            </a:xfrm>
            <a:custGeom>
              <a:avLst/>
              <a:gdLst/>
              <a:ahLst/>
              <a:rect l="l" t="t" r="r" b="b"/>
              <a:pathLst>
                <a:path w="29" h="734">
                  <a:moveTo>
                    <a:pt x="0" y="734"/>
                  </a:moveTo>
                  <a:lnTo>
                    <a:pt x="0" y="15"/>
                  </a:lnTo>
                  <a:lnTo>
                    <a:pt x="29" y="0"/>
                  </a:lnTo>
                  <a:lnTo>
                    <a:pt x="29" y="718"/>
                  </a:lnTo>
                  <a:lnTo>
                    <a:pt x="0" y="73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4" name=""/>
          <p:cNvGrpSpPr/>
          <p:nvPr/>
        </p:nvGrpSpPr>
        <p:grpSpPr>
          <a:xfrm>
            <a:off x="5369040" y="3668760"/>
            <a:ext cx="423720" cy="1685880"/>
            <a:chOff x="5369040" y="3668760"/>
            <a:chExt cx="423720" cy="1685880"/>
          </a:xfrm>
        </p:grpSpPr>
        <p:sp>
          <p:nvSpPr>
            <p:cNvPr id="1905" name=""/>
            <p:cNvSpPr/>
            <p:nvPr/>
          </p:nvSpPr>
          <p:spPr>
            <a:xfrm>
              <a:off x="5369040" y="4202280"/>
              <a:ext cx="11160" cy="11412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5380200" y="4202280"/>
              <a:ext cx="12600" cy="1141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5392800" y="4202280"/>
              <a:ext cx="11160" cy="1141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403960" y="4202280"/>
              <a:ext cx="11160" cy="11412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5415120" y="4202280"/>
              <a:ext cx="12600" cy="1141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427720" y="4202280"/>
              <a:ext cx="11160" cy="1141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5438880" y="4202280"/>
              <a:ext cx="12600" cy="1141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5451480" y="4202280"/>
              <a:ext cx="11160" cy="1141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5462640" y="4202280"/>
              <a:ext cx="12600" cy="1141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5369040" y="4202280"/>
              <a:ext cx="106200" cy="1141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5369040" y="417816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380200" y="4178160"/>
              <a:ext cx="12600" cy="367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392800" y="4178160"/>
              <a:ext cx="11160" cy="367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403960" y="4178160"/>
              <a:ext cx="11160" cy="367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415120" y="4178160"/>
              <a:ext cx="12600" cy="367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5427720" y="4178160"/>
              <a:ext cx="11160" cy="367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5438880" y="417816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5451480" y="417816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5462640" y="4178160"/>
              <a:ext cx="12600" cy="367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5475240" y="4178160"/>
              <a:ext cx="11160" cy="367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5486400" y="4178160"/>
              <a:ext cx="11160" cy="367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497560" y="4178160"/>
              <a:ext cx="12600" cy="367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510160" y="4178160"/>
              <a:ext cx="11160" cy="367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521320" y="4178160"/>
              <a:ext cx="1260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369040" y="4178160"/>
              <a:ext cx="152280" cy="2412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67" y="15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475240" y="3886200"/>
              <a:ext cx="11160" cy="328680"/>
            </a:xfrm>
            <a:prstGeom prst="rect">
              <a:avLst/>
            </a:prstGeom>
            <a:solidFill>
              <a:srgbClr val="7d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486400" y="3886200"/>
              <a:ext cx="11160" cy="328680"/>
            </a:xfrm>
            <a:prstGeom prst="rect">
              <a:avLst/>
            </a:prstGeom>
            <a:solidFill>
              <a:srgbClr val="6e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497560" y="3886200"/>
              <a:ext cx="12600" cy="3286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510160" y="3886200"/>
              <a:ext cx="11160" cy="3286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521320" y="3886200"/>
              <a:ext cx="12600" cy="3286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475240" y="3886200"/>
              <a:ext cx="46080" cy="316080"/>
            </a:xfrm>
            <a:custGeom>
              <a:avLst/>
              <a:gdLst/>
              <a:ahLst/>
              <a:rect l="l" t="t" r="r" b="b"/>
              <a:pathLst>
                <a:path w="29" h="199">
                  <a:moveTo>
                    <a:pt x="0" y="199"/>
                  </a:moveTo>
                  <a:lnTo>
                    <a:pt x="0" y="16"/>
                  </a:lnTo>
                  <a:lnTo>
                    <a:pt x="29" y="0"/>
                  </a:lnTo>
                  <a:lnTo>
                    <a:pt x="29" y="184"/>
                  </a:lnTo>
                  <a:lnTo>
                    <a:pt x="0" y="19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369040" y="3911760"/>
              <a:ext cx="11160" cy="29052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5380200" y="3911760"/>
              <a:ext cx="12600" cy="2905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5392800" y="3911760"/>
              <a:ext cx="11160" cy="2905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403960" y="3911760"/>
              <a:ext cx="11160" cy="29052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415120" y="3911760"/>
              <a:ext cx="12600" cy="2905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427720" y="3911760"/>
              <a:ext cx="11160" cy="2905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5438880" y="3911760"/>
              <a:ext cx="12600" cy="29052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5451480" y="3911760"/>
              <a:ext cx="11160" cy="29052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5462640" y="3911760"/>
              <a:ext cx="12600" cy="290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369040" y="3911760"/>
              <a:ext cx="106200" cy="290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369040" y="3886200"/>
              <a:ext cx="11160" cy="3636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380200" y="3886200"/>
              <a:ext cx="1260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392800" y="3886200"/>
              <a:ext cx="1116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5403960" y="3886200"/>
              <a:ext cx="11160" cy="3636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5415120" y="3886200"/>
              <a:ext cx="1260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427720" y="3886200"/>
              <a:ext cx="1116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438880" y="388620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451480" y="388620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462640" y="3886200"/>
              <a:ext cx="12600" cy="3636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5475240" y="3886200"/>
              <a:ext cx="11160" cy="3636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486400" y="3886200"/>
              <a:ext cx="11160" cy="3636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497560" y="3886200"/>
              <a:ext cx="12600" cy="3636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5510160" y="3886200"/>
              <a:ext cx="11160" cy="3636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5521320" y="3886200"/>
              <a:ext cx="1260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369040" y="3886200"/>
              <a:ext cx="152280" cy="25560"/>
            </a:xfrm>
            <a:custGeom>
              <a:avLst/>
              <a:gdLst/>
              <a:ahLst/>
              <a:rect l="l" t="t" r="r" b="b"/>
              <a:pathLst>
                <a:path w="96" h="16">
                  <a:moveTo>
                    <a:pt x="67" y="16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5475240" y="3789360"/>
              <a:ext cx="11160" cy="133200"/>
            </a:xfrm>
            <a:prstGeom prst="rect">
              <a:avLst/>
            </a:prstGeom>
            <a:solidFill>
              <a:srgbClr val="174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5486400" y="3789360"/>
              <a:ext cx="11160" cy="133200"/>
            </a:xfrm>
            <a:prstGeom prst="rect">
              <a:avLst/>
            </a:prstGeom>
            <a:solidFill>
              <a:srgbClr val="3e5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497560" y="3789360"/>
              <a:ext cx="12600" cy="1332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5510160" y="3789360"/>
              <a:ext cx="11160" cy="1332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521320" y="3789360"/>
              <a:ext cx="12600" cy="13320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475240" y="3789360"/>
              <a:ext cx="46080" cy="12240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0" y="77"/>
                  </a:moveTo>
                  <a:lnTo>
                    <a:pt x="0" y="16"/>
                  </a:lnTo>
                  <a:lnTo>
                    <a:pt x="29" y="0"/>
                  </a:lnTo>
                  <a:lnTo>
                    <a:pt x="29" y="61"/>
                  </a:lnTo>
                  <a:lnTo>
                    <a:pt x="0" y="7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369040" y="3814920"/>
              <a:ext cx="11160" cy="9684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380200" y="3814920"/>
              <a:ext cx="12600" cy="968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392800" y="3814920"/>
              <a:ext cx="11160" cy="968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5403960" y="3814920"/>
              <a:ext cx="11160" cy="9684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415120" y="3814920"/>
              <a:ext cx="12600" cy="968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427720" y="3814920"/>
              <a:ext cx="11160" cy="968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438880" y="3814920"/>
              <a:ext cx="12600" cy="968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5451480" y="3814920"/>
              <a:ext cx="11160" cy="968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5462640" y="3814920"/>
              <a:ext cx="12600" cy="96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5369040" y="3814920"/>
              <a:ext cx="106200" cy="96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5369040" y="3789360"/>
              <a:ext cx="11160" cy="363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380200" y="3789360"/>
              <a:ext cx="1260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5392800" y="3789360"/>
              <a:ext cx="1116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5403960" y="3789360"/>
              <a:ext cx="1116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5415120" y="3789360"/>
              <a:ext cx="1260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5427720" y="3789360"/>
              <a:ext cx="1116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5438880" y="378936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451480" y="378936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462640" y="3789360"/>
              <a:ext cx="12600" cy="363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5475240" y="3789360"/>
              <a:ext cx="11160" cy="363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486400" y="3789360"/>
              <a:ext cx="11160" cy="363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5497560" y="3789360"/>
              <a:ext cx="12600" cy="363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510160" y="3789360"/>
              <a:ext cx="11160" cy="363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521320" y="3789360"/>
              <a:ext cx="1260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5369040" y="3789360"/>
              <a:ext cx="152280" cy="25560"/>
            </a:xfrm>
            <a:custGeom>
              <a:avLst/>
              <a:gdLst/>
              <a:ahLst/>
              <a:rect l="l" t="t" r="r" b="b"/>
              <a:pathLst>
                <a:path w="96" h="16">
                  <a:moveTo>
                    <a:pt x="67" y="16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369040" y="3778200"/>
              <a:ext cx="11160" cy="475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5380200" y="3778200"/>
              <a:ext cx="12600" cy="475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5392800" y="3778200"/>
              <a:ext cx="11160" cy="475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403960" y="3778200"/>
              <a:ext cx="11160" cy="475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5415120" y="3778200"/>
              <a:ext cx="12600" cy="475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5427720" y="3778200"/>
              <a:ext cx="11160" cy="475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5438880" y="3778200"/>
              <a:ext cx="1260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451480" y="3778200"/>
              <a:ext cx="11160" cy="475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5462640" y="3778200"/>
              <a:ext cx="12600" cy="475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5475240" y="3778200"/>
              <a:ext cx="11160" cy="475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5486400" y="3778200"/>
              <a:ext cx="11160" cy="475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497560" y="3778200"/>
              <a:ext cx="12600" cy="475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5510160" y="3778200"/>
              <a:ext cx="11160" cy="475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5521320" y="3778200"/>
              <a:ext cx="12600" cy="475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5369040" y="3778200"/>
              <a:ext cx="152280" cy="3672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67" y="23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475240" y="3668760"/>
              <a:ext cx="11160" cy="156960"/>
            </a:xfrm>
            <a:prstGeom prst="rect">
              <a:avLst/>
            </a:prstGeom>
            <a:solidFill>
              <a:srgbClr val="421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5486400" y="3668760"/>
              <a:ext cx="11160" cy="156960"/>
            </a:xfrm>
            <a:prstGeom prst="rect">
              <a:avLst/>
            </a:prstGeom>
            <a:solidFill>
              <a:srgbClr val="4d3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497560" y="3668760"/>
              <a:ext cx="12600" cy="1569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5510160" y="3668760"/>
              <a:ext cx="11160" cy="1569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521320" y="3668760"/>
              <a:ext cx="12600" cy="15696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5475240" y="3668760"/>
              <a:ext cx="46080" cy="146160"/>
            </a:xfrm>
            <a:custGeom>
              <a:avLst/>
              <a:gdLst/>
              <a:ahLst/>
              <a:rect l="l" t="t" r="r" b="b"/>
              <a:pathLst>
                <a:path w="29" h="92">
                  <a:moveTo>
                    <a:pt x="0" y="92"/>
                  </a:moveTo>
                  <a:lnTo>
                    <a:pt x="0" y="23"/>
                  </a:lnTo>
                  <a:lnTo>
                    <a:pt x="29" y="0"/>
                  </a:lnTo>
                  <a:lnTo>
                    <a:pt x="29" y="69"/>
                  </a:lnTo>
                  <a:lnTo>
                    <a:pt x="0" y="9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369040" y="3705120"/>
              <a:ext cx="11160" cy="10980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380200" y="3705120"/>
              <a:ext cx="12600" cy="10980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5392800" y="3705120"/>
              <a:ext cx="11160" cy="10980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5403960" y="3705120"/>
              <a:ext cx="11160" cy="10980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5415120" y="3705120"/>
              <a:ext cx="12600" cy="1098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5427720" y="3705120"/>
              <a:ext cx="11160" cy="1098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5438880" y="3705120"/>
              <a:ext cx="12600" cy="10980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5451480" y="3705120"/>
              <a:ext cx="11160" cy="10980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5462640" y="3705120"/>
              <a:ext cx="12600" cy="1098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369040" y="3705120"/>
              <a:ext cx="106200" cy="109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5369040" y="3668760"/>
              <a:ext cx="11160" cy="4752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5380200" y="3668760"/>
              <a:ext cx="12600" cy="475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5392800" y="3668760"/>
              <a:ext cx="11160" cy="475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5403960" y="3668760"/>
              <a:ext cx="11160" cy="4752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5415120" y="3668760"/>
              <a:ext cx="12600" cy="475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5427720" y="3668760"/>
              <a:ext cx="11160" cy="475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5438880" y="3668760"/>
              <a:ext cx="1260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5451480" y="366876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462640" y="3668760"/>
              <a:ext cx="12600" cy="475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5475240" y="3668760"/>
              <a:ext cx="11160" cy="475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486400" y="3668760"/>
              <a:ext cx="11160" cy="4752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497560" y="3668760"/>
              <a:ext cx="12600" cy="475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510160" y="3668760"/>
              <a:ext cx="11160" cy="475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521320" y="3668760"/>
              <a:ext cx="1260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5369040" y="3668760"/>
              <a:ext cx="152280" cy="3636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67" y="23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5746680" y="4178160"/>
              <a:ext cx="11160" cy="11764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5757840" y="4178160"/>
              <a:ext cx="11160" cy="1176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5769000" y="4178160"/>
              <a:ext cx="12600" cy="11764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5781600" y="4178160"/>
              <a:ext cx="11160" cy="1176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5746680" y="4178160"/>
              <a:ext cx="34920" cy="1165320"/>
            </a:xfrm>
            <a:custGeom>
              <a:avLst/>
              <a:gdLst/>
              <a:ahLst/>
              <a:rect l="l" t="t" r="r" b="b"/>
              <a:pathLst>
                <a:path w="22" h="734">
                  <a:moveTo>
                    <a:pt x="0" y="734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718"/>
                  </a:lnTo>
                  <a:lnTo>
                    <a:pt x="0" y="73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5640480" y="4202280"/>
              <a:ext cx="11160" cy="114120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5651640" y="4202280"/>
              <a:ext cx="10800" cy="1141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662440" y="4202280"/>
              <a:ext cx="12960" cy="1141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5675400" y="4202280"/>
              <a:ext cx="11160" cy="114120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686560" y="4202280"/>
              <a:ext cx="12600" cy="1141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699160" y="4202280"/>
              <a:ext cx="11160" cy="11412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5710320" y="4202280"/>
              <a:ext cx="12600" cy="114120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722920" y="4202280"/>
              <a:ext cx="11160" cy="114120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734080" y="4202280"/>
              <a:ext cx="12600" cy="11412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5640480" y="4202280"/>
              <a:ext cx="106200" cy="1141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640480" y="417816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651640" y="4178160"/>
              <a:ext cx="1080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5662440" y="4178160"/>
              <a:ext cx="129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675400" y="417816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5686560" y="417816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5699160" y="4178160"/>
              <a:ext cx="1116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710320" y="417816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722920" y="417816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734080" y="417816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5746680" y="417816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757840" y="417816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769000" y="4178160"/>
              <a:ext cx="1260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781600" y="4178160"/>
              <a:ext cx="1116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640480" y="4178160"/>
              <a:ext cx="14112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5746680" y="3862440"/>
              <a:ext cx="11160" cy="3524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5757840" y="3862440"/>
              <a:ext cx="11160" cy="3524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5769000" y="3862440"/>
              <a:ext cx="12600" cy="3524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5781600" y="3862440"/>
              <a:ext cx="11160" cy="3524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5746680" y="3862440"/>
              <a:ext cx="34920" cy="339840"/>
            </a:xfrm>
            <a:custGeom>
              <a:avLst/>
              <a:gdLst/>
              <a:ahLst/>
              <a:rect l="l" t="t" r="r" b="b"/>
              <a:pathLst>
                <a:path w="22" h="214">
                  <a:moveTo>
                    <a:pt x="0" y="214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99"/>
                  </a:lnTo>
                  <a:lnTo>
                    <a:pt x="0" y="21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640480" y="3886200"/>
              <a:ext cx="11160" cy="31608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5651640" y="3886200"/>
              <a:ext cx="10800" cy="3160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5662440" y="3886200"/>
              <a:ext cx="12960" cy="3160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675400" y="3886200"/>
              <a:ext cx="11160" cy="31608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5686560" y="3886200"/>
              <a:ext cx="12600" cy="3160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5699160" y="3886200"/>
              <a:ext cx="11160" cy="31608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710320" y="3886200"/>
              <a:ext cx="12600" cy="31608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722920" y="3886200"/>
              <a:ext cx="11160" cy="31608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5734080" y="3886200"/>
              <a:ext cx="12600" cy="316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5640480" y="3886200"/>
              <a:ext cx="106200" cy="316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5640480" y="3862440"/>
              <a:ext cx="11160" cy="3636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5651640" y="3862440"/>
              <a:ext cx="1080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5662440" y="3862440"/>
              <a:ext cx="129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5675400" y="386244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686560" y="3862440"/>
              <a:ext cx="1260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699160" y="3862440"/>
              <a:ext cx="11160" cy="3636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5710320" y="386244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5722920" y="386244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5734080" y="3862440"/>
              <a:ext cx="1260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5746680" y="386244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757840" y="386244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5769000" y="3862440"/>
              <a:ext cx="1260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5781600" y="3862440"/>
              <a:ext cx="1116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5640480" y="386244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5746680" y="3778200"/>
              <a:ext cx="11160" cy="12060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5757840" y="3778200"/>
              <a:ext cx="11160" cy="1206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769000" y="3778200"/>
              <a:ext cx="12600" cy="1206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781600" y="3778200"/>
              <a:ext cx="11160" cy="12060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5746680" y="3778200"/>
              <a:ext cx="34920" cy="108000"/>
            </a:xfrm>
            <a:custGeom>
              <a:avLst/>
              <a:gdLst/>
              <a:ahLst/>
              <a:rect l="l" t="t" r="r" b="b"/>
              <a:pathLst>
                <a:path w="22" h="68">
                  <a:moveTo>
                    <a:pt x="0" y="6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53"/>
                  </a:lnTo>
                  <a:lnTo>
                    <a:pt x="0" y="6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640480" y="3801960"/>
              <a:ext cx="11160" cy="8424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651640" y="3801960"/>
              <a:ext cx="10800" cy="842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662440" y="3801960"/>
              <a:ext cx="12960" cy="842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675400" y="3801960"/>
              <a:ext cx="11160" cy="8424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5640480" y="3305160"/>
            <a:ext cx="684000" cy="2049480"/>
            <a:chOff x="5640480" y="3305160"/>
            <a:chExt cx="684000" cy="2049480"/>
          </a:xfrm>
        </p:grpSpPr>
        <p:sp>
          <p:nvSpPr>
            <p:cNvPr id="2106" name=""/>
            <p:cNvSpPr/>
            <p:nvPr/>
          </p:nvSpPr>
          <p:spPr>
            <a:xfrm>
              <a:off x="5686560" y="3801960"/>
              <a:ext cx="12600" cy="842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5699160" y="3801960"/>
              <a:ext cx="11160" cy="842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5710320" y="3801960"/>
              <a:ext cx="12600" cy="842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5722920" y="3801960"/>
              <a:ext cx="11160" cy="842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5734080" y="3801960"/>
              <a:ext cx="12600" cy="842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640480" y="3801960"/>
              <a:ext cx="106200" cy="842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5640480" y="3778200"/>
              <a:ext cx="1116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651640" y="3778200"/>
              <a:ext cx="108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662440" y="3778200"/>
              <a:ext cx="129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675400" y="377820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686560" y="377820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699160" y="3778200"/>
              <a:ext cx="1116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710320" y="3778200"/>
              <a:ext cx="1260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722920" y="377820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734080" y="377820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746680" y="377820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757840" y="377820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769000" y="3778200"/>
              <a:ext cx="126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781600" y="3778200"/>
              <a:ext cx="1116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640480" y="377820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640480" y="3765600"/>
              <a:ext cx="11160" cy="493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651640" y="3765600"/>
              <a:ext cx="10800" cy="493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662440" y="3765600"/>
              <a:ext cx="12960" cy="493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5675400" y="3765600"/>
              <a:ext cx="11160" cy="493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5686560" y="3765600"/>
              <a:ext cx="12600" cy="493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5699160" y="3765600"/>
              <a:ext cx="11160" cy="493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710320" y="3765600"/>
              <a:ext cx="12600" cy="493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5722920" y="3765600"/>
              <a:ext cx="11160" cy="493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5734080" y="3765600"/>
              <a:ext cx="12600" cy="493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746680" y="3765600"/>
              <a:ext cx="11160" cy="493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757840" y="3765600"/>
              <a:ext cx="11160" cy="493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5769000" y="3765600"/>
              <a:ext cx="12600" cy="493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781600" y="3765600"/>
              <a:ext cx="11160" cy="493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5640480" y="376560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746680" y="3668760"/>
              <a:ext cx="11160" cy="14616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5757840" y="3668760"/>
              <a:ext cx="11160" cy="1461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769000" y="3668760"/>
              <a:ext cx="12600" cy="1461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781600" y="3668760"/>
              <a:ext cx="11160" cy="14616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746680" y="3668760"/>
              <a:ext cx="34920" cy="133200"/>
            </a:xfrm>
            <a:custGeom>
              <a:avLst/>
              <a:gdLst/>
              <a:ahLst/>
              <a:rect l="l" t="t" r="r" b="b"/>
              <a:pathLst>
                <a:path w="22" h="84">
                  <a:moveTo>
                    <a:pt x="0" y="84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61"/>
                  </a:lnTo>
                  <a:lnTo>
                    <a:pt x="0" y="8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5640480" y="3705120"/>
              <a:ext cx="11160" cy="9684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5651640" y="3705120"/>
              <a:ext cx="10800" cy="968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5662440" y="3705120"/>
              <a:ext cx="12960" cy="968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5675400" y="3705120"/>
              <a:ext cx="11160" cy="9684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5686560" y="3705120"/>
              <a:ext cx="12600" cy="968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5699160" y="3705120"/>
              <a:ext cx="11160" cy="968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5710320" y="3705120"/>
              <a:ext cx="12600" cy="968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5722920" y="3705120"/>
              <a:ext cx="11160" cy="968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5734080" y="3705120"/>
              <a:ext cx="12600" cy="968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5640480" y="3705120"/>
              <a:ext cx="106200" cy="96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5640480" y="3668760"/>
              <a:ext cx="11160" cy="475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651640" y="3668760"/>
              <a:ext cx="1080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662440" y="3668760"/>
              <a:ext cx="1296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675400" y="3668760"/>
              <a:ext cx="111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686560" y="3668760"/>
              <a:ext cx="1260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699160" y="3668760"/>
              <a:ext cx="11160" cy="475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710320" y="3668760"/>
              <a:ext cx="1260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722920" y="3668760"/>
              <a:ext cx="11160" cy="475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734080" y="3668760"/>
              <a:ext cx="12600" cy="475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746680" y="3668760"/>
              <a:ext cx="11160" cy="475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757840" y="3668760"/>
              <a:ext cx="11160" cy="475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769000" y="3668760"/>
              <a:ext cx="12600" cy="475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781600" y="3668760"/>
              <a:ext cx="11160" cy="475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640480" y="366876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6016680" y="3922560"/>
              <a:ext cx="12600" cy="14320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6029280" y="3922560"/>
              <a:ext cx="11160" cy="1432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6040440" y="3922560"/>
              <a:ext cx="12600" cy="1432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6053040" y="3922560"/>
              <a:ext cx="11160" cy="14320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6016680" y="3922560"/>
              <a:ext cx="36360" cy="1420920"/>
            </a:xfrm>
            <a:custGeom>
              <a:avLst/>
              <a:gdLst/>
              <a:ahLst/>
              <a:rect l="l" t="t" r="r" b="b"/>
              <a:pathLst>
                <a:path w="23" h="895">
                  <a:moveTo>
                    <a:pt x="0" y="895"/>
                  </a:moveTo>
                  <a:lnTo>
                    <a:pt x="0" y="16"/>
                  </a:lnTo>
                  <a:lnTo>
                    <a:pt x="23" y="0"/>
                  </a:lnTo>
                  <a:lnTo>
                    <a:pt x="23" y="879"/>
                  </a:lnTo>
                  <a:lnTo>
                    <a:pt x="0" y="89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911920" y="3948120"/>
              <a:ext cx="11160" cy="13953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923080" y="3948120"/>
              <a:ext cx="11160" cy="1395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934240" y="3948120"/>
              <a:ext cx="12600" cy="1395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5946840" y="3948120"/>
              <a:ext cx="11160" cy="13953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958000" y="3948120"/>
              <a:ext cx="12600" cy="1395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970600" y="3948120"/>
              <a:ext cx="11160" cy="13953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5981760" y="3948120"/>
              <a:ext cx="12600" cy="13953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994360" y="3948120"/>
              <a:ext cx="11160" cy="13953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6005520" y="3948120"/>
              <a:ext cx="11160" cy="1395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911920" y="3948120"/>
              <a:ext cx="104760" cy="1395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911920" y="392256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923080" y="392256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934240" y="392256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946840" y="392256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958000" y="392256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970600" y="3922560"/>
              <a:ext cx="1116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981760" y="392256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5994360" y="392256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005520" y="392256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6016680" y="3922560"/>
              <a:ext cx="126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029280" y="392256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6040440" y="3922560"/>
              <a:ext cx="1260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6053040" y="3922560"/>
              <a:ext cx="1116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5911920" y="3922560"/>
              <a:ext cx="14112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6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6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016680" y="3559320"/>
              <a:ext cx="12600" cy="3999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6029280" y="3559320"/>
              <a:ext cx="11160" cy="3999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6040440" y="3559320"/>
              <a:ext cx="12600" cy="3999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6053040" y="3559320"/>
              <a:ext cx="11160" cy="3999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6016680" y="3559320"/>
              <a:ext cx="36360" cy="388800"/>
            </a:xfrm>
            <a:custGeom>
              <a:avLst/>
              <a:gdLst/>
              <a:ahLst/>
              <a:rect l="l" t="t" r="r" b="b"/>
              <a:pathLst>
                <a:path w="23" h="245">
                  <a:moveTo>
                    <a:pt x="0" y="245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229"/>
                  </a:lnTo>
                  <a:lnTo>
                    <a:pt x="0" y="24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5911920" y="3583080"/>
              <a:ext cx="11160" cy="3650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923080" y="3583080"/>
              <a:ext cx="11160" cy="3650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5934240" y="3583080"/>
              <a:ext cx="12600" cy="3650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946840" y="3583080"/>
              <a:ext cx="11160" cy="3650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5958000" y="3583080"/>
              <a:ext cx="12600" cy="3650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970600" y="3583080"/>
              <a:ext cx="11160" cy="3650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981760" y="3583080"/>
              <a:ext cx="12600" cy="3650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5994360" y="3583080"/>
              <a:ext cx="11160" cy="3650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6005520" y="3583080"/>
              <a:ext cx="11160" cy="365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911920" y="3583080"/>
              <a:ext cx="104760" cy="3650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5911920" y="3559320"/>
              <a:ext cx="11160" cy="3636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923080" y="3559320"/>
              <a:ext cx="1116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5934240" y="3559320"/>
              <a:ext cx="1260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5946840" y="3559320"/>
              <a:ext cx="1116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5958000" y="3559320"/>
              <a:ext cx="1260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970600" y="3559320"/>
              <a:ext cx="11160" cy="3636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5981760" y="3559320"/>
              <a:ext cx="1260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5994360" y="3559320"/>
              <a:ext cx="11160" cy="3636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6005520" y="3559320"/>
              <a:ext cx="11160" cy="3636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6016680" y="3559320"/>
              <a:ext cx="12600" cy="3636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6029280" y="3559320"/>
              <a:ext cx="11160" cy="3636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6040440" y="3559320"/>
              <a:ext cx="12600" cy="3636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6053040" y="3559320"/>
              <a:ext cx="11160" cy="3636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5911920" y="355932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6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6016680" y="3449520"/>
              <a:ext cx="12600" cy="14616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6029280" y="3449520"/>
              <a:ext cx="11160" cy="1461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6040440" y="3449520"/>
              <a:ext cx="12600" cy="1461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6053040" y="3449520"/>
              <a:ext cx="11160" cy="14616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6016680" y="3449520"/>
              <a:ext cx="36360" cy="133560"/>
            </a:xfrm>
            <a:custGeom>
              <a:avLst/>
              <a:gdLst/>
              <a:ahLst/>
              <a:rect l="l" t="t" r="r" b="b"/>
              <a:pathLst>
                <a:path w="23" h="84">
                  <a:moveTo>
                    <a:pt x="0" y="84"/>
                  </a:moveTo>
                  <a:lnTo>
                    <a:pt x="0" y="16"/>
                  </a:lnTo>
                  <a:lnTo>
                    <a:pt x="23" y="0"/>
                  </a:lnTo>
                  <a:lnTo>
                    <a:pt x="23" y="69"/>
                  </a:lnTo>
                  <a:lnTo>
                    <a:pt x="0" y="8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911920" y="3475080"/>
              <a:ext cx="11160" cy="10800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5923080" y="3475080"/>
              <a:ext cx="11160" cy="1080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934240" y="3475080"/>
              <a:ext cx="12600" cy="1080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5946840" y="3475080"/>
              <a:ext cx="11160" cy="10800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5958000" y="3475080"/>
              <a:ext cx="12600" cy="1080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5970600" y="3475080"/>
              <a:ext cx="11160" cy="1080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981760" y="3475080"/>
              <a:ext cx="12600" cy="1080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5994360" y="3475080"/>
              <a:ext cx="11160" cy="1080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005520" y="3475080"/>
              <a:ext cx="11160" cy="108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911920" y="3475080"/>
              <a:ext cx="104760" cy="108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911920" y="3449520"/>
              <a:ext cx="1116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5923080" y="3449520"/>
              <a:ext cx="111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5934240" y="3449520"/>
              <a:ext cx="1260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5946840" y="344952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958000" y="344952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970600" y="3449520"/>
              <a:ext cx="1116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981760" y="3449520"/>
              <a:ext cx="1260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994360" y="344952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6005520" y="3449520"/>
              <a:ext cx="1116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6016680" y="3449520"/>
              <a:ext cx="1260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029280" y="344952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040440" y="3449520"/>
              <a:ext cx="126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6053040" y="3449520"/>
              <a:ext cx="1116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911920" y="3449520"/>
              <a:ext cx="14112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6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6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911920" y="3438360"/>
              <a:ext cx="11160" cy="4788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923080" y="3438360"/>
              <a:ext cx="11160" cy="4788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934240" y="3438360"/>
              <a:ext cx="12600" cy="4788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946840" y="3438360"/>
              <a:ext cx="11160" cy="4788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958000" y="3438360"/>
              <a:ext cx="12600" cy="4788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970600" y="3438360"/>
              <a:ext cx="11160" cy="4788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981760" y="3438360"/>
              <a:ext cx="12600" cy="4788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994360" y="3438360"/>
              <a:ext cx="11160" cy="4788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6005520" y="3438360"/>
              <a:ext cx="11160" cy="4788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6016680" y="3438360"/>
              <a:ext cx="12600" cy="4788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6029280" y="3438360"/>
              <a:ext cx="11160" cy="4788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6040440" y="3438360"/>
              <a:ext cx="12600" cy="4788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6053040" y="3438360"/>
              <a:ext cx="11160" cy="4788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911920" y="3438360"/>
              <a:ext cx="141120" cy="3672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6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6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6016680" y="3305160"/>
              <a:ext cx="12600" cy="18108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6029280" y="3305160"/>
              <a:ext cx="11160" cy="1810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6040440" y="3305160"/>
              <a:ext cx="12600" cy="1810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6053040" y="3305160"/>
              <a:ext cx="11160" cy="18108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6016680" y="3305160"/>
              <a:ext cx="36360" cy="169920"/>
            </a:xfrm>
            <a:custGeom>
              <a:avLst/>
              <a:gdLst/>
              <a:ahLst/>
              <a:rect l="l" t="t" r="r" b="b"/>
              <a:pathLst>
                <a:path w="23" h="107">
                  <a:moveTo>
                    <a:pt x="0" y="107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84"/>
                  </a:lnTo>
                  <a:lnTo>
                    <a:pt x="0" y="10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911920" y="3328920"/>
              <a:ext cx="11160" cy="14616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923080" y="3328920"/>
              <a:ext cx="11160" cy="1461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5934240" y="3328920"/>
              <a:ext cx="12600" cy="1461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5946840" y="3328920"/>
              <a:ext cx="11160" cy="14616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5958000" y="3328920"/>
              <a:ext cx="12600" cy="1461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5970600" y="3328920"/>
              <a:ext cx="11160" cy="1461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5981760" y="3328920"/>
              <a:ext cx="12600" cy="1461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5994360" y="3328920"/>
              <a:ext cx="11160" cy="1461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6005520" y="3328920"/>
              <a:ext cx="11160" cy="1461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5911920" y="3328920"/>
              <a:ext cx="104760" cy="146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5911920" y="3305160"/>
              <a:ext cx="111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5923080" y="330516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5934240" y="330516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5946840" y="330516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958000" y="3305160"/>
              <a:ext cx="126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970600" y="3305160"/>
              <a:ext cx="111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981760" y="330516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994360" y="330516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005520" y="330516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6016680" y="330516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029280" y="330516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6040440" y="330516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6053040" y="330516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911920" y="330516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6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6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6276960" y="3778200"/>
              <a:ext cx="11160" cy="15764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6288120" y="3778200"/>
              <a:ext cx="12600" cy="1576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6300720" y="3778200"/>
              <a:ext cx="11160" cy="1576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311880" y="3778200"/>
              <a:ext cx="12600" cy="15764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6276960" y="3778200"/>
              <a:ext cx="34920" cy="1565280"/>
            </a:xfrm>
            <a:custGeom>
              <a:avLst/>
              <a:gdLst/>
              <a:ahLst/>
              <a:rect l="l" t="t" r="r" b="b"/>
              <a:pathLst>
                <a:path w="22" h="986">
                  <a:moveTo>
                    <a:pt x="0" y="986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970"/>
                  </a:lnTo>
                  <a:lnTo>
                    <a:pt x="0" y="98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170760" y="3801960"/>
              <a:ext cx="12600" cy="154152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183360" y="3801960"/>
              <a:ext cx="11160" cy="15415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6" name=""/>
          <p:cNvGrpSpPr/>
          <p:nvPr/>
        </p:nvGrpSpPr>
        <p:grpSpPr>
          <a:xfrm>
            <a:off x="6170760" y="3062160"/>
            <a:ext cx="425160" cy="2292480"/>
            <a:chOff x="6170760" y="3062160"/>
            <a:chExt cx="425160" cy="2292480"/>
          </a:xfrm>
        </p:grpSpPr>
        <p:sp>
          <p:nvSpPr>
            <p:cNvPr id="2307" name=""/>
            <p:cNvSpPr/>
            <p:nvPr/>
          </p:nvSpPr>
          <p:spPr>
            <a:xfrm>
              <a:off x="6194520" y="3801960"/>
              <a:ext cx="11160" cy="15415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6205680" y="3801960"/>
              <a:ext cx="12600" cy="154152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6218280" y="3801960"/>
              <a:ext cx="11160" cy="15415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229440" y="3801960"/>
              <a:ext cx="12600" cy="154152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6242040" y="3801960"/>
              <a:ext cx="11160" cy="154152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253200" y="3801960"/>
              <a:ext cx="12600" cy="154152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6265800" y="3801960"/>
              <a:ext cx="11160" cy="15415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6170760" y="3801960"/>
              <a:ext cx="106200" cy="1541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6170760" y="3778200"/>
              <a:ext cx="1260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6183360" y="377820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6194520" y="377820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6205680" y="3778200"/>
              <a:ext cx="126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6218280" y="377820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6229440" y="3778200"/>
              <a:ext cx="1260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6242040" y="377820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6253200" y="377820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6265800" y="377820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6276960" y="377820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6288120" y="377820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6300720" y="377820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6311880" y="3778200"/>
              <a:ext cx="1260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6170760" y="377820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6276960" y="3365640"/>
              <a:ext cx="11160" cy="44928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6288120" y="3365640"/>
              <a:ext cx="12600" cy="449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300720" y="3365640"/>
              <a:ext cx="11160" cy="44928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6311880" y="3365640"/>
              <a:ext cx="12600" cy="4492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6276960" y="3365640"/>
              <a:ext cx="34920" cy="436320"/>
            </a:xfrm>
            <a:custGeom>
              <a:avLst/>
              <a:gdLst/>
              <a:ahLst/>
              <a:rect l="l" t="t" r="r" b="b"/>
              <a:pathLst>
                <a:path w="22" h="275">
                  <a:moveTo>
                    <a:pt x="0" y="275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60"/>
                  </a:lnTo>
                  <a:lnTo>
                    <a:pt x="0" y="27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6170760" y="3402000"/>
              <a:ext cx="12600" cy="3999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6183360" y="3402000"/>
              <a:ext cx="11160" cy="3999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6194520" y="3402000"/>
              <a:ext cx="11160" cy="3999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6205680" y="3402000"/>
              <a:ext cx="12600" cy="3999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6218280" y="3402000"/>
              <a:ext cx="11160" cy="3999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6229440" y="3402000"/>
              <a:ext cx="12600" cy="3999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6242040" y="3402000"/>
              <a:ext cx="11160" cy="3999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6253200" y="3402000"/>
              <a:ext cx="12600" cy="3999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6265800" y="3402000"/>
              <a:ext cx="11160" cy="399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6170760" y="3402000"/>
              <a:ext cx="106200" cy="399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6170760" y="3365640"/>
              <a:ext cx="12600" cy="475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6183360" y="3365640"/>
              <a:ext cx="111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6194520" y="3365640"/>
              <a:ext cx="1116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6205680" y="3365640"/>
              <a:ext cx="1260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6218280" y="3365640"/>
              <a:ext cx="111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6229440" y="3365640"/>
              <a:ext cx="12600" cy="475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6242040" y="3365640"/>
              <a:ext cx="1116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6253200" y="3365640"/>
              <a:ext cx="12600" cy="475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6265800" y="3365640"/>
              <a:ext cx="11160" cy="475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6276960" y="3365640"/>
              <a:ext cx="11160" cy="475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6288120" y="3365640"/>
              <a:ext cx="12600" cy="475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6300720" y="3365640"/>
              <a:ext cx="11160" cy="475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6311880" y="3365640"/>
              <a:ext cx="12600" cy="475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6170760" y="336564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6276960" y="3219480"/>
              <a:ext cx="11160" cy="1936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6288120" y="3219480"/>
              <a:ext cx="12600" cy="193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6300720" y="3219480"/>
              <a:ext cx="11160" cy="193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6311880" y="3219480"/>
              <a:ext cx="12600" cy="1936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6276960" y="3219480"/>
              <a:ext cx="34920" cy="182520"/>
            </a:xfrm>
            <a:custGeom>
              <a:avLst/>
              <a:gdLst/>
              <a:ahLst/>
              <a:rect l="l" t="t" r="r" b="b"/>
              <a:pathLst>
                <a:path w="22" h="115">
                  <a:moveTo>
                    <a:pt x="0" y="115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2"/>
                  </a:lnTo>
                  <a:lnTo>
                    <a:pt x="0" y="1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6170760" y="3255840"/>
              <a:ext cx="12600" cy="14616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6183360" y="3255840"/>
              <a:ext cx="11160" cy="146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6194520" y="3255840"/>
              <a:ext cx="11160" cy="146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6205680" y="3255840"/>
              <a:ext cx="12600" cy="14616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6218280" y="3255840"/>
              <a:ext cx="11160" cy="146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6229440" y="3255840"/>
              <a:ext cx="12600" cy="1461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6242040" y="3255840"/>
              <a:ext cx="11160" cy="14616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6253200" y="3255840"/>
              <a:ext cx="12600" cy="14616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6265800" y="3255840"/>
              <a:ext cx="11160" cy="146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6170760" y="3255840"/>
              <a:ext cx="106200" cy="146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6170760" y="3219480"/>
              <a:ext cx="12600" cy="493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6183360" y="3219480"/>
              <a:ext cx="11160" cy="493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6194520" y="3219480"/>
              <a:ext cx="11160" cy="493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6205680" y="3219480"/>
              <a:ext cx="12600" cy="493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6218280" y="3219480"/>
              <a:ext cx="11160" cy="493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6229440" y="3219480"/>
              <a:ext cx="12600" cy="493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242040" y="3219480"/>
              <a:ext cx="1116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6253200" y="3219480"/>
              <a:ext cx="1260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6265800" y="3219480"/>
              <a:ext cx="11160" cy="493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276960" y="3219480"/>
              <a:ext cx="11160" cy="493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6288120" y="3219480"/>
              <a:ext cx="12600" cy="493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6300720" y="3219480"/>
              <a:ext cx="11160" cy="493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6311880" y="3219480"/>
              <a:ext cx="12600" cy="493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6170760" y="321948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6276960" y="3206880"/>
              <a:ext cx="11160" cy="6192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6288120" y="3206880"/>
              <a:ext cx="12600" cy="6192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6300720" y="3206880"/>
              <a:ext cx="11160" cy="6192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6311880" y="3206880"/>
              <a:ext cx="12600" cy="619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6276960" y="3206880"/>
              <a:ext cx="34920" cy="4896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0" y="31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0" y="3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6170760" y="3232080"/>
              <a:ext cx="12600" cy="2376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6183360" y="3232080"/>
              <a:ext cx="11160" cy="2376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6194520" y="3232080"/>
              <a:ext cx="11160" cy="2376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6205680" y="3232080"/>
              <a:ext cx="12600" cy="2376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6218280" y="3232080"/>
              <a:ext cx="11160" cy="2376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6229440" y="3232080"/>
              <a:ext cx="12600" cy="2376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6242040" y="3232080"/>
              <a:ext cx="11160" cy="2376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6253200" y="3232080"/>
              <a:ext cx="12600" cy="2376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6265800" y="3232080"/>
              <a:ext cx="11160" cy="237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6170760" y="3232080"/>
              <a:ext cx="106200" cy="23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6170760" y="3206880"/>
              <a:ext cx="12600" cy="3636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6183360" y="320688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6194520" y="3206880"/>
              <a:ext cx="1116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6205680" y="3206880"/>
              <a:ext cx="1260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6218280" y="320688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6229440" y="3206880"/>
              <a:ext cx="12600" cy="3636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6242040" y="3206880"/>
              <a:ext cx="1116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6253200" y="3206880"/>
              <a:ext cx="12600" cy="3636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6265800" y="3206880"/>
              <a:ext cx="11160" cy="3636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6276960" y="3206880"/>
              <a:ext cx="11160" cy="3636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6288120" y="3206880"/>
              <a:ext cx="12600" cy="3636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6300720" y="3206880"/>
              <a:ext cx="11160" cy="3636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6311880" y="3206880"/>
              <a:ext cx="12600" cy="3636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6170760" y="3206880"/>
              <a:ext cx="14112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6276960" y="3062160"/>
              <a:ext cx="11160" cy="18108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6288120" y="3062160"/>
              <a:ext cx="12600" cy="1810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6300720" y="3062160"/>
              <a:ext cx="11160" cy="1810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6311880" y="3062160"/>
              <a:ext cx="12600" cy="18108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6276960" y="3062160"/>
              <a:ext cx="34920" cy="169920"/>
            </a:xfrm>
            <a:custGeom>
              <a:avLst/>
              <a:gdLst/>
              <a:ahLst/>
              <a:rect l="l" t="t" r="r" b="b"/>
              <a:pathLst>
                <a:path w="22" h="107">
                  <a:moveTo>
                    <a:pt x="0" y="107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91"/>
                  </a:lnTo>
                  <a:lnTo>
                    <a:pt x="0" y="10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6170760" y="3086280"/>
              <a:ext cx="12600" cy="14580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6183360" y="3086280"/>
              <a:ext cx="11160" cy="14580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6194520" y="3086280"/>
              <a:ext cx="11160" cy="14580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6205680" y="3086280"/>
              <a:ext cx="12600" cy="14580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6218280" y="3086280"/>
              <a:ext cx="11160" cy="1458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6229440" y="3086280"/>
              <a:ext cx="12600" cy="14580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6242040" y="3086280"/>
              <a:ext cx="11160" cy="14580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6253200" y="3086280"/>
              <a:ext cx="12600" cy="14580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265800" y="3086280"/>
              <a:ext cx="11160" cy="1458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6170760" y="3086280"/>
              <a:ext cx="106200" cy="145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6170760" y="3062160"/>
              <a:ext cx="12600" cy="3672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6183360" y="3062160"/>
              <a:ext cx="11160" cy="367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6194520" y="3062160"/>
              <a:ext cx="11160" cy="367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6205680" y="3062160"/>
              <a:ext cx="12600" cy="367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6218280" y="3062160"/>
              <a:ext cx="11160" cy="367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6229440" y="3062160"/>
              <a:ext cx="12600" cy="3672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242040" y="3062160"/>
              <a:ext cx="1116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6253200" y="3062160"/>
              <a:ext cx="12600" cy="367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6265800" y="3062160"/>
              <a:ext cx="11160" cy="3672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6276960" y="3062160"/>
              <a:ext cx="11160" cy="3672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6288120" y="3062160"/>
              <a:ext cx="12600" cy="3672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6300720" y="3062160"/>
              <a:ext cx="11160" cy="3672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6311880" y="3062160"/>
              <a:ext cx="12600" cy="367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6170760" y="3062160"/>
              <a:ext cx="14112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6548400" y="3862440"/>
              <a:ext cx="11160" cy="14922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6559560" y="3862440"/>
              <a:ext cx="12600" cy="14922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6572160" y="3862440"/>
              <a:ext cx="11160" cy="14922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6583320" y="3862440"/>
              <a:ext cx="12600" cy="14922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6548400" y="3862440"/>
              <a:ext cx="34920" cy="1481040"/>
            </a:xfrm>
            <a:custGeom>
              <a:avLst/>
              <a:gdLst/>
              <a:ahLst/>
              <a:rect l="l" t="t" r="r" b="b"/>
              <a:pathLst>
                <a:path w="22" h="933">
                  <a:moveTo>
                    <a:pt x="0" y="93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17"/>
                  </a:lnTo>
                  <a:lnTo>
                    <a:pt x="0" y="93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6442200" y="3898800"/>
              <a:ext cx="11160" cy="14446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6453360" y="3898800"/>
              <a:ext cx="12600" cy="14446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6465960" y="3898800"/>
              <a:ext cx="11160" cy="14446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6477120" y="3898800"/>
              <a:ext cx="12600" cy="14446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6489720" y="3898800"/>
              <a:ext cx="11160" cy="14446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6500880" y="3898800"/>
              <a:ext cx="12600" cy="14446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6513480" y="3898800"/>
              <a:ext cx="11160" cy="14446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6524640" y="3898800"/>
              <a:ext cx="11160" cy="14446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6535800" y="3898800"/>
              <a:ext cx="12600" cy="1444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6442200" y="3898800"/>
              <a:ext cx="106200" cy="1444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6442200" y="3862440"/>
              <a:ext cx="11160" cy="493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6453360" y="3862440"/>
              <a:ext cx="1260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6465960" y="3862440"/>
              <a:ext cx="1116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6477120" y="3862440"/>
              <a:ext cx="1260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6489720" y="3862440"/>
              <a:ext cx="1116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6500880" y="3862440"/>
              <a:ext cx="12600" cy="493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6513480" y="386244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6524640" y="386244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535800" y="3862440"/>
              <a:ext cx="1260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6548400" y="3862440"/>
              <a:ext cx="1116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6559560" y="3862440"/>
              <a:ext cx="1260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6572160" y="3862440"/>
              <a:ext cx="1116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6583320" y="3862440"/>
              <a:ext cx="12600" cy="493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442200" y="386244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548400" y="3449520"/>
              <a:ext cx="11160" cy="4622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559560" y="3449520"/>
              <a:ext cx="12600" cy="4622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6572160" y="3449520"/>
              <a:ext cx="11160" cy="4622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6583320" y="3449520"/>
              <a:ext cx="12600" cy="4622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6548400" y="3449520"/>
              <a:ext cx="34920" cy="449280"/>
            </a:xfrm>
            <a:custGeom>
              <a:avLst/>
              <a:gdLst/>
              <a:ahLst/>
              <a:rect l="l" t="t" r="r" b="b"/>
              <a:pathLst>
                <a:path w="22" h="283">
                  <a:moveTo>
                    <a:pt x="0" y="283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260"/>
                  </a:lnTo>
                  <a:lnTo>
                    <a:pt x="0" y="28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6442200" y="3486240"/>
              <a:ext cx="11160" cy="4125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6453360" y="3486240"/>
              <a:ext cx="12600" cy="4125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6465960" y="3486240"/>
              <a:ext cx="11160" cy="4125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6477120" y="3486240"/>
              <a:ext cx="12600" cy="4125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6489720" y="3486240"/>
              <a:ext cx="11160" cy="4125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6500880" y="3486240"/>
              <a:ext cx="12600" cy="4125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6513480" y="3486240"/>
              <a:ext cx="11160" cy="4125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6524640" y="3486240"/>
              <a:ext cx="11160" cy="4125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6535800" y="3486240"/>
              <a:ext cx="12600" cy="412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6442200" y="3486240"/>
              <a:ext cx="106200" cy="412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6442200" y="3449520"/>
              <a:ext cx="11160" cy="493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6453360" y="3449520"/>
              <a:ext cx="1260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6465960" y="3449520"/>
              <a:ext cx="1116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6477120" y="3449520"/>
              <a:ext cx="1260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6489720" y="3449520"/>
              <a:ext cx="1116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6500880" y="3449520"/>
              <a:ext cx="12600" cy="493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6513480" y="344952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6524640" y="344952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6535800" y="3449520"/>
              <a:ext cx="1260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6548400" y="3449520"/>
              <a:ext cx="1116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6559560" y="3449520"/>
              <a:ext cx="1260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6572160" y="3449520"/>
              <a:ext cx="111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6583320" y="3449520"/>
              <a:ext cx="12600" cy="493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6442200" y="3449520"/>
              <a:ext cx="141120" cy="3672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6548400" y="3305160"/>
              <a:ext cx="11160" cy="19368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6559560" y="3305160"/>
              <a:ext cx="12600" cy="193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6572160" y="3305160"/>
              <a:ext cx="11160" cy="19368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6583320" y="3305160"/>
              <a:ext cx="12600" cy="19368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7" name=""/>
          <p:cNvGrpSpPr/>
          <p:nvPr/>
        </p:nvGrpSpPr>
        <p:grpSpPr>
          <a:xfrm>
            <a:off x="6442200" y="3146400"/>
            <a:ext cx="425160" cy="2208240"/>
            <a:chOff x="6442200" y="3146400"/>
            <a:chExt cx="425160" cy="2208240"/>
          </a:xfrm>
        </p:grpSpPr>
        <p:sp>
          <p:nvSpPr>
            <p:cNvPr id="2508" name=""/>
            <p:cNvSpPr/>
            <p:nvPr/>
          </p:nvSpPr>
          <p:spPr>
            <a:xfrm>
              <a:off x="6548400" y="3305160"/>
              <a:ext cx="34920" cy="181080"/>
            </a:xfrm>
            <a:custGeom>
              <a:avLst/>
              <a:gdLst/>
              <a:ahLst/>
              <a:rect l="l" t="t" r="r" b="b"/>
              <a:pathLst>
                <a:path w="22" h="114">
                  <a:moveTo>
                    <a:pt x="0" y="114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1"/>
                  </a:lnTo>
                  <a:lnTo>
                    <a:pt x="0" y="11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6442200" y="3341520"/>
              <a:ext cx="11160" cy="14472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6453360" y="3341520"/>
              <a:ext cx="12600" cy="144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6465960" y="3341520"/>
              <a:ext cx="11160" cy="144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6477120" y="3341520"/>
              <a:ext cx="12600" cy="14472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6489720" y="3341520"/>
              <a:ext cx="11160" cy="144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6500880" y="3341520"/>
              <a:ext cx="12600" cy="14472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6513480" y="3341520"/>
              <a:ext cx="11160" cy="14472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6524640" y="3341520"/>
              <a:ext cx="11160" cy="14472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6535800" y="3341520"/>
              <a:ext cx="12600" cy="144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6442200" y="3341520"/>
              <a:ext cx="106200" cy="144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442200" y="3305160"/>
              <a:ext cx="11160" cy="475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453360" y="3305160"/>
              <a:ext cx="1260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6465960" y="3305160"/>
              <a:ext cx="1116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6477120" y="3305160"/>
              <a:ext cx="1260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6489720" y="3305160"/>
              <a:ext cx="1116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6500880" y="3305160"/>
              <a:ext cx="12600" cy="475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6513480" y="330516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6524640" y="3305160"/>
              <a:ext cx="11160" cy="475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6535800" y="3305160"/>
              <a:ext cx="12600" cy="475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6548400" y="3305160"/>
              <a:ext cx="11160" cy="475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6559560" y="3305160"/>
              <a:ext cx="12600" cy="475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6572160" y="3305160"/>
              <a:ext cx="11160" cy="475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6583320" y="3305160"/>
              <a:ext cx="12600" cy="475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6442200" y="330516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6548400" y="3255840"/>
              <a:ext cx="11160" cy="9684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6559560" y="3255840"/>
              <a:ext cx="12600" cy="968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6572160" y="3255840"/>
              <a:ext cx="11160" cy="968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6583320" y="3255840"/>
              <a:ext cx="12600" cy="968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6548400" y="3255840"/>
              <a:ext cx="34920" cy="85680"/>
            </a:xfrm>
            <a:custGeom>
              <a:avLst/>
              <a:gdLst/>
              <a:ahLst/>
              <a:rect l="l" t="t" r="r" b="b"/>
              <a:pathLst>
                <a:path w="22" h="54">
                  <a:moveTo>
                    <a:pt x="0" y="54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1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6442200" y="3279600"/>
              <a:ext cx="11160" cy="6192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6453360" y="3279600"/>
              <a:ext cx="12600" cy="619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6465960" y="3279600"/>
              <a:ext cx="11160" cy="619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6477120" y="3279600"/>
              <a:ext cx="12600" cy="6192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6489720" y="3279600"/>
              <a:ext cx="11160" cy="619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6500880" y="3279600"/>
              <a:ext cx="12600" cy="619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6513480" y="3279600"/>
              <a:ext cx="11160" cy="619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6524640" y="3279600"/>
              <a:ext cx="11160" cy="619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6535800" y="3279600"/>
              <a:ext cx="12600" cy="61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6442200" y="3279600"/>
              <a:ext cx="106200" cy="61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6442200" y="3255840"/>
              <a:ext cx="11160" cy="367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6453360" y="3255840"/>
              <a:ext cx="1260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6465960" y="3255840"/>
              <a:ext cx="1116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6477120" y="3255840"/>
              <a:ext cx="1260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6489720" y="3255840"/>
              <a:ext cx="1116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6500880" y="3255840"/>
              <a:ext cx="12600" cy="367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6513480" y="325584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6524640" y="325584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6535800" y="3255840"/>
              <a:ext cx="1260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6548400" y="3255840"/>
              <a:ext cx="111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6559560" y="3255840"/>
              <a:ext cx="1260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6572160" y="3255840"/>
              <a:ext cx="1116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6583320" y="3255840"/>
              <a:ext cx="1260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6442200" y="325584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6548400" y="3146400"/>
              <a:ext cx="11160" cy="14616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6559560" y="3146400"/>
              <a:ext cx="12600" cy="1461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6572160" y="3146400"/>
              <a:ext cx="11160" cy="14616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6583320" y="3146400"/>
              <a:ext cx="12600" cy="14616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6548400" y="3146400"/>
              <a:ext cx="34920" cy="133200"/>
            </a:xfrm>
            <a:custGeom>
              <a:avLst/>
              <a:gdLst/>
              <a:ahLst/>
              <a:rect l="l" t="t" r="r" b="b"/>
              <a:pathLst>
                <a:path w="22" h="84">
                  <a:moveTo>
                    <a:pt x="0" y="84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69"/>
                  </a:lnTo>
                  <a:lnTo>
                    <a:pt x="0" y="8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6442200" y="3171960"/>
              <a:ext cx="11160" cy="10764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6453360" y="3171960"/>
              <a:ext cx="12600" cy="1076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6465960" y="3171960"/>
              <a:ext cx="11160" cy="1076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6477120" y="3171960"/>
              <a:ext cx="12600" cy="10764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6489720" y="3171960"/>
              <a:ext cx="11160" cy="1076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6500880" y="3171960"/>
              <a:ext cx="12600" cy="10764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6513480" y="3171960"/>
              <a:ext cx="11160" cy="10764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6524640" y="3171960"/>
              <a:ext cx="11160" cy="10764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6535800" y="3171960"/>
              <a:ext cx="12600" cy="107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6442200" y="3171960"/>
              <a:ext cx="106200" cy="107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6442200" y="3146400"/>
              <a:ext cx="111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6453360" y="314640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6465960" y="314640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6477120" y="314640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6489720" y="314640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6500880" y="3146400"/>
              <a:ext cx="1260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6513480" y="31464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6524640" y="31464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6535800" y="3146400"/>
              <a:ext cx="126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6548400" y="314640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6559560" y="314640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6572160" y="314640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6583320" y="314640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6442200" y="3146400"/>
              <a:ext cx="14112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6819840" y="3959280"/>
              <a:ext cx="11160" cy="139536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6831000" y="3959280"/>
              <a:ext cx="12600" cy="13953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6843600" y="3959280"/>
              <a:ext cx="11160" cy="13953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6854760" y="3959280"/>
              <a:ext cx="12600" cy="13953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6819840" y="3959280"/>
              <a:ext cx="34920" cy="1384200"/>
            </a:xfrm>
            <a:custGeom>
              <a:avLst/>
              <a:gdLst/>
              <a:ahLst/>
              <a:rect l="l" t="t" r="r" b="b"/>
              <a:pathLst>
                <a:path w="22" h="872">
                  <a:moveTo>
                    <a:pt x="0" y="872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856"/>
                  </a:lnTo>
                  <a:lnTo>
                    <a:pt x="0" y="87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6702480" y="3984480"/>
              <a:ext cx="11160" cy="135900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6713640" y="3984480"/>
              <a:ext cx="11160" cy="135900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6724800" y="3984480"/>
              <a:ext cx="12600" cy="135900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6737400" y="3984480"/>
              <a:ext cx="11160" cy="135900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6748560" y="3984480"/>
              <a:ext cx="12600" cy="13590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6761160" y="3984480"/>
              <a:ext cx="11160" cy="135900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6772320" y="3984480"/>
              <a:ext cx="12600" cy="135900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6784920" y="3984480"/>
              <a:ext cx="11160" cy="135900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6796080" y="3984480"/>
              <a:ext cx="11160" cy="135900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6807240" y="3984480"/>
              <a:ext cx="12600" cy="13590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6702480" y="3984480"/>
              <a:ext cx="117360" cy="1359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6702480" y="3959280"/>
              <a:ext cx="111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6713640" y="3959280"/>
              <a:ext cx="11160" cy="3636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6724800" y="3959280"/>
              <a:ext cx="12600" cy="3636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6737400" y="3959280"/>
              <a:ext cx="11160" cy="3636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6748560" y="3959280"/>
              <a:ext cx="12600" cy="3636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6761160" y="3959280"/>
              <a:ext cx="11160" cy="3636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6772320" y="395928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6784920" y="39592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6796080" y="3959280"/>
              <a:ext cx="11160" cy="3636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6807240" y="3959280"/>
              <a:ext cx="12600" cy="3636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6819840" y="3959280"/>
              <a:ext cx="11160" cy="3636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6831000" y="3959280"/>
              <a:ext cx="12600" cy="3636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6843600" y="3959280"/>
              <a:ext cx="11160" cy="3636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6854760" y="3959280"/>
              <a:ext cx="1260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6702480" y="3959280"/>
              <a:ext cx="152280" cy="25200"/>
            </a:xfrm>
            <a:custGeom>
              <a:avLst/>
              <a:gdLst/>
              <a:ahLst/>
              <a:rect l="l" t="t" r="r" b="b"/>
              <a:pathLst>
                <a:path w="96" h="16">
                  <a:moveTo>
                    <a:pt x="74" y="16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6"/>
                  </a:lnTo>
                  <a:lnTo>
                    <a:pt x="74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6819840" y="3535200"/>
              <a:ext cx="11160" cy="46044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6831000" y="3535200"/>
              <a:ext cx="12600" cy="4604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6843600" y="3535200"/>
              <a:ext cx="11160" cy="46044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6854760" y="3535200"/>
              <a:ext cx="12600" cy="4604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6819840" y="3535200"/>
              <a:ext cx="34920" cy="449280"/>
            </a:xfrm>
            <a:custGeom>
              <a:avLst/>
              <a:gdLst/>
              <a:ahLst/>
              <a:rect l="l" t="t" r="r" b="b"/>
              <a:pathLst>
                <a:path w="22" h="283">
                  <a:moveTo>
                    <a:pt x="0" y="28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67"/>
                  </a:lnTo>
                  <a:lnTo>
                    <a:pt x="0" y="28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6702480" y="3559320"/>
              <a:ext cx="11160" cy="42516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6713640" y="3559320"/>
              <a:ext cx="11160" cy="42516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6724800" y="3559320"/>
              <a:ext cx="12600" cy="42516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6737400" y="3559320"/>
              <a:ext cx="11160" cy="42516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6748560" y="3559320"/>
              <a:ext cx="12600" cy="4251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6761160" y="3559320"/>
              <a:ext cx="11160" cy="4251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6772320" y="3559320"/>
              <a:ext cx="12600" cy="42516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6784920" y="3559320"/>
              <a:ext cx="11160" cy="42516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6796080" y="3559320"/>
              <a:ext cx="11160" cy="42516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6807240" y="3559320"/>
              <a:ext cx="12600" cy="425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6702480" y="3559320"/>
              <a:ext cx="117360" cy="425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6702480" y="3535200"/>
              <a:ext cx="11160" cy="3672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6713640" y="3535200"/>
              <a:ext cx="11160" cy="367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6724800" y="3535200"/>
              <a:ext cx="12600" cy="367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6737400" y="3535200"/>
              <a:ext cx="11160" cy="3672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6748560" y="3535200"/>
              <a:ext cx="12600" cy="367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6761160" y="3535200"/>
              <a:ext cx="11160" cy="367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6772320" y="353520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6784920" y="353520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6796080" y="3535200"/>
              <a:ext cx="11160" cy="3672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6807240" y="3535200"/>
              <a:ext cx="12600" cy="3672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6819840" y="3535200"/>
              <a:ext cx="11160" cy="3672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6831000" y="3535200"/>
              <a:ext cx="12600" cy="3672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6843600" y="3535200"/>
              <a:ext cx="11160" cy="3672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6854760" y="3535200"/>
              <a:ext cx="1260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6702480" y="3535200"/>
              <a:ext cx="152280" cy="2412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74" y="15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4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6819840" y="3389400"/>
              <a:ext cx="11160" cy="1825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6831000" y="3389400"/>
              <a:ext cx="12600" cy="182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6843600" y="3389400"/>
              <a:ext cx="11160" cy="1825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6854760" y="3389400"/>
              <a:ext cx="12600" cy="1825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6819840" y="3389400"/>
              <a:ext cx="34920" cy="169920"/>
            </a:xfrm>
            <a:custGeom>
              <a:avLst/>
              <a:gdLst/>
              <a:ahLst/>
              <a:rect l="l" t="t" r="r" b="b"/>
              <a:pathLst>
                <a:path w="22" h="107">
                  <a:moveTo>
                    <a:pt x="0" y="107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92"/>
                  </a:lnTo>
                  <a:lnTo>
                    <a:pt x="0" y="10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6702480" y="3425760"/>
              <a:ext cx="11160" cy="13356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6713640" y="3425760"/>
              <a:ext cx="11160" cy="1335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6724800" y="3425760"/>
              <a:ext cx="12600" cy="13356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6737400" y="3425760"/>
              <a:ext cx="11160" cy="1335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6748560" y="3425760"/>
              <a:ext cx="12600" cy="1335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6761160" y="3425760"/>
              <a:ext cx="11160" cy="1335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6772320" y="3425760"/>
              <a:ext cx="12600" cy="1335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6784920" y="3425760"/>
              <a:ext cx="11160" cy="13356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6796080" y="3425760"/>
              <a:ext cx="11160" cy="1335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6807240" y="3425760"/>
              <a:ext cx="12600" cy="1335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6702480" y="3425760"/>
              <a:ext cx="1173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6702480" y="3389400"/>
              <a:ext cx="11160" cy="4896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6713640" y="3389400"/>
              <a:ext cx="11160" cy="489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6724800" y="3389400"/>
              <a:ext cx="12600" cy="489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6737400" y="3389400"/>
              <a:ext cx="11160" cy="489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6748560" y="3389400"/>
              <a:ext cx="12600" cy="489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6761160" y="3389400"/>
              <a:ext cx="11160" cy="489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6772320" y="3389400"/>
              <a:ext cx="12600" cy="489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6784920" y="3389400"/>
              <a:ext cx="11160" cy="489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6796080" y="3389400"/>
              <a:ext cx="11160" cy="4896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6807240" y="3389400"/>
              <a:ext cx="12600" cy="4896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6819840" y="3389400"/>
              <a:ext cx="11160" cy="4896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6831000" y="3389400"/>
              <a:ext cx="12600" cy="4896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6843600" y="3389400"/>
              <a:ext cx="11160" cy="4896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6854760" y="3389400"/>
              <a:ext cx="12600" cy="489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6702480" y="3389400"/>
              <a:ext cx="152280" cy="3636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74" y="23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74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6819840" y="3341520"/>
              <a:ext cx="11160" cy="9684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6831000" y="3341520"/>
              <a:ext cx="12600" cy="968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6843600" y="3341520"/>
              <a:ext cx="11160" cy="968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6854760" y="3341520"/>
              <a:ext cx="12600" cy="968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6819840" y="334152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0" y="53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30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6702480" y="3365640"/>
              <a:ext cx="11160" cy="60120"/>
            </a:xfrm>
            <a:prstGeom prst="rect">
              <a:avLst/>
            </a:prstGeom>
            <a:solidFill>
              <a:srgbClr val="ffff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6713640" y="3365640"/>
              <a:ext cx="11160" cy="6012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6724800" y="3365640"/>
              <a:ext cx="12600" cy="60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6737400" y="3365640"/>
              <a:ext cx="11160" cy="6012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6748560" y="3365640"/>
              <a:ext cx="12600" cy="601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6761160" y="3365640"/>
              <a:ext cx="11160" cy="601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6772320" y="3365640"/>
              <a:ext cx="12600" cy="6012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6784920" y="3365640"/>
              <a:ext cx="11160" cy="60120"/>
            </a:xfrm>
            <a:prstGeom prst="rect">
              <a:avLst/>
            </a:prstGeom>
            <a:solidFill>
              <a:srgbClr val="fff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6796080" y="3365640"/>
              <a:ext cx="11160" cy="6012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6807240" y="3365640"/>
              <a:ext cx="12600" cy="60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6702480" y="3365640"/>
              <a:ext cx="117360" cy="60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6702480" y="3341520"/>
              <a:ext cx="11160" cy="349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6713640" y="3341520"/>
              <a:ext cx="1116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6724800" y="3341520"/>
              <a:ext cx="1260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6737400" y="3341520"/>
              <a:ext cx="1116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6748560" y="3341520"/>
              <a:ext cx="1260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6761160" y="3341520"/>
              <a:ext cx="111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6772320" y="3341520"/>
              <a:ext cx="1260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6784920" y="3341520"/>
              <a:ext cx="11160" cy="349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8" name=""/>
          <p:cNvGrpSpPr/>
          <p:nvPr/>
        </p:nvGrpSpPr>
        <p:grpSpPr>
          <a:xfrm>
            <a:off x="6702480" y="3122640"/>
            <a:ext cx="695160" cy="2232000"/>
            <a:chOff x="6702480" y="3122640"/>
            <a:chExt cx="695160" cy="2232000"/>
          </a:xfrm>
        </p:grpSpPr>
        <p:sp>
          <p:nvSpPr>
            <p:cNvPr id="2709" name=""/>
            <p:cNvSpPr/>
            <p:nvPr/>
          </p:nvSpPr>
          <p:spPr>
            <a:xfrm>
              <a:off x="6796080" y="3341520"/>
              <a:ext cx="11160" cy="349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6807240" y="3341520"/>
              <a:ext cx="12600" cy="349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6819840" y="3341520"/>
              <a:ext cx="11160" cy="349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6831000" y="3341520"/>
              <a:ext cx="12600" cy="349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6843600" y="3341520"/>
              <a:ext cx="11160" cy="349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6854760" y="3341520"/>
              <a:ext cx="12600" cy="349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6702480" y="3341520"/>
              <a:ext cx="152280" cy="2412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74" y="15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4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6819840" y="3268800"/>
              <a:ext cx="11160" cy="1076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6831000" y="3268800"/>
              <a:ext cx="12600" cy="107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6843600" y="3268800"/>
              <a:ext cx="11160" cy="107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6854760" y="3268800"/>
              <a:ext cx="12600" cy="1076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6819840" y="3268800"/>
              <a:ext cx="34920" cy="96840"/>
            </a:xfrm>
            <a:custGeom>
              <a:avLst/>
              <a:gdLst/>
              <a:ahLst/>
              <a:rect l="l" t="t" r="r" b="b"/>
              <a:pathLst>
                <a:path w="22" h="61">
                  <a:moveTo>
                    <a:pt x="0" y="6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6"/>
                  </a:lnTo>
                  <a:lnTo>
                    <a:pt x="0" y="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6702480" y="3292560"/>
              <a:ext cx="11160" cy="7308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6713640" y="3292560"/>
              <a:ext cx="11160" cy="7308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6724800" y="3292560"/>
              <a:ext cx="12600" cy="7308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6737400" y="3292560"/>
              <a:ext cx="11160" cy="7308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6748560" y="3292560"/>
              <a:ext cx="12600" cy="730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6761160" y="3292560"/>
              <a:ext cx="11160" cy="730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6772320" y="3292560"/>
              <a:ext cx="12600" cy="7308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6784920" y="3292560"/>
              <a:ext cx="11160" cy="7308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6796080" y="3292560"/>
              <a:ext cx="11160" cy="7308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6807240" y="3292560"/>
              <a:ext cx="12600" cy="730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6702480" y="3292560"/>
              <a:ext cx="117360" cy="73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6702480" y="3268800"/>
              <a:ext cx="11160" cy="3636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6713640" y="3268800"/>
              <a:ext cx="11160" cy="363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6724800" y="3268800"/>
              <a:ext cx="12600" cy="363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6737400" y="3268800"/>
              <a:ext cx="11160" cy="3636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6748560" y="3268800"/>
              <a:ext cx="12600" cy="363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6761160" y="3268800"/>
              <a:ext cx="11160" cy="363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6772320" y="326880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6784920" y="32688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6796080" y="3268800"/>
              <a:ext cx="11160" cy="3636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6807240" y="3268800"/>
              <a:ext cx="12600" cy="3636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6819840" y="3268800"/>
              <a:ext cx="11160" cy="3636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6831000" y="3268800"/>
              <a:ext cx="12600" cy="3636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6843600" y="3268800"/>
              <a:ext cx="11160" cy="3636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6854760" y="3268800"/>
              <a:ext cx="1260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6702480" y="3268800"/>
              <a:ext cx="152280" cy="23760"/>
            </a:xfrm>
            <a:custGeom>
              <a:avLst/>
              <a:gdLst/>
              <a:ahLst/>
              <a:rect l="l" t="t" r="r" b="b"/>
              <a:pathLst>
                <a:path w="96" h="15">
                  <a:moveTo>
                    <a:pt x="74" y="15"/>
                  </a:moveTo>
                  <a:lnTo>
                    <a:pt x="96" y="0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74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7078680" y="3898800"/>
              <a:ext cx="12600" cy="14558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7091280" y="3898800"/>
              <a:ext cx="11160" cy="14558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7102440" y="3898800"/>
              <a:ext cx="12600" cy="14558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7115040" y="3898800"/>
              <a:ext cx="11160" cy="14558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7078680" y="3898800"/>
              <a:ext cx="36360" cy="1444680"/>
            </a:xfrm>
            <a:custGeom>
              <a:avLst/>
              <a:gdLst/>
              <a:ahLst/>
              <a:rect l="l" t="t" r="r" b="b"/>
              <a:pathLst>
                <a:path w="23" h="910">
                  <a:moveTo>
                    <a:pt x="0" y="910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23" y="894"/>
                  </a:lnTo>
                  <a:lnTo>
                    <a:pt x="0" y="91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6972480" y="3935520"/>
              <a:ext cx="12600" cy="14079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6985080" y="3935520"/>
              <a:ext cx="11160" cy="14079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6996240" y="3935520"/>
              <a:ext cx="12600" cy="14079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7008840" y="3935520"/>
              <a:ext cx="11160" cy="14079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7020000" y="3935520"/>
              <a:ext cx="12600" cy="14079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7032600" y="3935520"/>
              <a:ext cx="11160" cy="14079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7043760" y="3935520"/>
              <a:ext cx="11160" cy="14079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7054920" y="3935520"/>
              <a:ext cx="12600" cy="14079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7067520" y="3935520"/>
              <a:ext cx="11160" cy="14079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6972480" y="3935520"/>
              <a:ext cx="106200" cy="1407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6972480" y="3898800"/>
              <a:ext cx="12600" cy="493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6985080" y="3898800"/>
              <a:ext cx="1116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6996240" y="3898800"/>
              <a:ext cx="1260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7008840" y="3898800"/>
              <a:ext cx="1116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7020000" y="3898800"/>
              <a:ext cx="1260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7032600" y="3898800"/>
              <a:ext cx="11160" cy="493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7043760" y="3898800"/>
              <a:ext cx="1116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7054920" y="3898800"/>
              <a:ext cx="12600" cy="493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7067520" y="3898800"/>
              <a:ext cx="11160" cy="493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7078680" y="3898800"/>
              <a:ext cx="12600" cy="493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7091280" y="3898800"/>
              <a:ext cx="11160" cy="493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7102440" y="3898800"/>
              <a:ext cx="12600" cy="493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7115040" y="3898800"/>
              <a:ext cx="11160" cy="493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6972480" y="3898800"/>
              <a:ext cx="142560" cy="3672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67" y="23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7078680" y="3438360"/>
              <a:ext cx="12600" cy="50976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7091280" y="3438360"/>
              <a:ext cx="11160" cy="5097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7102440" y="3438360"/>
              <a:ext cx="12600" cy="50976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7115040" y="3438360"/>
              <a:ext cx="11160" cy="5097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7078680" y="3438360"/>
              <a:ext cx="36360" cy="497160"/>
            </a:xfrm>
            <a:custGeom>
              <a:avLst/>
              <a:gdLst/>
              <a:ahLst/>
              <a:rect l="l" t="t" r="r" b="b"/>
              <a:pathLst>
                <a:path w="23" h="313">
                  <a:moveTo>
                    <a:pt x="0" y="313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23" y="290"/>
                  </a:lnTo>
                  <a:lnTo>
                    <a:pt x="0" y="31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6972480" y="3475080"/>
              <a:ext cx="12600" cy="4604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6985080" y="3475080"/>
              <a:ext cx="11160" cy="4604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6996240" y="3475080"/>
              <a:ext cx="12600" cy="4604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7008840" y="3475080"/>
              <a:ext cx="11160" cy="4604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7020000" y="3475080"/>
              <a:ext cx="12600" cy="4604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7032600" y="3475080"/>
              <a:ext cx="11160" cy="4604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7043760" y="3475080"/>
              <a:ext cx="11160" cy="4604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7054920" y="3475080"/>
              <a:ext cx="12600" cy="4604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7067520" y="3475080"/>
              <a:ext cx="11160" cy="460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6972480" y="3475080"/>
              <a:ext cx="106200" cy="4604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6972480" y="3438360"/>
              <a:ext cx="12600" cy="4788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6985080" y="3438360"/>
              <a:ext cx="1116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6996240" y="3438360"/>
              <a:ext cx="1260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7008840" y="3438360"/>
              <a:ext cx="1116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7020000" y="3438360"/>
              <a:ext cx="1260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7032600" y="3438360"/>
              <a:ext cx="11160" cy="4788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7043760" y="343836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7054920" y="3438360"/>
              <a:ext cx="1260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7067520" y="3438360"/>
              <a:ext cx="11160" cy="4788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7078680" y="3438360"/>
              <a:ext cx="12600" cy="4788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7091280" y="3438360"/>
              <a:ext cx="11160" cy="4788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7102440" y="3438360"/>
              <a:ext cx="12600" cy="4788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7115040" y="3438360"/>
              <a:ext cx="1116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6972480" y="3438360"/>
              <a:ext cx="142560" cy="3672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67" y="23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7078680" y="3243240"/>
              <a:ext cx="12600" cy="24300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7091280" y="3243240"/>
              <a:ext cx="11160" cy="2430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7102440" y="3243240"/>
              <a:ext cx="12600" cy="2430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7115040" y="3243240"/>
              <a:ext cx="11160" cy="24300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7078680" y="3243240"/>
              <a:ext cx="36360" cy="231840"/>
            </a:xfrm>
            <a:custGeom>
              <a:avLst/>
              <a:gdLst/>
              <a:ahLst/>
              <a:rect l="l" t="t" r="r" b="b"/>
              <a:pathLst>
                <a:path w="23" h="146">
                  <a:moveTo>
                    <a:pt x="0" y="146"/>
                  </a:moveTo>
                  <a:lnTo>
                    <a:pt x="0" y="16"/>
                  </a:lnTo>
                  <a:lnTo>
                    <a:pt x="23" y="0"/>
                  </a:lnTo>
                  <a:lnTo>
                    <a:pt x="23" y="123"/>
                  </a:lnTo>
                  <a:lnTo>
                    <a:pt x="0" y="1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6972480" y="3268800"/>
              <a:ext cx="12600" cy="20628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6985080" y="3268800"/>
              <a:ext cx="11160" cy="2062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6996240" y="3268800"/>
              <a:ext cx="12600" cy="2062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7008840" y="3268800"/>
              <a:ext cx="11160" cy="20628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7020000" y="3268800"/>
              <a:ext cx="12600" cy="2062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7032600" y="3268800"/>
              <a:ext cx="11160" cy="2062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7043760" y="3268800"/>
              <a:ext cx="11160" cy="2062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7054920" y="3268800"/>
              <a:ext cx="12600" cy="2062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7067520" y="3268800"/>
              <a:ext cx="11160" cy="2062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6972480" y="3268800"/>
              <a:ext cx="106200" cy="206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6972480" y="3243240"/>
              <a:ext cx="12600" cy="3636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6985080" y="3243240"/>
              <a:ext cx="1116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6996240" y="3243240"/>
              <a:ext cx="1260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7008840" y="3243240"/>
              <a:ext cx="1116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7020000" y="3243240"/>
              <a:ext cx="1260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7032600" y="3243240"/>
              <a:ext cx="11160" cy="3636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7043760" y="3243240"/>
              <a:ext cx="1116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7054920" y="3243240"/>
              <a:ext cx="12600" cy="3636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7067520" y="3243240"/>
              <a:ext cx="11160" cy="3636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7078680" y="3243240"/>
              <a:ext cx="12600" cy="3636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7091280" y="3243240"/>
              <a:ext cx="11160" cy="3636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7102440" y="3243240"/>
              <a:ext cx="12600" cy="3636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7115040" y="3243240"/>
              <a:ext cx="11160" cy="3636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6972480" y="3243240"/>
              <a:ext cx="142560" cy="25560"/>
            </a:xfrm>
            <a:custGeom>
              <a:avLst/>
              <a:gdLst/>
              <a:ahLst/>
              <a:rect l="l" t="t" r="r" b="b"/>
              <a:pathLst>
                <a:path w="90" h="16">
                  <a:moveTo>
                    <a:pt x="67" y="16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7078680" y="3182760"/>
              <a:ext cx="12600" cy="9684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7091280" y="3182760"/>
              <a:ext cx="11160" cy="968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7102440" y="3182760"/>
              <a:ext cx="12600" cy="968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7115040" y="3182760"/>
              <a:ext cx="11160" cy="968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7078680" y="3182760"/>
              <a:ext cx="36360" cy="86040"/>
            </a:xfrm>
            <a:custGeom>
              <a:avLst/>
              <a:gdLst/>
              <a:ahLst/>
              <a:rect l="l" t="t" r="r" b="b"/>
              <a:pathLst>
                <a:path w="23" h="54">
                  <a:moveTo>
                    <a:pt x="0" y="54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23" y="38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6972480" y="3219480"/>
              <a:ext cx="12600" cy="4932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6985080" y="3219480"/>
              <a:ext cx="11160" cy="493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6996240" y="3219480"/>
              <a:ext cx="12600" cy="493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7008840" y="3219480"/>
              <a:ext cx="11160" cy="4932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7020000" y="3219480"/>
              <a:ext cx="12600" cy="493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7032600" y="3219480"/>
              <a:ext cx="11160" cy="493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7043760" y="3219480"/>
              <a:ext cx="11160" cy="493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7054920" y="3219480"/>
              <a:ext cx="12600" cy="493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7067520" y="3219480"/>
              <a:ext cx="11160" cy="49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6972480" y="3219480"/>
              <a:ext cx="106200" cy="493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6972480" y="3182760"/>
              <a:ext cx="12600" cy="493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6985080" y="3182760"/>
              <a:ext cx="11160" cy="493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6996240" y="3182760"/>
              <a:ext cx="12600" cy="493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7008840" y="3182760"/>
              <a:ext cx="11160" cy="493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7020000" y="3182760"/>
              <a:ext cx="12600" cy="493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7032600" y="3182760"/>
              <a:ext cx="11160" cy="493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7043760" y="3182760"/>
              <a:ext cx="11160" cy="493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7054920" y="3182760"/>
              <a:ext cx="12600" cy="493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7067520" y="3182760"/>
              <a:ext cx="11160" cy="493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7078680" y="3182760"/>
              <a:ext cx="12600" cy="493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7091280" y="3182760"/>
              <a:ext cx="11160" cy="493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7102440" y="3182760"/>
              <a:ext cx="12600" cy="493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7115040" y="3182760"/>
              <a:ext cx="11160" cy="493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6972480" y="3182760"/>
              <a:ext cx="142560" cy="3672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67" y="23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7078680" y="3122640"/>
              <a:ext cx="12600" cy="1094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7091280" y="3122640"/>
              <a:ext cx="11160" cy="1094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7102440" y="3122640"/>
              <a:ext cx="12600" cy="1094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7115040" y="3122640"/>
              <a:ext cx="11160" cy="1094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7078680" y="3122640"/>
              <a:ext cx="36360" cy="96840"/>
            </a:xfrm>
            <a:custGeom>
              <a:avLst/>
              <a:gdLst/>
              <a:ahLst/>
              <a:rect l="l" t="t" r="r" b="b"/>
              <a:pathLst>
                <a:path w="23" h="61">
                  <a:moveTo>
                    <a:pt x="0" y="61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38"/>
                  </a:lnTo>
                  <a:lnTo>
                    <a:pt x="0" y="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6972480" y="3146400"/>
              <a:ext cx="12600" cy="7308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6985080" y="3146400"/>
              <a:ext cx="11160" cy="730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6996240" y="3146400"/>
              <a:ext cx="12600" cy="730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7008840" y="3146400"/>
              <a:ext cx="11160" cy="7308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020000" y="3146400"/>
              <a:ext cx="12600" cy="730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7032600" y="3146400"/>
              <a:ext cx="11160" cy="7308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7043760" y="3146400"/>
              <a:ext cx="11160" cy="7308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7054920" y="3146400"/>
              <a:ext cx="12600" cy="7308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7067520" y="3146400"/>
              <a:ext cx="11160" cy="730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6972480" y="3146400"/>
              <a:ext cx="106200" cy="73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6972480" y="3122640"/>
              <a:ext cx="1260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6985080" y="312264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6996240" y="312264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7008840" y="312264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7020000" y="3122640"/>
              <a:ext cx="126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7032600" y="3122640"/>
              <a:ext cx="111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7043760" y="312264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7054920" y="312264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7067520" y="312264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7078680" y="312264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7091280" y="312264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7102440" y="312264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7115040" y="312264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6972480" y="3122640"/>
              <a:ext cx="14256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7350120" y="3851280"/>
              <a:ext cx="12600" cy="150336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7362720" y="3851280"/>
              <a:ext cx="11160" cy="15033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7373880" y="3851280"/>
              <a:ext cx="12600" cy="15033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7386480" y="3851280"/>
              <a:ext cx="11160" cy="15033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7350120" y="3851280"/>
              <a:ext cx="36360" cy="1492200"/>
            </a:xfrm>
            <a:custGeom>
              <a:avLst/>
              <a:gdLst/>
              <a:ahLst/>
              <a:rect l="l" t="t" r="r" b="b"/>
              <a:pathLst>
                <a:path w="23" h="940">
                  <a:moveTo>
                    <a:pt x="0" y="940"/>
                  </a:moveTo>
                  <a:lnTo>
                    <a:pt x="0" y="22"/>
                  </a:lnTo>
                  <a:lnTo>
                    <a:pt x="23" y="0"/>
                  </a:lnTo>
                  <a:lnTo>
                    <a:pt x="23" y="924"/>
                  </a:lnTo>
                  <a:lnTo>
                    <a:pt x="0" y="94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7243920" y="3886200"/>
              <a:ext cx="12600" cy="145728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7256520" y="3886200"/>
              <a:ext cx="11160" cy="14572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7267680" y="3886200"/>
              <a:ext cx="12600" cy="14572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7280280" y="3886200"/>
              <a:ext cx="11160" cy="145728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7291440" y="3886200"/>
              <a:ext cx="12600" cy="14572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7304040" y="3886200"/>
              <a:ext cx="11160" cy="14572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7315200" y="3886200"/>
              <a:ext cx="11160" cy="145728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7326360" y="3886200"/>
              <a:ext cx="12600" cy="145728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7338960" y="3886200"/>
              <a:ext cx="11160" cy="14572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7243920" y="3886200"/>
              <a:ext cx="106200" cy="1457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7243920" y="3851280"/>
              <a:ext cx="12600" cy="475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7256520" y="3851280"/>
              <a:ext cx="1116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9" name=""/>
          <p:cNvGrpSpPr/>
          <p:nvPr/>
        </p:nvGrpSpPr>
        <p:grpSpPr>
          <a:xfrm>
            <a:off x="7243920" y="2759040"/>
            <a:ext cx="414360" cy="2595600"/>
            <a:chOff x="7243920" y="2759040"/>
            <a:chExt cx="414360" cy="2595600"/>
          </a:xfrm>
        </p:grpSpPr>
        <p:sp>
          <p:nvSpPr>
            <p:cNvPr id="2910" name=""/>
            <p:cNvSpPr/>
            <p:nvPr/>
          </p:nvSpPr>
          <p:spPr>
            <a:xfrm>
              <a:off x="7267680" y="3851280"/>
              <a:ext cx="1260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7280280" y="3851280"/>
              <a:ext cx="1116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7291440" y="3851280"/>
              <a:ext cx="1260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7304040" y="3851280"/>
              <a:ext cx="11160" cy="475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7315200" y="3851280"/>
              <a:ext cx="1116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7326360" y="3851280"/>
              <a:ext cx="12600" cy="475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7338960" y="3851280"/>
              <a:ext cx="11160" cy="475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7350120" y="3851280"/>
              <a:ext cx="12600" cy="475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7362720" y="3851280"/>
              <a:ext cx="11160" cy="475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7373880" y="3851280"/>
              <a:ext cx="12600" cy="475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7386480" y="3851280"/>
              <a:ext cx="11160" cy="475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7243920" y="3851280"/>
              <a:ext cx="142560" cy="34920"/>
            </a:xfrm>
            <a:custGeom>
              <a:avLst/>
              <a:gdLst/>
              <a:ahLst/>
              <a:rect l="l" t="t" r="r" b="b"/>
              <a:pathLst>
                <a:path w="90" h="22">
                  <a:moveTo>
                    <a:pt x="67" y="22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2"/>
                  </a:lnTo>
                  <a:lnTo>
                    <a:pt x="67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7350120" y="3352680"/>
              <a:ext cx="12600" cy="5461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7362720" y="3352680"/>
              <a:ext cx="11160" cy="5461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7373880" y="3352680"/>
              <a:ext cx="12600" cy="5461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7386480" y="3352680"/>
              <a:ext cx="11160" cy="5461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7350120" y="3352680"/>
              <a:ext cx="36360" cy="533520"/>
            </a:xfrm>
            <a:custGeom>
              <a:avLst/>
              <a:gdLst/>
              <a:ahLst/>
              <a:rect l="l" t="t" r="r" b="b"/>
              <a:pathLst>
                <a:path w="23" h="336">
                  <a:moveTo>
                    <a:pt x="0" y="336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314"/>
                  </a:lnTo>
                  <a:lnTo>
                    <a:pt x="0" y="33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7243920" y="3376440"/>
              <a:ext cx="12600" cy="5097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7256520" y="3376440"/>
              <a:ext cx="11160" cy="509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7267680" y="3376440"/>
              <a:ext cx="12600" cy="509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7280280" y="3376440"/>
              <a:ext cx="11160" cy="5097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7291440" y="3376440"/>
              <a:ext cx="12600" cy="509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7304040" y="3376440"/>
              <a:ext cx="11160" cy="5097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7315200" y="3376440"/>
              <a:ext cx="11160" cy="5097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7326360" y="3376440"/>
              <a:ext cx="12600" cy="5097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7338960" y="3376440"/>
              <a:ext cx="11160" cy="509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7243920" y="3376440"/>
              <a:ext cx="106200" cy="509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7243920" y="3352680"/>
              <a:ext cx="12600" cy="367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7256520" y="3352680"/>
              <a:ext cx="1116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7267680" y="3352680"/>
              <a:ext cx="1260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7280280" y="3352680"/>
              <a:ext cx="1116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7291440" y="3352680"/>
              <a:ext cx="1260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7304040" y="3352680"/>
              <a:ext cx="11160" cy="367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7315200" y="3352680"/>
              <a:ext cx="1116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7326360" y="3352680"/>
              <a:ext cx="12600" cy="367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7338960" y="3352680"/>
              <a:ext cx="11160" cy="367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7350120" y="3352680"/>
              <a:ext cx="12600" cy="367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7362720" y="3352680"/>
              <a:ext cx="11160" cy="367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7373880" y="3352680"/>
              <a:ext cx="12600" cy="367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7386480" y="3352680"/>
              <a:ext cx="11160" cy="367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7243920" y="3352680"/>
              <a:ext cx="14256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7350120" y="3219480"/>
              <a:ext cx="12600" cy="16992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7362720" y="3219480"/>
              <a:ext cx="11160" cy="1699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7373880" y="3219480"/>
              <a:ext cx="12600" cy="16992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7386480" y="3219480"/>
              <a:ext cx="11160" cy="16992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7350120" y="3219480"/>
              <a:ext cx="36360" cy="156960"/>
            </a:xfrm>
            <a:custGeom>
              <a:avLst/>
              <a:gdLst/>
              <a:ahLst/>
              <a:rect l="l" t="t" r="r" b="b"/>
              <a:pathLst>
                <a:path w="23" h="99">
                  <a:moveTo>
                    <a:pt x="0" y="99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23" y="84"/>
                  </a:lnTo>
                  <a:lnTo>
                    <a:pt x="0" y="9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7243920" y="3255840"/>
              <a:ext cx="12600" cy="12060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7256520" y="3255840"/>
              <a:ext cx="11160" cy="1206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7267680" y="3255840"/>
              <a:ext cx="12600" cy="1206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7280280" y="3255840"/>
              <a:ext cx="11160" cy="12060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7291440" y="3255840"/>
              <a:ext cx="12600" cy="120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7304040" y="3255840"/>
              <a:ext cx="11160" cy="12060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7315200" y="3255840"/>
              <a:ext cx="11160" cy="12060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7326360" y="3255840"/>
              <a:ext cx="12600" cy="12060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7338960" y="3255840"/>
              <a:ext cx="11160" cy="120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7243920" y="3255840"/>
              <a:ext cx="106200" cy="120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7243920" y="3219480"/>
              <a:ext cx="12600" cy="493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7256520" y="3219480"/>
              <a:ext cx="11160" cy="493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7267680" y="3219480"/>
              <a:ext cx="12600" cy="493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7280280" y="3219480"/>
              <a:ext cx="11160" cy="493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7291440" y="3219480"/>
              <a:ext cx="12600" cy="493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7304040" y="3219480"/>
              <a:ext cx="11160" cy="493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7315200" y="3219480"/>
              <a:ext cx="1116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7326360" y="3219480"/>
              <a:ext cx="12600" cy="493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7338960" y="3219480"/>
              <a:ext cx="11160" cy="493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7350120" y="3219480"/>
              <a:ext cx="12600" cy="493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7362720" y="3219480"/>
              <a:ext cx="11160" cy="493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7373880" y="3219480"/>
              <a:ext cx="12600" cy="493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7386480" y="3219480"/>
              <a:ext cx="11160" cy="493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7243920" y="3219480"/>
              <a:ext cx="142560" cy="3636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67" y="23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7350120" y="3159000"/>
              <a:ext cx="12600" cy="1098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7362720" y="3159000"/>
              <a:ext cx="11160" cy="1098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7373880" y="3159000"/>
              <a:ext cx="12600" cy="1098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7386480" y="3159000"/>
              <a:ext cx="11160" cy="1098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7350120" y="3159000"/>
              <a:ext cx="36360" cy="96840"/>
            </a:xfrm>
            <a:custGeom>
              <a:avLst/>
              <a:gdLst/>
              <a:ahLst/>
              <a:rect l="l" t="t" r="r" b="b"/>
              <a:pathLst>
                <a:path w="23" h="61">
                  <a:moveTo>
                    <a:pt x="0" y="61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23" y="38"/>
                  </a:lnTo>
                  <a:lnTo>
                    <a:pt x="0" y="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7243920" y="3195720"/>
              <a:ext cx="12600" cy="6012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7256520" y="3195720"/>
              <a:ext cx="11160" cy="601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7267680" y="3195720"/>
              <a:ext cx="12600" cy="601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7280280" y="3195720"/>
              <a:ext cx="11160" cy="6012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7291440" y="3195720"/>
              <a:ext cx="12600" cy="601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7304040" y="3195720"/>
              <a:ext cx="11160" cy="6012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7315200" y="3195720"/>
              <a:ext cx="11160" cy="6012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7326360" y="3195720"/>
              <a:ext cx="12600" cy="6012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7338960" y="3195720"/>
              <a:ext cx="11160" cy="60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7243920" y="3195720"/>
              <a:ext cx="106200" cy="60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7243920" y="3159000"/>
              <a:ext cx="12600" cy="4788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7256520" y="3159000"/>
              <a:ext cx="11160" cy="4788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7267680" y="3159000"/>
              <a:ext cx="12600" cy="4788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7280280" y="3159000"/>
              <a:ext cx="11160" cy="4788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7291440" y="3159000"/>
              <a:ext cx="12600" cy="4788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7304040" y="3159000"/>
              <a:ext cx="11160" cy="4788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7315200" y="3159000"/>
              <a:ext cx="11160" cy="4788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7326360" y="3159000"/>
              <a:ext cx="12600" cy="4788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7338960" y="3159000"/>
              <a:ext cx="11160" cy="4788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7350120" y="3159000"/>
              <a:ext cx="12600" cy="4788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7362720" y="3159000"/>
              <a:ext cx="11160" cy="4788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7373880" y="3159000"/>
              <a:ext cx="12600" cy="4788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7386480" y="3159000"/>
              <a:ext cx="11160" cy="4788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7243920" y="3159000"/>
              <a:ext cx="142560" cy="3672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67" y="23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7350120" y="3122640"/>
              <a:ext cx="12600" cy="842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7362720" y="3122640"/>
              <a:ext cx="11160" cy="842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7373880" y="3122640"/>
              <a:ext cx="12600" cy="842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7386480" y="3122640"/>
              <a:ext cx="11160" cy="842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7350120" y="3122640"/>
              <a:ext cx="36360" cy="7308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0" y="46"/>
                  </a:moveTo>
                  <a:lnTo>
                    <a:pt x="0" y="15"/>
                  </a:lnTo>
                  <a:lnTo>
                    <a:pt x="23" y="0"/>
                  </a:lnTo>
                  <a:lnTo>
                    <a:pt x="23" y="23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7243920" y="3146400"/>
              <a:ext cx="12600" cy="4932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7256520" y="3146400"/>
              <a:ext cx="11160" cy="4932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7267680" y="3146400"/>
              <a:ext cx="12600" cy="4932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7280280" y="3146400"/>
              <a:ext cx="11160" cy="4932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7291440" y="3146400"/>
              <a:ext cx="12600" cy="493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7304040" y="3146400"/>
              <a:ext cx="11160" cy="493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7315200" y="3146400"/>
              <a:ext cx="11160" cy="4932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7326360" y="3146400"/>
              <a:ext cx="12600" cy="4932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7338960" y="3146400"/>
              <a:ext cx="11160" cy="493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7243920" y="3146400"/>
              <a:ext cx="106200" cy="493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7243920" y="3122640"/>
              <a:ext cx="1260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7256520" y="312264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7267680" y="312264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7280280" y="312264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7291440" y="3122640"/>
              <a:ext cx="126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7304040" y="3122640"/>
              <a:ext cx="1116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7315200" y="312264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7326360" y="3122640"/>
              <a:ext cx="1260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7338960" y="312264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7350120" y="312264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7362720" y="312264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7373880" y="312264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7386480" y="3122640"/>
              <a:ext cx="111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7243920" y="3122640"/>
              <a:ext cx="142560" cy="23760"/>
            </a:xfrm>
            <a:custGeom>
              <a:avLst/>
              <a:gdLst/>
              <a:ahLst/>
              <a:rect l="l" t="t" r="r" b="b"/>
              <a:pathLst>
                <a:path w="90" h="15">
                  <a:moveTo>
                    <a:pt x="67" y="15"/>
                  </a:moveTo>
                  <a:lnTo>
                    <a:pt x="90" y="0"/>
                  </a:lnTo>
                  <a:lnTo>
                    <a:pt x="23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7610400" y="3535200"/>
              <a:ext cx="11160" cy="181944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7621560" y="3535200"/>
              <a:ext cx="12600" cy="1819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7634160" y="3535200"/>
              <a:ext cx="11160" cy="181944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7645320" y="3535200"/>
              <a:ext cx="12960" cy="18194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7610400" y="3535200"/>
              <a:ext cx="34920" cy="1808280"/>
            </a:xfrm>
            <a:custGeom>
              <a:avLst/>
              <a:gdLst/>
              <a:ahLst/>
              <a:rect l="l" t="t" r="r" b="b"/>
              <a:pathLst>
                <a:path w="22" h="1139">
                  <a:moveTo>
                    <a:pt x="0" y="1139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123"/>
                  </a:lnTo>
                  <a:lnTo>
                    <a:pt x="0" y="113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7504200" y="3559320"/>
              <a:ext cx="11160" cy="17841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7515360" y="3559320"/>
              <a:ext cx="12600" cy="17841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7527960" y="3559320"/>
              <a:ext cx="11160" cy="17841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7539120" y="3559320"/>
              <a:ext cx="12600" cy="17841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7551720" y="3559320"/>
              <a:ext cx="11160" cy="17841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7562880" y="3559320"/>
              <a:ext cx="12600" cy="17841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7575480" y="3559320"/>
              <a:ext cx="11160" cy="17841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7586640" y="3559320"/>
              <a:ext cx="11160" cy="17841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7597800" y="3559320"/>
              <a:ext cx="12600" cy="17841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7504200" y="3559320"/>
              <a:ext cx="106200" cy="1784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7504200" y="3535200"/>
              <a:ext cx="1116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7515360" y="3535200"/>
              <a:ext cx="1260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7527960" y="3535200"/>
              <a:ext cx="1116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7539120" y="3535200"/>
              <a:ext cx="1260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7551720" y="3535200"/>
              <a:ext cx="1116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7562880" y="3535200"/>
              <a:ext cx="12600" cy="3672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7575480" y="353520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7586640" y="353520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7597800" y="3535200"/>
              <a:ext cx="12600" cy="3672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7610400" y="3535200"/>
              <a:ext cx="11160" cy="3672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7621560" y="3535200"/>
              <a:ext cx="12600" cy="3672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7634160" y="3535200"/>
              <a:ext cx="11160" cy="3672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7645320" y="3535200"/>
              <a:ext cx="1296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7504200" y="3535200"/>
              <a:ext cx="141120" cy="2412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7610400" y="2940120"/>
              <a:ext cx="11160" cy="63180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7621560" y="2940120"/>
              <a:ext cx="12600" cy="6318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7634160" y="2940120"/>
              <a:ext cx="11160" cy="6318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7645320" y="2940120"/>
              <a:ext cx="12960" cy="6318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7610400" y="2940120"/>
              <a:ext cx="34920" cy="619200"/>
            </a:xfrm>
            <a:custGeom>
              <a:avLst/>
              <a:gdLst/>
              <a:ahLst/>
              <a:rect l="l" t="t" r="r" b="b"/>
              <a:pathLst>
                <a:path w="22" h="390">
                  <a:moveTo>
                    <a:pt x="0" y="390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375"/>
                  </a:lnTo>
                  <a:lnTo>
                    <a:pt x="0" y="39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7504200" y="2976480"/>
              <a:ext cx="11160" cy="58284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7515360" y="2976480"/>
              <a:ext cx="12600" cy="5828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7527960" y="2976480"/>
              <a:ext cx="11160" cy="5828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7539120" y="2976480"/>
              <a:ext cx="12600" cy="58284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7551720" y="2976480"/>
              <a:ext cx="11160" cy="5828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7562880" y="2976480"/>
              <a:ext cx="12600" cy="58284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7575480" y="2976480"/>
              <a:ext cx="11160" cy="58284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7586640" y="2976480"/>
              <a:ext cx="11160" cy="58284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7597800" y="2976480"/>
              <a:ext cx="12600" cy="582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7504200" y="2976480"/>
              <a:ext cx="106200" cy="582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7504200" y="2940120"/>
              <a:ext cx="11160" cy="493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7515360" y="2940120"/>
              <a:ext cx="1260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7527960" y="2940120"/>
              <a:ext cx="1116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7539120" y="2940120"/>
              <a:ext cx="1260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7551720" y="2940120"/>
              <a:ext cx="1116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7562880" y="2940120"/>
              <a:ext cx="12600" cy="493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7575480" y="294012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7586640" y="2940120"/>
              <a:ext cx="11160" cy="493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7597800" y="2940120"/>
              <a:ext cx="12600" cy="493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7610400" y="2940120"/>
              <a:ext cx="11160" cy="493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7621560" y="2940120"/>
              <a:ext cx="12600" cy="493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7634160" y="2940120"/>
              <a:ext cx="11160" cy="493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7645320" y="2940120"/>
              <a:ext cx="12960" cy="493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7504200" y="2940120"/>
              <a:ext cx="141120" cy="36360"/>
            </a:xfrm>
            <a:custGeom>
              <a:avLst/>
              <a:gdLst/>
              <a:ahLst/>
              <a:rect l="l" t="t" r="r" b="b"/>
              <a:pathLst>
                <a:path w="89" h="23">
                  <a:moveTo>
                    <a:pt x="67" y="23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67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7610400" y="2759040"/>
              <a:ext cx="11160" cy="23040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7621560" y="2759040"/>
              <a:ext cx="12600" cy="2304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7634160" y="2759040"/>
              <a:ext cx="11160" cy="23040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7645320" y="2759040"/>
              <a:ext cx="12960" cy="23040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7610400" y="2759040"/>
              <a:ext cx="34920" cy="217440"/>
            </a:xfrm>
            <a:custGeom>
              <a:avLst/>
              <a:gdLst/>
              <a:ahLst/>
              <a:rect l="l" t="t" r="r" b="b"/>
              <a:pathLst>
                <a:path w="22" h="137">
                  <a:moveTo>
                    <a:pt x="0" y="137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14"/>
                  </a:lnTo>
                  <a:lnTo>
                    <a:pt x="0" y="13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7504200" y="2782800"/>
              <a:ext cx="11160" cy="19368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7515360" y="2782800"/>
              <a:ext cx="12600" cy="1936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7527960" y="2782800"/>
              <a:ext cx="11160" cy="1936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7539120" y="2782800"/>
              <a:ext cx="12600" cy="19368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7551720" y="2782800"/>
              <a:ext cx="11160" cy="1936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7562880" y="2782800"/>
              <a:ext cx="12600" cy="19368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7575480" y="2782800"/>
              <a:ext cx="11160" cy="19368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7586640" y="2782800"/>
              <a:ext cx="11160" cy="19368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7597800" y="2782800"/>
              <a:ext cx="12600" cy="193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0" name=""/>
          <p:cNvGrpSpPr/>
          <p:nvPr/>
        </p:nvGrpSpPr>
        <p:grpSpPr>
          <a:xfrm>
            <a:off x="7504200" y="2492280"/>
            <a:ext cx="423720" cy="2862360"/>
            <a:chOff x="7504200" y="2492280"/>
            <a:chExt cx="423720" cy="2862360"/>
          </a:xfrm>
        </p:grpSpPr>
        <p:sp>
          <p:nvSpPr>
            <p:cNvPr id="3111" name=""/>
            <p:cNvSpPr/>
            <p:nvPr/>
          </p:nvSpPr>
          <p:spPr>
            <a:xfrm>
              <a:off x="7504200" y="2782800"/>
              <a:ext cx="106200" cy="193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7504200" y="2759040"/>
              <a:ext cx="1116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7515360" y="2759040"/>
              <a:ext cx="126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7527960" y="275904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7539120" y="2759040"/>
              <a:ext cx="1260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7551720" y="2759040"/>
              <a:ext cx="1116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7562880" y="2759040"/>
              <a:ext cx="1260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7575480" y="275904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7586640" y="275904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7597800" y="275904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7610400" y="275904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7621560" y="2759040"/>
              <a:ext cx="1260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7634160" y="2759040"/>
              <a:ext cx="111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7645320" y="2759040"/>
              <a:ext cx="1296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7504200" y="275904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7610400" y="2685960"/>
              <a:ext cx="11160" cy="1098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7621560" y="2685960"/>
              <a:ext cx="12600" cy="1098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7634160" y="2685960"/>
              <a:ext cx="11160" cy="1098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7645320" y="2685960"/>
              <a:ext cx="12960" cy="1098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7610400" y="2685960"/>
              <a:ext cx="34920" cy="96840"/>
            </a:xfrm>
            <a:custGeom>
              <a:avLst/>
              <a:gdLst/>
              <a:ahLst/>
              <a:rect l="l" t="t" r="r" b="b"/>
              <a:pathLst>
                <a:path w="22" h="61">
                  <a:moveTo>
                    <a:pt x="0" y="6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6"/>
                  </a:lnTo>
                  <a:lnTo>
                    <a:pt x="0" y="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7504200" y="2709720"/>
              <a:ext cx="11160" cy="7308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7515360" y="2709720"/>
              <a:ext cx="12600" cy="7308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7527960" y="2709720"/>
              <a:ext cx="11160" cy="7308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7539120" y="2709720"/>
              <a:ext cx="12600" cy="7308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7551720" y="2709720"/>
              <a:ext cx="11160" cy="730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7562880" y="2709720"/>
              <a:ext cx="12600" cy="730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7575480" y="2709720"/>
              <a:ext cx="11160" cy="7308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7586640" y="2709720"/>
              <a:ext cx="11160" cy="7308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7597800" y="2709720"/>
              <a:ext cx="12600" cy="73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7504200" y="2709720"/>
              <a:ext cx="106200" cy="73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7504200" y="2685960"/>
              <a:ext cx="11160" cy="367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7515360" y="2685960"/>
              <a:ext cx="1260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7527960" y="2685960"/>
              <a:ext cx="1116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7539120" y="2685960"/>
              <a:ext cx="1260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7551720" y="2685960"/>
              <a:ext cx="1116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7562880" y="2685960"/>
              <a:ext cx="12600" cy="367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7575480" y="268596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7586640" y="268596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7597800" y="2685960"/>
              <a:ext cx="1260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7610400" y="2685960"/>
              <a:ext cx="111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7621560" y="2685960"/>
              <a:ext cx="1260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7634160" y="2685960"/>
              <a:ext cx="1116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7645320" y="2685960"/>
              <a:ext cx="1296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7504200" y="268596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7610400" y="2637000"/>
              <a:ext cx="11160" cy="8568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7621560" y="2637000"/>
              <a:ext cx="12600" cy="856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7634160" y="2637000"/>
              <a:ext cx="11160" cy="8568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7645320" y="2637000"/>
              <a:ext cx="12960" cy="8568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7610400" y="2637000"/>
              <a:ext cx="34920" cy="7272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0" y="46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31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7504200" y="2662200"/>
              <a:ext cx="11160" cy="4752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7515360" y="2662200"/>
              <a:ext cx="12600" cy="4752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7527960" y="2662200"/>
              <a:ext cx="11160" cy="4752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7539120" y="2662200"/>
              <a:ext cx="12600" cy="4752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7551720" y="2662200"/>
              <a:ext cx="11160" cy="475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7562880" y="2662200"/>
              <a:ext cx="12600" cy="4752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7575480" y="2662200"/>
              <a:ext cx="11160" cy="4752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7586640" y="2662200"/>
              <a:ext cx="11160" cy="4752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7597800" y="2662200"/>
              <a:ext cx="12600" cy="475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7504200" y="2662200"/>
              <a:ext cx="106200" cy="47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7504200" y="2637000"/>
              <a:ext cx="11160" cy="3636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7515360" y="2637000"/>
              <a:ext cx="1260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7527960" y="2637000"/>
              <a:ext cx="1116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7539120" y="2637000"/>
              <a:ext cx="1260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7551720" y="2637000"/>
              <a:ext cx="1116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7562880" y="2637000"/>
              <a:ext cx="12600" cy="3636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7575480" y="26370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7586640" y="2637000"/>
              <a:ext cx="11160" cy="3636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7597800" y="2637000"/>
              <a:ext cx="12600" cy="3636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7610400" y="2637000"/>
              <a:ext cx="11160" cy="3636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7621560" y="2637000"/>
              <a:ext cx="12600" cy="3636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7634160" y="2637000"/>
              <a:ext cx="11160" cy="3636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7645320" y="2637000"/>
              <a:ext cx="12960" cy="3636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7504200" y="2637000"/>
              <a:ext cx="141120" cy="2520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7881840" y="3475080"/>
              <a:ext cx="11160" cy="187956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7893000" y="3475080"/>
              <a:ext cx="12600" cy="18795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7905600" y="3475080"/>
              <a:ext cx="11160" cy="187956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7916760" y="3475080"/>
              <a:ext cx="11160" cy="18795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7881840" y="3475080"/>
              <a:ext cx="34920" cy="1868400"/>
            </a:xfrm>
            <a:custGeom>
              <a:avLst/>
              <a:gdLst/>
              <a:ahLst/>
              <a:rect l="l" t="t" r="r" b="b"/>
              <a:pathLst>
                <a:path w="22" h="1177">
                  <a:moveTo>
                    <a:pt x="0" y="1177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161"/>
                  </a:lnTo>
                  <a:lnTo>
                    <a:pt x="0" y="117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7775640" y="3498840"/>
              <a:ext cx="11160" cy="184464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7786800" y="3498840"/>
              <a:ext cx="12600" cy="184464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7799400" y="3498840"/>
              <a:ext cx="11160" cy="184464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7810560" y="3498840"/>
              <a:ext cx="12600" cy="184464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7823160" y="3498840"/>
              <a:ext cx="11160" cy="184464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7834320" y="3498840"/>
              <a:ext cx="11160" cy="184464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7845480" y="3498840"/>
              <a:ext cx="12600" cy="184464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7858080" y="3498840"/>
              <a:ext cx="11160" cy="184464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7869240" y="3498840"/>
              <a:ext cx="12600" cy="18446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7775640" y="3498840"/>
              <a:ext cx="106200" cy="1844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7775640" y="3475080"/>
              <a:ext cx="11160" cy="363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7786800" y="3475080"/>
              <a:ext cx="1260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7799400" y="3475080"/>
              <a:ext cx="1116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7810560" y="3475080"/>
              <a:ext cx="1260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7823160" y="3475080"/>
              <a:ext cx="1116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7834320" y="3475080"/>
              <a:ext cx="11160" cy="363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7845480" y="3475080"/>
              <a:ext cx="1260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7858080" y="3475080"/>
              <a:ext cx="11160" cy="363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7869240" y="3475080"/>
              <a:ext cx="12600" cy="363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7881840" y="3475080"/>
              <a:ext cx="11160" cy="363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7893000" y="3475080"/>
              <a:ext cx="12600" cy="363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7905600" y="3475080"/>
              <a:ext cx="11160" cy="363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7916760" y="3475080"/>
              <a:ext cx="11160" cy="3636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7775640" y="347508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7881840" y="2832120"/>
              <a:ext cx="11160" cy="67932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7893000" y="2832120"/>
              <a:ext cx="12600" cy="6793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7905600" y="2832120"/>
              <a:ext cx="11160" cy="67932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7916760" y="2832120"/>
              <a:ext cx="11160" cy="679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7881840" y="2832120"/>
              <a:ext cx="34920" cy="666720"/>
            </a:xfrm>
            <a:custGeom>
              <a:avLst/>
              <a:gdLst/>
              <a:ahLst/>
              <a:rect l="l" t="t" r="r" b="b"/>
              <a:pathLst>
                <a:path w="22" h="420">
                  <a:moveTo>
                    <a:pt x="0" y="420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405"/>
                  </a:lnTo>
                  <a:lnTo>
                    <a:pt x="0" y="42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7775640" y="2855880"/>
              <a:ext cx="11160" cy="642960"/>
            </a:xfrm>
            <a:prstGeom prst="rect">
              <a:avLst/>
            </a:pr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7786800" y="2855880"/>
              <a:ext cx="12600" cy="6429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7799400" y="2855880"/>
              <a:ext cx="11160" cy="6429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7810560" y="2855880"/>
              <a:ext cx="12600" cy="642960"/>
            </a:xfrm>
            <a:prstGeom prst="rect">
              <a:avLst/>
            </a:prstGeom>
            <a:solidFill>
              <a:srgbClr val="ff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7823160" y="2855880"/>
              <a:ext cx="11160" cy="6429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7834320" y="2855880"/>
              <a:ext cx="11160" cy="64296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7845480" y="2855880"/>
              <a:ext cx="12600" cy="642960"/>
            </a:xfrm>
            <a:prstGeom prst="rect">
              <a:avLst/>
            </a:prstGeom>
            <a:solidFill>
              <a:srgbClr val="f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7858080" y="2855880"/>
              <a:ext cx="11160" cy="642960"/>
            </a:xfrm>
            <a:prstGeom prst="rect">
              <a:avLst/>
            </a:pr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7869240" y="2855880"/>
              <a:ext cx="12600" cy="642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7775640" y="2855880"/>
              <a:ext cx="106200" cy="642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7775640" y="2832120"/>
              <a:ext cx="11160" cy="34920"/>
            </a:xfrm>
            <a:prstGeom prst="rect">
              <a:avLst/>
            </a:prstGeom>
            <a:solidFill>
              <a:srgbClr val="be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7786800" y="2832120"/>
              <a:ext cx="1260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7799400" y="2832120"/>
              <a:ext cx="1116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7810560" y="2832120"/>
              <a:ext cx="1260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7823160" y="2832120"/>
              <a:ext cx="1116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7834320" y="2832120"/>
              <a:ext cx="11160" cy="34920"/>
            </a:xfrm>
            <a:prstGeom prst="rect">
              <a:avLst/>
            </a:prstGeom>
            <a:solidFill>
              <a:srgbClr val="ac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7845480" y="2832120"/>
              <a:ext cx="1260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7858080" y="2832120"/>
              <a:ext cx="11160" cy="3492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7869240" y="2832120"/>
              <a:ext cx="12600" cy="34920"/>
            </a:xfrm>
            <a:prstGeom prst="rect">
              <a:avLst/>
            </a:prstGeom>
            <a:solidFill>
              <a:srgbClr val="a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7881840" y="2832120"/>
              <a:ext cx="11160" cy="34920"/>
            </a:xfrm>
            <a:prstGeom prst="rect">
              <a:avLst/>
            </a:prstGeom>
            <a:solidFill>
              <a:srgbClr val="b4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7893000" y="2832120"/>
              <a:ext cx="12600" cy="34920"/>
            </a:xfrm>
            <a:prstGeom prst="rect">
              <a:avLst/>
            </a:prstGeom>
            <a:solidFill>
              <a:srgbClr val="b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7905600" y="2832120"/>
              <a:ext cx="11160" cy="34920"/>
            </a:xfrm>
            <a:prstGeom prst="rect">
              <a:avLst/>
            </a:prstGeom>
            <a:solidFill>
              <a:srgbClr val="b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7916760" y="2832120"/>
              <a:ext cx="11160" cy="3492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7775640" y="2832120"/>
              <a:ext cx="141120" cy="23760"/>
            </a:xfrm>
            <a:custGeom>
              <a:avLst/>
              <a:gdLst/>
              <a:ahLst/>
              <a:rect l="l" t="t" r="r" b="b"/>
              <a:pathLst>
                <a:path w="89" h="15">
                  <a:moveTo>
                    <a:pt x="67" y="15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5"/>
                  </a:lnTo>
                  <a:lnTo>
                    <a:pt x="67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7881840" y="2600280"/>
              <a:ext cx="11160" cy="26676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7893000" y="2600280"/>
              <a:ext cx="12600" cy="2667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7905600" y="2600280"/>
              <a:ext cx="11160" cy="26676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7916760" y="2600280"/>
              <a:ext cx="11160" cy="26676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7881840" y="2600280"/>
              <a:ext cx="34920" cy="255600"/>
            </a:xfrm>
            <a:custGeom>
              <a:avLst/>
              <a:gdLst/>
              <a:ahLst/>
              <a:rect l="l" t="t" r="r" b="b"/>
              <a:pathLst>
                <a:path w="22" h="161">
                  <a:moveTo>
                    <a:pt x="0" y="161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146"/>
                  </a:lnTo>
                  <a:lnTo>
                    <a:pt x="0" y="16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7775640" y="2625840"/>
              <a:ext cx="11160" cy="230040"/>
            </a:xfrm>
            <a:prstGeom prst="rect">
              <a:avLst/>
            </a:prstGeom>
            <a:solidFill>
              <a:srgbClr val="1d8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7786800" y="2625840"/>
              <a:ext cx="12600" cy="2300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7799400" y="2625840"/>
              <a:ext cx="11160" cy="2300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7810560" y="2625840"/>
              <a:ext cx="12600" cy="230040"/>
            </a:xfrm>
            <a:prstGeom prst="rect">
              <a:avLst/>
            </a:prstGeom>
            <a:solidFill>
              <a:srgbClr val="90c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7823160" y="2625840"/>
              <a:ext cx="11160" cy="2300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7834320" y="2625840"/>
              <a:ext cx="11160" cy="23004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7845480" y="2625840"/>
              <a:ext cx="12600" cy="230040"/>
            </a:xfrm>
            <a:prstGeom prst="rect">
              <a:avLst/>
            </a:prstGeom>
            <a:solidFill>
              <a:srgbClr val="75b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7858080" y="2625840"/>
              <a:ext cx="11160" cy="230040"/>
            </a:xfrm>
            <a:prstGeom prst="rect">
              <a:avLst/>
            </a:prstGeom>
            <a:solidFill>
              <a:srgbClr val="4b9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7869240" y="2625840"/>
              <a:ext cx="12600" cy="2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7775640" y="2625840"/>
              <a:ext cx="106200" cy="2300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7775640" y="2600280"/>
              <a:ext cx="11160" cy="36720"/>
            </a:xfrm>
            <a:prstGeom prst="rect">
              <a:avLst/>
            </a:prstGeom>
            <a:solidFill>
              <a:srgbClr val="116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7786800" y="2600280"/>
              <a:ext cx="1260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7799400" y="2600280"/>
              <a:ext cx="1116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7810560" y="2600280"/>
              <a:ext cx="1260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7823160" y="2600280"/>
              <a:ext cx="1116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7834320" y="2600280"/>
              <a:ext cx="11160" cy="36720"/>
            </a:xfrm>
            <a:prstGeom prst="rect">
              <a:avLst/>
            </a:prstGeom>
            <a:solidFill>
              <a:srgbClr val="6f8d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7845480" y="2600280"/>
              <a:ext cx="1260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7858080" y="260028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7869240" y="2600280"/>
              <a:ext cx="12600" cy="36720"/>
            </a:xfrm>
            <a:prstGeom prst="rect">
              <a:avLst/>
            </a:prstGeom>
            <a:solidFill>
              <a:srgbClr val="668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7881840" y="2600280"/>
              <a:ext cx="11160" cy="36720"/>
            </a:xfrm>
            <a:prstGeom prst="rect">
              <a:avLst/>
            </a:prstGeom>
            <a:solidFill>
              <a:srgbClr val="567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7893000" y="2600280"/>
              <a:ext cx="12600" cy="36720"/>
            </a:xfrm>
            <a:prstGeom prst="rect">
              <a:avLst/>
            </a:prstGeom>
            <a:solidFill>
              <a:srgbClr val="4071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7905600" y="2600280"/>
              <a:ext cx="11160" cy="36720"/>
            </a:xfrm>
            <a:prstGeom prst="rect">
              <a:avLst/>
            </a:prstGeom>
            <a:solidFill>
              <a:srgbClr val="286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7916760" y="2600280"/>
              <a:ext cx="1116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7775640" y="2600280"/>
              <a:ext cx="14112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7881840" y="2527200"/>
              <a:ext cx="11160" cy="10980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7893000" y="2527200"/>
              <a:ext cx="12600" cy="1098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7905600" y="2527200"/>
              <a:ext cx="11160" cy="10980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7916760" y="2527200"/>
              <a:ext cx="11160" cy="1098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7881840" y="2527200"/>
              <a:ext cx="34920" cy="98640"/>
            </a:xfrm>
            <a:custGeom>
              <a:avLst/>
              <a:gdLst/>
              <a:ahLst/>
              <a:rect l="l" t="t" r="r" b="b"/>
              <a:pathLst>
                <a:path w="22" h="62">
                  <a:moveTo>
                    <a:pt x="0" y="62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46"/>
                  </a:lnTo>
                  <a:lnTo>
                    <a:pt x="0" y="6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7775640" y="2552760"/>
              <a:ext cx="11160" cy="73080"/>
            </a:xfrm>
            <a:prstGeom prst="rect">
              <a:avLst/>
            </a:prstGeom>
            <a:solidFill>
              <a:srgbClr val="fff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7786800" y="2552760"/>
              <a:ext cx="12600" cy="7308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7799400" y="2552760"/>
              <a:ext cx="11160" cy="7308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7810560" y="2552760"/>
              <a:ext cx="12600" cy="73080"/>
            </a:xfrm>
            <a:prstGeom prst="rect">
              <a:avLst/>
            </a:prstGeom>
            <a:solidFill>
              <a:srgbClr val="fff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7823160" y="2552760"/>
              <a:ext cx="11160" cy="730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7834320" y="2552760"/>
              <a:ext cx="11160" cy="730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7845480" y="2552760"/>
              <a:ext cx="12600" cy="73080"/>
            </a:xfrm>
            <a:prstGeom prst="rect">
              <a:avLst/>
            </a:prstGeom>
            <a:solidFill>
              <a:srgbClr val="ff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7858080" y="2552760"/>
              <a:ext cx="11160" cy="73080"/>
            </a:xfrm>
            <a:prstGeom prst="rect">
              <a:avLst/>
            </a:prstGeom>
            <a:solidFill>
              <a:srgbClr val="ff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7869240" y="2552760"/>
              <a:ext cx="12600" cy="73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7775640" y="2552760"/>
              <a:ext cx="106200" cy="73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7775640" y="2527200"/>
              <a:ext cx="11160" cy="36720"/>
            </a:xfrm>
            <a:prstGeom prst="rect">
              <a:avLst/>
            </a:prstGeom>
            <a:solidFill>
              <a:srgbClr val="beb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7786800" y="2527200"/>
              <a:ext cx="1260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7799400" y="2527200"/>
              <a:ext cx="1116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7810560" y="2527200"/>
              <a:ext cx="1260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7823160" y="2527200"/>
              <a:ext cx="1116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7834320" y="2527200"/>
              <a:ext cx="11160" cy="36720"/>
            </a:xfrm>
            <a:prstGeom prst="rect">
              <a:avLst/>
            </a:prstGeom>
            <a:solidFill>
              <a:srgbClr val="b9b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7845480" y="2527200"/>
              <a:ext cx="1260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7858080" y="252720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7869240" y="2527200"/>
              <a:ext cx="12600" cy="36720"/>
            </a:xfrm>
            <a:prstGeom prst="rect">
              <a:avLst/>
            </a:prstGeom>
            <a:solidFill>
              <a:srgbClr val="ba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7881840" y="2527200"/>
              <a:ext cx="11160" cy="36720"/>
            </a:xfrm>
            <a:prstGeom prst="rect">
              <a:avLst/>
            </a:prstGeom>
            <a:solidFill>
              <a:srgbClr val="bbb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7893000" y="2527200"/>
              <a:ext cx="12600" cy="36720"/>
            </a:xfrm>
            <a:prstGeom prst="rect">
              <a:avLst/>
            </a:prstGeom>
            <a:solidFill>
              <a:srgbClr val="bdb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7905600" y="2527200"/>
              <a:ext cx="11160" cy="36720"/>
            </a:xfrm>
            <a:prstGeom prst="rect">
              <a:avLst/>
            </a:prstGeom>
            <a:solidFill>
              <a:srgbClr val="beb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7916760" y="2527200"/>
              <a:ext cx="1116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7775640" y="2527200"/>
              <a:ext cx="141120" cy="25560"/>
            </a:xfrm>
            <a:custGeom>
              <a:avLst/>
              <a:gdLst/>
              <a:ahLst/>
              <a:rect l="l" t="t" r="r" b="b"/>
              <a:pathLst>
                <a:path w="89" h="16">
                  <a:moveTo>
                    <a:pt x="67" y="16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67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7881840" y="2492280"/>
              <a:ext cx="11160" cy="716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7893000" y="2492280"/>
              <a:ext cx="1260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7905600" y="2492280"/>
              <a:ext cx="1116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7916760" y="2492280"/>
              <a:ext cx="11160" cy="716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7881840" y="249228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22"/>
                  </a:lnTo>
                  <a:lnTo>
                    <a:pt x="22" y="0"/>
                  </a:lnTo>
                  <a:lnTo>
                    <a:pt x="22" y="22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7775640" y="2527200"/>
              <a:ext cx="11160" cy="25560"/>
            </a:xfrm>
            <a:prstGeom prst="rect">
              <a:avLst/>
            </a:prstGeom>
            <a:solidFill>
              <a:srgbClr val="831a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7786800" y="2527200"/>
              <a:ext cx="12600" cy="255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7799400" y="2527200"/>
              <a:ext cx="11160" cy="255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7810560" y="2527200"/>
              <a:ext cx="12600" cy="25560"/>
            </a:xfrm>
            <a:prstGeom prst="rect">
              <a:avLst/>
            </a:prstGeom>
            <a:solidFill>
              <a:srgbClr val="be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7823160" y="2527200"/>
              <a:ext cx="11160" cy="255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7834320" y="2527200"/>
              <a:ext cx="11160" cy="255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1" name=""/>
          <p:cNvGrpSpPr/>
          <p:nvPr/>
        </p:nvGrpSpPr>
        <p:grpSpPr>
          <a:xfrm>
            <a:off x="7775640" y="2322360"/>
            <a:ext cx="684000" cy="3032280"/>
            <a:chOff x="7775640" y="2322360"/>
            <a:chExt cx="684000" cy="3032280"/>
          </a:xfrm>
        </p:grpSpPr>
        <p:sp>
          <p:nvSpPr>
            <p:cNvPr id="3312" name=""/>
            <p:cNvSpPr/>
            <p:nvPr/>
          </p:nvSpPr>
          <p:spPr>
            <a:xfrm>
              <a:off x="7845480" y="2527200"/>
              <a:ext cx="12600" cy="25560"/>
            </a:xfrm>
            <a:prstGeom prst="rect">
              <a:avLst/>
            </a:prstGeom>
            <a:solidFill>
              <a:srgbClr val="ac6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7858080" y="2527200"/>
              <a:ext cx="11160" cy="25560"/>
            </a:xfrm>
            <a:prstGeom prst="rect">
              <a:avLst/>
            </a:prstGeom>
            <a:solidFill>
              <a:srgbClr val="934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7869240" y="2527200"/>
              <a:ext cx="12600" cy="255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7775640" y="2527200"/>
              <a:ext cx="106200" cy="25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7775640" y="2492280"/>
              <a:ext cx="11160" cy="47880"/>
            </a:xfrm>
            <a:prstGeom prst="rect">
              <a:avLst/>
            </a:prstGeom>
            <a:solidFill>
              <a:srgbClr val="610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7786800" y="2492280"/>
              <a:ext cx="12600" cy="4788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7799400" y="2492280"/>
              <a:ext cx="11160" cy="4788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7810560" y="2492280"/>
              <a:ext cx="12600" cy="4788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7823160" y="2492280"/>
              <a:ext cx="11160" cy="4788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7834320" y="2492280"/>
              <a:ext cx="11160" cy="47880"/>
            </a:xfrm>
            <a:prstGeom prst="rect">
              <a:avLst/>
            </a:prstGeom>
            <a:solidFill>
              <a:srgbClr val="866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7845480" y="2492280"/>
              <a:ext cx="12600" cy="4788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7858080" y="2492280"/>
              <a:ext cx="11160" cy="4788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7869240" y="2492280"/>
              <a:ext cx="12600" cy="47880"/>
            </a:xfrm>
            <a:prstGeom prst="rect">
              <a:avLst/>
            </a:prstGeom>
            <a:solidFill>
              <a:srgbClr val="81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7881840" y="2492280"/>
              <a:ext cx="11160" cy="47880"/>
            </a:xfrm>
            <a:prstGeom prst="rect">
              <a:avLst/>
            </a:prstGeom>
            <a:solidFill>
              <a:srgbClr val="784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7893000" y="2492280"/>
              <a:ext cx="12600" cy="47880"/>
            </a:xfrm>
            <a:prstGeom prst="rect">
              <a:avLst/>
            </a:prstGeom>
            <a:solidFill>
              <a:srgbClr val="6e3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7905600" y="2492280"/>
              <a:ext cx="11160" cy="47880"/>
            </a:xfrm>
            <a:prstGeom prst="rect">
              <a:avLst/>
            </a:prstGeom>
            <a:solidFill>
              <a:srgbClr val="6524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7916760" y="2492280"/>
              <a:ext cx="11160" cy="4788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7775640" y="2492280"/>
              <a:ext cx="141120" cy="34920"/>
            </a:xfrm>
            <a:custGeom>
              <a:avLst/>
              <a:gdLst/>
              <a:ahLst/>
              <a:rect l="l" t="t" r="r" b="b"/>
              <a:pathLst>
                <a:path w="89" h="22">
                  <a:moveTo>
                    <a:pt x="67" y="22"/>
                  </a:moveTo>
                  <a:lnTo>
                    <a:pt x="89" y="0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67" y="2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8153280" y="3376440"/>
              <a:ext cx="11160" cy="197820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8164440" y="3376440"/>
              <a:ext cx="12600" cy="19782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8177040" y="3376440"/>
              <a:ext cx="11160" cy="197820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8188200" y="3376440"/>
              <a:ext cx="11160" cy="197820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8153280" y="3376440"/>
              <a:ext cx="34920" cy="1967040"/>
            </a:xfrm>
            <a:custGeom>
              <a:avLst/>
              <a:gdLst/>
              <a:ahLst/>
              <a:rect l="l" t="t" r="r" b="b"/>
              <a:pathLst>
                <a:path w="22" h="1239">
                  <a:moveTo>
                    <a:pt x="0" y="1239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1223"/>
                  </a:lnTo>
                  <a:lnTo>
                    <a:pt x="0" y="123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8034480" y="3402000"/>
              <a:ext cx="12600" cy="1941480"/>
            </a:xfrm>
            <a:prstGeom prst="rect">
              <a:avLst/>
            </a:prstGeom>
            <a:solidFill>
              <a:srgbClr val="171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8047080" y="3402000"/>
              <a:ext cx="11160" cy="194148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8058240" y="3402000"/>
              <a:ext cx="12600" cy="1941480"/>
            </a:xfrm>
            <a:prstGeom prst="rect">
              <a:avLst/>
            </a:prstGeom>
            <a:solidFill>
              <a:srgbClr val="5b5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8070840" y="3402000"/>
              <a:ext cx="11160" cy="194148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8082000" y="3402000"/>
              <a:ext cx="12600" cy="19414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8094600" y="3402000"/>
              <a:ext cx="11160" cy="194148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8105760" y="3402000"/>
              <a:ext cx="11160" cy="1941480"/>
            </a:xfrm>
            <a:prstGeom prst="rect">
              <a:avLst/>
            </a:prstGeom>
            <a:solidFill>
              <a:srgbClr val="7373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8116920" y="3402000"/>
              <a:ext cx="12600" cy="1941480"/>
            </a:xfrm>
            <a:prstGeom prst="rect">
              <a:avLst/>
            </a:prstGeom>
            <a:solidFill>
              <a:srgbClr val="5a5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8129520" y="3402000"/>
              <a:ext cx="11160" cy="1941480"/>
            </a:xfrm>
            <a:prstGeom prst="rect">
              <a:avLst/>
            </a:prstGeom>
            <a:solidFill>
              <a:srgbClr val="393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8140680" y="3402000"/>
              <a:ext cx="12600" cy="19414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8034480" y="3402000"/>
              <a:ext cx="118800" cy="1941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8034480" y="3376440"/>
              <a:ext cx="12600" cy="3672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8047080" y="3376440"/>
              <a:ext cx="11160" cy="367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8058240" y="3376440"/>
              <a:ext cx="12600" cy="367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8070840" y="3376440"/>
              <a:ext cx="11160" cy="36720"/>
            </a:xfrm>
            <a:prstGeom prst="rect">
              <a:avLst/>
            </a:prstGeom>
            <a:solidFill>
              <a:srgbClr val="444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8082000" y="3376440"/>
              <a:ext cx="12600" cy="367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8094600" y="3376440"/>
              <a:ext cx="11160" cy="367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8105760" y="3376440"/>
              <a:ext cx="1116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8116920" y="3376440"/>
              <a:ext cx="12600" cy="3672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8129520" y="3376440"/>
              <a:ext cx="11160" cy="36720"/>
            </a:xfrm>
            <a:prstGeom prst="rect">
              <a:avLst/>
            </a:prstGeom>
            <a:solidFill>
              <a:srgbClr val="5b5b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8140680" y="3376440"/>
              <a:ext cx="12600" cy="36720"/>
            </a:xfrm>
            <a:prstGeom prst="rect">
              <a:avLst/>
            </a:prstGeom>
            <a:solidFill>
              <a:srgbClr val="52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8153280" y="3376440"/>
              <a:ext cx="11160" cy="36720"/>
            </a:xfrm>
            <a:prstGeom prst="rect">
              <a:avLst/>
            </a:prstGeom>
            <a:solidFill>
              <a:srgbClr val="4444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8164440" y="3376440"/>
              <a:ext cx="12600" cy="36720"/>
            </a:xfrm>
            <a:prstGeom prst="rect">
              <a:avLst/>
            </a:prstGeom>
            <a:solidFill>
              <a:srgbClr val="323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8177040" y="3376440"/>
              <a:ext cx="11160" cy="36720"/>
            </a:xfrm>
            <a:prstGeom prst="rect">
              <a:avLst/>
            </a:prstGeom>
            <a:solidFill>
              <a:srgbClr val="1f1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8188200" y="3376440"/>
              <a:ext cx="11160" cy="36720"/>
            </a:xfrm>
            <a:prstGeom prst="rect">
              <a:avLst/>
            </a:pr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8034480" y="3376440"/>
              <a:ext cx="153720" cy="2556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75" y="16"/>
                  </a:moveTo>
                  <a:lnTo>
                    <a:pt x="97" y="0"/>
                  </a:lnTo>
                  <a:lnTo>
                    <a:pt x="30" y="0"/>
                  </a:lnTo>
                  <a:lnTo>
                    <a:pt x="0" y="16"/>
                  </a:lnTo>
                  <a:lnTo>
                    <a:pt x="75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8153280" y="2685960"/>
              <a:ext cx="11160" cy="727200"/>
            </a:xfrm>
            <a:prstGeom prst="rect">
              <a:avLst/>
            </a:prstGeom>
            <a:solidFill>
              <a:srgbClr val="7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8164440" y="2685960"/>
              <a:ext cx="12600" cy="7272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8177040" y="2685960"/>
              <a:ext cx="11160" cy="727200"/>
            </a:xfrm>
            <a:prstGeom prst="rect">
              <a:avLst/>
            </a:prstGeom>
            <a:solidFill>
              <a:srgbClr val="65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8188200" y="2685960"/>
              <a:ext cx="11160" cy="7272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8153280" y="2685960"/>
              <a:ext cx="34920" cy="716040"/>
            </a:xfrm>
            <a:custGeom>
              <a:avLst/>
              <a:gdLst/>
              <a:ahLst/>
              <a:rect l="l" t="t" r="r" b="b"/>
              <a:pathLst>
                <a:path w="22" h="451">
                  <a:moveTo>
                    <a:pt x="0" y="451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435"/>
                  </a:lnTo>
                  <a:lnTo>
                    <a:pt x="0" y="45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8034480" y="2722680"/>
              <a:ext cx="12600" cy="679320"/>
            </a:xfrm>
            <a:prstGeom prst="rect">
              <a:avLst/>
            </a:prstGeom>
            <a:solidFill>
              <a:srgbClr val="f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8047080" y="2722680"/>
              <a:ext cx="11160" cy="67932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8058240" y="2722680"/>
              <a:ext cx="12600" cy="67932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8070840" y="2722680"/>
              <a:ext cx="11160" cy="67932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8082000" y="2722680"/>
              <a:ext cx="12600" cy="6793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8094600" y="2722680"/>
              <a:ext cx="11160" cy="679320"/>
            </a:xfrm>
            <a:prstGeom prst="rect">
              <a:avLst/>
            </a:prstGeom>
            <a:solidFill>
              <a:srgbClr val="ff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8105760" y="2722680"/>
              <a:ext cx="11160" cy="679320"/>
            </a:xfrm>
            <a:prstGeom prst="rect">
              <a:avLst/>
            </a:pr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8116920" y="2722680"/>
              <a:ext cx="12600" cy="67932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8129520" y="2722680"/>
              <a:ext cx="11160" cy="679320"/>
            </a:xfrm>
            <a:prstGeom prst="rect">
              <a:avLst/>
            </a:pr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8140680" y="2722680"/>
              <a:ext cx="12600" cy="679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8034480" y="2722680"/>
              <a:ext cx="118800" cy="6793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8034480" y="2685960"/>
              <a:ext cx="12600" cy="47880"/>
            </a:xfrm>
            <a:prstGeom prst="rect">
              <a:avLst/>
            </a:prstGeom>
            <a:solidFill>
              <a:srgbClr val="be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8047080" y="2685960"/>
              <a:ext cx="11160" cy="4788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8058240" y="2685960"/>
              <a:ext cx="12600" cy="4788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8070840" y="2685960"/>
              <a:ext cx="11160" cy="47880"/>
            </a:xfrm>
            <a:prstGeom prst="rect">
              <a:avLst/>
            </a:prstGeom>
            <a:solidFill>
              <a:srgbClr val="b5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8082000" y="2685960"/>
              <a:ext cx="12600" cy="4788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8094600" y="2685960"/>
              <a:ext cx="11160" cy="4788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8105760" y="2685960"/>
              <a:ext cx="1116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8116920" y="2685960"/>
              <a:ext cx="12600" cy="47880"/>
            </a:xfrm>
            <a:prstGeom prst="rect">
              <a:avLst/>
            </a:prstGeom>
            <a:solidFill>
              <a:srgbClr val="ab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8129520" y="2685960"/>
              <a:ext cx="11160" cy="47880"/>
            </a:xfrm>
            <a:prstGeom prst="rect">
              <a:avLst/>
            </a:prstGeom>
            <a:solidFill>
              <a:srgbClr val="ad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8140680" y="2685960"/>
              <a:ext cx="12600" cy="47880"/>
            </a:xfrm>
            <a:prstGeom prst="rect">
              <a:avLst/>
            </a:prstGeom>
            <a:solidFill>
              <a:srgbClr val="b0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8153280" y="2685960"/>
              <a:ext cx="11160" cy="47880"/>
            </a:xfrm>
            <a:prstGeom prst="rect">
              <a:avLst/>
            </a:prstGeom>
            <a:solidFill>
              <a:srgbClr val="b5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8164440" y="2685960"/>
              <a:ext cx="12600" cy="47880"/>
            </a:xfrm>
            <a:prstGeom prst="rect">
              <a:avLst/>
            </a:prstGeom>
            <a:solidFill>
              <a:srgbClr val="b9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8177040" y="2685960"/>
              <a:ext cx="11160" cy="47880"/>
            </a:xfrm>
            <a:prstGeom prst="rect">
              <a:avLst/>
            </a:prstGeom>
            <a:solidFill>
              <a:srgbClr val="bc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8188200" y="2685960"/>
              <a:ext cx="11160" cy="47880"/>
            </a:xfrm>
            <a:prstGeom prst="rect">
              <a:avLst/>
            </a:pr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8034480" y="2685960"/>
              <a:ext cx="153720" cy="36720"/>
            </a:xfrm>
            <a:custGeom>
              <a:avLst/>
              <a:gdLst/>
              <a:ahLst/>
              <a:rect l="l" t="t" r="r" b="b"/>
              <a:pathLst>
                <a:path w="97" h="23">
                  <a:moveTo>
                    <a:pt x="75" y="23"/>
                  </a:moveTo>
                  <a:lnTo>
                    <a:pt x="97" y="0"/>
                  </a:lnTo>
                  <a:lnTo>
                    <a:pt x="30" y="0"/>
                  </a:lnTo>
                  <a:lnTo>
                    <a:pt x="0" y="23"/>
                  </a:lnTo>
                  <a:lnTo>
                    <a:pt x="75" y="23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8153280" y="2419200"/>
              <a:ext cx="11160" cy="314640"/>
            </a:xfrm>
            <a:prstGeom prst="rect">
              <a:avLst/>
            </a:prstGeom>
            <a:solidFill>
              <a:srgbClr val="1d44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8164440" y="2419200"/>
              <a:ext cx="12600" cy="3146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8177040" y="2419200"/>
              <a:ext cx="11160" cy="314640"/>
            </a:xfrm>
            <a:prstGeom prst="rect">
              <a:avLst/>
            </a:prstGeom>
            <a:solidFill>
              <a:srgbClr val="4d5a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8188200" y="2419200"/>
              <a:ext cx="11160" cy="314640"/>
            </a:xfrm>
            <a:prstGeom prst="rect">
              <a:avLst/>
            </a:prstGeom>
            <a:solidFill>
              <a:srgbClr val="0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8153280" y="2419200"/>
              <a:ext cx="34920" cy="303480"/>
            </a:xfrm>
            <a:custGeom>
              <a:avLst/>
              <a:gdLst/>
              <a:ahLst/>
              <a:rect l="l" t="t" r="r" b="b"/>
              <a:pathLst>
                <a:path w="22" h="191">
                  <a:moveTo>
                    <a:pt x="0" y="191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168"/>
                  </a:lnTo>
                  <a:lnTo>
                    <a:pt x="0" y="19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8034480" y="2443320"/>
              <a:ext cx="12600" cy="279360"/>
            </a:xfrm>
            <a:prstGeom prst="rect">
              <a:avLst/>
            </a:prstGeom>
            <a:solidFill>
              <a:srgbClr val="1b83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8047080" y="2443320"/>
              <a:ext cx="11160" cy="2793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8058240" y="2443320"/>
              <a:ext cx="12600" cy="279360"/>
            </a:xfrm>
            <a:prstGeom prst="rect">
              <a:avLst/>
            </a:prstGeom>
            <a:solidFill>
              <a:srgbClr val="6ca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8070840" y="2443320"/>
              <a:ext cx="11160" cy="2793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8082000" y="2443320"/>
              <a:ext cx="12600" cy="2793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8094600" y="2443320"/>
              <a:ext cx="11160" cy="279360"/>
            </a:xfrm>
            <a:prstGeom prst="rect">
              <a:avLst/>
            </a:prstGeom>
            <a:solidFill>
              <a:srgbClr val="99c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8105760" y="2443320"/>
              <a:ext cx="11160" cy="279360"/>
            </a:xfrm>
            <a:prstGeom prst="rect">
              <a:avLst/>
            </a:prstGeom>
            <a:solidFill>
              <a:srgbClr val="89c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8116920" y="2443320"/>
              <a:ext cx="12600" cy="279360"/>
            </a:xfrm>
            <a:prstGeom prst="rect">
              <a:avLst/>
            </a:prstGeom>
            <a:solidFill>
              <a:srgbClr val="6ba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8129520" y="2443320"/>
              <a:ext cx="11160" cy="279360"/>
            </a:xfrm>
            <a:prstGeom prst="rect">
              <a:avLst/>
            </a:prstGeom>
            <a:solidFill>
              <a:srgbClr val="4392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8140680" y="2443320"/>
              <a:ext cx="12600" cy="279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8034480" y="2443320"/>
              <a:ext cx="118800" cy="279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8034480" y="2419200"/>
              <a:ext cx="12600" cy="36720"/>
            </a:xfrm>
            <a:prstGeom prst="rect">
              <a:avLst/>
            </a:prstGeom>
            <a:solidFill>
              <a:srgbClr val="106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8047080" y="2419200"/>
              <a:ext cx="11160" cy="367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8058240" y="2419200"/>
              <a:ext cx="12600" cy="367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8070840" y="2419200"/>
              <a:ext cx="11160" cy="367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8082000" y="2419200"/>
              <a:ext cx="12600" cy="367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8094600" y="2419200"/>
              <a:ext cx="11160" cy="367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8105760" y="2419200"/>
              <a:ext cx="1116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8116920" y="2419200"/>
              <a:ext cx="12600" cy="36720"/>
            </a:xfrm>
            <a:prstGeom prst="rect">
              <a:avLst/>
            </a:prstGeom>
            <a:solidFill>
              <a:srgbClr val="739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8129520" y="2419200"/>
              <a:ext cx="11160" cy="36720"/>
            </a:xfrm>
            <a:prstGeom prst="rect">
              <a:avLst/>
            </a:prstGeom>
            <a:solidFill>
              <a:srgbClr val="6c8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8140680" y="2419200"/>
              <a:ext cx="12600" cy="36720"/>
            </a:xfrm>
            <a:prstGeom prst="rect">
              <a:avLst/>
            </a:prstGeom>
            <a:solidFill>
              <a:srgbClr val="628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8153280" y="2419200"/>
              <a:ext cx="11160" cy="36720"/>
            </a:xfrm>
            <a:prstGeom prst="rect">
              <a:avLst/>
            </a:prstGeom>
            <a:solidFill>
              <a:srgbClr val="517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8164440" y="2419200"/>
              <a:ext cx="12600" cy="36720"/>
            </a:xfrm>
            <a:prstGeom prst="rect">
              <a:avLst/>
            </a:prstGeom>
            <a:solidFill>
              <a:srgbClr val="3c6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8177040" y="2419200"/>
              <a:ext cx="11160" cy="36720"/>
            </a:xfrm>
            <a:prstGeom prst="rect">
              <a:avLst/>
            </a:prstGeom>
            <a:solidFill>
              <a:srgbClr val="256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8188200" y="2419200"/>
              <a:ext cx="11160" cy="36720"/>
            </a:xfrm>
            <a:prstGeom prst="rect">
              <a:avLst/>
            </a:pr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8034480" y="2419200"/>
              <a:ext cx="153720" cy="24120"/>
            </a:xfrm>
            <a:custGeom>
              <a:avLst/>
              <a:gdLst/>
              <a:ahLst/>
              <a:rect l="l" t="t" r="r" b="b"/>
              <a:pathLst>
                <a:path w="97" h="15">
                  <a:moveTo>
                    <a:pt x="75" y="15"/>
                  </a:moveTo>
                  <a:lnTo>
                    <a:pt x="97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75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8153280" y="2357280"/>
              <a:ext cx="11160" cy="98640"/>
            </a:xfrm>
            <a:prstGeom prst="rect">
              <a:avLst/>
            </a:prstGeom>
            <a:solidFill>
              <a:srgbClr val="7e7e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8164440" y="2357280"/>
              <a:ext cx="12600" cy="986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8177040" y="2357280"/>
              <a:ext cx="11160" cy="98640"/>
            </a:xfrm>
            <a:prstGeom prst="rect">
              <a:avLst/>
            </a:prstGeom>
            <a:solidFill>
              <a:srgbClr val="767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8188200" y="2357280"/>
              <a:ext cx="11160" cy="98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8153280" y="2357280"/>
              <a:ext cx="34920" cy="86040"/>
            </a:xfrm>
            <a:custGeom>
              <a:avLst/>
              <a:gdLst/>
              <a:ahLst/>
              <a:rect l="l" t="t" r="r" b="b"/>
              <a:pathLst>
                <a:path w="22" h="54">
                  <a:moveTo>
                    <a:pt x="0" y="54"/>
                  </a:moveTo>
                  <a:lnTo>
                    <a:pt x="0" y="16"/>
                  </a:lnTo>
                  <a:lnTo>
                    <a:pt x="22" y="0"/>
                  </a:lnTo>
                  <a:lnTo>
                    <a:pt x="22" y="39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8034480" y="2382840"/>
              <a:ext cx="12600" cy="60480"/>
            </a:xfrm>
            <a:prstGeom prst="rect">
              <a:avLst/>
            </a:prstGeom>
            <a:solidFill>
              <a:srgbClr val="ffff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8047080" y="2382840"/>
              <a:ext cx="11160" cy="604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8058240" y="2382840"/>
              <a:ext cx="12600" cy="60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8070840" y="2382840"/>
              <a:ext cx="11160" cy="604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8082000" y="2382840"/>
              <a:ext cx="12600" cy="604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8094600" y="2382840"/>
              <a:ext cx="11160" cy="60480"/>
            </a:xfrm>
            <a:prstGeom prst="rect">
              <a:avLst/>
            </a:prstGeom>
            <a:solidFill>
              <a:srgbClr val="fff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8105760" y="2382840"/>
              <a:ext cx="11160" cy="60480"/>
            </a:xfrm>
            <a:prstGeom prst="rect">
              <a:avLst/>
            </a:prstGeom>
            <a:solidFill>
              <a:srgbClr val="ff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8116920" y="2382840"/>
              <a:ext cx="12600" cy="60480"/>
            </a:xfrm>
            <a:prstGeom prst="rect">
              <a:avLst/>
            </a:prstGeom>
            <a:solidFill>
              <a:srgbClr val="fff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8129520" y="2382840"/>
              <a:ext cx="11160" cy="60480"/>
            </a:xfrm>
            <a:prstGeom prst="rect">
              <a:avLst/>
            </a:prstGeom>
            <a:solidFill>
              <a:srgbClr val="fff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8140680" y="2382840"/>
              <a:ext cx="12600" cy="60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8034480" y="2382840"/>
              <a:ext cx="118800" cy="60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8034480" y="2357280"/>
              <a:ext cx="12600" cy="36720"/>
            </a:xfrm>
            <a:prstGeom prst="rect">
              <a:avLst/>
            </a:prstGeom>
            <a:solidFill>
              <a:srgbClr val="bebe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8047080" y="2357280"/>
              <a:ext cx="11160" cy="367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8058240" y="2357280"/>
              <a:ext cx="12600" cy="367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8070840" y="2357280"/>
              <a:ext cx="11160" cy="367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8082000" y="2357280"/>
              <a:ext cx="12600" cy="367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8094600" y="2357280"/>
              <a:ext cx="11160" cy="367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8105760" y="2357280"/>
              <a:ext cx="1116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8116920" y="2357280"/>
              <a:ext cx="12600" cy="36720"/>
            </a:xfrm>
            <a:prstGeom prst="rect">
              <a:avLst/>
            </a:prstGeom>
            <a:solidFill>
              <a:srgbClr val="b9b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8129520" y="2357280"/>
              <a:ext cx="11160" cy="36720"/>
            </a:xfrm>
            <a:prstGeom prst="rect">
              <a:avLst/>
            </a:prstGeom>
            <a:solidFill>
              <a:srgbClr val="b9b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8140680" y="2357280"/>
              <a:ext cx="12600" cy="36720"/>
            </a:xfrm>
            <a:prstGeom prst="rect">
              <a:avLst/>
            </a:prstGeom>
            <a:solidFill>
              <a:srgbClr val="bab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8153280" y="2357280"/>
              <a:ext cx="11160" cy="36720"/>
            </a:xfrm>
            <a:prstGeom prst="rect">
              <a:avLst/>
            </a:prstGeom>
            <a:solidFill>
              <a:srgbClr val="bc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8164440" y="2357280"/>
              <a:ext cx="12600" cy="36720"/>
            </a:xfrm>
            <a:prstGeom prst="rect">
              <a:avLst/>
            </a:prstGeom>
            <a:solidFill>
              <a:srgbClr val="bdb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8177040" y="2357280"/>
              <a:ext cx="11160" cy="36720"/>
            </a:xfrm>
            <a:prstGeom prst="rect">
              <a:avLst/>
            </a:prstGeom>
            <a:solidFill>
              <a:srgbClr val="beb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8188200" y="2357280"/>
              <a:ext cx="11160" cy="36720"/>
            </a:xfrm>
            <a:prstGeom prst="rect">
              <a:avLst/>
            </a:pr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8034480" y="2357280"/>
              <a:ext cx="153720" cy="2556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75" y="16"/>
                  </a:moveTo>
                  <a:lnTo>
                    <a:pt x="97" y="0"/>
                  </a:lnTo>
                  <a:lnTo>
                    <a:pt x="30" y="0"/>
                  </a:lnTo>
                  <a:lnTo>
                    <a:pt x="0" y="16"/>
                  </a:lnTo>
                  <a:lnTo>
                    <a:pt x="75" y="16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8153280" y="2322360"/>
              <a:ext cx="11160" cy="71640"/>
            </a:xfrm>
            <a:prstGeom prst="rect">
              <a:avLst/>
            </a:prstGeom>
            <a:solidFill>
              <a:srgbClr val="431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8164440" y="2322360"/>
              <a:ext cx="1260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8177040" y="2322360"/>
              <a:ext cx="11160" cy="71640"/>
            </a:xfrm>
            <a:prstGeom prst="rect">
              <a:avLst/>
            </a:prstGeom>
            <a:solidFill>
              <a:srgbClr val="544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8188200" y="2322360"/>
              <a:ext cx="11160" cy="71640"/>
            </a:xfrm>
            <a:prstGeom prst="rect">
              <a:avLst/>
            </a:prstGeom>
            <a:solidFill>
              <a:srgbClr val="4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8153280" y="232236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0" y="38"/>
                  </a:moveTo>
                  <a:lnTo>
                    <a:pt x="0" y="15"/>
                  </a:lnTo>
                  <a:lnTo>
                    <a:pt x="22" y="0"/>
                  </a:lnTo>
                  <a:lnTo>
                    <a:pt x="22" y="22"/>
                  </a:lnTo>
                  <a:lnTo>
                    <a:pt x="0" y="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8034480" y="2346480"/>
              <a:ext cx="12600" cy="36360"/>
            </a:xfrm>
            <a:prstGeom prst="rect">
              <a:avLst/>
            </a:prstGeom>
            <a:solidFill>
              <a:srgbClr val="821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8047080" y="2346480"/>
              <a:ext cx="11160" cy="3636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8058240" y="2346480"/>
              <a:ext cx="12600" cy="36360"/>
            </a:xfrm>
            <a:prstGeom prst="rect">
              <a:avLst/>
            </a:prstGeom>
            <a:solidFill>
              <a:srgbClr val="a66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8070840" y="2346480"/>
              <a:ext cx="11160" cy="3636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8082000" y="2346480"/>
              <a:ext cx="12600" cy="363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8094600" y="2346480"/>
              <a:ext cx="11160" cy="36360"/>
            </a:xfrm>
            <a:prstGeom prst="rect">
              <a:avLst/>
            </a:prstGeom>
            <a:solidFill>
              <a:srgbClr val="c58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8105760" y="2346480"/>
              <a:ext cx="11160" cy="36360"/>
            </a:xfrm>
            <a:prstGeom prst="rect">
              <a:avLst/>
            </a:prstGeom>
            <a:solidFill>
              <a:srgbClr val="b97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8116920" y="2346480"/>
              <a:ext cx="12600" cy="36360"/>
            </a:xfrm>
            <a:prstGeom prst="rect">
              <a:avLst/>
            </a:prstGeom>
            <a:solidFill>
              <a:srgbClr val="a56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8129520" y="2346480"/>
              <a:ext cx="11160" cy="36360"/>
            </a:xfrm>
            <a:prstGeom prst="rect">
              <a:avLst/>
            </a:prstGeom>
            <a:solidFill>
              <a:srgbClr val="90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8140680" y="2346480"/>
              <a:ext cx="12600" cy="363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8034480" y="2346480"/>
              <a:ext cx="118800" cy="36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8034480" y="2322360"/>
              <a:ext cx="12600" cy="34920"/>
            </a:xfrm>
            <a:prstGeom prst="rect">
              <a:avLst/>
            </a:prstGeom>
            <a:solidFill>
              <a:srgbClr val="610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8047080" y="2322360"/>
              <a:ext cx="11160" cy="349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8058240" y="2322360"/>
              <a:ext cx="12600" cy="349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8070840" y="2322360"/>
              <a:ext cx="11160" cy="34920"/>
            </a:xfrm>
            <a:prstGeom prst="rect">
              <a:avLst/>
            </a:prstGeom>
            <a:solidFill>
              <a:srgbClr val="764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8082000" y="2322360"/>
              <a:ext cx="12600" cy="349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8094600" y="2322360"/>
              <a:ext cx="11160" cy="349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8105760" y="2322360"/>
              <a:ext cx="1116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8116920" y="2322360"/>
              <a:ext cx="12600" cy="34920"/>
            </a:xfrm>
            <a:prstGeom prst="rect">
              <a:avLst/>
            </a:prstGeom>
            <a:solidFill>
              <a:srgbClr val="89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8129520" y="2322360"/>
              <a:ext cx="11160" cy="34920"/>
            </a:xfrm>
            <a:prstGeom prst="rect">
              <a:avLst/>
            </a:prstGeom>
            <a:solidFill>
              <a:srgbClr val="85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8140680" y="2322360"/>
              <a:ext cx="12600" cy="34920"/>
            </a:xfrm>
            <a:prstGeom prst="rect">
              <a:avLst/>
            </a:prstGeom>
            <a:solidFill>
              <a:srgbClr val="7f5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8153280" y="2322360"/>
              <a:ext cx="11160" cy="34920"/>
            </a:xfrm>
            <a:prstGeom prst="rect">
              <a:avLst/>
            </a:prstGeom>
            <a:solidFill>
              <a:srgbClr val="76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8164440" y="2322360"/>
              <a:ext cx="12600" cy="34920"/>
            </a:xfrm>
            <a:prstGeom prst="rect">
              <a:avLst/>
            </a:prstGeom>
            <a:solidFill>
              <a:srgbClr val="6c3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8177040" y="2322360"/>
              <a:ext cx="11160" cy="34920"/>
            </a:xfrm>
            <a:prstGeom prst="rect">
              <a:avLst/>
            </a:prstGeom>
            <a:solidFill>
              <a:srgbClr val="652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8188200" y="2322360"/>
              <a:ext cx="11160" cy="34920"/>
            </a:xfrm>
            <a:prstGeom prst="rect">
              <a:avLst/>
            </a:prstGeom>
            <a:solidFill>
              <a:srgbClr val="6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8034480" y="2322360"/>
              <a:ext cx="153720" cy="24120"/>
            </a:xfrm>
            <a:custGeom>
              <a:avLst/>
              <a:gdLst/>
              <a:ahLst/>
              <a:rect l="l" t="t" r="r" b="b"/>
              <a:pathLst>
                <a:path w="97" h="15">
                  <a:moveTo>
                    <a:pt x="75" y="15"/>
                  </a:moveTo>
                  <a:lnTo>
                    <a:pt x="97" y="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75" y="1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8412120" y="3292560"/>
              <a:ext cx="12600" cy="2062080"/>
            </a:xfrm>
            <a:prstGeom prst="rect">
              <a:avLst/>
            </a:prstGeom>
            <a:solidFill>
              <a:srgbClr val="181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8424720" y="3292560"/>
              <a:ext cx="11160" cy="2062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8435880" y="3292560"/>
              <a:ext cx="11160" cy="2062080"/>
            </a:xfrm>
            <a:prstGeom prst="rect">
              <a:avLst/>
            </a:prstGeom>
            <a:solidFill>
              <a:srgbClr val="414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8447040" y="3292560"/>
              <a:ext cx="12600" cy="20620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8412120" y="3292560"/>
              <a:ext cx="34920" cy="2050920"/>
            </a:xfrm>
            <a:custGeom>
              <a:avLst/>
              <a:gdLst/>
              <a:ahLst/>
              <a:rect l="l" t="t" r="r" b="b"/>
              <a:pathLst>
                <a:path w="22" h="1292">
                  <a:moveTo>
                    <a:pt x="0" y="1292"/>
                  </a:moveTo>
                  <a:lnTo>
                    <a:pt x="0" y="23"/>
                  </a:lnTo>
                  <a:lnTo>
                    <a:pt x="22" y="0"/>
                  </a:lnTo>
                  <a:lnTo>
                    <a:pt x="22" y="1276"/>
                  </a:lnTo>
                  <a:lnTo>
                    <a:pt x="0" y="129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8305920" y="3328920"/>
              <a:ext cx="12600" cy="2014560"/>
            </a:xfrm>
            <a:prstGeom prst="rect">
              <a:avLst/>
            </a:prstGeom>
            <a:solidFill>
              <a:srgbClr val="191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8318520" y="3328920"/>
              <a:ext cx="11160" cy="20145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8329680" y="3328920"/>
              <a:ext cx="12600" cy="20145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8342280" y="3328920"/>
              <a:ext cx="11160" cy="2014560"/>
            </a:xfrm>
            <a:prstGeom prst="rect">
              <a:avLst/>
            </a:prstGeom>
            <a:solidFill>
              <a:srgbClr val="797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8353440" y="3328920"/>
              <a:ext cx="11160" cy="2014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8364600" y="3328920"/>
              <a:ext cx="12600" cy="2014560"/>
            </a:xfrm>
            <a:prstGeom prst="rect">
              <a:avLst/>
            </a:prstGeom>
            <a:solidFill>
              <a:srgbClr val="818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8377200" y="3328920"/>
              <a:ext cx="11160" cy="2014560"/>
            </a:xfrm>
            <a:prstGeom prst="rect">
              <a:avLst/>
            </a:prstGeom>
            <a:solidFill>
              <a:srgbClr val="636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8388360" y="3328920"/>
              <a:ext cx="12600" cy="2014560"/>
            </a:xfrm>
            <a:prstGeom prst="rect">
              <a:avLst/>
            </a:prstGeom>
            <a:solidFill>
              <a:srgbClr val="3f3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8400960" y="3328920"/>
              <a:ext cx="11160" cy="20145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8305920" y="3328920"/>
              <a:ext cx="106200" cy="2014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8305920" y="3292560"/>
              <a:ext cx="12600" cy="48960"/>
            </a:xfrm>
            <a:prstGeom prst="rect">
              <a:avLst/>
            </a:prstGeom>
            <a:solidFill>
              <a:srgbClr val="0e0e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8318520" y="3292560"/>
              <a:ext cx="11160" cy="489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8329680" y="3292560"/>
              <a:ext cx="12600" cy="489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8342280" y="3292560"/>
              <a:ext cx="11160" cy="489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8353440" y="3292560"/>
              <a:ext cx="11160" cy="489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8364600" y="3292560"/>
              <a:ext cx="12600" cy="48960"/>
            </a:xfrm>
            <a:prstGeom prst="rect">
              <a:avLst/>
            </a:prstGeom>
            <a:solidFill>
              <a:srgbClr val="5d5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8377200" y="3292560"/>
              <a:ext cx="11160" cy="489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8388360" y="3292560"/>
              <a:ext cx="12600" cy="48960"/>
            </a:xfrm>
            <a:prstGeom prst="rect">
              <a:avLst/>
            </a:prstGeom>
            <a:solidFill>
              <a:srgbClr val="616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8400960" y="3292560"/>
              <a:ext cx="11160" cy="48960"/>
            </a:xfrm>
            <a:prstGeom prst="rect">
              <a:avLst/>
            </a:prstGeom>
            <a:solidFill>
              <a:srgbClr val="5656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8412120" y="3292560"/>
              <a:ext cx="12600" cy="48960"/>
            </a:xfrm>
            <a:prstGeom prst="rect">
              <a:avLst/>
            </a:prstGeom>
            <a:solidFill>
              <a:srgbClr val="484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8424720" y="3292560"/>
              <a:ext cx="11160" cy="48960"/>
            </a:xfrm>
            <a:prstGeom prst="rect">
              <a:avLst/>
            </a:prstGeom>
            <a:solidFill>
              <a:srgbClr val="363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8435880" y="3292560"/>
              <a:ext cx="11160" cy="48960"/>
            </a:xfrm>
            <a:prstGeom prst="rect">
              <a:avLst/>
            </a:prstGeom>
            <a:solidFill>
              <a:srgbClr val="222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2" name=""/>
          <p:cNvSpPr/>
          <p:nvPr/>
        </p:nvSpPr>
        <p:spPr>
          <a:xfrm>
            <a:off x="8447040" y="3292560"/>
            <a:ext cx="12600" cy="48960"/>
          </a:xfrm>
          <a:prstGeom prst="rect">
            <a:avLst/>
          </a:prstGeom>
          <a:solidFill>
            <a:srgbClr val="000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"/>
          <p:cNvSpPr/>
          <p:nvPr/>
        </p:nvSpPr>
        <p:spPr>
          <a:xfrm>
            <a:off x="8305920" y="3292560"/>
            <a:ext cx="141120" cy="36360"/>
          </a:xfrm>
          <a:custGeom>
            <a:avLst/>
            <a:gdLst/>
            <a:ahLst/>
            <a:rect l="l" t="t" r="r" b="b"/>
            <a:pathLst>
              <a:path w="89" h="23">
                <a:moveTo>
                  <a:pt x="67" y="23"/>
                </a:moveTo>
                <a:lnTo>
                  <a:pt x="89" y="0"/>
                </a:lnTo>
                <a:lnTo>
                  <a:pt x="23" y="0"/>
                </a:lnTo>
                <a:lnTo>
                  <a:pt x="0" y="23"/>
                </a:lnTo>
                <a:lnTo>
                  <a:pt x="67" y="23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"/>
          <p:cNvSpPr/>
          <p:nvPr/>
        </p:nvSpPr>
        <p:spPr>
          <a:xfrm>
            <a:off x="8412120" y="2563920"/>
            <a:ext cx="12600" cy="777600"/>
          </a:xfrm>
          <a:prstGeom prst="rect">
            <a:avLst/>
          </a:prstGeom>
          <a:solidFill>
            <a:srgbClr val="7c1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"/>
          <p:cNvSpPr/>
          <p:nvPr/>
        </p:nvSpPr>
        <p:spPr>
          <a:xfrm>
            <a:off x="8424720" y="2563920"/>
            <a:ext cx="11160" cy="777600"/>
          </a:xfrm>
          <a:prstGeom prst="rect">
            <a:avLst/>
          </a:prstGeom>
          <a:solidFill>
            <a:srgbClr val="65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"/>
          <p:cNvSpPr/>
          <p:nvPr/>
        </p:nvSpPr>
        <p:spPr>
          <a:xfrm>
            <a:off x="8435880" y="2563920"/>
            <a:ext cx="11160" cy="777600"/>
          </a:xfrm>
          <a:prstGeom prst="rect">
            <a:avLst/>
          </a:prstGeom>
          <a:solidFill>
            <a:srgbClr val="65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"/>
          <p:cNvSpPr/>
          <p:nvPr/>
        </p:nvSpPr>
        <p:spPr>
          <a:xfrm>
            <a:off x="8447040" y="2563920"/>
            <a:ext cx="12600" cy="777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"/>
          <p:cNvSpPr/>
          <p:nvPr/>
        </p:nvSpPr>
        <p:spPr>
          <a:xfrm>
            <a:off x="8412120" y="2563920"/>
            <a:ext cx="34920" cy="765000"/>
          </a:xfrm>
          <a:custGeom>
            <a:avLst/>
            <a:gdLst/>
            <a:ahLst/>
            <a:rect l="l" t="t" r="r" b="b"/>
            <a:pathLst>
              <a:path w="22" h="482">
                <a:moveTo>
                  <a:pt x="0" y="482"/>
                </a:moveTo>
                <a:lnTo>
                  <a:pt x="0" y="16"/>
                </a:lnTo>
                <a:lnTo>
                  <a:pt x="22" y="0"/>
                </a:lnTo>
                <a:lnTo>
                  <a:pt x="22" y="459"/>
                </a:lnTo>
                <a:lnTo>
                  <a:pt x="0" y="482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"/>
          <p:cNvSpPr/>
          <p:nvPr/>
        </p:nvSpPr>
        <p:spPr>
          <a:xfrm>
            <a:off x="8305920" y="2589120"/>
            <a:ext cx="12600" cy="739800"/>
          </a:xfrm>
          <a:prstGeom prst="rect">
            <a:avLst/>
          </a:prstGeom>
          <a:solidFill>
            <a:srgbClr val="ff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>
            <a:off x="8318520" y="2589120"/>
            <a:ext cx="11160" cy="73980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"/>
          <p:cNvSpPr/>
          <p:nvPr/>
        </p:nvSpPr>
        <p:spPr>
          <a:xfrm>
            <a:off x="8329680" y="2589120"/>
            <a:ext cx="12600" cy="739800"/>
          </a:xfrm>
          <a:prstGeom prst="rect">
            <a:avLst/>
          </a:prstGeom>
          <a:solidFill>
            <a:srgbClr val="f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>
            <a:off x="8342280" y="2589120"/>
            <a:ext cx="11160" cy="739800"/>
          </a:xfrm>
          <a:prstGeom prst="rect">
            <a:avLst/>
          </a:prstGeom>
          <a:solidFill>
            <a:srgbClr val="ff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"/>
          <p:cNvSpPr/>
          <p:nvPr/>
        </p:nvSpPr>
        <p:spPr>
          <a:xfrm>
            <a:off x="8353440" y="2589120"/>
            <a:ext cx="11160" cy="739800"/>
          </a:xfrm>
          <a:prstGeom prst="rect">
            <a:avLst/>
          </a:prstGeom>
          <a:solidFill>
            <a:srgbClr val="ff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"/>
          <p:cNvSpPr/>
          <p:nvPr/>
        </p:nvSpPr>
        <p:spPr>
          <a:xfrm>
            <a:off x="8364600" y="2589120"/>
            <a:ext cx="12600" cy="739800"/>
          </a:xfrm>
          <a:prstGeom prst="rect">
            <a:avLst/>
          </a:prstGeom>
          <a:solidFill>
            <a:srgbClr val="ff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>
            <a:off x="8377200" y="2589120"/>
            <a:ext cx="11160" cy="739800"/>
          </a:xfrm>
          <a:prstGeom prst="rect">
            <a:avLst/>
          </a:prstGeom>
          <a:solidFill>
            <a:srgbClr val="f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"/>
          <p:cNvSpPr/>
          <p:nvPr/>
        </p:nvSpPr>
        <p:spPr>
          <a:xfrm>
            <a:off x="8388360" y="2589120"/>
            <a:ext cx="12600" cy="739800"/>
          </a:xfrm>
          <a:prstGeom prst="rect">
            <a:avLst/>
          </a:prstGeom>
          <a:solidFill>
            <a:srgbClr val="ff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"/>
          <p:cNvSpPr/>
          <p:nvPr/>
        </p:nvSpPr>
        <p:spPr>
          <a:xfrm>
            <a:off x="8400960" y="2589120"/>
            <a:ext cx="11160" cy="739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"/>
          <p:cNvSpPr/>
          <p:nvPr/>
        </p:nvSpPr>
        <p:spPr>
          <a:xfrm>
            <a:off x="8305920" y="2589120"/>
            <a:ext cx="106200" cy="7398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>
            <a:off x="8305920" y="2563920"/>
            <a:ext cx="12600" cy="36360"/>
          </a:xfrm>
          <a:prstGeom prst="rect">
            <a:avLst/>
          </a:prstGeom>
          <a:solidFill>
            <a:srgbClr val="be1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>
            <a:off x="8318520" y="2563920"/>
            <a:ext cx="11160" cy="36360"/>
          </a:xfrm>
          <a:prstGeom prst="rect">
            <a:avLst/>
          </a:prstGeom>
          <a:solidFill>
            <a:srgbClr val="bc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"/>
          <p:cNvSpPr/>
          <p:nvPr/>
        </p:nvSpPr>
        <p:spPr>
          <a:xfrm>
            <a:off x="8329680" y="2563920"/>
            <a:ext cx="12600" cy="36360"/>
          </a:xfrm>
          <a:prstGeom prst="rect">
            <a:avLst/>
          </a:prstGeom>
          <a:solidFill>
            <a:srgbClr val="b83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>
            <a:off x="8342280" y="2563920"/>
            <a:ext cx="11160" cy="36360"/>
          </a:xfrm>
          <a:prstGeom prst="rect">
            <a:avLst/>
          </a:prstGeom>
          <a:solidFill>
            <a:srgbClr val="b4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>
            <a:off x="8353440" y="2563920"/>
            <a:ext cx="11160" cy="36360"/>
          </a:xfrm>
          <a:prstGeom prst="rect">
            <a:avLst/>
          </a:prstGeom>
          <a:solidFill>
            <a:srgbClr val="a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"/>
          <p:cNvSpPr/>
          <p:nvPr/>
        </p:nvSpPr>
        <p:spPr>
          <a:xfrm>
            <a:off x="8364600" y="2563920"/>
            <a:ext cx="12600" cy="36360"/>
          </a:xfrm>
          <a:prstGeom prst="rect">
            <a:avLst/>
          </a:prstGeom>
          <a:solidFill>
            <a:srgbClr val="ac69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"/>
          <p:cNvSpPr/>
          <p:nvPr/>
        </p:nvSpPr>
        <p:spPr>
          <a:xfrm>
            <a:off x="8377200" y="2563920"/>
            <a:ext cx="11160" cy="36360"/>
          </a:xfrm>
          <a:prstGeom prst="rect">
            <a:avLst/>
          </a:prstGeom>
          <a:solidFill>
            <a:srgbClr val="ab6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"/>
          <p:cNvSpPr/>
          <p:nvPr/>
        </p:nvSpPr>
        <p:spPr>
          <a:xfrm>
            <a:off x="8388360" y="2563920"/>
            <a:ext cx="12600" cy="36360"/>
          </a:xfrm>
          <a:prstGeom prst="rect">
            <a:avLst/>
          </a:prstGeom>
          <a:solidFill>
            <a:srgbClr val="ab6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"/>
          <p:cNvSpPr/>
          <p:nvPr/>
        </p:nvSpPr>
        <p:spPr>
          <a:xfrm>
            <a:off x="8400960" y="2563920"/>
            <a:ext cx="11160" cy="36360"/>
          </a:xfrm>
          <a:prstGeom prst="rect">
            <a:avLst/>
          </a:prstGeom>
          <a:solidFill>
            <a:srgbClr val="a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"/>
          <p:cNvSpPr/>
          <p:nvPr/>
        </p:nvSpPr>
        <p:spPr>
          <a:xfrm>
            <a:off x="8412120" y="2563920"/>
            <a:ext cx="12600" cy="36360"/>
          </a:xfrm>
          <a:prstGeom prst="rect">
            <a:avLst/>
          </a:prstGeom>
          <a:solidFill>
            <a:srgbClr val="b4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"/>
          <p:cNvSpPr/>
          <p:nvPr/>
        </p:nvSpPr>
        <p:spPr>
          <a:xfrm>
            <a:off x="8424720" y="2563920"/>
            <a:ext cx="11160" cy="36360"/>
          </a:xfrm>
          <a:prstGeom prst="rect">
            <a:avLst/>
          </a:prstGeom>
          <a:solidFill>
            <a:srgbClr val="b83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"/>
          <p:cNvSpPr/>
          <p:nvPr/>
        </p:nvSpPr>
        <p:spPr>
          <a:xfrm>
            <a:off x="8435880" y="2563920"/>
            <a:ext cx="11160" cy="36360"/>
          </a:xfrm>
          <a:prstGeom prst="rect">
            <a:avLst/>
          </a:prstGeom>
          <a:solidFill>
            <a:srgbClr val="bc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"/>
          <p:cNvSpPr/>
          <p:nvPr/>
        </p:nvSpPr>
        <p:spPr>
          <a:xfrm>
            <a:off x="8447040" y="2563920"/>
            <a:ext cx="12600" cy="3636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"/>
          <p:cNvSpPr/>
          <p:nvPr/>
        </p:nvSpPr>
        <p:spPr>
          <a:xfrm>
            <a:off x="8305920" y="2563920"/>
            <a:ext cx="141120" cy="25200"/>
          </a:xfrm>
          <a:custGeom>
            <a:avLst/>
            <a:gdLst/>
            <a:ahLst/>
            <a:rect l="l" t="t" r="r" b="b"/>
            <a:pathLst>
              <a:path w="89" h="16">
                <a:moveTo>
                  <a:pt x="67" y="16"/>
                </a:moveTo>
                <a:lnTo>
                  <a:pt x="89" y="0"/>
                </a:lnTo>
                <a:lnTo>
                  <a:pt x="23" y="0"/>
                </a:lnTo>
                <a:lnTo>
                  <a:pt x="0" y="16"/>
                </a:lnTo>
                <a:lnTo>
                  <a:pt x="67" y="16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"/>
          <p:cNvSpPr/>
          <p:nvPr/>
        </p:nvSpPr>
        <p:spPr>
          <a:xfrm>
            <a:off x="8412120" y="2200320"/>
            <a:ext cx="12600" cy="399960"/>
          </a:xfrm>
          <a:prstGeom prst="rect">
            <a:avLst/>
          </a:prstGeom>
          <a:solidFill>
            <a:srgbClr val="1d44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"/>
          <p:cNvSpPr/>
          <p:nvPr/>
        </p:nvSpPr>
        <p:spPr>
          <a:xfrm>
            <a:off x="8424720" y="2200320"/>
            <a:ext cx="11160" cy="399960"/>
          </a:xfrm>
          <a:prstGeom prst="rect">
            <a:avLst/>
          </a:prstGeom>
          <a:solidFill>
            <a:srgbClr val="4d5a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"/>
          <p:cNvSpPr/>
          <p:nvPr/>
        </p:nvSpPr>
        <p:spPr>
          <a:xfrm>
            <a:off x="8435880" y="2200320"/>
            <a:ext cx="11160" cy="399960"/>
          </a:xfrm>
          <a:prstGeom prst="rect">
            <a:avLst/>
          </a:prstGeom>
          <a:solidFill>
            <a:srgbClr val="4d5a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"/>
          <p:cNvSpPr/>
          <p:nvPr/>
        </p:nvSpPr>
        <p:spPr>
          <a:xfrm>
            <a:off x="8447040" y="2200320"/>
            <a:ext cx="12600" cy="399960"/>
          </a:xfrm>
          <a:prstGeom prst="rect">
            <a:avLst/>
          </a:prstGeom>
          <a:solidFill>
            <a:srgbClr val="004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"/>
          <p:cNvSpPr/>
          <p:nvPr/>
        </p:nvSpPr>
        <p:spPr>
          <a:xfrm>
            <a:off x="8412120" y="2200320"/>
            <a:ext cx="34920" cy="388800"/>
          </a:xfrm>
          <a:custGeom>
            <a:avLst/>
            <a:gdLst/>
            <a:ahLst/>
            <a:rect l="l" t="t" r="r" b="b"/>
            <a:pathLst>
              <a:path w="22" h="245">
                <a:moveTo>
                  <a:pt x="0" y="245"/>
                </a:moveTo>
                <a:lnTo>
                  <a:pt x="0" y="15"/>
                </a:lnTo>
                <a:lnTo>
                  <a:pt x="22" y="0"/>
                </a:lnTo>
                <a:lnTo>
                  <a:pt x="22" y="229"/>
                </a:lnTo>
                <a:lnTo>
                  <a:pt x="0" y="245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"/>
          <p:cNvSpPr/>
          <p:nvPr/>
        </p:nvSpPr>
        <p:spPr>
          <a:xfrm>
            <a:off x="8305920" y="2224080"/>
            <a:ext cx="12600" cy="365040"/>
          </a:xfrm>
          <a:prstGeom prst="rect">
            <a:avLst/>
          </a:prstGeom>
          <a:solidFill>
            <a:srgbClr val="1d83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"/>
          <p:cNvSpPr/>
          <p:nvPr/>
        </p:nvSpPr>
        <p:spPr>
          <a:xfrm>
            <a:off x="8318520" y="2224080"/>
            <a:ext cx="11160" cy="365040"/>
          </a:xfrm>
          <a:prstGeom prst="rect">
            <a:avLst/>
          </a:prstGeom>
          <a:solidFill>
            <a:srgbClr val="4b9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"/>
          <p:cNvSpPr/>
          <p:nvPr/>
        </p:nvSpPr>
        <p:spPr>
          <a:xfrm>
            <a:off x="8329680" y="2224080"/>
            <a:ext cx="12600" cy="365040"/>
          </a:xfrm>
          <a:prstGeom prst="rect">
            <a:avLst/>
          </a:prstGeom>
          <a:solidFill>
            <a:srgbClr val="75b1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"/>
          <p:cNvSpPr/>
          <p:nvPr/>
        </p:nvSpPr>
        <p:spPr>
          <a:xfrm>
            <a:off x="8342280" y="2224080"/>
            <a:ext cx="11160" cy="365040"/>
          </a:xfrm>
          <a:prstGeom prst="rect">
            <a:avLst/>
          </a:prstGeom>
          <a:solidFill>
            <a:srgbClr val="90c5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"/>
          <p:cNvSpPr/>
          <p:nvPr/>
        </p:nvSpPr>
        <p:spPr>
          <a:xfrm>
            <a:off x="8353440" y="2224080"/>
            <a:ext cx="11160" cy="365040"/>
          </a:xfrm>
          <a:prstGeom prst="rect">
            <a:avLst/>
          </a:prstGeom>
          <a:solidFill>
            <a:srgbClr val="99c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"/>
          <p:cNvSpPr/>
          <p:nvPr/>
        </p:nvSpPr>
        <p:spPr>
          <a:xfrm>
            <a:off x="8364600" y="2224080"/>
            <a:ext cx="12600" cy="365040"/>
          </a:xfrm>
          <a:prstGeom prst="rect">
            <a:avLst/>
          </a:prstGeom>
          <a:solidFill>
            <a:srgbClr val="99c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"/>
          <p:cNvSpPr/>
          <p:nvPr/>
        </p:nvSpPr>
        <p:spPr>
          <a:xfrm>
            <a:off x="8377200" y="2224080"/>
            <a:ext cx="11160" cy="365040"/>
          </a:xfrm>
          <a:prstGeom prst="rect">
            <a:avLst/>
          </a:prstGeom>
          <a:solidFill>
            <a:srgbClr val="75b1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>
            <a:off x="8388360" y="2224080"/>
            <a:ext cx="12600" cy="365040"/>
          </a:xfrm>
          <a:prstGeom prst="rect">
            <a:avLst/>
          </a:prstGeom>
          <a:solidFill>
            <a:srgbClr val="4b9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"/>
          <p:cNvSpPr/>
          <p:nvPr/>
        </p:nvSpPr>
        <p:spPr>
          <a:xfrm>
            <a:off x="8400960" y="2224080"/>
            <a:ext cx="11160" cy="3650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"/>
          <p:cNvSpPr/>
          <p:nvPr/>
        </p:nvSpPr>
        <p:spPr>
          <a:xfrm>
            <a:off x="8305920" y="2224080"/>
            <a:ext cx="106200" cy="3650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"/>
          <p:cNvSpPr/>
          <p:nvPr/>
        </p:nvSpPr>
        <p:spPr>
          <a:xfrm>
            <a:off x="8305920" y="2200320"/>
            <a:ext cx="12600" cy="36360"/>
          </a:xfrm>
          <a:prstGeom prst="rect">
            <a:avLst/>
          </a:prstGeom>
          <a:solidFill>
            <a:srgbClr val="116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"/>
          <p:cNvSpPr/>
          <p:nvPr/>
        </p:nvSpPr>
        <p:spPr>
          <a:xfrm>
            <a:off x="8318520" y="2200320"/>
            <a:ext cx="11160" cy="36360"/>
          </a:xfrm>
          <a:prstGeom prst="rect">
            <a:avLst/>
          </a:prstGeom>
          <a:solidFill>
            <a:srgbClr val="286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"/>
          <p:cNvSpPr/>
          <p:nvPr/>
        </p:nvSpPr>
        <p:spPr>
          <a:xfrm>
            <a:off x="8329680" y="2200320"/>
            <a:ext cx="12600" cy="36360"/>
          </a:xfrm>
          <a:prstGeom prst="rect">
            <a:avLst/>
          </a:prstGeom>
          <a:solidFill>
            <a:srgbClr val="4071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"/>
          <p:cNvSpPr/>
          <p:nvPr/>
        </p:nvSpPr>
        <p:spPr>
          <a:xfrm>
            <a:off x="8342280" y="2200320"/>
            <a:ext cx="11160" cy="36360"/>
          </a:xfrm>
          <a:prstGeom prst="rect">
            <a:avLst/>
          </a:prstGeom>
          <a:solidFill>
            <a:srgbClr val="567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"/>
          <p:cNvSpPr/>
          <p:nvPr/>
        </p:nvSpPr>
        <p:spPr>
          <a:xfrm>
            <a:off x="8353440" y="2200320"/>
            <a:ext cx="11160" cy="36360"/>
          </a:xfrm>
          <a:prstGeom prst="rect">
            <a:avLst/>
          </a:prstGeom>
          <a:solidFill>
            <a:srgbClr val="668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"/>
          <p:cNvSpPr/>
          <p:nvPr/>
        </p:nvSpPr>
        <p:spPr>
          <a:xfrm>
            <a:off x="8364600" y="2200320"/>
            <a:ext cx="12600" cy="36360"/>
          </a:xfrm>
          <a:prstGeom prst="rect">
            <a:avLst/>
          </a:prstGeom>
          <a:solidFill>
            <a:srgbClr val="6f8d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"/>
          <p:cNvSpPr/>
          <p:nvPr/>
        </p:nvSpPr>
        <p:spPr>
          <a:xfrm>
            <a:off x="8377200" y="2200320"/>
            <a:ext cx="11160" cy="36360"/>
          </a:xfrm>
          <a:prstGeom prst="rect">
            <a:avLst/>
          </a:prstGeom>
          <a:solidFill>
            <a:srgbClr val="739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"/>
          <p:cNvSpPr/>
          <p:nvPr/>
        </p:nvSpPr>
        <p:spPr>
          <a:xfrm>
            <a:off x="8388360" y="2200320"/>
            <a:ext cx="12600" cy="36360"/>
          </a:xfrm>
          <a:prstGeom prst="rect">
            <a:avLst/>
          </a:prstGeom>
          <a:solidFill>
            <a:srgbClr val="739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"/>
          <p:cNvSpPr/>
          <p:nvPr/>
        </p:nvSpPr>
        <p:spPr>
          <a:xfrm>
            <a:off x="8400960" y="2200320"/>
            <a:ext cx="11160" cy="36360"/>
          </a:xfrm>
          <a:prstGeom prst="rect">
            <a:avLst/>
          </a:prstGeom>
          <a:solidFill>
            <a:srgbClr val="668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"/>
          <p:cNvSpPr/>
          <p:nvPr/>
        </p:nvSpPr>
        <p:spPr>
          <a:xfrm>
            <a:off x="8412120" y="2200320"/>
            <a:ext cx="12600" cy="36360"/>
          </a:xfrm>
          <a:prstGeom prst="rect">
            <a:avLst/>
          </a:prstGeom>
          <a:solidFill>
            <a:srgbClr val="567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"/>
          <p:cNvSpPr/>
          <p:nvPr/>
        </p:nvSpPr>
        <p:spPr>
          <a:xfrm>
            <a:off x="8424720" y="2200320"/>
            <a:ext cx="11160" cy="36360"/>
          </a:xfrm>
          <a:prstGeom prst="rect">
            <a:avLst/>
          </a:prstGeom>
          <a:solidFill>
            <a:srgbClr val="4071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"/>
          <p:cNvSpPr/>
          <p:nvPr/>
        </p:nvSpPr>
        <p:spPr>
          <a:xfrm>
            <a:off x="8435880" y="2200320"/>
            <a:ext cx="11160" cy="36360"/>
          </a:xfrm>
          <a:prstGeom prst="rect">
            <a:avLst/>
          </a:prstGeom>
          <a:solidFill>
            <a:srgbClr val="2867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"/>
          <p:cNvSpPr/>
          <p:nvPr/>
        </p:nvSpPr>
        <p:spPr>
          <a:xfrm>
            <a:off x="8447040" y="2200320"/>
            <a:ext cx="12600" cy="36360"/>
          </a:xfrm>
          <a:prstGeom prst="rect">
            <a:avLst/>
          </a:prstGeom>
          <a:solidFill>
            <a:srgbClr val="0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"/>
          <p:cNvSpPr/>
          <p:nvPr/>
        </p:nvSpPr>
        <p:spPr>
          <a:xfrm>
            <a:off x="8305920" y="2200320"/>
            <a:ext cx="141120" cy="23760"/>
          </a:xfrm>
          <a:custGeom>
            <a:avLst/>
            <a:gdLst/>
            <a:ahLst/>
            <a:rect l="l" t="t" r="r" b="b"/>
            <a:pathLst>
              <a:path w="89" h="15">
                <a:moveTo>
                  <a:pt x="67" y="15"/>
                </a:moveTo>
                <a:lnTo>
                  <a:pt x="89" y="0"/>
                </a:lnTo>
                <a:lnTo>
                  <a:pt x="23" y="0"/>
                </a:lnTo>
                <a:lnTo>
                  <a:pt x="0" y="15"/>
                </a:lnTo>
                <a:lnTo>
                  <a:pt x="67" y="15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"/>
          <p:cNvSpPr/>
          <p:nvPr/>
        </p:nvSpPr>
        <p:spPr>
          <a:xfrm>
            <a:off x="8412120" y="2127240"/>
            <a:ext cx="12600" cy="109440"/>
          </a:xfrm>
          <a:prstGeom prst="rect">
            <a:avLst/>
          </a:prstGeom>
          <a:solidFill>
            <a:srgbClr val="7e7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"/>
          <p:cNvSpPr/>
          <p:nvPr/>
        </p:nvSpPr>
        <p:spPr>
          <a:xfrm>
            <a:off x="8424720" y="2127240"/>
            <a:ext cx="11160" cy="109440"/>
          </a:xfrm>
          <a:prstGeom prst="rect">
            <a:avLst/>
          </a:prstGeom>
          <a:solidFill>
            <a:srgbClr val="7676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"/>
          <p:cNvSpPr/>
          <p:nvPr/>
        </p:nvSpPr>
        <p:spPr>
          <a:xfrm>
            <a:off x="8435880" y="2127240"/>
            <a:ext cx="11160" cy="109440"/>
          </a:xfrm>
          <a:prstGeom prst="rect">
            <a:avLst/>
          </a:prstGeom>
          <a:solidFill>
            <a:srgbClr val="7676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"/>
          <p:cNvSpPr/>
          <p:nvPr/>
        </p:nvSpPr>
        <p:spPr>
          <a:xfrm>
            <a:off x="8447040" y="2127240"/>
            <a:ext cx="12600" cy="1094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"/>
          <p:cNvSpPr/>
          <p:nvPr/>
        </p:nvSpPr>
        <p:spPr>
          <a:xfrm>
            <a:off x="8412120" y="2127240"/>
            <a:ext cx="34920" cy="96840"/>
          </a:xfrm>
          <a:custGeom>
            <a:avLst/>
            <a:gdLst/>
            <a:ahLst/>
            <a:rect l="l" t="t" r="r" b="b"/>
            <a:pathLst>
              <a:path w="22" h="61">
                <a:moveTo>
                  <a:pt x="0" y="61"/>
                </a:moveTo>
                <a:lnTo>
                  <a:pt x="0" y="16"/>
                </a:lnTo>
                <a:lnTo>
                  <a:pt x="22" y="0"/>
                </a:lnTo>
                <a:lnTo>
                  <a:pt x="22" y="46"/>
                </a:lnTo>
                <a:lnTo>
                  <a:pt x="0" y="61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"/>
          <p:cNvSpPr/>
          <p:nvPr/>
        </p:nvSpPr>
        <p:spPr>
          <a:xfrm>
            <a:off x="8305920" y="2152800"/>
            <a:ext cx="12600" cy="71280"/>
          </a:xfrm>
          <a:prstGeom prst="rect">
            <a:avLst/>
          </a:prstGeom>
          <a:solidFill>
            <a:srgbClr val="fff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"/>
          <p:cNvSpPr/>
          <p:nvPr/>
        </p:nvSpPr>
        <p:spPr>
          <a:xfrm>
            <a:off x="8318520" y="2152800"/>
            <a:ext cx="11160" cy="71280"/>
          </a:xfrm>
          <a:prstGeom prst="rect">
            <a:avLst/>
          </a:prstGeom>
          <a:solidFill>
            <a:srgbClr val="fff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"/>
          <p:cNvSpPr/>
          <p:nvPr/>
        </p:nvSpPr>
        <p:spPr>
          <a:xfrm>
            <a:off x="8329680" y="2152800"/>
            <a:ext cx="12600" cy="71280"/>
          </a:xfrm>
          <a:prstGeom prst="rect">
            <a:avLst/>
          </a:prstGeom>
          <a:solidFill>
            <a:srgbClr val="ffff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"/>
          <p:cNvSpPr/>
          <p:nvPr/>
        </p:nvSpPr>
        <p:spPr>
          <a:xfrm>
            <a:off x="8342280" y="2152800"/>
            <a:ext cx="11160" cy="71280"/>
          </a:xfrm>
          <a:prstGeom prst="rect">
            <a:avLst/>
          </a:prstGeom>
          <a:solidFill>
            <a:srgbClr val="ffff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"/>
          <p:cNvSpPr/>
          <p:nvPr/>
        </p:nvSpPr>
        <p:spPr>
          <a:xfrm>
            <a:off x="8353440" y="2152800"/>
            <a:ext cx="11160" cy="71280"/>
          </a:xfrm>
          <a:prstGeom prst="rect">
            <a:avLst/>
          </a:prstGeom>
          <a:solidFill>
            <a:srgbClr val="fff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"/>
          <p:cNvSpPr/>
          <p:nvPr/>
        </p:nvSpPr>
        <p:spPr>
          <a:xfrm>
            <a:off x="8364600" y="2152800"/>
            <a:ext cx="12600" cy="71280"/>
          </a:xfrm>
          <a:prstGeom prst="rect">
            <a:avLst/>
          </a:prstGeom>
          <a:solidFill>
            <a:srgbClr val="fff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"/>
          <p:cNvSpPr/>
          <p:nvPr/>
        </p:nvSpPr>
        <p:spPr>
          <a:xfrm>
            <a:off x="8377200" y="2152800"/>
            <a:ext cx="11160" cy="71280"/>
          </a:xfrm>
          <a:prstGeom prst="rect">
            <a:avLst/>
          </a:prstGeom>
          <a:solidFill>
            <a:srgbClr val="ffff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8388360" y="2152800"/>
            <a:ext cx="12600" cy="71280"/>
          </a:xfrm>
          <a:prstGeom prst="rect">
            <a:avLst/>
          </a:prstGeom>
          <a:solidFill>
            <a:srgbClr val="fff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8400960" y="2152800"/>
            <a:ext cx="11160" cy="71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>
            <a:off x="8305920" y="2152800"/>
            <a:ext cx="106200" cy="712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8305920" y="2127240"/>
            <a:ext cx="12600" cy="36360"/>
          </a:xfrm>
          <a:prstGeom prst="rect">
            <a:avLst/>
          </a:prstGeom>
          <a:solidFill>
            <a:srgbClr val="bebe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>
            <a:off x="8318520" y="2127240"/>
            <a:ext cx="11160" cy="36360"/>
          </a:xfrm>
          <a:prstGeom prst="rect">
            <a:avLst/>
          </a:prstGeom>
          <a:solidFill>
            <a:srgbClr val="beb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>
            <a:off x="8329680" y="2127240"/>
            <a:ext cx="12600" cy="36360"/>
          </a:xfrm>
          <a:prstGeom prst="rect">
            <a:avLst/>
          </a:prstGeom>
          <a:solidFill>
            <a:srgbClr val="bdbd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>
            <a:off x="8342280" y="2127240"/>
            <a:ext cx="11160" cy="36360"/>
          </a:xfrm>
          <a:prstGeom prst="rect">
            <a:avLst/>
          </a:prstGeom>
          <a:solidFill>
            <a:srgbClr val="bb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/>
          <p:cNvSpPr/>
          <p:nvPr/>
        </p:nvSpPr>
        <p:spPr>
          <a:xfrm>
            <a:off x="8353440" y="2127240"/>
            <a:ext cx="11160" cy="36360"/>
          </a:xfrm>
          <a:prstGeom prst="rect">
            <a:avLst/>
          </a:prstGeom>
          <a:solidFill>
            <a:srgbClr val="bab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>
            <a:off x="8364600" y="2127240"/>
            <a:ext cx="12600" cy="36360"/>
          </a:xfrm>
          <a:prstGeom prst="rect">
            <a:avLst/>
          </a:prstGeom>
          <a:solidFill>
            <a:srgbClr val="b9b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>
            <a:off x="8377200" y="2127240"/>
            <a:ext cx="11160" cy="36360"/>
          </a:xfrm>
          <a:prstGeom prst="rect">
            <a:avLst/>
          </a:prstGeom>
          <a:solidFill>
            <a:srgbClr val="b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"/>
          <p:cNvSpPr/>
          <p:nvPr/>
        </p:nvSpPr>
        <p:spPr>
          <a:xfrm>
            <a:off x="8388360" y="2127240"/>
            <a:ext cx="12600" cy="36360"/>
          </a:xfrm>
          <a:prstGeom prst="rect">
            <a:avLst/>
          </a:prstGeom>
          <a:solidFill>
            <a:srgbClr val="b9b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"/>
          <p:cNvSpPr/>
          <p:nvPr/>
        </p:nvSpPr>
        <p:spPr>
          <a:xfrm>
            <a:off x="8400960" y="2127240"/>
            <a:ext cx="11160" cy="36360"/>
          </a:xfrm>
          <a:prstGeom prst="rect">
            <a:avLst/>
          </a:prstGeom>
          <a:solidFill>
            <a:srgbClr val="bab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"/>
          <p:cNvSpPr/>
          <p:nvPr/>
        </p:nvSpPr>
        <p:spPr>
          <a:xfrm>
            <a:off x="8412120" y="2127240"/>
            <a:ext cx="12600" cy="36360"/>
          </a:xfrm>
          <a:prstGeom prst="rect">
            <a:avLst/>
          </a:prstGeom>
          <a:solidFill>
            <a:srgbClr val="bb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"/>
          <p:cNvSpPr/>
          <p:nvPr/>
        </p:nvSpPr>
        <p:spPr>
          <a:xfrm>
            <a:off x="8424720" y="2127240"/>
            <a:ext cx="11160" cy="36360"/>
          </a:xfrm>
          <a:prstGeom prst="rect">
            <a:avLst/>
          </a:prstGeom>
          <a:solidFill>
            <a:srgbClr val="bdbd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"/>
          <p:cNvSpPr/>
          <p:nvPr/>
        </p:nvSpPr>
        <p:spPr>
          <a:xfrm>
            <a:off x="8435880" y="2127240"/>
            <a:ext cx="11160" cy="36360"/>
          </a:xfrm>
          <a:prstGeom prst="rect">
            <a:avLst/>
          </a:prstGeom>
          <a:solidFill>
            <a:srgbClr val="beb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"/>
          <p:cNvSpPr/>
          <p:nvPr/>
        </p:nvSpPr>
        <p:spPr>
          <a:xfrm>
            <a:off x="8447040" y="2127240"/>
            <a:ext cx="12600" cy="36360"/>
          </a:xfrm>
          <a:prstGeom prst="rect">
            <a:avLst/>
          </a:prstGeom>
          <a:solidFill>
            <a:srgbClr val="b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"/>
          <p:cNvSpPr/>
          <p:nvPr/>
        </p:nvSpPr>
        <p:spPr>
          <a:xfrm>
            <a:off x="8305920" y="2127240"/>
            <a:ext cx="141120" cy="25560"/>
          </a:xfrm>
          <a:custGeom>
            <a:avLst/>
            <a:gdLst/>
            <a:ahLst/>
            <a:rect l="l" t="t" r="r" b="b"/>
            <a:pathLst>
              <a:path w="89" h="16">
                <a:moveTo>
                  <a:pt x="67" y="16"/>
                </a:moveTo>
                <a:lnTo>
                  <a:pt x="89" y="0"/>
                </a:lnTo>
                <a:lnTo>
                  <a:pt x="23" y="0"/>
                </a:lnTo>
                <a:lnTo>
                  <a:pt x="0" y="16"/>
                </a:lnTo>
                <a:lnTo>
                  <a:pt x="67" y="16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"/>
          <p:cNvSpPr/>
          <p:nvPr/>
        </p:nvSpPr>
        <p:spPr>
          <a:xfrm>
            <a:off x="8412120" y="2103480"/>
            <a:ext cx="12600" cy="60120"/>
          </a:xfrm>
          <a:prstGeom prst="rect">
            <a:avLst/>
          </a:prstGeom>
          <a:solidFill>
            <a:srgbClr val="431a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"/>
          <p:cNvSpPr/>
          <p:nvPr/>
        </p:nvSpPr>
        <p:spPr>
          <a:xfrm>
            <a:off x="8424720" y="2103480"/>
            <a:ext cx="11160" cy="60120"/>
          </a:xfrm>
          <a:prstGeom prst="rect">
            <a:avLst/>
          </a:prstGeom>
          <a:solidFill>
            <a:srgbClr val="5445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"/>
          <p:cNvSpPr/>
          <p:nvPr/>
        </p:nvSpPr>
        <p:spPr>
          <a:xfrm>
            <a:off x="8435880" y="2103480"/>
            <a:ext cx="11160" cy="60120"/>
          </a:xfrm>
          <a:prstGeom prst="rect">
            <a:avLst/>
          </a:prstGeom>
          <a:solidFill>
            <a:srgbClr val="5445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>
            <a:off x="8447040" y="2103480"/>
            <a:ext cx="12600" cy="60120"/>
          </a:xfrm>
          <a:prstGeom prst="rect">
            <a:avLst/>
          </a:prstGeom>
          <a:solidFill>
            <a:srgbClr val="400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8412120" y="2103480"/>
            <a:ext cx="34920" cy="49320"/>
          </a:xfrm>
          <a:custGeom>
            <a:avLst/>
            <a:gdLst/>
            <a:ahLst/>
            <a:rect l="l" t="t" r="r" b="b"/>
            <a:pathLst>
              <a:path w="22" h="31">
                <a:moveTo>
                  <a:pt x="0" y="31"/>
                </a:moveTo>
                <a:lnTo>
                  <a:pt x="0" y="15"/>
                </a:lnTo>
                <a:lnTo>
                  <a:pt x="22" y="0"/>
                </a:lnTo>
                <a:lnTo>
                  <a:pt x="22" y="15"/>
                </a:lnTo>
                <a:lnTo>
                  <a:pt x="0" y="31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>
            <a:off x="8305920" y="2127240"/>
            <a:ext cx="12600" cy="25560"/>
          </a:xfrm>
          <a:prstGeom prst="rect">
            <a:avLst/>
          </a:prstGeom>
          <a:solidFill>
            <a:srgbClr val="831a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"/>
          <p:cNvSpPr/>
          <p:nvPr/>
        </p:nvSpPr>
        <p:spPr>
          <a:xfrm>
            <a:off x="8318520" y="2127240"/>
            <a:ext cx="11160" cy="25560"/>
          </a:xfrm>
          <a:prstGeom prst="rect">
            <a:avLst/>
          </a:prstGeom>
          <a:solidFill>
            <a:srgbClr val="934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"/>
          <p:cNvSpPr/>
          <p:nvPr/>
        </p:nvSpPr>
        <p:spPr>
          <a:xfrm>
            <a:off x="8329680" y="2127240"/>
            <a:ext cx="12600" cy="25560"/>
          </a:xfrm>
          <a:prstGeom prst="rect">
            <a:avLst/>
          </a:prstGeom>
          <a:solidFill>
            <a:srgbClr val="ac6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"/>
          <p:cNvSpPr/>
          <p:nvPr/>
        </p:nvSpPr>
        <p:spPr>
          <a:xfrm>
            <a:off x="8342280" y="2127240"/>
            <a:ext cx="11160" cy="25560"/>
          </a:xfrm>
          <a:prstGeom prst="rect">
            <a:avLst/>
          </a:prstGeom>
          <a:solidFill>
            <a:srgbClr val="be80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"/>
          <p:cNvSpPr/>
          <p:nvPr/>
        </p:nvSpPr>
        <p:spPr>
          <a:xfrm>
            <a:off x="8353440" y="2127240"/>
            <a:ext cx="11160" cy="25560"/>
          </a:xfrm>
          <a:prstGeom prst="rect">
            <a:avLst/>
          </a:prstGeom>
          <a:solidFill>
            <a:srgbClr val="c58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"/>
          <p:cNvSpPr/>
          <p:nvPr/>
        </p:nvSpPr>
        <p:spPr>
          <a:xfrm>
            <a:off x="8364600" y="2127240"/>
            <a:ext cx="12600" cy="25560"/>
          </a:xfrm>
          <a:prstGeom prst="rect">
            <a:avLst/>
          </a:prstGeom>
          <a:solidFill>
            <a:srgbClr val="c58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"/>
          <p:cNvSpPr/>
          <p:nvPr/>
        </p:nvSpPr>
        <p:spPr>
          <a:xfrm>
            <a:off x="8377200" y="2127240"/>
            <a:ext cx="11160" cy="25560"/>
          </a:xfrm>
          <a:prstGeom prst="rect">
            <a:avLst/>
          </a:prstGeom>
          <a:solidFill>
            <a:srgbClr val="ac6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"/>
          <p:cNvSpPr/>
          <p:nvPr/>
        </p:nvSpPr>
        <p:spPr>
          <a:xfrm>
            <a:off x="8388360" y="2127240"/>
            <a:ext cx="12600" cy="25560"/>
          </a:xfrm>
          <a:prstGeom prst="rect">
            <a:avLst/>
          </a:prstGeom>
          <a:solidFill>
            <a:srgbClr val="934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"/>
          <p:cNvSpPr/>
          <p:nvPr/>
        </p:nvSpPr>
        <p:spPr>
          <a:xfrm>
            <a:off x="8400960" y="2127240"/>
            <a:ext cx="11160" cy="255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"/>
          <p:cNvSpPr/>
          <p:nvPr/>
        </p:nvSpPr>
        <p:spPr>
          <a:xfrm>
            <a:off x="8305920" y="2127240"/>
            <a:ext cx="106200" cy="255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"/>
          <p:cNvSpPr/>
          <p:nvPr/>
        </p:nvSpPr>
        <p:spPr>
          <a:xfrm>
            <a:off x="8305920" y="2103480"/>
            <a:ext cx="12600" cy="36360"/>
          </a:xfrm>
          <a:prstGeom prst="rect">
            <a:avLst/>
          </a:prstGeom>
          <a:solidFill>
            <a:srgbClr val="610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"/>
          <p:cNvSpPr/>
          <p:nvPr/>
        </p:nvSpPr>
        <p:spPr>
          <a:xfrm>
            <a:off x="8318520" y="2103480"/>
            <a:ext cx="11160" cy="36360"/>
          </a:xfrm>
          <a:prstGeom prst="rect">
            <a:avLst/>
          </a:prstGeom>
          <a:solidFill>
            <a:srgbClr val="652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"/>
          <p:cNvSpPr/>
          <p:nvPr/>
        </p:nvSpPr>
        <p:spPr>
          <a:xfrm>
            <a:off x="8329680" y="2103480"/>
            <a:ext cx="12600" cy="36360"/>
          </a:xfrm>
          <a:prstGeom prst="rect">
            <a:avLst/>
          </a:prstGeom>
          <a:solidFill>
            <a:srgbClr val="6e39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"/>
          <p:cNvSpPr/>
          <p:nvPr/>
        </p:nvSpPr>
        <p:spPr>
          <a:xfrm>
            <a:off x="8342280" y="2103480"/>
            <a:ext cx="11160" cy="36360"/>
          </a:xfrm>
          <a:prstGeom prst="rect">
            <a:avLst/>
          </a:prstGeom>
          <a:solidFill>
            <a:srgbClr val="784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"/>
          <p:cNvSpPr/>
          <p:nvPr/>
        </p:nvSpPr>
        <p:spPr>
          <a:xfrm>
            <a:off x="8353440" y="2103480"/>
            <a:ext cx="11160" cy="36360"/>
          </a:xfrm>
          <a:prstGeom prst="rect">
            <a:avLst/>
          </a:prstGeom>
          <a:solidFill>
            <a:srgbClr val="815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"/>
          <p:cNvSpPr/>
          <p:nvPr/>
        </p:nvSpPr>
        <p:spPr>
          <a:xfrm>
            <a:off x="8364600" y="2103480"/>
            <a:ext cx="12600" cy="36360"/>
          </a:xfrm>
          <a:prstGeom prst="rect">
            <a:avLst/>
          </a:prstGeom>
          <a:solidFill>
            <a:srgbClr val="8663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"/>
          <p:cNvSpPr/>
          <p:nvPr/>
        </p:nvSpPr>
        <p:spPr>
          <a:xfrm>
            <a:off x="8377200" y="2103480"/>
            <a:ext cx="11160" cy="36360"/>
          </a:xfrm>
          <a:prstGeom prst="rect">
            <a:avLst/>
          </a:prstGeom>
          <a:solidFill>
            <a:srgbClr val="89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"/>
          <p:cNvSpPr/>
          <p:nvPr/>
        </p:nvSpPr>
        <p:spPr>
          <a:xfrm>
            <a:off x="8388360" y="2103480"/>
            <a:ext cx="12600" cy="36360"/>
          </a:xfrm>
          <a:prstGeom prst="rect">
            <a:avLst/>
          </a:prstGeom>
          <a:solidFill>
            <a:srgbClr val="89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"/>
          <p:cNvSpPr/>
          <p:nvPr/>
        </p:nvSpPr>
        <p:spPr>
          <a:xfrm>
            <a:off x="8400960" y="2103480"/>
            <a:ext cx="11160" cy="36360"/>
          </a:xfrm>
          <a:prstGeom prst="rect">
            <a:avLst/>
          </a:prstGeom>
          <a:solidFill>
            <a:srgbClr val="815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"/>
          <p:cNvSpPr/>
          <p:nvPr/>
        </p:nvSpPr>
        <p:spPr>
          <a:xfrm>
            <a:off x="8412120" y="2103480"/>
            <a:ext cx="12600" cy="36360"/>
          </a:xfrm>
          <a:prstGeom prst="rect">
            <a:avLst/>
          </a:prstGeom>
          <a:solidFill>
            <a:srgbClr val="784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"/>
          <p:cNvSpPr/>
          <p:nvPr/>
        </p:nvSpPr>
        <p:spPr>
          <a:xfrm>
            <a:off x="8424720" y="2103480"/>
            <a:ext cx="11160" cy="36360"/>
          </a:xfrm>
          <a:prstGeom prst="rect">
            <a:avLst/>
          </a:prstGeom>
          <a:solidFill>
            <a:srgbClr val="6e39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"/>
          <p:cNvSpPr/>
          <p:nvPr/>
        </p:nvSpPr>
        <p:spPr>
          <a:xfrm>
            <a:off x="8435880" y="2103480"/>
            <a:ext cx="11160" cy="36360"/>
          </a:xfrm>
          <a:prstGeom prst="rect">
            <a:avLst/>
          </a:prstGeom>
          <a:solidFill>
            <a:srgbClr val="652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"/>
          <p:cNvSpPr/>
          <p:nvPr/>
        </p:nvSpPr>
        <p:spPr>
          <a:xfrm>
            <a:off x="8447040" y="2103480"/>
            <a:ext cx="12600" cy="36360"/>
          </a:xfrm>
          <a:prstGeom prst="rect">
            <a:avLst/>
          </a:prstGeom>
          <a:solidFill>
            <a:srgbClr val="600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"/>
          <p:cNvSpPr/>
          <p:nvPr/>
        </p:nvSpPr>
        <p:spPr>
          <a:xfrm>
            <a:off x="8305920" y="2103480"/>
            <a:ext cx="141120" cy="23760"/>
          </a:xfrm>
          <a:custGeom>
            <a:avLst/>
            <a:gdLst/>
            <a:ahLst/>
            <a:rect l="l" t="t" r="r" b="b"/>
            <a:pathLst>
              <a:path w="89" h="15">
                <a:moveTo>
                  <a:pt x="67" y="15"/>
                </a:moveTo>
                <a:lnTo>
                  <a:pt x="89" y="0"/>
                </a:lnTo>
                <a:lnTo>
                  <a:pt x="23" y="0"/>
                </a:lnTo>
                <a:lnTo>
                  <a:pt x="0" y="15"/>
                </a:lnTo>
                <a:lnTo>
                  <a:pt x="67" y="15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"/>
          <p:cNvSpPr/>
          <p:nvPr/>
        </p:nvSpPr>
        <p:spPr>
          <a:xfrm flipV="1">
            <a:off x="1003320" y="2066760"/>
            <a:ext cx="1440" cy="3300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"/>
          <p:cNvSpPr/>
          <p:nvPr/>
        </p:nvSpPr>
        <p:spPr>
          <a:xfrm flipH="1">
            <a:off x="955800" y="536724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"/>
          <p:cNvSpPr/>
          <p:nvPr/>
        </p:nvSpPr>
        <p:spPr>
          <a:xfrm flipH="1">
            <a:off x="955800" y="500364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"/>
          <p:cNvSpPr/>
          <p:nvPr/>
        </p:nvSpPr>
        <p:spPr>
          <a:xfrm flipH="1">
            <a:off x="955800" y="463860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"/>
          <p:cNvSpPr/>
          <p:nvPr/>
        </p:nvSpPr>
        <p:spPr>
          <a:xfrm flipH="1">
            <a:off x="955800" y="426240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 flipH="1">
            <a:off x="955800" y="389880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 flipH="1">
            <a:off x="955800" y="353520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 flipH="1">
            <a:off x="955800" y="3171960"/>
            <a:ext cx="475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 flipH="1">
            <a:off x="955800" y="2795760"/>
            <a:ext cx="475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 flipH="1">
            <a:off x="955800" y="243036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 flipH="1">
            <a:off x="955800" y="2066760"/>
            <a:ext cx="475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750240" y="527040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>
            <a:off x="672480" y="49053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>
            <a:off x="672480" y="45417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>
            <a:off x="672480" y="41655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/>
          <p:nvPr/>
        </p:nvSpPr>
        <p:spPr>
          <a:xfrm>
            <a:off x="672480" y="38019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>
            <a:off x="672480" y="34383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>
            <a:off x="672480" y="30733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>
            <a:off x="672480" y="26971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672480" y="23335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"/>
          <p:cNvSpPr/>
          <p:nvPr/>
        </p:nvSpPr>
        <p:spPr>
          <a:xfrm>
            <a:off x="672480" y="19699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"/>
          <p:cNvSpPr/>
          <p:nvPr/>
        </p:nvSpPr>
        <p:spPr>
          <a:xfrm>
            <a:off x="1003320" y="5367240"/>
            <a:ext cx="7467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"/>
          <p:cNvSpPr/>
          <p:nvPr/>
        </p:nvSpPr>
        <p:spPr>
          <a:xfrm>
            <a:off x="100332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"/>
          <p:cNvSpPr/>
          <p:nvPr/>
        </p:nvSpPr>
        <p:spPr>
          <a:xfrm>
            <a:off x="126216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"/>
          <p:cNvSpPr/>
          <p:nvPr/>
        </p:nvSpPr>
        <p:spPr>
          <a:xfrm>
            <a:off x="153360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"/>
          <p:cNvSpPr/>
          <p:nvPr/>
        </p:nvSpPr>
        <p:spPr>
          <a:xfrm>
            <a:off x="179388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"/>
          <p:cNvSpPr/>
          <p:nvPr/>
        </p:nvSpPr>
        <p:spPr>
          <a:xfrm>
            <a:off x="206532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"/>
          <p:cNvSpPr/>
          <p:nvPr/>
        </p:nvSpPr>
        <p:spPr>
          <a:xfrm>
            <a:off x="233676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"/>
          <p:cNvSpPr/>
          <p:nvPr/>
        </p:nvSpPr>
        <p:spPr>
          <a:xfrm>
            <a:off x="259560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"/>
          <p:cNvSpPr/>
          <p:nvPr/>
        </p:nvSpPr>
        <p:spPr>
          <a:xfrm>
            <a:off x="286704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"/>
          <p:cNvSpPr/>
          <p:nvPr/>
        </p:nvSpPr>
        <p:spPr>
          <a:xfrm>
            <a:off x="313848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"/>
          <p:cNvSpPr/>
          <p:nvPr/>
        </p:nvSpPr>
        <p:spPr>
          <a:xfrm>
            <a:off x="339732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"/>
          <p:cNvSpPr/>
          <p:nvPr/>
        </p:nvSpPr>
        <p:spPr>
          <a:xfrm>
            <a:off x="366876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"/>
          <p:cNvSpPr/>
          <p:nvPr/>
        </p:nvSpPr>
        <p:spPr>
          <a:xfrm>
            <a:off x="392904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"/>
          <p:cNvSpPr/>
          <p:nvPr/>
        </p:nvSpPr>
        <p:spPr>
          <a:xfrm>
            <a:off x="420048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>
            <a:off x="447192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>
            <a:off x="473076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>
            <a:off x="500220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>
            <a:off x="526248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"/>
          <p:cNvSpPr/>
          <p:nvPr/>
        </p:nvSpPr>
        <p:spPr>
          <a:xfrm>
            <a:off x="553392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"/>
          <p:cNvSpPr/>
          <p:nvPr/>
        </p:nvSpPr>
        <p:spPr>
          <a:xfrm>
            <a:off x="580536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"/>
          <p:cNvSpPr/>
          <p:nvPr/>
        </p:nvSpPr>
        <p:spPr>
          <a:xfrm>
            <a:off x="606420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"/>
          <p:cNvSpPr/>
          <p:nvPr/>
        </p:nvSpPr>
        <p:spPr>
          <a:xfrm>
            <a:off x="633564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"/>
          <p:cNvSpPr/>
          <p:nvPr/>
        </p:nvSpPr>
        <p:spPr>
          <a:xfrm>
            <a:off x="659592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"/>
          <p:cNvSpPr/>
          <p:nvPr/>
        </p:nvSpPr>
        <p:spPr>
          <a:xfrm>
            <a:off x="686736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"/>
          <p:cNvSpPr/>
          <p:nvPr/>
        </p:nvSpPr>
        <p:spPr>
          <a:xfrm>
            <a:off x="7139160" y="5367240"/>
            <a:ext cx="144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"/>
          <p:cNvSpPr/>
          <p:nvPr/>
        </p:nvSpPr>
        <p:spPr>
          <a:xfrm>
            <a:off x="739764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"/>
          <p:cNvSpPr/>
          <p:nvPr/>
        </p:nvSpPr>
        <p:spPr>
          <a:xfrm>
            <a:off x="766908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"/>
          <p:cNvSpPr/>
          <p:nvPr/>
        </p:nvSpPr>
        <p:spPr>
          <a:xfrm>
            <a:off x="792792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"/>
          <p:cNvSpPr/>
          <p:nvPr/>
        </p:nvSpPr>
        <p:spPr>
          <a:xfrm>
            <a:off x="819936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"/>
          <p:cNvSpPr/>
          <p:nvPr/>
        </p:nvSpPr>
        <p:spPr>
          <a:xfrm>
            <a:off x="8470800" y="5367240"/>
            <a:ext cx="1800" cy="47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"/>
          <p:cNvSpPr/>
          <p:nvPr/>
        </p:nvSpPr>
        <p:spPr>
          <a:xfrm rot="16200000">
            <a:off x="95724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"/>
          <p:cNvSpPr/>
          <p:nvPr/>
        </p:nvSpPr>
        <p:spPr>
          <a:xfrm rot="16200000">
            <a:off x="122868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"/>
          <p:cNvSpPr/>
          <p:nvPr/>
        </p:nvSpPr>
        <p:spPr>
          <a:xfrm rot="16200000">
            <a:off x="148716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"/>
          <p:cNvSpPr/>
          <p:nvPr/>
        </p:nvSpPr>
        <p:spPr>
          <a:xfrm rot="16200000">
            <a:off x="175860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"/>
          <p:cNvSpPr/>
          <p:nvPr/>
        </p:nvSpPr>
        <p:spPr>
          <a:xfrm rot="16200000">
            <a:off x="201924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"/>
          <p:cNvSpPr/>
          <p:nvPr/>
        </p:nvSpPr>
        <p:spPr>
          <a:xfrm rot="16200000">
            <a:off x="229068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"/>
          <p:cNvSpPr/>
          <p:nvPr/>
        </p:nvSpPr>
        <p:spPr>
          <a:xfrm rot="16200000">
            <a:off x="256212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"/>
          <p:cNvSpPr/>
          <p:nvPr/>
        </p:nvSpPr>
        <p:spPr>
          <a:xfrm rot="16200000">
            <a:off x="282096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"/>
          <p:cNvSpPr/>
          <p:nvPr/>
        </p:nvSpPr>
        <p:spPr>
          <a:xfrm rot="16200000">
            <a:off x="309240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"/>
          <p:cNvSpPr/>
          <p:nvPr/>
        </p:nvSpPr>
        <p:spPr>
          <a:xfrm rot="16200000">
            <a:off x="335268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"/>
          <p:cNvSpPr/>
          <p:nvPr/>
        </p:nvSpPr>
        <p:spPr>
          <a:xfrm rot="16200000">
            <a:off x="362412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"/>
          <p:cNvSpPr/>
          <p:nvPr/>
        </p:nvSpPr>
        <p:spPr>
          <a:xfrm rot="16200000">
            <a:off x="389556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"/>
          <p:cNvSpPr/>
          <p:nvPr/>
        </p:nvSpPr>
        <p:spPr>
          <a:xfrm rot="16200000">
            <a:off x="415440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"/>
          <p:cNvSpPr/>
          <p:nvPr/>
        </p:nvSpPr>
        <p:spPr>
          <a:xfrm rot="16200000">
            <a:off x="442584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"/>
          <p:cNvSpPr/>
          <p:nvPr/>
        </p:nvSpPr>
        <p:spPr>
          <a:xfrm rot="16200000">
            <a:off x="468612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"/>
          <p:cNvSpPr/>
          <p:nvPr/>
        </p:nvSpPr>
        <p:spPr>
          <a:xfrm rot="16200000">
            <a:off x="495756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"/>
          <p:cNvSpPr/>
          <p:nvPr/>
        </p:nvSpPr>
        <p:spPr>
          <a:xfrm rot="16200000">
            <a:off x="522900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"/>
          <p:cNvSpPr/>
          <p:nvPr/>
        </p:nvSpPr>
        <p:spPr>
          <a:xfrm rot="16200000">
            <a:off x="548784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"/>
          <p:cNvSpPr/>
          <p:nvPr/>
        </p:nvSpPr>
        <p:spPr>
          <a:xfrm rot="16200000">
            <a:off x="575928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 rot="16200000">
            <a:off x="601812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/>
          <p:cNvSpPr/>
          <p:nvPr/>
        </p:nvSpPr>
        <p:spPr>
          <a:xfrm rot="16200000">
            <a:off x="628956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/>
          <p:cNvSpPr/>
          <p:nvPr/>
        </p:nvSpPr>
        <p:spPr>
          <a:xfrm rot="16200000">
            <a:off x="656100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 rot="16200000">
            <a:off x="682128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"/>
          <p:cNvSpPr/>
          <p:nvPr/>
        </p:nvSpPr>
        <p:spPr>
          <a:xfrm rot="16200000">
            <a:off x="709272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 rot="16200000">
            <a:off x="735156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 rot="16200000">
            <a:off x="762300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"/>
          <p:cNvSpPr/>
          <p:nvPr/>
        </p:nvSpPr>
        <p:spPr>
          <a:xfrm rot="16200000">
            <a:off x="789444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"/>
          <p:cNvSpPr/>
          <p:nvPr/>
        </p:nvSpPr>
        <p:spPr>
          <a:xfrm rot="16200000">
            <a:off x="8154720" y="5463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"/>
          <p:cNvSpPr/>
          <p:nvPr/>
        </p:nvSpPr>
        <p:spPr>
          <a:xfrm>
            <a:off x="1367280" y="4267080"/>
            <a:ext cx="1907280" cy="3070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9090c7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ondos de Pens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"/>
          <p:cNvSpPr/>
          <p:nvPr/>
        </p:nvSpPr>
        <p:spPr>
          <a:xfrm>
            <a:off x="3276720" y="4572000"/>
            <a:ext cx="1904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14:46:15Z</dcterms:created>
  <dc:creator>FERRANDO</dc:creator>
  <dc:description/>
  <dc:language>en-US</dc:language>
  <cp:lastModifiedBy>FERRANDO</cp:lastModifiedBy>
  <cp:lastPrinted>2004-09-22T20:35:45Z</cp:lastPrinted>
  <dcterms:modified xsi:type="dcterms:W3CDTF">2004-09-22T20:39:33Z</dcterms:modified>
  <cp:revision>6</cp:revision>
  <dc:subject/>
  <dc:title>Mercado de capitales</dc:title>
</cp:coreProperties>
</file>