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B53-668F-40D3-8201-34B0C5B6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7AE-6F17-4AB4-AC23-CDA9301E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882-5F5D-45B7-A4B2-312A30BC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EF5-18EF-4894-B536-D7859659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2FE-BF87-4538-B8DC-65E5CDC5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A6A-BDB3-414B-AFA1-54BB8F1B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130-0FE9-402A-9593-F952988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AD8-E1EC-43D8-905C-7DBEB903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080-34B4-46C6-9416-BCDB9985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3D0-6E16-4216-BE48-1718759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B05-2598-43C3-A0FA-126D6AF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2EA-3951-46EC-B12B-ABD3CFC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FACF-9BD5-4F80-8B7D-9317C686DD6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Times New Roman"/>
              </a:rPr>
              <a:t>CHILE INNOVA </a:t>
            </a:r>
            <a:br>
              <a:rPr sz="4400"/>
            </a:br>
            <a:r>
              <a:rPr b="1" lang="es-ES_tradnl" sz="4400" spc="-1" strike="noStrike">
                <a:solidFill>
                  <a:srgbClr val="0000cc"/>
                </a:solidFill>
                <a:latin typeface="Times New Roman"/>
              </a:rPr>
              <a:t>2001-2006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Un gran paso en la política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Gonzalo Herrera J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Director Chile Inno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Ministerio de Economí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endencias globales en polític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stemas Nacionales de Innov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centivos a la innovación diversificado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sde la neutralidad hacia la sele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a visión de larg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Definición de programas de mediano y largo plazo para el desarrollo tecnológico en áreas estratégicas de la economía 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cesidad de anticipar escenarios y merc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lementarios a los actuales instrumentos “horizon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áreas definidas consensuadam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arreglos institucionales </a:t>
            </a:r>
            <a:r>
              <a:rPr b="0" i="1" lang="es-CL" sz="2800" spc="-1" strike="noStrike">
                <a:solidFill>
                  <a:srgbClr val="003366"/>
                </a:solidFill>
                <a:latin typeface="Times New Roman"/>
              </a:rPr>
              <a:t>ad ho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corporar decididamente a la PYME al esfuerzo de innovación, a través de la masificación de la difusión  y la extensión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maximizar la rentabilidad de la inversión en I+D y en transferenc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poyar instituciones de interfaz entre I+D y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erfeccionar el mercado de la consultoría y de la asistencia técn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dear y diseñar nuevos incentivos para incrementar los esfuerzos de inversión en I+D de las empres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cesidad de mecanismos horizontales y automát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ner en pleno funcionamiento las disposiciones tributarias exis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studiar mecanismos de crédito tributario para I+D y formación de postgrado en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Formación de personas orientadas hacia la innovación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los trabajadores que  se han capacitado reciben una remuneración 24% superior a la de los trabajadores que no se han capacit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hile exhibe un bajísimo nivel de becas de postgrado en relación a otros países emerg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necesidad de vincular contenidos de estudios y tesis con requerimientos produ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poyar la creación e instalación de empresas innovado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onocer el emprendimiento como fenómeno  de cre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omover la incubación de nuevos negocios, desde universidades y otras ent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oveer de capital semilla para favorecer el “start-up” de empresas innovad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ncentivos a la innovación en </a:t>
            </a:r>
            <a:br>
              <a:rPr sz="4400"/>
            </a:b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res nive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905120"/>
            <a:ext cx="373392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diseño garantiza a un gran número de empresas el acceso a los instrumentos de incentivo a la innovación, diferenciándola por niveles de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4647960" cy="4343400"/>
          </a:xfrm>
          <a:prstGeom prst="triangle">
            <a:avLst>
              <a:gd name="adj" fmla="val 50000"/>
            </a:avLst>
          </a:prstGeom>
          <a:noFill/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105520"/>
            <a:ext cx="2743200" cy="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962520"/>
            <a:ext cx="1752840" cy="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257800"/>
            <a:ext cx="16002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191120"/>
            <a:ext cx="19047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o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cn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200400"/>
            <a:ext cx="18288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6248520"/>
            <a:ext cx="2667240" cy="0"/>
          </a:xfrm>
          <a:prstGeom prst="line">
            <a:avLst/>
          </a:prstGeom>
          <a:ln cap="sq"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90720" y="1981080"/>
            <a:ext cx="0" cy="4267440"/>
          </a:xfrm>
          <a:prstGeom prst="line">
            <a:avLst/>
          </a:prstGeom>
          <a:ln cap="sq"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320" y="5638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34200">
            <a:off x="58320" y="2913480"/>
            <a:ext cx="1905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3962520"/>
            <a:ext cx="761760" cy="213336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I.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Un nuevo hito en la política tecnológica chilen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urante los ’90, hubo un importante proceso de aprendizaje, que fue necesario “capitalizar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Hasta entonces, se apoyó principalmente a los demandantes de recursos para la innov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in abandonar esa línea, se requiere realizar esfuerzos especiales en las áreas que definirán la competitividad del país en el largo plaz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Propósito y características del PDIT -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bjetivo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ntribuir al aumento de la competitividad de la economía chilena, apoyando la innovación y el desarrollo tecnológico en áreas estratégicas, y su difusión en el sector productivo, especialmente entre las Py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programas que integran la innovación, la formación de personas y el desarrollo de capacidades tecnológicas e instituc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éstamo de US$100 millones en cinco años (2001-2006), más un monto equivalente de aporte lo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. Política tecnológica en Chi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380880" y="3428640"/>
            <a:ext cx="6324840" cy="304812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428640"/>
            <a:ext cx="3276720" cy="304812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Un Programa integrado con visión prospectiv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28800" y="3152880"/>
            <a:ext cx="2405160" cy="2597040"/>
            <a:chOff x="1828800" y="3152880"/>
            <a:chExt cx="2405160" cy="2597040"/>
          </a:xfrm>
        </p:grpSpPr>
        <p:sp>
          <p:nvSpPr>
            <p:cNvPr id="128" name=""/>
            <p:cNvSpPr/>
            <p:nvPr/>
          </p:nvSpPr>
          <p:spPr>
            <a:xfrm>
              <a:off x="1828800" y="3152880"/>
              <a:ext cx="2405160" cy="259704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16080" y="4210200"/>
              <a:ext cx="206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ompeii Capitals"/>
                </a:rPr>
                <a:t>Prospec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556080" y="2438280"/>
            <a:ext cx="2158920" cy="2071800"/>
          </a:xfrm>
          <a:custGeom>
            <a:avLst/>
            <a:gdLst/>
            <a:ahLst/>
            <a:rect l="l" t="t" r="r" b="b"/>
            <a:pathLst>
              <a:path w="1153" h="1122">
                <a:moveTo>
                  <a:pt x="0" y="234"/>
                </a:moveTo>
                <a:lnTo>
                  <a:pt x="0" y="0"/>
                </a:lnTo>
                <a:lnTo>
                  <a:pt x="1152" y="0"/>
                </a:lnTo>
                <a:lnTo>
                  <a:pt x="1153" y="896"/>
                </a:lnTo>
                <a:lnTo>
                  <a:pt x="1053" y="896"/>
                </a:lnTo>
                <a:lnTo>
                  <a:pt x="1049" y="904"/>
                </a:lnTo>
                <a:lnTo>
                  <a:pt x="1046" y="915"/>
                </a:lnTo>
                <a:lnTo>
                  <a:pt x="1046" y="924"/>
                </a:lnTo>
                <a:lnTo>
                  <a:pt x="1047" y="935"/>
                </a:lnTo>
                <a:lnTo>
                  <a:pt x="1051" y="949"/>
                </a:lnTo>
                <a:lnTo>
                  <a:pt x="1055" y="967"/>
                </a:lnTo>
                <a:lnTo>
                  <a:pt x="1059" y="979"/>
                </a:lnTo>
                <a:lnTo>
                  <a:pt x="1062" y="994"/>
                </a:lnTo>
                <a:lnTo>
                  <a:pt x="1064" y="1008"/>
                </a:lnTo>
                <a:lnTo>
                  <a:pt x="1064" y="1022"/>
                </a:lnTo>
                <a:lnTo>
                  <a:pt x="1062" y="1035"/>
                </a:lnTo>
                <a:lnTo>
                  <a:pt x="1059" y="1049"/>
                </a:lnTo>
                <a:lnTo>
                  <a:pt x="1054" y="1062"/>
                </a:lnTo>
                <a:lnTo>
                  <a:pt x="1046" y="1072"/>
                </a:lnTo>
                <a:lnTo>
                  <a:pt x="1035" y="1084"/>
                </a:lnTo>
                <a:lnTo>
                  <a:pt x="1024" y="1093"/>
                </a:lnTo>
                <a:lnTo>
                  <a:pt x="1014" y="1102"/>
                </a:lnTo>
                <a:lnTo>
                  <a:pt x="1002" y="1109"/>
                </a:lnTo>
                <a:lnTo>
                  <a:pt x="988" y="1114"/>
                </a:lnTo>
                <a:lnTo>
                  <a:pt x="971" y="1119"/>
                </a:lnTo>
                <a:lnTo>
                  <a:pt x="955" y="1121"/>
                </a:lnTo>
                <a:lnTo>
                  <a:pt x="941" y="1122"/>
                </a:lnTo>
                <a:lnTo>
                  <a:pt x="926" y="1122"/>
                </a:lnTo>
                <a:lnTo>
                  <a:pt x="912" y="1121"/>
                </a:lnTo>
                <a:lnTo>
                  <a:pt x="901" y="1119"/>
                </a:lnTo>
                <a:lnTo>
                  <a:pt x="888" y="1115"/>
                </a:lnTo>
                <a:lnTo>
                  <a:pt x="875" y="1111"/>
                </a:lnTo>
                <a:lnTo>
                  <a:pt x="865" y="1105"/>
                </a:lnTo>
                <a:lnTo>
                  <a:pt x="854" y="1097"/>
                </a:lnTo>
                <a:lnTo>
                  <a:pt x="844" y="1087"/>
                </a:lnTo>
                <a:lnTo>
                  <a:pt x="834" y="1076"/>
                </a:lnTo>
                <a:lnTo>
                  <a:pt x="825" y="1065"/>
                </a:lnTo>
                <a:lnTo>
                  <a:pt x="818" y="1053"/>
                </a:lnTo>
                <a:lnTo>
                  <a:pt x="813" y="1038"/>
                </a:lnTo>
                <a:lnTo>
                  <a:pt x="809" y="1021"/>
                </a:lnTo>
                <a:lnTo>
                  <a:pt x="809" y="1005"/>
                </a:lnTo>
                <a:lnTo>
                  <a:pt x="813" y="989"/>
                </a:lnTo>
                <a:lnTo>
                  <a:pt x="817" y="973"/>
                </a:lnTo>
                <a:lnTo>
                  <a:pt x="821" y="957"/>
                </a:lnTo>
                <a:lnTo>
                  <a:pt x="826" y="939"/>
                </a:lnTo>
                <a:lnTo>
                  <a:pt x="828" y="925"/>
                </a:lnTo>
                <a:lnTo>
                  <a:pt x="828" y="917"/>
                </a:lnTo>
                <a:lnTo>
                  <a:pt x="827" y="910"/>
                </a:lnTo>
                <a:lnTo>
                  <a:pt x="824" y="902"/>
                </a:lnTo>
                <a:lnTo>
                  <a:pt x="632" y="902"/>
                </a:lnTo>
                <a:lnTo>
                  <a:pt x="635" y="868"/>
                </a:lnTo>
                <a:lnTo>
                  <a:pt x="634" y="849"/>
                </a:lnTo>
                <a:lnTo>
                  <a:pt x="632" y="831"/>
                </a:lnTo>
                <a:lnTo>
                  <a:pt x="630" y="814"/>
                </a:lnTo>
                <a:lnTo>
                  <a:pt x="627" y="803"/>
                </a:lnTo>
                <a:lnTo>
                  <a:pt x="622" y="793"/>
                </a:lnTo>
                <a:lnTo>
                  <a:pt x="616" y="784"/>
                </a:lnTo>
                <a:lnTo>
                  <a:pt x="606" y="776"/>
                </a:lnTo>
                <a:lnTo>
                  <a:pt x="595" y="769"/>
                </a:lnTo>
                <a:lnTo>
                  <a:pt x="584" y="765"/>
                </a:lnTo>
                <a:lnTo>
                  <a:pt x="574" y="763"/>
                </a:lnTo>
                <a:lnTo>
                  <a:pt x="557" y="762"/>
                </a:lnTo>
                <a:lnTo>
                  <a:pt x="537" y="762"/>
                </a:lnTo>
                <a:lnTo>
                  <a:pt x="518" y="764"/>
                </a:lnTo>
                <a:lnTo>
                  <a:pt x="497" y="765"/>
                </a:lnTo>
                <a:lnTo>
                  <a:pt x="481" y="767"/>
                </a:lnTo>
                <a:lnTo>
                  <a:pt x="460" y="768"/>
                </a:lnTo>
                <a:lnTo>
                  <a:pt x="443" y="767"/>
                </a:lnTo>
                <a:lnTo>
                  <a:pt x="428" y="765"/>
                </a:lnTo>
                <a:lnTo>
                  <a:pt x="405" y="760"/>
                </a:lnTo>
                <a:lnTo>
                  <a:pt x="390" y="753"/>
                </a:lnTo>
                <a:lnTo>
                  <a:pt x="376" y="743"/>
                </a:lnTo>
                <a:lnTo>
                  <a:pt x="367" y="732"/>
                </a:lnTo>
                <a:lnTo>
                  <a:pt x="359" y="720"/>
                </a:lnTo>
                <a:lnTo>
                  <a:pt x="353" y="705"/>
                </a:lnTo>
                <a:lnTo>
                  <a:pt x="352" y="689"/>
                </a:lnTo>
                <a:lnTo>
                  <a:pt x="352" y="669"/>
                </a:lnTo>
                <a:lnTo>
                  <a:pt x="353" y="654"/>
                </a:lnTo>
                <a:lnTo>
                  <a:pt x="352" y="639"/>
                </a:lnTo>
                <a:lnTo>
                  <a:pt x="348" y="622"/>
                </a:lnTo>
                <a:lnTo>
                  <a:pt x="345" y="612"/>
                </a:lnTo>
                <a:lnTo>
                  <a:pt x="340" y="602"/>
                </a:lnTo>
                <a:lnTo>
                  <a:pt x="334" y="595"/>
                </a:lnTo>
                <a:lnTo>
                  <a:pt x="328" y="589"/>
                </a:lnTo>
                <a:lnTo>
                  <a:pt x="315" y="583"/>
                </a:lnTo>
                <a:lnTo>
                  <a:pt x="300" y="576"/>
                </a:lnTo>
                <a:lnTo>
                  <a:pt x="283" y="571"/>
                </a:lnTo>
                <a:lnTo>
                  <a:pt x="263" y="566"/>
                </a:lnTo>
                <a:lnTo>
                  <a:pt x="243" y="562"/>
                </a:lnTo>
                <a:lnTo>
                  <a:pt x="222" y="559"/>
                </a:lnTo>
                <a:lnTo>
                  <a:pt x="207" y="554"/>
                </a:lnTo>
                <a:lnTo>
                  <a:pt x="191" y="549"/>
                </a:lnTo>
                <a:lnTo>
                  <a:pt x="175" y="543"/>
                </a:lnTo>
                <a:lnTo>
                  <a:pt x="164" y="534"/>
                </a:lnTo>
                <a:lnTo>
                  <a:pt x="151" y="523"/>
                </a:lnTo>
                <a:lnTo>
                  <a:pt x="142" y="513"/>
                </a:lnTo>
                <a:lnTo>
                  <a:pt x="134" y="501"/>
                </a:lnTo>
                <a:lnTo>
                  <a:pt x="128" y="487"/>
                </a:lnTo>
                <a:lnTo>
                  <a:pt x="126" y="472"/>
                </a:lnTo>
                <a:lnTo>
                  <a:pt x="126" y="458"/>
                </a:lnTo>
                <a:lnTo>
                  <a:pt x="129" y="445"/>
                </a:lnTo>
                <a:lnTo>
                  <a:pt x="134" y="426"/>
                </a:lnTo>
                <a:lnTo>
                  <a:pt x="139" y="407"/>
                </a:lnTo>
                <a:lnTo>
                  <a:pt x="141" y="390"/>
                </a:lnTo>
                <a:lnTo>
                  <a:pt x="145" y="373"/>
                </a:lnTo>
                <a:lnTo>
                  <a:pt x="147" y="356"/>
                </a:lnTo>
                <a:lnTo>
                  <a:pt x="145" y="338"/>
                </a:lnTo>
                <a:lnTo>
                  <a:pt x="141" y="322"/>
                </a:lnTo>
                <a:lnTo>
                  <a:pt x="135" y="306"/>
                </a:lnTo>
                <a:lnTo>
                  <a:pt x="127" y="291"/>
                </a:lnTo>
                <a:lnTo>
                  <a:pt x="118" y="279"/>
                </a:lnTo>
                <a:lnTo>
                  <a:pt x="113" y="272"/>
                </a:lnTo>
                <a:lnTo>
                  <a:pt x="104" y="263"/>
                </a:lnTo>
                <a:lnTo>
                  <a:pt x="95" y="255"/>
                </a:lnTo>
                <a:lnTo>
                  <a:pt x="86" y="249"/>
                </a:lnTo>
                <a:lnTo>
                  <a:pt x="74" y="243"/>
                </a:lnTo>
                <a:lnTo>
                  <a:pt x="62" y="239"/>
                </a:lnTo>
                <a:lnTo>
                  <a:pt x="47" y="235"/>
                </a:lnTo>
                <a:lnTo>
                  <a:pt x="30" y="234"/>
                </a:lnTo>
                <a:lnTo>
                  <a:pt x="15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2007000">
            <a:off x="3556080" y="3146040"/>
            <a:ext cx="2125440" cy="309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iotecnologí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465360" y="4741920"/>
            <a:ext cx="2168640" cy="1735200"/>
            <a:chOff x="3465360" y="4741920"/>
            <a:chExt cx="2168640" cy="1735200"/>
          </a:xfrm>
        </p:grpSpPr>
        <p:sp>
          <p:nvSpPr>
            <p:cNvPr id="133" name=""/>
            <p:cNvSpPr/>
            <p:nvPr/>
          </p:nvSpPr>
          <p:spPr>
            <a:xfrm>
              <a:off x="3465360" y="4741920"/>
              <a:ext cx="2168640" cy="173520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0" y="743"/>
                  </a:moveTo>
                  <a:lnTo>
                    <a:pt x="0" y="940"/>
                  </a:lnTo>
                  <a:lnTo>
                    <a:pt x="1158" y="940"/>
                  </a:lnTo>
                  <a:lnTo>
                    <a:pt x="1157" y="0"/>
                  </a:lnTo>
                  <a:lnTo>
                    <a:pt x="1054" y="0"/>
                  </a:lnTo>
                  <a:lnTo>
                    <a:pt x="1049" y="18"/>
                  </a:lnTo>
                  <a:lnTo>
                    <a:pt x="1049" y="31"/>
                  </a:lnTo>
                  <a:lnTo>
                    <a:pt x="1052" y="49"/>
                  </a:lnTo>
                  <a:lnTo>
                    <a:pt x="1058" y="68"/>
                  </a:lnTo>
                  <a:lnTo>
                    <a:pt x="1064" y="91"/>
                  </a:lnTo>
                  <a:lnTo>
                    <a:pt x="1067" y="109"/>
                  </a:lnTo>
                  <a:lnTo>
                    <a:pt x="1067" y="125"/>
                  </a:lnTo>
                  <a:lnTo>
                    <a:pt x="1065" y="143"/>
                  </a:lnTo>
                  <a:lnTo>
                    <a:pt x="1060" y="160"/>
                  </a:lnTo>
                  <a:lnTo>
                    <a:pt x="1049" y="176"/>
                  </a:lnTo>
                  <a:lnTo>
                    <a:pt x="1036" y="190"/>
                  </a:lnTo>
                  <a:lnTo>
                    <a:pt x="1022" y="203"/>
                  </a:lnTo>
                  <a:lnTo>
                    <a:pt x="1006" y="212"/>
                  </a:lnTo>
                  <a:lnTo>
                    <a:pt x="987" y="219"/>
                  </a:lnTo>
                  <a:lnTo>
                    <a:pt x="970" y="223"/>
                  </a:lnTo>
                  <a:lnTo>
                    <a:pt x="946" y="224"/>
                  </a:lnTo>
                  <a:lnTo>
                    <a:pt x="918" y="222"/>
                  </a:lnTo>
                  <a:lnTo>
                    <a:pt x="900" y="219"/>
                  </a:lnTo>
                  <a:lnTo>
                    <a:pt x="884" y="215"/>
                  </a:lnTo>
                  <a:lnTo>
                    <a:pt x="869" y="206"/>
                  </a:lnTo>
                  <a:lnTo>
                    <a:pt x="850" y="191"/>
                  </a:lnTo>
                  <a:lnTo>
                    <a:pt x="838" y="177"/>
                  </a:lnTo>
                  <a:lnTo>
                    <a:pt x="827" y="162"/>
                  </a:lnTo>
                  <a:lnTo>
                    <a:pt x="821" y="146"/>
                  </a:lnTo>
                  <a:lnTo>
                    <a:pt x="817" y="131"/>
                  </a:lnTo>
                  <a:lnTo>
                    <a:pt x="817" y="114"/>
                  </a:lnTo>
                  <a:lnTo>
                    <a:pt x="819" y="97"/>
                  </a:lnTo>
                  <a:lnTo>
                    <a:pt x="823" y="81"/>
                  </a:lnTo>
                  <a:lnTo>
                    <a:pt x="827" y="66"/>
                  </a:lnTo>
                  <a:lnTo>
                    <a:pt x="832" y="50"/>
                  </a:lnTo>
                  <a:lnTo>
                    <a:pt x="835" y="34"/>
                  </a:lnTo>
                  <a:lnTo>
                    <a:pt x="835" y="20"/>
                  </a:lnTo>
                  <a:lnTo>
                    <a:pt x="831" y="4"/>
                  </a:lnTo>
                  <a:lnTo>
                    <a:pt x="637" y="4"/>
                  </a:lnTo>
                  <a:lnTo>
                    <a:pt x="639" y="37"/>
                  </a:lnTo>
                  <a:lnTo>
                    <a:pt x="637" y="60"/>
                  </a:lnTo>
                  <a:lnTo>
                    <a:pt x="636" y="79"/>
                  </a:lnTo>
                  <a:lnTo>
                    <a:pt x="636" y="96"/>
                  </a:lnTo>
                  <a:lnTo>
                    <a:pt x="634" y="114"/>
                  </a:lnTo>
                  <a:lnTo>
                    <a:pt x="630" y="132"/>
                  </a:lnTo>
                  <a:lnTo>
                    <a:pt x="625" y="144"/>
                  </a:lnTo>
                  <a:lnTo>
                    <a:pt x="618" y="155"/>
                  </a:lnTo>
                  <a:lnTo>
                    <a:pt x="608" y="164"/>
                  </a:lnTo>
                  <a:lnTo>
                    <a:pt x="597" y="171"/>
                  </a:lnTo>
                  <a:lnTo>
                    <a:pt x="584" y="175"/>
                  </a:lnTo>
                  <a:lnTo>
                    <a:pt x="570" y="177"/>
                  </a:lnTo>
                  <a:lnTo>
                    <a:pt x="557" y="178"/>
                  </a:lnTo>
                  <a:lnTo>
                    <a:pt x="540" y="178"/>
                  </a:lnTo>
                  <a:lnTo>
                    <a:pt x="524" y="176"/>
                  </a:lnTo>
                  <a:lnTo>
                    <a:pt x="511" y="175"/>
                  </a:lnTo>
                  <a:lnTo>
                    <a:pt x="494" y="174"/>
                  </a:lnTo>
                  <a:lnTo>
                    <a:pt x="476" y="172"/>
                  </a:lnTo>
                  <a:lnTo>
                    <a:pt x="456" y="172"/>
                  </a:lnTo>
                  <a:lnTo>
                    <a:pt x="439" y="174"/>
                  </a:lnTo>
                  <a:lnTo>
                    <a:pt x="422" y="176"/>
                  </a:lnTo>
                  <a:lnTo>
                    <a:pt x="404" y="181"/>
                  </a:lnTo>
                  <a:lnTo>
                    <a:pt x="391" y="188"/>
                  </a:lnTo>
                  <a:lnTo>
                    <a:pt x="377" y="197"/>
                  </a:lnTo>
                  <a:lnTo>
                    <a:pt x="368" y="209"/>
                  </a:lnTo>
                  <a:lnTo>
                    <a:pt x="359" y="222"/>
                  </a:lnTo>
                  <a:lnTo>
                    <a:pt x="355" y="235"/>
                  </a:lnTo>
                  <a:lnTo>
                    <a:pt x="353" y="250"/>
                  </a:lnTo>
                  <a:lnTo>
                    <a:pt x="355" y="265"/>
                  </a:lnTo>
                  <a:lnTo>
                    <a:pt x="356" y="281"/>
                  </a:lnTo>
                  <a:lnTo>
                    <a:pt x="355" y="298"/>
                  </a:lnTo>
                  <a:lnTo>
                    <a:pt x="352" y="311"/>
                  </a:lnTo>
                  <a:lnTo>
                    <a:pt x="348" y="325"/>
                  </a:lnTo>
                  <a:lnTo>
                    <a:pt x="342" y="338"/>
                  </a:lnTo>
                  <a:lnTo>
                    <a:pt x="334" y="347"/>
                  </a:lnTo>
                  <a:lnTo>
                    <a:pt x="321" y="356"/>
                  </a:lnTo>
                  <a:lnTo>
                    <a:pt x="305" y="362"/>
                  </a:lnTo>
                  <a:lnTo>
                    <a:pt x="289" y="367"/>
                  </a:lnTo>
                  <a:lnTo>
                    <a:pt x="274" y="371"/>
                  </a:lnTo>
                  <a:lnTo>
                    <a:pt x="258" y="375"/>
                  </a:lnTo>
                  <a:lnTo>
                    <a:pt x="237" y="379"/>
                  </a:lnTo>
                  <a:lnTo>
                    <a:pt x="221" y="382"/>
                  </a:lnTo>
                  <a:lnTo>
                    <a:pt x="204" y="387"/>
                  </a:lnTo>
                  <a:lnTo>
                    <a:pt x="190" y="392"/>
                  </a:lnTo>
                  <a:lnTo>
                    <a:pt x="176" y="398"/>
                  </a:lnTo>
                  <a:lnTo>
                    <a:pt x="165" y="406"/>
                  </a:lnTo>
                  <a:lnTo>
                    <a:pt x="155" y="414"/>
                  </a:lnTo>
                  <a:lnTo>
                    <a:pt x="144" y="427"/>
                  </a:lnTo>
                  <a:lnTo>
                    <a:pt x="137" y="439"/>
                  </a:lnTo>
                  <a:lnTo>
                    <a:pt x="131" y="453"/>
                  </a:lnTo>
                  <a:lnTo>
                    <a:pt x="128" y="470"/>
                  </a:lnTo>
                  <a:lnTo>
                    <a:pt x="130" y="486"/>
                  </a:lnTo>
                  <a:lnTo>
                    <a:pt x="132" y="502"/>
                  </a:lnTo>
                  <a:lnTo>
                    <a:pt x="137" y="521"/>
                  </a:lnTo>
                  <a:lnTo>
                    <a:pt x="142" y="542"/>
                  </a:lnTo>
                  <a:lnTo>
                    <a:pt x="146" y="561"/>
                  </a:lnTo>
                  <a:lnTo>
                    <a:pt x="148" y="576"/>
                  </a:lnTo>
                  <a:lnTo>
                    <a:pt x="148" y="590"/>
                  </a:lnTo>
                  <a:lnTo>
                    <a:pt x="146" y="609"/>
                  </a:lnTo>
                  <a:lnTo>
                    <a:pt x="141" y="625"/>
                  </a:lnTo>
                  <a:lnTo>
                    <a:pt x="137" y="639"/>
                  </a:lnTo>
                  <a:lnTo>
                    <a:pt x="131" y="652"/>
                  </a:lnTo>
                  <a:lnTo>
                    <a:pt x="123" y="669"/>
                  </a:lnTo>
                  <a:lnTo>
                    <a:pt x="112" y="688"/>
                  </a:lnTo>
                  <a:lnTo>
                    <a:pt x="100" y="702"/>
                  </a:lnTo>
                  <a:lnTo>
                    <a:pt x="88" y="713"/>
                  </a:lnTo>
                  <a:lnTo>
                    <a:pt x="77" y="723"/>
                  </a:lnTo>
                  <a:lnTo>
                    <a:pt x="65" y="731"/>
                  </a:lnTo>
                  <a:lnTo>
                    <a:pt x="53" y="736"/>
                  </a:lnTo>
                  <a:lnTo>
                    <a:pt x="36" y="740"/>
                  </a:lnTo>
                  <a:lnTo>
                    <a:pt x="17" y="743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9687800">
              <a:off x="4005000" y="5451120"/>
              <a:ext cx="143820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Calida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7880" y="4387680"/>
            <a:ext cx="2160720" cy="2070360"/>
          </a:xfrm>
          <a:custGeom>
            <a:avLst/>
            <a:gdLst/>
            <a:ahLst/>
            <a:rect l="l" t="t" r="r" b="b"/>
            <a:pathLst>
              <a:path w="1153" h="1122">
                <a:moveTo>
                  <a:pt x="1153" y="924"/>
                </a:moveTo>
                <a:lnTo>
                  <a:pt x="1153" y="1122"/>
                </a:lnTo>
                <a:lnTo>
                  <a:pt x="1" y="1122"/>
                </a:lnTo>
                <a:lnTo>
                  <a:pt x="0" y="226"/>
                </a:lnTo>
                <a:lnTo>
                  <a:pt x="100" y="226"/>
                </a:lnTo>
                <a:lnTo>
                  <a:pt x="104" y="218"/>
                </a:lnTo>
                <a:lnTo>
                  <a:pt x="107" y="207"/>
                </a:lnTo>
                <a:lnTo>
                  <a:pt x="107" y="198"/>
                </a:lnTo>
                <a:lnTo>
                  <a:pt x="106" y="187"/>
                </a:lnTo>
                <a:lnTo>
                  <a:pt x="102" y="173"/>
                </a:lnTo>
                <a:lnTo>
                  <a:pt x="98" y="155"/>
                </a:lnTo>
                <a:lnTo>
                  <a:pt x="94" y="143"/>
                </a:lnTo>
                <a:lnTo>
                  <a:pt x="90" y="128"/>
                </a:lnTo>
                <a:lnTo>
                  <a:pt x="89" y="114"/>
                </a:lnTo>
                <a:lnTo>
                  <a:pt x="89" y="100"/>
                </a:lnTo>
                <a:lnTo>
                  <a:pt x="90" y="87"/>
                </a:lnTo>
                <a:lnTo>
                  <a:pt x="94" y="73"/>
                </a:lnTo>
                <a:lnTo>
                  <a:pt x="99" y="60"/>
                </a:lnTo>
                <a:lnTo>
                  <a:pt x="107" y="50"/>
                </a:lnTo>
                <a:lnTo>
                  <a:pt x="118" y="38"/>
                </a:lnTo>
                <a:lnTo>
                  <a:pt x="128" y="29"/>
                </a:lnTo>
                <a:lnTo>
                  <a:pt x="139" y="20"/>
                </a:lnTo>
                <a:lnTo>
                  <a:pt x="151" y="13"/>
                </a:lnTo>
                <a:lnTo>
                  <a:pt x="165" y="7"/>
                </a:lnTo>
                <a:lnTo>
                  <a:pt x="181" y="3"/>
                </a:lnTo>
                <a:lnTo>
                  <a:pt x="198" y="1"/>
                </a:lnTo>
                <a:lnTo>
                  <a:pt x="212" y="0"/>
                </a:lnTo>
                <a:lnTo>
                  <a:pt x="227" y="0"/>
                </a:lnTo>
                <a:lnTo>
                  <a:pt x="241" y="1"/>
                </a:lnTo>
                <a:lnTo>
                  <a:pt x="252" y="3"/>
                </a:lnTo>
                <a:lnTo>
                  <a:pt x="265" y="7"/>
                </a:lnTo>
                <a:lnTo>
                  <a:pt x="278" y="11"/>
                </a:lnTo>
                <a:lnTo>
                  <a:pt x="288" y="17"/>
                </a:lnTo>
                <a:lnTo>
                  <a:pt x="299" y="25"/>
                </a:lnTo>
                <a:lnTo>
                  <a:pt x="309" y="35"/>
                </a:lnTo>
                <a:lnTo>
                  <a:pt x="319" y="46"/>
                </a:lnTo>
                <a:lnTo>
                  <a:pt x="328" y="57"/>
                </a:lnTo>
                <a:lnTo>
                  <a:pt x="335" y="69"/>
                </a:lnTo>
                <a:lnTo>
                  <a:pt x="340" y="84"/>
                </a:lnTo>
                <a:lnTo>
                  <a:pt x="344" y="101"/>
                </a:lnTo>
                <a:lnTo>
                  <a:pt x="344" y="117"/>
                </a:lnTo>
                <a:lnTo>
                  <a:pt x="340" y="133"/>
                </a:lnTo>
                <a:lnTo>
                  <a:pt x="336" y="149"/>
                </a:lnTo>
                <a:lnTo>
                  <a:pt x="332" y="165"/>
                </a:lnTo>
                <a:lnTo>
                  <a:pt x="327" y="183"/>
                </a:lnTo>
                <a:lnTo>
                  <a:pt x="324" y="197"/>
                </a:lnTo>
                <a:lnTo>
                  <a:pt x="324" y="205"/>
                </a:lnTo>
                <a:lnTo>
                  <a:pt x="326" y="212"/>
                </a:lnTo>
                <a:lnTo>
                  <a:pt x="329" y="220"/>
                </a:lnTo>
                <a:lnTo>
                  <a:pt x="520" y="220"/>
                </a:lnTo>
                <a:lnTo>
                  <a:pt x="516" y="257"/>
                </a:lnTo>
                <a:lnTo>
                  <a:pt x="515" y="279"/>
                </a:lnTo>
                <a:lnTo>
                  <a:pt x="516" y="297"/>
                </a:lnTo>
                <a:lnTo>
                  <a:pt x="517" y="314"/>
                </a:lnTo>
                <a:lnTo>
                  <a:pt x="519" y="332"/>
                </a:lnTo>
                <a:lnTo>
                  <a:pt x="522" y="350"/>
                </a:lnTo>
                <a:lnTo>
                  <a:pt x="528" y="362"/>
                </a:lnTo>
                <a:lnTo>
                  <a:pt x="535" y="372"/>
                </a:lnTo>
                <a:lnTo>
                  <a:pt x="544" y="381"/>
                </a:lnTo>
                <a:lnTo>
                  <a:pt x="556" y="388"/>
                </a:lnTo>
                <a:lnTo>
                  <a:pt x="569" y="393"/>
                </a:lnTo>
                <a:lnTo>
                  <a:pt x="582" y="395"/>
                </a:lnTo>
                <a:lnTo>
                  <a:pt x="596" y="396"/>
                </a:lnTo>
                <a:lnTo>
                  <a:pt x="612" y="396"/>
                </a:lnTo>
                <a:lnTo>
                  <a:pt x="629" y="394"/>
                </a:lnTo>
                <a:lnTo>
                  <a:pt x="641" y="393"/>
                </a:lnTo>
                <a:lnTo>
                  <a:pt x="659" y="391"/>
                </a:lnTo>
                <a:lnTo>
                  <a:pt x="677" y="389"/>
                </a:lnTo>
                <a:lnTo>
                  <a:pt x="697" y="389"/>
                </a:lnTo>
                <a:lnTo>
                  <a:pt x="714" y="391"/>
                </a:lnTo>
                <a:lnTo>
                  <a:pt x="731" y="394"/>
                </a:lnTo>
                <a:lnTo>
                  <a:pt x="748" y="400"/>
                </a:lnTo>
                <a:lnTo>
                  <a:pt x="762" y="406"/>
                </a:lnTo>
                <a:lnTo>
                  <a:pt x="776" y="416"/>
                </a:lnTo>
                <a:lnTo>
                  <a:pt x="785" y="427"/>
                </a:lnTo>
                <a:lnTo>
                  <a:pt x="793" y="440"/>
                </a:lnTo>
                <a:lnTo>
                  <a:pt x="798" y="454"/>
                </a:lnTo>
                <a:lnTo>
                  <a:pt x="800" y="468"/>
                </a:lnTo>
                <a:lnTo>
                  <a:pt x="798" y="484"/>
                </a:lnTo>
                <a:lnTo>
                  <a:pt x="797" y="500"/>
                </a:lnTo>
                <a:lnTo>
                  <a:pt x="798" y="516"/>
                </a:lnTo>
                <a:lnTo>
                  <a:pt x="800" y="530"/>
                </a:lnTo>
                <a:lnTo>
                  <a:pt x="805" y="543"/>
                </a:lnTo>
                <a:lnTo>
                  <a:pt x="811" y="556"/>
                </a:lnTo>
                <a:lnTo>
                  <a:pt x="819" y="565"/>
                </a:lnTo>
                <a:lnTo>
                  <a:pt x="831" y="574"/>
                </a:lnTo>
                <a:lnTo>
                  <a:pt x="847" y="580"/>
                </a:lnTo>
                <a:lnTo>
                  <a:pt x="864" y="585"/>
                </a:lnTo>
                <a:lnTo>
                  <a:pt x="878" y="589"/>
                </a:lnTo>
                <a:lnTo>
                  <a:pt x="895" y="593"/>
                </a:lnTo>
                <a:lnTo>
                  <a:pt x="915" y="597"/>
                </a:lnTo>
                <a:lnTo>
                  <a:pt x="932" y="600"/>
                </a:lnTo>
                <a:lnTo>
                  <a:pt x="949" y="605"/>
                </a:lnTo>
                <a:lnTo>
                  <a:pt x="963" y="610"/>
                </a:lnTo>
                <a:lnTo>
                  <a:pt x="977" y="616"/>
                </a:lnTo>
                <a:lnTo>
                  <a:pt x="988" y="624"/>
                </a:lnTo>
                <a:lnTo>
                  <a:pt x="997" y="632"/>
                </a:lnTo>
                <a:lnTo>
                  <a:pt x="1009" y="645"/>
                </a:lnTo>
                <a:lnTo>
                  <a:pt x="1016" y="657"/>
                </a:lnTo>
                <a:lnTo>
                  <a:pt x="1022" y="670"/>
                </a:lnTo>
                <a:lnTo>
                  <a:pt x="1025" y="688"/>
                </a:lnTo>
                <a:lnTo>
                  <a:pt x="1023" y="705"/>
                </a:lnTo>
                <a:lnTo>
                  <a:pt x="1020" y="720"/>
                </a:lnTo>
                <a:lnTo>
                  <a:pt x="1016" y="739"/>
                </a:lnTo>
                <a:lnTo>
                  <a:pt x="1011" y="760"/>
                </a:lnTo>
                <a:lnTo>
                  <a:pt x="1006" y="779"/>
                </a:lnTo>
                <a:lnTo>
                  <a:pt x="1004" y="795"/>
                </a:lnTo>
                <a:lnTo>
                  <a:pt x="1004" y="808"/>
                </a:lnTo>
                <a:lnTo>
                  <a:pt x="1007" y="827"/>
                </a:lnTo>
                <a:lnTo>
                  <a:pt x="1011" y="843"/>
                </a:lnTo>
                <a:lnTo>
                  <a:pt x="1017" y="855"/>
                </a:lnTo>
                <a:lnTo>
                  <a:pt x="1024" y="867"/>
                </a:lnTo>
                <a:lnTo>
                  <a:pt x="1034" y="880"/>
                </a:lnTo>
                <a:lnTo>
                  <a:pt x="1045" y="893"/>
                </a:lnTo>
                <a:lnTo>
                  <a:pt x="1058" y="904"/>
                </a:lnTo>
                <a:lnTo>
                  <a:pt x="1073" y="913"/>
                </a:lnTo>
                <a:lnTo>
                  <a:pt x="1087" y="918"/>
                </a:lnTo>
                <a:lnTo>
                  <a:pt x="1102" y="922"/>
                </a:lnTo>
                <a:lnTo>
                  <a:pt x="1117" y="924"/>
                </a:lnTo>
                <a:lnTo>
                  <a:pt x="1135" y="925"/>
                </a:lnTo>
                <a:lnTo>
                  <a:pt x="1153" y="924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 rot="1730400">
            <a:off x="345600" y="5384880"/>
            <a:ext cx="1992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Limp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8960" y="2438280"/>
            <a:ext cx="2168640" cy="1735200"/>
            <a:chOff x="318960" y="2438280"/>
            <a:chExt cx="2168640" cy="1735200"/>
          </a:xfrm>
        </p:grpSpPr>
        <p:sp>
          <p:nvSpPr>
            <p:cNvPr id="138" name=""/>
            <p:cNvSpPr/>
            <p:nvPr/>
          </p:nvSpPr>
          <p:spPr>
            <a:xfrm>
              <a:off x="318960" y="2438280"/>
              <a:ext cx="2168640" cy="173520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1158" y="23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" y="940"/>
                  </a:lnTo>
                  <a:lnTo>
                    <a:pt x="104" y="940"/>
                  </a:lnTo>
                  <a:lnTo>
                    <a:pt x="109" y="922"/>
                  </a:lnTo>
                  <a:lnTo>
                    <a:pt x="109" y="909"/>
                  </a:lnTo>
                  <a:lnTo>
                    <a:pt x="106" y="891"/>
                  </a:lnTo>
                  <a:lnTo>
                    <a:pt x="100" y="872"/>
                  </a:lnTo>
                  <a:lnTo>
                    <a:pt x="94" y="849"/>
                  </a:lnTo>
                  <a:lnTo>
                    <a:pt x="91" y="831"/>
                  </a:lnTo>
                  <a:lnTo>
                    <a:pt x="90" y="815"/>
                  </a:lnTo>
                  <a:lnTo>
                    <a:pt x="93" y="797"/>
                  </a:lnTo>
                  <a:lnTo>
                    <a:pt x="98" y="780"/>
                  </a:lnTo>
                  <a:lnTo>
                    <a:pt x="109" y="763"/>
                  </a:lnTo>
                  <a:lnTo>
                    <a:pt x="122" y="750"/>
                  </a:lnTo>
                  <a:lnTo>
                    <a:pt x="136" y="737"/>
                  </a:lnTo>
                  <a:lnTo>
                    <a:pt x="152" y="728"/>
                  </a:lnTo>
                  <a:lnTo>
                    <a:pt x="171" y="720"/>
                  </a:lnTo>
                  <a:lnTo>
                    <a:pt x="188" y="717"/>
                  </a:lnTo>
                  <a:lnTo>
                    <a:pt x="212" y="716"/>
                  </a:lnTo>
                  <a:lnTo>
                    <a:pt x="240" y="718"/>
                  </a:lnTo>
                  <a:lnTo>
                    <a:pt x="258" y="720"/>
                  </a:lnTo>
                  <a:lnTo>
                    <a:pt x="274" y="725"/>
                  </a:lnTo>
                  <a:lnTo>
                    <a:pt x="289" y="734"/>
                  </a:lnTo>
                  <a:lnTo>
                    <a:pt x="308" y="749"/>
                  </a:lnTo>
                  <a:lnTo>
                    <a:pt x="320" y="763"/>
                  </a:lnTo>
                  <a:lnTo>
                    <a:pt x="331" y="778"/>
                  </a:lnTo>
                  <a:lnTo>
                    <a:pt x="337" y="794"/>
                  </a:lnTo>
                  <a:lnTo>
                    <a:pt x="341" y="809"/>
                  </a:lnTo>
                  <a:lnTo>
                    <a:pt x="341" y="826"/>
                  </a:lnTo>
                  <a:lnTo>
                    <a:pt x="339" y="843"/>
                  </a:lnTo>
                  <a:lnTo>
                    <a:pt x="335" y="859"/>
                  </a:lnTo>
                  <a:lnTo>
                    <a:pt x="331" y="874"/>
                  </a:lnTo>
                  <a:lnTo>
                    <a:pt x="326" y="890"/>
                  </a:lnTo>
                  <a:lnTo>
                    <a:pt x="323" y="906"/>
                  </a:lnTo>
                  <a:lnTo>
                    <a:pt x="323" y="920"/>
                  </a:lnTo>
                  <a:lnTo>
                    <a:pt x="327" y="936"/>
                  </a:lnTo>
                  <a:lnTo>
                    <a:pt x="521" y="936"/>
                  </a:lnTo>
                  <a:lnTo>
                    <a:pt x="519" y="903"/>
                  </a:lnTo>
                  <a:lnTo>
                    <a:pt x="521" y="879"/>
                  </a:lnTo>
                  <a:lnTo>
                    <a:pt x="521" y="861"/>
                  </a:lnTo>
                  <a:lnTo>
                    <a:pt x="522" y="844"/>
                  </a:lnTo>
                  <a:lnTo>
                    <a:pt x="524" y="826"/>
                  </a:lnTo>
                  <a:lnTo>
                    <a:pt x="528" y="808"/>
                  </a:lnTo>
                  <a:lnTo>
                    <a:pt x="533" y="796"/>
                  </a:lnTo>
                  <a:lnTo>
                    <a:pt x="540" y="785"/>
                  </a:lnTo>
                  <a:lnTo>
                    <a:pt x="550" y="776"/>
                  </a:lnTo>
                  <a:lnTo>
                    <a:pt x="561" y="769"/>
                  </a:lnTo>
                  <a:lnTo>
                    <a:pt x="574" y="765"/>
                  </a:lnTo>
                  <a:lnTo>
                    <a:pt x="588" y="763"/>
                  </a:lnTo>
                  <a:lnTo>
                    <a:pt x="601" y="762"/>
                  </a:lnTo>
                  <a:lnTo>
                    <a:pt x="618" y="762"/>
                  </a:lnTo>
                  <a:lnTo>
                    <a:pt x="634" y="763"/>
                  </a:lnTo>
                  <a:lnTo>
                    <a:pt x="647" y="765"/>
                  </a:lnTo>
                  <a:lnTo>
                    <a:pt x="664" y="766"/>
                  </a:lnTo>
                  <a:lnTo>
                    <a:pt x="682" y="768"/>
                  </a:lnTo>
                  <a:lnTo>
                    <a:pt x="702" y="768"/>
                  </a:lnTo>
                  <a:lnTo>
                    <a:pt x="719" y="766"/>
                  </a:lnTo>
                  <a:lnTo>
                    <a:pt x="736" y="763"/>
                  </a:lnTo>
                  <a:lnTo>
                    <a:pt x="754" y="759"/>
                  </a:lnTo>
                  <a:lnTo>
                    <a:pt x="767" y="752"/>
                  </a:lnTo>
                  <a:lnTo>
                    <a:pt x="781" y="743"/>
                  </a:lnTo>
                  <a:lnTo>
                    <a:pt x="790" y="731"/>
                  </a:lnTo>
                  <a:lnTo>
                    <a:pt x="799" y="718"/>
                  </a:lnTo>
                  <a:lnTo>
                    <a:pt x="803" y="705"/>
                  </a:lnTo>
                  <a:lnTo>
                    <a:pt x="805" y="690"/>
                  </a:lnTo>
                  <a:lnTo>
                    <a:pt x="803" y="675"/>
                  </a:lnTo>
                  <a:lnTo>
                    <a:pt x="802" y="659"/>
                  </a:lnTo>
                  <a:lnTo>
                    <a:pt x="803" y="642"/>
                  </a:lnTo>
                  <a:lnTo>
                    <a:pt x="806" y="629"/>
                  </a:lnTo>
                  <a:lnTo>
                    <a:pt x="810" y="615"/>
                  </a:lnTo>
                  <a:lnTo>
                    <a:pt x="816" y="602"/>
                  </a:lnTo>
                  <a:lnTo>
                    <a:pt x="824" y="593"/>
                  </a:lnTo>
                  <a:lnTo>
                    <a:pt x="837" y="584"/>
                  </a:lnTo>
                  <a:lnTo>
                    <a:pt x="853" y="578"/>
                  </a:lnTo>
                  <a:lnTo>
                    <a:pt x="869" y="573"/>
                  </a:lnTo>
                  <a:lnTo>
                    <a:pt x="884" y="569"/>
                  </a:lnTo>
                  <a:lnTo>
                    <a:pt x="900" y="565"/>
                  </a:lnTo>
                  <a:lnTo>
                    <a:pt x="921" y="561"/>
                  </a:lnTo>
                  <a:lnTo>
                    <a:pt x="937" y="558"/>
                  </a:lnTo>
                  <a:lnTo>
                    <a:pt x="954" y="553"/>
                  </a:lnTo>
                  <a:lnTo>
                    <a:pt x="968" y="548"/>
                  </a:lnTo>
                  <a:lnTo>
                    <a:pt x="982" y="542"/>
                  </a:lnTo>
                  <a:lnTo>
                    <a:pt x="993" y="534"/>
                  </a:lnTo>
                  <a:lnTo>
                    <a:pt x="1003" y="526"/>
                  </a:lnTo>
                  <a:lnTo>
                    <a:pt x="1014" y="513"/>
                  </a:lnTo>
                  <a:lnTo>
                    <a:pt x="1021" y="501"/>
                  </a:lnTo>
                  <a:lnTo>
                    <a:pt x="1027" y="487"/>
                  </a:lnTo>
                  <a:lnTo>
                    <a:pt x="1030" y="469"/>
                  </a:lnTo>
                  <a:lnTo>
                    <a:pt x="1028" y="454"/>
                  </a:lnTo>
                  <a:lnTo>
                    <a:pt x="1026" y="438"/>
                  </a:lnTo>
                  <a:lnTo>
                    <a:pt x="1021" y="419"/>
                  </a:lnTo>
                  <a:lnTo>
                    <a:pt x="1016" y="398"/>
                  </a:lnTo>
                  <a:lnTo>
                    <a:pt x="1011" y="379"/>
                  </a:lnTo>
                  <a:lnTo>
                    <a:pt x="1010" y="364"/>
                  </a:lnTo>
                  <a:lnTo>
                    <a:pt x="1010" y="350"/>
                  </a:lnTo>
                  <a:lnTo>
                    <a:pt x="1012" y="331"/>
                  </a:lnTo>
                  <a:lnTo>
                    <a:pt x="1017" y="315"/>
                  </a:lnTo>
                  <a:lnTo>
                    <a:pt x="1022" y="303"/>
                  </a:lnTo>
                  <a:lnTo>
                    <a:pt x="1029" y="291"/>
                  </a:lnTo>
                  <a:lnTo>
                    <a:pt x="1039" y="278"/>
                  </a:lnTo>
                  <a:lnTo>
                    <a:pt x="1050" y="265"/>
                  </a:lnTo>
                  <a:lnTo>
                    <a:pt x="1064" y="254"/>
                  </a:lnTo>
                  <a:lnTo>
                    <a:pt x="1079" y="245"/>
                  </a:lnTo>
                  <a:lnTo>
                    <a:pt x="1093" y="240"/>
                  </a:lnTo>
                  <a:lnTo>
                    <a:pt x="1107" y="236"/>
                  </a:lnTo>
                  <a:lnTo>
                    <a:pt x="1122" y="234"/>
                  </a:lnTo>
                  <a:lnTo>
                    <a:pt x="1140" y="234"/>
                  </a:lnTo>
                  <a:lnTo>
                    <a:pt x="1158" y="234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 rot="20298000">
              <a:off x="749160" y="3024000"/>
              <a:ext cx="909720" cy="498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TIC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705720" y="1828800"/>
            <a:ext cx="2209680" cy="1557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Times New Roman"/>
              </a:rPr>
              <a:t>Sector Productivo</a:t>
            </a:r>
            <a:r>
              <a:rPr b="1" i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(especialmente PY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4920" y="1828440"/>
            <a:ext cx="6400800" cy="60948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715000" y="1828440"/>
            <a:ext cx="3200400" cy="60948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007400">
            <a:off x="3657600" y="3733560"/>
            <a:ext cx="609480" cy="152280"/>
          </a:xfrm>
          <a:prstGeom prst="leftRightArrow">
            <a:avLst>
              <a:gd name="adj1" fmla="val 40519"/>
              <a:gd name="adj2" fmla="val 11301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007400">
            <a:off x="1828440" y="4952520"/>
            <a:ext cx="609480" cy="152640"/>
          </a:xfrm>
          <a:prstGeom prst="leftRightArrow">
            <a:avLst>
              <a:gd name="adj1" fmla="val 40519"/>
              <a:gd name="adj2" fmla="val 11274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17800">
            <a:off x="1828440" y="3657600"/>
            <a:ext cx="609480" cy="152280"/>
          </a:xfrm>
          <a:prstGeom prst="leftRightArrow">
            <a:avLst>
              <a:gd name="adj1" fmla="val 40519"/>
              <a:gd name="adj2" fmla="val 11301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17800">
            <a:off x="3504960" y="5181480"/>
            <a:ext cx="609480" cy="152640"/>
          </a:xfrm>
          <a:prstGeom prst="leftRightArrow">
            <a:avLst>
              <a:gd name="adj1" fmla="val 40519"/>
              <a:gd name="adj2" fmla="val 11274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spectiv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dimiento utilizado por las economías modernas para definir y orientar sus estrategias tecnológicas y productivas de mediano plaz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dentificar y priorizar áreas de nuestra economía, sobre las cuales diseñar y poner en marcha programas estratég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so ampliamente participativo, donde concurren Gobierno, empresarios, académicos, trabajadores y sociedad civ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ICs, o el desarrollo de la economía digit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usca promover el desarrollo y uso de las nuevas tecnologías de información y comunicación, del comercio electrónico e Internet en los negoc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ponent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l Comité Gubernamental de Nuevas Tecnologías de Información y Comuni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oyo a la incorporación de las TICs en las micro y pequeñas empres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y fortalecimiento del sector T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istema de Información en Red para la Empresa (SIR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iotecnología: agregar valor a la producción de recursos natur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crementar el desarrollo biotecnológico en los sectores forestal, agropecuario y acuícola, como una herramienta para mejorar su competitividad, la calidad de productos y procesos y su valor agreg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inanciamiento de proyectos biotecnológ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mación de capacidades de recursos human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 los servicios de apoyo a la biotecnologí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cnologías limpias: prevenir contamin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timular el aumento de la competitividad y el desempeño ambiental preventivo de las empresas, apoyando el desarrollo de procesos de producción más limp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 mecanismos de cooperación público-priv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la infraestructura de información en P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centivos y financiamiento para fomentar la gestión ambient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mación de capacidades en P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Gestión de calidad para PYMEs más competitiv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crementar la productividad y calidad de las PYME, mediante la utilización de modelos de gestión eficiente y de un  mejoramiento de la infraestructura de calidad del paí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ifusión de un modelo de gestión de excelencia en las PY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omoción de la utilización de normas de gestión de calidad (ISO 9000 y otra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mpliación de la infraestructura para certificación de ca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structura de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74640" y="5638680"/>
            <a:ext cx="7707240" cy="919440"/>
            <a:chOff x="674640" y="5638680"/>
            <a:chExt cx="7707240" cy="919440"/>
          </a:xfrm>
        </p:grpSpPr>
        <p:sp>
          <p:nvSpPr>
            <p:cNvPr id="159" name=""/>
            <p:cNvSpPr/>
            <p:nvPr/>
          </p:nvSpPr>
          <p:spPr>
            <a:xfrm>
              <a:off x="933480" y="5850000"/>
              <a:ext cx="801720" cy="457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60840" y="5942160"/>
              <a:ext cx="557280" cy="320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35560" y="5959440"/>
              <a:ext cx="435240" cy="246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5560" y="5829480"/>
              <a:ext cx="1625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Importante particip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38720" y="5845320"/>
              <a:ext cx="152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articipación 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56480" y="585000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equeña particip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4640" y="5638680"/>
              <a:ext cx="7669080" cy="9194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9200" y="1603440"/>
          <a:ext cx="8032680" cy="377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0" y="1603440"/>
                    <a:ext cx="80326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II. Nuevas líneas e instrument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Nuevas líneas CORFO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so de integración FONTEC-FD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s reg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Tecnologías inalámbricas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stimular el desarrollo de nuevos negocios en TIC en el ámbito de las soluciones inalámbrica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Reformulación líne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Incubad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re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talecimi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Nuevas líneas CORFO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íne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Proyectos de interés público recurr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royectos orientados a la toma de decis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royectos de larga ejecución (RR.NN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Hasta por 6 años y hasta US$ 1 mill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Dos etapas: perfil + proye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Política de Desarrollo Productivo y Polític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La política tecnológica se inscribe en un esfuerzo mayor del Gobierno: la Política de Desarrollo Produc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omponent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novación tecnológ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modernización de PYME y MYP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ducción limp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sarrollo productivo reg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sarrollo de la competi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Programa Bicentenario de CyT (CONICYT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ejoramiento del Sistema de C+T+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rategias, políticas, sensibiliz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apacidades de monitoreo y evalu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talecimiento de la Base Científic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excelencia en cienc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formación K humano avanza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equipamiento mayor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mento de la Vinculación Pública-Priv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onsorcios de investigación tecnológica cooperati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Investigadores en la industr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onsorcios internacionales de investigación tecnológica cooperati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Entidades de Transferencia Tecnológic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ha diseñado un modelo básico de entidades de transferencia tecnológica (Ues-empresa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rentabilizar la inversión en I+D, apoyando la generación de nuevos negocios tecnológ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propone estructura de consorcio, principalmente entre 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Énfasis en desarrollo de la 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hará una convocatoria el 2º semestre de 2004 (FDI+FONDEF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Línea de apoyo al patentamiento y otros derechos de PI (FDI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ínea a ser implementada por el FD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eneficiarios: empresas, univers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rientado a un negocio tecnológ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ubsidio parcial a los gastos asociados a la obtención de un derecho de 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Variedades veget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o incluye gastos de litig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Consorcios empresariales tecnológico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iciativa impulsada desde Chile Innova (Genoma) y la Comisión Presidencial de Biotecn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 Conjunta CONICYT-CORFO-F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generar programas de I+D+i, con impactos sectoriales, entre empresas e instituciones de investig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presentaron 63 perfiles, algunos de los cuales serán invitados a presentar su propuesta complet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l Programa </a:t>
            </a:r>
            <a:br>
              <a:rPr sz="4400"/>
            </a:b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de Ciencia y Tecnología ‘92-’95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Nace del propósito del gobierno chileno de sustentar el crecimiento económico en incrementos de produ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Se desarrolló entre 1992 y 1995, gracias a un contrato entre el BID y el gobierno chile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Se basó en la acción de 3 Fondos: FONTEC, FONDEF y FONDECY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l Programa de Innovación Tecnológica 1996-2000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Reorientación: desde un sistema nacional de Ciencia y Tecnología a un Sistema Nacional de Innovación (SNI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Integra nuevos fon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ompletamente financiado por el Presupuesto 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Basado en la cooperación interinstitucional: CONICYT, CORFO, ministerios de Economía y Agri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structura del PI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86040" y="2063880"/>
            <a:ext cx="6727680" cy="4413240"/>
            <a:chOff x="986040" y="2063880"/>
            <a:chExt cx="6727680" cy="4413240"/>
          </a:xfrm>
        </p:grpSpPr>
        <p:sp>
          <p:nvSpPr>
            <p:cNvPr id="52" name=""/>
            <p:cNvSpPr/>
            <p:nvPr/>
          </p:nvSpPr>
          <p:spPr>
            <a:xfrm>
              <a:off x="3525840" y="5850360"/>
              <a:ext cx="1314360" cy="626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25840" y="4951800"/>
              <a:ext cx="1314360" cy="628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25840" y="4056480"/>
              <a:ext cx="1314360" cy="626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5840" y="3159360"/>
              <a:ext cx="1314360" cy="6271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29080" y="2292480"/>
              <a:ext cx="1314360" cy="6289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99360" y="5850360"/>
              <a:ext cx="1314360" cy="6267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99360" y="4951800"/>
              <a:ext cx="1314360" cy="628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99360" y="3478320"/>
              <a:ext cx="1314360" cy="628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99360" y="2325960"/>
              <a:ext cx="1314360" cy="628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04920" y="4075200"/>
              <a:ext cx="1409760" cy="6375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cretar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jecu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5880" y="2473560"/>
              <a:ext cx="57600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36720" y="3306960"/>
              <a:ext cx="112176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ONT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84320" y="4202280"/>
              <a:ext cx="55008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36720" y="5100840"/>
              <a:ext cx="112176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OND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37160" y="2473560"/>
              <a:ext cx="126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EC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11680" y="3627720"/>
              <a:ext cx="1007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R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32840" y="4972320"/>
              <a:ext cx="1246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ED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ONICY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37160" y="599616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AG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6760" y="5264280"/>
              <a:ext cx="1092240" cy="639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04560" y="5227920"/>
              <a:ext cx="1045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m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é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51080" y="2640240"/>
              <a:ext cx="370080" cy="3524400"/>
            </a:xfrm>
            <a:custGeom>
              <a:avLst/>
              <a:gdLst/>
              <a:ahLst/>
              <a:rect l="l" t="t" r="r" b="b"/>
              <a:pathLst>
                <a:path w="233" h="2220">
                  <a:moveTo>
                    <a:pt x="232" y="0"/>
                  </a:moveTo>
                  <a:lnTo>
                    <a:pt x="0" y="0"/>
                  </a:lnTo>
                  <a:lnTo>
                    <a:pt x="0" y="2219"/>
                  </a:lnTo>
                  <a:lnTo>
                    <a:pt x="232" y="22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65480" y="3472200"/>
              <a:ext cx="34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614680" y="4370760"/>
              <a:ext cx="89208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65480" y="5266080"/>
              <a:ext cx="34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1040" y="4704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58840" y="5996160"/>
              <a:ext cx="55008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46680" y="3472200"/>
              <a:ext cx="738000" cy="900000"/>
            </a:xfrm>
            <a:custGeom>
              <a:avLst/>
              <a:gdLst/>
              <a:ahLst/>
              <a:rect l="l" t="t" r="r" b="b"/>
              <a:pathLst>
                <a:path w="465" h="567">
                  <a:moveTo>
                    <a:pt x="0" y="0"/>
                  </a:moveTo>
                  <a:lnTo>
                    <a:pt x="464" y="0"/>
                  </a:lnTo>
                  <a:lnTo>
                    <a:pt x="464" y="566"/>
                  </a:lnTo>
                  <a:lnTo>
                    <a:pt x="0" y="5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571720" y="3792960"/>
              <a:ext cx="8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5266080"/>
              <a:ext cx="15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59280" y="6228000"/>
              <a:ext cx="15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4120" y="2063880"/>
              <a:ext cx="5234040" cy="1987560"/>
            </a:xfrm>
            <a:custGeom>
              <a:avLst/>
              <a:gdLst/>
              <a:ahLst/>
              <a:rect l="l" t="t" r="r" b="b"/>
              <a:pathLst>
                <a:path w="3297" h="1252">
                  <a:moveTo>
                    <a:pt x="0" y="1251"/>
                  </a:moveTo>
                  <a:lnTo>
                    <a:pt x="0" y="0"/>
                  </a:lnTo>
                  <a:lnTo>
                    <a:pt x="3296" y="0"/>
                  </a:lnTo>
                  <a:lnTo>
                    <a:pt x="3296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86040" y="5909040"/>
              <a:ext cx="1118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pende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125800" y="6115320"/>
              <a:ext cx="650880" cy="147600"/>
              <a:chOff x="2125800" y="6115320"/>
              <a:chExt cx="650880" cy="147600"/>
            </a:xfrm>
          </p:grpSpPr>
          <p:sp>
            <p:nvSpPr>
              <p:cNvPr id="85" name=""/>
              <p:cNvSpPr/>
              <p:nvPr/>
            </p:nvSpPr>
            <p:spPr>
              <a:xfrm>
                <a:off x="2125800" y="611532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25800" y="626292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uadro comparativo de Fond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457200" y="1981080"/>
          <a:ext cx="9955080" cy="4516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1981080"/>
                    <a:ext cx="99550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valuación de los Fondos Tecnológicos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En gran medida, los Fondos “instalaron” el tema de la innovación tecnológica en el paí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El beneficio económico que generan los proyectos de los Fondos excede ampliamente la inversión que ellos han hecho.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valuación de los Fondos Tecnológicos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l fisco recupera entre 4 y 8 pesos por cada peso invertido en proyectos de Innovación, por recuperación de I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Por cada $1 por trabajador invertido en una empresa industrial por los Fondos Tecnológicos, ésta aumenta su productividad media en un monto superior a los $5 por trabajado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3:14:05Z</dcterms:created>
  <dc:creator>Gonzalo Herrera J.</dc:creator>
  <dc:description/>
  <dc:language>en-US</dc:language>
  <cp:lastModifiedBy>Gonzalo Herrera J.</cp:lastModifiedBy>
  <dcterms:modified xsi:type="dcterms:W3CDTF">2004-11-09T21:52:30Z</dcterms:modified>
  <cp:revision>28</cp:revision>
  <dc:subject/>
  <dc:title>Programa de Desarrollo e Innovación Tecnológica</dc:title>
</cp:coreProperties>
</file>