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317340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1680" y="64861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0F89-F1B0-48EF-84C1-4F5CBDF66693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CENTIVO A INVERTIR EN INVESTIGACION ES EL DESARROLLO DE NUEVOS PRODUCTOS QUE NO TENGAN COMPETENCIA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3173400" y="5158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PROTECCION DE LA INVENCIONES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APLICACION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8394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CEPTO DE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INDUSTR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EBE ENTENDERSE EN EL MAS AMPLIO SENTIDO, ABARCANDO LA ARTESANIA, DEPORTES Y OT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SE DEBE CONFUNDIR CON L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FACTIBILIDAD TECNICA-ECONOMIC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LEVAR A CABO LA INVENCION, QUE NO ES REQUISITO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7920" y="2867040"/>
            <a:ext cx="29916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51480" y="1824120"/>
            <a:ext cx="40640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LA INVENCION SEA APLICADA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PUEDA SER FABRICA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/>
            <a:ahLst/>
            <a:rect l="l" t="t" r="r" b="b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9160" y="3048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NDE TODOS LOS DOCUMENT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499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NALIZA  SI LA SOLICITUD PLANTEADA AL PROBLEMA TECNICO DESCRITO EN LA SOLICITUD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NO OBVIA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OBVIA, YUXTAPOSI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DESCUBRIMIENTOS, LAS TEORIAS CIENTIFICAS Y LOS METODOS MATEMA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VARIEDADES VEGETALES Y LAS RAZAS ANI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METODOS DE TRATAMIENTO QUIRURGICO O TERAPEUTICO DEL CUERPO HUMANO O ANIMAL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NUEVO USO DE ARTICULOS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consideran como modelos de utilidad los instrumentos, aparatos, herramientas, dispositivos y objetos o partes de los mismos, en los que la forma sea reivindicable, tanto en su aspecto externo como en su funcionamiento, y siempre que esta produzca una utilidad, esto es, que aporte a la funcion a que son destinados un beneficio, ventaja o efecto que antes no t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jo la denominacion de diseño industrial, se comprende toda forma tridimensional asociada o no con colores, y cualquier articulo industrial o artesanal que sirva de patron para la fabricacion de otras unidades y que se distinga de sus similares sea por su forma, configuracion goemetrica, ornamentacion o una combinacion de estas, siempre que dichas caracteristicas le den una apariencia especial perceptible por medio de la vista, de tal manera que resulte una fisonomia original, nueva y difer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DUCA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spcAft>
                <a:spcPts val="2200"/>
              </a:spcAft>
              <a:buClr>
                <a:srgbClr val="fafd00"/>
              </a:buClr>
              <a:buSzPct val="75000"/>
              <a:buFont typeface="Monotype Sort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A TECNICO QUE RESUEL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PCION DE LO CONOCIDO EN LA MA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IPCION DE LOS 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PCION DETALLADA DE LA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8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MPLOS DE APLICA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371600"/>
            <a:ext cx="6707160" cy="915840"/>
          </a:xfrm>
          <a:custGeom>
            <a:avLst/>
            <a:gdLst/>
            <a:ahLst/>
            <a:rect l="l" t="t" r="r" b="b"/>
            <a:pathLst>
              <a:path w="4225" h="577">
                <a:moveTo>
                  <a:pt x="0" y="576"/>
                </a:moveTo>
                <a:lnTo>
                  <a:pt x="0" y="0"/>
                </a:lnTo>
                <a:lnTo>
                  <a:pt x="4224" y="0"/>
                </a:lnTo>
                <a:lnTo>
                  <a:pt x="4224" y="432"/>
                </a:lnTo>
                <a:lnTo>
                  <a:pt x="864" y="432"/>
                </a:lnTo>
                <a:lnTo>
                  <a:pt x="864" y="576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4280" y="1442880"/>
            <a:ext cx="221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OR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09920" y="2128680"/>
            <a:ext cx="503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9480" y="2521080"/>
            <a:ext cx="669276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4280" y="3957480"/>
            <a:ext cx="206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3886200"/>
            <a:ext cx="6707160" cy="611280"/>
          </a:xfrm>
          <a:custGeom>
            <a:avLst/>
            <a:gdLst/>
            <a:ahLst/>
            <a:rect l="l" t="t" r="r" b="b"/>
            <a:pathLst>
              <a:path w="4225" h="385">
                <a:moveTo>
                  <a:pt x="0" y="384"/>
                </a:moveTo>
                <a:lnTo>
                  <a:pt x="0" y="0"/>
                </a:lnTo>
                <a:lnTo>
                  <a:pt x="4224" y="0"/>
                </a:lnTo>
                <a:lnTo>
                  <a:pt x="4224" y="192"/>
                </a:lnTo>
                <a:lnTo>
                  <a:pt x="2137" y="192"/>
                </a:lnTo>
                <a:lnTo>
                  <a:pt x="2137" y="384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47800" y="4186080"/>
            <a:ext cx="28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según reivindicación nº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67320" y="4262400"/>
            <a:ext cx="3819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9480" y="4654440"/>
            <a:ext cx="669276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2520" y="1366920"/>
            <a:ext cx="46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8480" y="388152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8480" y="578628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38320" y="5786280"/>
            <a:ext cx="20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9040" y="2117880"/>
          <a:ext cx="700704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117880"/>
                    <a:ext cx="700704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5938920" y="1747800"/>
            <a:ext cx="267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 EN DOCUMENTOS DE 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28600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432" y="0"/>
                </a:moveTo>
                <a:lnTo>
                  <a:pt x="336" y="144"/>
                </a:lnTo>
                <a:lnTo>
                  <a:pt x="192" y="9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2600" y="4795920"/>
            <a:ext cx="298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% EN PAPER, LIBROS, GACETAS Y OTRAS PUB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54864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576" y="192"/>
                </a:move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IMPORTANCIA DE PATENTAR UN INVENTO RADICA EN QUE SE OBTIENE UN MONOPOLIO EXCLUSIVO PARA LA COMERCIALIZACION DE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ESTO SE SUMA EL HECHO DE QUE LA NOVEDAD DEBE SER DE CARACTER MUND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EL CASO ESPECIFICO DE SOLICITUDES CHILENAS SE BUSCAN EN DIFERENTES BASES DE DATOS DE PATENTES DE INVENCION Y QUE CONTIENEN LO ULTIMO EN TECNOLO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ESTE MODO LAS SOLICITUDES DE LOS DISTINTOS TIPOS DE PRIVILEGIOS SON COMPARADAS CON DOCUMENTOS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TIENE UN AMPLIO GRADO DE CERTEZA QUE SI DE LAS BUSQUEDAS NO APARECE NADA SIMILAR ES PORQUE ANTES JAMAS SE HABIA CR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47040" y="1101600"/>
            <a:ext cx="1324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71280" y="1863720"/>
            <a:ext cx="1801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EN PRELI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4804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3960" y="2814480"/>
            <a:ext cx="1217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3048120"/>
            <a:ext cx="175392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3124080"/>
            <a:ext cx="2058840" cy="459000"/>
          </a:xfrm>
          <a:custGeom>
            <a:avLst/>
            <a:gdLst/>
            <a:ahLst/>
            <a:rect l="l" t="t" r="r" b="b"/>
            <a:pathLst>
              <a:path w="1297" h="289">
                <a:moveTo>
                  <a:pt x="0" y="0"/>
                </a:moveTo>
                <a:lnTo>
                  <a:pt x="1296" y="0"/>
                </a:lnTo>
                <a:lnTo>
                  <a:pt x="1296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7580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81120" y="28605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49080" y="3616200"/>
            <a:ext cx="1246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ACEPTA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66560" y="354024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1454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29200" y="4530600"/>
            <a:ext cx="14846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ACION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RIO O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23440" y="5445000"/>
            <a:ext cx="14997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NCE PLA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 PRESEN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5035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99480" y="41562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23160" y="5070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6178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23160" y="6213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9124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65840" y="4537080"/>
            <a:ext cx="103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1600200"/>
            <a:ext cx="4192560" cy="3201840"/>
          </a:xfrm>
          <a:custGeom>
            <a:avLst/>
            <a:gdLst/>
            <a:ahLst/>
            <a:rect l="l" t="t" r="r" b="b"/>
            <a:pathLst>
              <a:path w="2641" h="2017">
                <a:moveTo>
                  <a:pt x="2112" y="2016"/>
                </a:moveTo>
                <a:lnTo>
                  <a:pt x="2640" y="2016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4480" y="44607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90960" y="5749920"/>
            <a:ext cx="11721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TIENE 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1520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53402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76400" y="52992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76040" y="3927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40880" y="3276720"/>
            <a:ext cx="912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T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4880" y="22096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11800" y="2479680"/>
            <a:ext cx="99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30760" y="2743200"/>
            <a:ext cx="67320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49680" y="2473200"/>
            <a:ext cx="2178000" cy="545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AD JURID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11920" y="426708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2480" y="2666880"/>
            <a:ext cx="1676520" cy="838440"/>
          </a:xfrm>
          <a:custGeom>
            <a:avLst/>
            <a:gdLst/>
            <a:ahLst/>
            <a:rect l="l" t="t" r="r" b="b"/>
            <a:pathLst>
              <a:path w="1297" h="529">
                <a:moveTo>
                  <a:pt x="1008" y="0"/>
                </a:moveTo>
                <a:lnTo>
                  <a:pt x="0" y="0"/>
                </a:lnTo>
                <a:lnTo>
                  <a:pt x="0" y="528"/>
                </a:lnTo>
                <a:lnTo>
                  <a:pt x="1296" y="5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3048120"/>
            <a:ext cx="1982520" cy="457200"/>
          </a:xfrm>
          <a:custGeom>
            <a:avLst/>
            <a:gdLst/>
            <a:ahLst/>
            <a:rect l="l" t="t" r="r" b="b"/>
            <a:pathLst>
              <a:path w="1537" h="289">
                <a:moveTo>
                  <a:pt x="1536" y="0"/>
                </a:moveTo>
                <a:lnTo>
                  <a:pt x="15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3746520"/>
            <a:ext cx="144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41080" y="23274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03400" y="24033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28680" y="144288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76600" y="28908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76600" y="42624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JURID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028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PATENTES DE INVEN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98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DE 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/>
            <a:ahLst/>
            <a:rect l="l" t="t" r="r" b="b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/>
            <a:ahLst/>
            <a:rect l="l" t="t" r="r" b="b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25800" y="148284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1800" y="2701800"/>
            <a:ext cx="1048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56480" y="392112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80240" y="4911840"/>
            <a:ext cx="11703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2895480"/>
            <a:ext cx="838440" cy="2135160"/>
          </a:xfrm>
          <a:custGeom>
            <a:avLst/>
            <a:gdLst/>
            <a:ahLst/>
            <a:rect l="l" t="t" r="r" b="b"/>
            <a:pathLst>
              <a:path w="721" h="1729">
                <a:moveTo>
                  <a:pt x="480" y="1728"/>
                </a:moveTo>
                <a:lnTo>
                  <a:pt x="0" y="1728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1080" y="2063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1080" y="3282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427356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2928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4840" y="2814480"/>
            <a:ext cx="1217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5296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05680" y="4460760"/>
            <a:ext cx="969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ON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27920" y="5826240"/>
            <a:ext cx="105156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6640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3402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3048120"/>
            <a:ext cx="1525680" cy="1068120"/>
          </a:xfrm>
          <a:custGeom>
            <a:avLst/>
            <a:gdLst/>
            <a:ahLst/>
            <a:rect l="l" t="t" r="r" b="b"/>
            <a:pathLst>
              <a:path w="961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4724280"/>
            <a:ext cx="1601640" cy="4590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0"/>
                </a:moveTo>
                <a:lnTo>
                  <a:pt x="655" y="0"/>
                </a:lnTo>
                <a:lnTo>
                  <a:pt x="655" y="288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18800" y="43848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38120" y="37749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61800" y="537516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400" y="316548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51760" y="377496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82640" y="1635120"/>
            <a:ext cx="89172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92560" y="2854440"/>
            <a:ext cx="14248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MA DEL JEF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85600" y="4149720"/>
            <a:ext cx="9860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08120" y="5445000"/>
            <a:ext cx="118872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IFIC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TU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8680" y="1905120"/>
            <a:ext cx="1449360" cy="1220760"/>
          </a:xfrm>
          <a:custGeom>
            <a:avLst/>
            <a:gdLst/>
            <a:ahLst/>
            <a:rect l="l" t="t" r="r" b="b"/>
            <a:pathLst>
              <a:path w="913" h="769">
                <a:moveTo>
                  <a:pt x="0" y="768"/>
                </a:moveTo>
                <a:lnTo>
                  <a:pt x="384" y="768"/>
                </a:lnTo>
                <a:lnTo>
                  <a:pt x="384" y="0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0024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43800" y="21398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43800" y="33591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43800" y="4654440"/>
            <a:ext cx="0" cy="74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0000" y="209880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A.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52720" y="833400"/>
            <a:ext cx="53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78040" y="863640"/>
            <a:ext cx="5816520" cy="48240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28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70000" y="1384200"/>
            <a:ext cx="736560" cy="37083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240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0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80040" y="1384200"/>
            <a:ext cx="736560" cy="37083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42000" y="1397160"/>
            <a:ext cx="736560" cy="37083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78040" y="5130720"/>
            <a:ext cx="5816520" cy="482760"/>
          </a:xfrm>
          <a:prstGeom prst="rect">
            <a:avLst/>
          </a:prstGeom>
          <a:noFill/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0280" y="5160960"/>
            <a:ext cx="178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ANTIMONOPOLIOS  (D.S. 211)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720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8080" y="4425480"/>
            <a:ext cx="6540480" cy="1822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COMPITE LIBREMENTE POR EL 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ENTIVO A INVERTIR EN INVESTIGACION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rrollar nuevos productos y ganar con una patente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8080" y="4425840"/>
            <a:ext cx="6540480" cy="159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8080" y="5118120"/>
            <a:ext cx="4101840" cy="67320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4920" y="5289480"/>
            <a:ext cx="357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N PAT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92880" y="5118120"/>
            <a:ext cx="2425680" cy="67320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70080" y="5289480"/>
            <a:ext cx="180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2880" y="4444920"/>
            <a:ext cx="32324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RESA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8600" y="5923080"/>
            <a:ext cx="178776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636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2908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6960" y="632772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/>
            <a:ahLst/>
            <a:rect l="l" t="t" r="r" b="b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22924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37400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3402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GANA EL ESTADO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81480" y="4267080"/>
            <a:ext cx="3124440" cy="208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248520" y="2514600"/>
            <a:ext cx="914400" cy="1676520"/>
          </a:xfrm>
          <a:prstGeom prst="downArrow">
            <a:avLst>
              <a:gd name="adj1" fmla="val 50000"/>
              <a:gd name="adj2" fmla="val 4583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SPL.RLP</cp:lastModifiedBy>
  <dcterms:modified xsi:type="dcterms:W3CDTF">2004-10-05T22:15:41Z</dcterms:modified>
  <cp:revision>18</cp:revision>
  <dc:subject>sistema de patentes e informacion tecnologica</dc:subject>
  <dc:title>Seminario de Patentes</dc:title>
</cp:coreProperties>
</file>