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12E6-BAF9-41AC-B5CE-DC52CB14D397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ROTECCION DE LA INVENCIONES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, ABARCANDO LA ARTESANIA, DEPORTES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CON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ACTIBILIDAD TECNICA-ECONOMIC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, QUE NO ES REQUISIT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FABRICA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OBVIA, YUXTAPOSI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o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jo la denominacion de diseño industrial, se comprende toda forma tridimensional asociada o no con colores, y cualquier articulo industrial o artesanal que sirva de patron para la fabricacion de otras unidades y que se distinga de sus similares sea por su forma, configuracion goemetrica, ornamentacion o una combinacion de estas, siempre que dichas caracteristicas le den una apariencia especial perceptible por medio de la vista, de tal manera que resulte una fisonomia original, nueva y difer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 LO CONOCIDO EN LA MA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IPCION DE LOS 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TALLADA DE LA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9040" y="2117880"/>
          <a:ext cx="7007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117880"/>
                    <a:ext cx="7007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40880" y="327672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4880" y="22096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1800" y="247968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0760" y="2743200"/>
            <a:ext cx="67320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9680" y="247320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1920" y="426708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2666880"/>
            <a:ext cx="1676520" cy="83844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3048120"/>
            <a:ext cx="1982520" cy="45720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3746520"/>
            <a:ext cx="144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1080" y="23274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03400" y="24033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38440" cy="213516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0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2000" y="139716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ANTIMONOPOLIOS  (D.S. 211)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182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4425840"/>
            <a:ext cx="6540480" cy="159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080" y="5118120"/>
            <a:ext cx="410184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4920" y="528948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92880" y="5118120"/>
            <a:ext cx="242568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70080" y="528948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2880" y="4444920"/>
            <a:ext cx="32324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RESA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636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908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6960" y="632772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3124440" cy="208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248520" y="2514600"/>
            <a:ext cx="914400" cy="1676520"/>
          </a:xfrm>
          <a:prstGeom prst="downArrow">
            <a:avLst>
              <a:gd name="adj1" fmla="val 50000"/>
              <a:gd name="adj2" fmla="val 4583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04-10-05T22:15:41Z</dcterms:modified>
  <cp:revision>18</cp:revision>
  <dc:subject>sistema de patentes e informacion tecnologica</dc:subject>
  <dc:title>Seminario de Patentes</dc:title>
</cp:coreProperties>
</file>