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977423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77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3173400" y="515520"/>
            <a:ext cx="3425760" cy="25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303200" y="3257640"/>
            <a:ext cx="716760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031680" y="6486120"/>
            <a:ext cx="929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EB029-EEED-48A0-9388-7F799E608AFC}" type="slidenum"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body"/>
          </p:nvPr>
        </p:nvSpPr>
        <p:spPr>
          <a:xfrm>
            <a:off x="1303200" y="3257640"/>
            <a:ext cx="716760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INCENTIVO A INVERTIR EN INVESTIGACION ES EL DESARROLLO DE NUEVOS PRODUCTOS QUE NO TENGAN COMPETENCIA EN EL MERC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ldImg"/>
          </p:nvPr>
        </p:nvSpPr>
        <p:spPr>
          <a:xfrm>
            <a:off x="3173400" y="515880"/>
            <a:ext cx="3425760" cy="2568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3840" y="7920"/>
            <a:ext cx="17536680" cy="13677480"/>
            <a:chOff x="-8403840" y="7920"/>
            <a:chExt cx="17536680" cy="1367748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3840" y="7920"/>
              <a:ext cx="16807680" cy="1367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 PROTECCION DE LA INVENCIONES 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APLICACION INDUSTRIAL</a:t>
            </a:r>
            <a:endParaRPr b="0" lang="en-US" sz="28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2280" y="4876560"/>
            <a:ext cx="883944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L CONCEPTO DE 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INDUSTRIA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DEBE ENTENDERSE EN EL MAS AMPLIO SENTIDO, ABARCANDO LA ARTESANIA, DEPORTES Y OTR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 SE DEBE CONFUNDIR CON L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FACTIBILIDAD TECNICA-ECONOMIC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 LLEVAR A CABO LA INVENCION, QUE NO ES REQUISITO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67920" y="2867040"/>
            <a:ext cx="2991600" cy="363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PLICACION INDUSTR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51480" y="1824120"/>
            <a:ext cx="4064040" cy="637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QUE LA INVENCION SEA APLICADA DIRECTAMENTE A LA INDUSTR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27440" y="3637080"/>
            <a:ext cx="3759480" cy="637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QUE PUEDA SER FABRICADA EN LA INDUSTR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38480" y="2209680"/>
            <a:ext cx="611280" cy="1754280"/>
          </a:xfrm>
          <a:custGeom>
            <a:avLst/>
            <a:gdLst/>
            <a:ahLst/>
            <a:rect l="l" t="t" r="r" b="b"/>
            <a:pathLst>
              <a:path w="385" h="1105">
                <a:moveTo>
                  <a:pt x="384" y="1104"/>
                </a:moveTo>
                <a:lnTo>
                  <a:pt x="0" y="1104"/>
                </a:lnTo>
                <a:lnTo>
                  <a:pt x="0" y="0"/>
                </a:lnTo>
                <a:lnTo>
                  <a:pt x="336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59160" y="3048120"/>
            <a:ext cx="673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NOVEDAD</a:t>
            </a:r>
            <a:endParaRPr b="0" lang="en-US" sz="28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STADO DE LA TECNIC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PRENDE TODOS LOS DOCUMENTOS QUE EL PUBLICO PUEDA TENER ACCESO, TANTO A NIVEL NACIONAL COMO INTERNACIONAL, COMPRENDE ADEMAS, LAS SOLICITUDES EN TRAMITE QUE HAYAN INGRESADO CON ANTERIORIDAD A LA SOLICITUD EXAMIN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NA SOLICITUD TIEN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VEDA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SI NO EXISTE DOCUMENTO DEL ESTADO DE LA TECNICA QUE SE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XACTAMENTE IG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43434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373392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NOVEDAD</a:t>
            </a:r>
            <a:endParaRPr b="0" lang="en-US" sz="28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SULTADO DE LA BUSQUEDA DE LA TECNIC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9480" y="1911240"/>
            <a:ext cx="90144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368440" y="1911240"/>
            <a:ext cx="90180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87760" y="1911240"/>
            <a:ext cx="90180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59360" y="1911240"/>
            <a:ext cx="90180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30960" y="1911240"/>
            <a:ext cx="90180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51560" y="1974960"/>
            <a:ext cx="103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OCTO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70880" y="1974960"/>
            <a:ext cx="103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OCTO 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90200" y="1974960"/>
            <a:ext cx="103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OCTO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861800" y="1974960"/>
            <a:ext cx="103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OCTO 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233400" y="1974960"/>
            <a:ext cx="103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OCTO 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32160" y="3606840"/>
            <a:ext cx="1549440" cy="1003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LICITU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 PAT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22480" y="5100480"/>
            <a:ext cx="61974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NALISIS DE NOVEDAD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: SE COMPARA CADA UNO DE LOS DOCUMENTOS ENCONTRADOS EN EL ESTADO DE LA TECNICA CON EL PLIEGO DE REIVINDICACIONES DE LA SOLICITU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NIVEL INVENTI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066680"/>
            <a:ext cx="777240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spcBef>
                <a:spcPts val="499"/>
              </a:spcBef>
              <a:spcAft>
                <a:spcPts val="1125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SULTADO DE LA BUSQUEDA DE LA TECN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spcAft>
                <a:spcPts val="1125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 ANALIZA  SI LA SOLICITUD PLANTEADA AL PROBLEMA TECNICO DESCRITO EN LA SOLICITUD SE DERIVA DE MANERA EVIDENTE DEL ESTADO DE LA TECN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spcAft>
                <a:spcPts val="1125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 DETERMINARA SI UN DOCUMENTO ES RELEVANTE POR SI SOLO O SI LA UNION O SUMA DE DOS O MAS DOCUMENTOS PUEDEN DESTRUIR EL NIVEL INVENTIVO EN LAS REIVINDICACIONES DE LA SOLICITU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4648320"/>
            <a:ext cx="7772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99"/>
              </a:spcBef>
              <a:spcAft>
                <a:spcPts val="1250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N NIVEL INVENTIV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SOLUCION NO OBVIA, SINERGISM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1250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IN NIVEL INVENTIV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SOLUCION OBVIA, YUXTAPOSIC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6bf69"/>
                </a:solidFill>
                <a:uFillTx/>
                <a:latin typeface="Arial"/>
              </a:rPr>
              <a:t>¿QUE ES UNA INVENCION?</a:t>
            </a:r>
            <a:br>
              <a:rPr sz="3200"/>
            </a:br>
            <a:r>
              <a:rPr b="0" lang="en-US" sz="3200" spc="-1" strike="noStrike">
                <a:solidFill>
                  <a:srgbClr val="f6bf69"/>
                </a:solidFill>
                <a:latin typeface="Arial"/>
              </a:rPr>
              <a:t>LEY Nº 19.039, ARTICULO 31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00"/>
              </a:spcBef>
              <a:spcAft>
                <a:spcPts val="1749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 ENTIENDE POR INVENCION TODA SOLUCION A UN PROBLEMA DE LA TECNICA QUE ORIGINE UN QUEHACER INDUST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spcAft>
                <a:spcPts val="1749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A INVENCION PODRA SER UN PRODUCTO O UN PROCEDIMIENTO O ESTAR RELACIONADO CON ELL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3200400"/>
            <a:ext cx="7772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38080" y="213372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LEY 19.039 ARTICULO 37</a:t>
            </a:r>
            <a:br>
              <a:rPr sz="2800"/>
            </a:br>
            <a:r>
              <a:rPr b="1" lang="en-US" sz="2000" spc="-1" strike="noStrike">
                <a:solidFill>
                  <a:srgbClr val="f6bf69"/>
                </a:solidFill>
                <a:latin typeface="Arial"/>
              </a:rPr>
              <a:t>NO SE CONSIDERARA INVENCION Y QUEDAN EXCLUIDOS DE LA PROTECCION POR PATENTE DE ESTA LEY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25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S DESCUBRIMIENTOS, LAS TEORIAS CIENTIFICAS Y LOS METODOS MATEMATIC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25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S VARIEDADES VEGETALES Y LAS RAZAS ANIM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25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S SISTEMAS, METODOS, PRINCIPIOS O PLANES ECONOMICOS, FINANCIEROS, COMERCIALES DE SIMPLE VERIFICACION Y FISCALIZACION; Y LOS REFERIDOS A LAS ACTIVIDADES PURAMENTE MENTALES O INTELECTUALES O A MATERIAS DE JUE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LEY 19.039 ARTICULO 37</a:t>
            </a:r>
            <a:br>
              <a:rPr sz="2800"/>
            </a:br>
            <a:r>
              <a:rPr b="1" lang="en-US" sz="2000" spc="-1" strike="noStrike">
                <a:solidFill>
                  <a:srgbClr val="f6bf69"/>
                </a:solidFill>
                <a:latin typeface="Arial"/>
              </a:rPr>
              <a:t>NO SE CONSIDERARA INVENCION Y QUEDAN EXCLUIDOS DE LA PROTECCION POR PATENTE DE ESTA LEY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25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S METODOS DE TRATAMIENTO QUIRURGICO O TERAPEUTICO DEL CUERPO HUMANO O ANIMAL, ASI COMO LOS METODOS DE DIAGNOSTICO APLICADOS AL CUERPO HUMANO O ANIMAL, SALVO LOS PRODUCTOS DESTINADOS A PONER EN PRACTICA UNO DE ESTOS METO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25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L NUEVO USO DE ARTICULOS, OBJETOS O ELEMENTOS CONOCIDOS Y EMPLEADOS EN DETERMINADOS FINES Y EL CAMBIO DE FORMA, DIMENSIONES, PROPORCIONES Y MATERIAS DEL OBJETO SOLICITADO A NO SER QUE SE MODIFIQUEN ESENCIALMENTE LAS CUALIDADES DE AQUEL O CON SU UTILIZACION SE RESOLVIERE UN PROBLEMA TECNICO QUE ANTES NO TENIA SOLUC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LEY 19.039 ARTICULO 38</a:t>
            </a:r>
            <a:br>
              <a:rPr sz="2800"/>
            </a:br>
            <a:r>
              <a:rPr b="1" lang="en-US" sz="2400" spc="-1" strike="noStrike">
                <a:solidFill>
                  <a:srgbClr val="f6bf69"/>
                </a:solidFill>
                <a:latin typeface="Arial"/>
              </a:rPr>
              <a:t>NO SON PATENTABLES LOS INVENTOS:</a:t>
            </a:r>
            <a:endParaRPr b="0" lang="en-US" sz="2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ARI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 ORDEN PUBL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 SEGURIDAD DEL ES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 MORAL Y A LAS BUENAS COSTUMB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ENTADOS POR QUIEN NO ES SU LEGITIMO DU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6bf69"/>
                </a:solidFill>
                <a:latin typeface="Arial"/>
              </a:rPr>
              <a:t>¿</a:t>
            </a: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QUE ES UN MODELO DE UTILIDAD</a:t>
            </a:r>
            <a:r>
              <a:rPr b="0" lang="en-US" sz="3200" spc="-1" strike="noStrike">
                <a:solidFill>
                  <a:srgbClr val="f6bf69"/>
                </a:solidFill>
                <a:latin typeface="Arial"/>
              </a:rPr>
              <a:t>?</a:t>
            </a:r>
            <a:br>
              <a:rPr sz="3200"/>
            </a:br>
            <a:r>
              <a:rPr b="0" lang="en-US" sz="2000" spc="-1" strike="noStrike">
                <a:solidFill>
                  <a:srgbClr val="f6bf69"/>
                </a:solidFill>
                <a:latin typeface="Arial"/>
              </a:rPr>
              <a:t>LEY Nº 19.039 ARTICULO 54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 algn="just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e consideran como modelos de utilidad los instrumentos, aparatos, herramientas, dispositivos y objetos o partes de los mismos, en los que la forma sea reivindicable, tanto en su aspecto externo como en su funcionamiento, y siempre que esta produzca una utilidad, esto es, que aporte a la funcion a que son destinados un beneficio, ventaja o efecto que antes no ten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6bf69"/>
                </a:solidFill>
                <a:latin typeface="Arial"/>
              </a:rPr>
              <a:t>¿</a:t>
            </a: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QUE ES UN DISEÑO INDUSTRIAL</a:t>
            </a:r>
            <a:r>
              <a:rPr b="0" lang="en-US" sz="3200" spc="-1" strike="noStrike">
                <a:solidFill>
                  <a:srgbClr val="f6bf69"/>
                </a:solidFill>
                <a:latin typeface="Arial"/>
              </a:rPr>
              <a:t>?</a:t>
            </a:r>
            <a:br>
              <a:rPr sz="3200"/>
            </a:br>
            <a:r>
              <a:rPr b="0" lang="en-US" sz="2000" spc="-1" strike="noStrike">
                <a:solidFill>
                  <a:srgbClr val="f6bf69"/>
                </a:solidFill>
                <a:latin typeface="Arial"/>
              </a:rPr>
              <a:t>LEY Nº 19.039 ARTICULO 62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Bajo la denominacion de diseño industrial, se comprende toda forma tridimensional asociada o no con colores, y cualquier articulo industrial o artesanal que sirva de patron para la fabricacion de otras unidades y que se distinga de sus similares sea por su forma, configuracion goemetrica, ornamentacion o una combinacion de estas, siempre que dichas caracteristicas le den una apariencia especial perceptible por medio de la vista, de tal manera que resulte una fisonomia original, nueva y diferen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51400" y="360360"/>
            <a:ext cx="71888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TECCION DE DERECHOS INTELECTU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 TECNOLOG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95720" y="1595520"/>
            <a:ext cx="2448000" cy="702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INISTERIO 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DUCAC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95720" y="2967120"/>
            <a:ext cx="2448000" cy="33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UBSECRETA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95720" y="3881520"/>
            <a:ext cx="2448000" cy="819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IRECCION DE BIBLIOTECAS ARCHIVOS Y MUSE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95720" y="5329080"/>
            <a:ext cx="2448000" cy="819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EGISTRO DE PROPIEDAD INTELECTU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851360" y="34128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732040" y="466560"/>
            <a:ext cx="5743800" cy="16336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2887560" y="2362320"/>
            <a:ext cx="5608800" cy="18381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2793960" y="4495680"/>
            <a:ext cx="5730840" cy="1905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267080" y="228600"/>
            <a:ext cx="1600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90800" y="376200"/>
            <a:ext cx="236232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ESTADO DE LA TECNI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967120" y="2281320"/>
            <a:ext cx="236196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ESTADO DE LA TECNI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90800" y="4414680"/>
            <a:ext cx="236232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ESTADO DE LA TECNI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24720" y="376200"/>
            <a:ext cx="114300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CREA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548400" y="2281320"/>
            <a:ext cx="114300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CREA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700680" y="4414680"/>
            <a:ext cx="114300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CREA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4800" y="1062000"/>
            <a:ext cx="1762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NVENC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4800" y="2967120"/>
            <a:ext cx="14572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MODELO DE UTIL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1120" y="5176800"/>
            <a:ext cx="15336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ISEÑO INDUSTR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ESTRUCTURA DE UN DOCUMENTO DE PATENTE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267480" indent="-267480">
              <a:spcBef>
                <a:spcPts val="799"/>
              </a:spcBef>
              <a:spcAft>
                <a:spcPts val="2200"/>
              </a:spcAft>
              <a:buClr>
                <a:srgbClr val="fafd00"/>
              </a:buClr>
              <a:buSzPct val="75000"/>
              <a:buFont typeface="Monotype Sort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ICITUD FICH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spcAft>
                <a:spcPts val="2200"/>
              </a:spcAft>
              <a:buClr>
                <a:srgbClr val="fafd00"/>
              </a:buClr>
              <a:buSzPct val="75000"/>
              <a:buFont typeface="Monotype Sor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UMEN (HOJA TECNIC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spcAft>
                <a:spcPts val="2200"/>
              </a:spcAft>
              <a:buClr>
                <a:srgbClr val="fafd00"/>
              </a:buClr>
              <a:buSzPct val="75000"/>
              <a:buFont typeface="Monotype Sorts" charset="2"/>
              <a:buChar char="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MORIA DESCRIPTI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spcAft>
                <a:spcPts val="2200"/>
              </a:spcAft>
              <a:buClr>
                <a:srgbClr val="fafd00"/>
              </a:buClr>
              <a:buSzPct val="75000"/>
              <a:buFont typeface="Monotype Sorts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IEGO DE REIVINDICA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spcAft>
                <a:spcPts val="2200"/>
              </a:spcAft>
              <a:buClr>
                <a:srgbClr val="fafd00"/>
              </a:buClr>
              <a:buSzPct val="75000"/>
              <a:buFont typeface="Monotype Sorts" charset="2"/>
              <a:buChar char="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BUJ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MEMORIA DESCRIPTIVA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799"/>
              </a:spcBef>
              <a:spcAft>
                <a:spcPts val="1800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BLEMA TECNICO QUE RESUEL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spcAft>
                <a:spcPts val="1800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CRIPCION DE LO CONOCIDO EN LA MATE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spcAft>
                <a:spcPts val="1800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RIPCION DE LOS DIBUJ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spcAft>
                <a:spcPts val="1800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CRIPCION DETALLADA DE LA INVENC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spcAft>
                <a:spcPts val="1800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JEMPLOS DE APLICAC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REIVINDICACIONES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 algn="just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PLIEGO SE COMPONE POR UNA CLAUSULA PRINCIPAL EN QUE SE MENCIONAN LOS ELEMENTOS QUE COMPONEN LA INVEN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RESTO DE LAS CLAUSULAS DEBE ESTAR LIGADAS A LA REIVINDICACION PRINCIPAL Y ESPECIFICARAN O DETALLARAN LOS ELEMENTOS MENCIONADOS EN LA CLAUSULA PRINCIP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REIVINDICACIONES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143000" y="1371600"/>
            <a:ext cx="6707160" cy="915840"/>
          </a:xfrm>
          <a:custGeom>
            <a:avLst/>
            <a:gdLst/>
            <a:ahLst/>
            <a:rect l="l" t="t" r="r" b="b"/>
            <a:pathLst>
              <a:path w="4225" h="577">
                <a:moveTo>
                  <a:pt x="0" y="576"/>
                </a:moveTo>
                <a:lnTo>
                  <a:pt x="0" y="0"/>
                </a:lnTo>
                <a:lnTo>
                  <a:pt x="4224" y="0"/>
                </a:lnTo>
                <a:lnTo>
                  <a:pt x="4224" y="432"/>
                </a:lnTo>
                <a:lnTo>
                  <a:pt x="864" y="432"/>
                </a:lnTo>
                <a:lnTo>
                  <a:pt x="864" y="576"/>
                </a:lnTo>
                <a:lnTo>
                  <a:pt x="0" y="576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14280" y="1442880"/>
            <a:ext cx="2219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XORD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509920" y="2128680"/>
            <a:ext cx="5038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ARACTERIZAD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por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49480" y="2521080"/>
            <a:ext cx="6692760" cy="1130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14280" y="3957480"/>
            <a:ext cx="2067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n.....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43000" y="3886200"/>
            <a:ext cx="6707160" cy="611280"/>
          </a:xfrm>
          <a:custGeom>
            <a:avLst/>
            <a:gdLst/>
            <a:ahLst/>
            <a:rect l="l" t="t" r="r" b="b"/>
            <a:pathLst>
              <a:path w="4225" h="385">
                <a:moveTo>
                  <a:pt x="0" y="384"/>
                </a:moveTo>
                <a:lnTo>
                  <a:pt x="0" y="0"/>
                </a:lnTo>
                <a:lnTo>
                  <a:pt x="4224" y="0"/>
                </a:lnTo>
                <a:lnTo>
                  <a:pt x="4224" y="192"/>
                </a:lnTo>
                <a:lnTo>
                  <a:pt x="2137" y="192"/>
                </a:lnTo>
                <a:lnTo>
                  <a:pt x="2137" y="384"/>
                </a:lnTo>
                <a:lnTo>
                  <a:pt x="0" y="384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747800" y="4186080"/>
            <a:ext cx="2828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....según reivindicación nº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67320" y="4262400"/>
            <a:ext cx="3819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ARACTERIZAD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por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49480" y="4654440"/>
            <a:ext cx="6692760" cy="9781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2520" y="1366920"/>
            <a:ext cx="466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28480" y="3881520"/>
            <a:ext cx="466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28480" y="5786280"/>
            <a:ext cx="466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38320" y="5786280"/>
            <a:ext cx="2066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n.....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6bf69"/>
                </a:solidFill>
                <a:uFillTx/>
                <a:latin typeface="Arial"/>
              </a:rPr>
              <a:t>INFORMACION TECNOLOGICA DE PUNTA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689040" y="2117880"/>
          <a:ext cx="7007040" cy="375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2117880"/>
                    <a:ext cx="7007040" cy="37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5938920" y="1747800"/>
            <a:ext cx="26766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5% EN DOCUMENTOS DE PAT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257800" y="2286000"/>
            <a:ext cx="687240" cy="611280"/>
          </a:xfrm>
          <a:custGeom>
            <a:avLst/>
            <a:gdLst/>
            <a:ahLst/>
            <a:rect l="l" t="t" r="r" b="b"/>
            <a:pathLst>
              <a:path w="433" h="385">
                <a:moveTo>
                  <a:pt x="432" y="0"/>
                </a:moveTo>
                <a:lnTo>
                  <a:pt x="336" y="144"/>
                </a:lnTo>
                <a:lnTo>
                  <a:pt x="192" y="96"/>
                </a:lnTo>
                <a:lnTo>
                  <a:pt x="0" y="384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62600" y="4795920"/>
            <a:ext cx="29815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% EN PAPER, LIBROS, GACETAS Y OTRAS PUBLICA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5486400"/>
            <a:ext cx="915840" cy="458640"/>
          </a:xfrm>
          <a:custGeom>
            <a:avLst/>
            <a:gdLst/>
            <a:ahLst/>
            <a:rect l="l" t="t" r="r" b="b"/>
            <a:pathLst>
              <a:path w="577" h="289">
                <a:moveTo>
                  <a:pt x="576" y="192"/>
                </a:moveTo>
                <a:lnTo>
                  <a:pt x="240" y="28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6bf69"/>
                </a:solidFill>
                <a:uFillTx/>
                <a:latin typeface="Arial"/>
              </a:rPr>
              <a:t>INFORMACION TECNOLOGICA DE PUNTA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 algn="just">
              <a:spcBef>
                <a:spcPts val="601"/>
              </a:spcBef>
              <a:spcAft>
                <a:spcPts val="1500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 IMPORTANCIA DE PATENTAR UN INVENTO RADICA EN QUE SE OBTIENE UN MONOPOLIO EXCLUSIVO PARA LA COMERCIALIZACION DE LA INVEN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just">
              <a:spcBef>
                <a:spcPts val="601"/>
              </a:spcBef>
              <a:spcAft>
                <a:spcPts val="1500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ESTO SE SUMA EL HECHO DE QUE LA NOVEDAD DEBE SER DE CARACTER MUND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just">
              <a:spcBef>
                <a:spcPts val="601"/>
              </a:spcBef>
              <a:spcAft>
                <a:spcPts val="1500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 EL CASO ESPECIFICO DE SOLICITUDES CHILENAS SE BUSCAN EN DIFERENTES BASES DE DATOS DE PATENTES DE INVENCION Y QUE CONTIENEN LO ULTIMO EN TECNOLOG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6bf69"/>
                </a:solidFill>
                <a:uFillTx/>
                <a:latin typeface="Arial"/>
              </a:rPr>
              <a:t>INFORMACION TECNOLOGICA DE PUNTA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 ESTE MODO LAS SOLICITUDES DE LOS DISTINTOS TIPOS DE PRIVILEGIOS SON COMPARADAS CON DOCUMENTOS DE TODO EL MUN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 TIENE UN AMPLIO GRADO DE CERTEZA QUE SI DE LAS BUSQUEDAS NO APARECE NADA SIMILAR ES PORQUE ANTES JAMAS SE HABIA CRE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bf69"/>
                </a:solidFill>
                <a:latin typeface="Arial"/>
              </a:rPr>
              <a:t>DIAGRAMA DE FLUJO DE TRAMITACION DE PATENTES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47040" y="1101600"/>
            <a:ext cx="1324440" cy="271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ESENTA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671280" y="1863720"/>
            <a:ext cx="1801440" cy="271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EN PRELIMIN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48040" y="2590920"/>
            <a:ext cx="1449360" cy="1068120"/>
          </a:xfrm>
          <a:custGeom>
            <a:avLst/>
            <a:gdLst/>
            <a:ahLst/>
            <a:rect l="l" t="t" r="r" b="b"/>
            <a:pathLst>
              <a:path w="913" h="673">
                <a:moveTo>
                  <a:pt x="456" y="0"/>
                </a:moveTo>
                <a:lnTo>
                  <a:pt x="0" y="310"/>
                </a:lnTo>
                <a:lnTo>
                  <a:pt x="399" y="672"/>
                </a:lnTo>
                <a:lnTo>
                  <a:pt x="912" y="362"/>
                </a:lnTo>
                <a:lnTo>
                  <a:pt x="456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63960" y="2814480"/>
            <a:ext cx="1217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SERVACIO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133720" y="3048120"/>
            <a:ext cx="1753920" cy="534960"/>
          </a:xfrm>
          <a:custGeom>
            <a:avLst/>
            <a:gdLst/>
            <a:ahLst/>
            <a:rect l="l" t="t" r="r" b="b"/>
            <a:pathLst>
              <a:path w="1105" h="337">
                <a:moveTo>
                  <a:pt x="1104" y="0"/>
                </a:moveTo>
                <a:lnTo>
                  <a:pt x="0" y="0"/>
                </a:lnTo>
                <a:lnTo>
                  <a:pt x="0" y="336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57800" y="3124080"/>
            <a:ext cx="2058840" cy="459000"/>
          </a:xfrm>
          <a:custGeom>
            <a:avLst/>
            <a:gdLst/>
            <a:ahLst/>
            <a:rect l="l" t="t" r="r" b="b"/>
            <a:pathLst>
              <a:path w="1297" h="289">
                <a:moveTo>
                  <a:pt x="0" y="0"/>
                </a:moveTo>
                <a:lnTo>
                  <a:pt x="1296" y="0"/>
                </a:lnTo>
                <a:lnTo>
                  <a:pt x="1296" y="2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575800" y="2784600"/>
            <a:ext cx="401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81120" y="2860560"/>
            <a:ext cx="317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549080" y="3616200"/>
            <a:ext cx="124668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 ACEPTA A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MITA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66560" y="3540240"/>
            <a:ext cx="1263600" cy="271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IFICA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0" y="145404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221616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29200" y="4530600"/>
            <a:ext cx="148464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BLICACION E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ARIO OFIC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133720" y="412128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423440" y="5445000"/>
            <a:ext cx="1499760" cy="63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ENCE PLAZ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A PRESENT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OSI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133720" y="503568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499480" y="4156200"/>
            <a:ext cx="72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423160" y="5070600"/>
            <a:ext cx="72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057400" y="617868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423160" y="6213600"/>
            <a:ext cx="72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91240" y="4267080"/>
            <a:ext cx="1449360" cy="1068480"/>
          </a:xfrm>
          <a:custGeom>
            <a:avLst/>
            <a:gdLst/>
            <a:ahLst/>
            <a:rect l="l" t="t" r="r" b="b"/>
            <a:pathLst>
              <a:path w="913" h="673">
                <a:moveTo>
                  <a:pt x="456" y="0"/>
                </a:moveTo>
                <a:lnTo>
                  <a:pt x="0" y="310"/>
                </a:lnTo>
                <a:lnTo>
                  <a:pt x="399" y="672"/>
                </a:lnTo>
                <a:lnTo>
                  <a:pt x="912" y="362"/>
                </a:lnTo>
                <a:lnTo>
                  <a:pt x="456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765840" y="4537080"/>
            <a:ext cx="1037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SPUES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648320" y="1600200"/>
            <a:ext cx="4192560" cy="3201840"/>
          </a:xfrm>
          <a:custGeom>
            <a:avLst/>
            <a:gdLst/>
            <a:ahLst/>
            <a:rect l="l" t="t" r="r" b="b"/>
            <a:pathLst>
              <a:path w="2641" h="2017">
                <a:moveTo>
                  <a:pt x="2112" y="2016"/>
                </a:moveTo>
                <a:lnTo>
                  <a:pt x="2640" y="2016"/>
                </a:lnTo>
                <a:lnTo>
                  <a:pt x="2640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214480" y="4460760"/>
            <a:ext cx="317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690960" y="5749920"/>
            <a:ext cx="1172160" cy="63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 TIENE P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ESENTAD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315200" y="389268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238880" y="534024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376400" y="5299200"/>
            <a:ext cx="401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376040" y="3927600"/>
            <a:ext cx="72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bf69"/>
                </a:solidFill>
                <a:latin typeface="Arial"/>
              </a:rPr>
              <a:t>DIAGRAMA DE FLUJO DE TRAMITACION DE PATENTES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440880" y="3276720"/>
            <a:ext cx="91296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GO  D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ITAJ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314880" y="2209680"/>
            <a:ext cx="1449360" cy="1068480"/>
          </a:xfrm>
          <a:custGeom>
            <a:avLst/>
            <a:gdLst/>
            <a:ahLst/>
            <a:rect l="l" t="t" r="r" b="b"/>
            <a:pathLst>
              <a:path w="913" h="673">
                <a:moveTo>
                  <a:pt x="456" y="0"/>
                </a:moveTo>
                <a:lnTo>
                  <a:pt x="0" y="310"/>
                </a:lnTo>
                <a:lnTo>
                  <a:pt x="399" y="672"/>
                </a:lnTo>
                <a:lnTo>
                  <a:pt x="912" y="362"/>
                </a:lnTo>
                <a:lnTo>
                  <a:pt x="456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511800" y="2479680"/>
            <a:ext cx="993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OSI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730760" y="2743200"/>
            <a:ext cx="673200" cy="1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449680" y="2473200"/>
            <a:ext cx="2178000" cy="5457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MITA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NIDAD JURID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211920" y="4267080"/>
            <a:ext cx="147996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MBRAMIENTO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 PERI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752480" y="2666880"/>
            <a:ext cx="1676520" cy="838440"/>
          </a:xfrm>
          <a:custGeom>
            <a:avLst/>
            <a:gdLst/>
            <a:ahLst/>
            <a:rect l="l" t="t" r="r" b="b"/>
            <a:pathLst>
              <a:path w="1297" h="529">
                <a:moveTo>
                  <a:pt x="1008" y="0"/>
                </a:moveTo>
                <a:lnTo>
                  <a:pt x="0" y="0"/>
                </a:lnTo>
                <a:lnTo>
                  <a:pt x="0" y="528"/>
                </a:lnTo>
                <a:lnTo>
                  <a:pt x="1296" y="52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19720" y="3048120"/>
            <a:ext cx="1982520" cy="457200"/>
          </a:xfrm>
          <a:custGeom>
            <a:avLst/>
            <a:gdLst/>
            <a:ahLst/>
            <a:rect l="l" t="t" r="r" b="b"/>
            <a:pathLst>
              <a:path w="1537" h="289">
                <a:moveTo>
                  <a:pt x="1536" y="0"/>
                </a:moveTo>
                <a:lnTo>
                  <a:pt x="1536" y="288"/>
                </a:lnTo>
                <a:lnTo>
                  <a:pt x="0" y="2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86200" y="3746520"/>
            <a:ext cx="1440" cy="444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341080" y="2327400"/>
            <a:ext cx="401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703400" y="2403360"/>
            <a:ext cx="317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51400" y="360360"/>
            <a:ext cx="71888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TECCION DE DERECHOS INTELECTU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 TECNOLOG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28680" y="1442880"/>
            <a:ext cx="2448000" cy="72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INISTERIO DE ECONOMIA, FOMENTO Y RECONSTRUC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2520" y="289080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SECRETARIA DE PES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76600" y="2890800"/>
            <a:ext cx="2448000" cy="83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SECRET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E ECONOMIA, FOMENTO Y RECONSTRUC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76600" y="426240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EPARTAMENTO DE PROPIEDAD INDUSTR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76200" y="563400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DEPARTAMENTO JURIDIC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00280" y="563400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DEPARTAMENTO PATENTES DE INVEN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9800" y="563400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DEPARTAMENTO DE MARCAS COMERCIA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221616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00200" y="2590920"/>
            <a:ext cx="3354480" cy="306360"/>
          </a:xfrm>
          <a:custGeom>
            <a:avLst/>
            <a:gdLst/>
            <a:ahLst/>
            <a:rect l="l" t="t" r="r" b="b"/>
            <a:pathLst>
              <a:path w="2113" h="193">
                <a:moveTo>
                  <a:pt x="0" y="192"/>
                </a:moveTo>
                <a:lnTo>
                  <a:pt x="0" y="0"/>
                </a:lnTo>
                <a:lnTo>
                  <a:pt x="2112" y="0"/>
                </a:lnTo>
                <a:lnTo>
                  <a:pt x="2112" y="192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52880" y="3740040"/>
            <a:ext cx="0" cy="5209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52880" y="4883040"/>
            <a:ext cx="0" cy="2923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47920" y="5181480"/>
            <a:ext cx="6478560" cy="459000"/>
          </a:xfrm>
          <a:custGeom>
            <a:avLst/>
            <a:gdLst/>
            <a:ahLst/>
            <a:rect l="l" t="t" r="r" b="b"/>
            <a:pathLst>
              <a:path w="4081" h="289">
                <a:moveTo>
                  <a:pt x="0" y="288"/>
                </a:moveTo>
                <a:lnTo>
                  <a:pt x="0" y="0"/>
                </a:lnTo>
                <a:lnTo>
                  <a:pt x="4080" y="0"/>
                </a:lnTo>
                <a:lnTo>
                  <a:pt x="4080" y="288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952880" y="51879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bf69"/>
                </a:solidFill>
                <a:latin typeface="Arial"/>
              </a:rPr>
              <a:t>DIAGRAMA DE FLUJO DE TRAMITACION DE PATENTES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225800" y="1482840"/>
            <a:ext cx="147996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MBRAMIENTO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 PERI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441800" y="2701800"/>
            <a:ext cx="104868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FOR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L PERI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356480" y="3921120"/>
            <a:ext cx="1263600" cy="271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IFICA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380240" y="4911840"/>
            <a:ext cx="1170360" cy="63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SPUESTA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ICITAN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2895480"/>
            <a:ext cx="838440" cy="2135160"/>
          </a:xfrm>
          <a:custGeom>
            <a:avLst/>
            <a:gdLst/>
            <a:ahLst/>
            <a:rect l="l" t="t" r="r" b="b"/>
            <a:pathLst>
              <a:path w="721" h="1729">
                <a:moveTo>
                  <a:pt x="480" y="1728"/>
                </a:moveTo>
                <a:lnTo>
                  <a:pt x="0" y="1728"/>
                </a:lnTo>
                <a:lnTo>
                  <a:pt x="0" y="0"/>
                </a:lnTo>
                <a:lnTo>
                  <a:pt x="720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81080" y="206388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81080" y="328284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981080" y="427356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229280" y="2590920"/>
            <a:ext cx="1449360" cy="1068120"/>
          </a:xfrm>
          <a:custGeom>
            <a:avLst/>
            <a:gdLst/>
            <a:ahLst/>
            <a:rect l="l" t="t" r="r" b="b"/>
            <a:pathLst>
              <a:path w="913" h="673">
                <a:moveTo>
                  <a:pt x="456" y="0"/>
                </a:moveTo>
                <a:lnTo>
                  <a:pt x="0" y="310"/>
                </a:lnTo>
                <a:lnTo>
                  <a:pt x="399" y="672"/>
                </a:lnTo>
                <a:lnTo>
                  <a:pt x="912" y="362"/>
                </a:lnTo>
                <a:lnTo>
                  <a:pt x="456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344840" y="2814480"/>
            <a:ext cx="121788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SERVACIO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152960" y="4267080"/>
            <a:ext cx="1449360" cy="1068480"/>
          </a:xfrm>
          <a:custGeom>
            <a:avLst/>
            <a:gdLst/>
            <a:ahLst/>
            <a:rect l="l" t="t" r="r" b="b"/>
            <a:pathLst>
              <a:path w="913" h="673">
                <a:moveTo>
                  <a:pt x="456" y="0"/>
                </a:moveTo>
                <a:lnTo>
                  <a:pt x="0" y="310"/>
                </a:lnTo>
                <a:lnTo>
                  <a:pt x="399" y="672"/>
                </a:lnTo>
                <a:lnTo>
                  <a:pt x="912" y="362"/>
                </a:lnTo>
                <a:lnTo>
                  <a:pt x="456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405680" y="4460760"/>
            <a:ext cx="96948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I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ITAN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SPON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327920" y="5826240"/>
            <a:ext cx="1051560" cy="271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ANDO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66408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534024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666880" y="3048120"/>
            <a:ext cx="1525680" cy="1068120"/>
          </a:xfrm>
          <a:custGeom>
            <a:avLst/>
            <a:gdLst/>
            <a:ahLst/>
            <a:rect l="l" t="t" r="r" b="b"/>
            <a:pathLst>
              <a:path w="961" h="673">
                <a:moveTo>
                  <a:pt x="0" y="672"/>
                </a:moveTo>
                <a:lnTo>
                  <a:pt x="576" y="672"/>
                </a:lnTo>
                <a:lnTo>
                  <a:pt x="576" y="0"/>
                </a:lnTo>
                <a:lnTo>
                  <a:pt x="960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590920" y="4724280"/>
            <a:ext cx="1601640" cy="459000"/>
          </a:xfrm>
          <a:custGeom>
            <a:avLst/>
            <a:gdLst/>
            <a:ahLst/>
            <a:rect l="l" t="t" r="r" b="b"/>
            <a:pathLst>
              <a:path w="1009" h="289">
                <a:moveTo>
                  <a:pt x="1008" y="0"/>
                </a:moveTo>
                <a:lnTo>
                  <a:pt x="655" y="0"/>
                </a:lnTo>
                <a:lnTo>
                  <a:pt x="655" y="288"/>
                </a:lnTo>
                <a:lnTo>
                  <a:pt x="0" y="288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718800" y="4384800"/>
            <a:ext cx="317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938120" y="3774960"/>
            <a:ext cx="317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861800" y="5375160"/>
            <a:ext cx="401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18400" y="3165480"/>
            <a:ext cx="803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2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651760" y="3774960"/>
            <a:ext cx="803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2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082640" y="1635120"/>
            <a:ext cx="89172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VI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M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892560" y="2854440"/>
            <a:ext cx="142488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RMA DEL JEF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PARTAMEN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185600" y="4149720"/>
            <a:ext cx="98604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GO D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RECH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08120" y="5445000"/>
            <a:ext cx="1188720" cy="63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RTIFICAD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ITUL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638680" y="1905120"/>
            <a:ext cx="1449360" cy="1220760"/>
          </a:xfrm>
          <a:custGeom>
            <a:avLst/>
            <a:gdLst/>
            <a:ahLst/>
            <a:rect l="l" t="t" r="r" b="b"/>
            <a:pathLst>
              <a:path w="913" h="769">
                <a:moveTo>
                  <a:pt x="0" y="768"/>
                </a:moveTo>
                <a:lnTo>
                  <a:pt x="384" y="768"/>
                </a:lnTo>
                <a:lnTo>
                  <a:pt x="384" y="0"/>
                </a:lnTo>
                <a:lnTo>
                  <a:pt x="912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700240" y="2784600"/>
            <a:ext cx="401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543800" y="2139840"/>
            <a:ext cx="0" cy="673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543800" y="3359160"/>
            <a:ext cx="0" cy="749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543800" y="4654440"/>
            <a:ext cx="0" cy="749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890000" y="2098800"/>
            <a:ext cx="803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2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851400" y="360360"/>
            <a:ext cx="71888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TECCION DE DERECHOS INTELECTU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 TECNOLOG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95720" y="144288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INISTERIO 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GRICULTUR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5720" y="2509920"/>
            <a:ext cx="2448000" cy="302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SECRET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95720" y="3348000"/>
            <a:ext cx="2448000" cy="72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.A.G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RVICIO AGRICOLA Y GANADER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195720" y="464328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IVISION DE PROTECCION AGRICOL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52800" y="5710320"/>
            <a:ext cx="2809800" cy="626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GISTRO D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VARIEDADES PROTEGID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19720" y="1987560"/>
            <a:ext cx="0" cy="5205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19720" y="29019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19720" y="4121280"/>
            <a:ext cx="0" cy="5205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19720" y="5187960"/>
            <a:ext cx="0" cy="5205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052720" y="833400"/>
            <a:ext cx="5343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ETE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78040" y="863640"/>
            <a:ext cx="5816520" cy="482400"/>
          </a:xfrm>
          <a:prstGeom prst="rect">
            <a:avLst/>
          </a:prstGeom>
          <a:noFill/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28680" y="1519200"/>
            <a:ext cx="69552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70000" y="1384200"/>
            <a:ext cx="736560" cy="370836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262400" y="1519200"/>
            <a:ext cx="69552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00680" y="1519200"/>
            <a:ext cx="69552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80040" y="1384200"/>
            <a:ext cx="736560" cy="370836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642000" y="1397160"/>
            <a:ext cx="736560" cy="370836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78040" y="5130720"/>
            <a:ext cx="5816520" cy="482760"/>
          </a:xfrm>
          <a:prstGeom prst="rect">
            <a:avLst/>
          </a:prstGeom>
          <a:noFill/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50280" y="5160960"/>
            <a:ext cx="1786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Times New Roman"/>
              </a:rPr>
              <a:t>PAT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LEY ANTIMONOPOLIOS  (D.S. 211)</a:t>
            </a:r>
            <a:endParaRPr b="0" lang="en-US" sz="28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640" y="1987200"/>
            <a:ext cx="250200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PRESA     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UCT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8080" y="4425480"/>
            <a:ext cx="6540480" cy="1822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RC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 COMPITE LIBREMENTE POR EL PRODUCTO 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59160" y="1987560"/>
            <a:ext cx="250200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PRESA        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UCT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330960" y="1987560"/>
            <a:ext cx="250200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PRESA        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UCT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28800" y="2825640"/>
            <a:ext cx="0" cy="1587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48320" y="2825640"/>
            <a:ext cx="0" cy="1587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0120" y="2825640"/>
            <a:ext cx="0" cy="1587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6094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CENTIVO A INVERTIR EN INVESTIGACION</a:t>
            </a:r>
            <a:br>
              <a:rPr sz="2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arrollar nuevos productos y ganar con una patente en el merc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987560"/>
            <a:ext cx="250200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PRESA     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UCTO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78080" y="4425840"/>
            <a:ext cx="6540480" cy="1594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RC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59160" y="1987560"/>
            <a:ext cx="250200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PRESA        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UCT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30960" y="1987560"/>
            <a:ext cx="250200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PRESA        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UCT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2825640"/>
            <a:ext cx="0" cy="1587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48320" y="2825640"/>
            <a:ext cx="0" cy="1587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0120" y="2825640"/>
            <a:ext cx="0" cy="1587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8080" y="5118120"/>
            <a:ext cx="4101840" cy="67320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54920" y="5289480"/>
            <a:ext cx="3575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DUCTO Y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CON PATENT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92880" y="5118120"/>
            <a:ext cx="2425680" cy="67320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70080" y="5289480"/>
            <a:ext cx="1802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DUCTO 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00160" y="517680"/>
            <a:ext cx="859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47800" y="1617840"/>
            <a:ext cx="1519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ES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8800" y="3301920"/>
            <a:ext cx="1524240" cy="393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</a:rPr>
              <a:t>PATE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2880" y="4444920"/>
            <a:ext cx="3232440" cy="85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MPRESA DESARROL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DUC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58600" y="5923080"/>
            <a:ext cx="1787760" cy="454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ERC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56360" y="1655640"/>
            <a:ext cx="290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BANCO DE DA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21080" y="1606680"/>
            <a:ext cx="2654280" cy="520560"/>
          </a:xfrm>
          <a:prstGeom prst="rightArrow">
            <a:avLst>
              <a:gd name="adj1" fmla="val 50000"/>
              <a:gd name="adj2" fmla="val 254968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2280" y="1378080"/>
            <a:ext cx="1815840" cy="9014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87960" y="1378080"/>
            <a:ext cx="3035160" cy="1054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29080" y="1693800"/>
            <a:ext cx="1297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DMINISTR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6960" y="6327720"/>
            <a:ext cx="1568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PUBL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62320" y="2438280"/>
            <a:ext cx="3201840" cy="1068480"/>
          </a:xfrm>
          <a:custGeom>
            <a:avLst/>
            <a:gdLst/>
            <a:ahLst/>
            <a:rect l="l" t="t" r="r" b="b"/>
            <a:pathLst>
              <a:path w="2017" h="673">
                <a:moveTo>
                  <a:pt x="0" y="672"/>
                </a:moveTo>
                <a:lnTo>
                  <a:pt x="2016" y="672"/>
                </a:lnTo>
                <a:lnTo>
                  <a:pt x="2016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3880" y="2292480"/>
            <a:ext cx="0" cy="9777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23880" y="3740040"/>
            <a:ext cx="0" cy="673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3880" y="534024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¿QUE GANA EL ESTADO CON OTORGAR UNA PATENTE?</a:t>
            </a:r>
            <a:endParaRPr b="0" lang="en-US" sz="2400" spc="-1" strike="noStrike">
              <a:solidFill>
                <a:srgbClr val="f6bf69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181480" y="4267080"/>
            <a:ext cx="3124440" cy="20894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248520" y="2514600"/>
            <a:ext cx="914400" cy="1676520"/>
          </a:xfrm>
          <a:prstGeom prst="downArrow">
            <a:avLst>
              <a:gd name="adj1" fmla="val 50000"/>
              <a:gd name="adj2" fmla="val 4583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6bf69"/>
                </a:solidFill>
                <a:uFillTx/>
                <a:latin typeface="Arial"/>
              </a:rPr>
              <a:t>REQUISITOS DE PATENTABILIDAD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LICACION INDUST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VE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VEL INVENTI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1-22T20:55:50Z</dcterms:created>
  <dc:creator>Andrés Escobar López</dc:creator>
  <dc:description>Preparado para dictar charla el miércoles 28 de Agosto de 1996</dc:description>
  <dc:language>en-US</dc:language>
  <cp:lastModifiedBy>SPL.RLP</cp:lastModifiedBy>
  <dcterms:modified xsi:type="dcterms:W3CDTF">2004-10-05T22:15:41Z</dcterms:modified>
  <cp:revision>18</cp:revision>
  <dc:subject>sistema de patentes e informacion tecnologica</dc:subject>
  <dc:title>Seminario de Patentes</dc:title>
</cp:coreProperties>
</file>