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8.wmf" ContentType="image/x-wmf"/>
  <Override PartName="/ppt/media/image6.gif" ContentType="image/gif"/>
  <Override PartName="/ppt/media/image9.png" ContentType="image/png"/>
  <Override PartName="/ppt/media/image7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AA64-5117-4BFD-B9C0-E29582316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21F8-FAF7-45F5-9FA0-ED9820F9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7665-6261-4550-8F53-A3A98A05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308D-337F-485C-B4CF-60764656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9D86B-13AA-47FA-91A3-DBB24A002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5EF95-4BCE-4A03-BCDF-FBE772F6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AB8EF-41BA-4F24-9338-AD15EA98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6B143-ED45-4377-9B56-2BD14854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55D38-5B01-4D7A-974C-3C9ED1C3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AE689-7001-4911-BC5F-D02F47AC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BEA02-4288-4FCD-A60C-C77F7DD1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0305-527D-47E0-A160-9EA9695E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B36CA-08EA-4AE5-96F3-979F998E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72D4E-FC9F-4733-87AA-0C012A07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D40AC-9A0C-47B5-A869-CF6C534F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ADE58-3E34-426A-814E-E4F8E7DAF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72FDB-4935-45EB-99DB-3ECF141AB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9408-EF77-4925-A664-6C79A208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3733-7905-48C2-BCC5-C59B8C94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3367-C407-4998-B5EA-416E8572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BF99-4C2B-4D3F-9147-5136CC35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2EA9-4A33-4277-B34E-112E5432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2649-C3F9-493E-8E29-7CEC36AE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89A0-6729-4457-A639-73317DEF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245E-47D4-45FB-9D7B-6E6A79A0DA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9D48-8E1D-47DD-91E2-3F992BF187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13.gi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gi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ESENTACIÓN del Fondo de Desarrollo Tecnológico y Productivo -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FONTEC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- de la CORF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700200" y="3300480"/>
            <a:ext cx="7904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Fontec es una institución creada por Corfo que subsidia proyectos de innovación tecnológica presentados por las empresas chile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l esquema de subsidio es por la vía de co-financiamiento, es decir, una parte la aporta Fontec y la otra es aportada por la empre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anciamiento L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905120"/>
          <a:ext cx="8229600" cy="4271760"/>
        </p:xfrm>
        <a:graphic>
          <a:graphicData uri="http://schemas.openxmlformats.org/drawingml/2006/table">
            <a:tbl>
              <a:tblPr/>
              <a:tblGrid>
                <a:gridCol w="3035160"/>
                <a:gridCol w="2451240"/>
                <a:gridCol w="2743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sto Total/Aporte Fonte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rcentaje máximo de aporte Fonte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o máximo de aporte por tramo (UF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mo hasta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F 5.5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F 2.7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mo entr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F 5.501-14.5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F 3.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mo entr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F 14.501-21.5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F 2.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riterios de Elegibilidad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yectos Innovación Tecnológica de Línea 1 (L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843588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ahoma"/>
              </a:rPr>
              <a:t>Criterios para aprobar proyectos por Fontec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ecesidad de desarrollo de nuevos productos o proces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yectos con contenido innovativo (adaptación, mejora o creació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mplejidad tecnológica que resolver, es decir, con alto Riesgo Tecnológ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resultado de los proyectos deben tener una buena probabilidad de aplicarse comercialm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l Proyecto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consideraciones para su evaluación por parte de FONTEC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62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ipo y grado de innov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laridad en Objetivos, metodología, resultados o soluciones específ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laridad en Plan de trabajo: actividades, plazos, tamaño, localización: Cronogra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quipo ejecutor: competencias y calidad verificable (Currículum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ntecedentes de la empres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pacidad financie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periencia de Proyectos de innovación anteri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talle de los costos del proyecto: clar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Empresa debe evidenciar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pacidad de Gest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pacidad Financiera: cuentas de balance y result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ndicadores financier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ntecedentes complementar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sistencia con costos 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780000" y="1125360"/>
            <a:ext cx="5364000" cy="5732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1.- POSTULACION DEL PROYEC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Presentación Proyec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Comité Innovación Regio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Precalificación  elegibil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2.- EVALUAC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-Proyecto Tecnológ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-Empres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-Evaluación Económ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3.- PRESENTACION 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RESOLUCION COMITÉ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4.- FORMALIZACIÓN CONTRACTU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- Términos Referenc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- Garantías Ejecu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- Entrega Recurs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5.- EJECUCION Y SEGUIMIEN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6.- ESCALAMIENTO PRODUCTIV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260280"/>
            <a:ext cx="1423800" cy="6326280"/>
          </a:xfrm>
          <a:custGeom>
            <a:avLst/>
            <a:gdLst/>
            <a:ahLst/>
            <a:rect l="l" t="t" r="r" b="b"/>
            <a:pathLst>
              <a:path w="1009" h="3985">
                <a:moveTo>
                  <a:pt x="115" y="120"/>
                </a:moveTo>
                <a:lnTo>
                  <a:pt x="231" y="0"/>
                </a:lnTo>
                <a:lnTo>
                  <a:pt x="326" y="96"/>
                </a:lnTo>
                <a:lnTo>
                  <a:pt x="411" y="240"/>
                </a:lnTo>
                <a:lnTo>
                  <a:pt x="346" y="384"/>
                </a:lnTo>
                <a:lnTo>
                  <a:pt x="637" y="498"/>
                </a:lnTo>
                <a:lnTo>
                  <a:pt x="677" y="612"/>
                </a:lnTo>
                <a:lnTo>
                  <a:pt x="637" y="678"/>
                </a:lnTo>
                <a:lnTo>
                  <a:pt x="527" y="726"/>
                </a:lnTo>
                <a:lnTo>
                  <a:pt x="461" y="834"/>
                </a:lnTo>
                <a:lnTo>
                  <a:pt x="491" y="876"/>
                </a:lnTo>
                <a:lnTo>
                  <a:pt x="461" y="1032"/>
                </a:lnTo>
                <a:lnTo>
                  <a:pt x="426" y="1110"/>
                </a:lnTo>
                <a:lnTo>
                  <a:pt x="291" y="1230"/>
                </a:lnTo>
                <a:lnTo>
                  <a:pt x="341" y="1368"/>
                </a:lnTo>
                <a:lnTo>
                  <a:pt x="351" y="1536"/>
                </a:lnTo>
                <a:lnTo>
                  <a:pt x="381" y="1842"/>
                </a:lnTo>
                <a:lnTo>
                  <a:pt x="411" y="1920"/>
                </a:lnTo>
                <a:lnTo>
                  <a:pt x="361" y="2010"/>
                </a:lnTo>
                <a:lnTo>
                  <a:pt x="361" y="2496"/>
                </a:lnTo>
                <a:lnTo>
                  <a:pt x="361" y="2694"/>
                </a:lnTo>
                <a:lnTo>
                  <a:pt x="471" y="2796"/>
                </a:lnTo>
                <a:lnTo>
                  <a:pt x="461" y="2856"/>
                </a:lnTo>
                <a:lnTo>
                  <a:pt x="496" y="2880"/>
                </a:lnTo>
                <a:lnTo>
                  <a:pt x="461" y="2958"/>
                </a:lnTo>
                <a:lnTo>
                  <a:pt x="532" y="3000"/>
                </a:lnTo>
                <a:lnTo>
                  <a:pt x="532" y="3108"/>
                </a:lnTo>
                <a:lnTo>
                  <a:pt x="496" y="3084"/>
                </a:lnTo>
                <a:lnTo>
                  <a:pt x="496" y="3114"/>
                </a:lnTo>
                <a:lnTo>
                  <a:pt x="527" y="3198"/>
                </a:lnTo>
                <a:lnTo>
                  <a:pt x="527" y="3306"/>
                </a:lnTo>
                <a:lnTo>
                  <a:pt x="491" y="3378"/>
                </a:lnTo>
                <a:lnTo>
                  <a:pt x="491" y="3444"/>
                </a:lnTo>
                <a:lnTo>
                  <a:pt x="466" y="3486"/>
                </a:lnTo>
                <a:lnTo>
                  <a:pt x="466" y="3588"/>
                </a:lnTo>
                <a:lnTo>
                  <a:pt x="527" y="3630"/>
                </a:lnTo>
                <a:lnTo>
                  <a:pt x="557" y="3630"/>
                </a:lnTo>
                <a:lnTo>
                  <a:pt x="592" y="3780"/>
                </a:lnTo>
                <a:lnTo>
                  <a:pt x="692" y="3816"/>
                </a:lnTo>
                <a:lnTo>
                  <a:pt x="767" y="3822"/>
                </a:lnTo>
                <a:lnTo>
                  <a:pt x="832" y="3846"/>
                </a:lnTo>
                <a:lnTo>
                  <a:pt x="908" y="3828"/>
                </a:lnTo>
                <a:lnTo>
                  <a:pt x="1008" y="3822"/>
                </a:lnTo>
                <a:lnTo>
                  <a:pt x="878" y="3882"/>
                </a:lnTo>
                <a:lnTo>
                  <a:pt x="812" y="3888"/>
                </a:lnTo>
                <a:lnTo>
                  <a:pt x="767" y="3936"/>
                </a:lnTo>
                <a:lnTo>
                  <a:pt x="757" y="3984"/>
                </a:lnTo>
                <a:lnTo>
                  <a:pt x="607" y="3894"/>
                </a:lnTo>
                <a:lnTo>
                  <a:pt x="647" y="3870"/>
                </a:lnTo>
                <a:lnTo>
                  <a:pt x="627" y="3840"/>
                </a:lnTo>
                <a:lnTo>
                  <a:pt x="592" y="3846"/>
                </a:lnTo>
                <a:lnTo>
                  <a:pt x="567" y="3792"/>
                </a:lnTo>
                <a:lnTo>
                  <a:pt x="471" y="3792"/>
                </a:lnTo>
                <a:lnTo>
                  <a:pt x="416" y="3774"/>
                </a:lnTo>
                <a:lnTo>
                  <a:pt x="416" y="3720"/>
                </a:lnTo>
                <a:lnTo>
                  <a:pt x="346" y="3642"/>
                </a:lnTo>
                <a:lnTo>
                  <a:pt x="301" y="3492"/>
                </a:lnTo>
                <a:lnTo>
                  <a:pt x="291" y="3432"/>
                </a:lnTo>
                <a:lnTo>
                  <a:pt x="226" y="3336"/>
                </a:lnTo>
                <a:lnTo>
                  <a:pt x="266" y="3318"/>
                </a:lnTo>
                <a:lnTo>
                  <a:pt x="321" y="3306"/>
                </a:lnTo>
                <a:lnTo>
                  <a:pt x="211" y="3228"/>
                </a:lnTo>
                <a:lnTo>
                  <a:pt x="201" y="3192"/>
                </a:lnTo>
                <a:lnTo>
                  <a:pt x="160" y="3204"/>
                </a:lnTo>
                <a:lnTo>
                  <a:pt x="90" y="3174"/>
                </a:lnTo>
                <a:lnTo>
                  <a:pt x="0" y="3126"/>
                </a:lnTo>
                <a:lnTo>
                  <a:pt x="60" y="3084"/>
                </a:lnTo>
                <a:lnTo>
                  <a:pt x="125" y="3036"/>
                </a:lnTo>
                <a:lnTo>
                  <a:pt x="145" y="3066"/>
                </a:lnTo>
                <a:lnTo>
                  <a:pt x="231" y="3126"/>
                </a:lnTo>
                <a:lnTo>
                  <a:pt x="306" y="3114"/>
                </a:lnTo>
                <a:lnTo>
                  <a:pt x="261" y="3072"/>
                </a:lnTo>
                <a:lnTo>
                  <a:pt x="291" y="3018"/>
                </a:lnTo>
                <a:lnTo>
                  <a:pt x="306" y="2952"/>
                </a:lnTo>
                <a:lnTo>
                  <a:pt x="266" y="2934"/>
                </a:lnTo>
                <a:lnTo>
                  <a:pt x="331" y="2910"/>
                </a:lnTo>
                <a:lnTo>
                  <a:pt x="221" y="2802"/>
                </a:lnTo>
                <a:lnTo>
                  <a:pt x="226" y="2508"/>
                </a:lnTo>
                <a:lnTo>
                  <a:pt x="130" y="2514"/>
                </a:lnTo>
                <a:lnTo>
                  <a:pt x="50" y="2460"/>
                </a:lnTo>
                <a:lnTo>
                  <a:pt x="40" y="2334"/>
                </a:lnTo>
                <a:lnTo>
                  <a:pt x="85" y="2280"/>
                </a:lnTo>
                <a:lnTo>
                  <a:pt x="85" y="2196"/>
                </a:lnTo>
                <a:lnTo>
                  <a:pt x="50" y="2172"/>
                </a:lnTo>
                <a:lnTo>
                  <a:pt x="80" y="2064"/>
                </a:lnTo>
                <a:lnTo>
                  <a:pt x="130" y="1944"/>
                </a:lnTo>
                <a:lnTo>
                  <a:pt x="125" y="1836"/>
                </a:lnTo>
                <a:lnTo>
                  <a:pt x="191" y="1788"/>
                </a:lnTo>
                <a:lnTo>
                  <a:pt x="191" y="1656"/>
                </a:lnTo>
                <a:lnTo>
                  <a:pt x="191" y="1398"/>
                </a:lnTo>
                <a:lnTo>
                  <a:pt x="261" y="1332"/>
                </a:lnTo>
                <a:lnTo>
                  <a:pt x="251" y="1302"/>
                </a:lnTo>
                <a:lnTo>
                  <a:pt x="201" y="1248"/>
                </a:lnTo>
                <a:lnTo>
                  <a:pt x="191" y="1122"/>
                </a:lnTo>
                <a:lnTo>
                  <a:pt x="216" y="1092"/>
                </a:lnTo>
                <a:lnTo>
                  <a:pt x="231" y="1008"/>
                </a:lnTo>
                <a:lnTo>
                  <a:pt x="241" y="702"/>
                </a:lnTo>
                <a:lnTo>
                  <a:pt x="165" y="672"/>
                </a:lnTo>
                <a:lnTo>
                  <a:pt x="226" y="606"/>
                </a:lnTo>
                <a:lnTo>
                  <a:pt x="226" y="516"/>
                </a:lnTo>
                <a:lnTo>
                  <a:pt x="226" y="384"/>
                </a:lnTo>
                <a:lnTo>
                  <a:pt x="226" y="264"/>
                </a:lnTo>
                <a:lnTo>
                  <a:pt x="186" y="162"/>
                </a:lnTo>
                <a:lnTo>
                  <a:pt x="115" y="120"/>
                </a:lnTo>
              </a:path>
            </a:pathLst>
          </a:custGeom>
          <a:solidFill>
            <a:srgbClr val="037c03"/>
          </a:solidFill>
          <a:ln cap="rnd" w="12600">
            <a:solidFill>
              <a:srgbClr val="009688"/>
            </a:solidFill>
            <a:round/>
          </a:ln>
          <a:effectLst>
            <a:outerShdw dist="107932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4365720"/>
            <a:ext cx="136440" cy="457200"/>
          </a:xfrm>
          <a:prstGeom prst="ellipse">
            <a:avLst/>
          </a:pr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4797360"/>
            <a:ext cx="66960" cy="76320"/>
          </a:xfrm>
          <a:prstGeom prst="ellipse">
            <a:avLst/>
          </a:pr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49400" y="5181480"/>
            <a:ext cx="68040" cy="76320"/>
          </a:xfrm>
          <a:prstGeom prst="ellipse">
            <a:avLst/>
          </a:pr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4941720"/>
            <a:ext cx="144720" cy="71640"/>
          </a:xfrm>
          <a:prstGeom prst="ellipse">
            <a:avLst/>
          </a:pr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9400" y="5257800"/>
            <a:ext cx="66600" cy="76320"/>
          </a:xfrm>
          <a:prstGeom prst="ellipse">
            <a:avLst/>
          </a:pr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187280" y="2421000"/>
            <a:ext cx="1951200" cy="1981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1835280" y="4724280"/>
            <a:ext cx="1800000" cy="17622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299040" y="333360"/>
            <a:ext cx="546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ceso FONTE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763640" y="404640"/>
            <a:ext cx="177336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sión FONTEC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poyar la investigación y el desarrollo tecnológico para la innovación de las empresas productoras de bienes y servicios, como variable estratégica de competencia en los merca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mo parte integrante de CORFO, cuenta con una amplia red de profesionales en todo el país, cuyo compromiso es poner a disposición de las empresas, instrumentos de financiamiento para que aceleren su inversión en innovació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067280" y="260280"/>
            <a:ext cx="5076720" cy="43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u estructura legal es definida como un Comité de CORF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uenta con un Consejo directivo público-privado (la mitad son altos funcionarios públicos y la otra mitad son connotados representantes de las empres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iene Cobertura n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Ventanilla abierta (se pueden presentar proyectos en cualquier momento del añ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2492280"/>
            <a:ext cx="44654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26920" y="404640"/>
            <a:ext cx="3097440" cy="1729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6360" y="2852640"/>
            <a:ext cx="42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3300"/>
                </a:solidFill>
                <a:latin typeface="Tahoma"/>
              </a:rPr>
              <a:t>CARACTERISTICAS  DE  FONT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067280" y="260280"/>
            <a:ext cx="5076720" cy="43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aliza Convocatorias Especiales, esto es, focaliza recursos para determinados temas estratégicos de interés nacional, durante un período corto de ti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resupuesto público, Programa 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s una institución pública pero que está certificada ISO 9001 (2000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2492280"/>
            <a:ext cx="44654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26920" y="404640"/>
            <a:ext cx="3097440" cy="1729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6360" y="2852640"/>
            <a:ext cx="42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3300"/>
                </a:solidFill>
                <a:latin typeface="Tahoma"/>
              </a:rPr>
              <a:t>CARACTERISTICAS  DE  FONT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300720" y="5589720"/>
            <a:ext cx="66060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68360" y="620640"/>
          <a:ext cx="8136000" cy="580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620640"/>
                    <a:ext cx="8136000" cy="58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361320" y="3213000"/>
            <a:ext cx="32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1: innovación tecnoló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4869000"/>
            <a:ext cx="23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2: infraestructur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ecnoló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1720" y="836640"/>
            <a:ext cx="47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3: transferencia tecnológica asocia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49520" y="1484280"/>
            <a:ext cx="320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4: entidades de gestión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ntros de transferenc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ecnoló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19080" y="5950080"/>
            <a:ext cx="33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5: estudios de preinver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940360" y="4149720"/>
            <a:ext cx="2144880" cy="1603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3851280" y="3716280"/>
            <a:ext cx="1228680" cy="723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4067280" y="2349360"/>
            <a:ext cx="912600" cy="770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1332000" y="1125360"/>
            <a:ext cx="186696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77800" y="119700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00"/>
                </a:solidFill>
                <a:latin typeface="Arial Black"/>
              </a:rPr>
              <a:t>1) Desarrollo de nuevos productos o servici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00"/>
                </a:solidFill>
                <a:latin typeface="Arial Black"/>
              </a:rPr>
              <a:t>no existentes a lo menos en el mercado nacional, y para los cuales se establecerán capacidades nacionales de produc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00"/>
                </a:solidFill>
                <a:latin typeface="Arial Black"/>
              </a:rPr>
              <a:t>2) Desarrollo de productos o servicios, que si bien existen en el mercado nacional, no se dispone de capacidades nacionales para su produc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00"/>
                </a:solidFill>
                <a:latin typeface="Arial Black"/>
              </a:rPr>
              <a:t>3) Incorporación de nuevos procesos productivos, no existentes en el país, que incrementan sustancialmente la eficiencia y la productividad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2570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Impact"/>
              </a:rPr>
              <a:t>Tipos de proyectos de innovación</a:t>
            </a:r>
            <a:r>
              <a:rPr b="1" lang="es-ES_tradnl" sz="3600" spc="-1" strike="noStrike">
                <a:solidFill>
                  <a:srgbClr val="ffcc00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69960" y="126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7920" y="1084320"/>
            <a:ext cx="404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Empresario: Florencio 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Máquina para el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de hela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6320" y="3638520"/>
            <a:ext cx="414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Empresa: Pesquera Lan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S.A. Productos de jurel p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Consumo huma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2286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0160" indent="-2000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Impact"/>
              </a:rPr>
              <a:t>Ejemplos Proyectos de Innov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078520" y="1143000"/>
            <a:ext cx="3886200" cy="2220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499000" y="3689280"/>
            <a:ext cx="346572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9376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120" y="1079640"/>
            <a:ext cx="354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Empresa: Biosonda S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Hemocianina del lo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7080" y="3825720"/>
            <a:ext cx="346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Empresa: Prospect S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Cámara de segu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desliz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286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0160" indent="-2000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Impact"/>
              </a:rPr>
              <a:t>Ejemplos Proyectos de Innov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029200" y="914400"/>
            <a:ext cx="3657600" cy="2460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334120" y="3886200"/>
            <a:ext cx="34718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2286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0160" indent="-2000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Impact"/>
              </a:rPr>
              <a:t>Transferencia Tecnoló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828800"/>
            <a:ext cx="8089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Misiones para conocer modernas tecnologías de proceso, producción y gestión en empresas líderes; centros técnicos y ferias tecnológicas en el extranjero (5 o más empresa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Expertos o consultoría de nivel internacional en tecnologías especializadas de aplicación inmediata a las empresas beneficiarias (3 o más empres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" dur="1" fill="hold"/>
                                  <p:tgtEl>
                                    <p:spTgt spid="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21:30:15Z</dcterms:created>
  <dc:creator>Jorge Olivares</dc:creator>
  <dc:description/>
  <dc:language>en-US</dc:language>
  <cp:lastModifiedBy> Consejo Nacional de Producción Limpia</cp:lastModifiedBy>
  <cp:lastPrinted>2002-08-12T16:18:41Z</cp:lastPrinted>
  <dcterms:modified xsi:type="dcterms:W3CDTF">2004-11-07T13:59:18Z</dcterms:modified>
  <cp:revision>47</cp:revision>
  <dc:subject/>
  <dc:title>Conceptos, Criterios y Procedimientos de Evaluación de Proyectos</dc:title>
</cp:coreProperties>
</file>