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gif" ContentType="image/gif"/>
  <Override PartName="/ppt/media/image14.wmf" ContentType="image/x-wmf"/>
  <Override PartName="/ppt/media/image1.jpeg" ContentType="image/jpeg"/>
  <Override PartName="/ppt/media/image4.wmf" ContentType="image/x-wmf"/>
  <Override PartName="/ppt/media/image2.wmf" ContentType="image/x-wmf"/>
  <Override PartName="/ppt/media/image3.png" ContentType="image/png"/>
  <Override PartName="/ppt/media/image10.png" ContentType="image/png"/>
  <Override PartName="/ppt/media/image5.wmf" ContentType="image/x-wmf"/>
  <Override PartName="/ppt/media/image11.png" ContentType="image/png"/>
  <Override PartName="/ppt/media/image8.wmf" ContentType="image/x-wmf"/>
  <Override PartName="/ppt/media/image6.gif" ContentType="image/gif"/>
  <Override PartName="/ppt/media/image9.png" ContentType="image/png"/>
  <Override PartName="/ppt/media/image7.wmf" ContentType="image/x-wmf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79DF-D28E-41F3-89B9-E41531D9D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A4ED5-E2DB-43A2-8422-DB7BC163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283D9-81F8-4212-8E43-8A8603044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F550A-41D0-40A3-8EC3-2D15B4750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108ED09-FC6A-4284-947B-7A699FAEC8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D74ED7-E342-48E9-8190-7CFC5099F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4E2983-4189-496A-B726-1B0CAE41E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ED068-1FB8-4690-AD86-404A7DACD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E448A29-AE18-4A23-9FDC-CA23AF1CE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3F00E5-FD66-4C97-8EEA-862097674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C59ACF-A294-4ADC-A938-ADA2A4C4FC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CDC-07A4-41B5-ADA5-2F50082FE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57462C2-55FC-4652-83C3-23DE14B87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6A47B83-EBB0-4012-8761-8911FE8C8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445E7D-7E90-41B1-A732-F204FC390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FAA25B-4AFB-4849-99D9-75043AE646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0512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546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E6D041-F4F2-44EB-AC9E-B220CCFE1D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1DCD-B0BA-4641-8ED0-2438C2F342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0F138-1BDF-4CF5-8547-DFEFEE90CE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6E81C-B573-4190-8889-AECB713A6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91960"/>
            <a:ext cx="8229600" cy="641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94FBA-B520-4216-BDCC-90D2AE27F4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23BF1-4B0B-46D3-AC76-6FF1F24F1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546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CFDBE-36E1-4184-9291-9FF7D8FF1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0512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46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B4B8B-FAFC-4253-A533-CC4D5C5B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C5C47-851C-4351-87A2-80E62F7F95B0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C8E4E-6811-47C1-BE58-5BC5E888069A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13.gi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8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image" Target="../media/image5.wmf"/><Relationship Id="rId5" Type="http://schemas.openxmlformats.org/officeDocument/2006/relationships/image" Target="../media/image6.gif"/><Relationship Id="rId6" Type="http://schemas.openxmlformats.org/officeDocument/2006/relationships/image" Target="../media/image7.wmf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98064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RESENTACIÓN del Fondo de Desarrollo Tecnológico y Productivo -</a:t>
            </a:r>
            <a:r>
              <a:rPr b="0" lang="en-US" sz="4000" spc="-1" strike="noStrike">
                <a:solidFill>
                  <a:srgbClr val="ff0000"/>
                </a:solidFill>
                <a:latin typeface="Tahoma"/>
              </a:rPr>
              <a:t>FONTEC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- de la CORFO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"/>
          <p:cNvSpPr/>
          <p:nvPr/>
        </p:nvSpPr>
        <p:spPr>
          <a:xfrm>
            <a:off x="700200" y="3300480"/>
            <a:ext cx="790416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Fontec es una institución creada por Corfo que subsidia proyectos de innovación tecnológica presentados por las empresas chilenas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ffffff"/>
                </a:solidFill>
                <a:latin typeface="Tahoma"/>
              </a:rPr>
              <a:t>El esquema de subsidio es por la vía de co-financiamiento, es decir, una parte la aporta Fontec y la otra es aportada por la empresa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Financiamiento L1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457200" y="1905120"/>
          <a:ext cx="8229600" cy="4271760"/>
        </p:xfrm>
        <a:graphic>
          <a:graphicData uri="http://schemas.openxmlformats.org/drawingml/2006/table">
            <a:tbl>
              <a:tblPr/>
              <a:tblGrid>
                <a:gridCol w="3035160"/>
                <a:gridCol w="2451240"/>
                <a:gridCol w="2743200"/>
              </a:tblGrid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sto Total/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Porcentaje máximo de aporte Fontec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nto máximo de aporte por tramo (UF)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hasta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7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5.501-14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3.6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26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Tramo entre 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UF 14.501-21.500</a:t>
                      </a:r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%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UF 2.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17280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Criterios de Elegibilidad: </a:t>
            </a:r>
            <a:br>
              <a:rPr sz="36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Proyectos Innovación Tecnológica de Línea 1 (L1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844640"/>
            <a:ext cx="8435880" cy="494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Tahoma"/>
              </a:rPr>
              <a:t>Criterios para aprobar proyectos por Fontec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Necesidad de desarrollo de nuevos productos o proces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Proyectos con contenido innovativo (adaptación, mejora o creación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Complejidad tecnológica que resolver, es decir, con alto Riesgo Tecnológic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spcAft>
                <a:spcPts val="700"/>
              </a:spcAft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ffffff"/>
                </a:solidFill>
                <a:latin typeface="Tahoma"/>
              </a:rPr>
              <a:t>El resultado de los proyectos deben tener una buena probabilidad de aplicarse comercialmen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ahoma"/>
              </a:rPr>
              <a:t>El Proyecto: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consideraciones para su evaluación por parte de FONTEC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3628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po y grado de innovaci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Objetivos, metodología, resultados o soluciones específ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laridad en Plan de trabajo: actividades, plazos, tamaño, localización: Cronograma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quipo ejecutor: competencias y calidad verificable (Currículums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ntecedentes de la empresa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acidad financie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Experiencia de Proyectos de innovación anterio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Detalle de los costos del proyecto: clarida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La Empresa debe evidenciar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de Gest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apacidad Financiera: cuentas de balance y resultad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Indicadores financier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Antecedentes complementario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onsistencia con costos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/>
          </p:nvPr>
        </p:nvSpPr>
        <p:spPr>
          <a:xfrm>
            <a:off x="3780000" y="1125360"/>
            <a:ext cx="5364000" cy="5732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1.- POSTULACION DEL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sentación Proyec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Comité Innovación Region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Precalificación  elegibilida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2.- EVALUACIO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Proyecto Tecnológic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mpres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Evaluación Económic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3.- PRESENTACION Y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RESOLUCION COMITÉ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4.- FORMALIZACIÓN CONTRACTUA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Términos Referencia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Garantías Ejecució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- Entrega Recursos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5.- EJECUCION Y SEGUIMIENT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ffffff"/>
                </a:solidFill>
                <a:latin typeface="Tahoma"/>
              </a:rPr>
              <a:t>6.- ESCALAMIENTO PRODUCTIV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260280"/>
            <a:ext cx="1423800" cy="6326280"/>
          </a:xfrm>
          <a:custGeom>
            <a:avLst/>
            <a:gdLst/>
            <a:ahLst/>
            <a:rect l="l" t="t" r="r" b="b"/>
            <a:pathLst>
              <a:path w="1009" h="3985">
                <a:moveTo>
                  <a:pt x="115" y="120"/>
                </a:moveTo>
                <a:lnTo>
                  <a:pt x="231" y="0"/>
                </a:lnTo>
                <a:lnTo>
                  <a:pt x="326" y="96"/>
                </a:lnTo>
                <a:lnTo>
                  <a:pt x="411" y="240"/>
                </a:lnTo>
                <a:lnTo>
                  <a:pt x="346" y="384"/>
                </a:lnTo>
                <a:lnTo>
                  <a:pt x="637" y="498"/>
                </a:lnTo>
                <a:lnTo>
                  <a:pt x="677" y="612"/>
                </a:lnTo>
                <a:lnTo>
                  <a:pt x="637" y="678"/>
                </a:lnTo>
                <a:lnTo>
                  <a:pt x="527" y="726"/>
                </a:lnTo>
                <a:lnTo>
                  <a:pt x="461" y="834"/>
                </a:lnTo>
                <a:lnTo>
                  <a:pt x="491" y="876"/>
                </a:lnTo>
                <a:lnTo>
                  <a:pt x="461" y="1032"/>
                </a:lnTo>
                <a:lnTo>
                  <a:pt x="426" y="1110"/>
                </a:lnTo>
                <a:lnTo>
                  <a:pt x="291" y="1230"/>
                </a:lnTo>
                <a:lnTo>
                  <a:pt x="341" y="1368"/>
                </a:lnTo>
                <a:lnTo>
                  <a:pt x="351" y="1536"/>
                </a:lnTo>
                <a:lnTo>
                  <a:pt x="381" y="1842"/>
                </a:lnTo>
                <a:lnTo>
                  <a:pt x="411" y="1920"/>
                </a:lnTo>
                <a:lnTo>
                  <a:pt x="361" y="2010"/>
                </a:lnTo>
                <a:lnTo>
                  <a:pt x="361" y="2496"/>
                </a:lnTo>
                <a:lnTo>
                  <a:pt x="361" y="2694"/>
                </a:lnTo>
                <a:lnTo>
                  <a:pt x="471" y="2796"/>
                </a:lnTo>
                <a:lnTo>
                  <a:pt x="461" y="2856"/>
                </a:lnTo>
                <a:lnTo>
                  <a:pt x="496" y="2880"/>
                </a:lnTo>
                <a:lnTo>
                  <a:pt x="461" y="2958"/>
                </a:lnTo>
                <a:lnTo>
                  <a:pt x="532" y="3000"/>
                </a:lnTo>
                <a:lnTo>
                  <a:pt x="532" y="3108"/>
                </a:lnTo>
                <a:lnTo>
                  <a:pt x="496" y="3084"/>
                </a:lnTo>
                <a:lnTo>
                  <a:pt x="496" y="3114"/>
                </a:lnTo>
                <a:lnTo>
                  <a:pt x="527" y="3198"/>
                </a:lnTo>
                <a:lnTo>
                  <a:pt x="527" y="3306"/>
                </a:lnTo>
                <a:lnTo>
                  <a:pt x="491" y="3378"/>
                </a:lnTo>
                <a:lnTo>
                  <a:pt x="491" y="3444"/>
                </a:lnTo>
                <a:lnTo>
                  <a:pt x="466" y="3486"/>
                </a:lnTo>
                <a:lnTo>
                  <a:pt x="466" y="3588"/>
                </a:lnTo>
                <a:lnTo>
                  <a:pt x="527" y="3630"/>
                </a:lnTo>
                <a:lnTo>
                  <a:pt x="557" y="3630"/>
                </a:lnTo>
                <a:lnTo>
                  <a:pt x="592" y="3780"/>
                </a:lnTo>
                <a:lnTo>
                  <a:pt x="692" y="3816"/>
                </a:lnTo>
                <a:lnTo>
                  <a:pt x="767" y="3822"/>
                </a:lnTo>
                <a:lnTo>
                  <a:pt x="832" y="3846"/>
                </a:lnTo>
                <a:lnTo>
                  <a:pt x="908" y="3828"/>
                </a:lnTo>
                <a:lnTo>
                  <a:pt x="1008" y="3822"/>
                </a:lnTo>
                <a:lnTo>
                  <a:pt x="878" y="3882"/>
                </a:lnTo>
                <a:lnTo>
                  <a:pt x="812" y="3888"/>
                </a:lnTo>
                <a:lnTo>
                  <a:pt x="767" y="3936"/>
                </a:lnTo>
                <a:lnTo>
                  <a:pt x="757" y="3984"/>
                </a:lnTo>
                <a:lnTo>
                  <a:pt x="607" y="3894"/>
                </a:lnTo>
                <a:lnTo>
                  <a:pt x="647" y="3870"/>
                </a:lnTo>
                <a:lnTo>
                  <a:pt x="627" y="3840"/>
                </a:lnTo>
                <a:lnTo>
                  <a:pt x="592" y="3846"/>
                </a:lnTo>
                <a:lnTo>
                  <a:pt x="567" y="3792"/>
                </a:lnTo>
                <a:lnTo>
                  <a:pt x="471" y="3792"/>
                </a:lnTo>
                <a:lnTo>
                  <a:pt x="416" y="3774"/>
                </a:lnTo>
                <a:lnTo>
                  <a:pt x="416" y="3720"/>
                </a:lnTo>
                <a:lnTo>
                  <a:pt x="346" y="3642"/>
                </a:lnTo>
                <a:lnTo>
                  <a:pt x="301" y="3492"/>
                </a:lnTo>
                <a:lnTo>
                  <a:pt x="291" y="3432"/>
                </a:lnTo>
                <a:lnTo>
                  <a:pt x="226" y="3336"/>
                </a:lnTo>
                <a:lnTo>
                  <a:pt x="266" y="3318"/>
                </a:lnTo>
                <a:lnTo>
                  <a:pt x="321" y="3306"/>
                </a:lnTo>
                <a:lnTo>
                  <a:pt x="211" y="3228"/>
                </a:lnTo>
                <a:lnTo>
                  <a:pt x="201" y="3192"/>
                </a:lnTo>
                <a:lnTo>
                  <a:pt x="160" y="3204"/>
                </a:lnTo>
                <a:lnTo>
                  <a:pt x="90" y="3174"/>
                </a:lnTo>
                <a:lnTo>
                  <a:pt x="0" y="3126"/>
                </a:lnTo>
                <a:lnTo>
                  <a:pt x="60" y="3084"/>
                </a:lnTo>
                <a:lnTo>
                  <a:pt x="125" y="3036"/>
                </a:lnTo>
                <a:lnTo>
                  <a:pt x="145" y="3066"/>
                </a:lnTo>
                <a:lnTo>
                  <a:pt x="231" y="3126"/>
                </a:lnTo>
                <a:lnTo>
                  <a:pt x="306" y="3114"/>
                </a:lnTo>
                <a:lnTo>
                  <a:pt x="261" y="3072"/>
                </a:lnTo>
                <a:lnTo>
                  <a:pt x="291" y="3018"/>
                </a:lnTo>
                <a:lnTo>
                  <a:pt x="306" y="2952"/>
                </a:lnTo>
                <a:lnTo>
                  <a:pt x="266" y="2934"/>
                </a:lnTo>
                <a:lnTo>
                  <a:pt x="331" y="2910"/>
                </a:lnTo>
                <a:lnTo>
                  <a:pt x="221" y="2802"/>
                </a:lnTo>
                <a:lnTo>
                  <a:pt x="226" y="2508"/>
                </a:lnTo>
                <a:lnTo>
                  <a:pt x="130" y="2514"/>
                </a:lnTo>
                <a:lnTo>
                  <a:pt x="50" y="2460"/>
                </a:lnTo>
                <a:lnTo>
                  <a:pt x="40" y="2334"/>
                </a:lnTo>
                <a:lnTo>
                  <a:pt x="85" y="2280"/>
                </a:lnTo>
                <a:lnTo>
                  <a:pt x="85" y="2196"/>
                </a:lnTo>
                <a:lnTo>
                  <a:pt x="50" y="2172"/>
                </a:lnTo>
                <a:lnTo>
                  <a:pt x="80" y="2064"/>
                </a:lnTo>
                <a:lnTo>
                  <a:pt x="130" y="1944"/>
                </a:lnTo>
                <a:lnTo>
                  <a:pt x="125" y="1836"/>
                </a:lnTo>
                <a:lnTo>
                  <a:pt x="191" y="1788"/>
                </a:lnTo>
                <a:lnTo>
                  <a:pt x="191" y="1656"/>
                </a:lnTo>
                <a:lnTo>
                  <a:pt x="191" y="1398"/>
                </a:lnTo>
                <a:lnTo>
                  <a:pt x="261" y="1332"/>
                </a:lnTo>
                <a:lnTo>
                  <a:pt x="251" y="1302"/>
                </a:lnTo>
                <a:lnTo>
                  <a:pt x="201" y="1248"/>
                </a:lnTo>
                <a:lnTo>
                  <a:pt x="191" y="1122"/>
                </a:lnTo>
                <a:lnTo>
                  <a:pt x="216" y="1092"/>
                </a:lnTo>
                <a:lnTo>
                  <a:pt x="231" y="1008"/>
                </a:lnTo>
                <a:lnTo>
                  <a:pt x="241" y="702"/>
                </a:lnTo>
                <a:lnTo>
                  <a:pt x="165" y="672"/>
                </a:lnTo>
                <a:lnTo>
                  <a:pt x="226" y="606"/>
                </a:lnTo>
                <a:lnTo>
                  <a:pt x="226" y="516"/>
                </a:lnTo>
                <a:lnTo>
                  <a:pt x="226" y="384"/>
                </a:lnTo>
                <a:lnTo>
                  <a:pt x="226" y="264"/>
                </a:lnTo>
                <a:lnTo>
                  <a:pt x="186" y="162"/>
                </a:lnTo>
                <a:lnTo>
                  <a:pt x="115" y="120"/>
                </a:lnTo>
              </a:path>
            </a:pathLst>
          </a:custGeom>
          <a:solidFill>
            <a:srgbClr val="037c03"/>
          </a:solidFill>
          <a:ln cap="rnd" w="12600">
            <a:solidFill>
              <a:srgbClr val="009688"/>
            </a:solidFill>
            <a:round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95280" y="4365720"/>
            <a:ext cx="136440" cy="45720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39640" y="4797360"/>
            <a:ext cx="6696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9400" y="5181480"/>
            <a:ext cx="6804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539640" y="4941720"/>
            <a:ext cx="144720" cy="7164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79400" y="5257800"/>
            <a:ext cx="66600" cy="76320"/>
          </a:xfrm>
          <a:prstGeom prst="ellipse">
            <a:avLst/>
          </a:prstGeom>
          <a:solidFill>
            <a:srgbClr val="009688"/>
          </a:solidFill>
          <a:ln w="0">
            <a:noFill/>
          </a:ln>
          <a:effectLst>
            <a:outerShdw dist="107932" dir="2700000" blurRad="0" rotWithShape="0">
              <a:srgbClr val="0101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2"/>
          <a:stretch/>
        </p:blipFill>
        <p:spPr>
          <a:xfrm>
            <a:off x="1187280" y="2421000"/>
            <a:ext cx="1951200" cy="198108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3"/>
          <a:stretch/>
        </p:blipFill>
        <p:spPr>
          <a:xfrm>
            <a:off x="1835280" y="4724280"/>
            <a:ext cx="180000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3299040" y="333360"/>
            <a:ext cx="5465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oceso FONTEC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1763640" y="404640"/>
            <a:ext cx="1773360" cy="182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Misión FONTEC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Apoyar la investigación y el desarrollo tecnológico para la innovación de las empresas productoras de bienes y servicios, como variable estratégica de competencia en los mercados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2200" indent="-322200" algn="just">
              <a:lnSpc>
                <a:spcPct val="90000"/>
              </a:lnSpc>
              <a:spcBef>
                <a:spcPts val="700"/>
              </a:spcBef>
              <a:spcAft>
                <a:spcPts val="1749"/>
              </a:spcAft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omo parte integrante de CORFO, cuenta con una amplia red de profesionales en todo el país, cuyo compromiso es poner a disposición de las empresas, instrumentos de financiamiento para que aceleren su inversión en innovación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Su estructura legal es definida como un Comité de CORF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Cuenta con un Consejo directivo público-privado (la mitad son altos funcionarios públicos y la otra mitad son connotados representantes de las empresas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Tiene Cobertura naciona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Ventanilla abierta (se pueden presentar proyectos en cualquier momento del año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4067280" y="260280"/>
            <a:ext cx="5076720" cy="431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Realiza Convocatorias Especiales, esto es, focaliza recursos para determinados temas estratégicos de interés nacional, durante un período corto de tiempo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Presupuesto público, Programa BID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s una institución pública pero que está certificada ISO 9001 (2000)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ff66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2492280"/>
            <a:ext cx="446544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285840" indent="-285840">
              <a:lnSpc>
                <a:spcPct val="90000"/>
              </a:lnSpc>
              <a:spcBef>
                <a:spcPts val="10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826920" y="404640"/>
            <a:ext cx="3097440" cy="1729080"/>
          </a:xfrm>
          <a:prstGeom prst="rect">
            <a:avLst/>
          </a:prstGeom>
          <a:ln w="0">
            <a:noFill/>
          </a:ln>
        </p:spPr>
      </p:pic>
      <p:sp>
        <p:nvSpPr>
          <p:cNvPr id="93" name=""/>
          <p:cNvSpPr/>
          <p:nvPr/>
        </p:nvSpPr>
        <p:spPr>
          <a:xfrm>
            <a:off x="36360" y="2852640"/>
            <a:ext cx="4248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3300"/>
                </a:solidFill>
                <a:latin typeface="Tahoma"/>
              </a:rPr>
              <a:t>CARACTERISTICAS  DE  FONTEC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6300720" y="5589720"/>
            <a:ext cx="66060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3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9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cc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468360" y="620640"/>
          <a:ext cx="8136000" cy="5803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68360" y="620640"/>
                    <a:ext cx="8136000" cy="580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7" name=""/>
          <p:cNvSpPr/>
          <p:nvPr/>
        </p:nvSpPr>
        <p:spPr>
          <a:xfrm>
            <a:off x="3361320" y="3213000"/>
            <a:ext cx="32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1: innovación 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62120" y="4869000"/>
            <a:ext cx="2390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2: infraestructur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21720" y="836640"/>
            <a:ext cx="471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3: transferencia tecnológica asociati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249520" y="1484280"/>
            <a:ext cx="3204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4: entidades de gestión y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centros de transferencia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tecnológic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519080" y="5950080"/>
            <a:ext cx="3387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L5: estudios de preinversió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4"/>
          <a:stretch/>
        </p:blipFill>
        <p:spPr>
          <a:xfrm>
            <a:off x="5940360" y="4149720"/>
            <a:ext cx="2144880" cy="160344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5"/>
          <a:stretch/>
        </p:blipFill>
        <p:spPr>
          <a:xfrm>
            <a:off x="3851280" y="3716280"/>
            <a:ext cx="1228680" cy="72396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6"/>
          <a:stretch/>
        </p:blipFill>
        <p:spPr>
          <a:xfrm>
            <a:off x="4067280" y="2349360"/>
            <a:ext cx="912600" cy="77004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7"/>
          <a:stretch/>
        </p:blipFill>
        <p:spPr>
          <a:xfrm>
            <a:off x="1332000" y="1125360"/>
            <a:ext cx="1866960" cy="177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577800" y="1197000"/>
            <a:ext cx="8458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1) Desarrollo de nuevos productos o servicios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no existentes a lo menos en el mercado nacional, y para los cuales se establecerán capacidades nacionales de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2) Desarrollo de productos o servicios, que si bien existen en el mercado nacional, no se dispone de capacidades nacionales para su producció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9900"/>
                </a:solidFill>
                <a:latin typeface="Arial Black"/>
              </a:rPr>
              <a:t>3) Incorporación de nuevos procesos productivos, no existentes en el país, que incrementan sustancialmente la eficiencia y la productividad de la empres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95280" y="257040"/>
            <a:ext cx="8458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540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9900"/>
                </a:solidFill>
                <a:latin typeface="Impact"/>
              </a:rPr>
              <a:t>Tipos de proyectos de innovación</a:t>
            </a:r>
            <a:r>
              <a:rPr b="1" lang="es-ES_tradnl" sz="3600" spc="-1" strike="noStrike">
                <a:solidFill>
                  <a:srgbClr val="ffcc00"/>
                </a:solidFill>
                <a:latin typeface="Impact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669960" y="12603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47920" y="1084320"/>
            <a:ext cx="40471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rio: Florencio Laz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áquina para el contro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 helada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6320" y="3638520"/>
            <a:ext cx="414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esquera Lan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S.A. Productos de jurel par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onsumo human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5078520" y="1143000"/>
            <a:ext cx="3886200" cy="22208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5499000" y="3689280"/>
            <a:ext cx="3465720" cy="286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293760" y="1239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609120" y="1079640"/>
            <a:ext cx="3545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Biosonda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Hemocianina del loco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77080" y="3825720"/>
            <a:ext cx="346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mpresa: Prospect S.A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Cámara de segurida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deslizante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Ejemplos Proyectos de Innovación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5029200" y="914400"/>
            <a:ext cx="3657600" cy="24606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5334120" y="3886200"/>
            <a:ext cx="3471840" cy="262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380880" y="2286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000160" indent="-200016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ffcc00"/>
                </a:solidFill>
                <a:latin typeface="Impact"/>
              </a:rPr>
              <a:t>Transferencia Tecnológic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533520" y="1828800"/>
            <a:ext cx="808992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Misiones para conocer modernas tecnologías de proceso, producción y gestión en empresas líderes; centros técnicos y ferias tecnológicas en el extranjero (5 o más empresas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cc00"/>
                </a:solidFill>
                <a:latin typeface="Arial Black"/>
              </a:rPr>
              <a:t>Expertos o consultoría de nivel internacional en tecnologías especializadas de aplicación inmediata a las empresas beneficiarias (3 o más empresa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 algn="just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SzPct val="75000"/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6" dur="5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1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50" dur="1" fill="hold"/>
                                  <p:tgtEl>
                                    <p:spTgt spid="121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618ff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04T21:30:15Z</dcterms:created>
  <dc:creator>Jorge Olivares</dc:creator>
  <dc:description/>
  <dc:language>en-US</dc:language>
  <cp:lastModifiedBy> Consejo Nacional de Producción Limpia</cp:lastModifiedBy>
  <cp:lastPrinted>2002-08-12T16:18:41Z</cp:lastPrinted>
  <dcterms:modified xsi:type="dcterms:W3CDTF">2004-11-07T13:59:18Z</dcterms:modified>
  <cp:revision>47</cp:revision>
  <dc:subject/>
  <dc:title>Conceptos, Criterios y Procedimientos de Evaluación de Proyectos</dc:title>
</cp:coreProperties>
</file>