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8.wmf" ContentType="image/x-wmf"/>
  <Override PartName="/ppt/media/image6.gif" ContentType="image/gif"/>
  <Override PartName="/ppt/media/image9.png" ContentType="image/png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82C-3E05-41B9-B2CA-853FA1E3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F44-BF63-41AB-884C-F0AC4490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D40-51BB-4600-A146-C7AE382E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3D6-434D-4634-8865-A8929DFD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CB45F-A78E-4EF7-B257-18018076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C2B3-4EB2-476E-B7D5-B43C6A7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752E2-F878-4C86-9303-1AC3DAF9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D78B-A4FF-4A3C-8A5E-74F5C3E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AC3D0-80C1-45F8-93A9-E1D9E485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CCF49-0317-4610-8D20-4F4EFFBF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8FC9F-8AD5-45B8-8766-5609333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7C6-74D5-4795-8B7E-83805D70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8868F-D876-42A9-89AF-FF8FF55F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CF46D-E67F-4D4A-A013-7A7AAB1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6A1F9-F916-4FDE-99C2-9004070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7DDE6-F44D-445C-B621-B7C3DE05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21452-41AC-4367-AE3E-AA6F6903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4ED-189E-42C3-9D22-04B311D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B86-E3E4-416C-9522-009AF40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AAB-4EDB-4CFF-96B9-E445B952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EB0-D8E0-457C-9977-E6DBA7C1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0E3-A6FF-490A-9FFD-7D6B114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FD5-0897-4A72-BC96-AE375CF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257-8F0C-4101-ABD0-2002F31A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FF38-4ACC-4C1A-B2CC-D97F77C352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A6EC-7B95-48C3-92C7-311F5984DB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ENTACIÓN del Fondo de Desarrollo Tecnológico y Productivo 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ONTE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de la CORF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00200" y="3300480"/>
            <a:ext cx="790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ontec es una institución creada por Corfo que subsidia proyectos de innovación tecnológica presentados por las empresas chil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esquema de subsidio es por la vía de co-financiamiento, es decir, una parte la aporta Fontec y la otra es aportada por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iamiento L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05120"/>
          <a:ext cx="8229600" cy="42717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o Total/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centaje máximo de 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o máximo de aporte por tramo (U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hast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7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1-14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3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14.501-21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iterios de Elegibilidad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yectos Innovación Tecnológica de Línea 1 (L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4358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Criterios para aprobar proyectos por Fontec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ecesidad de desarrollo de nuevos productos o proce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con contenido innovativo (adaptación, mejora o cre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lejidad tecnológica que resolver, es decir, con alto Riesgo Tec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resultado de los proyectos deben tener una buena probabilidad de aplicarse comerc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 Proyecto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onsideraciones para su evaluación por parte de FONTE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 y grado de inno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Objetivos, metodología, resultados o soluciones específ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Plan de trabajo: actividades, plazos, tamaño, localización: Cronogr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 ejecutor: competencias y calidad verificable (Currículu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cedentes de la empres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financi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periencia de Proyectos de innovación ant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alle de los costos del proyecto: cla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Empresa debe evidencia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Gest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Financiera: cuentas de balance y resul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dicadores financie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tecedentes complemen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ncia con costos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80000" y="1125360"/>
            <a:ext cx="5364000" cy="573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- POSTULACION DEL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sentación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omité Innovación Reg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calificación  elegi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- EVALU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Proyecto Tecnológ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mpr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valuación Econó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- PRESENTACION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ESOLUCION COMIT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- FORMALIZACIÓN CONTRACT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Términos Refer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Garantías Ejecu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Entrega 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- EJECUCION Y SEGU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6.- ESCALAMIENTO PRODUC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0280"/>
            <a:ext cx="1423800" cy="6326280"/>
          </a:xfrm>
          <a:custGeom>
            <a:avLst/>
            <a:gdLst/>
            <a:ahLst/>
            <a:rect l="l" t="t" r="r" b="b"/>
            <a:pathLst>
              <a:path w="1009" h="3985">
                <a:moveTo>
                  <a:pt x="115" y="120"/>
                </a:moveTo>
                <a:lnTo>
                  <a:pt x="231" y="0"/>
                </a:lnTo>
                <a:lnTo>
                  <a:pt x="326" y="96"/>
                </a:lnTo>
                <a:lnTo>
                  <a:pt x="411" y="240"/>
                </a:lnTo>
                <a:lnTo>
                  <a:pt x="346" y="384"/>
                </a:lnTo>
                <a:lnTo>
                  <a:pt x="637" y="498"/>
                </a:lnTo>
                <a:lnTo>
                  <a:pt x="677" y="612"/>
                </a:lnTo>
                <a:lnTo>
                  <a:pt x="637" y="678"/>
                </a:lnTo>
                <a:lnTo>
                  <a:pt x="527" y="726"/>
                </a:lnTo>
                <a:lnTo>
                  <a:pt x="461" y="834"/>
                </a:lnTo>
                <a:lnTo>
                  <a:pt x="491" y="876"/>
                </a:lnTo>
                <a:lnTo>
                  <a:pt x="461" y="1032"/>
                </a:lnTo>
                <a:lnTo>
                  <a:pt x="426" y="1110"/>
                </a:lnTo>
                <a:lnTo>
                  <a:pt x="291" y="1230"/>
                </a:lnTo>
                <a:lnTo>
                  <a:pt x="341" y="1368"/>
                </a:lnTo>
                <a:lnTo>
                  <a:pt x="351" y="1536"/>
                </a:lnTo>
                <a:lnTo>
                  <a:pt x="381" y="1842"/>
                </a:lnTo>
                <a:lnTo>
                  <a:pt x="411" y="1920"/>
                </a:lnTo>
                <a:lnTo>
                  <a:pt x="361" y="2010"/>
                </a:lnTo>
                <a:lnTo>
                  <a:pt x="361" y="2496"/>
                </a:lnTo>
                <a:lnTo>
                  <a:pt x="361" y="2694"/>
                </a:lnTo>
                <a:lnTo>
                  <a:pt x="471" y="2796"/>
                </a:lnTo>
                <a:lnTo>
                  <a:pt x="461" y="2856"/>
                </a:lnTo>
                <a:lnTo>
                  <a:pt x="496" y="2880"/>
                </a:lnTo>
                <a:lnTo>
                  <a:pt x="461" y="2958"/>
                </a:lnTo>
                <a:lnTo>
                  <a:pt x="532" y="3000"/>
                </a:lnTo>
                <a:lnTo>
                  <a:pt x="532" y="3108"/>
                </a:lnTo>
                <a:lnTo>
                  <a:pt x="496" y="3084"/>
                </a:lnTo>
                <a:lnTo>
                  <a:pt x="496" y="3114"/>
                </a:lnTo>
                <a:lnTo>
                  <a:pt x="527" y="3198"/>
                </a:lnTo>
                <a:lnTo>
                  <a:pt x="527" y="3306"/>
                </a:lnTo>
                <a:lnTo>
                  <a:pt x="491" y="3378"/>
                </a:lnTo>
                <a:lnTo>
                  <a:pt x="491" y="3444"/>
                </a:lnTo>
                <a:lnTo>
                  <a:pt x="466" y="3486"/>
                </a:lnTo>
                <a:lnTo>
                  <a:pt x="466" y="3588"/>
                </a:lnTo>
                <a:lnTo>
                  <a:pt x="527" y="3630"/>
                </a:lnTo>
                <a:lnTo>
                  <a:pt x="557" y="3630"/>
                </a:lnTo>
                <a:lnTo>
                  <a:pt x="592" y="3780"/>
                </a:lnTo>
                <a:lnTo>
                  <a:pt x="692" y="3816"/>
                </a:lnTo>
                <a:lnTo>
                  <a:pt x="767" y="3822"/>
                </a:lnTo>
                <a:lnTo>
                  <a:pt x="832" y="3846"/>
                </a:lnTo>
                <a:lnTo>
                  <a:pt x="908" y="3828"/>
                </a:lnTo>
                <a:lnTo>
                  <a:pt x="1008" y="3822"/>
                </a:lnTo>
                <a:lnTo>
                  <a:pt x="878" y="3882"/>
                </a:lnTo>
                <a:lnTo>
                  <a:pt x="812" y="3888"/>
                </a:lnTo>
                <a:lnTo>
                  <a:pt x="767" y="3936"/>
                </a:lnTo>
                <a:lnTo>
                  <a:pt x="757" y="3984"/>
                </a:lnTo>
                <a:lnTo>
                  <a:pt x="607" y="3894"/>
                </a:lnTo>
                <a:lnTo>
                  <a:pt x="647" y="3870"/>
                </a:lnTo>
                <a:lnTo>
                  <a:pt x="627" y="3840"/>
                </a:lnTo>
                <a:lnTo>
                  <a:pt x="592" y="3846"/>
                </a:lnTo>
                <a:lnTo>
                  <a:pt x="567" y="3792"/>
                </a:lnTo>
                <a:lnTo>
                  <a:pt x="471" y="3792"/>
                </a:lnTo>
                <a:lnTo>
                  <a:pt x="416" y="3774"/>
                </a:lnTo>
                <a:lnTo>
                  <a:pt x="416" y="3720"/>
                </a:lnTo>
                <a:lnTo>
                  <a:pt x="346" y="3642"/>
                </a:lnTo>
                <a:lnTo>
                  <a:pt x="301" y="3492"/>
                </a:lnTo>
                <a:lnTo>
                  <a:pt x="291" y="3432"/>
                </a:lnTo>
                <a:lnTo>
                  <a:pt x="226" y="3336"/>
                </a:lnTo>
                <a:lnTo>
                  <a:pt x="266" y="3318"/>
                </a:lnTo>
                <a:lnTo>
                  <a:pt x="321" y="3306"/>
                </a:lnTo>
                <a:lnTo>
                  <a:pt x="211" y="3228"/>
                </a:lnTo>
                <a:lnTo>
                  <a:pt x="201" y="3192"/>
                </a:lnTo>
                <a:lnTo>
                  <a:pt x="160" y="3204"/>
                </a:lnTo>
                <a:lnTo>
                  <a:pt x="90" y="3174"/>
                </a:lnTo>
                <a:lnTo>
                  <a:pt x="0" y="3126"/>
                </a:lnTo>
                <a:lnTo>
                  <a:pt x="60" y="3084"/>
                </a:lnTo>
                <a:lnTo>
                  <a:pt x="125" y="3036"/>
                </a:lnTo>
                <a:lnTo>
                  <a:pt x="145" y="3066"/>
                </a:lnTo>
                <a:lnTo>
                  <a:pt x="231" y="3126"/>
                </a:lnTo>
                <a:lnTo>
                  <a:pt x="306" y="3114"/>
                </a:lnTo>
                <a:lnTo>
                  <a:pt x="261" y="3072"/>
                </a:lnTo>
                <a:lnTo>
                  <a:pt x="291" y="3018"/>
                </a:lnTo>
                <a:lnTo>
                  <a:pt x="306" y="2952"/>
                </a:lnTo>
                <a:lnTo>
                  <a:pt x="266" y="2934"/>
                </a:lnTo>
                <a:lnTo>
                  <a:pt x="331" y="2910"/>
                </a:lnTo>
                <a:lnTo>
                  <a:pt x="221" y="2802"/>
                </a:lnTo>
                <a:lnTo>
                  <a:pt x="226" y="2508"/>
                </a:lnTo>
                <a:lnTo>
                  <a:pt x="130" y="2514"/>
                </a:lnTo>
                <a:lnTo>
                  <a:pt x="50" y="2460"/>
                </a:lnTo>
                <a:lnTo>
                  <a:pt x="40" y="2334"/>
                </a:lnTo>
                <a:lnTo>
                  <a:pt x="85" y="2280"/>
                </a:lnTo>
                <a:lnTo>
                  <a:pt x="85" y="2196"/>
                </a:lnTo>
                <a:lnTo>
                  <a:pt x="50" y="2172"/>
                </a:lnTo>
                <a:lnTo>
                  <a:pt x="80" y="2064"/>
                </a:lnTo>
                <a:lnTo>
                  <a:pt x="130" y="1944"/>
                </a:lnTo>
                <a:lnTo>
                  <a:pt x="125" y="1836"/>
                </a:lnTo>
                <a:lnTo>
                  <a:pt x="191" y="1788"/>
                </a:lnTo>
                <a:lnTo>
                  <a:pt x="191" y="1656"/>
                </a:lnTo>
                <a:lnTo>
                  <a:pt x="191" y="1398"/>
                </a:lnTo>
                <a:lnTo>
                  <a:pt x="261" y="1332"/>
                </a:lnTo>
                <a:lnTo>
                  <a:pt x="251" y="1302"/>
                </a:lnTo>
                <a:lnTo>
                  <a:pt x="201" y="1248"/>
                </a:lnTo>
                <a:lnTo>
                  <a:pt x="191" y="1122"/>
                </a:lnTo>
                <a:lnTo>
                  <a:pt x="216" y="1092"/>
                </a:lnTo>
                <a:lnTo>
                  <a:pt x="231" y="1008"/>
                </a:lnTo>
                <a:lnTo>
                  <a:pt x="241" y="702"/>
                </a:lnTo>
                <a:lnTo>
                  <a:pt x="165" y="672"/>
                </a:lnTo>
                <a:lnTo>
                  <a:pt x="226" y="606"/>
                </a:lnTo>
                <a:lnTo>
                  <a:pt x="226" y="516"/>
                </a:lnTo>
                <a:lnTo>
                  <a:pt x="226" y="384"/>
                </a:lnTo>
                <a:lnTo>
                  <a:pt x="226" y="264"/>
                </a:lnTo>
                <a:lnTo>
                  <a:pt x="186" y="162"/>
                </a:lnTo>
                <a:lnTo>
                  <a:pt x="115" y="12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9688"/>
            </a:solidFill>
            <a:round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365720"/>
            <a:ext cx="136440" cy="45720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797360"/>
            <a:ext cx="6696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9400" y="5181480"/>
            <a:ext cx="6804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941720"/>
            <a:ext cx="144720" cy="7164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9400" y="5257800"/>
            <a:ext cx="6660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835280" y="4724280"/>
            <a:ext cx="180000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99040" y="333360"/>
            <a:ext cx="546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ceso FONT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404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ión FONTE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oyar la investigación y el desarrollo tecnológico para la innovación de las empresas productoras de bienes y servicios, como variable estratégica de competencia en los merc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o parte integrante de CORFO, cuenta con una amplia red de profesionales en todo el país, cuyo compromiso es poner a disposición de las empresas, instrumentos de financiamiento para que aceleren su inversión en innova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 estructura legal es definida como un Comité de COR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enta con un Consejo directivo público-privado (la mitad son altos funcionarios públicos y la otra mitad son connotados representantes de las empre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ne Cobertura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ntanilla abierta (se pueden presentar proyectos en cualquier momento del añ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aliza Convocatorias Especiales, esto es, focaliza recursos para determinados temas estratégicos de interés nacional, durante un período corto de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upuesto público, Programa 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institución pública pero que está certificada ISO 9001 (2000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00720" y="5589720"/>
            <a:ext cx="6606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620640"/>
          <a:ext cx="8136000" cy="58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20640"/>
                    <a:ext cx="8136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61320" y="3213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1: innovación 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8690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2: infraestructu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720" y="83664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3: transferencia tecnológica asoci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49520" y="1484280"/>
            <a:ext cx="32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4: entidades de gestión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ntros de transfer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9080" y="59500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5: estudios de pre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2144880" cy="160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51280" y="371628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067280" y="2349360"/>
            <a:ext cx="912600" cy="77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332000" y="1125360"/>
            <a:ext cx="18669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7800" y="11970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1) Desarrollo de nuevos productos o servic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no existentes a lo menos en el mercado nacional, y para los cuales se establecerán capacidades nacionales de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2) Desarrollo de productos o servicios, que si bien existen en el mercado nacional, no se dispone de capacidades nacionales para su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3) Incorporación de nuevos procesos productivos, no existentes en el país, que incrementan sustancialmente la eficiencia y la productivi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57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Impact"/>
              </a:rPr>
              <a:t>Tipos de proyectos de innovación</a:t>
            </a:r>
            <a:r>
              <a:rPr b="1" lang="es-ES_tradnl" sz="36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699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7920" y="1084320"/>
            <a:ext cx="404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rio: Florencio 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áquina para el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 hel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320" y="363852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esquera L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S.A. Productos de jurel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onsumo hu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8520" y="1143000"/>
            <a:ext cx="3886200" cy="222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99000" y="3689280"/>
            <a:ext cx="3465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37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120" y="1079640"/>
            <a:ext cx="354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Biosonda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Hemocianina del lo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080" y="3825720"/>
            <a:ext cx="346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rospect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ámara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sliz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57600" cy="246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3471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Transferenci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08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isiones para conocer modernas tecnologías de proceso, producción y gestión en empresas líderes; centros técnicos y ferias tecnológicas en el extranjero (5 o más empres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xpertos o consultoría de nivel internacional en tecnologías especializadas de aplicación inmediata a las empresas beneficiarias (3 o más empres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21:30:15Z</dcterms:created>
  <dc:creator>Jorge Olivares</dc:creator>
  <dc:description/>
  <dc:language>en-US</dc:language>
  <cp:lastModifiedBy> Consejo Nacional de Producción Limpia</cp:lastModifiedBy>
  <cp:lastPrinted>2002-08-12T16:18:41Z</cp:lastPrinted>
  <dcterms:modified xsi:type="dcterms:W3CDTF">2004-11-07T13:59:18Z</dcterms:modified>
  <cp:revision>47</cp:revision>
  <dc:subject/>
  <dc:title>Conceptos, Criterios y Procedimientos de Evaluación de Proyectos</dc:title>
</cp:coreProperties>
</file>