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gif" ContentType="image/gif"/>
  <Override PartName="/ppt/media/image14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png" ContentType="image/png"/>
  <Override PartName="/ppt/media/image10.png" ContentType="image/png"/>
  <Override PartName="/ppt/media/image5.wmf" ContentType="image/x-wmf"/>
  <Override PartName="/ppt/media/image11.png" ContentType="image/png"/>
  <Override PartName="/ppt/media/image8.wmf" ContentType="image/x-wmf"/>
  <Override PartName="/ppt/media/image6.gif" ContentType="image/gif"/>
  <Override PartName="/ppt/media/image9.png" ContentType="image/png"/>
  <Override PartName="/ppt/media/image7.wmf" ContentType="image/x-wmf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D50F-3DF2-4408-83BA-FD102566B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3F98-C09B-4471-BCA2-9983DED02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EAC5-5224-409E-BC0B-0D0A9C48E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2B7D-2A81-46C8-A23D-9714F56AB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4DBDA9-EE7D-4CFB-B9E3-8C6A89CC4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533F8B-80A3-49AD-AFFA-647B2A797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15DED2-F379-446C-937A-4DCD47507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AF4A17-F197-474F-B19E-24D821E65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3814DE-059F-45B7-8A8B-C14A34E81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7CCF55-5BC9-461A-9A4D-8A0A82F11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58BBD6-223E-4A31-A8AA-36C2F2B4E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AD8E-E628-4626-B3A7-90798CFBC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DD7346-BB95-4BBC-8944-C9D716B06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32AD84-DA0B-442D-8494-AD84125EF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8591D6-8751-4CDB-86CB-DB8A2D44B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028D11-B02A-46A5-9223-4F3942159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596561-6435-47FE-AB03-306743B7A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8C75-F6E0-4604-916E-FECCA2B45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8EDD-A0FC-48EA-898B-CA8518E8C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391A-6F75-4F07-BDE8-2A4318781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BDC8-40A5-4A91-8650-96A886748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9FDA-1B8A-450B-A942-AB5169F18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CA77-0FB2-4E45-82AA-322575543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C7B3-1847-4348-9BEC-4B0233CB8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5F606-6835-4AE9-8991-BBB12CEAADB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8A870-3AA1-43B1-982C-284221AA76E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13.gi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gi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98064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RESENTACIÓN del Fondo de Desarrollo Tecnológico y Productivo -</a:t>
            </a: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FONTEC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- de la CORFO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"/>
          <p:cNvSpPr/>
          <p:nvPr/>
        </p:nvSpPr>
        <p:spPr>
          <a:xfrm>
            <a:off x="700200" y="3300480"/>
            <a:ext cx="79041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Fontec es una institución creada por Corfo que subsidia proyectos de innovación tecnológica presentados por las empresas chilen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El esquema de subsidio es por la vía de co-financiamiento, es decir, una parte la aporta Fontec y la otra es aportada por la empres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inanciamiento L1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457200" y="1905120"/>
          <a:ext cx="8229600" cy="4271760"/>
        </p:xfrm>
        <a:graphic>
          <a:graphicData uri="http://schemas.openxmlformats.org/drawingml/2006/table">
            <a:tbl>
              <a:tblPr/>
              <a:tblGrid>
                <a:gridCol w="3035160"/>
                <a:gridCol w="2451240"/>
                <a:gridCol w="274320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sto Total/Aporte Fontec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orcentaje máximo de aporte Fontec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o máximo de aporte por tramo (UF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102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amo hasta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F 5.5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UF 2.7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2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amo entre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F 5.501-14.5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UF 3.6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2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amo entre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F 14.501-21.5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UF 2.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7280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riterios de Elegibilidad: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Proyectos Innovación Tecnológica de Línea 1 (L1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844640"/>
            <a:ext cx="8435880" cy="49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Tahoma"/>
              </a:rPr>
              <a:t>Criterios para aprobar proyectos por Fontec: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Necesidad de desarrollo de nuevos productos o proces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Proyectos con contenido innovativo (adaptación, mejora o creación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Complejidad tecnológica que resolver, es decir, con alto Riesgo Tecnológic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El resultado de los proyectos deben tener una buena probabilidad de aplicarse comercialmen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El Proyecto: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consideraciones para su evaluación por parte de FONTEC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362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Tipo y grado de innov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Claridad en Objetivos, metodología, resultados o soluciones específic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Claridad en Plan de trabajo: actividades, plazos, tamaño, localización: Cronogram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Equipo ejecutor: competencias y calidad verificable (Currículum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Antecedentes de la empresa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Capacidad financie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Experiencia de Proyectos de innovación anterior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Detalle de los costos del proyecto: clarida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La Empresa debe evidenciar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apacidad de Gest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apacidad Financiera: cuentas de balance y resultad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Indicadores financier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Antecedentes complementari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onsistencia con costos proyec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780000" y="1125360"/>
            <a:ext cx="5364000" cy="5732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1.- POSTULACION DEL PROYECT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Presentación Proyect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Comité Innovación Regiona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Precalificación  elegibilida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2.- EVALUACI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-Proyecto Tecnológic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-Empres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-Evaluación Económic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3.- PRESENTACION Y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RESOLUCION COMITÉ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4.- FORMALIZACIÓN CONTRACTUA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- Términos Referenci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- Garantías Ejecució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- Entrega Recurso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5.- EJECUCION Y SEGUIMIENT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6.- ESCALAMIENTO PRODUCTIV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260280"/>
            <a:ext cx="1423800" cy="6326280"/>
          </a:xfrm>
          <a:custGeom>
            <a:avLst/>
            <a:gdLst/>
            <a:ahLst/>
            <a:rect l="l" t="t" r="r" b="b"/>
            <a:pathLst>
              <a:path w="1009" h="3985">
                <a:moveTo>
                  <a:pt x="115" y="120"/>
                </a:moveTo>
                <a:lnTo>
                  <a:pt x="231" y="0"/>
                </a:lnTo>
                <a:lnTo>
                  <a:pt x="326" y="96"/>
                </a:lnTo>
                <a:lnTo>
                  <a:pt x="411" y="240"/>
                </a:lnTo>
                <a:lnTo>
                  <a:pt x="346" y="384"/>
                </a:lnTo>
                <a:lnTo>
                  <a:pt x="637" y="498"/>
                </a:lnTo>
                <a:lnTo>
                  <a:pt x="677" y="612"/>
                </a:lnTo>
                <a:lnTo>
                  <a:pt x="637" y="678"/>
                </a:lnTo>
                <a:lnTo>
                  <a:pt x="527" y="726"/>
                </a:lnTo>
                <a:lnTo>
                  <a:pt x="461" y="834"/>
                </a:lnTo>
                <a:lnTo>
                  <a:pt x="491" y="876"/>
                </a:lnTo>
                <a:lnTo>
                  <a:pt x="461" y="1032"/>
                </a:lnTo>
                <a:lnTo>
                  <a:pt x="426" y="1110"/>
                </a:lnTo>
                <a:lnTo>
                  <a:pt x="291" y="1230"/>
                </a:lnTo>
                <a:lnTo>
                  <a:pt x="341" y="1368"/>
                </a:lnTo>
                <a:lnTo>
                  <a:pt x="351" y="1536"/>
                </a:lnTo>
                <a:lnTo>
                  <a:pt x="381" y="1842"/>
                </a:lnTo>
                <a:lnTo>
                  <a:pt x="411" y="1920"/>
                </a:lnTo>
                <a:lnTo>
                  <a:pt x="361" y="2010"/>
                </a:lnTo>
                <a:lnTo>
                  <a:pt x="361" y="2496"/>
                </a:lnTo>
                <a:lnTo>
                  <a:pt x="361" y="2694"/>
                </a:lnTo>
                <a:lnTo>
                  <a:pt x="471" y="2796"/>
                </a:lnTo>
                <a:lnTo>
                  <a:pt x="461" y="2856"/>
                </a:lnTo>
                <a:lnTo>
                  <a:pt x="496" y="2880"/>
                </a:lnTo>
                <a:lnTo>
                  <a:pt x="461" y="2958"/>
                </a:lnTo>
                <a:lnTo>
                  <a:pt x="532" y="3000"/>
                </a:lnTo>
                <a:lnTo>
                  <a:pt x="532" y="3108"/>
                </a:lnTo>
                <a:lnTo>
                  <a:pt x="496" y="3084"/>
                </a:lnTo>
                <a:lnTo>
                  <a:pt x="496" y="3114"/>
                </a:lnTo>
                <a:lnTo>
                  <a:pt x="527" y="3198"/>
                </a:lnTo>
                <a:lnTo>
                  <a:pt x="527" y="3306"/>
                </a:lnTo>
                <a:lnTo>
                  <a:pt x="491" y="3378"/>
                </a:lnTo>
                <a:lnTo>
                  <a:pt x="491" y="3444"/>
                </a:lnTo>
                <a:lnTo>
                  <a:pt x="466" y="3486"/>
                </a:lnTo>
                <a:lnTo>
                  <a:pt x="466" y="3588"/>
                </a:lnTo>
                <a:lnTo>
                  <a:pt x="527" y="3630"/>
                </a:lnTo>
                <a:lnTo>
                  <a:pt x="557" y="3630"/>
                </a:lnTo>
                <a:lnTo>
                  <a:pt x="592" y="3780"/>
                </a:lnTo>
                <a:lnTo>
                  <a:pt x="692" y="3816"/>
                </a:lnTo>
                <a:lnTo>
                  <a:pt x="767" y="3822"/>
                </a:lnTo>
                <a:lnTo>
                  <a:pt x="832" y="3846"/>
                </a:lnTo>
                <a:lnTo>
                  <a:pt x="908" y="3828"/>
                </a:lnTo>
                <a:lnTo>
                  <a:pt x="1008" y="3822"/>
                </a:lnTo>
                <a:lnTo>
                  <a:pt x="878" y="3882"/>
                </a:lnTo>
                <a:lnTo>
                  <a:pt x="812" y="3888"/>
                </a:lnTo>
                <a:lnTo>
                  <a:pt x="767" y="3936"/>
                </a:lnTo>
                <a:lnTo>
                  <a:pt x="757" y="3984"/>
                </a:lnTo>
                <a:lnTo>
                  <a:pt x="607" y="3894"/>
                </a:lnTo>
                <a:lnTo>
                  <a:pt x="647" y="3870"/>
                </a:lnTo>
                <a:lnTo>
                  <a:pt x="627" y="3840"/>
                </a:lnTo>
                <a:lnTo>
                  <a:pt x="592" y="3846"/>
                </a:lnTo>
                <a:lnTo>
                  <a:pt x="567" y="3792"/>
                </a:lnTo>
                <a:lnTo>
                  <a:pt x="471" y="3792"/>
                </a:lnTo>
                <a:lnTo>
                  <a:pt x="416" y="3774"/>
                </a:lnTo>
                <a:lnTo>
                  <a:pt x="416" y="3720"/>
                </a:lnTo>
                <a:lnTo>
                  <a:pt x="346" y="3642"/>
                </a:lnTo>
                <a:lnTo>
                  <a:pt x="301" y="3492"/>
                </a:lnTo>
                <a:lnTo>
                  <a:pt x="291" y="3432"/>
                </a:lnTo>
                <a:lnTo>
                  <a:pt x="226" y="3336"/>
                </a:lnTo>
                <a:lnTo>
                  <a:pt x="266" y="3318"/>
                </a:lnTo>
                <a:lnTo>
                  <a:pt x="321" y="3306"/>
                </a:lnTo>
                <a:lnTo>
                  <a:pt x="211" y="3228"/>
                </a:lnTo>
                <a:lnTo>
                  <a:pt x="201" y="3192"/>
                </a:lnTo>
                <a:lnTo>
                  <a:pt x="160" y="3204"/>
                </a:lnTo>
                <a:lnTo>
                  <a:pt x="90" y="3174"/>
                </a:lnTo>
                <a:lnTo>
                  <a:pt x="0" y="3126"/>
                </a:lnTo>
                <a:lnTo>
                  <a:pt x="60" y="3084"/>
                </a:lnTo>
                <a:lnTo>
                  <a:pt x="125" y="3036"/>
                </a:lnTo>
                <a:lnTo>
                  <a:pt x="145" y="3066"/>
                </a:lnTo>
                <a:lnTo>
                  <a:pt x="231" y="3126"/>
                </a:lnTo>
                <a:lnTo>
                  <a:pt x="306" y="3114"/>
                </a:lnTo>
                <a:lnTo>
                  <a:pt x="261" y="3072"/>
                </a:lnTo>
                <a:lnTo>
                  <a:pt x="291" y="3018"/>
                </a:lnTo>
                <a:lnTo>
                  <a:pt x="306" y="2952"/>
                </a:lnTo>
                <a:lnTo>
                  <a:pt x="266" y="2934"/>
                </a:lnTo>
                <a:lnTo>
                  <a:pt x="331" y="2910"/>
                </a:lnTo>
                <a:lnTo>
                  <a:pt x="221" y="2802"/>
                </a:lnTo>
                <a:lnTo>
                  <a:pt x="226" y="2508"/>
                </a:lnTo>
                <a:lnTo>
                  <a:pt x="130" y="2514"/>
                </a:lnTo>
                <a:lnTo>
                  <a:pt x="50" y="2460"/>
                </a:lnTo>
                <a:lnTo>
                  <a:pt x="40" y="2334"/>
                </a:lnTo>
                <a:lnTo>
                  <a:pt x="85" y="2280"/>
                </a:lnTo>
                <a:lnTo>
                  <a:pt x="85" y="2196"/>
                </a:lnTo>
                <a:lnTo>
                  <a:pt x="50" y="2172"/>
                </a:lnTo>
                <a:lnTo>
                  <a:pt x="80" y="2064"/>
                </a:lnTo>
                <a:lnTo>
                  <a:pt x="130" y="1944"/>
                </a:lnTo>
                <a:lnTo>
                  <a:pt x="125" y="1836"/>
                </a:lnTo>
                <a:lnTo>
                  <a:pt x="191" y="1788"/>
                </a:lnTo>
                <a:lnTo>
                  <a:pt x="191" y="1656"/>
                </a:lnTo>
                <a:lnTo>
                  <a:pt x="191" y="1398"/>
                </a:lnTo>
                <a:lnTo>
                  <a:pt x="261" y="1332"/>
                </a:lnTo>
                <a:lnTo>
                  <a:pt x="251" y="1302"/>
                </a:lnTo>
                <a:lnTo>
                  <a:pt x="201" y="1248"/>
                </a:lnTo>
                <a:lnTo>
                  <a:pt x="191" y="1122"/>
                </a:lnTo>
                <a:lnTo>
                  <a:pt x="216" y="1092"/>
                </a:lnTo>
                <a:lnTo>
                  <a:pt x="231" y="1008"/>
                </a:lnTo>
                <a:lnTo>
                  <a:pt x="241" y="702"/>
                </a:lnTo>
                <a:lnTo>
                  <a:pt x="165" y="672"/>
                </a:lnTo>
                <a:lnTo>
                  <a:pt x="226" y="606"/>
                </a:lnTo>
                <a:lnTo>
                  <a:pt x="226" y="516"/>
                </a:lnTo>
                <a:lnTo>
                  <a:pt x="226" y="384"/>
                </a:lnTo>
                <a:lnTo>
                  <a:pt x="226" y="264"/>
                </a:lnTo>
                <a:lnTo>
                  <a:pt x="186" y="162"/>
                </a:lnTo>
                <a:lnTo>
                  <a:pt x="115" y="120"/>
                </a:lnTo>
              </a:path>
            </a:pathLst>
          </a:custGeom>
          <a:solidFill>
            <a:srgbClr val="037c03"/>
          </a:solidFill>
          <a:ln cap="rnd" w="12600">
            <a:solidFill>
              <a:srgbClr val="009688"/>
            </a:solidFill>
            <a:round/>
          </a:ln>
          <a:effectLst>
            <a:outerShdw dist="107932" dir="2700000" blurRad="0" rotWithShape="0">
              <a:srgbClr val="0101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95280" y="4365720"/>
            <a:ext cx="136440" cy="457200"/>
          </a:xfrm>
          <a:prstGeom prst="ellipse">
            <a:avLst/>
          </a:prstGeom>
          <a:solidFill>
            <a:srgbClr val="009688"/>
          </a:solidFill>
          <a:ln w="0">
            <a:noFill/>
          </a:ln>
          <a:effectLst>
            <a:outerShdw dist="107932" dir="2700000" blurRad="0" rotWithShape="0">
              <a:srgbClr val="0101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9640" y="4797360"/>
            <a:ext cx="66960" cy="76320"/>
          </a:xfrm>
          <a:prstGeom prst="ellipse">
            <a:avLst/>
          </a:prstGeom>
          <a:solidFill>
            <a:srgbClr val="009688"/>
          </a:solidFill>
          <a:ln w="0">
            <a:noFill/>
          </a:ln>
          <a:effectLst>
            <a:outerShdw dist="107932" dir="2700000" blurRad="0" rotWithShape="0">
              <a:srgbClr val="0101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049400" y="5181480"/>
            <a:ext cx="68040" cy="76320"/>
          </a:xfrm>
          <a:prstGeom prst="ellipse">
            <a:avLst/>
          </a:prstGeom>
          <a:solidFill>
            <a:srgbClr val="009688"/>
          </a:solidFill>
          <a:ln w="0">
            <a:noFill/>
          </a:ln>
          <a:effectLst>
            <a:outerShdw dist="107932" dir="2700000" blurRad="0" rotWithShape="0">
              <a:srgbClr val="0101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39640" y="4941720"/>
            <a:ext cx="144720" cy="71640"/>
          </a:xfrm>
          <a:prstGeom prst="ellipse">
            <a:avLst/>
          </a:prstGeom>
          <a:solidFill>
            <a:srgbClr val="009688"/>
          </a:solidFill>
          <a:ln w="0">
            <a:noFill/>
          </a:ln>
          <a:effectLst>
            <a:outerShdw dist="107932" dir="2700000" blurRad="0" rotWithShape="0">
              <a:srgbClr val="0101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79400" y="5257800"/>
            <a:ext cx="66600" cy="76320"/>
          </a:xfrm>
          <a:prstGeom prst="ellipse">
            <a:avLst/>
          </a:prstGeom>
          <a:solidFill>
            <a:srgbClr val="009688"/>
          </a:solidFill>
          <a:ln w="0">
            <a:noFill/>
          </a:ln>
          <a:effectLst>
            <a:outerShdw dist="107932" dir="2700000" blurRad="0" rotWithShape="0">
              <a:srgbClr val="0101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1187280" y="2421000"/>
            <a:ext cx="1951200" cy="19810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1835280" y="4724280"/>
            <a:ext cx="1800000" cy="17622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3299040" y="333360"/>
            <a:ext cx="546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roceso FONTEC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1763640" y="404640"/>
            <a:ext cx="1773360" cy="18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isión FONTEC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lnSpc>
                <a:spcPct val="90000"/>
              </a:lnSpc>
              <a:spcBef>
                <a:spcPts val="700"/>
              </a:spcBef>
              <a:spcAft>
                <a:spcPts val="1749"/>
              </a:spcAft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Apoyar la investigación y el desarrollo tecnológico para la innovación de las empresas productoras de bienes y servicios, como variable estratégica de competencia en los mercad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spcAft>
                <a:spcPts val="1749"/>
              </a:spcAft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Como parte integrante de CORFO, cuenta con una amplia red de profesionales en todo el país, cuyo compromiso es poner a disposición de las empresas, instrumentos de financiamiento para que aceleren su inversión en innovación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067280" y="260280"/>
            <a:ext cx="5076720" cy="43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ffff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Su estructura legal es definida como un Comité de CORF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ffff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Cuenta con un Consejo directivo público-privado (la mitad son altos funcionarios públicos y la otra mitad son connotados representantes de las empresa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ffff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Tiene Cobertura nacio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ffff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Ventanilla abierta (se pueden presentar proyectos en cualquier momento del año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50920" y="2492280"/>
            <a:ext cx="446544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826920" y="404640"/>
            <a:ext cx="3097440" cy="17290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6360" y="2852640"/>
            <a:ext cx="42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3300"/>
                </a:solidFill>
                <a:latin typeface="Tahoma"/>
              </a:rPr>
              <a:t>CARACTERISTICAS  DE  FONTE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067280" y="260280"/>
            <a:ext cx="5076720" cy="43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Realiza Convocatorias Especiales, esto es, focaliza recursos para determinados temas estratégicos de interés nacional, durante un período corto de tiemp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Presupuesto público, Programa 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Es una institución pública pero que está certificada ISO 9001 (2000)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ffff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50920" y="2492280"/>
            <a:ext cx="446544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826920" y="404640"/>
            <a:ext cx="3097440" cy="17290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6360" y="2852640"/>
            <a:ext cx="42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3300"/>
                </a:solidFill>
                <a:latin typeface="Tahoma"/>
              </a:rPr>
              <a:t>CARACTERISTICAS  DE  FONTE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6300720" y="5589720"/>
            <a:ext cx="660600" cy="66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468360" y="620640"/>
          <a:ext cx="8136000" cy="5803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360" y="620640"/>
                    <a:ext cx="8136000" cy="580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"/>
          <p:cNvSpPr/>
          <p:nvPr/>
        </p:nvSpPr>
        <p:spPr>
          <a:xfrm>
            <a:off x="3361320" y="3213000"/>
            <a:ext cx="32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1: innovación tecnológ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62120" y="4869000"/>
            <a:ext cx="239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2: infraestructur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ecnológ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21720" y="836640"/>
            <a:ext cx="471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3: transferencia tecnológica asociativ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249520" y="1484280"/>
            <a:ext cx="320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4: entidades de gestión 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ntros de transferenci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ecnológ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19080" y="5950080"/>
            <a:ext cx="338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5: estudios de preinvers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5940360" y="4149720"/>
            <a:ext cx="2144880" cy="16034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5"/>
          <a:stretch/>
        </p:blipFill>
        <p:spPr>
          <a:xfrm>
            <a:off x="3851280" y="3716280"/>
            <a:ext cx="1228680" cy="7239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6"/>
          <a:stretch/>
        </p:blipFill>
        <p:spPr>
          <a:xfrm>
            <a:off x="4067280" y="2349360"/>
            <a:ext cx="912600" cy="7700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7"/>
          <a:stretch/>
        </p:blipFill>
        <p:spPr>
          <a:xfrm>
            <a:off x="1332000" y="1125360"/>
            <a:ext cx="1866960" cy="17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77800" y="1197000"/>
            <a:ext cx="8458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9900"/>
                </a:solidFill>
                <a:latin typeface="Arial Black"/>
              </a:rPr>
              <a:t>1) Desarrollo de nuevos productos o servicios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9900"/>
                </a:solidFill>
                <a:latin typeface="Arial Black"/>
              </a:rPr>
              <a:t>no existentes a lo menos en el mercado nacional, y para los cuales se establecerán capacidades nacionales de producció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9900"/>
                </a:solidFill>
                <a:latin typeface="Arial Black"/>
              </a:rPr>
              <a:t>2) Desarrollo de productos o servicios, que si bien existen en el mercado nacional, no se dispone de capacidades nacionales para su producció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9900"/>
                </a:solidFill>
                <a:latin typeface="Arial Black"/>
              </a:rPr>
              <a:t>3) Incorporación de nuevos procesos productivos, no existentes en el país, que incrementan sustancialmente la eficiencia y la productividad de la empres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95280" y="25704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54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9900"/>
                </a:solidFill>
                <a:latin typeface="Impact"/>
              </a:rPr>
              <a:t>Tipos de proyectos de innovación</a:t>
            </a:r>
            <a:r>
              <a:rPr b="1" lang="es-ES_tradnl" sz="3600" spc="-1" strike="noStrike">
                <a:solidFill>
                  <a:srgbClr val="ffcc00"/>
                </a:solidFill>
                <a:latin typeface="Impact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69960" y="1260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7920" y="1084320"/>
            <a:ext cx="4047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Arial Black"/>
              </a:rPr>
              <a:t>Empresario: Florencio Laz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Arial Black"/>
              </a:rPr>
              <a:t>Máquina para el contr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Arial Black"/>
              </a:rPr>
              <a:t>de helad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6320" y="3638520"/>
            <a:ext cx="414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Arial Black"/>
              </a:rPr>
              <a:t>Empresa: Pesquera Land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Arial Black"/>
              </a:rPr>
              <a:t>S.A. Productos de jurel pa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Arial Black"/>
              </a:rPr>
              <a:t>Consumo human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80880" y="228600"/>
            <a:ext cx="876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000160" indent="-200016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00"/>
                </a:solidFill>
                <a:latin typeface="Impact"/>
              </a:rPr>
              <a:t>Ejemplos Proyectos de Innov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5078520" y="1143000"/>
            <a:ext cx="3886200" cy="22208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5499000" y="3689280"/>
            <a:ext cx="3465720" cy="28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93760" y="1239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09120" y="1079640"/>
            <a:ext cx="354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Arial Black"/>
              </a:rPr>
              <a:t>Empresa: Biosonda S.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Arial Black"/>
              </a:rPr>
              <a:t>Hemocianina del loc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77080" y="3825720"/>
            <a:ext cx="3463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Arial Black"/>
              </a:rPr>
              <a:t>Empresa: Prospect S.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Arial Black"/>
              </a:rPr>
              <a:t>Cámara de segur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Arial Black"/>
              </a:rPr>
              <a:t>deslizan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0880" y="228600"/>
            <a:ext cx="876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000160" indent="-200016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00"/>
                </a:solidFill>
                <a:latin typeface="Impact"/>
              </a:rPr>
              <a:t>Ejemplos Proyectos de Innov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5029200" y="914400"/>
            <a:ext cx="3657600" cy="24606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5334120" y="3886200"/>
            <a:ext cx="3471840" cy="26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80880" y="228600"/>
            <a:ext cx="876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000160" indent="-200016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00"/>
                </a:solidFill>
                <a:latin typeface="Impact"/>
              </a:rPr>
              <a:t>Transferencia Tecnológ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33520" y="1828800"/>
            <a:ext cx="80899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Arial Black"/>
              </a:rPr>
              <a:t>Misiones para conocer modernas tecnologías de proceso, producción y gestión en empresas líderes; centros técnicos y ferias tecnológicas en el extranjero (5 o más empresa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Arial Black"/>
              </a:rPr>
              <a:t>Expertos o consultoría de nivel internacional en tecnologías especializadas de aplicación inmediata a las empresas beneficiarias (3 o más empresa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18ff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0" dur="1" fill="hold"/>
                                  <p:tgtEl>
                                    <p:spTgt spid="12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18ff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4T21:30:15Z</dcterms:created>
  <dc:creator>Jorge Olivares</dc:creator>
  <dc:description/>
  <dc:language>en-US</dc:language>
  <cp:lastModifiedBy> Consejo Nacional de Producción Limpia</cp:lastModifiedBy>
  <cp:lastPrinted>2002-08-12T16:18:41Z</cp:lastPrinted>
  <dcterms:modified xsi:type="dcterms:W3CDTF">2004-11-07T13:59:18Z</dcterms:modified>
  <cp:revision>47</cp:revision>
  <dc:subject/>
  <dc:title>Conceptos, Criterios y Procedimientos de Evaluación de Proyectos</dc:title>
</cp:coreProperties>
</file>