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1193-4388-4669-8CD4-0ECFC801A2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51BA-5024-4308-AB06-95D5A3CE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C8CB-E7BA-42C2-B769-103C9B64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88E2-6DA2-47CD-BAC7-C1DE58726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20111-4080-4D32-BC67-2785E3BB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007D8-3921-4B9F-A095-CEDC97ED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111B0-7912-4489-B536-15AD1C2F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FCB12-15C9-4F67-92B5-323B589E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2041-5771-41A6-B705-11E9182F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190E3-B164-46DC-8A50-F20E37A8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D16A2-430C-4A9E-8475-107A4AD1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15FA-9E74-4C3B-B526-7FD55EC3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DACF-FE38-420C-8F90-A257F52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954B4-705B-4078-A64C-8A37BDA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C7875-019C-41CD-9B99-D5A7FB83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232B5-C37C-4409-A8C6-27DA9B14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303E0-CB7D-4BA1-AF92-0902FD5B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DC38-906E-4EFE-AF9A-3CDC8CEF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4DB1-47FA-4213-BF36-488CA27C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A27D-83E1-463A-8222-F121C63F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D02E-9818-4520-B731-BECFFE16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3E92-EFF3-4A95-8FA9-5E26AD22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BDE0-2945-4B51-A95B-250BFFF6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45F5-3791-4C54-BF55-E3B7F374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5048-9C71-4D60-8839-D90B915CBA3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31BD-7239-46E5-A988-7FB87E97C7F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NSTRUMENTAL DE FOMENTO CORF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Times New Roman"/>
              </a:rPr>
              <a:t>Como apoyo a las innovaciones que aumentan la competitividad de las empres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560" y="1523520"/>
            <a:ext cx="910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Innovación Tecnológica Emprezarizable: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financiar proyectos de innovación y desarrollo  tecnológico con características y aptitudes para la empresarización de sus resultados, fomentando la asociatividad tecnológica empresarial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, nacional y extranjera,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para abordar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iniciativa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de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alto riesgo y alto potencial e impacto económico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Comic Sans MS"/>
              </a:rPr>
              <a:t>Líneas Aplicabl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Financiamiento Propspectivo (Línea IE1), cofinancia actividades de prospección, selección de socios nacionales y extranjeros, para formulación y evaluación de proyectos de innovación para ser desarrollados posteriormente en IE2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ProyectosInnovación Empresarizables (Línea IE2), cofinancia desarrollo de innovaciones con potencial de aplicación comercial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Productos y Resultados Tecnológicos Empresarizables (Línea IE3), asignación de financiamiento para inroducción al mercado de resultados o productos innovadores obtenidos de desarrollos de procesos de innovación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DI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D62D-4340-4A62-B75E-E25A28A50D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4920" y="102024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1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YME. Crédito hasta US$ 5 millones. Hasta 30% en C.T. Venta anual neta hasta US$ 30 mill. Hasta 2 años de gracia. Período pago 2 a 10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2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equeña empresa. Crédito hasta US$ 450 mil. Hasta 30% en C.T.  Venta anual neta US$ 11,5 millones. Plazo pago 3 a 10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4: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Financia inversiones en tecnologías limpias y medioambientales. Hasta MMUS$1, utilizable hasta un 30% en capital de trabajo. Hasta 30 meses plazo de gracia, hasta 12 años plazo de pago, tasas bajas (&lt;3% base)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rograma CORFO-BID-Leasing A-2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YME. Monto hasta US$ 5 millones. Plazo de 2 a 6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auciones Solidarias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Aval de hasta 60% crédito o leasing. Inversión superior a 3.000 UF. Mínimo aporte empresa 20%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4280"/>
            <a:ext cx="7925040" cy="863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. Instrumentos: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poyo al financiami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8E62-59F7-458F-9FB3-2CAC24166B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6" dur="1" fill="hold"/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59880" indent="-131760">
              <a:lnSpc>
                <a:spcPct val="85000"/>
              </a:lnSpc>
              <a:spcBef>
                <a:spcPts val="1349"/>
              </a:spcBef>
              <a:spcAft>
                <a:spcPts val="2100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mpulsar el desarrollo e innovación empresarial del sector privado hacia la competitividad, a través de instrumentos de cofinanciamiento e intermediación financiera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59880" indent="-131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ioridad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nnovación tecnológic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Modernización de la gestión empresari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mover formas asociativa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Desarrollar fórmulas de acceso al financiamient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ncrementar la inversión privada en zonas deprimida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. Misión de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65D3-A381-4E69-94FA-8068AB294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1. Tipos de Instrumentos de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928880"/>
          <a:ext cx="8615160" cy="474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928880"/>
                    <a:ext cx="861516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E430-E153-4D3B-ADF3-34C9B12C07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155736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Fondo Asistencia Técnica (FAT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Asistencia técnica (consultoría privada), orientada a optimizar la gestión empresarial y productividad. Ejemplo: implementa tecnologías (blandas o de gestión) al interior de la empresa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uede ser individual o colectiva; Máximo cofinanciamiento 50%; hasta 60% a empresa o grupo con ventas anuales netas inferiores a 25.000 UF; hasta 70% cuando es FAT temático; cofinanciamiento individual máx. 450 UF (150 UF/año); cofinanc. colectivo 100 UF/empresa/año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equeñas y Medianas empresas; microempresas o grandes, si participan en PROFO, PDP  o fondo  ProChil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Tramitación: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 Agente intermediario diagnostica y califica a la empresa; selección consultores en registro oficial; se inicia con la firma de Programa de Asistencia Técnica aprobado por el Agente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FAT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90CD-7F11-48D6-A337-41F47A7A87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 apoyo a la gestión de empresas (PAG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AT orientada al diseño e introducción de cambios en la gestión empresarial. Similar al FAT pero para empresas medianas o medianas grandes (facturación entre UF50.000 y UF1.000.000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Diagnóstico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de 3 meses máximo; cofinanc. 60% consultoría con tope de 150 UF y 250 UF individuales y colectivos, respectivamente;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Desarroll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, cofinanciamiento  50% consultoría, con tope de 1.500 UF y 2.500 UF individules y colectivos, respectivament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Ventas anuales netas 100 mil  UF - 1 millón UF (individuales y colectivas); excepciones CAFF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Similar a FAT, sólo que CORFO directamente lo asigna.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AG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6D59-B566-4ADD-AB81-6904714180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 Fomento (PROFO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Fomento a la asociatividad de empresas en torno a la búsqueda de soluciones a problemas comunes. Ejemplo: aplicación de tecnologías nuevas, conocidas, en un grupo de empresa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 algn="just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uración máxima 3 años;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Prepa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reparación y constitución del PROFO; cofinanc. 80%, 80 UF/empresas con tope de 800 UF;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PROF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cofinanc. 70 % primer año, máximo/empresa 360 UF y máximo global 2.700 UF. Aporte de empresas creciente 2 y 3 año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Mínimo 5 empresas con ventas anuales netas 2.400 UF - 100 mil UF; sobre o bajo, máximo 30%; no financia AT FAT; si financia capacitación, entre múltiples actividades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ostulación a través de agentes, el que presenta proyecto ante CORFO ; aprobada constitución se puede contratar gerent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ROFO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B8FD-6C4A-4562-B3FA-A660A49C81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sarrollo de Proveedores (PD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romover los encadenamientos productivos, sobre bases estables  de subcontratación entre grandes y pequeñas empresas. Ideal para reunir a una empresa grande con múltiles proveedores pequeños, ya que cofinancia el traspaso de tecnologías y estándares de calidad de producto o proceso, desde la empresa grande (demandante) a los proveedores más pequeños (proveedoras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Diagnóstic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máximo 6 meses; cofinac. 400 UF/empresa, equivalente al 60%;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Ejecu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tres años; tope 3.000 UF, 100 UF/empresa proveedora; cofinanc. 60% primer año, y 50% el 2 y 3 año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Empresas demandantes ventas mínimas 100 mil UF y proveedoras no más 100 mil UF. Demandante propuesta con 10 proveedores sector manufacturero y 20 sector agrícola.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irectamente con CORF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DP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75B9-1D32-402E-8DAB-D1160BF8B0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Fondo Nacional de Desarrollo Tecnológico y Productivo (FONTE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esarrollo de innovaciones tecnológicas, transferencia tecnológica, infraestructura y escalamiento. En especial para apoyar la adaptación, mejora o creación de nuevos productos y procesos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5 líne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Innovación: I+D tecnologías de proceso, productos y servicios;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Infraestructura tecnológica: inversiones equipos científicos, instalaciones y entrenamiento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Trasferencia tecnológica asociativa: misiones tecnológicas extranjero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entros tecnológicos: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Prospección, desarrollo, difusión, TT en min. 5 empresas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Estudios preinversión escalamiento productivo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factibilidad proyectos innovativos.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Empresas privadas y acreditar capacidad (administrativa, técnica, financiera y comercial) para ejecutar estudio e implementar solucion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ONTEC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03BE-52FE-48D0-A7C2-E2B100DC47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Comic Sans MS"/>
              </a:rPr>
              <a:t>Fondo de Desarrollo e Innovación (FD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Fomento a la innovación y transferencia tecnológica, operando con centros tecnológicos públicos y privados, ´como también con empresas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Vía concurso y licitaciones. Concurso pluritemático y sin sectores prioritarios. Licitación es monotemática y focalizada a sector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Innovación de Interés Público y Precompeti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Cofinancia proyectos en distintas líne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243440" indent="-2192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Desarrollo tecnológico;Adaptación y transferencia tecnológica; Desarrollo nuevas capacidades tecnológicas: RR.HH, infraestructura tecnológica e información; Desarrollo de mercados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apoyo al emprendimiento y apoyo a nuevos negoci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DI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5086-2CCE-4185-AAE7-297C219240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4T15:09:44Z</dcterms:created>
  <dc:creator>Rafael Lorenzini</dc:creator>
  <dc:description/>
  <dc:language>en-US</dc:language>
  <cp:lastModifiedBy> Consejo Nacional de Producción Limpia</cp:lastModifiedBy>
  <cp:lastPrinted>1999-06-15T17:16:52Z</cp:lastPrinted>
  <dcterms:modified xsi:type="dcterms:W3CDTF">2004-11-07T13:57:57Z</dcterms:modified>
  <cp:revision>175</cp:revision>
  <dc:subject/>
  <dc:title>Sin título de diapositiva</dc:title>
</cp:coreProperties>
</file>