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06F7-2B8E-4DAF-8A6A-6201B8D7A8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F84D-0AA7-41DA-A2E6-A52E78DD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BAF7-ABC7-4EA0-92CF-CD4449AC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8E97-CAA4-4FED-9E7A-41BBE1FCDF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9414B-8541-4085-9179-17B56A03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68672-DFA9-4634-B253-720D99A6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E0558-E426-4DB2-A6AF-7EE5ADE0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840C6-EA4E-4817-8102-C29F10B3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EB020-8473-4DC5-8C39-8B7A4FC5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EF0EF-A182-4A86-BE99-5D957A6B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0D592-AA4D-44EA-8C8D-1DE2DCB8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8FB6-ABEA-495D-A948-C3748D1E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8556D-F7CE-45C8-B54B-F065983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DA1FB-9750-4F32-98CA-58D2FE6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B643E-BB45-4B95-A60E-D6D51FF9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ECC29-2842-4B0C-AA3E-16B94AC0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35FC8-F467-45CF-94B8-54576C68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9C30-1B17-420F-8FD9-84EFC8BF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BFDB4-9EA4-4546-9558-3F197545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20E7-212E-43B3-A98E-BEB687FF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49CD-C490-4741-8AFB-96999DFD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BFE9-CD23-4E90-B697-7AFBE5EF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C024-DC2B-4B8B-8353-EE821E9E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5C523-4440-48E3-ACB8-31CBFA21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68B6-3C2B-415A-ABDE-30967236918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F9A3-16ED-4847-BFAE-674E0EF9E6E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INSTRUMENTAL DE FOMENTO CORFO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33"/>
                </a:solidFill>
                <a:latin typeface="Times New Roman"/>
              </a:rPr>
              <a:t>Como apoyo a las innovaciones que aumentan la competitividad de las empres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560" y="1523520"/>
            <a:ext cx="910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Innovación Tecnológica Emprezarizable: 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Cofinanciar proyectos de innovación y desarrollo  tecnológico con características y aptitudes para la empresarización de sus resultados, fomentando la asociatividad tecnológica empresarial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, nacional y extranjera,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para abordar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iniciativas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 de </a:t>
            </a:r>
            <a:r>
              <a:rPr b="0" lang="es-ES_tradnl" sz="2400" spc="-1" strike="noStrike">
                <a:solidFill>
                  <a:srgbClr val="000099"/>
                </a:solidFill>
                <a:latin typeface="Times New Roman"/>
              </a:rPr>
              <a:t>alto riesgo y alto potencial e impacto económico</a:t>
            </a:r>
            <a:r>
              <a:rPr b="0" lang="es-ES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Comic Sans MS"/>
              </a:rPr>
              <a:t>Líneas Aplicabl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Financiamiento Propspectivo (Línea IE1), cofinancia actividades de prospección, selección de socios nacionales y extranjeros, para formulación y evaluación de proyectos de innovación para ser desarrollados posteriormente en IE2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ProyectosInnovación Empresarizables (Línea IE2), cofinancia desarrollo de innovaciones con potencial de aplicación comercial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80000"/>
              </a:lnSpc>
              <a:spcBef>
                <a:spcPts val="249"/>
              </a:spcBef>
              <a:spcAft>
                <a:spcPts val="374"/>
              </a:spcAft>
              <a:buClr>
                <a:srgbClr val="ff000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Productos y Resultados Tecnológicos Empresarizables (Línea IE3), asignación de financiamiento para inroducción al mercado de resultados o productos innovadores obtenidos de desarrollos de procesos de innovación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0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DI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D570-5DBB-4CE4-A52A-939840CF62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4920" y="102024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1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YME. Crédito hasta US$ 5 millones. Hasta 30% en C.T. Venta anual neta hasta US$ 30 mill. Hasta 2 años de gracia. Período pago 2 a 10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2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equeña empresa. Crédito hasta US$ 450 mil. Hasta 30% en C.T.  Venta anual neta US$ 11,5 millones. Plazo pago 3 a 10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Línea B-14: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Financia inversiones en tecnologías limpias y medioambientales. Hasta MMUS$1, utilizable hasta un 30% en capital de trabajo. Hasta 30 meses plazo de gracia, hasta 12 años plazo de pago, tasas bajas (&lt;3% base)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rograma CORFO-BID-Leasing A-2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Financ. PYME. Monto hasta US$ 5 millones. Plazo de 2 a 6 año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Cauciones Solidarias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: Aval de hasta 60% crédito o leasing. Inversión superior a 3.000 UF. Mínimo aporte empresa 20%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44280"/>
            <a:ext cx="7925040" cy="863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4. Instrumentos: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poyo al financiamient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B8CC-9DA3-4EA7-AAF4-5123637820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6" dur="1" fill="hold"/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59880" indent="-131760">
              <a:lnSpc>
                <a:spcPct val="85000"/>
              </a:lnSpc>
              <a:spcBef>
                <a:spcPts val="1349"/>
              </a:spcBef>
              <a:spcAft>
                <a:spcPts val="2100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mpulsar el desarrollo e innovación empresarial del sector privado hacia la competitividad, a través de instrumentos de cofinanciamiento e intermediación financiera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59880" indent="-1317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ioridades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nnovación tecnológic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Modernización de la gestión empresarial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mover formas asociativas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Desarrollar fórmulas de acceso al financiamiento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282320" indent="-226080">
              <a:lnSpc>
                <a:spcPct val="7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Incrementar la inversión privada en zonas deprimidas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. Misión de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2373-6C26-4F18-BD14-A5051A48DC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1. Tipos de Instrumentos de Corf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928880"/>
          <a:ext cx="8615160" cy="4740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928880"/>
                    <a:ext cx="861516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57AB2-0105-4261-80E7-60951AD478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155736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Fondo Asistencia Técnica (FAT)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Asistencia técnica (consultoría privada), orientada a optimizar la gestión empresarial y productividad. Ejemplo: implementa tecnologías (blandas o de gestión) al interior de la empresa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uede ser individual o colectiva; Máximo cofinanciamiento 50%; hasta 60% a empresa o grupo con ventas anuales netas inferiores a 25.000 UF; hasta 70% cuando es FAT temático; cofinanciamiento individual máx. 450 UF (150 UF/año); cofinanc. colectivo 100 UF/empresa/año;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equeñas y Medianas empresas; microempresas o grandes, si participan en PROFO, PDP  o fondo  ProChil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Tramitación: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 Agente intermediario diagnostica y califica a la empresa; selección consultores en registro oficial; se inicia con la firma de Programa de Asistencia Técnica aprobado por el Agente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FAT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318DE-E5E1-4C8A-8F8B-B0450D4915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 apoyo a la gestión de empresas (PAG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AT orientada al diseño e introducción de cambios en la gestión empresarial. Similar al FAT pero para empresas medianas o medianas grandes (facturación entre UF50.000 y UF1.000.000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Diagnóstico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de 3 meses máximo; cofinanc. 60% consultoría con tope de 150 UF y 250 UF individuales y colectivos, respectivamente;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Desarroll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, cofinanciamiento  50% consultoría, con tope de 1.500 UF y 2.500 UF individules y colectivos, respectivament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Ventas anuales netas 100 mil  UF - 1 millón UF (individuales y colectivas); excepciones CAFF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66720" indent="-133200">
              <a:lnSpc>
                <a:spcPct val="9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Similar a FAT, sólo que CORFO directamente lo asigna. 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AG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AE36-6A1F-4F41-9AAD-913E381B8F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4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 Fomento (PROFO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Fomento a la asociatividad de empresas en torno a la búsqueda de soluciones a problemas comunes. Ejemplo: aplicación de tecnologías nuevas, conocidas, en un grupo de empresa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 algn="just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uración máxima 3 años;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Prepa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reparación y constitución del PROFO; cofinanc. 80%, 80 UF/empresas con tope de 800 UF;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PROF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cofinanc. 70 % primer año, máximo/empresa 360 UF y máximo global 2.700 UF. Aporte de empresas creciente 2 y 3 año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Mínimo 5 empresas con ventas anuales netas 2.400 UF - 100 mil UF; sobre o bajo, máximo 30%; no financia AT FAT; si financia capacitación, entre múltiples actividades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3080" indent="-122400">
              <a:lnSpc>
                <a:spcPct val="100000"/>
              </a:lnSpc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ostulación a través de agentes, el que presenta proyecto ante CORFO ; aprobada constitución se puede contratar gerente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ROFO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0073-FCAB-42C8-A4DB-8F3F334DD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ograma Desarrollo de Proveedores (PDP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Promover los encadenamientos productivos, sobre bases estables  de subcontratación entre grandes y pequeñas empresas. Ideal para reunir a una empresa grande con múltiles proveedores pequeños, ya que cofinancia el traspaso de tecnologías y estándares de calidad de producto o proceso, desde la empresa grande (demandante) a los proveedores más pequeños (proveedoras)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2 etapas: </a:t>
            </a:r>
            <a:r>
              <a:rPr b="1" lang="es-ES_tradnl" sz="20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Diagnóstic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máximo 6 meses; cofinac. 400 UF/empresa, equivalente al 60%;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5050"/>
                </a:solidFill>
                <a:latin typeface="Comic Sans MS"/>
              </a:rPr>
              <a:t>Ejecu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tres años; tope 3.000 UF, 100 UF/empresa proveedora; cofinanc. 60% primer año, y 50% el 2 y 3 año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Empresas demandantes ventas mínimas 100 mil UF y proveedoras no más 100 mil UF. Demandante propuesta con 10 proveedores sector manufacturero y 20 sector agrícola. 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53040" indent="-13032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irectamente con CORFO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80880"/>
            <a:ext cx="7543800" cy="10670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76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 Instrumentos PDP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del tipo Modernización Productiva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DC2CC-2BB0-4997-9D0D-CA10EB8B06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3410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Fondo Nacional de Desarrollo Tecnológico y Productivo (FONTEC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Desarrollo de innovaciones tecnológicas, transferencia tecnológica, infraestructura y escalamiento. En especial para apoyar la adaptación, mejora o creación de nuevos productos y procesos. 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5 líne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Innovación: I+D tecnologías de proceso, productos y servicios;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Infraestructura tecnológica: inversiones equipos científicos, instalaciones y entrenamiento.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Trasferencia tecnológica asociativa: misiones tecnológicas extranjero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Centros tecnológicos: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Prospección, desarrollo, difusión, TT en min. 5 empresas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204560" indent="-212400">
              <a:lnSpc>
                <a:spcPct val="70000"/>
              </a:lnSpc>
              <a:spcBef>
                <a:spcPts val="788"/>
              </a:spcBef>
              <a:buClr>
                <a:srgbClr val="ff0000"/>
              </a:buClr>
              <a:buFont typeface="Monotype Sorts" charset="2"/>
              <a:buChar char="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Estudios preinversión escalamiento productivo</a:t>
            </a: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factibilidad proyectos innovativos. 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19920" indent="-123840">
              <a:lnSpc>
                <a:spcPct val="8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Requisitos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Empresas privadas y acreditar capacidad (administrativa, técnica, financiera y comercial) para ejecutar estudio e implementar solucion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ONTEC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95F3-0906-434A-A7BD-A33736EB04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99"/>
                </a:solidFill>
                <a:uFillTx/>
                <a:latin typeface="Comic Sans MS"/>
              </a:rPr>
              <a:t>Fondo de Desarrollo e Innovación (FD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bjetivo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Fomento a la innovación y transferencia tecnológica, operando con centros tecnológicos públicos y privados, ´como también con empresas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Opera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Vía concurso y licitaciones. Concurso pluritemático y sin sectores prioritarios. Licitación es monotemática y focalizada a sectores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Innovación de Interés Público y Precompeti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39720" indent="-127800">
              <a:lnSpc>
                <a:spcPct val="90000"/>
              </a:lnSpc>
              <a:spcBef>
                <a:spcPts val="876"/>
              </a:spcBef>
              <a:buClr>
                <a:srgbClr val="ff0000"/>
              </a:buClr>
              <a:buSzPct val="5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99"/>
                </a:solidFill>
                <a:latin typeface="Comic Sans MS"/>
              </a:rPr>
              <a:t>Descripción</a:t>
            </a:r>
            <a:r>
              <a:rPr b="0" lang="es-ES_tradnl" sz="2000" spc="-1" strike="noStrike">
                <a:solidFill>
                  <a:srgbClr val="000099"/>
                </a:solidFill>
                <a:latin typeface="Comic Sans MS"/>
              </a:rPr>
              <a:t>: Cofinancia proyectos en distintas líneas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243440" indent="-219240">
              <a:lnSpc>
                <a:spcPct val="80000"/>
              </a:lnSpc>
              <a:spcBef>
                <a:spcPts val="788"/>
              </a:spcBef>
              <a:buClr>
                <a:srgbClr val="ff0000"/>
              </a:buClr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Comic Sans MS"/>
              </a:rPr>
              <a:t>Desarrollo tecnológico;Adaptación y transferencia tecnológica; Desarrollo nuevas capacidades tecnológicas: RR.HH, infraestructura tecnológica e información; Desarrollo de mercados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Area apoyo al emprendimiento y apoyo a nuevos negocio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239"/>
              </a:spcBef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. Instrumento FDI: </a:t>
            </a: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del tipo Desarrollo e Innovación Tecnológica</a:t>
            </a:r>
            <a:endParaRPr b="0" lang="en-US" sz="2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84F3-C37F-418F-A9CE-1B24C05287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4T15:09:44Z</dcterms:created>
  <dc:creator>Rafael Lorenzini</dc:creator>
  <dc:description/>
  <dc:language>en-US</dc:language>
  <cp:lastModifiedBy> Consejo Nacional de Producción Limpia</cp:lastModifiedBy>
  <cp:lastPrinted>1999-06-15T17:16:52Z</cp:lastPrinted>
  <dcterms:modified xsi:type="dcterms:W3CDTF">2004-11-07T13:57:57Z</dcterms:modified>
  <cp:revision>175</cp:revision>
  <dc:subject/>
  <dc:title>Sin título de diapositiva</dc:title>
</cp:coreProperties>
</file>