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A331-0B4E-4052-8154-7F76E0E7F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2E3A-78A6-4C4D-B85F-71456003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2552-65F5-48DF-82EC-BFBA6C3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425B-6E17-4EF2-9737-A1E370627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3840F-8901-4B3E-9442-89413B2F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98AFF-2D39-4DCC-8ECA-B66E2DF1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E05E4-CB00-4DC5-8A51-FD92E08C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05816-154E-4CF5-81F2-96003173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244FC-F3CB-4321-A1FC-734F28C1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1EDD6-4D53-49E1-B559-A3FB3070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B63AF-4A15-49EE-9838-3A2B5895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E23E-044B-4545-B668-8CBA1E98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70F34-0D10-4A18-A88B-E5514F1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E500C-6D2B-4E6B-896F-F42C276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94B40-3AA8-4A27-BB30-82B3D2EA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0F76-5270-4F4A-8A91-B346C00D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5884A-0252-4788-9078-E5FA900D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7E41-3054-439E-B785-8373473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CE49-4E17-4ACE-8E2C-5DFB22BB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99E6-4B08-4957-9131-9BF0AC3F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1A39-DBB5-4ACC-8F60-10B63F45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45B8-375E-40C8-A68B-5ED89D03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9D5E-648D-45CD-A203-447C6DF9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B6C8-2CAF-4B6A-AE9F-BF87386F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187-008D-48DB-8148-5FCFEE1B999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2EA-8E5C-4F01-BC66-BA7A6EE52E3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STRUMENTAL DE FOMENTO CORF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Times New Roman"/>
              </a:rPr>
              <a:t>Como apoyo a las innovaciones que aumentan la competitividad de las empres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560" y="1523520"/>
            <a:ext cx="910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Tecnológica Emprezarizable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financiar proyectos de innovación y desarrollo  tecnológico con características y aptitudes para la empresarización de sus resultados, fomentando la asociatividad tecnológica empresarial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, nacional y extranjera,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para abordar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iniciativa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de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alto riesgo y alto potencial e impacto económico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Líneas Aplicabl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Financiamiento Propspectivo (Línea IE1), cofinancia actividades de prospección, selección de socios nacionales y extranjeros, para formulación y evaluación de proyectos de innovación para ser desarrollados posteriormente en IE2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yectosInnovación Empresarizables (Línea IE2), cofinancia desarrollo de innovaciones con potencial de aplicación comercial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ductos y Resultados Tecnológicos Empresarizables (Línea IE3), asignación de financiamiento para inroducción al mercado de resultados o productos innovadores obtenidos de desarrollos de procesos de innovación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2168-D77D-433D-A0E3-8B90EF6ACF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4920" y="102024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1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Crédito hasta US$ 5 millones. Hasta 30% en C.T. Venta anual neta hasta US$ 30 mill. Hasta 2 años de gracia. Período pago 2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equeña empresa. Crédito hasta US$ 450 mil. Hasta 30% en C.T.  Venta anual neta US$ 11,5 millones. Plazo pago 3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4: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Financia inversiones en tecnologías limpias y medioambientales. Hasta MMUS$1, utilizable hasta un 30% en capital de trabajo. Hasta 30 meses plazo de gracia, hasta 12 años plazo de pago, tasas bajas (&lt;3% base)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rograma CORFO-BID-Leasing A-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Monto hasta US$ 5 millones. Plazo de 2 a 6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uciones Solidarias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Aval de hasta 60% crédito o leasing. Inversión superior a 3.000 UF. Mínimo aporte empresa 20%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4280"/>
            <a:ext cx="7925040" cy="863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. Instrumentos: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poyo al financi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023D-E792-41EA-A202-EDE9553616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59880" indent="-131760">
              <a:lnSpc>
                <a:spcPct val="85000"/>
              </a:lnSpc>
              <a:spcBef>
                <a:spcPts val="1349"/>
              </a:spcBef>
              <a:spcAft>
                <a:spcPts val="2100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mpulsar el desarrollo e innovación empresarial del sector privado hacia la competitividad, a través de instrumentos de cofinanciamiento e intermediación financiera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9880" indent="-131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ioridad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novación tecnológi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Modernización de la gestión empresari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mover formas asociativa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Desarrollar fórmulas de acceso al financiamien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crementar la inversión privada en zonas deprimida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. Misión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44DF-2937-4580-A15D-99B6EBD70C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1. Tipos de Instrumentos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928880"/>
          <a:ext cx="8615160" cy="47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28880"/>
                    <a:ext cx="861516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332D-4D07-4AC5-8FB8-81C4A40A21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1557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Asistencia Técnica (FAT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sistencia técnica (consultoría privada), orientada a optimizar la gestión empresarial y productividad. Ejemplo: implementa tecnologías (blandas o de gestión) al interior de la empres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uede ser individual o colectiva; Máximo cofinanciamiento 50%; hasta 60% a empresa o grupo con ventas anuales netas inferiores a 25.000 UF; hasta 70% cuando es FAT temático; cofinanciamiento individual máx. 450 UF (150 UF/año); cofinanc. colectivo 100 UF/empresa/año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equeñas y Medianas empresas; microempresas o grandes, si participan en PROFO, PDP  o fondo  ProChil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Tramitación: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 Agente intermediario diagnostica y califica a la empresa; selección consultores en registro oficial; se inicia con la firma de Programa de Asistencia Técnica aprobado por el Agente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FAT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F7E7-BF79-40C4-95BA-527FC82167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apoyo a la gestión de empresas (PA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T orientada al diseño e introducción de cambios en la gestión empresarial. Similar al FAT pero para empresas medianas o medianas grandes (facturación entre UF50.000 y UF1.000.000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de 3 meses máximo; cofinanc. 60% consultoría con tope de 150 UF y 250 UF individuales y colectivos, respectivamente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esarroll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, cofinanciamiento  50% consultoría, con tope de 1.500 UF y 2.500 UF individules y colectivos, respectivam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entas anuales netas 100 mil  UF - 1 millón UF (individuales y colectivas); excepciones CAFF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Similar a FAT, sólo que CORFO directamente lo asigna.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AG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F326-D7EB-4AD4-BFD1-2B9AA698BA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Fomento (PROFO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asociatividad de empresas en torno a la búsqueda de soluciones a problemas comunes. Ejemplo: aplicación de tecnologías nuevas, conocidas, en un grupo de empresa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 algn="just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uración máxima 3 años;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epa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eparación y constitución del PROFO; cofinanc. 80%, 80 UF/empresas con tope de 800 UF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OF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. 70 % primer año, máximo/empresa 360 UF y máximo global 2.700 UF. Aporte de empresas creciente 2 y 3 año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ínimo 5 empresas con ventas anuales netas 2.400 UF - 100 mil UF; sobre o bajo, máximo 30%; no financia AT FAT; si financia capacitación, entre múltiples actividade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ostulación a través de agentes, el que presenta proyecto ante CORFO ; aprobada constitución se puede contratar ger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ROFO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EE8F-2E58-4419-AF82-E290106FA0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sarrollo de Proveedores (PD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omover los encadenamientos productivos, sobre bases estables  de subcontratación entre grandes y pequeñas empresas. Ideal para reunir a una empresa grande con múltiles proveedores pequeños, ya que cofinancia el traspaso de tecnologías y estándares de calidad de producto o proceso, desde la empresa grande (demandante) a los proveedores más pequeños (proveedoras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áximo 6 meses; cofinac. 400 UF/empresa, equivalente al 60%;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Ejecu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tres años; tope 3.000 UF, 100 UF/empresa proveedora; cofinanc. 60% primer año, y 50% el 2 y 3 año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demandantes ventas mínimas 100 mil UF y proveedoras no más 100 mil UF. Demandante propuesta con 10 proveedores sector manufacturero y 20 sector agrícola.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irectamente con CORF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DP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0778-77B0-47EB-AF57-7BDB71F4FF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Nacional de Desarrollo Tecnológico y Productivo (FONTE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esarrollo de innovaciones tecnológicas, transferencia tecnológica, infraestructura y escalamiento. En especial para apoyar la adaptación, mejora o creación de nuevos productos y procesos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5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novación: I+D tecnologías de proceso, productos y servicios;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fraestructura tecnológica: inversiones equipos científicos, instalaciones y entrenamiento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Trasferencia tecnológica asociativa: misiones tecnológicas extranjero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entros tecnológicos: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Prospección, desarrollo, difusión, TT en min. 5 empresa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Estudios preinversión escalamiento productiv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factibilidad proyectos innovativos.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privadas y acreditar capacidad (administrativa, técnica, financiera y comercial) para ejecutar estudio e implementar solucion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ONTEC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BCF1-56FE-4F9C-853E-2C6E6C262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Fondo de Desarrollo e Innovación (FD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innovación y transferencia tecnológica, operando con centros tecnológicos públicos y privados, ´como también con empresa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ía concurso y licitaciones. Concurso pluritemático y sin sectores prioritarios. Licitación es monotemática y focalizada a sector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de Interés Público y Precompeti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ia proyectos en distintas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43440" indent="-2192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Desarrollo tecnológico;Adaptación y transferencia tecnológica; Desarrollo nuevas capacidades tecnológicas: RR.HH, infraestructura tecnológica e información; Desarrollo de mercado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apoyo al emprendimiento y apoyo a nuevos negoci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2F19-4FE8-441E-80D5-7FBBC6921C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4T15:09:44Z</dcterms:created>
  <dc:creator>Rafael Lorenzini</dc:creator>
  <dc:description/>
  <dc:language>en-US</dc:language>
  <cp:lastModifiedBy> Consejo Nacional de Producción Limpia</cp:lastModifiedBy>
  <cp:lastPrinted>1999-06-15T17:16:52Z</cp:lastPrinted>
  <dcterms:modified xsi:type="dcterms:W3CDTF">2004-11-07T13:57:57Z</dcterms:modified>
  <cp:revision>175</cp:revision>
  <dc:subject/>
  <dc:title>Sin título de diapositiva</dc:title>
</cp:coreProperties>
</file>