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16C5-3E93-4700-A673-796333B48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86E0-AB36-4A62-8B92-11547EB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CCB0-AF0E-4182-A81B-409A13AA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4652-A864-458D-B284-09A4EA058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4A258-6AB0-43C3-9E5C-146639B5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F9C49-492C-45AE-B61F-2F5AF64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3668-3F8A-411C-85A1-660D8C9F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17EA-26B2-4E98-A294-3B042DA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53445-66A2-4503-9420-D5149EE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1E36-3F0A-433B-BD41-8C6E702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60B2-236A-4C93-8890-BC5818E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EC6C-6F34-418E-9366-4027F36C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27E1-AA44-4595-9B53-F8A6723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FD7E-C90F-4379-82BC-04A5F4E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CDE8-9CC2-4BAC-A0D8-FE5C1FD2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BE35A-5EDD-45A5-AD8C-F22171B2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B538-8083-4176-93B9-1B0E897E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00B5-D33B-4CF7-B7F0-B6E72B9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E1AD-0DFB-4D44-B2BD-19714B7C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94F9-333A-4244-8A7B-34BC56C2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E324-4801-4BA6-A1FC-70EFF931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4DB5-C6A9-4451-A2B9-5849682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7942-A3A8-4506-9D35-A4FD041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6EED-C46B-41A1-AE62-A1F6330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BE61-DAFB-40AE-8295-A437307F3F0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9B4-E78B-464E-819D-DA9D552010B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STRUMENTAL DE FOMENTO CORF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Times New Roman"/>
              </a:rPr>
              <a:t>Como apoyo a las innovaciones que aumentan la competitividad de las empres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560" y="1523520"/>
            <a:ext cx="910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Tecnológica Emprezarizable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financiar proyectos de innovación y desarrollo  tecnológico con características y aptitudes para la empresarización de sus resultados, fomentando la asociatividad tecnológica empresarial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, nacional y extranjera,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para abordar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iniciativa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de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alto riesgo y alto potencial e impacto económico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Líneas Aplicabl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Financiamiento Propspectivo (Línea IE1), cofinancia actividades de prospección, selección de socios nacionales y extranjeros, para formulación y evaluación de proyectos de innovación para ser desarrollados posteriormente en IE2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yectosInnovación Empresarizables (Línea IE2), cofinancia desarrollo de innovaciones con potencial de aplicación comercia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ductos y Resultados Tecnológicos Empresarizables (Línea IE3), asignación de financiamiento para inroducción al mercado de resultados o productos innovadores obtenidos de desarrollos de procesos de innovación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9369-A677-40B7-B496-818C699F73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4920" y="102024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1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Crédito hasta US$ 5 millones. Hasta 30% en C.T. Venta anual neta hasta US$ 30 mill. Hasta 2 años de gracia. Período pago 2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equeña empresa. Crédito hasta US$ 450 mil. Hasta 30% en C.T.  Venta anual neta US$ 11,5 millones. Plazo pago 3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4: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Financia inversiones en tecnologías limpias y medioambientales. Hasta MMUS$1, utilizable hasta un 30% en capital de trabajo. Hasta 30 meses plazo de gracia, hasta 12 años plazo de pago, tasas bajas (&lt;3% base)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rograma CORFO-BID-Leasing A-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Monto hasta US$ 5 millones. Plazo de 2 a 6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uciones Solidarias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Aval de hasta 60% crédito o leasing. Inversión superior a 3.000 UF. Mínimo aporte empresa 20%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4280"/>
            <a:ext cx="7925040" cy="863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. Instrumentos: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poyo al financi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200D-9342-41BE-842D-EA9AE1503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59880" indent="-131760">
              <a:lnSpc>
                <a:spcPct val="85000"/>
              </a:lnSpc>
              <a:spcBef>
                <a:spcPts val="1349"/>
              </a:spcBef>
              <a:spcAft>
                <a:spcPts val="2100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mpulsar el desarrollo e innovación empresarial del sector privado hacia la competitividad, a través de instrumentos de cofinanciamiento e intermediación financiera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9880" indent="-131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ioridad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novación tecnológi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Modernización de la gestión empresari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mover formas asociativa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Desarrollar fórmulas de acceso al financiamien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crementar la inversión privada en zonas deprimid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. Misión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EBBB-B7D8-445B-B669-E8FC28310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1. Tipos de Instrumentos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928880"/>
          <a:ext cx="8615160" cy="47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28880"/>
                    <a:ext cx="861516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FF29-46E9-4FC9-AE29-A76F536DEC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Asistencia Técnica (FAT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sistencia técnica (consultoría privada), orientada a optimizar la gestión empresarial y productividad. Ejemplo: implementa tecnologías (blandas o de gestión) al interior de la empres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uede ser individual o colectiva; Máximo cofinanciamiento 50%; hasta 60% a empresa o grupo con ventas anuales netas inferiores a 25.000 UF; hasta 70% cuando es FAT temático; cofinanciamiento individual máx. 450 UF (150 UF/año); cofinanc. colectivo 100 UF/empresa/año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equeñas y Medianas empresas; microempresas o grandes, si participan en PROFO, PDP  o fondo  ProChil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Tramitación: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 Agente intermediario diagnostica y califica a la empresa; selección consultores en registro oficial; se inicia con la firma de Programa de Asistencia Técnica aprobado por el Agente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FAT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CEAA-00AC-4038-A7BA-CB077DAB9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apoyo a la gestión de empresas (PA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T orientada al diseño e introducción de cambios en la gestión empresarial. Similar al FAT pero para empresas medianas o medianas grandes (facturación entre UF50.000 y UF1.000.000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de 3 meses máximo; cofinanc. 60% consultoría con tope de 150 UF y 250 UF individuales y colectivos, respectivamente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esarroll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, cofinanciamiento  50% consultoría, con tope de 1.500 UF y 2.500 UF individules y colectivos, respectivam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entas anuales netas 100 mil  UF - 1 millón UF (individuales y colectivas); excepciones CAFF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Similar a FAT, sólo que CORFO directamente lo asigna.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AG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A942-D24C-4929-B14B-271B2D9B7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Fomento (PROFO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asociatividad de empresas en torno a la búsqueda de soluciones a problemas comunes. Ejemplo: aplicación de tecnologías nuevas, conocidas, en un grupo de empresa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 algn="just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uración máxima 3 años;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epa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eparación y constitución del PROFO; cofinanc. 80%, 80 UF/empresas con tope de 800 UF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OF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. 70 % primer año, máximo/empresa 360 UF y máximo global 2.700 UF. Aporte de empresas creciente 2 y 3 añ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ínimo 5 empresas con ventas anuales netas 2.400 UF - 100 mil UF; sobre o bajo, máximo 30%; no financia AT FAT; si financia capacitación, entre múltiples actividade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ostulación a través de agentes, el que presenta proyecto ante CORFO ; aprobada constitución se puede contratar ger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ROFO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175A-FFA3-4B90-A1CD-E59605A91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sarrollo de Proveedores (PD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omover los encadenamientos productivos, sobre bases estables  de subcontratación entre grandes y pequeñas empresas. Ideal para reunir a una empresa grande con múltiles proveedores pequeños, ya que cofinancia el traspaso de tecnologías y estándares de calidad de producto o proceso, desde la empresa grande (demandante) a los proveedores más pequeños (proveedoras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áximo 6 meses; cofinac. 400 UF/empresa, equivalente al 60%;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Ejecu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tres años; tope 3.000 UF, 100 UF/empresa proveedora; cofinanc. 60% primer año, y 50% el 2 y 3 año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demandantes ventas mínimas 100 mil UF y proveedoras no más 100 mil UF. Demandante propuesta con 10 proveedores sector manufacturero y 20 sector agrícola.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irectamente con CORF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DP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FB2A-3C15-43CE-86A7-98F87A2E4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Nacional de Desarrollo Tecnológico y Productivo (FONTE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esarrollo de innovaciones tecnológicas, transferencia tecnológica, infraestructura y escalamiento. En especial para apoyar la adaptación, mejora o creación de nuevos productos y procesos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5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novación: I+D tecnologías de proceso, productos y servicios;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fraestructura tecnológica: inversiones equipos científicos, instalaciones y entrenamiento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Trasferencia tecnológica asociativa: misiones tecnológicas extranjero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entros tecnológicos: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Prospección, desarrollo, difusión, TT en min. 5 empresa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Estudios preinversión escalamiento productiv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factibilidad proyectos innovativos.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privadas y acreditar capacidad (administrativa, técnica, financiera y comercial) para ejecutar estudio e implementar solucion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ONTEC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C5F1-1BD5-4A7F-8156-220E25514C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Fondo de Desarrollo e Innovación (FD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innovación y transferencia tecnológica, operando con centros tecnológicos públicos y privados, ´como también con empresa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ía concurso y licitaciones. Concurso pluritemático y sin sectores prioritarios. Licitación es monotemática y focalizada a sector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de Interés Público y Precompeti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ia proyectos en distintas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43440" indent="-2192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Desarrollo tecnológico;Adaptación y transferencia tecnológica; Desarrollo nuevas capacidades tecnológicas: RR.HH, infraestructura tecnológica e información; Desarrollo de mercado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apoyo al emprendimiento y apoyo a nuevos negoci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358C-2D64-4FB6-A389-55FAF1FE5D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4T15:09:44Z</dcterms:created>
  <dc:creator>Rafael Lorenzini</dc:creator>
  <dc:description/>
  <dc:language>en-US</dc:language>
  <cp:lastModifiedBy> Consejo Nacional de Producción Limpia</cp:lastModifiedBy>
  <cp:lastPrinted>1999-06-15T17:16:52Z</cp:lastPrinted>
  <dcterms:modified xsi:type="dcterms:W3CDTF">2004-11-07T13:57:57Z</dcterms:modified>
  <cp:revision>175</cp:revision>
  <dc:subject/>
  <dc:title>Sin título de diapositiva</dc:title>
</cp:coreProperties>
</file>