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9D4-88D1-4A55-9DEB-754F45B2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015-E15D-467B-B8A3-BD13F478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5B5-5E4E-4D1E-94ED-12482053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3AB-50AC-45C6-9A42-69226A49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15E2-380F-4935-82A3-F647ED70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3C03-54AC-4177-ADE9-6B7269A7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D934-3A46-4752-82B7-8B95C9D5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0F5-DDFC-4183-A35C-44DD71A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B4C4-38E6-4572-98FE-EDB7491D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393-6447-4012-831D-D7493B7A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BFAE-99EC-4747-9AED-5F17B60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420-29E9-48A4-944F-32E1BC69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C47D-EEB0-4562-A91E-3A8EC40F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FB74-BCCB-4129-97B5-14F0F34C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18B6-B048-4F7B-99AE-C40F4431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283-96E5-445F-ADB3-A5C6B92D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6E25-8C01-45B6-A6D7-473D6457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3E3-5FC2-4AEF-A127-FBCE932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925-B637-4987-B9F5-7B104EE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83D-3141-476F-8168-B9A32F10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680-2E7B-49D9-A8A3-943B903C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40B-69B7-49FA-881F-99BB6E14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559-E842-4AC8-BD85-21EB7580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ACE-C85A-461D-A5E0-442A235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7569-A4F2-433A-84DD-418D6EB4D4B5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180-9831-4792-8B26-34740C477A44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FAAA-AEEA-4685-B7C5-CD88D537D32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1F0-99B5-4412-8B6F-BA6E8BAEDE57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olíticas ambientales y el proceso de innovación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F650-5F24-4561-8646-6A0AB64A7E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59F085-15A4-493A-96BD-0D048E433D7C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condiciones deben considerar los generadores de política en la materia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mportancia de la estabil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Oportunidad de las polític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Flexibilidad de los instrumentos de política considerad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Generación de mercados de tecnología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ompresión del proceso de toma de decisiones del sector priv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925-6152-4D5B-83E6-1AF27FCCC7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A8DC2-DB5C-488B-A36C-E5CC90BFB011}" type="datetime1">
              <a:rPr lang="en-US"/>
              <a:t>07/29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Que se requiere para incentivar la innov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mo las decisiones se afectan por la percepción de riegos y de los propios  merc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siderar las capacidades tecnológicas</a:t>
            </a: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existent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Minion-Regular"/>
              </a:rPr>
              <a:t>Limites y capacidades de camb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A99-013F-4CA5-A770-299048DDAB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F5D22-808E-4D13-89D0-DBE3FD557D8F}" type="datetime1">
              <a:rPr lang="en-US"/>
              <a:t>07/29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9966"/>
                </a:solidFill>
                <a:latin typeface="Times New Roman"/>
              </a:rPr>
              <a:t>El Caso de Dinamar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La relación entre el gobierno y la industria está marcada por dos fuerzas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Los principios de cooperación e igualdad inherentes a la sociedad dan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l gran nivel de preocupación ambiental en los países industrializados desde la década de los 60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95F-235A-497A-986F-8ABD4EB645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38FCC-2873-4787-A9F6-18B1FEBD8DC3}" type="datetime1">
              <a:rPr lang="en-US"/>
              <a:t>07/29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a agencia ambiental regulatoria danesa ha identificado 5 áreas principales de activida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robación de operaciones bajo el sistema BATNEE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poyo de programas para la introducción de tecnologías más limpi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cuerdos con la indust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centivos económic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Otorgamiento de infraestruc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CFF-1C9A-4F39-B12F-EDC93F5154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6A0FB-DCB6-47A3-8519-EA7906F5364F}" type="datetime1">
              <a:rPr lang="en-US"/>
              <a:t>07/29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Dinamarca  política ambiental actual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75840" y="1952640"/>
            <a:ext cx="858852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Principal preocupación del regulador danés: posibilidad de la industria de adaptarse a la regulación sin comprometer los objetivos ambientales original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l enfoque hacia la regulación ambiental es la autoregulación y relativamente libre de presiones política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Un nuevo problema ambiental genera un proceso de negociación entre Gobierno y sector privado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Times New Roman"/>
              </a:rPr>
              <a:t>Es un enfoque práctico del problema que tiende a la búsqueda de solucione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3366"/>
                </a:solidFill>
                <a:latin typeface="Times New Roman"/>
              </a:rPr>
              <a:t>Aspecto central, disminución de asimetrías de informació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C51-A895-4FB9-8FCF-33A4D0430ED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C920C-3E40-4DA7-8143-0B4C2E63BE2B}" type="datetime1">
              <a:rPr lang="en-US"/>
              <a:t>07/29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8T19:58:11Z</dcterms:modified>
  <cp:revision>3</cp:revision>
  <dc:subject/>
  <dc:title>Presentación de PowerPoint</dc:title>
</cp:coreProperties>
</file>