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A367-9DF5-4880-BF78-0714B434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B207-10C4-40B8-A512-3FC9DE65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F900-8F41-49B8-BAE2-D2F282AC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1C1D-5093-4B34-A332-A65B8FA55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1B5E-F212-4378-98CA-E8D9AB9A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FB2E-AE13-476E-A6BE-AFFE2E67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4E8D-6751-425F-B83D-A8107784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A9B8-024F-4A44-A47E-4F5B0992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299F-D589-4ABC-81E1-2156C536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BD64-F789-426C-81DE-BFE5CF88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1DC6-4002-4755-8A71-AAAF2114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4ACF-FAD8-478C-AC67-A64672DF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16F0-54FE-4847-9AF6-B35A25F3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DFA9-EFE6-412B-A850-97345318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6386-9F37-42A7-B4A0-322C2B72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91E2-F39C-4760-8B85-5605E885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2AAA-6DFC-4B88-B731-C5748E680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7C83-4C4B-4D6B-A120-EC14757C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9688-88F8-461A-9B72-C75BB16E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9257-A509-4AF5-9209-F7B03736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C516-7819-4506-A4DA-F1607224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968E-E111-4AC4-8077-F434548E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68E4-D1AE-41CD-A03C-23A965F4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688B-54B4-4F2C-AB5C-61F5E190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3B4F-C6C4-404E-A6D6-455C81E41952}" type="datetime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A536-6175-41AE-B933-29501B833BCF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9B4B-A242-48FA-B096-D4D93D56A194}" type="datetime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3CB2-6257-42EE-8D87-A929E4537E39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33360" y="83808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Políticas ambientales y el proceso de innovación</a:t>
            </a: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278C-31BD-47BE-9FFE-B8CDC940466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21BDC64-1B16-456B-89F9-6295855DB4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¿Qué condiciones deben considerar los generadores de política en la materia?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Importancia de la estabilidad de las polític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Oportunidad de las polític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Flexibilidad de los instrumentos de política considerado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Generación de mercados de tecnología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Compresión del proceso de toma de decisiones del sector privad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7629-BA4E-4BAB-89E0-5325AF59394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645B9-07D8-4CE8-B7C9-EA290A1585FD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9966"/>
                </a:solidFill>
                <a:latin typeface="Times New Roman"/>
              </a:rPr>
              <a:t>Que se requiere para incentivar la innovació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19320" y="23623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Como las decisiones se afectan por la percepción de riegos y de los propios  mercad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Considerar las capacidades tecnológicas</a:t>
            </a:r>
            <a:r>
              <a:rPr b="0" lang="es-ES" sz="3600" spc="-1" strike="noStrike">
                <a:solidFill>
                  <a:srgbClr val="003366"/>
                </a:solidFill>
                <a:latin typeface="Minion-Regular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Minion-Regular"/>
              </a:rPr>
              <a:t>existent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Minion-Regular"/>
              </a:rPr>
              <a:t>Limites y capacidades de cambi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1632-944B-45FE-B692-E4D5995C3CD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7EBFB-E774-4301-A156-48C488B726F7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9966"/>
                </a:solidFill>
                <a:latin typeface="Times New Roman"/>
              </a:rPr>
              <a:t>El Caso de Dinamarc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Minion-Regular"/>
              </a:rPr>
              <a:t>• </a:t>
            </a:r>
            <a:r>
              <a:rPr b="0" lang="es-ES" sz="4000" spc="-1" strike="noStrike">
                <a:solidFill>
                  <a:srgbClr val="003366"/>
                </a:solidFill>
                <a:latin typeface="Minion-Regular"/>
              </a:rPr>
              <a:t>La relación entre el gobierno y la industria está marcada por dos fuerzas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Los principios de cooperación e igualdad inherentes a la sociedad danes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El gran nivel de preocupación ambiental en los países industrializados desde la década de los 60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850E-AD46-4E83-AA54-F5613F84B50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FF14F9-EF2D-4B71-9343-06CF76D5C2FD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Dinamarca  política ambiental actual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La agencia ambiental regulatoria danesa ha identificado 5 áreas principales de actividad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Aprobación de operaciones bajo el sistema BATNEEC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Apoyo de programas para la introducción de tecnologías más limpia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Acuerdos con la industri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Incentivos económic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Otorgamiento de infraestructur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Regulación excesiva es asociada a menor productivida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B785-8E47-4777-B74E-D77BBA4A817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A9324D-FF2A-489E-821A-6112D7ABB15B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Dinamarca  política ambiental actual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75840" y="1952640"/>
            <a:ext cx="858852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3366"/>
                </a:solidFill>
                <a:latin typeface="Times New Roman"/>
              </a:rPr>
              <a:t>Principal preocupación del regulador danés: posibilidad de la industria de adaptarse a la regulación sin comprometer los objetivos ambientales originales.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3366"/>
                </a:solidFill>
                <a:latin typeface="Times New Roman"/>
              </a:rPr>
              <a:t>El enfoque hacia la regulación ambiental es la autoregulación y relativamente libre de presiones políticas.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3366"/>
                </a:solidFill>
                <a:latin typeface="Times New Roman"/>
              </a:rPr>
              <a:t>Un nuevo problema ambiental genera un proceso de negociación entre Gobierno y sector privado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3366"/>
                </a:solidFill>
                <a:latin typeface="Times New Roman"/>
              </a:rPr>
              <a:t>Es un enfoque práctico del problema que tiende a la búsqueda de soluciones.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3366"/>
                </a:solidFill>
                <a:latin typeface="Times New Roman"/>
              </a:rPr>
              <a:t>Aspecto central, disminución de asimetrías de información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9AE4-5554-4026-896B-45DF4173A61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733ADE-0335-4D05-944C-F9916F3AD979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pl.jaa</cp:lastModifiedBy>
  <dcterms:modified xsi:type="dcterms:W3CDTF">2004-10-28T19:58:11Z</dcterms:modified>
  <cp:revision>3</cp:revision>
  <dc:subject/>
  <dc:title>Presentación de PowerPoint</dc:title>
</cp:coreProperties>
</file>