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0BCB-D2B9-499D-8778-2067BF996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8B0F-B423-48FF-A899-51A31C306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9AC8-24FA-484C-A774-C210F1E08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DB30-93A8-4561-91E1-184052BF3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034BB-BE6B-49A3-A04C-C9061DB41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A17C4-7925-4BB9-883B-9EEB5062E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97163-F889-48D0-8586-A3E1D9CF6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390C1-7B65-45FA-8577-C8FDDAC3B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93A5C-F731-441B-8209-044DEF776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4DD22-FEE8-402E-A494-8F83F411D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F277F-560F-4F16-96C0-C7890421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02A8-EF3D-4B8A-8671-2F5B2B318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AD3A9-831D-4BE1-A6BF-0E446D86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EADD1-941B-400F-B98E-6640FC5D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F49A1-7589-4F39-9BCB-ED6E8A168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16246-0F81-43BA-93F1-460BE911F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1886D-37AA-4B18-939D-8C18642FD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8C81-BB1C-480B-AD09-43F5E8E1B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03BF-7CA6-442B-AB31-A43EA60C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989D-0D4B-48F8-B2DF-598ECBD3F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C06F-E77A-49FE-B549-D09CA6CD7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5A6B-0E5E-4D9C-87C1-57A4B59E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D41D-33B9-4D8E-B774-9EB7B1A9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4938-71F7-4A13-A630-BE855A82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38B93-89AB-4161-9148-3A5709556F53}" type="datetime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67112-13E8-4BC1-94AA-EF00B4E45E55}" type="slidenum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D6BD5-A911-48C2-B090-DE0043EF6936}" type="datetime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7B957-4153-4296-8668-0FAC867E1564}" type="slidenum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133360" y="83808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Políticas ambientales y el proceso de innovación</a:t>
            </a:r>
            <a:r>
              <a:rPr b="0" lang="es-ES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0B065-7DE8-4840-8F02-697C0972230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53A5BD8-F1DB-44BA-9636-A7C323F36DB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5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3366"/>
                </a:solidFill>
                <a:latin typeface="Times New Roman"/>
              </a:rPr>
              <a:t>¿Qué condiciones deben considerar los generadores de política en la materia?</a:t>
            </a: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Importancia de la estabilidad de las polític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Oportunidad de las polític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Flexibilidad de los instrumentos de política considerados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Times New Roman"/>
              </a:rPr>
              <a:t>Generación de mercados de tecnologías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Times New Roman"/>
              </a:rPr>
              <a:t>Compresión del proceso de toma de decisiones del sector privad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6023-E596-48BE-830F-2E2367DC13D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0A09B5-083E-4D08-BD3E-68E4D7357D1A}" type="datetime1">
              <a:rPr lang="en-US"/>
              <a:t>07/31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9966"/>
                </a:solidFill>
                <a:latin typeface="Times New Roman"/>
              </a:rPr>
              <a:t>Que se requiere para incentivar la innovación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19320" y="23623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Minion-Regular"/>
              </a:rPr>
              <a:t>Como las decisiones se afectan por la percepción de riegos y de los propios  mercad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Minion-Regular"/>
              </a:rPr>
              <a:t>Considerar las capacidades tecnológicas</a:t>
            </a:r>
            <a:r>
              <a:rPr b="0" lang="es-ES" sz="3600" spc="-1" strike="noStrike">
                <a:solidFill>
                  <a:srgbClr val="003366"/>
                </a:solidFill>
                <a:latin typeface="Minion-Regular"/>
              </a:rPr>
              <a:t> </a:t>
            </a:r>
            <a:r>
              <a:rPr b="0" lang="es-ES" sz="2800" spc="-1" strike="noStrike">
                <a:solidFill>
                  <a:srgbClr val="003366"/>
                </a:solidFill>
                <a:latin typeface="Minion-Regular"/>
              </a:rPr>
              <a:t>existent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Minion-Regular"/>
              </a:rPr>
              <a:t>Limites y capacidades de cambi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8719-0DEB-4F50-BDC6-A5222ABD9CE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1E0745-3BDC-4A45-8FF7-B81D443B4547}" type="datetime1">
              <a:rPr lang="en-US"/>
              <a:t>07/31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9966"/>
                </a:solidFill>
                <a:latin typeface="Times New Roman"/>
              </a:rPr>
              <a:t>El Caso de Dinamarca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3366"/>
                </a:solidFill>
                <a:latin typeface="Minion-Regular"/>
              </a:rPr>
              <a:t>• </a:t>
            </a:r>
            <a:r>
              <a:rPr b="0" lang="es-ES" sz="4000" spc="-1" strike="noStrike">
                <a:solidFill>
                  <a:srgbClr val="003366"/>
                </a:solidFill>
                <a:latin typeface="Minion-Regular"/>
              </a:rPr>
              <a:t>La relación entre el gobierno y la industria está marcada por dos fuerzas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Minion-Regular"/>
              </a:rPr>
              <a:t>Los principios de cooperación e igualdad inherentes a la sociedad danes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Minion-Regular"/>
              </a:rPr>
              <a:t>El gran nivel de preocupación ambiental en los países industrializados desde la década de los 60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A7C1-8B57-4A64-B6E8-5A7E1D7AE66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8256C8-A8B5-415C-B8AB-D01EF04CF2C0}" type="datetime1">
              <a:rPr lang="en-US"/>
              <a:t>07/31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5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3366"/>
                </a:solidFill>
                <a:latin typeface="Times New Roman"/>
              </a:rPr>
              <a:t>Dinamarca  política ambiental actual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La agencia ambiental regulatoria danesa ha identificado 5 áreas principales de actividad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Aprobación de operaciones bajo el sistema BATNEEC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Apoyo de programas para la introducción de tecnologías más limpia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Acuerdos con la industri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Incentivos económico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Otorgamiento de infraestructur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Regulación excesiva es asociada a menor productivida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D1EA-8A0C-4A3C-8C33-53764CF2E83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678B3E-A3E8-43AD-8A44-878D6A8E6FAB}" type="datetime1">
              <a:rPr lang="en-US"/>
              <a:t>07/31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5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3366"/>
                </a:solidFill>
                <a:latin typeface="Times New Roman"/>
              </a:rPr>
              <a:t>Dinamarca  política ambiental actual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75840" y="1952640"/>
            <a:ext cx="858852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3366"/>
                </a:solidFill>
                <a:latin typeface="Times New Roman"/>
              </a:rPr>
              <a:t>Principal preocupación del regulador danés: posibilidad de la industria de adaptarse a la regulación sin comprometer los objetivos ambientales originales.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3366"/>
                </a:solidFill>
                <a:latin typeface="Times New Roman"/>
              </a:rPr>
              <a:t>El enfoque hacia la regulación ambiental es la autoregulación y relativamente libre de presiones políticas.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3366"/>
                </a:solidFill>
                <a:latin typeface="Times New Roman"/>
              </a:rPr>
              <a:t>Un nuevo problema ambiental genera un proceso de negociación entre Gobierno y sector privado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3366"/>
                </a:solidFill>
                <a:latin typeface="Times New Roman"/>
              </a:rPr>
              <a:t>Es un enfoque práctico del problema que tiende a la búsqueda de soluciones.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3366"/>
                </a:solidFill>
                <a:latin typeface="Times New Roman"/>
              </a:rPr>
              <a:t>Aspecto central, disminución de asimetrías de información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B91D-8222-43F0-8B3B-411FBB039E1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AF7E23-C111-4CB9-809F-42A901734004}" type="datetime1">
              <a:rPr lang="en-US"/>
              <a:t>07/31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pl.jaa</cp:lastModifiedBy>
  <dcterms:modified xsi:type="dcterms:W3CDTF">2004-10-28T19:58:11Z</dcterms:modified>
  <cp:revision>3</cp:revision>
  <dc:subject/>
  <dc:title>Presentación de PowerPoint</dc:title>
</cp:coreProperties>
</file>