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DE2-E11C-4603-99AF-DC31F533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CD3-C58A-4BA2-9EF6-133FB17E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467-A60A-489A-AC59-9E04748F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6BD-1DA3-4331-AC91-D5F4C6A2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5E1-BB27-40AF-8B97-53A14A6B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2EA-2AA6-43BB-B899-429E67F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F92-FC13-472B-9E07-7244ACC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AB5-C76B-45BB-AD11-CA10C4D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41E9-1235-4144-9D52-AF9F6286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FE88-A3AD-49A2-9BF0-865DB7E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9F45-F4DF-4F8A-B241-3CE6276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4BE-87FB-4509-BA17-7A9C2CF3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9D6A-9919-42AC-96C2-5179A2E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94F2-2955-443E-8B28-5AC334E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4D1-5B28-4822-8610-1AD11FD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545-AA07-4E79-B9F0-8D75542E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0970-6594-4694-B5F5-BBF3C51D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B59-00B3-45C5-AB77-DB2061C3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5B8-9EE1-45F5-A59B-45D8A37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11F-6A0F-49BB-966B-B731F5B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39E-0ABF-4379-AD48-2DFC05F7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2A6-1C76-44C2-9CB6-451C164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8F3-4712-417A-968F-34DAB6B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6E5-5560-4CA1-98AC-C02BF2B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407-07BC-451B-8F6C-7AD413DE657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679-47CD-438B-AA1D-AC70316B27C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EA6F-9EB1-4F84-8125-5DD65623A7C0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B651-8350-4FF0-BA28-837FE3EB9C2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olíticas ambientales y el proceso de innovación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4A2-16B6-4CE5-8B86-5F741189B5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E464AC-116B-404B-B16A-B7A343DDE6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condiciones deben considerar los generadores de política en la materia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mportancia de la estabil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portun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exibilidad de los instrumentos de política consider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Generación de mercados de tecnologí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ompresión del proceso de toma de decisiones del sector priv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374-1F58-48C7-B846-29E30AEF6E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35066-0E32-4F92-A8DD-CEFCABA84690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Que se requiere para incentivar la innov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mo las decisiones se afectan por la percepción de riegos y de los propios  merc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siderar las capacidades tecnológicas</a:t>
            </a: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Limites y capacidades de camb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3E2-4BFD-46F3-94D2-A466EA7A08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77DAC-0DF5-4D83-96E2-8CCB3161E4F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9966"/>
                </a:solidFill>
                <a:latin typeface="Times New Roman"/>
              </a:rPr>
              <a:t>El Caso de Dinamar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La relación entre el gobierno y la industria está marcada por dos fuerzas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Los principios de cooperación e igualdad inherentes a la sociedad dan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l gran nivel de preocupación ambiental en los países industrializados desde la década de los 60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1EE-9F6D-4254-9E69-580E8183D7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84F09-C4BA-490F-90EB-37C6D3E9381F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 agencia ambiental regulatoria danesa ha identificado 5 áreas principales de activida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robación de operaciones bajo el sistema BATNEE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de programas para la introducción de tecnologías más limpi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cuerdos con la indust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económ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Otorgamiento de infraestruc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025-73C7-49FF-9C34-92744E7F97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2A788-5DCD-4062-A53B-535164D2DBE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5840" y="1952640"/>
            <a:ext cx="8588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Principal preocupación del regulador danés: posibilidad de la industria de adaptarse a la regulación sin comprometer los objetivos ambientales original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l enfoque hacia la regulación ambiental es la autoregulación y relativamente libre de presiones política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Un nuevo problema ambiental genera un proceso de negociación entre Gobierno y sector privado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s un enfoque práctico del problema que tiende a la búsqueda de solucion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Times New Roman"/>
              </a:rPr>
              <a:t>Aspecto central, disminución de asimetrías de informació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41B-9E2A-4D02-9B3D-BDED8FB3E1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431C6-C9CA-4E50-B548-0695E7D0A11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8T19:58:11Z</dcterms:modified>
  <cp:revision>3</cp:revision>
  <dc:subject/>
  <dc:title>Presentación de PowerPoint</dc:title>
</cp:coreProperties>
</file>