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EC1A-6CAB-4739-B466-05C7BD50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D27-C90F-4A11-B94E-24595F8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C8A-3921-4FB5-9C51-FCEA2ED5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146-8052-4D86-A39D-798D1A73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B0FE-3DDD-4857-870C-CDE2E2E6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839F-867E-428C-830E-F1FB821E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952F-CEE6-423F-8A5E-2B758ECF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F74-6057-4C55-9039-E322268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34B-76F8-49A2-AE70-FE067476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119F-BA2C-4C95-AA8E-193D3E78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E743-7A8E-4F12-9816-D3F97FD9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2056-E295-4620-93EA-2EB427C1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137D-32D1-43BF-948C-19787D78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1153-DA57-4EF2-96BB-3620944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06C4-23AD-4463-8F4D-DEEE11E3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D17C-954C-4024-A447-D8D8060F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FBB4-0A5D-4478-A35E-F9C6E72C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11F-8D5A-4925-B647-7D227D834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B056-9BA0-495E-86FA-7A6D71B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1F4-E82D-4490-A8C9-96615A2F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88F-18FD-43E6-9340-A9C8B475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7AF-1FFB-42A2-B0DE-244D0444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52F7-8742-4AEF-A389-0F0E0340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0E0-AF09-497A-8DDC-6AB4BFD8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6373-D3CF-485A-9177-0AB65A0BE8B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4191-EDC0-401B-8EC7-5A05D920F023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F33F-987E-4F37-B2DC-58596D62EBE4}" type="datetime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0C06-82AA-4B97-B95E-7FF1058304FD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33360" y="83808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93A8-E5EA-4BDA-84E7-8B4445B7B7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9F0538D-4F7E-4316-964D-027808E89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8551-E5BE-4DAF-B79E-F474E241FF1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322CA-426A-4047-895F-5593C5012D9A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¿Qué pasa en la vida real con la regulación de las actividades económicas?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tudio realizado por el Banco Mundial denominado “Doing Buseness 2004, Understanding regulation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spectos analizado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icio - registro de nueva a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igidez / flexibilidad de leyes labor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umplimiento forzado de contrat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ceso al crédi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ierre de un negoci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B9D-0F06-45BE-94CC-4906B44E1F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D9443-55EE-4AC7-BB49-1C8045183F89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47920" y="2286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Principios para una mejor regulación de la actividad económic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193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Se aplican dos principio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l mercado o las decisiones judiciales no son suficientes para inducir una conducta apropiad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Minion-Regular"/>
              </a:rPr>
              <a:t>Regular sólo cuando exista capacidad efectiva de fiscalizar el cumplimiento de la regul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F60-B12A-40F9-BB9E-37D29905BE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2CF754-1CF0-493A-BECC-CB3B43F974DB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9966"/>
                </a:solidFill>
                <a:latin typeface="Times New Roman"/>
              </a:rPr>
              <a:t>Elementos comunes en el enfoque regulatorio de países con buen comportamient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Simplificación y desregulación  de los mercados competi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Concentración en la protección de los derechos de propiedad intelectu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Expansión del uso de la tecn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 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Reducción de la ingerencia de los tribunales en los temas de negocios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•</a:t>
            </a:r>
            <a:r>
              <a:rPr b="0" lang="es-ES" sz="3200" spc="-1" strike="noStrike">
                <a:solidFill>
                  <a:srgbClr val="003366"/>
                </a:solidFill>
                <a:latin typeface="Minion-Regular"/>
              </a:rPr>
              <a:t>Proceso continuo de reformas y mejoramiento de la regul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1CA3-FC9A-4C5D-8FD2-571241396D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3C4A81-AE69-44E6-9756-6008DA9F13AD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Algunas conclusiones del estudio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menor productiv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Regulación excesiva es asociada a corrupción e informalida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Los países más pobres tienden a regular más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yor nivel de regulación se asocia a mayores costos y demor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Tribunales y Notarías con cuellos de botellas para el inicio de nuevos negocios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C4C-66DE-4F41-921E-B14A157C338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5E3EA-82A5-49B3-8D4D-950E5E7A5156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815328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BE6-F552-4C49-9E84-51070AFE90E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E5216-A11A-40CE-8888-C7CBF32A9475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127160" y="1249200"/>
            <a:ext cx="740556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F879-92EF-4ADF-B7DF-D5CBEAF2DBC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D12B50-8358-4A0C-8027-CBE27A6797B6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9966"/>
                </a:solidFill>
                <a:latin typeface="Times New Roman"/>
              </a:rPr>
              <a:t>Tendencias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85800" y="1136520"/>
            <a:ext cx="7924680" cy="511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3FF-1705-4CBF-A131-30F1C7BCD06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6BD51-F5C0-4B8C-82F6-C0707EC62898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Principales regulaciones aplicables en  Chile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rt. 21 Constitución Política, libertad de empresa y límites a esa liberta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Código de Comerc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193-343D-4CF6-AED4-B43E47DCCF2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F694C-0FFE-4FBE-BF80-B93C3A6EC591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l.jaa</cp:lastModifiedBy>
  <dcterms:modified xsi:type="dcterms:W3CDTF">2004-10-26T20:05:31Z</dcterms:modified>
  <cp:revision>2</cp:revision>
  <dc:subject/>
  <dc:title>Presentación de PowerPoint</dc:title>
</cp:coreProperties>
</file>