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5FC-9825-4552-AE26-EBA2DE3E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D63-A24A-4E36-AB0B-0A221035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854-277D-46D8-AEEF-7043B1D4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E93-3057-4C45-8DF1-C4DB607A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15D5-13DA-475F-9F25-607BBED1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56F8-CAE8-4FB7-9414-069DF966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6931-3C27-4792-A377-88D6F4E3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C654-B61A-4B6E-BB74-C91499B2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D043-EFB4-449F-824A-91DEAE43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3834-AE20-4B54-8C26-B8D208F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470F-561F-4C9A-8EA3-2898612C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9FC-B6A6-4903-BE03-280E5081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2FAA-F837-4608-8696-48887786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2131-2C1A-4111-9467-0F632E15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C853-C69C-40C1-BAD0-62D1F7C7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B9DB-7D82-43B2-81E0-409BF790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1070-95A1-4C52-9BA3-A3508C0B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1C6-116F-4AEA-865C-3FCDE3F3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80C-B20D-41B7-AD6D-0C7AD41C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719-C798-4365-892C-D85B96B4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615-25A8-414B-A02D-3608F1BA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F20-B5E1-4ADB-BDCA-D92A3033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737-48B8-40FE-91CC-7F0E567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C6E-AC65-4C32-A5D1-F92F6F3B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852B-6374-4DB6-94DF-7D8CCA3DF5FF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40B5-C2A0-4BC5-9E77-7E70CC04AA40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9E9F-9CF6-4136-B244-FF1FBA1CA754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9EA-4C47-4089-B57E-B2CBE8865FF9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¿Qué pasa en la vida real con la regulación de las actividades económicas?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F8DD-1210-4F6B-848B-0D4345825E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E3ADA07-B9A5-4947-B8F2-E20467B25B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1532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E10-EB74-448A-9C7D-1BA9FDDC272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F249B-F187-40D8-900D-A36D080A0B04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¿Qué pasa en la vida real con la regulación de las actividades económicas?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tudio realizado por el Banco Mundial denominado “Doing Buseness 2004, Understanding regulation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spectos analizado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icio - registro de nueva ac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igidez / flexibilidad de leyes labo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umplimiento forzado de contrat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cceso al crédi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ierre de un negoc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961-E451-4086-852F-5240C14194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E1A2B-F2FB-482C-B987-B2DCDDD9C483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Principios para una mejor regulación de la actividad económic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Se aplican dos principio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Regular sólo cuando el mercado o las decisiones judiciales no son suficientes para inducir una conducta apropia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Regular sólo cuando exista capacidad efectiva de fiscalizar el cumplimiento de la regul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38D-D2D0-464C-9501-452B4731B5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0828B-556D-4DEB-B36C-FC1D18A40BEA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Elementos comunes en el enfoque regulatorio de países con buen comport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Simplificación y desregulación  de los mercados competi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ncentración en la protección de los derechos de propiedad intelectu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Expansión del uso de la tecnolo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Reducción de la ingerencia de los tribunales en los temas de negocio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Proceso continuo de reformas y mejoramiento de la regul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96E-BA1F-400E-B787-3DC613FBAD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BE497-9CA1-48F4-A2EB-E238B1766663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Algunas conclusiones del estud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gulación excesiva es asociada a menor produc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gulación excesiva es asociada a corrupción e informal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os países más pobres tienden a regular má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yor nivel de regulación se asocia a mayores costos y dem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ribunales y Notarías con cuellos de botellas para el inicio de nuevos negocio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85D-28BD-4881-A545-B7E6F78B2A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A8684-2A3A-4CE7-AF30-A12C55AE905E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1532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0FD-5AFA-4945-90D2-408634B1017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80B83-1B65-4134-9D69-54580C89F0E0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127160" y="1249200"/>
            <a:ext cx="7405560" cy="477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F19-76B4-416A-9D8C-CB05BF9C85C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98E7A-C513-4410-8032-8FAB16FF657C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85800" y="1136520"/>
            <a:ext cx="7924680" cy="51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D2A-6D1D-43BC-A4FB-A9C9E1AE8A8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5980E-14F7-4830-A2C9-EE7638F75E09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Principales regulaciones aplicables en  Chil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rt. 21 Constitución Política, libertad de empresa y límites a esa liberta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ódigo de Comerc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6CE-D45D-4C72-9E58-471D6263F7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4CF0D-E224-47FB-8900-AEFBBD777290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l.jaa</cp:lastModifiedBy>
  <dcterms:modified xsi:type="dcterms:W3CDTF">2004-10-26T20:05:31Z</dcterms:modified>
  <cp:revision>2</cp:revision>
  <dc:subject/>
  <dc:title>Presentación de PowerPoint</dc:title>
</cp:coreProperties>
</file>