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E1E0-2287-40FA-817D-771A7283B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18DE-5F57-4D3F-B0AB-C3ECF781A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81FA-3548-4B39-ADB7-86E3EDCAE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E1C5-2C54-4300-9331-29907E209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B2181-7DCA-47BB-9D1A-556FDD91C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9E808-58EE-458C-AA59-B0D212255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A0AB0-1D56-42DB-92D8-17C9B0962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9F0B9-7010-4722-A491-0D7E32D15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F7CCC-AE98-470C-AB1F-D80F5C09B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BDC71-A957-433E-A9AC-7C0ABEE38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B27A1-35C9-4189-AC04-91FFD1D53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F4F2-0F3A-41AE-AC4E-54B76A3C6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7395F-C175-43FC-95D5-B69AFAA89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A7DC3-A6FC-4B85-9F84-90D2B4C7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79E2E-C59B-472D-B550-A4B166643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9ED50-7F6A-4904-BF39-3DC846A2E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4003B-C79F-48E5-A677-5BDFFB9D8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DD4E-37B0-4AAE-83D5-2CF6A6F0F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F6CF-C019-4889-985B-9ACD9EFEC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65E8-5580-4F22-A5C7-EA89C49D5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D0CD-9040-43FE-ABC9-E060F72D2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E149-6D13-4B75-B624-F6BF187F6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1475-294F-414A-91C7-BA1A8519D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FED7-5EE6-4622-87AF-44B1A4EC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A2191-9A12-40F3-A495-606D0C7D7C59}" type="datetime"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29B0F-28BD-4AB2-8C40-314DBCA37660}" type="slidenum"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64EB7-9645-4019-9C4F-DCB9FF568C25}" type="datetime"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29441-937C-4786-9471-C1A5F1A2E024}" type="slidenum"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133360" y="83808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¿Qué pasa en la vida real con la regulación de las actividades económicas?</a:t>
            </a:r>
            <a:r>
              <a:rPr b="0" lang="es-ES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66B5D-F303-4F70-A1D6-0F09CF6264B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B2EF0AFE-35C4-4F09-A50B-E950C519987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47560" y="3045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9966"/>
                </a:solidFill>
                <a:latin typeface="Times New Roman"/>
              </a:rPr>
              <a:t>Tendencias</a:t>
            </a: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8153280" cy="4876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8CF7-1D83-47A4-A592-F44F1A7E3CDA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B81C2C-9AF0-4E99-8F4B-FCD48D5E5BAE}" type="datetime1">
              <a:rPr lang="en-US"/>
              <a:t>07/30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5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3366"/>
                </a:solidFill>
                <a:latin typeface="Times New Roman"/>
              </a:rPr>
              <a:t>¿Qué pasa en la vida real con la regulación de las actividades económicas?</a:t>
            </a: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Estudio realizado por el Banco Mundial denominado “Doing Buseness 2004, Understanding regulation”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Aspectos analizados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Inicio - registro de nueva activida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Rigidez / flexibilidad de leyes laboral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Cumplimiento forzado de contrat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Acceso al crédit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Cierre de un negoci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3AE2-BB47-4D5F-A4FA-6257690BA18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60798F-2B7C-48C9-A241-14655447B78F}" type="datetime1">
              <a:rPr lang="en-US"/>
              <a:t>07/30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9966"/>
                </a:solidFill>
                <a:latin typeface="Times New Roman"/>
              </a:rPr>
              <a:t>Principios para una mejor regulación de la actividad económica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19320" y="236232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3366"/>
                </a:solidFill>
                <a:latin typeface="Minion-Regular"/>
              </a:rPr>
              <a:t>Se aplican dos principios: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3366"/>
                </a:solidFill>
                <a:latin typeface="Minion-Regular"/>
              </a:rPr>
              <a:t>Regular sólo cuando el mercado o las decisiones judiciales no son suficientes para inducir una conducta apropiada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3366"/>
                </a:solidFill>
                <a:latin typeface="Minion-Regular"/>
              </a:rPr>
              <a:t>Regular sólo cuando exista capacidad efectiva de fiscalizar el cumplimiento de la regulación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03D6-BEA4-4939-9478-7AFD3485DB4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393842-8948-44FE-849A-13FAF8CB0DE0}" type="datetime1">
              <a:rPr lang="en-US"/>
              <a:t>07/30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9966"/>
                </a:solidFill>
                <a:latin typeface="Times New Roman"/>
              </a:rPr>
              <a:t>Elementos comunes en el enfoque regulatorio de países con buen comportamiento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3366"/>
                </a:solidFill>
                <a:latin typeface="Minion-Regular"/>
              </a:rPr>
              <a:t>• </a:t>
            </a:r>
            <a:r>
              <a:rPr b="0" lang="es-ES" sz="3200" spc="-1" strike="noStrike">
                <a:solidFill>
                  <a:srgbClr val="003366"/>
                </a:solidFill>
                <a:latin typeface="Minion-Regular"/>
              </a:rPr>
              <a:t>Simplificación y desregulación  de los mercados competitivo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Minion-Regular"/>
              </a:rPr>
              <a:t>• </a:t>
            </a:r>
            <a:r>
              <a:rPr b="0" lang="es-ES" sz="3200" spc="-1" strike="noStrike">
                <a:solidFill>
                  <a:srgbClr val="003366"/>
                </a:solidFill>
                <a:latin typeface="Minion-Regular"/>
              </a:rPr>
              <a:t>Concentración en la protección de los derechos de propiedad intelectua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Minion-Regular"/>
              </a:rPr>
              <a:t>• </a:t>
            </a:r>
            <a:r>
              <a:rPr b="0" lang="es-ES" sz="3200" spc="-1" strike="noStrike">
                <a:solidFill>
                  <a:srgbClr val="003366"/>
                </a:solidFill>
                <a:latin typeface="Minion-Regular"/>
              </a:rPr>
              <a:t>Expansión del uso de la tecnologí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Minion-Regular"/>
              </a:rPr>
              <a:t>• </a:t>
            </a:r>
            <a:r>
              <a:rPr b="0" lang="es-ES" sz="3200" spc="-1" strike="noStrike">
                <a:solidFill>
                  <a:srgbClr val="003366"/>
                </a:solidFill>
                <a:latin typeface="Minion-Regular"/>
              </a:rPr>
              <a:t>Reducción de la ingerencia de los tribunales en los temas de negocios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Minion-Regular"/>
              </a:rPr>
              <a:t>•</a:t>
            </a:r>
            <a:r>
              <a:rPr b="0" lang="es-ES" sz="3200" spc="-1" strike="noStrike">
                <a:solidFill>
                  <a:srgbClr val="003366"/>
                </a:solidFill>
                <a:latin typeface="Minion-Regular"/>
              </a:rPr>
              <a:t>Proceso continuo de reformas y mejoramiento de la regulació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2FCD-0B34-495E-979E-8E0F2136851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1ABF89-FFC7-4B42-896B-62677C120545}" type="datetime1">
              <a:rPr lang="en-US"/>
              <a:t>07/30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5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3366"/>
                </a:solidFill>
                <a:latin typeface="Times New Roman"/>
              </a:rPr>
              <a:t>Algunas conclusiones del estudio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Regulación excesiva es asociada a menor productivida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Regulación excesiva es asociada a corrupción e informalida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Los países más pobres tienden a regular más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Mayor nivel de regulación se asocia a mayores costos y demora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Tribunales y Notarías con cuellos de botellas para el inicio de nuevos negocios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4F2C-46B0-4BD9-A7E5-6A6B550B4F5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E3298C-AB1B-4581-87CB-B52C7F32C5C6}" type="datetime1">
              <a:rPr lang="en-US"/>
              <a:t>07/30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47560" y="3045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9966"/>
                </a:solidFill>
                <a:latin typeface="Times New Roman"/>
              </a:rPr>
              <a:t>Tendencias</a:t>
            </a: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8153280" cy="4876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4D8A-AB1D-4C53-AB7F-104DEF2E9823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11D14D-6A01-476B-A7BB-F83D3C1E0DDB}" type="datetime1">
              <a:rPr lang="en-US"/>
              <a:t>07/30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828440" y="3805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9966"/>
                </a:solidFill>
                <a:latin typeface="Times New Roman"/>
              </a:rPr>
              <a:t>Tendencias</a:t>
            </a: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1127160" y="1249200"/>
            <a:ext cx="7405560" cy="477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F47C-BF61-4922-A914-064D7BE635B0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FB530F-0C20-4DEF-BEDF-3AAE45464515}" type="datetime1">
              <a:rPr lang="en-US"/>
              <a:t>07/30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9966"/>
                </a:solidFill>
                <a:latin typeface="Times New Roman"/>
              </a:rPr>
              <a:t>Tendencias</a:t>
            </a: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685800" y="1136520"/>
            <a:ext cx="7924680" cy="511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818F-2A74-469E-9C7B-4BA252590253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99E487-7FE4-4392-8CCF-80BF060BE184}" type="datetime1">
              <a:rPr lang="en-US"/>
              <a:t>07/30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5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3366"/>
                </a:solidFill>
                <a:latin typeface="Times New Roman"/>
              </a:rPr>
              <a:t>Principales regulaciones aplicables en  Chile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Art. 21 Constitución Política, libertad de empresa y límites a esa libertad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Código de Comerci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2776-C721-4605-B263-1B7C9E35508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23FEFA-FFD6-455D-B421-41CDB4366343}" type="datetime1">
              <a:rPr lang="en-US"/>
              <a:t>07/30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pl.jaa</cp:lastModifiedBy>
  <dcterms:modified xsi:type="dcterms:W3CDTF">2004-10-26T20:05:31Z</dcterms:modified>
  <cp:revision>2</cp:revision>
  <dc:subject/>
  <dc:title>Presentación de PowerPoint</dc:title>
</cp:coreProperties>
</file>