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31A4-DEC8-4B92-B9C0-F059E183C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AB89-74C0-4A65-BD4A-A0D4E89F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984F-B64D-4362-A12B-6EC101E88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E42F-8BA0-4F05-875D-77B242843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1A05-8E3B-464B-92F7-92B1A6349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E27F-189B-4B9D-9464-878BF0EB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928E-673C-4D60-B700-FEA371CD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E3738-B26B-47B1-8BFE-B322864D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74412-7536-4C51-B3B2-D1BEAF52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ABDBA-81B5-4A94-92EF-4F88ACFF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7A21-423E-4846-A4E4-744634D0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F00E-D67A-4722-B7E6-5266C64B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4E4B-2664-40EE-BF61-E0FF5E03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6BA7-6BA3-4997-A5D3-7F431F20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5BDF-1774-47DE-9E83-51C96C70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FD8E-7071-4D79-AEC1-BE82E6FD1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A12F-8EA7-469E-A352-D9D2EAFFB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BD20-A41A-459F-ACA7-D934D476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95FB-C12D-4838-B0EB-7AA40A16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E472-3591-4F54-B2D7-D6D2DC7A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21D8-F81A-490E-82CE-6A3E224D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49A9-274A-45B4-99E8-82C791FD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BA81-4233-437E-9029-D7E0C6A8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D59B-7974-4A12-A243-233A9EBD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55A2-7053-42E0-8957-8AAEB047B064}" type="datetime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8CF7-88CD-4298-8BA8-3012E78F63CA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A812-3BE9-4CC6-8222-205476929FD9}" type="datetime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4368-433E-4FB2-8E0C-7512BA63D391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33360" y="83808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¿Qué pasa en la vida real con la regulación de las actividades económicas?</a:t>
            </a:r>
            <a:r>
              <a:rPr b="0" lang="es-E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DA9E-7CAE-40E5-836C-7B29E30059C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83C503C-559C-4532-8E2E-D8BEAAEF04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9966"/>
                </a:solidFill>
                <a:latin typeface="Times New Roman"/>
              </a:rPr>
              <a:t>Tendencias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8153280" cy="487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3508-5BA4-4928-A4B2-BC3E2F19D28C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D75EDA-BE55-4B39-A49F-555C1F06EAE2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5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¿Qué pasa en la vida real con la regulación de las actividades económicas?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Estudio realizado por el Banco Mundial denominado “Doing Buseness 2004, Understanding regulation”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Aspectos analizado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Inicio - registro de nueva activida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Rigidez / flexibilidad de leyes labora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umplimiento forzado de contrat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Acceso al crédit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ierre de un negoci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F5C3-A0E2-4AB6-95DF-D6700BE71D5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822208-239D-4B34-BA90-809D8BBA68EC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9966"/>
                </a:solidFill>
                <a:latin typeface="Times New Roman"/>
              </a:rPr>
              <a:t>Principios para una mejor regulación de la actividad económica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19320" y="23623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66"/>
                </a:solidFill>
                <a:latin typeface="Minion-Regular"/>
              </a:rPr>
              <a:t>Se aplican dos principios: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66"/>
                </a:solidFill>
                <a:latin typeface="Minion-Regular"/>
              </a:rPr>
              <a:t>Regular sólo cuando el mercado o las decisiones judiciales no son suficientes para inducir una conducta apropiada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66"/>
                </a:solidFill>
                <a:latin typeface="Minion-Regular"/>
              </a:rPr>
              <a:t>Regular sólo cuando exista capacidad efectiva de fiscalizar el cumplimiento de la regulación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5149-0300-45E2-8038-BBEC2973929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1523D9-A93B-46E7-9E01-8C68F69A4F1A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9966"/>
                </a:solidFill>
                <a:latin typeface="Times New Roman"/>
              </a:rPr>
              <a:t>Elementos comunes en el enfoque regulatorio de países con buen comportamient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3366"/>
                </a:solidFill>
                <a:latin typeface="Minion-Regular"/>
              </a:rPr>
              <a:t>• </a:t>
            </a:r>
            <a:r>
              <a:rPr b="0" lang="es-ES" sz="3200" spc="-1" strike="noStrike">
                <a:solidFill>
                  <a:srgbClr val="003366"/>
                </a:solidFill>
                <a:latin typeface="Minion-Regular"/>
              </a:rPr>
              <a:t>Simplificación y desregulación  de los mercados competitiv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Minion-Regular"/>
              </a:rPr>
              <a:t>• </a:t>
            </a:r>
            <a:r>
              <a:rPr b="0" lang="es-ES" sz="3200" spc="-1" strike="noStrike">
                <a:solidFill>
                  <a:srgbClr val="003366"/>
                </a:solidFill>
                <a:latin typeface="Minion-Regular"/>
              </a:rPr>
              <a:t>Concentración en la protección de los derechos de propiedad intelectua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Minion-Regular"/>
              </a:rPr>
              <a:t>• </a:t>
            </a:r>
            <a:r>
              <a:rPr b="0" lang="es-ES" sz="3200" spc="-1" strike="noStrike">
                <a:solidFill>
                  <a:srgbClr val="003366"/>
                </a:solidFill>
                <a:latin typeface="Minion-Regular"/>
              </a:rPr>
              <a:t>Expansión del uso de la tecnologí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Minion-Regular"/>
              </a:rPr>
              <a:t>• </a:t>
            </a:r>
            <a:r>
              <a:rPr b="0" lang="es-ES" sz="3200" spc="-1" strike="noStrike">
                <a:solidFill>
                  <a:srgbClr val="003366"/>
                </a:solidFill>
                <a:latin typeface="Minion-Regular"/>
              </a:rPr>
              <a:t>Reducción de la ingerencia de los tribunales en los temas de negocio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Minion-Regular"/>
              </a:rPr>
              <a:t>•</a:t>
            </a:r>
            <a:r>
              <a:rPr b="0" lang="es-ES" sz="3200" spc="-1" strike="noStrike">
                <a:solidFill>
                  <a:srgbClr val="003366"/>
                </a:solidFill>
                <a:latin typeface="Minion-Regular"/>
              </a:rPr>
              <a:t>Proceso continuo de reformas y mejoramiento de la regula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7F34-70B8-4E09-BAA6-5AFDF13B302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C44B04-E13C-4165-B239-5B8604879C18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5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Algunas conclusiones del estudi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Regulación excesiva es asociada a menor productivida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Regulación excesiva es asociada a corrupción e informalida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Los países más pobres tienden a regular má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Mayor nivel de regulación se asocia a mayores costos y demor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Tribunales y Notarías con cuellos de botellas para el inicio de nuevos negocios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A3D6-932F-4B5E-A306-582563005FC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489688-BBB2-448E-8635-9CD20004232C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9966"/>
                </a:solidFill>
                <a:latin typeface="Times New Roman"/>
              </a:rPr>
              <a:t>Tendencias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8153280" cy="487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9C6F-B90D-4F2F-AC69-6FD7D485FABE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ADD863-7820-4147-8DC8-5F0D387A46ED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828440" y="380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9966"/>
                </a:solidFill>
                <a:latin typeface="Times New Roman"/>
              </a:rPr>
              <a:t>Tendencias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1127160" y="1249200"/>
            <a:ext cx="7405560" cy="477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A20E-5F4B-4A44-A481-858567C82B09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68E99A-FD0B-432F-812C-7A30A500B09A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9966"/>
                </a:solidFill>
                <a:latin typeface="Times New Roman"/>
              </a:rPr>
              <a:t>Tendencias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685800" y="1136520"/>
            <a:ext cx="7924680" cy="511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1BA6-89A5-44AD-8551-F07776C74497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545ECB-9B77-4216-ACAD-A3AF555546EB}" type="datetime1">
              <a:rPr lang="en-US"/>
              <a:t>07/30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5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Principales regulaciones aplicables en  Chile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Art. 21 Constitución Política, libertad de empresa y límites a esa libertad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Código de Comerci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F307-5483-4CD1-8616-7228A27B324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BD9161-8F7F-4BF3-B349-9738B704EA95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pl.jaa</cp:lastModifiedBy>
  <dcterms:modified xsi:type="dcterms:W3CDTF">2004-10-26T20:05:31Z</dcterms:modified>
  <cp:revision>2</cp:revision>
  <dc:subject/>
  <dc:title>Presentación de PowerPoint</dc:title>
</cp:coreProperties>
</file>