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A0FF-E443-44C0-8888-6368F502F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690A-C0C3-4B63-9665-BE71DAEF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F59B-5620-4E7D-BF0C-CAB65DD23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3E01-235C-477F-8D48-654A4F77B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DE32-677D-49AE-9855-86C26DE15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44D9-A47B-4D23-9660-3FD727CC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EF1A-3D75-4BD2-BABA-77E459F6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BD51-02FF-4A9B-A9C9-E99B614E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CC52-A65F-46B0-9DDD-E31B907C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AD2B-EF5A-4BD0-96E2-6C144FA9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6C14-930A-4F1B-AA3D-FF3DF5D3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9AC2-6CF9-45C0-B4CA-EEEDF5F9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7AC1-8B17-4E01-9736-2007AE98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360C-052C-4A88-9A49-7506CBFE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19E1-A64B-4C34-844E-B468B529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4588-E605-4B50-95CD-921E99420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8C45-51AB-4303-BFAE-1F6091DF3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97DC-33C2-4DF8-9C9E-27B3A942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AE72-6E32-49B9-99F2-0752C7B1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2794-E349-472D-8AC7-2A2C53AA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09EF-A052-41EB-99F8-5DE46BF0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AB87-3809-4A59-9031-6E96EAE0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B2E6-11A3-4761-9553-AA33EDBA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A034-8289-4F9B-8015-CECE8120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7A36-4671-4949-A6EE-CA4B8C850FEB}" type="datetime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5E17-2A7B-4027-90E6-1D225B2EECE8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A966-50D6-4DD7-A8F4-FD8EA7F18DEE}" type="datetime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CD36-48A6-43A6-B783-7684AE33A2DC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33360" y="83808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¿Qué pasa en la vida real con la regulación de las actividades económicas?</a:t>
            </a: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6355-B664-46A6-994C-0153E09C641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EDD1A38-9B7E-4FB9-AA42-0DA8093839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66"/>
                </a:solidFill>
                <a:latin typeface="Times New Roman"/>
              </a:rPr>
              <a:t>Tendencias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8153280" cy="487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A23C-03D3-428E-926E-393FFFF1A882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23D8D9-9154-4CBB-941F-A5A7081F4C76}" type="datetime1">
              <a:rPr lang="en-US"/>
              <a:t>07/31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5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¿Qué pasa en la vida real con la regulación de las actividades económicas?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Estudio realizado por el Banco Mundial denominado “Doing Buseness 2004, Understanding regulation”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Aspectos analizado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Inicio - registro de nueva activida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Rigidez / flexibilidad de leyes labora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umplimiento forzado de contrat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Acceso al crédit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ierre de un negoci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5CBA-BD45-46AF-A1B4-C0F0C08EB25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935D7B-A457-4A26-B567-18AF856A2C17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9966"/>
                </a:solidFill>
                <a:latin typeface="Times New Roman"/>
              </a:rPr>
              <a:t>Principios para una mejor regulación de la actividad económic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19320" y="23623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Minion-Regular"/>
              </a:rPr>
              <a:t>Se aplican dos principios: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Minion-Regular"/>
              </a:rPr>
              <a:t>Regular sólo cuando el mercado o las decisiones judiciales no son suficientes para inducir una conducta apropiad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Minion-Regular"/>
              </a:rPr>
              <a:t>Regular sólo cuando exista capacidad efectiva de fiscalizar el cumplimiento de la regulació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97AB-676B-4D02-9001-07C612FF16B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EF35A1-AE14-4128-92DC-AF232C96D8FA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9966"/>
                </a:solidFill>
                <a:latin typeface="Times New Roman"/>
              </a:rPr>
              <a:t>Elementos comunes en el enfoque regulatorio de países con buen comportamient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3366"/>
                </a:solidFill>
                <a:latin typeface="Minion-Regular"/>
              </a:rPr>
              <a:t>• </a:t>
            </a: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Simplificación y desregulación  de los mercados competitiv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• </a:t>
            </a: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Concentración en la protección de los derechos de propiedad intelectua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• </a:t>
            </a: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Expansión del uso de la tecnologí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• </a:t>
            </a: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Reducción de la ingerencia de los tribunales en los temas de negocio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•</a:t>
            </a: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Proceso continuo de reformas y mejoramiento de la regula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539C-1CBC-438E-9B19-0DD780FA21F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FF15AD-C42A-4B0D-9D64-78CA2631EEA1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5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Algunas conclusiones del estudi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Regulación excesiva es asociada a menor productivida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Regulación excesiva es asociada a corrupción e informalida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Los países más pobres tienden a regular má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Mayor nivel de regulación se asocia a mayores costos y demor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Tribunales y Notarías con cuellos de botellas para el inicio de nuevos negocios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28A2-C2EF-4C54-8D36-D67E347DD9D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ACFDA6-D698-4E43-A8AA-92DBEB34E864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66"/>
                </a:solidFill>
                <a:latin typeface="Times New Roman"/>
              </a:rPr>
              <a:t>Tendencias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8153280" cy="487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4629-F748-4288-BD16-91E994432122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71F8C4-663D-431D-B377-B7A3CF092146}" type="datetime1">
              <a:rPr lang="en-US"/>
              <a:t>07/31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828440" y="380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66"/>
                </a:solidFill>
                <a:latin typeface="Times New Roman"/>
              </a:rPr>
              <a:t>Tendencias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1127160" y="1249200"/>
            <a:ext cx="7405560" cy="477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4629-694A-4E83-855A-5E484F5287D5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480EE7-1907-4BEC-A729-8D2EA8A6585B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66"/>
                </a:solidFill>
                <a:latin typeface="Times New Roman"/>
              </a:rPr>
              <a:t>Tendencias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685800" y="1136520"/>
            <a:ext cx="7924680" cy="511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A924-02C2-4624-A05B-08DBE38E3A45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BAA7DD-B117-40B3-A30C-9E8954C05809}" type="datetime1">
              <a:rPr lang="en-US"/>
              <a:t>07/31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5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Principales regulaciones aplicables en  Chile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Art. 21 Constitución Política, libertad de empresa y límites a esa libertad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Código de Comerci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B759-32E1-4DF9-9658-55D0DEC8268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8D3538-0AD0-480C-91CB-9F2F91AB5553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pl.jaa</cp:lastModifiedBy>
  <dcterms:modified xsi:type="dcterms:W3CDTF">2004-10-26T20:05:31Z</dcterms:modified>
  <cp:revision>2</cp:revision>
  <dc:subject/>
  <dc:title>Presentación de PowerPoint</dc:title>
</cp:coreProperties>
</file>