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874-DEC7-429A-A7AF-932591A3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F2C-5905-49AA-808D-9D3FAABE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ED9-31BC-459B-B878-E8B208C9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41D-C0BF-4D79-AF6D-95654A3B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76296-0E6C-4FBF-B9B8-43EDB770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C9273-B449-4254-AB7F-41F4B938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D83DB-0582-48F7-AEF4-BC82E6C7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B70A1-8A9E-4E7F-B72D-891E0FB6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63690-3BF3-42B1-A00E-95F1845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2579D-8F41-41E5-A396-9ADA0C69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7895E-9B9E-4434-A235-841149D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A0A-2A8F-4A81-BC46-C50F7F7F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5D790-8131-4012-9E2A-ED7E2DD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33F5F-E05F-4329-9AA2-2C9D1FF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579A9-EEFD-492E-9A98-C1249ABE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F70AB-1144-42CE-B0C5-1E0E4F90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E95D7-B694-4DE3-99BE-D6D2D170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D7B-DAFB-4BDF-9C8E-49B11727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439-4D5E-4485-98B9-92202DF6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10B-672F-406D-A6C1-6AB6F001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5D7-D7B7-4504-BC1E-BF844BF4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A73-702F-4DB5-89A0-A10CEE6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3AF-5FFB-47AD-989C-DF2CBDFC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D2B-700E-4969-A9AF-67C3D586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E935-6DCF-4A61-AFE5-3E13C243FA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5136-86AB-43B3-A373-BD54C04C78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e Nro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la de Poder y Ontología de jue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ntología de los jueg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s constitu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ores o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 permitido y lo no permiti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s estraté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s formas de jugar el juego, tendientes a gan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ácticas estratégicas para ganar el juego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Juego de Poder en una Organiz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ol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Qué quiere conseguir la dirección de la organizació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ores Relev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rentes, jefaturas, asesores y relación e influencia de cada u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 permitido y lo no permiti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Formas de otorgar autorid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Estilos para convers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Mecanismo de toma de decisio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Juego de Poder en una Organiz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Qué estrategia política se está siguiendo para cumplir con el meoll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ganización; Rol de sus principales colaboradores y advers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ique alianzas internas y los juegos de cada u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ómo se relaciona la estrategia de la organización con la estrategia polí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incipales interpretaciones de actores relevantes y su modo de jugar el jue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uegos Múltiples Concéntric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1628640"/>
            <a:ext cx="4824720" cy="43927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2492280"/>
            <a:ext cx="2952720" cy="2880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91628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ego Directo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3357720"/>
            <a:ext cx="165600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278136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ego Alian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1800" y="3933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ego Gte G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uegos Múltiples Descentrad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1773360"/>
            <a:ext cx="4033800" cy="39607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2421000"/>
            <a:ext cx="3384360" cy="3168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1844640"/>
            <a:ext cx="1417680" cy="14907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2050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ego Directo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62720" y="38084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ego alianza G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4520" y="2349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ego Gte G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rama Malla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052640"/>
            <a:ext cx="820728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349360"/>
            <a:ext cx="8207280" cy="1274760"/>
          </a:xfrm>
          <a:prstGeom prst="rect">
            <a:avLst/>
          </a:prstGeom>
          <a:solidFill>
            <a:srgbClr val="3399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573360"/>
            <a:ext cx="8207280" cy="2664000"/>
          </a:xfrm>
          <a:prstGeom prst="rect">
            <a:avLst/>
          </a:prstGeom>
          <a:solidFill>
            <a:srgbClr val="ff99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1052640"/>
            <a:ext cx="647640" cy="6267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1628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2492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256536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2924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3716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4076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4076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V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880" y="1052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er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1413000"/>
            <a:ext cx="647640" cy="6267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960" y="234936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undo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6520" y="3645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59280" y="1484280"/>
            <a:ext cx="576000" cy="28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1484280"/>
            <a:ext cx="57456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40000" y="2133720"/>
            <a:ext cx="216000" cy="3585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1989000"/>
            <a:ext cx="792360" cy="935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2276640"/>
            <a:ext cx="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692000" y="3141720"/>
            <a:ext cx="431640" cy="934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1628640"/>
            <a:ext cx="863280" cy="935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3789360"/>
            <a:ext cx="64800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4076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100000">
            <a:off x="3059280" y="1341000"/>
            <a:ext cx="3960720" cy="2124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341360"/>
            <a:ext cx="1944720" cy="20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3141720"/>
            <a:ext cx="216000" cy="64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2708280"/>
            <a:ext cx="2498760" cy="230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3141720"/>
            <a:ext cx="360360" cy="647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59280" y="3141720"/>
            <a:ext cx="216000" cy="936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11640" y="3573360"/>
            <a:ext cx="144360" cy="505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6720" y="3429000"/>
            <a:ext cx="50472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013360"/>
            <a:ext cx="9349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4797360"/>
            <a:ext cx="27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Dependencia jerárqu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229360"/>
            <a:ext cx="62712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8680" y="522936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lianzas o relaciones de confianza cerc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44000" y="134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36000" y="112536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ás po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2880" y="530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os po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172360" y="1557360"/>
            <a:ext cx="0" cy="381636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052640"/>
            <a:ext cx="3816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5734080"/>
            <a:ext cx="627120" cy="360360"/>
          </a:xfrm>
          <a:prstGeom prst="ellipse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1600" y="566100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Comité formal de deci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mentos de la Malla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agrama malla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pos de juegos, concéntricos y descent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a los principales juegos, identificar reglas constitutivas y estraté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ija principales actores e identifique otros juegos de ellos y evalúe la coherencia con los demás jueg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area malla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a malla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e el juego de la empresa en su conj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que una alianza interna e interprete su ju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cione 3 actores relevantes e interprete su ju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10-05T02:35:25Z</dcterms:modified>
  <cp:revision>25</cp:revision>
  <dc:subject/>
  <dc:title>PODER ÉTICA Y GESTIÓN</dc:title>
</cp:coreProperties>
</file>