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6F8-62D7-4489-9F05-8E8FFA8B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B568-EAFC-47DA-B6C7-8FDE4753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3134-45ED-4EBE-9818-6B227BE3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FB6E-CF46-4ABB-9F33-1522DA6A7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C8657E-05B4-4F44-BEC3-3C0EC2BB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F8519-3722-4DAD-ACB1-B22D95DB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20EE06-4126-48E6-B0E5-426FF8FC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0B803-0963-4091-9D22-AB34CD00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799A2-CA8F-461B-ABDD-963720E51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ECD9C-BF0D-4315-B304-62581509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43E7FE-37C5-482B-8A75-892FC51F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B26F-B7F3-412F-904B-90D70D00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38AFC-D236-441E-85C8-DFCFA02A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609A7-310D-4653-B901-434AA401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EC372-D622-4058-8F00-9526328A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9851B-EA42-4463-86BE-E005BD41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D67AA3-FED6-41A1-8719-BC81003AD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CE5E-85CC-47E1-B0A5-7A7E2302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8803-4CDC-4144-B8B1-8377450F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2ED3-F10A-4186-9B3E-8E93C708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9952-151D-4C4F-A327-3F7E03F2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C932-E434-4905-9CA3-574C4C97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8C5-6DFB-4BD2-BA24-5161D361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86C0-DF58-4D84-B3D5-21BCCC6B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1448-9BB3-40AF-BCEA-9D9DBF3F56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00E96-3477-4169-B370-F3BD3A7E15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juanclucero@dyg.cl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PODER ÉTICA Y GESTIÓ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6920" y="3141360"/>
            <a:ext cx="651204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e Nro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lla de Poder y Ontología de jue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-54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.:Juan Carlos Lucero 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f. Aux.:Günther kallina 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juanclucero@dyg.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gkallina@gruposol.c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ntología de los jueg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las constitutiv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ctores o participant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o permitido y lo no permitid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las estratég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s formas de jugar el juego, tendientes a ganar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ácticas estratégicas para ganar el juego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Juego de Poder en una Organizació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oll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¿Qué quiere conseguir la dirección de la organizació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ores Relev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erentes, jefaturas, asesores y relación e influencia de cada u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 permitido y lo no permiti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¿Formas de otorgar autorid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¿Estilos para conversa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¿Mecanismo de toma de decision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Juego de Poder en una Organizació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¿Qué estrategia política se está siguiendo para cumplir con el meoll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Organización; Rol de sus principales colaboradores y adversari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dentifique alianzas internas y los juegos de cada un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ómo se relaciona la estrategia de la organización con la estrategia polít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incipales interpretaciones de actores relevantes y su modo de jugar el jue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uegos Múltiples Concéntric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908000" y="1628640"/>
            <a:ext cx="4824720" cy="43927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16360" y="2492280"/>
            <a:ext cx="2952720" cy="28800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1916280"/>
            <a:ext cx="21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ego Directo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92360" y="3357720"/>
            <a:ext cx="1656000" cy="1511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64000" y="2781360"/>
            <a:ext cx="170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ego Alianz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21800" y="393372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uego Gte G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Juegos Múltiples Descentrado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1773360"/>
            <a:ext cx="4033800" cy="3960720"/>
          </a:xfrm>
          <a:prstGeom prst="ellipse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2421000"/>
            <a:ext cx="3384360" cy="316872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35280" y="1844640"/>
            <a:ext cx="1417680" cy="14907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3640" y="220500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ego Directo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62720" y="3808440"/>
            <a:ext cx="21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uego alianza G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4520" y="2349360"/>
            <a:ext cx="17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uego Gte G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agrama Malla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1052640"/>
            <a:ext cx="8207280" cy="1295280"/>
          </a:xfrm>
          <a:prstGeom prst="rect">
            <a:avLst/>
          </a:prstGeom>
          <a:solidFill>
            <a:srgbClr val="ff0000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4000" y="2349360"/>
            <a:ext cx="8207280" cy="1274760"/>
          </a:xfrm>
          <a:prstGeom prst="rect">
            <a:avLst/>
          </a:prstGeom>
          <a:solidFill>
            <a:srgbClr val="3399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3573360"/>
            <a:ext cx="8207280" cy="2664000"/>
          </a:xfrm>
          <a:prstGeom prst="rect">
            <a:avLst/>
          </a:prstGeom>
          <a:solidFill>
            <a:srgbClr val="ff9933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5280" y="1052640"/>
            <a:ext cx="647640" cy="6267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84360" y="162864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9280" y="249228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56000" y="256536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835280" y="249228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0360" y="292428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48000" y="371628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58920" y="407664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C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407664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V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6880" y="105264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mer Ni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59280" y="1413000"/>
            <a:ext cx="647640" cy="6267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7960" y="2349360"/>
            <a:ext cx="16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undo Ni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6520" y="364500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cer Ni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3059280" y="1484280"/>
            <a:ext cx="576000" cy="289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84720" y="1484280"/>
            <a:ext cx="574560" cy="1443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340000" y="2133720"/>
            <a:ext cx="216000" cy="35856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64000" y="1989000"/>
            <a:ext cx="792360" cy="935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43280" y="2276640"/>
            <a:ext cx="0" cy="288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1692000" y="3141720"/>
            <a:ext cx="431640" cy="9349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140360" y="1628640"/>
            <a:ext cx="863280" cy="9352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268360" y="3789360"/>
            <a:ext cx="64800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27640" y="407664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77080" y="3860640"/>
            <a:ext cx="647640" cy="62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2100000">
            <a:off x="3059280" y="1341000"/>
            <a:ext cx="3960720" cy="21240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1341360"/>
            <a:ext cx="1944720" cy="2089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3141720"/>
            <a:ext cx="216000" cy="649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92720" y="2708280"/>
            <a:ext cx="2498760" cy="230508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32000" y="3141720"/>
            <a:ext cx="360360" cy="64764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4859280" y="3141720"/>
            <a:ext cx="216000" cy="936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011640" y="3573360"/>
            <a:ext cx="144360" cy="50508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16720" y="3429000"/>
            <a:ext cx="504720" cy="50472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68360" y="5013360"/>
            <a:ext cx="9349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76360" y="4797360"/>
            <a:ext cx="278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Dependencia jerárqu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5640" y="5229360"/>
            <a:ext cx="627120" cy="36036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08680" y="5229360"/>
            <a:ext cx="49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Alianzas o relaciones de confianza cerca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44000" y="1341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236000" y="1125360"/>
            <a:ext cx="12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ás po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22880" y="5300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nos po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172360" y="1557360"/>
            <a:ext cx="0" cy="3816360"/>
          </a:xfrm>
          <a:prstGeom prst="line">
            <a:avLst/>
          </a:prstGeom>
          <a:ln w="12600">
            <a:solidFill>
              <a:srgbClr val="00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79640" y="1052640"/>
            <a:ext cx="381636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5640" y="5734080"/>
            <a:ext cx="627120" cy="360360"/>
          </a:xfrm>
          <a:prstGeom prst="ellipse">
            <a:avLst/>
          </a:prstGeom>
          <a:noFill/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51600" y="5661000"/>
            <a:ext cx="31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 Comité formal de deci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lementos de la Malla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Diagrama malla de Po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pos de juegos, concéntricos y descentrad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Para los principales juegos, identificar reglas constitutivas y estratégic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lija principales actores e identifique otros juegos de ellos y evalúe la coherencia con los demás jueg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area malla de Pod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a malla de Pod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prete el juego de la empresa en su conju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que una alianza interna e interprete su jue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leccione 3 actores relevantes e interprete su jue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2T22:31:44Z</dcterms:created>
  <dc:creator>Juan Carlos Lucero Larenas</dc:creator>
  <dc:description/>
  <dc:language>en-US</dc:language>
  <cp:lastModifiedBy>Juan Carlos Lucero Larenas</cp:lastModifiedBy>
  <dcterms:modified xsi:type="dcterms:W3CDTF">2004-10-05T02:35:25Z</dcterms:modified>
  <cp:revision>25</cp:revision>
  <dc:subject/>
  <dc:title>PODER ÉTICA Y GESTIÓN</dc:title>
</cp:coreProperties>
</file>