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CDF-0868-418D-990B-741ED7BA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C80-195B-46D0-9050-B431A5CC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479-E6B5-406F-8EC5-5E7E50AC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9FA-2A76-4620-B1D7-8640EEA6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F7F36-74D7-4173-8196-05C24F39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B6D48-9D42-4AE1-BA8D-C746F48E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E35C8-137C-4021-8F36-6E1B295E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91032-7500-4DFE-A06B-BE9CAC54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E4838-2FC3-406A-AF11-67AB4759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1EF3B-3244-4B58-866B-6636604A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19E97-9E70-404F-83B6-C94EEB47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AF9-A437-4DE7-B2DF-45EC6A61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8873C-BB9E-478C-98CB-683FFD64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01FE2-144C-4C6F-96B4-743FDEB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72575-E580-4258-83A5-B7AF81C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BB7D1-3B6D-4492-942B-86A26C2F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5DAE1-EDB7-4119-A2F0-60C43932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636-203E-4B81-BB03-BAD43F77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6E8-5C30-4F46-A7CC-40ACC36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C58-F412-4262-B7CF-484FDEEE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C53-45D7-4622-8EFF-488BC825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B36-CD95-4CD6-8A5F-2E00CBB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035-79F9-4B90-92B0-1F00FE2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107-8053-4B2F-BF68-45E7F695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00E2-6954-42DA-ADF9-7CCA02D0B7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22BC-CA3C-46F3-B715-2F12199EC6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e Nro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la de Poder y Ontología de jue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tología de los jueg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s constitu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ores o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 permitido y lo no permit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s estraté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s formas de jugar el juego, tendientes a gan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ácticas estratégicas para ganar el juego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Juego de Poder en una Organiz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ol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Qué quiere conseguir la dirección de la organizació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ores Relev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rentes, jefaturas, asesores y relación e influencia de cada u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 permitido y lo no permiti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Formas de otorgar autorid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Estilos para convers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Mecanismo de toma de decisio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Juego de Poder en una Organiz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Qué estrategia política se está siguiendo para cumplir con el meol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ganización; Rol de sus principales colaboradores y advers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ique alianzas internas y los juegos de cada u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ómo se relaciona la estrategia de la organización con la estrategia polí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ncipales interpretaciones de actores relevantes y su modo de jugar el jue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uegos Múltiples Concéntric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1628640"/>
            <a:ext cx="4824720" cy="43927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2492280"/>
            <a:ext cx="2952720" cy="2880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91628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Directo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3357720"/>
            <a:ext cx="165600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278136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Alian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1800" y="3933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Gte 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uegos Múltiples Descentrad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1773360"/>
            <a:ext cx="4033800" cy="39607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2421000"/>
            <a:ext cx="3384360" cy="3168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1844640"/>
            <a:ext cx="1417680" cy="1490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2050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Directo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62720" y="38084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alianza G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4520" y="2349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Gte 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ram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052640"/>
            <a:ext cx="820728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349360"/>
            <a:ext cx="8207280" cy="1274760"/>
          </a:xfrm>
          <a:prstGeom prst="rect">
            <a:avLst/>
          </a:prstGeom>
          <a:solidFill>
            <a:srgbClr val="33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573360"/>
            <a:ext cx="8207280" cy="2664000"/>
          </a:xfrm>
          <a:prstGeom prst="rect">
            <a:avLst/>
          </a:prstGeom>
          <a:solidFill>
            <a:srgbClr val="ff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052640"/>
            <a:ext cx="647640" cy="626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1628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2492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256536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2924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3716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V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1052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er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1413000"/>
            <a:ext cx="647640" cy="626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960" y="234936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undo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6520" y="3645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59280" y="1484280"/>
            <a:ext cx="576000" cy="28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1484280"/>
            <a:ext cx="57456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40000" y="2133720"/>
            <a:ext cx="216000" cy="3585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1989000"/>
            <a:ext cx="792360" cy="935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2276640"/>
            <a:ext cx="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692000" y="3141720"/>
            <a:ext cx="431640" cy="934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1628640"/>
            <a:ext cx="863280" cy="935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3789360"/>
            <a:ext cx="64800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00000">
            <a:off x="3059280" y="1341000"/>
            <a:ext cx="3960720" cy="2124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341360"/>
            <a:ext cx="194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3141720"/>
            <a:ext cx="216000" cy="64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2708280"/>
            <a:ext cx="2498760" cy="230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3141720"/>
            <a:ext cx="360360" cy="647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59280" y="3141720"/>
            <a:ext cx="216000" cy="936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11640" y="3573360"/>
            <a:ext cx="144360" cy="505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6720" y="3429000"/>
            <a:ext cx="50472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013360"/>
            <a:ext cx="9349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4797360"/>
            <a:ext cx="27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Dependencia jerárqu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229360"/>
            <a:ext cx="62712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8680" y="522936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lianzas o relaciones de confianza cerc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44000" y="134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36000" y="112536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ás po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2880" y="530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os po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72360" y="1557360"/>
            <a:ext cx="0" cy="3816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052640"/>
            <a:ext cx="3816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5734080"/>
            <a:ext cx="627120" cy="360360"/>
          </a:xfrm>
          <a:prstGeom prst="ellipse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1600" y="5661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Comité formal de deci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mentos de l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agrama malla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pos de juegos, concéntricos y descent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a los principales juegos, identificar reglas constitutivas y estraté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ija principales actores e identifique otros juegos de ellos y evalúe la coherencia con los demás jueg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re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a malla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e el juego de la empresa en su conj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que una alianza interna e interprete su ju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e 3 actores relevantes e interprete su ju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10-05T02:35:25Z</dcterms:modified>
  <cp:revision>25</cp:revision>
  <dc:subject/>
  <dc:title>PODER ÉTICA Y GESTIÓN</dc:title>
</cp:coreProperties>
</file>