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comments/comment7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Juan Carlos Lucero Larenas" initials="JCLL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<Relationship Id="rId15" Type="http://schemas.openxmlformats.org/officeDocument/2006/relationships/commentAuthors" Target="commentAuthors.xml"/>
</Relationships>
</file>

<file path=ppt/comments/comment7.xml><?xml version="1.0" encoding="utf-8"?>
<p:cmLst xmlns:p="http://schemas.openxmlformats.org/presentationml/2006/main">
  <p:cm authorId="0" dt="2004-08-22T21:51:24.459000000" idx="1">
    <p:pos x="10" y="10"/>
    <p:text>ejemplo de profesión del mejor consultor de software del Silicon Valley.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move the slide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816F2-2789-4F8C-AFA8-E79895FB8F2F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jemplo de la profesión del mejor consultor tecnológico del silicon vall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211DC-3F48-4C5D-8395-494F1565A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AACC7-3C8A-4215-9363-1A2BD8FC6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E73FD-6A7D-4E0B-894D-9DC521663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9F355-0D99-452B-BB8F-720C89659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201A93-D40A-4B8A-B333-FC14DE95E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443706-CF5D-4489-932E-FB8EF7FE5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F8ED49-1012-4B0F-AFDB-AF7EEA987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9A7BDB-C08C-410C-A0F8-4084B5FF4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5BF497-5EAD-4FE3-A4B8-66530DABA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EBE464-DB32-4647-B46F-D9238E8BD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34BCCA-7E00-465B-BA56-213233A4C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7652A-119F-4EB7-B645-777FD1324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C88567-D1E3-4EED-938B-6612DDBD4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B735BB-A1A2-49C9-AE7C-44AB1503A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4C7BC5-38F3-440A-A42B-D859C28C0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995E15-A235-428B-83B6-25D8D8FAE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651B29-1788-4D0E-9666-66A041D49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3553A-CD6F-431D-8CD2-E2EE0B4DD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94B62-C375-4096-AF96-773C3251A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2751F-9393-4086-9A36-B23B2C8E9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E90CA-47DD-4EB9-81AE-9760E0B51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ECCBA-966E-4F5F-A693-AEEFD63FB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7F29A-161C-4ADA-AE6D-FC359DDBE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822FE-E4E4-43AC-9819-02AD23E00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A4D2F-DB14-4CED-B897-B4AA1F407FE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5B0D4-691D-4E95-958A-9A5401CE94B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juanclucero@dyg.cl" TargetMode="External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comments" Target="../comments/comment7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PODER ÉTICA Y GESTIÓN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186920" y="3141360"/>
            <a:ext cx="6512040" cy="28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ase Nro 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uentes de pod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-54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f.:Juan Carlos Lucero 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f. Aux.:Günther kallina 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ffcc"/>
                </a:solidFill>
                <a:uFillTx/>
                <a:latin typeface="Arial"/>
                <a:hlinkClick r:id="rId1"/>
              </a:rPr>
              <a:t>juanclucero@dyg.c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cccc"/>
                </a:solidFill>
                <a:latin typeface="Arial"/>
              </a:rPr>
              <a:t>gkallina@gruposol.c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Fuentes de Poder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Poder de la fuerz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Poder del carg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Poder productiv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Poder del diner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Poder por conocimient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Poder por identid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Poder por articulació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Poder de la fuerza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onsecuencias en la integridad física o daños material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En general se emplea en situaciones donde las otras fuentes de poder se agotaron o perdieron credibilida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La ética que la sustenta dice relación con proteger integridad física o sobre vivenci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Hay culturas donde se valida, llegando incluso a influir en otros dominio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Poder del Cargo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onsecuencias en dominios organizacionales. Contrataciones, despidos, ascensos, incentivos, pedidos, decisiones,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Esta asociado a la responsabilidad que tiene el que lo ostent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Es un instrumento del diseño organizacional, a veces asociado a las competencias de los individu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unque a veces hay espacios de ambigüedad, tiene límites y atribuciones específic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Las culturas organizacionales van construyendo espacios éticos que se aplica en diversos estilos y con distintos grados de legitimida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Poder Productivo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onsecuencias en el desempeño en un  mercado. Produce bienes valorados en un mercado por clientes. Es el poder de la ofert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El grado de poder depende del grado de valor que genera a otros con capacidad de adquirirlo y de las alternativas que le compite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La ética que lo sustenta es la del mercado y su validación social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poderes de mercad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derechos del clien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distribución del ingres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Poder del Dinero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iene consecuencias en la capacidad de acceder a bienes y servicios. Poder de la demand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ambién lo sustenta la ética del mercado y de los negocio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Genera consecuencias más allá del ámbito del mercado, lo que plantea dilemas éticos. Por ejempl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33cc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cc"/>
                </a:solidFill>
                <a:latin typeface="Arial"/>
              </a:rPr>
              <a:t>democracia y distribución del ingres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33cc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cc"/>
                </a:solidFill>
                <a:latin typeface="Arial"/>
              </a:rPr>
              <a:t>Igualdad de oportunidad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umple la función de intermediar las relaciones de oferta y demand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Poder por Conocimiento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iene consecuencias en generar posibilidades a otros desde lo quiebres que tiene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onsiste en articular discursos y habilidades que permiten actuar con mayor efectivida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La ética que la sustenta dice relación con el suministro de servicios profesionales, incluso se habla de ética profesiona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Profesionales que desarrollan oferta diferenciadora. Consultores en tecnología, gestión, finanzas , economía, abogados, médicos, arquitecto, etc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Poder por Identidad</a:t>
            </a:r>
            <a:br>
              <a:rPr sz="4000"/>
            </a:b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onsecuencias en la oferta o capacidad declarativa de personas o entidad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iene que ver con el compromiso con lo que quiero “ser” y con como me “ ven”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La ética tiene que ver con la integridad entre la imagen y el compromis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El liderazgo requiere este tipo de pod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En los tiempos del desarrollo de las tecnologías de información y comunicación, este poder es vital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Poder por Articulació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iene consecuencias en facilitar coordinaciones entre personas sin relaciones  de confianza. Ejm A, B y 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Es clave el desarrollo de relaciones de confianza y la capacidad escuchar los intereses, quiebres y preocupaciones y las formas de ver de los articulad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La ética está dada por el compromiso con ambos , podría haber conflicto por no ser “bisagra”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La velocidad de los cambios , hace de este tipo de poder un factor central en los negocios de ho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2T22:31:44Z</dcterms:created>
  <dc:creator>Juan Carlos Lucero Larenas</dc:creator>
  <dc:description/>
  <dc:language>en-US</dc:language>
  <cp:lastModifiedBy>Juan Carlos Lucero Larenas</cp:lastModifiedBy>
  <dcterms:modified xsi:type="dcterms:W3CDTF">2004-09-05T18:07:37Z</dcterms:modified>
  <cp:revision>11</cp:revision>
  <dc:subject/>
  <dc:title>PODER ÉTICA Y GESTIÓN</dc:title>
</cp:coreProperties>
</file>