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uan Carlos Lucero Larenas" initials="JCL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22T21:51:24.459000000" idx="1">
    <p:pos x="10" y="10"/>
    <p:text>ejemplo de profesión del mejor consultor de software del Silicon Valley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2C8B-7B03-4B81-9632-25DEB9CE2C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 de la profesión del mejor consultor tecnológico del silico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61E-249D-458A-8F7B-571C82C8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2CF-F5C1-42D1-B3FC-18EA91B1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C03-6EE7-4117-A9FE-F81B2B4C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B2D-3010-4230-BFE0-FA0B501A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4CEF8-413E-4527-9C1E-5467254E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79676-7148-423B-A50B-269C52F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8F88F-C906-4596-BFD0-AC3DA11C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29BB6-FC23-4864-9C78-C55B9C27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0D135-EA45-4F7D-A10E-A416BDE4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A9ADF-4A9E-4444-87AB-423A0F22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A9E53-A463-4C2F-B874-FC17C71B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80D-CC18-4553-8915-B78342E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28758-ABD0-449A-8BC5-33213693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36025-0612-44C7-899F-F0EE683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797F3-C932-4C54-B821-7926E0C0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3CED0-2821-4FC6-9415-CEA30357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14EB8-3BC8-4751-8688-BC5D2067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8D2-5435-4B6E-9640-95B15671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C25-0ECA-4DC9-873C-05B63584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2DB-8B76-4E31-B769-66158244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529-D801-40F5-AF42-82180F1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702-CF9B-4A00-8CA2-EF1627A9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952-B6DE-4B33-A223-6B5F3587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25D-852E-4D3D-9C2D-09C54D0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C8CE-847B-4AA7-908D-307C71AE41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9E73-7E60-4D79-8E5D-34DD00E76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ntes de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uentes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 la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d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articu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 la fuer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ecuencias en la integridad física o daños mater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 general se emplea en situaciones donde las otras fuentes de poder se agotaron o perdieron cred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ética que la sustenta dice relación con proteger integridad física o sobre viv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y culturas donde se valida, llegando incluso a influir en otros domi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Car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cuencias en dominios organizacionales. Contrataciones, despidos, ascensos, incentivos, pedidos, decis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 asociado a la responsabilidad que tiene el que lo ost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un instrumento del diseño organizacional, a veces asociado a las competencias de los indiv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nque a veces hay espacios de ambigüedad, tiene límites y atribu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culturas organizacionales van construyendo espacios éticos que se aplica en diversos estilos y con distintos grados de legiti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roducti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el desempeño en un  mercado. Produce bienes valorados en un mercado por clientes. Es el poder de la of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grado de poder depende del grado de valor que genera a otros con capacidad de adquirirlo y de las alternativas que le compi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o sustenta es la del mercado y su validación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oderes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erechos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Dine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la capacidad de acceder a bienes y servicios. Poder de l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bién lo sustenta la ética del mercado y de los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 consecuencias más allá del ámbito del mercado, lo que plantea dilemas éticos.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emocracia y distribución del ingr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Igualdad de oportun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ple la función de intermediar las relaciones de oferta y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Conocimien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generar posibilidades a otros desde lo quiebres que 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iste en articular discursos y habilidades que permiten actuar con mayor ef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a sustenta dice relación con el suministro de servicios profesionales, incluso se habla de ética profe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ionales que desarrollan oferta diferenciadora. Consultores en tecnología, gestión, finanzas , economía, abogados, médicos, arquitecto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der por Identidad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la oferta o capacidad declarativa de personas o ent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que ver con el compromiso con lo que quiero “ser” y con como me “ ve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tiene que ver con la integridad entre la imagen y el compro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liderazgo requiere este tipo de po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 los tiempos del desarrollo de las tecnologías de información y comunicación, este poder es vi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Articulac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ne consecuencias en facilitar coordinaciones entre personas sin relaciones  de confianza. Ejm A, B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clave el desarrollo de relaciones de confianza y la capacidad escuchar los intereses, quiebres y preocupaciones y las formas de ver de los articu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ética está dada por el compromiso con ambos , podría haber conflicto por no ser “bisag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velocidad de los cambios , hace de este tipo de poder un factor central en los negocios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09-05T18:07:37Z</dcterms:modified>
  <cp:revision>11</cp:revision>
  <dc:subject/>
  <dc:title>PODER ÉTICA Y GESTIÓN</dc:title>
</cp:coreProperties>
</file>