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uan Carlos Lucero Larenas" initials="JCL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22T21:51:24.459000000" idx="1">
    <p:pos x="10" y="10"/>
    <p:text>ejemplo de profesión del mejor consultor de software del Silicon Valley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A704-F1D6-4012-9516-445B1019703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 de la profesión del mejor consultor tecnológico del silico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E53E-8620-4D56-AAB6-FD2DC8E7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AF2-9E61-4F76-865D-A8568918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4380-E421-46D6-B0E4-202FBD2C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C4A9-CEDD-42A8-9A58-12A2A7A48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0915E-FD4B-4CC6-8CC5-96B0973AD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34D5E-4FC8-4FDF-8594-AE1CACB1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9EC8A-19D1-4B39-B4D8-8F66443A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6280A-109E-4A26-8993-0A392A39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22B38-D804-4D29-9DFC-4B70D447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B4F53-36F0-46AD-93EA-539E973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F42F7-9273-43D8-A842-83F92E71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936-94CB-4F5E-8802-635069EF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0763F-83B7-42CB-A2E0-F8CAEF4A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75380-9CD3-4948-8AE7-15E48D99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B367D-6D3A-4CC1-9132-B54F8176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2EF4C-0DFF-4C4E-AD7B-CFECDC67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E151A-EC31-4AE4-8934-9786679C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1FE-95C6-4536-A878-A2DBBC7C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5290-1317-47CD-B320-C4C4584C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53F-CEE0-48D4-8785-33A7975D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2B2-8F8D-4F30-BEAF-977B7E3B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5CF-7601-4113-8607-38CED44A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6EB-B999-4E04-A418-3EAE237A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8FB-F63A-4319-A421-9F7662D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1DBF-4795-4920-AF9D-CC4B640855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5B7B-DAF1-42A8-B113-33D8A748C1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ntes de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uentes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 la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d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articu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 la fuer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ecuencias en la integridad física o daños mater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 general se emplea en situaciones donde las otras fuentes de poder se agotaron o perdieron cred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ética que la sustenta dice relación con proteger integridad física o sobre viv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y culturas donde se valida, llegando incluso a influir en otros domi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Car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cuencias en dominios organizacionales. Contrataciones, despidos, ascensos, incentivos, pedidos, decis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 asociado a la responsabilidad que tiene el que lo ost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un instrumento del diseño organizacional, a veces asociado a las competencias de los indiv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nque a veces hay espacios de ambigüedad, tiene límites y atribu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culturas organizacionales van construyendo espacios éticos que se aplica en diversos estilos y con distintos grados de legiti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roducti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el desempeño en un  mercado. Produce bienes valorados en un mercado por clientes. Es el poder de la of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grado de poder depende del grado de valor que genera a otros con capacidad de adquirirlo y de las alternativas que le compi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o sustenta es la del mercado y su validación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oderes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erechos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Dine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la capacidad de acceder a bienes y servicios. Poder de l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bién lo sustenta la ética del mercado y de los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 consecuencias más allá del ámbito del mercado, lo que plantea dilemas éticos.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emocracia y distribución del ingr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Igualdad de oportun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ple la función de intermediar las relaciones de oferta y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Conocimien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generar posibilidades a otros desde lo quiebres que 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iste en articular discursos y habilidades que permiten actuar con mayor ef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a sustenta dice relación con el suministro de servicios profesionales, incluso se habla de ética profe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ionales que desarrollan oferta diferenciadora. Consultores en tecnología, gestión, finanzas , economía, abogados, médicos, arquitecto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der por Identidad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la oferta o capacidad declarativa de personas o ent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que ver con el compromiso con lo que quiero “ser” y con como me “ ve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tiene que ver con la integridad entre la imagen y el compro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liderazgo requiere este tipo de po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 los tiempos del desarrollo de las tecnologías de información y comunicación, este poder es vi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Articulac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ne consecuencias en facilitar coordinaciones entre personas sin relaciones  de confianza. Ejm A, B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clave el desarrollo de relaciones de confianza y la capacidad escuchar los intereses, quiebres y preocupaciones y las formas de ver de los articu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ética está dada por el compromiso con ambos , podría haber conflicto por no ser “bisag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velocidad de los cambios , hace de este tipo de poder un factor central en los negocios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09-05T18:07:37Z</dcterms:modified>
  <cp:revision>11</cp:revision>
  <dc:subject/>
  <dc:title>PODER ÉTICA Y GESTIÓN</dc:title>
</cp:coreProperties>
</file>