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8339-EEDD-469A-8C72-35A48EC958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5C4-D1FA-4C96-80A2-E1D524C7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0D1-4456-4C9F-A0B3-872495E5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449-0945-4100-9825-CF25F04E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C55-C9FF-4FAC-BB23-DD714011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98B40-927F-4F90-8E3C-27CCF342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5E1B6-3042-44A6-8BA2-39DE844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03B7-DE36-41F2-8A30-0803AF4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2F7E-711F-471F-B5E2-B5F3E9A4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19AD6-E7E3-4E04-9553-423724FB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8CF49-C3D5-4343-BD46-909FAAC9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EFE5D-5303-4FDB-A25A-2208B08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52D-61EE-454B-B258-E4DF2C4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09E25-1B15-45D3-84D3-C644581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8B1B1-BA3A-457D-87AA-3785326E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48650-74A8-4329-AA32-E8F17D13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9F695-2AF8-45A4-9802-172CDA57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90113-0DA5-43E9-A23F-D41479BA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F7F-E1CB-4A06-B50B-EC032AED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07B-21D6-475D-890A-04F5E62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AD6-E7E2-4CC8-A76B-5E78608A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5DF-0636-4CEB-96E3-D6B3AB9E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490-D795-4F7C-84BB-AA711C2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B22-BC26-401E-9615-7F44C9EA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519-9496-44DE-AB1E-CEF365F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274-1F40-439C-AF8D-7CC952C40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57F-B03B-4243-8ABB-DB327E48D3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05T18:07:37Z</dcterms:modified>
  <cp:revision>11</cp:revision>
  <dc:subject/>
  <dc:title>PODER ÉTICA Y GESTIÓN</dc:title>
</cp:coreProperties>
</file>