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5171-5010-49F1-BF06-271B0A9AC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D118-F0FE-480D-A5DD-EB6EE617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D171-7BC9-4066-B7FA-6E7C426B9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C97D-533E-4370-92D6-31197511F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1EFFEB-4E4B-452C-899A-4275F3436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8A41DB-C1D0-4619-B42F-45B24C7D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FA0AF-4D83-4A0C-B933-17FD2960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56739F-5AA6-47A8-BFFB-E2A3C8D2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DE912-EE03-4A00-8E04-AF696D9C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779E8-5CD7-41CE-A554-4A644FE2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EE3AE-EA6D-4614-9FDA-015F03F6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9DCC-E6EF-4C73-A0BD-092A5586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CCD87-B35E-41AB-8217-996B58E1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9442C-7057-4794-BBB1-8F796010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CD3E2-4C46-4EAA-AAE9-733D247C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F4F2F-2E66-40AE-B24B-D264F6AF9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BF038-CA05-4175-8BFC-2BF741309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6A9C-8211-4533-9520-E698C2E8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84A5-1C4A-4C85-9EB9-18DA6E66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C125-1725-451A-A76F-C519AAED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B6F5-E164-457C-B9EB-844A5155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CFF1-DA51-4FB6-A7AB-54DD87B3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6A25-7154-4E65-82FA-E126CDC0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C38F-5758-41C2-AB61-3B0273D3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5C56-2A21-4706-B01D-2A3906987B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BA72-9379-45B4-B610-F6678C82D9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uanclucero@dyg.cl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PODER ÉTICA Y GESTIÓ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186920" y="3141360"/>
            <a:ext cx="65120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lase Nro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Historia de Luis Paste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-54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f.:Juan Carlos Lucero 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f. Aux.:Günther kallina 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juanclucero@dyg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cccc"/>
                </a:solidFill>
                <a:latin typeface="Arial"/>
              </a:rPr>
              <a:t>gkallina@gruposol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3e3ff"/>
                </a:solidFill>
                <a:latin typeface="Arial"/>
              </a:rPr>
              <a:t>Historia de Luis Pasteu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e articulan tres conversacio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versación de la quím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versación del Microscop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versación de quiebres de la comun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l poder como la capacidad de producir mayor efectividad valorada por la comunidad relev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 es suficiente la capacidad de ser efectivo, es necesario generar un espacio para que sea reconoc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stados de ánimo centrales  para producir pod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ersevera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taleza emo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vi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labor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1T02:44:36Z</dcterms:created>
  <dc:creator>Juan Carlos Lucero Larenas</dc:creator>
  <dc:description/>
  <dc:language>en-US</dc:language>
  <cp:lastModifiedBy>Juan Carlos Lucero Larenas</cp:lastModifiedBy>
  <dcterms:modified xsi:type="dcterms:W3CDTF">2004-09-05T18:09:03Z</dcterms:modified>
  <cp:revision>3</cp:revision>
  <dc:subject/>
  <dc:title>PODER ÉTICA Y GESTIÓN</dc:title>
</cp:coreProperties>
</file>