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12E-93DC-4C26-89E9-1A583938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C42-D05A-45F3-B6BD-9C63CA59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1D8-0B13-4DED-B93C-6D0BB466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BB8-CD50-4362-B7E5-FC52A722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DF01A-8595-4C0B-8A64-CC1054E9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42AEE-66D9-4F93-BC2E-3B128249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76820-A2A0-4A29-9DBF-B610D32D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21E47-C306-4771-9E1D-0A7EBDC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18FC6-7263-4820-A31D-BAA0EB48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F1CBA-F78B-47AB-8466-2F7D811B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AF4A5-F915-466A-90E9-BB3446F5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F29-AB5E-4D32-B9B7-2352D8CC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64E7C-56DA-4CEB-B004-AC627EBE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3DCEA-D499-4579-ABAA-5DB2C97A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56A2A-3C8F-42CC-B688-60D5CB1E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9EEBC-0D6F-436D-8D25-3A12890A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4E8AF-FC3A-41A5-B915-138CC916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3FD-F806-4561-9203-E7B592D0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20D-4E11-45DA-94BC-73A69040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673-2A9C-4DD0-81A3-796BD6FF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8D8-87D5-42D6-A9D2-EE3BE669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E0F-C69D-41B6-A0BD-C917BC6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9FB-7F80-4A64-96F8-3A316A1C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36E-63C7-4B10-B61B-E28CD4C5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1FBF-862F-4985-8ED6-0A0232901E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DD5D-8149-4258-A726-43D0273FC0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storia de Luis Pas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Historia de Luis Paste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articulan tres convers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la quí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l Microsco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quiebres de l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poder como la capacidad de producir mayor efectividad valorada por la comunidad relev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es suficiente la capacidad de ser efectivo, es necesario generar un espacio para que sea recono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dos de ánimo centrales  para producir po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ersev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taleza emo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44:36Z</dcterms:created>
  <dc:creator>Juan Carlos Lucero Larenas</dc:creator>
  <dc:description/>
  <dc:language>en-US</dc:language>
  <cp:lastModifiedBy>Juan Carlos Lucero Larenas</cp:lastModifiedBy>
  <dcterms:modified xsi:type="dcterms:W3CDTF">2004-09-05T18:09:03Z</dcterms:modified>
  <cp:revision>3</cp:revision>
  <dc:subject/>
  <dc:title>PODER ÉTICA Y GESTIÓN</dc:title>
</cp:coreProperties>
</file>