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1760-15EA-4F8B-8791-A42AD121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6523-C6A2-49AB-9339-0C6A45F2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7E76-0D9A-4957-A80E-F2E489B1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DFA1-D78D-44C1-847D-FA6CE1655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B52A4-8C5B-4CB4-97BA-5E2AC7F3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30420-AAEA-49C0-AC23-21E557F4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40ECC-A8A0-49F6-9D24-678DADFF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42823-D9A8-4023-A825-7EABE7F0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E94E6-C705-42B6-B968-BE34FBCA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24E37-E49B-4888-A1CA-58CD3D69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FB210-4C2C-4435-836A-B3E239F2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8F47-CFFD-4C05-A392-3DD42621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D97CB-BC43-42F1-B954-E955755E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7CE50-3B77-4629-B85E-07B56635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00DD9-50E7-4731-91B6-9191119D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9C9C4-4EF4-4C32-92B8-3E06F1A7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453FE-F0CC-41F6-A2D3-4120FE6E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0D22-1AAD-4288-87DF-2B9C4423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15F2-2A0C-4B16-BB7C-E3CE4397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2B86-885B-4188-A6C0-65F0DCBA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DCE1-1465-4F19-82B8-E32BA13E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A2A3-B20A-4BA7-B852-53CAC08C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0A58-DFD6-4514-B8A7-793CBD0A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EA3A-44ED-41E8-B8FA-5BB840D9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4D68-6B3E-48F2-AA98-2156F2309F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0B9F-33A5-4268-BEE3-3B5EA10F30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clucero@dyg.cl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DER ÉTICA Y GESTIÓ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65120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lase Nro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istoria de Luis Paste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-5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.:Juan Carlos Lucero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. Aux.:Günther kallina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uanclucero@dyg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cccc"/>
                </a:solidFill>
                <a:latin typeface="Arial"/>
              </a:rPr>
              <a:t>gkallina@gruposol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3e3ff"/>
                </a:solidFill>
                <a:latin typeface="Arial"/>
              </a:rPr>
              <a:t>Historia de Luis Pasteu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 articulan tres conversa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ación de la quím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ación del Microscop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ación de quiebres de la comun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 poder como la capacidad de producir mayor efectividad valorada por la comunidad relev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 es suficiente la capacidad de ser efectivo, es necesario generar un espacio para que sea reconoc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tados de ánimo centrales  para producir pod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ersevera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taleza emo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i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labor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02:44:36Z</dcterms:created>
  <dc:creator>Juan Carlos Lucero Larenas</dc:creator>
  <dc:description/>
  <dc:language>en-US</dc:language>
  <cp:lastModifiedBy>Juan Carlos Lucero Larenas</cp:lastModifiedBy>
  <dcterms:modified xsi:type="dcterms:W3CDTF">2004-09-05T18:09:03Z</dcterms:modified>
  <cp:revision>3</cp:revision>
  <dc:subject/>
  <dc:title>PODER ÉTICA Y GESTIÓN</dc:title>
</cp:coreProperties>
</file>