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432-AFA5-468B-844A-73BA6E9F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16CC-EE7B-4838-8F37-39A5FB0D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D13-4AC1-4CC3-8685-4A5BB569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418-0A23-4E58-AFA1-3895D85C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5794-1DBE-4ED2-B23E-39574BFF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B5A4-F39C-4216-A740-6866B58F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667F-28D7-4159-868E-F27A5446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3F73-8026-4CAA-8A6F-38EA1668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4EA2-0ABA-4262-89A3-4B67C6B1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F59B-404F-412C-B77D-C81E027B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50DB-DD4D-482F-A1FF-2D49A4B1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CA2-98BA-4BB3-81CC-2D18E28A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CD63-C1A1-471F-B8AD-CA8E16C3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900E-3A09-435D-87AC-21141390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B412-73D6-4456-9D64-F21584B5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4371-03DB-4CF7-8ABD-02A37E79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5346-3D71-49DA-87F1-3990CFE8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381-9010-4FA2-B26A-F82AC85C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FBA-CE00-426D-85E8-E1241922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DEF-B97F-4F07-B90D-763F0205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F2D-9D9C-4876-A2B2-6229819D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B52-3C87-46A4-B312-A26A3F3E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223-27E0-414C-A536-EE152EA4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53A-AAF1-4F4F-ABE7-8D1C9361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55FE-3B50-4CE1-BADC-72726BD049C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25EE-3267-49DA-8F0F-1D3CD09E269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200"/>
            <a:ext cx="7097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ecnologías de información para la gestión de abastecimiento (parte 1)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4A42-30CA-4D49-8513-5076BED668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1: Sistemas aislad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169-26FF-4A3C-B245-5E83B593A2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2: Interfas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3564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3" idx="0"/>
            <a:endCxn id="161" idx="0"/>
          </p:cNvCxnSpPr>
          <p:nvPr/>
        </p:nvCxnSpPr>
        <p:spPr>
          <a:xfrm flipV="1">
            <a:off x="1979280" y="2422440"/>
            <a:ext cx="8658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2" idx="0"/>
            <a:endCxn id="161" idx="1"/>
          </p:cNvCxnSpPr>
          <p:nvPr/>
        </p:nvCxnSpPr>
        <p:spPr>
          <a:xfrm flipH="1" flipV="1">
            <a:off x="2844360" y="2422440"/>
            <a:ext cx="424728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3" idx="1"/>
            <a:endCxn id="164" idx="0"/>
          </p:cNvCxnSpPr>
          <p:nvPr/>
        </p:nvCxnSpPr>
        <p:spPr>
          <a:xfrm flipV="1">
            <a:off x="1979280" y="2422440"/>
            <a:ext cx="43203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2" idx="1"/>
            <a:endCxn id="164" idx="1"/>
          </p:cNvCxnSpPr>
          <p:nvPr/>
        </p:nvCxnSpPr>
        <p:spPr>
          <a:xfrm flipH="1" flipV="1">
            <a:off x="6298920" y="2422440"/>
            <a:ext cx="7927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2"/>
            <a:endCxn id="161" idx="2"/>
          </p:cNvCxnSpPr>
          <p:nvPr/>
        </p:nvCxnSpPr>
        <p:spPr>
          <a:xfrm flipH="1">
            <a:off x="3708000" y="2098440"/>
            <a:ext cx="172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111600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564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0" idx="0"/>
            <a:endCxn id="163" idx="2"/>
          </p:cNvCxnSpPr>
          <p:nvPr/>
        </p:nvCxnSpPr>
        <p:spPr>
          <a:xfrm flipV="1">
            <a:off x="1979280" y="371412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1" idx="0"/>
            <a:endCxn id="162" idx="2"/>
          </p:cNvCxnSpPr>
          <p:nvPr/>
        </p:nvCxnSpPr>
        <p:spPr>
          <a:xfrm flipV="1">
            <a:off x="7090920" y="371412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2" idx="0"/>
            <a:endCxn id="161" idx="3"/>
          </p:cNvCxnSpPr>
          <p:nvPr/>
        </p:nvCxnSpPr>
        <p:spPr>
          <a:xfrm flipH="1" rot="10800000">
            <a:off x="1980000" y="2098080"/>
            <a:ext cx="2520" cy="3960000"/>
          </a:xfrm>
          <a:prstGeom prst="bentConnector3">
            <a:avLst>
              <a:gd name="adj1" fmla="val -97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3" idx="0"/>
            <a:endCxn id="161" idx="4"/>
          </p:cNvCxnSpPr>
          <p:nvPr/>
        </p:nvCxnSpPr>
        <p:spPr>
          <a:xfrm flipH="1" flipV="1">
            <a:off x="2844000" y="1773000"/>
            <a:ext cx="4318920" cy="4285440"/>
          </a:xfrm>
          <a:prstGeom prst="bentConnector4">
            <a:avLst>
              <a:gd name="adj1" fmla="val -33527"/>
              <a:gd name="adj2" fmla="val 1053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0" idx="1"/>
            <a:endCxn id="172" idx="1"/>
          </p:cNvCxnSpPr>
          <p:nvPr/>
        </p:nvCxnSpPr>
        <p:spPr>
          <a:xfrm>
            <a:off x="1979280" y="5011200"/>
            <a:ext cx="86580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2"/>
            <a:endCxn id="173" idx="1"/>
          </p:cNvCxnSpPr>
          <p:nvPr/>
        </p:nvCxnSpPr>
        <p:spPr>
          <a:xfrm>
            <a:off x="3708360" y="6057720"/>
            <a:ext cx="172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3" idx="2"/>
            <a:endCxn id="171" idx="1"/>
          </p:cNvCxnSpPr>
          <p:nvPr/>
        </p:nvCxnSpPr>
        <p:spPr>
          <a:xfrm flipV="1">
            <a:off x="6299280" y="5010840"/>
            <a:ext cx="79272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1" idx="2"/>
            <a:endCxn id="173" idx="3"/>
          </p:cNvCxnSpPr>
          <p:nvPr/>
        </p:nvCxnSpPr>
        <p:spPr>
          <a:xfrm flipH="1" flipV="1" rot="10800000">
            <a:off x="6226560" y="4687560"/>
            <a:ext cx="72360" cy="1045440"/>
          </a:xfrm>
          <a:prstGeom prst="bentConnector4">
            <a:avLst>
              <a:gd name="adj1" fmla="val -320000"/>
              <a:gd name="adj2" fmla="val 654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2" idx="3"/>
            <a:endCxn id="170" idx="2"/>
          </p:cNvCxnSpPr>
          <p:nvPr/>
        </p:nvCxnSpPr>
        <p:spPr>
          <a:xfrm flipV="1" rot="16200000">
            <a:off x="2050920" y="4938840"/>
            <a:ext cx="721800" cy="86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63" idx="3"/>
            <a:endCxn id="170" idx="3"/>
          </p:cNvCxnSpPr>
          <p:nvPr/>
        </p:nvCxnSpPr>
        <p:spPr>
          <a:xfrm flipH="1" flipV="1" rot="10800000">
            <a:off x="1115640" y="3389760"/>
            <a:ext cx="2160" cy="1297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708360" y="328140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465300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5" idx="0"/>
            <a:endCxn id="184" idx="0"/>
          </p:cNvCxnSpPr>
          <p:nvPr/>
        </p:nvCxnSpPr>
        <p:spPr>
          <a:xfrm flipV="1">
            <a:off x="4571640" y="3929760"/>
            <a:ext cx="1080" cy="7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85" idx="1"/>
            <a:endCxn id="172" idx="4"/>
          </p:cNvCxnSpPr>
          <p:nvPr/>
        </p:nvCxnSpPr>
        <p:spPr>
          <a:xfrm flipH="1">
            <a:off x="2844000" y="4978080"/>
            <a:ext cx="86436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5" idx="2"/>
            <a:endCxn id="173" idx="4"/>
          </p:cNvCxnSpPr>
          <p:nvPr/>
        </p:nvCxnSpPr>
        <p:spPr>
          <a:xfrm>
            <a:off x="5435280" y="4978080"/>
            <a:ext cx="86436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9" name=""/>
          <p:cNvCxnSpPr>
            <a:stCxn id="184" idx="1"/>
            <a:endCxn id="163" idx="4"/>
          </p:cNvCxnSpPr>
          <p:nvPr/>
        </p:nvCxnSpPr>
        <p:spPr>
          <a:xfrm flipH="1" flipV="1">
            <a:off x="2842560" y="3390480"/>
            <a:ext cx="86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" name=""/>
          <p:cNvCxnSpPr>
            <a:stCxn id="184" idx="2"/>
            <a:endCxn id="162" idx="3"/>
          </p:cNvCxnSpPr>
          <p:nvPr/>
        </p:nvCxnSpPr>
        <p:spPr>
          <a:xfrm flipV="1">
            <a:off x="5435640" y="3390480"/>
            <a:ext cx="792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1" name=""/>
          <p:cNvCxnSpPr>
            <a:stCxn id="184" idx="3"/>
            <a:endCxn id="170" idx="4"/>
          </p:cNvCxnSpPr>
          <p:nvPr/>
        </p:nvCxnSpPr>
        <p:spPr>
          <a:xfrm flipH="1">
            <a:off x="2842560" y="3606480"/>
            <a:ext cx="86580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2" name=""/>
          <p:cNvCxnSpPr>
            <a:stCxn id="184" idx="4"/>
            <a:endCxn id="172" idx="5"/>
          </p:cNvCxnSpPr>
          <p:nvPr/>
        </p:nvCxnSpPr>
        <p:spPr>
          <a:xfrm flipH="1">
            <a:off x="2844000" y="3606480"/>
            <a:ext cx="864360" cy="212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3" name=""/>
          <p:cNvCxnSpPr>
            <a:stCxn id="185" idx="3"/>
            <a:endCxn id="173" idx="5"/>
          </p:cNvCxnSpPr>
          <p:nvPr/>
        </p:nvCxnSpPr>
        <p:spPr>
          <a:xfrm>
            <a:off x="4572000" y="5302080"/>
            <a:ext cx="172800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"/>
          <p:cNvCxnSpPr>
            <a:stCxn id="185" idx="4"/>
            <a:endCxn id="172" idx="6"/>
          </p:cNvCxnSpPr>
          <p:nvPr/>
        </p:nvCxnSpPr>
        <p:spPr>
          <a:xfrm flipH="1">
            <a:off x="2844360" y="5302080"/>
            <a:ext cx="172800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" name=""/>
          <p:cNvCxnSpPr>
            <a:stCxn id="170" idx="5"/>
            <a:endCxn id="185" idx="5"/>
          </p:cNvCxnSpPr>
          <p:nvPr/>
        </p:nvCxnSpPr>
        <p:spPr>
          <a:xfrm>
            <a:off x="2761920" y="4687560"/>
            <a:ext cx="10278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6" name=""/>
          <p:cNvCxnSpPr>
            <a:stCxn id="171" idx="3"/>
            <a:endCxn id="185" idx="6"/>
          </p:cNvCxnSpPr>
          <p:nvPr/>
        </p:nvCxnSpPr>
        <p:spPr>
          <a:xfrm flipH="1">
            <a:off x="5354280" y="4687560"/>
            <a:ext cx="95472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7" name=""/>
          <p:cNvCxnSpPr>
            <a:stCxn id="184" idx="5"/>
            <a:endCxn id="171" idx="4"/>
          </p:cNvCxnSpPr>
          <p:nvPr/>
        </p:nvCxnSpPr>
        <p:spPr>
          <a:xfrm>
            <a:off x="5435280" y="3606480"/>
            <a:ext cx="8737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8" name=""/>
          <p:cNvCxnSpPr>
            <a:stCxn id="184" idx="6"/>
            <a:endCxn id="164" idx="3"/>
          </p:cNvCxnSpPr>
          <p:nvPr/>
        </p:nvCxnSpPr>
        <p:spPr>
          <a:xfrm flipV="1">
            <a:off x="4571640" y="2098080"/>
            <a:ext cx="864360" cy="11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9" name=""/>
          <p:cNvCxnSpPr>
            <a:stCxn id="184" idx="7"/>
            <a:endCxn id="161" idx="5"/>
          </p:cNvCxnSpPr>
          <p:nvPr/>
        </p:nvCxnSpPr>
        <p:spPr>
          <a:xfrm flipH="1" flipV="1">
            <a:off x="3707640" y="2098080"/>
            <a:ext cx="864360" cy="11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3F3-4C97-4183-AA33-4214057FEF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3: Sistemas integrad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45080" y="3506760"/>
            <a:ext cx="1655640" cy="1214640"/>
          </a:xfrm>
          <a:prstGeom prst="ca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se de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95400" y="249228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93080" y="335592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335592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9880" y="249228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21956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21956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95400" y="5083200"/>
            <a:ext cx="172728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19880" y="508320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162864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594828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1" idx="1"/>
            <a:endCxn id="205" idx="0"/>
          </p:cNvCxnSpPr>
          <p:nvPr/>
        </p:nvCxnSpPr>
        <p:spPr>
          <a:xfrm flipV="1">
            <a:off x="4573080" y="3141360"/>
            <a:ext cx="18104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3" name=""/>
          <p:cNvCxnSpPr>
            <a:stCxn id="201" idx="1"/>
            <a:endCxn id="210" idx="0"/>
          </p:cNvCxnSpPr>
          <p:nvPr/>
        </p:nvCxnSpPr>
        <p:spPr>
          <a:xfrm flipH="1" flipV="1">
            <a:off x="4571640" y="2277360"/>
            <a:ext cx="2160" cy="122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4" name=""/>
          <p:cNvCxnSpPr>
            <a:stCxn id="201" idx="1"/>
            <a:endCxn id="202" idx="0"/>
          </p:cNvCxnSpPr>
          <p:nvPr/>
        </p:nvCxnSpPr>
        <p:spPr>
          <a:xfrm flipH="1" flipV="1">
            <a:off x="2758680" y="3141360"/>
            <a:ext cx="181512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1" idx="2"/>
            <a:endCxn id="206" idx="0"/>
          </p:cNvCxnSpPr>
          <p:nvPr/>
        </p:nvCxnSpPr>
        <p:spPr>
          <a:xfrm flipH="1">
            <a:off x="2050560" y="4114440"/>
            <a:ext cx="16948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6" name=""/>
          <p:cNvCxnSpPr>
            <a:stCxn id="201" idx="2"/>
            <a:endCxn id="204" idx="0"/>
          </p:cNvCxnSpPr>
          <p:nvPr/>
        </p:nvCxnSpPr>
        <p:spPr>
          <a:xfrm flipH="1" flipV="1">
            <a:off x="2050560" y="3681000"/>
            <a:ext cx="16948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7" name=""/>
          <p:cNvCxnSpPr>
            <a:stCxn id="201" idx="4"/>
            <a:endCxn id="203" idx="0"/>
          </p:cNvCxnSpPr>
          <p:nvPr/>
        </p:nvCxnSpPr>
        <p:spPr>
          <a:xfrm flipV="1">
            <a:off x="5400360" y="3681000"/>
            <a:ext cx="1693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"/>
          <p:cNvCxnSpPr>
            <a:stCxn id="201" idx="4"/>
            <a:endCxn id="207" idx="0"/>
          </p:cNvCxnSpPr>
          <p:nvPr/>
        </p:nvCxnSpPr>
        <p:spPr>
          <a:xfrm>
            <a:off x="5400360" y="4114440"/>
            <a:ext cx="1693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9" name=""/>
          <p:cNvCxnSpPr>
            <a:stCxn id="201" idx="3"/>
            <a:endCxn id="211" idx="0"/>
          </p:cNvCxnSpPr>
          <p:nvPr/>
        </p:nvCxnSpPr>
        <p:spPr>
          <a:xfrm flipH="1">
            <a:off x="4571640" y="4721400"/>
            <a:ext cx="2160" cy="122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01" idx="3"/>
            <a:endCxn id="208" idx="0"/>
          </p:cNvCxnSpPr>
          <p:nvPr/>
        </p:nvCxnSpPr>
        <p:spPr>
          <a:xfrm flipH="1">
            <a:off x="2758680" y="4721040"/>
            <a:ext cx="181512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01" idx="3"/>
            <a:endCxn id="209" idx="0"/>
          </p:cNvCxnSpPr>
          <p:nvPr/>
        </p:nvCxnSpPr>
        <p:spPr>
          <a:xfrm>
            <a:off x="4573080" y="4721040"/>
            <a:ext cx="181044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79280" y="1557360"/>
            <a:ext cx="8785440" cy="51116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76920" y="6093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506-0240-423A-B780-CE79C4A0A9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000"/>
            </a:b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tapa 4: Integración con entorn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218040" y="3250800"/>
            <a:ext cx="2706480" cy="2637000"/>
            <a:chOff x="3218040" y="3250800"/>
            <a:chExt cx="2706480" cy="26370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3218040" y="3250800"/>
              <a:ext cx="2706480" cy="26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 rot="5400000">
              <a:off x="4000680" y="3983760"/>
              <a:ext cx="1141560" cy="1172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E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5400000">
              <a:off x="3911400" y="530316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C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4098240" y="360252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3580200" y="39571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5361120" y="4414320"/>
              <a:ext cx="3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979560" y="40672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05520" y="40672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32" idx="6"/>
            <a:endCxn id="226" idx="2"/>
          </p:cNvCxnSpPr>
          <p:nvPr/>
        </p:nvCxnSpPr>
        <p:spPr>
          <a:xfrm flipV="1">
            <a:off x="2238480" y="3252960"/>
            <a:ext cx="2334240" cy="1271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235" name=""/>
          <p:cNvCxnSpPr>
            <a:stCxn id="226" idx="0"/>
            <a:endCxn id="233" idx="2"/>
          </p:cNvCxnSpPr>
          <p:nvPr/>
        </p:nvCxnSpPr>
        <p:spPr>
          <a:xfrm flipV="1">
            <a:off x="4572000" y="4524120"/>
            <a:ext cx="2334240" cy="1365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3941640" y="15778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ue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6" idx="4"/>
            <a:endCxn id="226" idx="1"/>
          </p:cNvCxnSpPr>
          <p:nvPr/>
        </p:nvCxnSpPr>
        <p:spPr>
          <a:xfrm>
            <a:off x="4571640" y="2491920"/>
            <a:ext cx="1354680" cy="207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BB8-94EE-4199-BA1F-3FADC22576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inter-empres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odelo de intercambi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50920" y="2349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50920" y="3573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797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80000" y="2349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80000" y="3573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80000" y="4797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2" idx="2"/>
            <a:endCxn id="239" idx="6"/>
          </p:cNvCxnSpPr>
          <p:nvPr/>
        </p:nvCxnSpPr>
        <p:spPr>
          <a:xfrm flipH="1">
            <a:off x="2663640" y="2806200"/>
            <a:ext cx="3816720" cy="108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6" name=""/>
          <p:cNvCxnSpPr>
            <a:stCxn id="242" idx="2"/>
            <a:endCxn id="240" idx="6"/>
          </p:cNvCxnSpPr>
          <p:nvPr/>
        </p:nvCxnSpPr>
        <p:spPr>
          <a:xfrm flipH="1">
            <a:off x="2663640" y="2806560"/>
            <a:ext cx="3816720" cy="122472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7" name=""/>
          <p:cNvCxnSpPr>
            <a:stCxn id="242" idx="2"/>
            <a:endCxn id="241" idx="6"/>
          </p:cNvCxnSpPr>
          <p:nvPr/>
        </p:nvCxnSpPr>
        <p:spPr>
          <a:xfrm flipH="1">
            <a:off x="2663640" y="2806560"/>
            <a:ext cx="3816720" cy="244872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8" name=""/>
          <p:cNvCxnSpPr>
            <a:stCxn id="243" idx="2"/>
            <a:endCxn id="239" idx="6"/>
          </p:cNvCxnSpPr>
          <p:nvPr/>
        </p:nvCxnSpPr>
        <p:spPr>
          <a:xfrm flipH="1" flipV="1">
            <a:off x="2663640" y="2806200"/>
            <a:ext cx="3816720" cy="122472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9" name=""/>
          <p:cNvCxnSpPr>
            <a:stCxn id="243" idx="2"/>
            <a:endCxn id="240" idx="6"/>
          </p:cNvCxnSpPr>
          <p:nvPr/>
        </p:nvCxnSpPr>
        <p:spPr>
          <a:xfrm flipH="1">
            <a:off x="2663640" y="4030200"/>
            <a:ext cx="3816720" cy="108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0" name=""/>
          <p:cNvCxnSpPr/>
          <p:nvPr/>
        </p:nvCxnSpPr>
        <p:spPr>
          <a:xfrm flipH="1">
            <a:off x="2699640" y="4005360"/>
            <a:ext cx="3817080" cy="122472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1" name=""/>
          <p:cNvCxnSpPr>
            <a:stCxn id="244" idx="2"/>
            <a:endCxn id="239" idx="6"/>
          </p:cNvCxnSpPr>
          <p:nvPr/>
        </p:nvCxnSpPr>
        <p:spPr>
          <a:xfrm flipH="1" flipV="1">
            <a:off x="2663640" y="2806200"/>
            <a:ext cx="3816720" cy="244872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"/>
          <p:cNvCxnSpPr>
            <a:stCxn id="244" idx="2"/>
            <a:endCxn id="240" idx="6"/>
          </p:cNvCxnSpPr>
          <p:nvPr/>
        </p:nvCxnSpPr>
        <p:spPr>
          <a:xfrm flipH="1" flipV="1">
            <a:off x="2663640" y="4030200"/>
            <a:ext cx="3816720" cy="122472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3" name=""/>
          <p:cNvCxnSpPr>
            <a:stCxn id="244" idx="2"/>
            <a:endCxn id="241" idx="6"/>
          </p:cNvCxnSpPr>
          <p:nvPr/>
        </p:nvCxnSpPr>
        <p:spPr>
          <a:xfrm flipH="1">
            <a:off x="2663640" y="5254200"/>
            <a:ext cx="3816720" cy="108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A58-4796-4715-8985-A41413A099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inter-empres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50920" y="2349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50920" y="3573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50920" y="4797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80000" y="2349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80000" y="3573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80000" y="4797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14920" y="3573360"/>
            <a:ext cx="1512720" cy="9144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55" idx="6"/>
            <a:endCxn id="261" idx="2"/>
          </p:cNvCxnSpPr>
          <p:nvPr/>
        </p:nvCxnSpPr>
        <p:spPr>
          <a:xfrm>
            <a:off x="2663640" y="2806560"/>
            <a:ext cx="11516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3" name=""/>
          <p:cNvCxnSpPr>
            <a:stCxn id="256" idx="6"/>
            <a:endCxn id="261" idx="2"/>
          </p:cNvCxnSpPr>
          <p:nvPr/>
        </p:nvCxnSpPr>
        <p:spPr>
          <a:xfrm>
            <a:off x="2663640" y="403020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"/>
          <p:cNvCxnSpPr>
            <a:stCxn id="257" idx="6"/>
            <a:endCxn id="261" idx="2"/>
          </p:cNvCxnSpPr>
          <p:nvPr/>
        </p:nvCxnSpPr>
        <p:spPr>
          <a:xfrm flipV="1">
            <a:off x="2663640" y="4030200"/>
            <a:ext cx="11516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"/>
          <p:cNvCxnSpPr>
            <a:stCxn id="261" idx="6"/>
            <a:endCxn id="258" idx="2"/>
          </p:cNvCxnSpPr>
          <p:nvPr/>
        </p:nvCxnSpPr>
        <p:spPr>
          <a:xfrm flipV="1">
            <a:off x="5327280" y="2806200"/>
            <a:ext cx="11527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6" name=""/>
          <p:cNvCxnSpPr>
            <a:stCxn id="261" idx="6"/>
            <a:endCxn id="259" idx="2"/>
          </p:cNvCxnSpPr>
          <p:nvPr/>
        </p:nvCxnSpPr>
        <p:spPr>
          <a:xfrm>
            <a:off x="5327280" y="4030200"/>
            <a:ext cx="115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0" idx="2"/>
          </p:cNvCxnSpPr>
          <p:nvPr/>
        </p:nvCxnSpPr>
        <p:spPr>
          <a:xfrm>
            <a:off x="5327280" y="4030560"/>
            <a:ext cx="11527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4CB-F8BA-4462-AB8F-0F640811F3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Cloud"/>
          <p:cNvSpPr/>
          <p:nvPr/>
        </p:nvSpPr>
        <p:spPr>
          <a:xfrm>
            <a:off x="2987640" y="1900080"/>
            <a:ext cx="1262160" cy="4768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I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844640"/>
            <a:ext cx="4321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ormas de interconex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32720" y="3500280"/>
            <a:ext cx="1871640" cy="1511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a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3280" y="5156280"/>
            <a:ext cx="3961080" cy="72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io de mensaj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3280" y="3500280"/>
            <a:ext cx="1873440" cy="151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oste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43280" y="2637000"/>
            <a:ext cx="3961080" cy="72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ios de valor agr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23000" y="2054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2349360"/>
            <a:ext cx="13683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5068800"/>
            <a:ext cx="13683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5068800"/>
            <a:ext cx="86364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1480" y="184464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Hoste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6" idx="3"/>
            <a:endCxn id="273" idx="1"/>
          </p:cNvCxnSpPr>
          <p:nvPr/>
        </p:nvCxnSpPr>
        <p:spPr>
          <a:xfrm>
            <a:off x="1619280" y="2806200"/>
            <a:ext cx="3024720" cy="145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1" name=""/>
          <p:cNvCxnSpPr>
            <a:stCxn id="277" idx="3"/>
            <a:endCxn id="278" idx="1"/>
          </p:cNvCxnSpPr>
          <p:nvPr/>
        </p:nvCxnSpPr>
        <p:spPr>
          <a:xfrm>
            <a:off x="1619280" y="5525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2" name=""/>
          <p:cNvCxnSpPr>
            <a:stCxn id="278" idx="3"/>
            <a:endCxn id="272" idx="1"/>
          </p:cNvCxnSpPr>
          <p:nvPr/>
        </p:nvCxnSpPr>
        <p:spPr>
          <a:xfrm flipV="1">
            <a:off x="2771280" y="5516280"/>
            <a:ext cx="18723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2" idx="2"/>
            <a:endCxn id="284" idx="3"/>
          </p:cNvCxnSpPr>
          <p:nvPr/>
        </p:nvCxnSpPr>
        <p:spPr>
          <a:xfrm rot="5400000">
            <a:off x="3841200" y="3654360"/>
            <a:ext cx="560880" cy="5006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Letter"/>
          <p:cNvSpPr/>
          <p:nvPr/>
        </p:nvSpPr>
        <p:spPr>
          <a:xfrm>
            <a:off x="2987640" y="5445000"/>
            <a:ext cx="432000" cy="287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6203880"/>
            <a:ext cx="1368360" cy="46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77" idx="2"/>
            <a:endCxn id="284" idx="0"/>
          </p:cNvCxnSpPr>
          <p:nvPr/>
        </p:nvCxnSpPr>
        <p:spPr>
          <a:xfrm>
            <a:off x="934560" y="5982840"/>
            <a:ext cx="10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7" name="Lock"/>
          <p:cNvSpPr/>
          <p:nvPr/>
        </p:nvSpPr>
        <p:spPr>
          <a:xfrm>
            <a:off x="2268360" y="6165720"/>
            <a:ext cx="268560" cy="4525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840" y="450864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te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831-0CEF-40C4-8942-F4DD634B22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br>
              <a:rPr sz="3500"/>
            </a:b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Funcionalida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4869000"/>
            <a:ext cx="6696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87280" y="2492280"/>
            <a:ext cx="6696360" cy="505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Compr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87280" y="3427560"/>
            <a:ext cx="187200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98920" y="342756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Fluj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342900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ervicios de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Valo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Agre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1" idx="2"/>
            <a:endCxn id="292" idx="0"/>
          </p:cNvCxnSpPr>
          <p:nvPr/>
        </p:nvCxnSpPr>
        <p:spPr>
          <a:xfrm flipH="1">
            <a:off x="2123280" y="2997000"/>
            <a:ext cx="24123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6" name=""/>
          <p:cNvCxnSpPr>
            <a:stCxn id="291" idx="2"/>
            <a:endCxn id="293" idx="0"/>
          </p:cNvCxnSpPr>
          <p:nvPr/>
        </p:nvCxnSpPr>
        <p:spPr>
          <a:xfrm>
            <a:off x="4535280" y="2997000"/>
            <a:ext cx="1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"/>
          <p:cNvCxnSpPr>
            <a:stCxn id="291" idx="2"/>
            <a:endCxn id="294" idx="0"/>
          </p:cNvCxnSpPr>
          <p:nvPr/>
        </p:nvCxnSpPr>
        <p:spPr>
          <a:xfrm>
            <a:off x="4535640" y="2997000"/>
            <a:ext cx="2413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8" name=""/>
          <p:cNvCxnSpPr>
            <a:stCxn id="290" idx="0"/>
            <a:endCxn id="292" idx="2"/>
          </p:cNvCxnSpPr>
          <p:nvPr/>
        </p:nvCxnSpPr>
        <p:spPr>
          <a:xfrm flipH="1" flipV="1">
            <a:off x="2123280" y="4435200"/>
            <a:ext cx="24123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" name=""/>
          <p:cNvCxnSpPr>
            <a:stCxn id="290" idx="0"/>
            <a:endCxn id="293" idx="2"/>
          </p:cNvCxnSpPr>
          <p:nvPr/>
        </p:nvCxnSpPr>
        <p:spPr>
          <a:xfrm flipV="1">
            <a:off x="4535280" y="44352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" name=""/>
          <p:cNvCxnSpPr>
            <a:stCxn id="290" idx="0"/>
            <a:endCxn id="294" idx="2"/>
          </p:cNvCxnSpPr>
          <p:nvPr/>
        </p:nvCxnSpPr>
        <p:spPr>
          <a:xfrm flipV="1">
            <a:off x="4535640" y="4436640"/>
            <a:ext cx="241344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971640" y="3284640"/>
            <a:ext cx="7129440" cy="1295280"/>
          </a:xfrm>
          <a:prstGeom prst="rect">
            <a:avLst/>
          </a:prstGeom>
          <a:noFill/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7680" y="457992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 Black"/>
              </a:rPr>
              <a:t>Market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B01-6853-48FD-B1D2-91F9F4DECF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34:13Z</dcterms:created>
  <dc:creator>Patricio Renner P.</dc:creator>
  <dc:description/>
  <dc:language>en-US</dc:language>
  <cp:lastModifiedBy>Patricio Renner P.</cp:lastModifiedBy>
  <dcterms:modified xsi:type="dcterms:W3CDTF">2004-09-23T12:14:45Z</dcterms:modified>
  <cp:revision>7</cp:revision>
  <dc:subject/>
  <dc:title>Tecnologías de información para la gestión de abastecimiento</dc:title>
</cp:coreProperties>
</file>