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0FB-2CBE-4E2D-BF6D-9F8AA160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317-ED2E-4CFE-8BF4-B3AECB4E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A52-471E-4FA5-AAD6-9CB9D05F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403-D044-4209-A76D-9D3CA94F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0C5B-460A-49A1-A71A-23593308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AE90-47EF-4C3D-A9C4-80FE9BF5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8270-A66C-488C-808E-FA03A1F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5FF8-9C64-42DF-9DD3-B017A0BE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6F83-8C6C-4255-9D89-50AF1826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AEFB-1C2D-42CE-A95F-FE966352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552-ABA0-4767-A55A-511998B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A84-914A-481B-8412-603710AE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4658-BCDC-4643-A399-C034DEC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8D19-0A60-4A2C-89DB-259BBA3A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F0A5-31E4-46EB-B532-F29964FD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18FB-F34E-4FCB-B8B5-9BBA6F55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465-2277-4A0B-A99D-FD0CC2C4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AFB-AF5F-45E7-89C4-52752EF6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3D1-4504-45B2-AFAA-E972643F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D7B-C7B9-41D6-BB9F-06AB323A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A79-2AB2-4202-B9BC-B046FD1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4CF-E9C3-4A5C-B47F-09F4671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FC3-5185-41EF-93F1-2AA4D47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BC5-668A-4C68-84A7-052AD6B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78A7-A360-4CDB-92F7-E757A21D0CA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9B2F-20F4-453B-B0E1-BEC0CF2889C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3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5. Preparación de las ba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r en las bases de licitación las condiciones relevantes del contrato a fir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administrar la parte central de la negociación en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darse cuenta en qué medida los proveedores pueden satisfacer las condiciones contractuales relevantes par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conocer en forma anticipada los elementos que deberán ser abordados en la negociación del contrato defin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ciones o restricciones leg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iveles de servicio exig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prest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actualización de precios y/o revisión de las condiciones contractu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evaluación del cumpl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as y mecanismos de apl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diciones de término del contr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rantí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general, cualquier elemento que pueda incidir en los costos o en el nivel de riesgo que va a asumir el propon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 las b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ir un documento de síntesis, que exprese claramente todas las condiciones relevantes que deberán ser satisfechas por e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r en equipos multidiscipl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términos de referencia muy restric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ilegiar opciones que dejen espacios de libertad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claramente el programa de actividades de la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ejar equipos revisores independientes de los red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y reda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gurar que las bases de licitación expresen adecuadamente las condiciones de satisfacción del servicio, se adecuen a las regulaciones y normativas vigentes, y hayan seguido los trámites de formalización correspondi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er a procesos de revisión exhaustivo los términos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derar una consulta pública de las bases a los proveedores (RFI) en las licitaciones de mayor 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zar Checklist para revisar que todos los elementos relevantes en la preparación de la licitación han sido cubi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lizar los procedimientos internos de formalización de la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anejo político institucional de la licitación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dentificar a los actores relevantes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el poder que tienen para incidir en el proceso, y su predisposición a colaborar / opon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clientes-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a unidad compr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organismos supervisores (Hacienda / Dipres / Midepl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tros actores relevantes  (Asociaciones gremiales / Fiscalía Nacional Económica / Opinión Públ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posibles objeciones frente al proceso de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a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rategia comunicacional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clientes-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otros agent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ección de l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modelo, sus fundamentos y los impactos estimados a los actor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de manejo de obje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 a otros casos similares y los impactos que han 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anzas con actores relevant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jurídico (recurrir a otras experiencias similares, consultar a la jurisprud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lgunas reflexiones al cier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thing first” (Peter Druck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izar las compras de mayor impa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o de la comp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ortunidades de mejor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xperiencias pilo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 van a hacer solos, no partir por lo más difí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bios en la forma en que compramos demandan esfuerzos de meses, y requieren que destinemos nuestros mejores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rtir en el proceso de compra: un seguro para comprar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er conciencia del proceso de 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bajo T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1: Selección del 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cotar 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ustificar la selección d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2: Alternativ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as alternativas a evalu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Co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os ítems de costo que se considerarán en el mode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uantificar los co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Supue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dicar los supuestos empleados en el modelo y su justif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4: Cálculo del T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tregar planilla Excel con detalle de los cálcu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ostrar resultados en el infor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5: Comparación TCO v/s pre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nalizar si se producen diferencias la decisión que se tomaría con el TCO v/s la que se tomaría sólo con el 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22:30Z</dcterms:modified>
  <cp:revision>6</cp:revision>
  <dc:subject/>
  <dc:title>Cómo enfrentar procesos de compra poco competitivos</dc:title>
</cp:coreProperties>
</file>