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BDD7-D6B4-4B0A-809E-A84EF59BA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BE32-D538-4A14-9998-A5DD38CE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7C64-BC65-4F12-8940-2BC13E20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DD88-F6EC-4596-AC20-D22FDD2FE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5E90-14EB-4865-9544-B293A8D74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FA0C-33BB-4F49-892C-C9BAE552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BAD7-721C-4565-8619-02C3DF2B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C5D4-723F-481D-9EEB-9E91EE2E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BA94-1199-4F66-96DD-0D81DD0A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405C-A41D-45BB-BF08-6A59F29E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19A4-1C40-40CD-909A-5F3E0A20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5067-9F31-4BDC-A98C-37CF8DE9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ABEA-0482-447B-9D0C-1F9CC865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DF46-6B5E-47D9-B9E1-B5A10CD9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959F-C8B8-4FEB-B93C-76EAD5D3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942B-EC57-4A48-AA27-39C074F3E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4CED-837C-4663-AC0B-84F766F0E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79CB-FDAC-4CD7-9921-5A86C12E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15F9-1DDF-4708-832B-F8592BDD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D764-C19D-43F3-8ED6-02297B5B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B56F-F717-403F-A2A8-0C7FA97F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620E-FD7C-42B4-865F-41C21BAC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A7C9-1C7B-4AE5-9F86-5446150E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81E9-8C38-4168-A754-836B37A5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239E-7CE8-4E6E-A718-320460057D6C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227D-FF54-4E4A-B52C-66AA844A2CF0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1238040"/>
            <a:ext cx="655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0066"/>
                </a:solidFill>
                <a:latin typeface="Arial"/>
              </a:rPr>
              <a:t>Gestión estratégica de licitaciones (parte 3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626920" y="3860280"/>
            <a:ext cx="446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RFI</a:t>
            </a:r>
            <a:br>
              <a:rPr sz="3900"/>
            </a:b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Request for inform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ecanismo que se usa durante los estudios pre-licitatorios, para realizar consultas públicas y abiertas a los posibles proveedores de una licit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Usos de la RF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ocer nuevas soluciones que está ofreciendo 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ar espacio a los proveedores para que propongan modelo de negocios, que den eficiencia a la li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jorar la redacción de las bases de li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jemplos de RF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de la plataforma ChileComp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de la ruta 5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del Registro Nacional de Provee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sistema clínico y financiero Integramé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5. Preparación de las bas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álisis contractual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dament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orporar en las bases de licitación las condiciones relevantes del contrato a firm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nefic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mite administrar la parte central de la negociación en condiciones de compe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mite darse cuenta en qué medida los proveedores pueden satisfacer las condiciones contractuales relevantes para la empre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mite conocer en forma anticipada los elementos que deberán ser abordados en la negociación del contrato defini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álisis contractual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mentos a consider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gulaciones o restricciones leg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iveles de servicio exigid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ciones de prestación del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anismos de 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canismos de actualización de precios y/o revisión de las condiciones contractu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canismos de evaluación del cumplimien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ultas y mecanismos de aplic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diciones de término del contra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arantías y segur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 general, cualquier elemento que pueda incidir en los costos o en el nivel de riesgo que va a asumir el proponen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acción de las b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ir un documento de síntesis, que exprese claramente todas las condiciones relevantes que deberán ser satisfechas por el provee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bajar en equipos multidisciplin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itar términos de referencia muy restric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vilegiar opciones que dejen espacios de libertad al provee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r claramente el programa de actividades de la lici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ejar equipos revisores independientes de los redact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visión y redac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egurar que las bases de licitación expresen adecuadamente las condiciones de satisfacción del servicio, se adecuen a las regulaciones y normativas vigentes, y hayan seguido los trámites de formalización correspondient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meter a procesos de revisión exhaustivo los términos de ref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iderar una consulta pública de las bases a los proveedores (RFI) en las licitaciones de mayor complej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tilizar Checklist para revisar que todos los elementos relevantes en la preparación de la licitación han sido cubier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alizar los procedimientos internos de formalización de las 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Manejo político institucional de la licitación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aliz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dentificar a los actores relevantes del proce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nalizar el poder que tienen para incidir en el proceso, y su predisposición a colaborar / oponer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ovee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der de los clientes-usu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der de la unidad comprad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der de los organismos supervisores (Hacienda / Dipres / Midepla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tros actores relevantes  (Asociaciones gremiales / Fiscalía Nacional Económica / Opinión Públic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nalizar posibles objeciones frente al proceso de licit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epar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trategia comunicacional del proces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cia los clientes-usu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cia los provee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cia otros agente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tección de la licit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ción del modelo, sus fundamentos y los impactos estimados a los actore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al de manejo de obje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ia a otros casos similares y los impactos que han ten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anzas con actores relevantes del ento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álisis jurídico (recurrir a otras experiencias similares, consultar a la jurisprudenc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Algunas reflexiones al cierr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o sistémico de gestión de licitaci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763640" y="1352520"/>
          <a:ext cx="5616720" cy="53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352520"/>
                    <a:ext cx="561672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omendaci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st thing first” (Peter Druck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orizar las compras de mayor impac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to de la comp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ortunidades de mejor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lizar experiencias pilo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 lo van a hacer solos, no partir por lo más difíc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mbios en la forma en que compramos demandan esfuerzos de meses, y requieren que destinemos nuestros mejores recur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rtir en el proceso de compra: un seguro para comprar bi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ner conciencia del proceso de aprendiza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bajo TC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arte 1: Selección del te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Acotar el tem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Justificar la selección del tem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arte 2: Alternativ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Identificar las alternativas a evalu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arte 3: Cost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Identificar los ítems de costo que se considerarán en el model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Cuantificar los cos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arte 3: Supuest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Indicar los supuestos empleados en el modelo y su justific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arte 4: Cálculo del TC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Entregar planilla Excel con detalle de los cálcul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Mostrar resultados en el infor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arte 5: Comparación TCO v/s prec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Analizar si se producen diferencias la decisión que se tomaría con el TCO v/s la que se tomaría sólo con el prec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4. Especificar la necesidad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ecificación del trabaj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dament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cribir los requerimientos en función de los resultados que se quieren obtener y no de la forma de obtenerl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alizar un análisis en profundidad de los requerimientos, que permita caracterizar los resultados dese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arrollar una estructuración del problema que asegure el cumplimiento de los objetivos anteri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ferencias en la literatura técn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tatement of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vice level agre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ecificación del trabaj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ces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1916280"/>
            <a:ext cx="2303640" cy="863280"/>
          </a:xfrm>
          <a:custGeom>
            <a:avLst/>
            <a:gdLst>
              <a:gd name="textAreaLeft" fmla="*/ 0 w 2303640"/>
              <a:gd name="textAreaRight" fmla="*/ 2304000 w 230364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3" y="0"/>
                </a:lnTo>
                <a:lnTo>
                  <a:pt x="21600" y="10800"/>
                </a:lnTo>
                <a:lnTo>
                  <a:pt x="19233" y="21600"/>
                </a:lnTo>
                <a:lnTo>
                  <a:pt x="0" y="21600"/>
                </a:lnTo>
                <a:lnTo>
                  <a:pt x="236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54560" y="1916280"/>
            <a:ext cx="2303280" cy="863280"/>
          </a:xfrm>
          <a:custGeom>
            <a:avLst/>
            <a:gdLst>
              <a:gd name="textAreaLeft" fmla="*/ 0 w 2303280"/>
              <a:gd name="textAreaRight" fmla="*/ 2303640 w 230328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3" y="0"/>
                </a:lnTo>
                <a:lnTo>
                  <a:pt x="21600" y="10800"/>
                </a:lnTo>
                <a:lnTo>
                  <a:pt x="19233" y="21600"/>
                </a:lnTo>
                <a:lnTo>
                  <a:pt x="0" y="21600"/>
                </a:lnTo>
                <a:lnTo>
                  <a:pt x="236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1916280"/>
            <a:ext cx="2303640" cy="863280"/>
          </a:xfrm>
          <a:custGeom>
            <a:avLst/>
            <a:gdLst>
              <a:gd name="textAreaLeft" fmla="*/ 0 w 2303640"/>
              <a:gd name="textAreaRight" fmla="*/ 2304000 w 230364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33" y="0"/>
                </a:lnTo>
                <a:lnTo>
                  <a:pt x="21600" y="10800"/>
                </a:lnTo>
                <a:lnTo>
                  <a:pt x="19233" y="21600"/>
                </a:lnTo>
                <a:lnTo>
                  <a:pt x="0" y="21600"/>
                </a:lnTo>
                <a:lnTo>
                  <a:pt x="236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stánd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1640" y="3139920"/>
            <a:ext cx="223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resultados tienen que obtenerse para satisfacer los requerimient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19640" y="3139920"/>
            <a:ext cx="2232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objetivos deben cumplirse para evaluar satisfactoriamente cada uno de esos resultad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3139920"/>
            <a:ext cx="223200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indicadores deben emplearse para evaluar el cumplimiento de los objetiv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Cuáles son los estándares para cada uno de estos indicador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tolerancia podemos acepta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Especificación del trabajo:</a:t>
            </a:r>
            <a:br>
              <a:rPr sz="3900"/>
            </a:b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heckli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los elementos para que los oferentes preparen una buena oferta técnica?¿Están claramente especificados los resultados?¿Son realistas los objetivos y meta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los elementos para que los oferentes preparen una oferta económica adecuada? ¿Cuentan con los antecedentes para dimensionar la envergadura del proyecto y los costos asociado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los estándares de calidad claramente especificados, de modo que todos los participantes puedan evaluar su performance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Hay restricciones innecesaria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Están claramente definidas las condiciones de entrega? (cantidad, oportunidad, mecanismos de coordinación, tiempos de respuest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Se ha incluido toda la documentación de referencia necesaria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Se han estudiado e incorporado normas y estándares de calidad para la definición de las especificaciones del trabajo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¿Se han especificado claramente los requerimientos de información al proveedor, en una sección separada? ¿Se han eliminado o aclarado requerimientos de información extraños o ambiguo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ción de performance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dament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valuar en qué medida se están satisfaciendo las condiciones de la especificación del trabaj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n de evaluación de performa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fine la forma en que el personal de la institución evaluará y valorará la performance del proveedor o contratis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 un documento dinámico, que debe ser revisado o modificado cuando las condiciones lo amerite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tá basado en la premisa que el proveedor o contratista es responsable por el control de calidad de los servicios entregad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 ejecución de este plan nunca debe ser entregada al contratis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n de control de calida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tá orientado a controlar en forma permanente que los servicios se estén entregando en forma adecuad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be ser de responsabilidad del proveedo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ción de performance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étod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estreo aleator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estreo periód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álisis de tende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troalimentación de los cli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itorías de ca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ción de performance, Contenidos del pl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les y responsabi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s de evalu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das correctiv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rtificación de los servic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ficación de los reportes de discrepa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dimientos de reclamos de clientes y plan de entrena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9:49:55Z</dcterms:created>
  <dc:creator>Patricio Renner P.</dc:creator>
  <dc:description/>
  <dc:language>en-US</dc:language>
  <cp:lastModifiedBy>Patricio Renner P.</cp:lastModifiedBy>
  <dcterms:modified xsi:type="dcterms:W3CDTF">2004-09-02T12:22:30Z</dcterms:modified>
  <cp:revision>6</cp:revision>
  <dc:subject/>
  <dc:title>Cómo enfrentar procesos de compra poco competitivos</dc:title>
</cp:coreProperties>
</file>