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3E5-5420-4FEF-8A16-11F95547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873-C7C1-4C67-A9A2-62FE5BFC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E1F-629D-4C3E-85DE-16F3A968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36E-2C5C-43A0-ADE7-7FE6E774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B6F-21E6-497D-B716-DE7E41B8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7800-F328-440F-A260-FE2812D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B8E8-98B8-4184-92F1-319D73A9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CC13-E360-4A8B-9622-7D849FA9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BFF-9B0C-4304-8114-A8FD1274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E598-26CF-4CB5-9A26-EF723A4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964-B710-4BC0-827F-2FEA38C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1C2-1B36-4F73-97AA-CC4B842F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3F5F-EED1-4394-A0B5-2D1B659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7473-FA88-4792-BE03-59E4820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0FE9-7C55-4ED3-8F09-92D6A24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CA24-27DB-486E-9A07-8343476F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E750-7F1A-49E4-883E-7E06384C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FFA-FE4E-4F50-86D6-939DBB63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950-D313-4838-B8BB-D3871B90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90C-0173-472D-97D4-74DCFEE6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555-0128-4052-9955-3F339F9A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05F-D17C-45E6-834C-DC0A71C8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0AE-EE7C-4791-9082-8FA201FE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065-1335-4911-9CB7-7F9D26FA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BB6C-6892-4722-8971-30A062EA490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2641-4FD4-479D-A74B-A5125AA4CDF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3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5. Preparación de las ba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r en las bases de licitación las condiciones relevantes del contrato a fir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administrar la parte central de la negociación en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darse cuenta en qué medida los proveedores pueden satisfacer las condiciones contractuales relevantes par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conocer en forma anticipada los elementos que deberán ser abordados en la negociación del contrato defin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ciones o restricciones leg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iveles de servicio exig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prest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actualización de precios y/o revisión de las condiciones contractu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evaluación del cumpl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as y mecanismos de apl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diciones de término del contr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rantí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general, cualquier elemento que pueda incidir en los costos o en el nivel de riesgo que va a asumir el propon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 las b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ir un documento de síntesis, que exprese claramente todas las condiciones relevantes que deberán ser satisfechas por e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r en equipos multidiscipl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términos de referencia muy restric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ilegiar opciones que dejen espacios de libertad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claramente el programa de actividades de la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ejar equipos revisores independientes de los red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y reda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gurar que las bases de licitación expresen adecuadamente las condiciones de satisfacción del servicio, se adecuen a las regulaciones y normativas vigentes, y hayan seguido los trámites de formalización correspondi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er a procesos de revisión exhaustivo los términos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derar una consulta pública de las bases a los proveedores (RFI) en las licitaciones de mayor 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zar Checklist para revisar que todos los elementos relevantes en la preparación de la licitación han sido cu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lizar los procedimientos internos de formalización de la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anejo político institucional de la licitación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dentificar a los actores relevantes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el poder que tienen para incidir en el proceso, y su predisposición a colaborar / opon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clientes-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a unidad comp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organismos supervisores (Hacienda / Dipres / Mide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tros actores relevantes  (Asociaciones gremiales / Fiscalía Nacional Económica / Opinión Públ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posibles objeciones frente al proceso de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a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rategia comunicacional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clientes-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otros agent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ección de l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modelo, sus fundamentos y los impactos estimados a los actor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de manejo de obje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 a otros casos similares y los impactos que han 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anzas con actores relevant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jurídico (recurrir a otras experiencias similares, consultar a la jurisprud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lgunas reflexiones al cier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hing first” (Peter Druck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izar las compras de mayor impa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o de la comp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ortunidades de mejor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xperiencias pil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 van a hacer solos, no partir por lo más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bios en la forma en que compramos demandan esfuerzos de meses, y requieren que destinemos nuestros mejores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rtir en el proceso de compra: un seguro para comprar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er conciencia del proceso de 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bajo T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1: Selección del 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cotar 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ustificar la selección d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2: Alternativ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as alternativas a evalu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Co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os ítems de costo que se considerarán en el mode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uantificar los co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Supue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dicar los supuestos empleados en el modelo y su justif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4: Cálculo del T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tregar planilla Excel con detalle de los cálcu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ostrar resultados en el infor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5: Comparación TCO v/s 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nalizar si se producen diferencias la decisión que se tomaría con el TCO v/s la que se tomaría sólo con el 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22:30Z</dcterms:modified>
  <cp:revision>6</cp:revision>
  <dc:subject/>
  <dc:title>Cómo enfrentar procesos de compra poco competitivos</dc:title>
</cp:coreProperties>
</file>