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58F-E65B-47F4-88F3-C2F58733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4C5-9A83-43A5-9EC4-3A42CB0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805-C4FB-47B7-A7DB-F1BBA6FA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E2D-4A7C-4AEF-8B22-8D775D71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BAE8-3198-4031-9CE4-6FDC9A7A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124-4317-4C3E-AD8A-D6F822F6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AE1C-9D21-449F-B7DE-2207F15A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54E1-82F7-439A-AFB0-4C0FF93C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6A53-D584-4041-A0A1-63279E69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562F-3494-444C-825C-3E313209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2A1A-6E83-4014-A069-D85F57C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578-DB14-416A-A090-DDC26BD7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2024-8D21-4513-A7EE-02560A1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34E8-96B4-4D27-B616-6CB8A269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BCEB-FECF-4B5F-8C68-2F050793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75DD-3E3C-4958-9A35-CAA84DB6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1007-2A22-42B7-AC8B-6906B13C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162-73C8-4805-9173-70D9F1D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9E8-2EDD-40E8-9BB2-D2C3267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D0B-F1A9-491C-93EC-EA328315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EF1-E031-4B37-9FBF-777CD23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AF8-9B17-4F12-AD03-A951F1C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259-96DA-438F-85E5-D96B661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156-4455-4FA8-8527-E566FA0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2872-0DD3-449D-9A90-6A4BFB57335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89EA-A03A-4F5F-9C78-26F09A3CCF2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3. Estrategia de licit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gunas definiciones en la estrategia de una licit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finición del produ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Transporte de minerales Chuquica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gmentación / Agreg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Zonificación oxíge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gración / desintegración de la cade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Servicios de agencia de viajes DIREC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étodos de negoci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Gobierno del Estado de Sao Paulo, Br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anejo político institucional de la lici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Plantas PSA en el Hospital Van Bu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es de conting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ómo se va a enfrentar el caso en que la licitación quede desiert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cio razon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Hasta dónde estamos dispuestos a pagar por el servici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licación: constancia del precio ante notar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o de operación del 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ientos administrativ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sos logísti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ítica de garantías y mul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os 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 de p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o de reaju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mbios de regul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rategia: cómo enfrentar monopolios y oligopol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r más compet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Existen otros proveedores que puedan integrarse a la licitación? (nacionales/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 impedido que participen de licitaciones anteri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Trampa de la mosca de la fruta - 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a factibilidad de desarrollar nuevos productores/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Producción nacional de repuestos - CODE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rementar el poder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gar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gregar la caden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métodos de negociación más agre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mitar cuidadosamente las regla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 cerrado primer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alificación técnica / competencia p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aje ponderado técnico /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fijo de rondas (2 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presencial (número indefinido de ron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virtual (precio dinámico limitado por tiem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to marco / contrato de sumin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 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rmas de evaluación y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agregación de productos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glob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por produc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cial por producto / z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modalidad de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cio (unitario / tot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ntaje (polinomio de evaluación: precio, calidad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icitación combina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. el menor precio posible en una lista de 200 prods., adjudicados a no más de 3 prove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citación por zonas con adjudicación parcial, y restricciones inter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de riesg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en qué forma serán abordados los riesgos en el proceso de licitación y en la ejecución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fuentes de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r sus posibles impactos/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medidas de mi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zar responsa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d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ecer los requerimientos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15:37Z</dcterms:modified>
  <cp:revision>8</cp:revision>
  <dc:subject/>
  <dc:title>Cómo enfrentar procesos de compra poco competitivos</dc:title>
</cp:coreProperties>
</file>