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060-4E9D-4EBC-AA56-1F82EEE5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B9D-C08D-421D-A15F-4F92791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12C-686A-4134-856C-666FFBAA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481-19A3-4639-8E1F-C5B67590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40E6-D05B-47D5-872D-988D7FED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9FCC-5697-4A32-8553-6A3781B1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FAC7-C6E3-4277-836A-FD76B333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A5A-E487-4953-985A-26C2A94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0FA-7827-4794-BF26-A1F590A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632-C5F0-4809-AD67-CCFCA738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CE4-386F-4AD2-902E-EB1B917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344-1233-44CE-AC4D-7AB2404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2F84-7742-40D7-A8BC-0C215DCE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540-9C24-4329-8E92-8725D54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E7A4-63E8-46C5-8C1E-DAC2A9B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0A5-B47A-4353-9BC8-6D5150A6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892F-1179-4DEA-BCF8-9A727830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3FA-E6F7-4161-B63A-C4DE34CD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77F-8B0E-4F1C-9B07-8DE6607A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039-ACBC-4160-8746-26A2E50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48D-AFFD-4572-916F-C833ABB0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5C0-BDD3-4503-812A-9E9934B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887-1BD0-49F9-9E44-1C8C1D6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FD0-0CF7-4F5B-B87D-CAB3ED7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39D-A9A5-4942-8814-BE35179245F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B678-9999-444E-9C79-43097FF6CF0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2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3. Estrategia de licit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unas definiciones en la estrategia de una licit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finición del produc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Transporte de minerales Chuquica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gmentación / Agreg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Zonificación oxíge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gración / desintegración de la cade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Servicios de agencia de viajes DIREC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étodos de negoci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Gobierno del Estado de Sao Paulo, Br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anejo político institucional de la lici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j. Plantas PSA en el Hospital Van Bu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es de conting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ómo se va a enfrentar el caso en que la licitación quede desier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cio razon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Hasta dónde estamos dispuestos a pagar por el servici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licación: constancia del precio ante nota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operación del 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ientos administrativ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os logí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ítica de garantías y mul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os 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 de p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 de reajus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mbios de regul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rategia: cómo enfrentar monopolios y oligopol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r más compet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Existen otros proveedores que puedan integrarse a la licitación? (nacionales/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ha impedido que participen de licitaciones anteri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Trampa de la mosca de la fruta - S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a factibilidad de desarrollar nuevos productores/o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. Producción nacional de repuestos - CODE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rementar el poder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gar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gregar la caden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métodos de negociación más agre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mitar cuidadosamente las reglas del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re cerrado primer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alificación técnica / competencia por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aje ponderado técnico /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fijo de rondas (2 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presencial (número indefinido de ron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te a la inversa virtual (precio dinámico limitado por tiem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to marco / contrato de sumin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 de negociación I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rmas de evaluación y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agregación de productos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glob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otal por produc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cial por producto / zo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modalidad de eval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cio (unitario / tot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ntaje (polinomio de evaluación: precio, calidad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icitación combinato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. el menor precio posible en una lista de 200 prods., adjudicados a no más de 3 prove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8280" indent="-289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citación por zonas con adjudicación parcial, y restricciones inter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de riesg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en qué forma serán abordados los riesgos en el proceso de licitación y en la ejecución del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fuentes de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r sus posibles impactos/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medidas de mi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zar respons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d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ecer los requerimientos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15:37Z</dcterms:modified>
  <cp:revision>8</cp:revision>
  <dc:subject/>
  <dc:title>Cómo enfrentar procesos de compra poco competitivos</dc:title>
</cp:coreProperties>
</file>